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8.gif" ContentType="image/gif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015-766E-47EC-AA87-8CEBD61B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DDB-789D-44BF-AE20-D1EC43CF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001-C4BA-4FE8-AD9F-9FE9273F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65F-80DD-4441-81FE-7ACCEFA7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879-7611-481E-802B-BE7887E2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58A-51C9-4620-A47A-7AEB6572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7A5-F741-449B-A549-33ED17B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3ED-38A7-4D1D-BD78-A7841E7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4F3-BC5D-46E7-8811-98CDB1C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1C4-41E0-44DF-904A-9300E2D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08B-D2CE-427E-B206-876469C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CF2-3780-4540-97EF-F6DCC8B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0" y="0"/>
            <a:ext cx="9153360" cy="103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0"/>
            <a:ext cx="4762440" cy="6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90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37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i="1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F6A3F45C-D4D5-4E9D-8A0B-AC7AA4BF7276}" type="slidenum">
              <a:rPr b="0" i="1" lang="en-US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8000" y="-15480"/>
            <a:ext cx="9188640" cy="1085040"/>
            <a:chOff x="-18000" y="-15480"/>
            <a:chExt cx="9188640" cy="108504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7560" y="203040"/>
              <a:ext cx="9153720" cy="648000"/>
            </a:xfrm>
            <a:prstGeom prst="pie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2880" y="275760"/>
              <a:ext cx="9166320" cy="529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0280" y="917640"/>
            <a:ext cx="800424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9933"/>
                </a:solidFill>
                <a:latin typeface="Calibri"/>
                <a:ea typeface="隶书"/>
              </a:rPr>
              <a:t>Презентация на тему:</a:t>
            </a:r>
            <a:br>
              <a:rPr sz="3600"/>
            </a:br>
            <a:br>
              <a:rPr sz="2800"/>
            </a:br>
            <a:r>
              <a:rPr b="1" lang="ru-RU" sz="2400" spc="-1" strike="noStrike">
                <a:solidFill>
                  <a:srgbClr val="ff9933"/>
                </a:solidFill>
                <a:latin typeface="Calibri"/>
                <a:ea typeface="隶书"/>
              </a:rPr>
              <a:t>"Механическая работа и 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Calibri"/>
                <a:ea typeface="隶书"/>
              </a:rPr>
              <a:t>мощность"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590200" y="525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Arial"/>
                <a:ea typeface="SimSun"/>
              </a:rPr>
              <a:t>Выполнил ученик 7 "Д" класс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Arial"/>
                <a:ea typeface="SimSun"/>
              </a:rPr>
              <a:t>Гиенко Артё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5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Мощность двигателей некоторых </a:t>
            </a: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транспортных средст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752480"/>
          <a:ext cx="7848720" cy="4815000"/>
        </p:xfrm>
        <a:graphic>
          <a:graphicData uri="http://schemas.openxmlformats.org/drawingml/2006/table">
            <a:tbl>
              <a:tblPr/>
              <a:tblGrid>
                <a:gridCol w="4265640"/>
                <a:gridCol w="3583080"/>
              </a:tblGrid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Транспортное средство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, кВ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Человек при нормальных условиях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боты (среднее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0 - 8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втомобиль "Волга"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амолёт Ан-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Дизель тепловоза ТЭП7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9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Вертолёт Ми-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х11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кета-носитель космического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абля "Протон"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4 100 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кета-носитель космического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абля "Энергия"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5 000 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915840"/>
            <a:ext cx="76197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Зная мощность двигателя, можно рассчитать работу, совершаемую этим двигателем в течение каког-нибудь промежутка времени. Из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формул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 = A/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ледует, чт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A = N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Чтобы вычислить работу, необходимо мощность умножить на время, в течение которого совершалась эта работ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Текст 29" descr=""/>
          <p:cNvPicPr/>
          <p:nvPr/>
        </p:nvPicPr>
        <p:blipFill>
          <a:blip r:embed="rId1"/>
          <a:stretch/>
        </p:blipFill>
        <p:spPr>
          <a:xfrm>
            <a:off x="2236680" y="4421160"/>
            <a:ext cx="436248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53460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Простые механизм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8" name="Текст 2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410080" y="4038480"/>
            <a:ext cx="3505320" cy="241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143000"/>
            <a:ext cx="5105160" cy="13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 назапамятных времен человек использует для совершения механической работы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азличные приспособления. С помощью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ычагов три тысячи лет назад пр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троительстве пирамид в Древнем Египте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ередвигали и поднимали на большую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ысоту тяжелые камни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испособления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лужащие для преобразования силы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еханизма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 большинстве случаев простые механизмы применяют для того чтобы получить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ыигрыш в силе, т. е. увеличить силу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ую на тело, в несколько раз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Текст 29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410080" y="1523880"/>
            <a:ext cx="3533760" cy="2286000"/>
          </a:xfrm>
          <a:prstGeom prst="rect">
            <a:avLst/>
          </a:prstGeom>
          <a:ln w="9360">
            <a:solidFill>
              <a:srgbClr val="85dfd0"/>
            </a:solidFill>
            <a:miter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Текст 2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62120" y="34290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Текст 29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2666880" cy="215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62520" y="2743200"/>
            <a:ext cx="487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 многих случаях, вместо того, чтобы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днимать тяжёлый груз на некоторую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ысоту его вкатывают или втаскивают н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ту же высоту по наклонной плоскости (А)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ли поднимают с помощью блоков (Б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7800" y="4800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Примеры простых механизмо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38080" y="1523880"/>
            <a:ext cx="7543800" cy="499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6800" y="1905120"/>
            <a:ext cx="3959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ассмотрим самый простой 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аспостраненный механизм -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ычаг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ычаг представляет соб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твердое тело, которое може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вращаться вокруг неподвижн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опоры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267000" cy="310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24080" y="83808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2400" spc="-1" strike="noStrike">
                <a:solidFill>
                  <a:srgbClr val="ff9900"/>
                </a:solidFill>
                <a:latin typeface="Arial"/>
                <a:ea typeface="SimSun"/>
              </a:rPr>
              <a:t>Р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  <a:ea typeface="SimSun"/>
              </a:rPr>
              <a:t>ычаг</a:t>
            </a:r>
            <a:r>
              <a:rPr b="1" i="1" lang="zh-CN" sz="2400" spc="-1" strike="noStrike">
                <a:solidFill>
                  <a:srgbClr val="ff9900"/>
                </a:solidFill>
                <a:latin typeface="Arial"/>
                <a:ea typeface="SimSu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Текст 29" descr=""/>
          <p:cNvPicPr/>
          <p:nvPr/>
        </p:nvPicPr>
        <p:blipFill>
          <a:blip r:embed="rId1">
            <a:lum bright="-6000"/>
          </a:blip>
          <a:stretch/>
        </p:blipFill>
        <p:spPr>
          <a:xfrm rot="60000">
            <a:off x="1676520" y="4240080"/>
            <a:ext cx="637848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7240" y="763560"/>
            <a:ext cx="8074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рисунке показано, как рабочий для поднятия груза использует в качеств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а лом. В первом случае рабочий с силой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жимает на конец лома, во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тором - приподнимает конец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абочему нужно преодолеть все груз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- силу, направленную вертикально вниз. Он поворачивает для этого лом вокруг оси, проходящей через единственную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еподвижную точку лома - точку его опор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. Сил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, с которой рабочий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ействует на рычаг, меньше сил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, таким образом, рабочий получает выигрыш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силе. При помощи рычага можно поднять такой тяжёлый груз, который без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а поднять нельзя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Текст 29" descr=""/>
          <p:cNvPicPr/>
          <p:nvPr/>
        </p:nvPicPr>
        <p:blipFill>
          <a:blip r:embed="rId1"/>
          <a:stretch/>
        </p:blipFill>
        <p:spPr>
          <a:xfrm>
            <a:off x="-144360" y="1906560"/>
            <a:ext cx="2811240" cy="365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66880" y="533520"/>
            <a:ext cx="6324840" cy="13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зображен рычаг, ось вращения которого О (точк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поры) расположена между точками приложения си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 Обе сил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, действующие на рычаг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ы в одну сторон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Кратчайшее расстояние между точкой опоры 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ямой, вдоль которой действует на рычаг сила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зывается плечом силы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Чтобы найти плечо силы, надо из точки опоры опустить перпендикуляр на линию действия силы. Длина этог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ерпендикуляра и будет плечом данной силы. Силы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ие на рычаг, могут повернуть его вокруг оси в двух направлениях: по ходу или против часов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трелки. Так, сил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ращает рычаг по ходу часов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трелки, а сил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вращает его против ход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Равновесие сил на рычаг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Текст 29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911320" cy="358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1143000"/>
            <a:ext cx="609588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Условие, при котором рычаг находится в равновесии под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ействием приложенных к нему сил, можно установить на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опыте. При этом надо помнить,что результат действия силы зависит не только от числового значения, но и от того, в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ой точке она приложена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 рычагу по обе стороны от точки опоры подвешивают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азличные грузы так, чтобы рычаг каждый раз оставался в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авновесии. Действующие на рычаг силы равны весам этих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грузов. Для каждого случая измеряют модули сил и их плечи. Видно, что сила 2Н уравновешивает силу 4Н. При этом, как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идно, плечо меньшей силы в 2 раза больше плеча большей силы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 находится в равновесии тогда, когда силы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ие на него, обратно пропорциональны плечам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этих сил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Текст 29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359080" cy="3322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4280" y="687240"/>
            <a:ext cx="53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Это правило можно записать в виде формулы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1240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92360"/>
            <a:ext cx="6096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-  силы, действующие на рычаг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- плечи этих си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авило равновесия рычага было установле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Архимедом около 287-212 гг до н.э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з- этого следует, что меньшей силой мож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уравновесить при помощи рычага большую силу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и этом плечо меньшей силы должно быть длиннее плеча большей силы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Текст 29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2152440" cy="1295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18440" y="601992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Архимед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Calibri"/>
              </a:rPr>
              <a:t>Механическая рабо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133720"/>
            <a:ext cx="3654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езд движется под действием силы тяги электровоза, пр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этом совершаетс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еханическая работа. Т.е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еханическая работ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овершается только когд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 тело действует сила и оно движется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5183280" cy="2038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alibri"/>
              </a:rPr>
              <a:t>Момент сил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066680"/>
            <a:ext cx="830592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оизведение модуля силы, вращающей тело, на её плечо называетс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оментом сил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бозначается букв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 Следовательно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М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F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 находится в равновесии под действием двух сил, если момент силы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ращающей его по ходу часовой стралки, равен моменту силы, вращающей его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отив хода часовой стралки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Это правило называемо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авилом момент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, можно заптсать в виде формулы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М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SimSun"/>
              </a:rPr>
              <a:t>1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= М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SimSun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За единицу момента силы принимается момент силы в 1Н, плечо котор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авно 1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диницу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ьютон-мет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( Н * м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60320"/>
            <a:ext cx="815328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 algn="just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8954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cc00"/>
                </a:solidFill>
                <a:latin typeface="Arial"/>
                <a:ea typeface="SimSun"/>
              </a:rPr>
              <a:t>Спасибо за внимание!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Определение механической рабо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754280"/>
            <a:ext cx="647676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rial"/>
                <a:ea typeface="SimSun"/>
              </a:rPr>
              <a:t>A = Fs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механическая работа, Дж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 - действующая на тело сила, Н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 - путь, м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1 Дж = 1Н * м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2237040" cy="26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60199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Английский учёный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жеймс Джоул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Механическая работа - скалярная </a:t>
            </a: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физическая величи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82096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сли движение тела происходит в направлении, противоположном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ию приложенной силы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то данная сила совершае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трицательную работу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A= - F * 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Текст 29" descr=""/>
          <p:cNvPicPr/>
          <p:nvPr/>
        </p:nvPicPr>
        <p:blipFill>
          <a:blip r:embed="rId1"/>
          <a:stretch/>
        </p:blipFill>
        <p:spPr>
          <a:xfrm>
            <a:off x="4979880" y="2058840"/>
            <a:ext cx="3505320" cy="431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Текст 29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743200" cy="4389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43400" y="2209680"/>
            <a:ext cx="4495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сли же направление силы совпадает с направлением движения тела, т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данная сила совершае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ложительную работу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А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F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*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7960" y="1297080"/>
            <a:ext cx="579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Если направление силы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ей на тело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перпендикуляр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ию движения, то эта сила работы не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совершает,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работа равна нулю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А = 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Текст 29" descr=""/>
          <p:cNvPicPr/>
          <p:nvPr/>
        </p:nvPicPr>
        <p:blipFill>
          <a:blip r:embed="rId1"/>
          <a:stretch/>
        </p:blipFill>
        <p:spPr>
          <a:xfrm>
            <a:off x="2541600" y="4268880"/>
            <a:ext cx="3906720" cy="192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alibri"/>
              </a:rPr>
              <a:t>Условия совершения 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Calibri"/>
              </a:rPr>
              <a:t>механической рабо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4197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К телу должна быть приложена какая-то сил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Тело должно двигатьс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ие движения не должно быть перпендикулярным по отношению к  направлению сил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773360"/>
            <a:ext cx="2971800" cy="2705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alibri"/>
              </a:rPr>
              <a:t>Мощ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6" name="Текст 29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71960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2209680"/>
            <a:ext cx="57913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 совершение одной и той же работы различным двигателям требуется разное время. Например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дъёмный кран на стройке за несколько мину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днимает на верхний этаж здания сотни кирпечей. Если бы эти кирпичи перетаскивал рабочий, т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му для этого потребовалось бы несколько часо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Быстроту выполнения работы характеризую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собой величиной, называем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ощность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Текст 29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590920" cy="196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12207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ощн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авна отношению работы ко времени, за которое она был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овершен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Чтобы вычислить мощность, надо работу разделить на время, в течение которого соершена эта работа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02920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мощность, В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 - работа, Дж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время выполнения работы, с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Текст 29" descr=""/>
          <p:cNvPicPr/>
          <p:nvPr/>
        </p:nvPicPr>
        <p:blipFill>
          <a:blip r:embed="rId2"/>
          <a:stretch/>
        </p:blipFill>
        <p:spPr>
          <a:xfrm>
            <a:off x="6427800" y="3278160"/>
            <a:ext cx="2205000" cy="248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19920" y="5867280"/>
            <a:ext cx="29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Английский учёный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жеймс Уат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3:49:00Z</dcterms:created>
  <dc:creator>Наташа</dc:creator>
  <dc:description/>
  <dc:language>en-US</dc:language>
  <cp:lastModifiedBy>Наташа</cp:lastModifiedBy>
  <dcterms:modified xsi:type="dcterms:W3CDTF">2015-04-27T19:25:13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  <property fmtid="{D5CDD505-2E9C-101B-9397-08002B2CF9AE}" pid="3" name="Version">
    <vt:r8>1</vt:r8>
  </property>
</Properties>
</file>