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8.gif" ContentType="image/gif"/>
  <Override PartName="/ppt/media/image16.png" ContentType="image/png"/>
  <Override PartName="/ppt/media/image14.png" ContentType="image/png"/>
  <Override PartName="/ppt/media/image1.png" ContentType="image/png"/>
  <Override PartName="/ppt/media/image21.gif" ContentType="image/gif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25BF-1982-437E-A0BF-5CE258C1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9DBD-C66B-4D3B-9DCB-470598BE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22FB-BAD9-4CF9-B1EF-04E0AE0A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CAE5-6D52-4E6D-A849-B4EDFB82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8D26-73C2-4E81-A0E3-71DE0D6E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A4AB-D651-427F-8875-8193A936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BCB7-F9A7-4DCD-A573-05FE0329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0C05-1810-494C-B778-10AF15E6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2933-BF26-42E8-8CF0-50612194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4642-2ED5-44A5-87D4-9DA5D93A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F01D-B579-4BDB-B892-0492DC11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BD78-D7D7-4B1C-A1AE-4E253AC4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0" y="0"/>
            <a:ext cx="9153360" cy="1035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0"/>
            <a:ext cx="4762440" cy="631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90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37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37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37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914400" indent="0" algn="r">
              <a:buNone/>
              <a:tabLst>
                <a:tab algn="l" pos="0"/>
              </a:tabLst>
              <a:defRPr b="0" i="1" lang="en-US" sz="1200" spc="-1" strike="noStrike">
                <a:solidFill>
                  <a:srgbClr val="035c75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</a:tabLst>
            </a:pPr>
            <a:fld id="{FDC3A440-5CCC-4D4F-84AA-F22837D2DDD3}" type="slidenum">
              <a:rPr b="0" i="1" lang="en-US" sz="1200" spc="-1" strike="noStrike">
                <a:solidFill>
                  <a:srgbClr val="035c75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8000" y="-15480"/>
            <a:ext cx="9188640" cy="1085040"/>
            <a:chOff x="-18000" y="-15480"/>
            <a:chExt cx="9188640" cy="1085040"/>
          </a:xfrm>
        </p:grpSpPr>
        <p:sp>
          <p:nvSpPr>
            <p:cNvPr id="8" name="Полилиния 11"/>
            <p:cNvSpPr/>
            <p:nvPr/>
          </p:nvSpPr>
          <p:spPr>
            <a:xfrm rot="21435600">
              <a:off x="-7560" y="203040"/>
              <a:ext cx="9153720" cy="648000"/>
            </a:xfrm>
            <a:prstGeom prst="pie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Полилиния 12"/>
            <p:cNvSpPr/>
            <p:nvPr/>
          </p:nvSpPr>
          <p:spPr>
            <a:xfrm rot="21435600">
              <a:off x="-2880" y="275760"/>
              <a:ext cx="9166320" cy="529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0280" y="917640"/>
            <a:ext cx="800424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ff9933"/>
                </a:solidFill>
                <a:latin typeface="Calibri"/>
                <a:ea typeface="隶书"/>
              </a:rPr>
              <a:t>Презентация на тему:</a:t>
            </a:r>
            <a:br>
              <a:rPr sz="3600"/>
            </a:br>
            <a:br>
              <a:rPr sz="2800"/>
            </a:br>
            <a:r>
              <a:rPr b="1" lang="ru-RU" sz="2400" spc="-1" strike="noStrike">
                <a:solidFill>
                  <a:srgbClr val="ff9933"/>
                </a:solidFill>
                <a:latin typeface="Calibri"/>
                <a:ea typeface="隶书"/>
              </a:rPr>
              <a:t>"Механическая работа и </a:t>
            </a:r>
            <a:br>
              <a:rPr sz="2400"/>
            </a:br>
            <a:r>
              <a:rPr b="1" lang="ru-RU" sz="2400" spc="-1" strike="noStrike">
                <a:solidFill>
                  <a:srgbClr val="ff9933"/>
                </a:solidFill>
                <a:latin typeface="Calibri"/>
                <a:ea typeface="隶书"/>
              </a:rPr>
              <a:t>мощность"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590200" y="52578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ff9933"/>
                </a:solidFill>
                <a:latin typeface="Arial"/>
                <a:ea typeface="SimSun"/>
              </a:rPr>
              <a:t>Выполнил ученик 7 "Д" класс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ff9933"/>
                </a:solidFill>
                <a:latin typeface="Arial"/>
                <a:ea typeface="SimSun"/>
              </a:rPr>
              <a:t>Гиенко Артём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35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alibri"/>
              </a:rPr>
              <a:t>Мощность двигателей некоторых </a:t>
            </a:r>
            <a:br>
              <a:rPr sz="2800"/>
            </a:br>
            <a:r>
              <a:rPr b="1" lang="ru-RU" sz="2800" spc="-1" strike="noStrike">
                <a:solidFill>
                  <a:srgbClr val="ff9900"/>
                </a:solidFill>
                <a:latin typeface="Calibri"/>
              </a:rPr>
              <a:t>транспортных средств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5800" y="1752480"/>
          <a:ext cx="7848720" cy="4815000"/>
        </p:xfrm>
        <a:graphic>
          <a:graphicData uri="http://schemas.openxmlformats.org/drawingml/2006/table">
            <a:tbl>
              <a:tblPr/>
              <a:tblGrid>
                <a:gridCol w="4265640"/>
                <a:gridCol w="3583080"/>
              </a:tblGrid>
              <a:tr h="54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Транспортное средство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SimSun"/>
                        </a:rPr>
                        <a:t>, кВ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Человек при нормальных условиях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работы (среднее)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70 - 8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Автомобиль "Волга"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3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Самолёт Ан-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74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Дизель тепловоза ТЭП7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94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Вертолёт Ми-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х110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Ракета-носитель космического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корабля "Протон"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4 100 00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Ракета-носитель космического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корабля "Энергия"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25 000 00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62120" y="915840"/>
            <a:ext cx="761976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Зная мощность двигателя, можно рассчитать работу, совершаемую этим двигателем в течение каког-нибудь промежутка времени. Из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формулы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N = A/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следует, что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  <a:ea typeface="SimSun"/>
              </a:rPr>
              <a:t>A = Nt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Чтобы вычислить работу, необходимо мощность умножить на время, в течение которого совершалась эта работ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Текст 29" descr=""/>
          <p:cNvPicPr/>
          <p:nvPr/>
        </p:nvPicPr>
        <p:blipFill>
          <a:blip r:embed="rId1"/>
          <a:stretch/>
        </p:blipFill>
        <p:spPr>
          <a:xfrm>
            <a:off x="2236680" y="4421160"/>
            <a:ext cx="4362480" cy="234324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8640" y="53460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alibri"/>
              </a:rPr>
              <a:t>Простые механизмы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8" name="Текст 29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5410080" y="4038480"/>
            <a:ext cx="3505320" cy="2413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920" y="1143000"/>
            <a:ext cx="5105160" cy="132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С назапамятных времен человек использует для совершения механической работы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различные приспособления. С помощью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рычагов три тысячи лет назад при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строительстве пирамид в Древнем Египте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передвигали и поднимали на большую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высоту тяжелые камни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Приспособления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служащие для преобразования силы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механизмам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В большинстве случаев простые механизмы применяют для того чтобы получить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выигрыш в силе, т. е. увеличить силу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действующую на тело, в несколько раз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Текст 29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5410080" y="1523880"/>
            <a:ext cx="3533760" cy="2286000"/>
          </a:xfrm>
          <a:prstGeom prst="rect">
            <a:avLst/>
          </a:prstGeom>
          <a:ln w="9360">
            <a:solidFill>
              <a:srgbClr val="85dfd0"/>
            </a:solidFill>
            <a:miter/>
          </a:ln>
        </p:spPr>
      </p:pic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Текст 29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62120" y="3429000"/>
            <a:ext cx="2666880" cy="3124080"/>
          </a:xfrm>
          <a:prstGeom prst="rect">
            <a:avLst/>
          </a:prstGeom>
          <a:ln w="0">
            <a:noFill/>
          </a:ln>
        </p:spPr>
      </p:pic>
      <p:pic>
        <p:nvPicPr>
          <p:cNvPr id="82" name="Текст 29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2666880" cy="2159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62520" y="2743200"/>
            <a:ext cx="487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Во многих случаях, вместо того, чтобы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поднимать тяжёлый груз на некоторую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высоту его вкатывают или втаскивают на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ту же высоту по наклонной плоскости (А)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или поднимают с помощью блоков (Б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981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7800" y="4800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Б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Calibri"/>
              </a:rPr>
              <a:t>Примеры простых механизмов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38080" y="1523880"/>
            <a:ext cx="7543800" cy="4991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6800" y="1905120"/>
            <a:ext cx="39592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Рассмотрим самый простой и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распостраненный механизм -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рычаг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Рычаг представляет собой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твердое тело, которое может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вращаться вокруг неподвижной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опоры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3267000" cy="3105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124080" y="838080"/>
            <a:ext cx="30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tabLst>
                <a:tab algn="l" pos="0"/>
              </a:tabLst>
            </a:pPr>
            <a:r>
              <a:rPr b="1" i="1" lang="zh-CN" sz="2400" spc="-1" strike="noStrike">
                <a:solidFill>
                  <a:srgbClr val="ff9900"/>
                </a:solidFill>
                <a:latin typeface="Arial"/>
                <a:ea typeface="SimSun"/>
              </a:rPr>
              <a:t>Р</a:t>
            </a:r>
            <a:r>
              <a:rPr b="1" i="1" lang="ru-RU" sz="2400" spc="-1" strike="noStrike">
                <a:solidFill>
                  <a:srgbClr val="ff9900"/>
                </a:solidFill>
                <a:latin typeface="Arial"/>
                <a:ea typeface="SimSun"/>
              </a:rPr>
              <a:t>ычаг</a:t>
            </a:r>
            <a:r>
              <a:rPr b="1" i="1" lang="zh-CN" sz="2400" spc="-1" strike="noStrike">
                <a:solidFill>
                  <a:srgbClr val="ff9900"/>
                </a:solidFill>
                <a:latin typeface="Arial"/>
                <a:ea typeface="SimSu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Текст 29" descr=""/>
          <p:cNvPicPr/>
          <p:nvPr/>
        </p:nvPicPr>
        <p:blipFill>
          <a:blip r:embed="rId1">
            <a:lum bright="-6000"/>
          </a:blip>
          <a:stretch/>
        </p:blipFill>
        <p:spPr>
          <a:xfrm rot="60000">
            <a:off x="1676520" y="4240080"/>
            <a:ext cx="6378480" cy="2540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87240" y="763560"/>
            <a:ext cx="80740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На рисунке показано, как рабочий для поднятия груза использует в качестве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рычага лом. В первом случае рабочий с силой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F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нажимает на конец лома, во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втором - приподнимает конец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Рабочему нужно преодолеть все груза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Р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 - силу, направленную вертикально вниз. Он поворачивает для этого лом вокруг оси, проходящей через единственную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неподвижную точку лома - точку его опоры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. Сила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F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, с которой рабочий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действует на рычаг, меньше силы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Р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, таким образом, рабочий получает выигрыш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в силе. При помощи рычага можно поднять такой тяжёлый груз, который без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рычага поднять нельзя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Текст 29" descr=""/>
          <p:cNvPicPr/>
          <p:nvPr/>
        </p:nvPicPr>
        <p:blipFill>
          <a:blip r:embed="rId1"/>
          <a:stretch/>
        </p:blipFill>
        <p:spPr>
          <a:xfrm>
            <a:off x="-144360" y="1906560"/>
            <a:ext cx="2811240" cy="3656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666880" y="533520"/>
            <a:ext cx="6324840" cy="13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Изображен рычаг, ось вращения которого О (точка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опоры) расположена между точками приложения сил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В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. Обе силы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, действующие на рычаг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направлены в одну сторону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tabLst>
                <a:tab algn="l" pos="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Кратчайшее расстояние между точкой опоры и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прямой, вдоль которой действует на рычаг сила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называется плечом силы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tabLst>
                <a:tab algn="l" pos="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Чтобы найти плечо силы, надо из точки опоры опустить перпендикуляр на линию действия силы. Длина этого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перпендикуляра и будет плечом данной силы. Силы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действующие на рычаг, могут повернуть его вокруг оси в двух направлениях: по ходу или против часовой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стрелки. Так, сил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вращает рычаг по ходу часовой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стрелки, а сил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 вращает его против хода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alibri"/>
              </a:rPr>
              <a:t>Равновесие сил на рычаге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96" name="Текст 29" descr=""/>
          <p:cNvPicPr/>
          <p:nvPr/>
        </p:nvPicPr>
        <p:blipFill>
          <a:blip r:embed="rId1"/>
          <a:stretch/>
        </p:blipFill>
        <p:spPr>
          <a:xfrm>
            <a:off x="6172200" y="2133720"/>
            <a:ext cx="2911320" cy="3581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1143000"/>
            <a:ext cx="609588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Условие, при котором рычаг находится в равновесии под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действием приложенных к нему сил, можно установить на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опыте. При этом надо помнить,что результат действия силы зависит не только от числового значения, но и от того, в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акой точке она приложена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 рычагу по обе стороны от точки опоры подвешивают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различные грузы так, чтобы рычаг каждый раз оставался в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равновесии. Действующие на рычаг силы равны весам этих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грузов. Для каждого случая измеряют модули сил и их плечи. Видно, что сила 2Н уравновешивает силу 4Н. При этом, как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видно, плечо меньшей силы в 2 раза больше плеча большей силы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Рычаг находится в равновесии тогда, когда силы,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действующие на него, обратно пропорциональны плечам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этих сил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Текст 29" descr=""/>
          <p:cNvPicPr/>
          <p:nvPr/>
        </p:nvPicPr>
        <p:blipFill>
          <a:blip r:embed="rId1"/>
          <a:stretch/>
        </p:blipFill>
        <p:spPr>
          <a:xfrm>
            <a:off x="6629400" y="2819520"/>
            <a:ext cx="2359080" cy="3322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754280" y="687240"/>
            <a:ext cx="533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Это правило можно записать в виде формулы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1240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2592360"/>
            <a:ext cx="60962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 -  силы, действующие на рычаг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- плечи этих си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Правило равновесия рычага было установлено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Архимедом около 287-212 гг до н.э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Из- этого следует, что меньшей силой можно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уравновесить при помощи рычага большую силу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При этом плечо меньшей силы должно быть длиннее плеча большей силы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Текст 29" descr=""/>
          <p:cNvPicPr/>
          <p:nvPr/>
        </p:nvPicPr>
        <p:blipFill>
          <a:blip r:embed="rId2"/>
          <a:stretch/>
        </p:blipFill>
        <p:spPr>
          <a:xfrm>
            <a:off x="3276720" y="1219320"/>
            <a:ext cx="2152440" cy="1295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318440" y="601992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Архимед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Calibri"/>
              </a:rPr>
              <a:t>Механическая рабо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133720"/>
            <a:ext cx="365436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Поезд движется под действием силы тяги электровоза, при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этом совершаетс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механическая работа. Т.е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механическая работа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совершается только когда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на тело действует сила и оно движется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5183280" cy="2038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Calibri"/>
              </a:rPr>
              <a:t>Момент силы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066680"/>
            <a:ext cx="8305920" cy="75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Произведение модуля силы, вращающей тело, на её плечо называетс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моментом силы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Обозначается буквой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М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. Следовательно,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SimSun"/>
              </a:rPr>
              <a:t>М =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F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Рычаг находится в равновесии под действием двух сил, если момент силы,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вращающей его по ходу часовой стралки, равен моменту силы, вращающей его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против хода часовой стралки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Это правило называемое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правилом моментов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, можно заптсать в виде формулы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SimSun"/>
              </a:rPr>
              <a:t>М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SimSun"/>
              </a:rPr>
              <a:t>1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SimSun"/>
              </a:rPr>
              <a:t>= М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  <a:ea typeface="SimSun"/>
              </a:rPr>
              <a:t>2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За единицу момента силы принимается момент силы в 1Н, плечо которой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равно 1м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Единицу называю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ньютон-метр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( Н * м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760320"/>
            <a:ext cx="8153280" cy="53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49"/>
              </a:spcBef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680" indent="-274680" algn="just"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289548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ffcc00"/>
                </a:solidFill>
                <a:latin typeface="Arial"/>
                <a:ea typeface="SimSun"/>
              </a:rPr>
              <a:t>Спасибо за внимание!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315200" y="1981080"/>
            <a:ext cx="952560" cy="190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Calibri"/>
              </a:rPr>
              <a:t>Определение механической работ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754280"/>
            <a:ext cx="647676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tabLst>
                <a:tab algn="l" pos="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Arial"/>
                <a:ea typeface="SimSun"/>
              </a:rPr>
              <a:t>A = Fs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SimSun"/>
              </a:rPr>
              <a:t>механическая работа, Дж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F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SimSun"/>
              </a:rPr>
              <a:t> - действующая на тело сила, Н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s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SimSun"/>
              </a:rPr>
              <a:t> - путь, м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1 Дж = 1Н * м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781680" y="3200400"/>
            <a:ext cx="2237040" cy="2695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934320" y="601992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Английский учёный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Джеймс Джоуль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Calibri"/>
              </a:rPr>
              <a:t>Механическая работа - скалярная </a:t>
            </a:r>
            <a:br>
              <a:rPr sz="3600"/>
            </a:br>
            <a:r>
              <a:rPr b="1" lang="ru-RU" sz="3600" spc="-1" strike="noStrike">
                <a:solidFill>
                  <a:srgbClr val="ff9933"/>
                </a:solidFill>
                <a:latin typeface="Calibri"/>
              </a:rPr>
              <a:t>физическая величин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820960"/>
            <a:ext cx="3962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Если движение тела происходит в направлении, противоположном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направлению приложенной силы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то данная сила совершает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отрицательную работу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A= - F * 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Текст 29" descr=""/>
          <p:cNvPicPr/>
          <p:nvPr/>
        </p:nvPicPr>
        <p:blipFill>
          <a:blip r:embed="rId1"/>
          <a:stretch/>
        </p:blipFill>
        <p:spPr>
          <a:xfrm>
            <a:off x="4979880" y="2058840"/>
            <a:ext cx="3505320" cy="4310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Текст 29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2743200" cy="4389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343400" y="2209680"/>
            <a:ext cx="4495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Если же направление силы совпадает с направлением движения тела, то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данная сила совершает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положительную работу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SimSun"/>
              </a:rPr>
              <a:t>А =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F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*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77960" y="1297080"/>
            <a:ext cx="5791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Если направление силы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действующей на тело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перпендикулярно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направлению движения, то эта сила работы не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совершает,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работа равна нулю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SimSun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Arial"/>
                <a:ea typeface="SimSun"/>
              </a:rPr>
              <a:t>А = 0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Текст 29" descr=""/>
          <p:cNvPicPr/>
          <p:nvPr/>
        </p:nvPicPr>
        <p:blipFill>
          <a:blip r:embed="rId1"/>
          <a:stretch/>
        </p:blipFill>
        <p:spPr>
          <a:xfrm>
            <a:off x="2541600" y="4268880"/>
            <a:ext cx="3906720" cy="1922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Calibri"/>
              </a:rPr>
              <a:t>Условия совершения </a:t>
            </a:r>
            <a:br>
              <a:rPr sz="3600"/>
            </a:br>
            <a:r>
              <a:rPr b="1" lang="ru-RU" sz="3600" spc="-1" strike="noStrike">
                <a:solidFill>
                  <a:srgbClr val="ff9900"/>
                </a:solidFill>
                <a:latin typeface="Calibri"/>
              </a:rPr>
              <a:t>механической работ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419720"/>
            <a:ext cx="678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К телу должна быть приложена какая-то сил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Тело должно двигатьс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Направление движения не должно быть перпендикулярным по отношению к  направлению сил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95480" y="1773360"/>
            <a:ext cx="2971800" cy="27050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Calibri"/>
              </a:rPr>
              <a:t>Мощность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6" name="Текст 29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4719600" cy="3886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2209680"/>
            <a:ext cx="579132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На совершение одной и той же работы различным двигателям требуется разное время. Например,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подъёмный кран на стройке за несколько минут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поднимает на верхний этаж здания сотни кирпечей. Если бы эти кирпичи перетаскивал рабочий, то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ему для этого потребовалось бы несколько часов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Быстроту выполнения работы характеризуют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особой величиной, называемой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мощностью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Текст 29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2590920" cy="1960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520" y="122076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Мощность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равна отношению работы ко времени, за которое она была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совершена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Чтобы вычислить мощность, надо работу разделить на время, в течение которого соершена эта работа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5029200"/>
            <a:ext cx="426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 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мощность, Вт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 - работа, Дж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 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время выполнения работы, с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Текст 29" descr=""/>
          <p:cNvPicPr/>
          <p:nvPr/>
        </p:nvPicPr>
        <p:blipFill>
          <a:blip r:embed="rId2"/>
          <a:stretch/>
        </p:blipFill>
        <p:spPr>
          <a:xfrm>
            <a:off x="6427800" y="3278160"/>
            <a:ext cx="2205000" cy="2484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019920" y="5867280"/>
            <a:ext cx="2971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SimSun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Английский учёный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Джеймс Уатт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4T13:49:00Z</dcterms:created>
  <dc:creator>Наташа</dc:creator>
  <dc:description/>
  <dc:language>en-US</dc:language>
  <cp:lastModifiedBy>Наташа</cp:lastModifiedBy>
  <dcterms:modified xsi:type="dcterms:W3CDTF">2015-04-27T19:25:13Z</dcterms:modified>
  <cp:revision>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674</vt:lpwstr>
  </property>
  <property fmtid="{D5CDD505-2E9C-101B-9397-08002B2CF9AE}" pid="3" name="Version">
    <vt:r8>1</vt:r8>
  </property>
</Properties>
</file>