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5853113" cy="32908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0B10-F917-4777-B831-94830794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2320" y="176652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4655-3F31-41E2-8546-6FE15B6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9160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667-7AE5-4B75-9EB4-81437935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7360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54520" y="76968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232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7360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854520" y="1766520"/>
            <a:ext cx="169596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919-78E1-410D-89EC-A77AE5701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A30F-ED9D-4A35-8392-0CD0BE2F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09F-85DB-48EE-B551-7D70D3AF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A96-00AC-40BC-92C2-35A45D61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5FD-AD50-4D5C-B820-610757D3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2320" y="131040"/>
            <a:ext cx="5267520" cy="25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323-7966-4CDF-97C1-3B4FFCAC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2D5-7DD3-42BC-8928-69E20B2D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91600" y="176652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CB3-BFB3-453D-9982-E625279D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232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91600" y="769680"/>
            <a:ext cx="257040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2320" y="1766520"/>
            <a:ext cx="5267520" cy="9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BB49-7D5E-4DEE-BE45-67C5C5E8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02480" y="3050280"/>
            <a:ext cx="131652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58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58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58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1938960" y="3050280"/>
            <a:ext cx="197496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33880" y="3050280"/>
            <a:ext cx="1316520" cy="1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58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AB372A-99E3-4AE3-9069-C85F6D4EAC1C}" type="slidenum">
              <a:rPr b="0" lang="ru-RU" sz="58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58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292320" y="131040"/>
            <a:ext cx="5267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92320" y="769680"/>
            <a:ext cx="52675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4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4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96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96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86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86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86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5850000" cy="32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9</TotalTime>
  <Application>LibreOffice/7.4.7.2$Linux_X86_64 LibreOffice_project/40$Build-2</Application>
  <AppVersion>15.0000</AppVersion>
  <Words>0</Words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7T15:47:28Z</dcterms:created>
  <dc:creator>Smoxt</dc:creator>
  <dc:description/>
  <dc:language>en-US</dc:language>
  <cp:lastModifiedBy>Smoxt</cp:lastModifiedBy>
  <dcterms:modified xsi:type="dcterms:W3CDTF">2021-10-17T15:57:10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23</vt:r8>
  </property>
</Properties>
</file>