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5853113" cy="32908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C00-8E7B-4A47-816E-AFFFC9CB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2320" y="769680"/>
            <a:ext cx="526752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2320" y="1766520"/>
            <a:ext cx="526752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7C8D-0777-46D9-98A6-D8C6B84B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2320" y="76968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91600" y="76968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2320" y="176652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91600" y="176652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CF2A-5800-4A19-AD08-A14D42ED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2320" y="769680"/>
            <a:ext cx="169596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73600" y="769680"/>
            <a:ext cx="169596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54520" y="769680"/>
            <a:ext cx="169596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2320" y="1766520"/>
            <a:ext cx="169596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73600" y="1766520"/>
            <a:ext cx="169596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854520" y="1766520"/>
            <a:ext cx="169596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9B1-F6B2-4EF7-AF80-39059973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2320" y="769680"/>
            <a:ext cx="52675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D721-B09D-42AC-B081-FF81C4C3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2320" y="769680"/>
            <a:ext cx="52675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92C-942B-4F11-882A-799AC00D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2320" y="769680"/>
            <a:ext cx="25704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91600" y="769680"/>
            <a:ext cx="25704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6E2-AA4D-4F21-B10F-33CFBC9B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E54-E8EF-41B1-9CE6-4BA7A758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2320" y="131040"/>
            <a:ext cx="526752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A494-E5D0-4F54-8435-05F80506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2320" y="76968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91600" y="769680"/>
            <a:ext cx="25704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2320" y="176652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165-F072-47B2-8161-EE78E5D0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2320" y="769680"/>
            <a:ext cx="25704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91600" y="76968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91600" y="176652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641-DB9F-4901-9EF0-CE9AA20A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2320" y="76968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91600" y="76968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2320" y="1766520"/>
            <a:ext cx="526752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494-E334-41EB-BA5C-89E75FE3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02480" y="3050280"/>
            <a:ext cx="1316520" cy="1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58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58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58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938960" y="3050280"/>
            <a:ext cx="1974960" cy="1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133880" y="3050280"/>
            <a:ext cx="1316520" cy="1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58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B197F4-8E2D-4915-A2AB-6FDC81E95263}" type="slidenum">
              <a:rPr b="0" lang="ru-RU" sz="58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58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292320" y="769680"/>
            <a:ext cx="52675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4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96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6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86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6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86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6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9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7T15:47:28Z</dcterms:created>
  <dc:creator>Smoxt</dc:creator>
  <dc:description/>
  <dc:language>en-US</dc:language>
  <cp:lastModifiedBy>Smoxt</cp:lastModifiedBy>
  <dcterms:modified xsi:type="dcterms:W3CDTF">2021-10-17T15:57:10Z</dcterms:modified>
  <cp:revision>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23</vt:r8>
  </property>
</Properties>
</file>