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jpeg" ContentType="image/jpeg"/>
  <Override PartName="/ppt/media/image21.jpeg" ContentType="image/jpeg"/>
  <Override PartName="/ppt/media/image20.jpeg" ContentType="image/jpeg"/>
  <Override PartName="/ppt/media/image18.jpeg" ContentType="image/jpeg"/>
  <Override PartName="/ppt/media/image17.jpeg" ContentType="image/jpeg"/>
  <Override PartName="/ppt/media/image16.png" ContentType="image/png"/>
  <Override PartName="/ppt/media/image15.jpeg" ContentType="image/jpeg"/>
  <Override PartName="/ppt/media/image29.jpeg" ContentType="image/jpeg"/>
  <Override PartName="/ppt/media/image8.jpeg" ContentType="image/jpeg"/>
  <Override PartName="/ppt/media/image13.jpeg" ContentType="image/jpeg"/>
  <Override PartName="/ppt/media/image23.png" ContentType="image/png"/>
  <Override PartName="/ppt/media/image19.jpeg" ContentType="image/jpeg"/>
  <Override PartName="/ppt/media/image11.png" ContentType="image/pn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35.png" ContentType="image/pn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12.jpeg" ContentType="image/jpeg"/>
  <Override PartName="/ppt/media/image34.jpeg" ContentType="image/jpeg"/>
  <Override PartName="/ppt/media/image7.png" ContentType="image/png"/>
  <Override PartName="/ppt/media/image22.jpeg" ContentType="image/jpeg"/>
  <Override PartName="/ppt/media/image10.png" ContentType="image/png"/>
  <Override PartName="/ppt/media/image1.jpeg" ContentType="image/jpeg"/>
  <Override PartName="/ppt/media/image36.jpeg" ContentType="image/jpeg"/>
  <Override PartName="/ppt/media/image2.jpeg" ContentType="image/jpeg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ED5BA-63EA-489B-A595-A5F346D71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23677-0889-4D62-90E5-D44E87E74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46707-149E-463F-9AC4-12D03754D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3231B-051B-47FA-90F1-24164F5A2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DFDAB-10DA-4477-A19A-0CE848FC7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D8B14-EB98-48D9-B13F-E7969101A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AC5B8-00EC-43FB-B8BC-3312C3F3C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01E4A-F129-4FCC-9B60-4ADF7C325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B8671-6634-4E23-8C82-93CA0D701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71A56-E5B9-4DAC-A6A8-F2B0401B1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97A2D-C983-4F14-9B26-42292B121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ADD6A-A475-4560-B458-525DBE55E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6699ff"/>
            </a:gs>
            <a:gs pos="100000">
              <a:srgbClr val="bbe0e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0AC7F-5908-41F4-97A1-556BC495740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15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16.pn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18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slide" Target="slide2.xml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" Target="slide2.xml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" Target="slide2.xml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" Target="slide2.xml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3.xml"/><Relationship Id="rId3" Type="http://schemas.openxmlformats.org/officeDocument/2006/relationships/slide" Target="slide7.xml"/><Relationship Id="rId4" Type="http://schemas.openxmlformats.org/officeDocument/2006/relationships/slide" Target="slide14.xml"/><Relationship Id="rId5" Type="http://schemas.openxmlformats.org/officeDocument/2006/relationships/slide" Target="slide17.xml"/><Relationship Id="rId6" Type="http://schemas.openxmlformats.org/officeDocument/2006/relationships/slide" Target="slide18.xml"/><Relationship Id="rId7" Type="http://schemas.openxmlformats.org/officeDocument/2006/relationships/slide" Target="slide20.xml"/><Relationship Id="rId8" Type="http://schemas.openxmlformats.org/officeDocument/2006/relationships/slide" Target="slide21.xml"/><Relationship Id="rId9" Type="http://schemas.openxmlformats.org/officeDocument/2006/relationships/slide" Target="slide22.xml"/><Relationship Id="rId10" Type="http://schemas.openxmlformats.org/officeDocument/2006/relationships/slide" Target="slide24.xml"/><Relationship Id="rId1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" Target="slide2.xml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" Target="slide2.xml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" Target="slide2.xml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slide" Target="slide2.xml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8.jpeg"/><Relationship Id="rId4" Type="http://schemas.openxmlformats.org/officeDocument/2006/relationships/slide" Target="slide2.xml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" Target="slide2.xml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12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13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14.pn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990720" y="3276720"/>
            <a:ext cx="762948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00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Основные элементы игры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00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00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00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«Баскетбол»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00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" name="WordArt 6"/>
          <p:cNvSpPr txBox="1"/>
          <p:nvPr/>
        </p:nvSpPr>
        <p:spPr>
          <a:xfrm>
            <a:off x="685800" y="380880"/>
            <a:ext cx="411480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80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Школа мяча.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80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5105520" y="5319360"/>
            <a:ext cx="4038480" cy="15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bfbfbf"/>
                </a:solidFill>
                <a:latin typeface="Cambria"/>
              </a:rPr>
              <a:t>Разработал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bfbfbf"/>
                </a:solidFill>
                <a:latin typeface="Cambria"/>
              </a:rPr>
              <a:t>преподаватель ФГБОУ ВО «МГТУ» Многопрофильный коллед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bfbfbf"/>
                </a:solidFill>
                <a:latin typeface="Cambria"/>
              </a:rPr>
              <a:t>Н.В. Рыба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380520" y="685440"/>
            <a:ext cx="487692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—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 наиболее распространенный и эффективный способ быстро передать мяч партнеру. Эффективен, если между игроками команды, владеющей мячом, нет игроков соперника. Пасующий, держа мяч близко к груди, толкает мяч вперед, выпрямляя запястья и разворачивая кисти. После броска большие пальцы должны оказаться внизу, а тыльные стороны ладони быть повернутыми друг к другу. Нужно, чтобы мяч летел в грудь принимающем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WordArt 4"/>
          <p:cNvSpPr txBox="1"/>
          <p:nvPr/>
        </p:nvSpPr>
        <p:spPr>
          <a:xfrm rot="5400000">
            <a:off x="-3200400" y="3200400"/>
            <a:ext cx="6858000" cy="4572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c4b596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Times New Roman"/>
              </a:rPr>
              <a:t>Передача мяча</a:t>
            </a:r>
            <a:endParaRPr b="0" lang="en-US" sz="1800" spc="1" strike="noStrike">
              <a:ln w="12600">
                <a:solidFill>
                  <a:srgbClr val="c4b596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03" name="Picture 5" descr="x_94f0c3d5"/>
          <p:cNvPicPr/>
          <p:nvPr/>
        </p:nvPicPr>
        <p:blipFill>
          <a:blip r:embed="rId3">
            <a:lum bright="-12000"/>
          </a:blip>
          <a:stretch/>
        </p:blipFill>
        <p:spPr>
          <a:xfrm>
            <a:off x="5222880" y="0"/>
            <a:ext cx="3921120" cy="4572000"/>
          </a:xfrm>
          <a:prstGeom prst="rect">
            <a:avLst/>
          </a:prstGeom>
          <a:ln w="0">
            <a:noFill/>
          </a:ln>
        </p:spPr>
      </p:pic>
      <p:sp>
        <p:nvSpPr>
          <p:cNvPr id="104" name="AutoShape 7">
            <a:hlinkClick r:id="" action="ppaction://hlinkshowjump?jump=nextslide"/>
          </p:cNvPr>
          <p:cNvSpPr/>
          <p:nvPr/>
        </p:nvSpPr>
        <p:spPr>
          <a:xfrm>
            <a:off x="8610480" y="6553080"/>
            <a:ext cx="533520" cy="304920"/>
          </a:xfrm>
          <a:custGeom>
            <a:avLst/>
            <a:gdLst>
              <a:gd name="textAreaLeft" fmla="*/ 19440 w 533520"/>
              <a:gd name="textAreaRight" fmla="*/ 514080 w 5335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7775" h="21600">
                <a:moveTo>
                  <a:pt x="0" y="0"/>
                </a:moveTo>
                <a:lnTo>
                  <a:pt x="37775" y="0"/>
                </a:lnTo>
                <a:lnTo>
                  <a:pt x="37775" y="21600"/>
                </a:lnTo>
                <a:lnTo>
                  <a:pt x="0" y="21600"/>
                </a:lnTo>
                <a:close/>
              </a:path>
              <a:path fill="lightenLess" w="37775" h="21600">
                <a:moveTo>
                  <a:pt x="0" y="0"/>
                </a:moveTo>
                <a:lnTo>
                  <a:pt x="37775" y="0"/>
                </a:lnTo>
                <a:lnTo>
                  <a:pt x="36375" y="1400"/>
                </a:lnTo>
                <a:lnTo>
                  <a:pt x="1400" y="1400"/>
                </a:lnTo>
                <a:close/>
              </a:path>
              <a:path fill="darken" w="37775" h="21600">
                <a:moveTo>
                  <a:pt x="37775" y="0"/>
                </a:moveTo>
                <a:lnTo>
                  <a:pt x="37775" y="21600"/>
                </a:lnTo>
                <a:lnTo>
                  <a:pt x="36375" y="20200"/>
                </a:lnTo>
                <a:lnTo>
                  <a:pt x="36375" y="1400"/>
                </a:lnTo>
                <a:close/>
              </a:path>
              <a:path fill="darkenLess" w="37775" h="21600">
                <a:moveTo>
                  <a:pt x="377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75" y="20200"/>
                </a:lnTo>
                <a:close/>
              </a:path>
              <a:path fill="lighten" w="377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75" h="21600">
                <a:moveTo>
                  <a:pt x="11881" y="3794"/>
                </a:moveTo>
                <a:lnTo>
                  <a:pt x="25894" y="10800"/>
                </a:lnTo>
                <a:lnTo>
                  <a:pt x="1188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8">
            <a:hlinkClick r:id="" action="ppaction://hlinkshowjump?jump=previousslide"/>
          </p:cNvPr>
          <p:cNvSpPr/>
          <p:nvPr/>
        </p:nvSpPr>
        <p:spPr>
          <a:xfrm>
            <a:off x="7391520" y="6553080"/>
            <a:ext cx="533160" cy="304920"/>
          </a:xfrm>
          <a:custGeom>
            <a:avLst/>
            <a:gdLst>
              <a:gd name="textAreaLeft" fmla="*/ 19440 w 533160"/>
              <a:gd name="textAreaRight" fmla="*/ 513720 w 5331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7749" h="21600">
                <a:moveTo>
                  <a:pt x="0" y="0"/>
                </a:moveTo>
                <a:lnTo>
                  <a:pt x="37749" y="0"/>
                </a:lnTo>
                <a:lnTo>
                  <a:pt x="37749" y="21600"/>
                </a:lnTo>
                <a:lnTo>
                  <a:pt x="0" y="21600"/>
                </a:lnTo>
                <a:close/>
              </a:path>
              <a:path fill="lightenLess" w="37749" h="21600">
                <a:moveTo>
                  <a:pt x="0" y="0"/>
                </a:moveTo>
                <a:lnTo>
                  <a:pt x="37749" y="0"/>
                </a:lnTo>
                <a:lnTo>
                  <a:pt x="36349" y="1400"/>
                </a:lnTo>
                <a:lnTo>
                  <a:pt x="1400" y="1400"/>
                </a:lnTo>
                <a:close/>
              </a:path>
              <a:path fill="darken" w="37749" h="21600">
                <a:moveTo>
                  <a:pt x="37749" y="0"/>
                </a:moveTo>
                <a:lnTo>
                  <a:pt x="37749" y="21600"/>
                </a:lnTo>
                <a:lnTo>
                  <a:pt x="36349" y="20200"/>
                </a:lnTo>
                <a:lnTo>
                  <a:pt x="36349" y="1400"/>
                </a:lnTo>
                <a:close/>
              </a:path>
              <a:path fill="darkenLess" w="37749" h="21600">
                <a:moveTo>
                  <a:pt x="377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49" y="20200"/>
                </a:lnTo>
                <a:close/>
              </a:path>
              <a:path fill="lighten" w="377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49" h="21600">
                <a:moveTo>
                  <a:pt x="11868" y="10800"/>
                </a:moveTo>
                <a:lnTo>
                  <a:pt x="25881" y="3794"/>
                </a:lnTo>
                <a:lnTo>
                  <a:pt x="2588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9">
            <a:hlinkClick r:id="rId4" action="ppaction://hlinksldjump"/>
          </p:cNvPr>
          <p:cNvSpPr/>
          <p:nvPr/>
        </p:nvSpPr>
        <p:spPr>
          <a:xfrm>
            <a:off x="8077320" y="6553080"/>
            <a:ext cx="380880" cy="30492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5334120" y="4800600"/>
            <a:ext cx="342900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большинстве случаев следует пускать мяч по прямой — это наиболее быстрый способ передачи мяча принимающем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WordArt 11"/>
          <p:cNvSpPr txBox="1"/>
          <p:nvPr/>
        </p:nvSpPr>
        <p:spPr>
          <a:xfrm>
            <a:off x="990720" y="152280"/>
            <a:ext cx="3571920" cy="66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ередача от груди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800240" y="609120"/>
            <a:ext cx="434340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ередача, при которой мяч ударяют об пол перед тем, как он достигает партнера. Немногие защитники достаточно быстры, чтобы перехватить мяч, ударяющийся об пол, вот почему так полезна передача с отскоком. Если нападающий оказался в трудной ситуации или не хочет сделать передачу совсем рядом с защитником, когда принимающий находится в выгодной позиции для броска, передача с отскоком может оказаться лучшим вариантом. Она заставляет защитника принять неестественную позу, сгибая корпус, чтобы достать мяч, проносящийся рядом с ним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WordArt 4"/>
          <p:cNvSpPr txBox="1"/>
          <p:nvPr/>
        </p:nvSpPr>
        <p:spPr>
          <a:xfrm rot="5400000">
            <a:off x="-3200400" y="3200400"/>
            <a:ext cx="6858000" cy="4572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c4b596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Times New Roman"/>
              </a:rPr>
              <a:t>Передача мяча</a:t>
            </a:r>
            <a:endParaRPr b="0" lang="en-US" sz="1800" spc="1" strike="noStrike">
              <a:ln w="12600">
                <a:solidFill>
                  <a:srgbClr val="c4b596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11" name="Picture 5" descr="197363-f32a5-54397388-m750x740-u77292"/>
          <p:cNvPicPr/>
          <p:nvPr/>
        </p:nvPicPr>
        <p:blipFill>
          <a:blip r:embed="rId3"/>
          <a:stretch/>
        </p:blipFill>
        <p:spPr>
          <a:xfrm>
            <a:off x="533520" y="228600"/>
            <a:ext cx="4263840" cy="640080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7">
            <a:hlinkClick r:id="" action="ppaction://hlinkshowjump?jump=nextslide"/>
          </p:cNvPr>
          <p:cNvSpPr/>
          <p:nvPr/>
        </p:nvSpPr>
        <p:spPr>
          <a:xfrm>
            <a:off x="8610480" y="6553080"/>
            <a:ext cx="533520" cy="304920"/>
          </a:xfrm>
          <a:custGeom>
            <a:avLst/>
            <a:gdLst>
              <a:gd name="textAreaLeft" fmla="*/ 19440 w 533520"/>
              <a:gd name="textAreaRight" fmla="*/ 514080 w 5335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7775" h="21600">
                <a:moveTo>
                  <a:pt x="0" y="0"/>
                </a:moveTo>
                <a:lnTo>
                  <a:pt x="37775" y="0"/>
                </a:lnTo>
                <a:lnTo>
                  <a:pt x="37775" y="21600"/>
                </a:lnTo>
                <a:lnTo>
                  <a:pt x="0" y="21600"/>
                </a:lnTo>
                <a:close/>
              </a:path>
              <a:path fill="lightenLess" w="37775" h="21600">
                <a:moveTo>
                  <a:pt x="0" y="0"/>
                </a:moveTo>
                <a:lnTo>
                  <a:pt x="37775" y="0"/>
                </a:lnTo>
                <a:lnTo>
                  <a:pt x="36375" y="1400"/>
                </a:lnTo>
                <a:lnTo>
                  <a:pt x="1400" y="1400"/>
                </a:lnTo>
                <a:close/>
              </a:path>
              <a:path fill="darken" w="37775" h="21600">
                <a:moveTo>
                  <a:pt x="37775" y="0"/>
                </a:moveTo>
                <a:lnTo>
                  <a:pt x="37775" y="21600"/>
                </a:lnTo>
                <a:lnTo>
                  <a:pt x="36375" y="20200"/>
                </a:lnTo>
                <a:lnTo>
                  <a:pt x="36375" y="1400"/>
                </a:lnTo>
                <a:close/>
              </a:path>
              <a:path fill="darkenLess" w="37775" h="21600">
                <a:moveTo>
                  <a:pt x="377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75" y="20200"/>
                </a:lnTo>
                <a:close/>
              </a:path>
              <a:path fill="lighten" w="377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75" h="21600">
                <a:moveTo>
                  <a:pt x="11881" y="3794"/>
                </a:moveTo>
                <a:lnTo>
                  <a:pt x="25894" y="10800"/>
                </a:lnTo>
                <a:lnTo>
                  <a:pt x="1188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8">
            <a:hlinkClick r:id="" action="ppaction://hlinkshowjump?jump=previousslide"/>
          </p:cNvPr>
          <p:cNvSpPr/>
          <p:nvPr/>
        </p:nvSpPr>
        <p:spPr>
          <a:xfrm>
            <a:off x="7391520" y="6553080"/>
            <a:ext cx="533160" cy="304920"/>
          </a:xfrm>
          <a:custGeom>
            <a:avLst/>
            <a:gdLst>
              <a:gd name="textAreaLeft" fmla="*/ 19440 w 533160"/>
              <a:gd name="textAreaRight" fmla="*/ 513720 w 5331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7749" h="21600">
                <a:moveTo>
                  <a:pt x="0" y="0"/>
                </a:moveTo>
                <a:lnTo>
                  <a:pt x="37749" y="0"/>
                </a:lnTo>
                <a:lnTo>
                  <a:pt x="37749" y="21600"/>
                </a:lnTo>
                <a:lnTo>
                  <a:pt x="0" y="21600"/>
                </a:lnTo>
                <a:close/>
              </a:path>
              <a:path fill="lightenLess" w="37749" h="21600">
                <a:moveTo>
                  <a:pt x="0" y="0"/>
                </a:moveTo>
                <a:lnTo>
                  <a:pt x="37749" y="0"/>
                </a:lnTo>
                <a:lnTo>
                  <a:pt x="36349" y="1400"/>
                </a:lnTo>
                <a:lnTo>
                  <a:pt x="1400" y="1400"/>
                </a:lnTo>
                <a:close/>
              </a:path>
              <a:path fill="darken" w="37749" h="21600">
                <a:moveTo>
                  <a:pt x="37749" y="0"/>
                </a:moveTo>
                <a:lnTo>
                  <a:pt x="37749" y="21600"/>
                </a:lnTo>
                <a:lnTo>
                  <a:pt x="36349" y="20200"/>
                </a:lnTo>
                <a:lnTo>
                  <a:pt x="36349" y="1400"/>
                </a:lnTo>
                <a:close/>
              </a:path>
              <a:path fill="darkenLess" w="37749" h="21600">
                <a:moveTo>
                  <a:pt x="377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49" y="20200"/>
                </a:lnTo>
                <a:close/>
              </a:path>
              <a:path fill="lighten" w="377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49" h="21600">
                <a:moveTo>
                  <a:pt x="11868" y="10800"/>
                </a:moveTo>
                <a:lnTo>
                  <a:pt x="25881" y="3794"/>
                </a:lnTo>
                <a:lnTo>
                  <a:pt x="2588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9">
            <a:hlinkClick r:id="rId4" action="ppaction://hlinksldjump"/>
          </p:cNvPr>
          <p:cNvSpPr/>
          <p:nvPr/>
        </p:nvSpPr>
        <p:spPr>
          <a:xfrm>
            <a:off x="8077320" y="6553080"/>
            <a:ext cx="380880" cy="30492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WordArt 10"/>
          <p:cNvSpPr txBox="1"/>
          <p:nvPr/>
        </p:nvSpPr>
        <p:spPr>
          <a:xfrm>
            <a:off x="4876920" y="152280"/>
            <a:ext cx="403848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ередача с отскоком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10" descr="x_8ef7f450"/>
          <p:cNvPicPr/>
          <p:nvPr/>
        </p:nvPicPr>
        <p:blipFill>
          <a:blip r:embed="rId1"/>
          <a:stretch/>
        </p:blipFill>
        <p:spPr>
          <a:xfrm>
            <a:off x="4975200" y="0"/>
            <a:ext cx="416880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761760" y="2514600"/>
            <a:ext cx="373356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 такой передаче принимающий должен получить мяч на уровне подбородка или выш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WordArt 4"/>
          <p:cNvSpPr txBox="1"/>
          <p:nvPr/>
        </p:nvSpPr>
        <p:spPr>
          <a:xfrm rot="5400000">
            <a:off x="-3200400" y="3200400"/>
            <a:ext cx="6858000" cy="4572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c4b596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Times New Roman"/>
              </a:rPr>
              <a:t>Передача мяча</a:t>
            </a:r>
            <a:endParaRPr b="0" lang="en-US" sz="1800" spc="1" strike="noStrike">
              <a:ln w="12600">
                <a:solidFill>
                  <a:srgbClr val="c4b596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9" name="AutoShape 6">
            <a:hlinkClick r:id="" action="ppaction://hlinkshowjump?jump=nextslide"/>
          </p:cNvPr>
          <p:cNvSpPr/>
          <p:nvPr/>
        </p:nvSpPr>
        <p:spPr>
          <a:xfrm>
            <a:off x="8610480" y="6553080"/>
            <a:ext cx="533520" cy="304920"/>
          </a:xfrm>
          <a:custGeom>
            <a:avLst/>
            <a:gdLst>
              <a:gd name="textAreaLeft" fmla="*/ 19440 w 533520"/>
              <a:gd name="textAreaRight" fmla="*/ 514080 w 5335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7775" h="21600">
                <a:moveTo>
                  <a:pt x="0" y="0"/>
                </a:moveTo>
                <a:lnTo>
                  <a:pt x="37775" y="0"/>
                </a:lnTo>
                <a:lnTo>
                  <a:pt x="37775" y="21600"/>
                </a:lnTo>
                <a:lnTo>
                  <a:pt x="0" y="21600"/>
                </a:lnTo>
                <a:close/>
              </a:path>
              <a:path fill="lightenLess" w="37775" h="21600">
                <a:moveTo>
                  <a:pt x="0" y="0"/>
                </a:moveTo>
                <a:lnTo>
                  <a:pt x="37775" y="0"/>
                </a:lnTo>
                <a:lnTo>
                  <a:pt x="36375" y="1400"/>
                </a:lnTo>
                <a:lnTo>
                  <a:pt x="1400" y="1400"/>
                </a:lnTo>
                <a:close/>
              </a:path>
              <a:path fill="darken" w="37775" h="21600">
                <a:moveTo>
                  <a:pt x="37775" y="0"/>
                </a:moveTo>
                <a:lnTo>
                  <a:pt x="37775" y="21600"/>
                </a:lnTo>
                <a:lnTo>
                  <a:pt x="36375" y="20200"/>
                </a:lnTo>
                <a:lnTo>
                  <a:pt x="36375" y="1400"/>
                </a:lnTo>
                <a:close/>
              </a:path>
              <a:path fill="darkenLess" w="37775" h="21600">
                <a:moveTo>
                  <a:pt x="377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75" y="20200"/>
                </a:lnTo>
                <a:close/>
              </a:path>
              <a:path fill="lighten" w="377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75" h="21600">
                <a:moveTo>
                  <a:pt x="11881" y="3794"/>
                </a:moveTo>
                <a:lnTo>
                  <a:pt x="25894" y="10800"/>
                </a:lnTo>
                <a:lnTo>
                  <a:pt x="1188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7">
            <a:hlinkClick r:id="" action="ppaction://hlinkshowjump?jump=previousslide"/>
          </p:cNvPr>
          <p:cNvSpPr/>
          <p:nvPr/>
        </p:nvSpPr>
        <p:spPr>
          <a:xfrm>
            <a:off x="7391520" y="6553080"/>
            <a:ext cx="533160" cy="304920"/>
          </a:xfrm>
          <a:custGeom>
            <a:avLst/>
            <a:gdLst>
              <a:gd name="textAreaLeft" fmla="*/ 19440 w 533160"/>
              <a:gd name="textAreaRight" fmla="*/ 513720 w 5331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7749" h="21600">
                <a:moveTo>
                  <a:pt x="0" y="0"/>
                </a:moveTo>
                <a:lnTo>
                  <a:pt x="37749" y="0"/>
                </a:lnTo>
                <a:lnTo>
                  <a:pt x="37749" y="21600"/>
                </a:lnTo>
                <a:lnTo>
                  <a:pt x="0" y="21600"/>
                </a:lnTo>
                <a:close/>
              </a:path>
              <a:path fill="lightenLess" w="37749" h="21600">
                <a:moveTo>
                  <a:pt x="0" y="0"/>
                </a:moveTo>
                <a:lnTo>
                  <a:pt x="37749" y="0"/>
                </a:lnTo>
                <a:lnTo>
                  <a:pt x="36349" y="1400"/>
                </a:lnTo>
                <a:lnTo>
                  <a:pt x="1400" y="1400"/>
                </a:lnTo>
                <a:close/>
              </a:path>
              <a:path fill="darken" w="37749" h="21600">
                <a:moveTo>
                  <a:pt x="37749" y="0"/>
                </a:moveTo>
                <a:lnTo>
                  <a:pt x="37749" y="21600"/>
                </a:lnTo>
                <a:lnTo>
                  <a:pt x="36349" y="20200"/>
                </a:lnTo>
                <a:lnTo>
                  <a:pt x="36349" y="1400"/>
                </a:lnTo>
                <a:close/>
              </a:path>
              <a:path fill="darkenLess" w="37749" h="21600">
                <a:moveTo>
                  <a:pt x="377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49" y="20200"/>
                </a:lnTo>
                <a:close/>
              </a:path>
              <a:path fill="lighten" w="377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49" h="21600">
                <a:moveTo>
                  <a:pt x="11868" y="10800"/>
                </a:moveTo>
                <a:lnTo>
                  <a:pt x="25881" y="3794"/>
                </a:lnTo>
                <a:lnTo>
                  <a:pt x="2588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8">
            <a:hlinkClick r:id="rId4" action="ppaction://hlinksldjump"/>
          </p:cNvPr>
          <p:cNvSpPr/>
          <p:nvPr/>
        </p:nvSpPr>
        <p:spPr>
          <a:xfrm>
            <a:off x="8077320" y="6553080"/>
            <a:ext cx="380880" cy="30492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WordArt 11"/>
          <p:cNvSpPr txBox="1"/>
          <p:nvPr/>
        </p:nvSpPr>
        <p:spPr>
          <a:xfrm>
            <a:off x="838080" y="380880"/>
            <a:ext cx="38102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ередача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д головой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57200" y="-360"/>
            <a:ext cx="86868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редача, при которой передающий берет мяч в руку (обычно - которой бросает) и обводит мяч вокруг корпуса за спиной. Затем совершает передачу игроку, при этом пока мяч переносится назад, пасующий успевает заблокировать принимающего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WordArt 4"/>
          <p:cNvSpPr txBox="1"/>
          <p:nvPr/>
        </p:nvSpPr>
        <p:spPr>
          <a:xfrm rot="5400000">
            <a:off x="-3200400" y="3200400"/>
            <a:ext cx="6858000" cy="4572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c4b596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Times New Roman"/>
              </a:rPr>
              <a:t>Передача мяча</a:t>
            </a:r>
            <a:endParaRPr b="0" lang="en-US" sz="1800" spc="1" strike="noStrike">
              <a:ln w="12600">
                <a:solidFill>
                  <a:srgbClr val="c4b596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25" name="Picture 6" descr="197363-0f45a-54798721-m750x740-u6c21a"/>
          <p:cNvPicPr/>
          <p:nvPr/>
        </p:nvPicPr>
        <p:blipFill>
          <a:blip r:embed="rId3"/>
          <a:stretch/>
        </p:blipFill>
        <p:spPr>
          <a:xfrm>
            <a:off x="1295280" y="3168720"/>
            <a:ext cx="6477120" cy="3689280"/>
          </a:xfrm>
          <a:prstGeom prst="rect">
            <a:avLst/>
          </a:prstGeom>
          <a:ln w="0">
            <a:noFill/>
          </a:ln>
        </p:spPr>
      </p:pic>
      <p:sp>
        <p:nvSpPr>
          <p:cNvPr id="126" name="AutoShape 8">
            <a:hlinkClick r:id="" action="ppaction://hlinkshowjump?jump=nextslide"/>
          </p:cNvPr>
          <p:cNvSpPr/>
          <p:nvPr/>
        </p:nvSpPr>
        <p:spPr>
          <a:xfrm>
            <a:off x="8610480" y="6553080"/>
            <a:ext cx="533520" cy="304920"/>
          </a:xfrm>
          <a:custGeom>
            <a:avLst/>
            <a:gdLst>
              <a:gd name="textAreaLeft" fmla="*/ 19440 w 533520"/>
              <a:gd name="textAreaRight" fmla="*/ 514080 w 5335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7775" h="21600">
                <a:moveTo>
                  <a:pt x="0" y="0"/>
                </a:moveTo>
                <a:lnTo>
                  <a:pt x="37775" y="0"/>
                </a:lnTo>
                <a:lnTo>
                  <a:pt x="37775" y="21600"/>
                </a:lnTo>
                <a:lnTo>
                  <a:pt x="0" y="21600"/>
                </a:lnTo>
                <a:close/>
              </a:path>
              <a:path fill="lightenLess" w="37775" h="21600">
                <a:moveTo>
                  <a:pt x="0" y="0"/>
                </a:moveTo>
                <a:lnTo>
                  <a:pt x="37775" y="0"/>
                </a:lnTo>
                <a:lnTo>
                  <a:pt x="36375" y="1400"/>
                </a:lnTo>
                <a:lnTo>
                  <a:pt x="1400" y="1400"/>
                </a:lnTo>
                <a:close/>
              </a:path>
              <a:path fill="darken" w="37775" h="21600">
                <a:moveTo>
                  <a:pt x="37775" y="0"/>
                </a:moveTo>
                <a:lnTo>
                  <a:pt x="37775" y="21600"/>
                </a:lnTo>
                <a:lnTo>
                  <a:pt x="36375" y="20200"/>
                </a:lnTo>
                <a:lnTo>
                  <a:pt x="36375" y="1400"/>
                </a:lnTo>
                <a:close/>
              </a:path>
              <a:path fill="darkenLess" w="37775" h="21600">
                <a:moveTo>
                  <a:pt x="377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75" y="20200"/>
                </a:lnTo>
                <a:close/>
              </a:path>
              <a:path fill="lighten" w="377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75" h="21600">
                <a:moveTo>
                  <a:pt x="11881" y="3794"/>
                </a:moveTo>
                <a:lnTo>
                  <a:pt x="25894" y="10800"/>
                </a:lnTo>
                <a:lnTo>
                  <a:pt x="1188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9">
            <a:hlinkClick r:id="" action="ppaction://hlinkshowjump?jump=previousslide"/>
          </p:cNvPr>
          <p:cNvSpPr/>
          <p:nvPr/>
        </p:nvSpPr>
        <p:spPr>
          <a:xfrm>
            <a:off x="7391520" y="6553080"/>
            <a:ext cx="533160" cy="304920"/>
          </a:xfrm>
          <a:custGeom>
            <a:avLst/>
            <a:gdLst>
              <a:gd name="textAreaLeft" fmla="*/ 19440 w 533160"/>
              <a:gd name="textAreaRight" fmla="*/ 513720 w 5331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7749" h="21600">
                <a:moveTo>
                  <a:pt x="0" y="0"/>
                </a:moveTo>
                <a:lnTo>
                  <a:pt x="37749" y="0"/>
                </a:lnTo>
                <a:lnTo>
                  <a:pt x="37749" y="21600"/>
                </a:lnTo>
                <a:lnTo>
                  <a:pt x="0" y="21600"/>
                </a:lnTo>
                <a:close/>
              </a:path>
              <a:path fill="lightenLess" w="37749" h="21600">
                <a:moveTo>
                  <a:pt x="0" y="0"/>
                </a:moveTo>
                <a:lnTo>
                  <a:pt x="37749" y="0"/>
                </a:lnTo>
                <a:lnTo>
                  <a:pt x="36349" y="1400"/>
                </a:lnTo>
                <a:lnTo>
                  <a:pt x="1400" y="1400"/>
                </a:lnTo>
                <a:close/>
              </a:path>
              <a:path fill="darken" w="37749" h="21600">
                <a:moveTo>
                  <a:pt x="37749" y="0"/>
                </a:moveTo>
                <a:lnTo>
                  <a:pt x="37749" y="21600"/>
                </a:lnTo>
                <a:lnTo>
                  <a:pt x="36349" y="20200"/>
                </a:lnTo>
                <a:lnTo>
                  <a:pt x="36349" y="1400"/>
                </a:lnTo>
                <a:close/>
              </a:path>
              <a:path fill="darkenLess" w="37749" h="21600">
                <a:moveTo>
                  <a:pt x="377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49" y="20200"/>
                </a:lnTo>
                <a:close/>
              </a:path>
              <a:path fill="lighten" w="377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49" h="21600">
                <a:moveTo>
                  <a:pt x="11868" y="10800"/>
                </a:moveTo>
                <a:lnTo>
                  <a:pt x="25881" y="3794"/>
                </a:lnTo>
                <a:lnTo>
                  <a:pt x="2588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10">
            <a:hlinkClick r:id="rId4" action="ppaction://hlinksldjump"/>
          </p:cNvPr>
          <p:cNvSpPr/>
          <p:nvPr/>
        </p:nvSpPr>
        <p:spPr>
          <a:xfrm>
            <a:off x="8077320" y="6553080"/>
            <a:ext cx="380880" cy="30492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WordArt 11"/>
          <p:cNvSpPr txBox="1"/>
          <p:nvPr/>
        </p:nvSpPr>
        <p:spPr>
          <a:xfrm>
            <a:off x="4419720" y="2209680"/>
            <a:ext cx="4257720" cy="9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ередача из-за спины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9" descr="197363-8dc11-54798768-m750x740-udeed7"/>
          <p:cNvPicPr/>
          <p:nvPr/>
        </p:nvPicPr>
        <p:blipFill>
          <a:blip r:embed="rId1"/>
          <a:stretch/>
        </p:blipFill>
        <p:spPr>
          <a:xfrm>
            <a:off x="4575240" y="0"/>
            <a:ext cx="456876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228240" y="1447920"/>
            <a:ext cx="3962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англ.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rebound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 — важнейший элемент при игре в баскетбол, при котором игрок овладевает мячом после неудачной попытки 2-х, 3-х очкового броска или последнего штрафного броск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6">
            <a:hlinkClick r:id="" action="ppaction://hlinkshowjump?jump=nextslide"/>
          </p:cNvPr>
          <p:cNvSpPr/>
          <p:nvPr/>
        </p:nvSpPr>
        <p:spPr>
          <a:xfrm>
            <a:off x="8610480" y="6553080"/>
            <a:ext cx="533520" cy="304920"/>
          </a:xfrm>
          <a:custGeom>
            <a:avLst/>
            <a:gdLst>
              <a:gd name="textAreaLeft" fmla="*/ 19440 w 533520"/>
              <a:gd name="textAreaRight" fmla="*/ 514080 w 5335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7775" h="21600">
                <a:moveTo>
                  <a:pt x="0" y="0"/>
                </a:moveTo>
                <a:lnTo>
                  <a:pt x="37775" y="0"/>
                </a:lnTo>
                <a:lnTo>
                  <a:pt x="37775" y="21600"/>
                </a:lnTo>
                <a:lnTo>
                  <a:pt x="0" y="21600"/>
                </a:lnTo>
                <a:close/>
              </a:path>
              <a:path fill="lightenLess" w="37775" h="21600">
                <a:moveTo>
                  <a:pt x="0" y="0"/>
                </a:moveTo>
                <a:lnTo>
                  <a:pt x="37775" y="0"/>
                </a:lnTo>
                <a:lnTo>
                  <a:pt x="36375" y="1400"/>
                </a:lnTo>
                <a:lnTo>
                  <a:pt x="1400" y="1400"/>
                </a:lnTo>
                <a:close/>
              </a:path>
              <a:path fill="darken" w="37775" h="21600">
                <a:moveTo>
                  <a:pt x="37775" y="0"/>
                </a:moveTo>
                <a:lnTo>
                  <a:pt x="37775" y="21600"/>
                </a:lnTo>
                <a:lnTo>
                  <a:pt x="36375" y="20200"/>
                </a:lnTo>
                <a:lnTo>
                  <a:pt x="36375" y="1400"/>
                </a:lnTo>
                <a:close/>
              </a:path>
              <a:path fill="darkenLess" w="37775" h="21600">
                <a:moveTo>
                  <a:pt x="377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75" y="20200"/>
                </a:lnTo>
                <a:close/>
              </a:path>
              <a:path fill="lighten" w="377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75" h="21600">
                <a:moveTo>
                  <a:pt x="11881" y="3794"/>
                </a:moveTo>
                <a:lnTo>
                  <a:pt x="25894" y="10800"/>
                </a:lnTo>
                <a:lnTo>
                  <a:pt x="1188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7">
            <a:hlinkClick r:id="" action="ppaction://hlinkshowjump?jump=previousslide"/>
          </p:cNvPr>
          <p:cNvSpPr/>
          <p:nvPr/>
        </p:nvSpPr>
        <p:spPr>
          <a:xfrm>
            <a:off x="7391520" y="6553080"/>
            <a:ext cx="533160" cy="304920"/>
          </a:xfrm>
          <a:custGeom>
            <a:avLst/>
            <a:gdLst>
              <a:gd name="textAreaLeft" fmla="*/ 19440 w 533160"/>
              <a:gd name="textAreaRight" fmla="*/ 513720 w 5331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7749" h="21600">
                <a:moveTo>
                  <a:pt x="0" y="0"/>
                </a:moveTo>
                <a:lnTo>
                  <a:pt x="37749" y="0"/>
                </a:lnTo>
                <a:lnTo>
                  <a:pt x="37749" y="21600"/>
                </a:lnTo>
                <a:lnTo>
                  <a:pt x="0" y="21600"/>
                </a:lnTo>
                <a:close/>
              </a:path>
              <a:path fill="lightenLess" w="37749" h="21600">
                <a:moveTo>
                  <a:pt x="0" y="0"/>
                </a:moveTo>
                <a:lnTo>
                  <a:pt x="37749" y="0"/>
                </a:lnTo>
                <a:lnTo>
                  <a:pt x="36349" y="1400"/>
                </a:lnTo>
                <a:lnTo>
                  <a:pt x="1400" y="1400"/>
                </a:lnTo>
                <a:close/>
              </a:path>
              <a:path fill="darken" w="37749" h="21600">
                <a:moveTo>
                  <a:pt x="37749" y="0"/>
                </a:moveTo>
                <a:lnTo>
                  <a:pt x="37749" y="21600"/>
                </a:lnTo>
                <a:lnTo>
                  <a:pt x="36349" y="20200"/>
                </a:lnTo>
                <a:lnTo>
                  <a:pt x="36349" y="1400"/>
                </a:lnTo>
                <a:close/>
              </a:path>
              <a:path fill="darkenLess" w="37749" h="21600">
                <a:moveTo>
                  <a:pt x="377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49" y="20200"/>
                </a:lnTo>
                <a:close/>
              </a:path>
              <a:path fill="lighten" w="377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49" h="21600">
                <a:moveTo>
                  <a:pt x="11868" y="10800"/>
                </a:moveTo>
                <a:lnTo>
                  <a:pt x="25881" y="3794"/>
                </a:lnTo>
                <a:lnTo>
                  <a:pt x="2588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8">
            <a:hlinkClick r:id="rId2" action="ppaction://hlinksldjump"/>
          </p:cNvPr>
          <p:cNvSpPr/>
          <p:nvPr/>
        </p:nvSpPr>
        <p:spPr>
          <a:xfrm>
            <a:off x="8077320" y="6553080"/>
            <a:ext cx="380880" cy="30492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WordArt 10"/>
          <p:cNvSpPr txBox="1"/>
          <p:nvPr/>
        </p:nvSpPr>
        <p:spPr>
          <a:xfrm>
            <a:off x="914400" y="304920"/>
            <a:ext cx="29718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одбор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10" descr="197363-566aa-54355597-m750x740-uadbb9"/>
          <p:cNvPicPr/>
          <p:nvPr/>
        </p:nvPicPr>
        <p:blipFill>
          <a:blip r:embed="rId1"/>
          <a:stretch/>
        </p:blipFill>
        <p:spPr>
          <a:xfrm>
            <a:off x="5894280" y="1981080"/>
            <a:ext cx="3249720" cy="48769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533520" y="228240"/>
            <a:ext cx="861048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личают несколько видов подборов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дбор в нападении, на чужом щите англ.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offensive reb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дбор в защите, на своём щит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нгл.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defensive reb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ллективный подбо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WordArt 4"/>
          <p:cNvSpPr txBox="1"/>
          <p:nvPr/>
        </p:nvSpPr>
        <p:spPr>
          <a:xfrm rot="5400000">
            <a:off x="-3167280" y="3166920"/>
            <a:ext cx="6858000" cy="523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c4b596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Times New Roman"/>
              </a:rPr>
              <a:t>Подбор мяча</a:t>
            </a:r>
            <a:endParaRPr b="0" lang="en-US" sz="1800" spc="1" strike="noStrike">
              <a:ln w="12600">
                <a:solidFill>
                  <a:srgbClr val="c4b596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39" name="AutoShape 5">
            <a:hlinkClick r:id="" action="ppaction://hlinkshowjump?jump=nextslide"/>
          </p:cNvPr>
          <p:cNvSpPr/>
          <p:nvPr/>
        </p:nvSpPr>
        <p:spPr>
          <a:xfrm>
            <a:off x="8610480" y="6553080"/>
            <a:ext cx="533520" cy="304920"/>
          </a:xfrm>
          <a:custGeom>
            <a:avLst/>
            <a:gdLst>
              <a:gd name="textAreaLeft" fmla="*/ 19440 w 533520"/>
              <a:gd name="textAreaRight" fmla="*/ 514080 w 5335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7775" h="21600">
                <a:moveTo>
                  <a:pt x="0" y="0"/>
                </a:moveTo>
                <a:lnTo>
                  <a:pt x="37775" y="0"/>
                </a:lnTo>
                <a:lnTo>
                  <a:pt x="37775" y="21600"/>
                </a:lnTo>
                <a:lnTo>
                  <a:pt x="0" y="21600"/>
                </a:lnTo>
                <a:close/>
              </a:path>
              <a:path fill="lightenLess" w="37775" h="21600">
                <a:moveTo>
                  <a:pt x="0" y="0"/>
                </a:moveTo>
                <a:lnTo>
                  <a:pt x="37775" y="0"/>
                </a:lnTo>
                <a:lnTo>
                  <a:pt x="36375" y="1400"/>
                </a:lnTo>
                <a:lnTo>
                  <a:pt x="1400" y="1400"/>
                </a:lnTo>
                <a:close/>
              </a:path>
              <a:path fill="darken" w="37775" h="21600">
                <a:moveTo>
                  <a:pt x="37775" y="0"/>
                </a:moveTo>
                <a:lnTo>
                  <a:pt x="37775" y="21600"/>
                </a:lnTo>
                <a:lnTo>
                  <a:pt x="36375" y="20200"/>
                </a:lnTo>
                <a:lnTo>
                  <a:pt x="36375" y="1400"/>
                </a:lnTo>
                <a:close/>
              </a:path>
              <a:path fill="darkenLess" w="37775" h="21600">
                <a:moveTo>
                  <a:pt x="377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75" y="20200"/>
                </a:lnTo>
                <a:close/>
              </a:path>
              <a:path fill="lighten" w="377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75" h="21600">
                <a:moveTo>
                  <a:pt x="11881" y="3794"/>
                </a:moveTo>
                <a:lnTo>
                  <a:pt x="25894" y="10800"/>
                </a:lnTo>
                <a:lnTo>
                  <a:pt x="1188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6">
            <a:hlinkClick r:id="" action="ppaction://hlinkshowjump?jump=previousslide"/>
          </p:cNvPr>
          <p:cNvSpPr/>
          <p:nvPr/>
        </p:nvSpPr>
        <p:spPr>
          <a:xfrm>
            <a:off x="7391520" y="6553080"/>
            <a:ext cx="533160" cy="304920"/>
          </a:xfrm>
          <a:custGeom>
            <a:avLst/>
            <a:gdLst>
              <a:gd name="textAreaLeft" fmla="*/ 19440 w 533160"/>
              <a:gd name="textAreaRight" fmla="*/ 513720 w 5331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7749" h="21600">
                <a:moveTo>
                  <a:pt x="0" y="0"/>
                </a:moveTo>
                <a:lnTo>
                  <a:pt x="37749" y="0"/>
                </a:lnTo>
                <a:lnTo>
                  <a:pt x="37749" y="21600"/>
                </a:lnTo>
                <a:lnTo>
                  <a:pt x="0" y="21600"/>
                </a:lnTo>
                <a:close/>
              </a:path>
              <a:path fill="lightenLess" w="37749" h="21600">
                <a:moveTo>
                  <a:pt x="0" y="0"/>
                </a:moveTo>
                <a:lnTo>
                  <a:pt x="37749" y="0"/>
                </a:lnTo>
                <a:lnTo>
                  <a:pt x="36349" y="1400"/>
                </a:lnTo>
                <a:lnTo>
                  <a:pt x="1400" y="1400"/>
                </a:lnTo>
                <a:close/>
              </a:path>
              <a:path fill="darken" w="37749" h="21600">
                <a:moveTo>
                  <a:pt x="37749" y="0"/>
                </a:moveTo>
                <a:lnTo>
                  <a:pt x="37749" y="21600"/>
                </a:lnTo>
                <a:lnTo>
                  <a:pt x="36349" y="20200"/>
                </a:lnTo>
                <a:lnTo>
                  <a:pt x="36349" y="1400"/>
                </a:lnTo>
                <a:close/>
              </a:path>
              <a:path fill="darkenLess" w="37749" h="21600">
                <a:moveTo>
                  <a:pt x="377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49" y="20200"/>
                </a:lnTo>
                <a:close/>
              </a:path>
              <a:path fill="lighten" w="377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49" h="21600">
                <a:moveTo>
                  <a:pt x="11868" y="10800"/>
                </a:moveTo>
                <a:lnTo>
                  <a:pt x="25881" y="3794"/>
                </a:lnTo>
                <a:lnTo>
                  <a:pt x="2588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7">
            <a:hlinkClick r:id="rId4" action="ppaction://hlinksldjump"/>
          </p:cNvPr>
          <p:cNvSpPr/>
          <p:nvPr/>
        </p:nvSpPr>
        <p:spPr>
          <a:xfrm>
            <a:off x="8077320" y="6553080"/>
            <a:ext cx="380880" cy="30492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9" descr="197363-9041d-54355684-m750x740-udecec"/>
          <p:cNvPicPr/>
          <p:nvPr/>
        </p:nvPicPr>
        <p:blipFill>
          <a:blip r:embed="rId5"/>
          <a:stretch/>
        </p:blipFill>
        <p:spPr>
          <a:xfrm>
            <a:off x="533520" y="3357720"/>
            <a:ext cx="541008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419360" y="-360"/>
            <a:ext cx="4724280" cy="67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ля успешного подбора игроку необходимо заграждать путь соперника к кольцу с целью выигрыша подбора (англ.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box out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. В основном, подборы прерогатива передней линии команды — центровых и тяжелых форвардов. Чтобы подбирать мяч, нужно обладать хорошим чувством позиции и времен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WordArt 4"/>
          <p:cNvSpPr txBox="1"/>
          <p:nvPr/>
        </p:nvSpPr>
        <p:spPr>
          <a:xfrm rot="5400000">
            <a:off x="-3167280" y="3166920"/>
            <a:ext cx="6858000" cy="523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c4b596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Times New Roman"/>
              </a:rPr>
              <a:t>Подбор мяча</a:t>
            </a:r>
            <a:endParaRPr b="0" lang="en-US" sz="1800" spc="1" strike="noStrike">
              <a:ln w="12600">
                <a:solidFill>
                  <a:srgbClr val="c4b596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45" name="AutoShape 5">
            <a:hlinkClick r:id="" action="ppaction://hlinkshowjump?jump=nextslide"/>
          </p:cNvPr>
          <p:cNvSpPr/>
          <p:nvPr/>
        </p:nvSpPr>
        <p:spPr>
          <a:xfrm>
            <a:off x="8610480" y="6553080"/>
            <a:ext cx="533520" cy="304920"/>
          </a:xfrm>
          <a:custGeom>
            <a:avLst/>
            <a:gdLst>
              <a:gd name="textAreaLeft" fmla="*/ 19440 w 533520"/>
              <a:gd name="textAreaRight" fmla="*/ 514080 w 5335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7775" h="21600">
                <a:moveTo>
                  <a:pt x="0" y="0"/>
                </a:moveTo>
                <a:lnTo>
                  <a:pt x="37775" y="0"/>
                </a:lnTo>
                <a:lnTo>
                  <a:pt x="37775" y="21600"/>
                </a:lnTo>
                <a:lnTo>
                  <a:pt x="0" y="21600"/>
                </a:lnTo>
                <a:close/>
              </a:path>
              <a:path fill="lightenLess" w="37775" h="21600">
                <a:moveTo>
                  <a:pt x="0" y="0"/>
                </a:moveTo>
                <a:lnTo>
                  <a:pt x="37775" y="0"/>
                </a:lnTo>
                <a:lnTo>
                  <a:pt x="36375" y="1400"/>
                </a:lnTo>
                <a:lnTo>
                  <a:pt x="1400" y="1400"/>
                </a:lnTo>
                <a:close/>
              </a:path>
              <a:path fill="darken" w="37775" h="21600">
                <a:moveTo>
                  <a:pt x="37775" y="0"/>
                </a:moveTo>
                <a:lnTo>
                  <a:pt x="37775" y="21600"/>
                </a:lnTo>
                <a:lnTo>
                  <a:pt x="36375" y="20200"/>
                </a:lnTo>
                <a:lnTo>
                  <a:pt x="36375" y="1400"/>
                </a:lnTo>
                <a:close/>
              </a:path>
              <a:path fill="darkenLess" w="37775" h="21600">
                <a:moveTo>
                  <a:pt x="377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75" y="20200"/>
                </a:lnTo>
                <a:close/>
              </a:path>
              <a:path fill="lighten" w="377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75" h="21600">
                <a:moveTo>
                  <a:pt x="11881" y="3794"/>
                </a:moveTo>
                <a:lnTo>
                  <a:pt x="25894" y="10800"/>
                </a:lnTo>
                <a:lnTo>
                  <a:pt x="1188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6">
            <a:hlinkClick r:id="" action="ppaction://hlinkshowjump?jump=previousslide"/>
          </p:cNvPr>
          <p:cNvSpPr/>
          <p:nvPr/>
        </p:nvSpPr>
        <p:spPr>
          <a:xfrm>
            <a:off x="7391520" y="6553080"/>
            <a:ext cx="533160" cy="304920"/>
          </a:xfrm>
          <a:custGeom>
            <a:avLst/>
            <a:gdLst>
              <a:gd name="textAreaLeft" fmla="*/ 19440 w 533160"/>
              <a:gd name="textAreaRight" fmla="*/ 513720 w 5331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7749" h="21600">
                <a:moveTo>
                  <a:pt x="0" y="0"/>
                </a:moveTo>
                <a:lnTo>
                  <a:pt x="37749" y="0"/>
                </a:lnTo>
                <a:lnTo>
                  <a:pt x="37749" y="21600"/>
                </a:lnTo>
                <a:lnTo>
                  <a:pt x="0" y="21600"/>
                </a:lnTo>
                <a:close/>
              </a:path>
              <a:path fill="lightenLess" w="37749" h="21600">
                <a:moveTo>
                  <a:pt x="0" y="0"/>
                </a:moveTo>
                <a:lnTo>
                  <a:pt x="37749" y="0"/>
                </a:lnTo>
                <a:lnTo>
                  <a:pt x="36349" y="1400"/>
                </a:lnTo>
                <a:lnTo>
                  <a:pt x="1400" y="1400"/>
                </a:lnTo>
                <a:close/>
              </a:path>
              <a:path fill="darken" w="37749" h="21600">
                <a:moveTo>
                  <a:pt x="37749" y="0"/>
                </a:moveTo>
                <a:lnTo>
                  <a:pt x="37749" y="21600"/>
                </a:lnTo>
                <a:lnTo>
                  <a:pt x="36349" y="20200"/>
                </a:lnTo>
                <a:lnTo>
                  <a:pt x="36349" y="1400"/>
                </a:lnTo>
                <a:close/>
              </a:path>
              <a:path fill="darkenLess" w="37749" h="21600">
                <a:moveTo>
                  <a:pt x="377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49" y="20200"/>
                </a:lnTo>
                <a:close/>
              </a:path>
              <a:path fill="lighten" w="377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49" h="21600">
                <a:moveTo>
                  <a:pt x="11868" y="10800"/>
                </a:moveTo>
                <a:lnTo>
                  <a:pt x="25881" y="3794"/>
                </a:lnTo>
                <a:lnTo>
                  <a:pt x="2588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7">
            <a:hlinkClick r:id="rId3" action="ppaction://hlinksldjump"/>
          </p:cNvPr>
          <p:cNvSpPr/>
          <p:nvPr/>
        </p:nvSpPr>
        <p:spPr>
          <a:xfrm>
            <a:off x="8077320" y="6553080"/>
            <a:ext cx="380880" cy="30492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8" descr="197363-0730f-54355302-m750x740-u3efb3"/>
          <p:cNvPicPr/>
          <p:nvPr/>
        </p:nvPicPr>
        <p:blipFill>
          <a:blip r:embed="rId4"/>
          <a:stretch/>
        </p:blipFill>
        <p:spPr>
          <a:xfrm>
            <a:off x="533520" y="228600"/>
            <a:ext cx="380988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8" descr="197363-7d8f1-54738654-m750x740-udfe3d"/>
          <p:cNvPicPr/>
          <p:nvPr/>
        </p:nvPicPr>
        <p:blipFill>
          <a:blip r:embed="rId1"/>
          <a:stretch/>
        </p:blipFill>
        <p:spPr>
          <a:xfrm>
            <a:off x="5413320" y="0"/>
            <a:ext cx="3730680" cy="685800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228240" y="1599840"/>
            <a:ext cx="47242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ерехва́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англ.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steal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 — в баскетболе действия игрока обороны по завладению мячом. Перехват мяча выполняется при броске или передаче игроков атаки. При утрате контроля над мячом атакующей команде вследствие перехвата защитниками в статистическом отчете матча записывается потеря. После перехвата мяча защищающаяся команда переходит в быстрый прорыв и набирает «лёгкие» оч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5">
            <a:hlinkClick r:id="" action="ppaction://hlinkshowjump?jump=nextslide"/>
          </p:cNvPr>
          <p:cNvSpPr/>
          <p:nvPr/>
        </p:nvSpPr>
        <p:spPr>
          <a:xfrm>
            <a:off x="8610480" y="6553080"/>
            <a:ext cx="533520" cy="304920"/>
          </a:xfrm>
          <a:custGeom>
            <a:avLst/>
            <a:gdLst>
              <a:gd name="textAreaLeft" fmla="*/ 19440 w 533520"/>
              <a:gd name="textAreaRight" fmla="*/ 514080 w 5335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7775" h="21600">
                <a:moveTo>
                  <a:pt x="0" y="0"/>
                </a:moveTo>
                <a:lnTo>
                  <a:pt x="37775" y="0"/>
                </a:lnTo>
                <a:lnTo>
                  <a:pt x="37775" y="21600"/>
                </a:lnTo>
                <a:lnTo>
                  <a:pt x="0" y="21600"/>
                </a:lnTo>
                <a:close/>
              </a:path>
              <a:path fill="lightenLess" w="37775" h="21600">
                <a:moveTo>
                  <a:pt x="0" y="0"/>
                </a:moveTo>
                <a:lnTo>
                  <a:pt x="37775" y="0"/>
                </a:lnTo>
                <a:lnTo>
                  <a:pt x="36375" y="1400"/>
                </a:lnTo>
                <a:lnTo>
                  <a:pt x="1400" y="1400"/>
                </a:lnTo>
                <a:close/>
              </a:path>
              <a:path fill="darken" w="37775" h="21600">
                <a:moveTo>
                  <a:pt x="37775" y="0"/>
                </a:moveTo>
                <a:lnTo>
                  <a:pt x="37775" y="21600"/>
                </a:lnTo>
                <a:lnTo>
                  <a:pt x="36375" y="20200"/>
                </a:lnTo>
                <a:lnTo>
                  <a:pt x="36375" y="1400"/>
                </a:lnTo>
                <a:close/>
              </a:path>
              <a:path fill="darkenLess" w="37775" h="21600">
                <a:moveTo>
                  <a:pt x="377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75" y="20200"/>
                </a:lnTo>
                <a:close/>
              </a:path>
              <a:path fill="lighten" w="377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75" h="21600">
                <a:moveTo>
                  <a:pt x="11881" y="3794"/>
                </a:moveTo>
                <a:lnTo>
                  <a:pt x="25894" y="10800"/>
                </a:lnTo>
                <a:lnTo>
                  <a:pt x="1188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6">
            <a:hlinkClick r:id="" action="ppaction://hlinkshowjump?jump=previousslide"/>
          </p:cNvPr>
          <p:cNvSpPr/>
          <p:nvPr/>
        </p:nvSpPr>
        <p:spPr>
          <a:xfrm>
            <a:off x="7391520" y="6553080"/>
            <a:ext cx="533160" cy="304920"/>
          </a:xfrm>
          <a:custGeom>
            <a:avLst/>
            <a:gdLst>
              <a:gd name="textAreaLeft" fmla="*/ 19440 w 533160"/>
              <a:gd name="textAreaRight" fmla="*/ 513720 w 5331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7749" h="21600">
                <a:moveTo>
                  <a:pt x="0" y="0"/>
                </a:moveTo>
                <a:lnTo>
                  <a:pt x="37749" y="0"/>
                </a:lnTo>
                <a:lnTo>
                  <a:pt x="37749" y="21600"/>
                </a:lnTo>
                <a:lnTo>
                  <a:pt x="0" y="21600"/>
                </a:lnTo>
                <a:close/>
              </a:path>
              <a:path fill="lightenLess" w="37749" h="21600">
                <a:moveTo>
                  <a:pt x="0" y="0"/>
                </a:moveTo>
                <a:lnTo>
                  <a:pt x="37749" y="0"/>
                </a:lnTo>
                <a:lnTo>
                  <a:pt x="36349" y="1400"/>
                </a:lnTo>
                <a:lnTo>
                  <a:pt x="1400" y="1400"/>
                </a:lnTo>
                <a:close/>
              </a:path>
              <a:path fill="darken" w="37749" h="21600">
                <a:moveTo>
                  <a:pt x="37749" y="0"/>
                </a:moveTo>
                <a:lnTo>
                  <a:pt x="37749" y="21600"/>
                </a:lnTo>
                <a:lnTo>
                  <a:pt x="36349" y="20200"/>
                </a:lnTo>
                <a:lnTo>
                  <a:pt x="36349" y="1400"/>
                </a:lnTo>
                <a:close/>
              </a:path>
              <a:path fill="darkenLess" w="37749" h="21600">
                <a:moveTo>
                  <a:pt x="377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49" y="20200"/>
                </a:lnTo>
                <a:close/>
              </a:path>
              <a:path fill="lighten" w="377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49" h="21600">
                <a:moveTo>
                  <a:pt x="11868" y="10800"/>
                </a:moveTo>
                <a:lnTo>
                  <a:pt x="25881" y="3794"/>
                </a:lnTo>
                <a:lnTo>
                  <a:pt x="2588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7">
            <a:hlinkClick r:id="rId2" action="ppaction://hlinksldjump"/>
          </p:cNvPr>
          <p:cNvSpPr/>
          <p:nvPr/>
        </p:nvSpPr>
        <p:spPr>
          <a:xfrm>
            <a:off x="8077320" y="6553080"/>
            <a:ext cx="380880" cy="30492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WordArt 9"/>
          <p:cNvSpPr txBox="1"/>
          <p:nvPr/>
        </p:nvSpPr>
        <p:spPr>
          <a:xfrm>
            <a:off x="914400" y="304920"/>
            <a:ext cx="403848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ерехват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6868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локшот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англ.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blocked shot - заблокированный бросок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 — баскетбольный термин, означающий ситуацию, когда игрок защиты блокирует по правилам бросок соперник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WordArt 4"/>
          <p:cNvSpPr txBox="1"/>
          <p:nvPr/>
        </p:nvSpPr>
        <p:spPr>
          <a:xfrm rot="5400000">
            <a:off x="-1910160" y="3052800"/>
            <a:ext cx="4343400" cy="523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c4b596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Times New Roman"/>
              </a:rPr>
              <a:t>Блокшот</a:t>
            </a:r>
            <a:endParaRPr b="0" lang="en-US" sz="1800" spc="1" strike="noStrike">
              <a:ln w="12600">
                <a:solidFill>
                  <a:srgbClr val="c4b596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57" name="AutoShape 5">
            <a:hlinkClick r:id="" action="ppaction://hlinkshowjump?jump=nextslide"/>
          </p:cNvPr>
          <p:cNvSpPr/>
          <p:nvPr/>
        </p:nvSpPr>
        <p:spPr>
          <a:xfrm>
            <a:off x="8610480" y="6553080"/>
            <a:ext cx="533520" cy="304920"/>
          </a:xfrm>
          <a:custGeom>
            <a:avLst/>
            <a:gdLst>
              <a:gd name="textAreaLeft" fmla="*/ 19440 w 533520"/>
              <a:gd name="textAreaRight" fmla="*/ 514080 w 5335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7775" h="21600">
                <a:moveTo>
                  <a:pt x="0" y="0"/>
                </a:moveTo>
                <a:lnTo>
                  <a:pt x="37775" y="0"/>
                </a:lnTo>
                <a:lnTo>
                  <a:pt x="37775" y="21600"/>
                </a:lnTo>
                <a:lnTo>
                  <a:pt x="0" y="21600"/>
                </a:lnTo>
                <a:close/>
              </a:path>
              <a:path fill="lightenLess" w="37775" h="21600">
                <a:moveTo>
                  <a:pt x="0" y="0"/>
                </a:moveTo>
                <a:lnTo>
                  <a:pt x="37775" y="0"/>
                </a:lnTo>
                <a:lnTo>
                  <a:pt x="36375" y="1400"/>
                </a:lnTo>
                <a:lnTo>
                  <a:pt x="1400" y="1400"/>
                </a:lnTo>
                <a:close/>
              </a:path>
              <a:path fill="darken" w="37775" h="21600">
                <a:moveTo>
                  <a:pt x="37775" y="0"/>
                </a:moveTo>
                <a:lnTo>
                  <a:pt x="37775" y="21600"/>
                </a:lnTo>
                <a:lnTo>
                  <a:pt x="36375" y="20200"/>
                </a:lnTo>
                <a:lnTo>
                  <a:pt x="36375" y="1400"/>
                </a:lnTo>
                <a:close/>
              </a:path>
              <a:path fill="darkenLess" w="37775" h="21600">
                <a:moveTo>
                  <a:pt x="377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75" y="20200"/>
                </a:lnTo>
                <a:close/>
              </a:path>
              <a:path fill="lighten" w="377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75" h="21600">
                <a:moveTo>
                  <a:pt x="11881" y="3794"/>
                </a:moveTo>
                <a:lnTo>
                  <a:pt x="25894" y="10800"/>
                </a:lnTo>
                <a:lnTo>
                  <a:pt x="1188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6">
            <a:hlinkClick r:id="" action="ppaction://hlinkshowjump?jump=previousslide"/>
          </p:cNvPr>
          <p:cNvSpPr/>
          <p:nvPr/>
        </p:nvSpPr>
        <p:spPr>
          <a:xfrm>
            <a:off x="7391520" y="6553080"/>
            <a:ext cx="533160" cy="304920"/>
          </a:xfrm>
          <a:custGeom>
            <a:avLst/>
            <a:gdLst>
              <a:gd name="textAreaLeft" fmla="*/ 19440 w 533160"/>
              <a:gd name="textAreaRight" fmla="*/ 513720 w 5331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7749" h="21600">
                <a:moveTo>
                  <a:pt x="0" y="0"/>
                </a:moveTo>
                <a:lnTo>
                  <a:pt x="37749" y="0"/>
                </a:lnTo>
                <a:lnTo>
                  <a:pt x="37749" y="21600"/>
                </a:lnTo>
                <a:lnTo>
                  <a:pt x="0" y="21600"/>
                </a:lnTo>
                <a:close/>
              </a:path>
              <a:path fill="lightenLess" w="37749" h="21600">
                <a:moveTo>
                  <a:pt x="0" y="0"/>
                </a:moveTo>
                <a:lnTo>
                  <a:pt x="37749" y="0"/>
                </a:lnTo>
                <a:lnTo>
                  <a:pt x="36349" y="1400"/>
                </a:lnTo>
                <a:lnTo>
                  <a:pt x="1400" y="1400"/>
                </a:lnTo>
                <a:close/>
              </a:path>
              <a:path fill="darken" w="37749" h="21600">
                <a:moveTo>
                  <a:pt x="37749" y="0"/>
                </a:moveTo>
                <a:lnTo>
                  <a:pt x="37749" y="21600"/>
                </a:lnTo>
                <a:lnTo>
                  <a:pt x="36349" y="20200"/>
                </a:lnTo>
                <a:lnTo>
                  <a:pt x="36349" y="1400"/>
                </a:lnTo>
                <a:close/>
              </a:path>
              <a:path fill="darkenLess" w="37749" h="21600">
                <a:moveTo>
                  <a:pt x="377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49" y="20200"/>
                </a:lnTo>
                <a:close/>
              </a:path>
              <a:path fill="lighten" w="377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49" h="21600">
                <a:moveTo>
                  <a:pt x="11868" y="10800"/>
                </a:moveTo>
                <a:lnTo>
                  <a:pt x="25881" y="3794"/>
                </a:lnTo>
                <a:lnTo>
                  <a:pt x="2588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7">
            <a:hlinkClick r:id="rId3" action="ppaction://hlinksldjump"/>
          </p:cNvPr>
          <p:cNvSpPr/>
          <p:nvPr/>
        </p:nvSpPr>
        <p:spPr>
          <a:xfrm>
            <a:off x="8077320" y="6553080"/>
            <a:ext cx="380880" cy="30492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9" descr="Blocked_shots_by_Oscar_Torres"/>
          <p:cNvPicPr/>
          <p:nvPr/>
        </p:nvPicPr>
        <p:blipFill>
          <a:blip r:embed="rId4"/>
          <a:stretch/>
        </p:blipFill>
        <p:spPr>
          <a:xfrm>
            <a:off x="1295280" y="3097080"/>
            <a:ext cx="5029200" cy="376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572000" y="457200"/>
            <a:ext cx="45720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сновными блокирующими игроками являются игроки передней линии — центровые и тяжёлые форварды. Однако игроки других позиций, имеющие хороший прыжок и координацию, зачастую становятся лучшими в данном показател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WordArt 4"/>
          <p:cNvSpPr txBox="1"/>
          <p:nvPr/>
        </p:nvSpPr>
        <p:spPr>
          <a:xfrm rot="5400000">
            <a:off x="-1910160" y="3052800"/>
            <a:ext cx="4343400" cy="523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c4b596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Times New Roman"/>
              </a:rPr>
              <a:t>Блокшот</a:t>
            </a:r>
            <a:endParaRPr b="0" lang="en-US" sz="1800" spc="1" strike="noStrike">
              <a:ln w="12600">
                <a:solidFill>
                  <a:srgbClr val="c4b596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63" name="AutoShape 5">
            <a:hlinkClick r:id="" action="ppaction://hlinkshowjump?jump=nextslide"/>
          </p:cNvPr>
          <p:cNvSpPr/>
          <p:nvPr/>
        </p:nvSpPr>
        <p:spPr>
          <a:xfrm>
            <a:off x="8610480" y="6553080"/>
            <a:ext cx="533520" cy="304920"/>
          </a:xfrm>
          <a:custGeom>
            <a:avLst/>
            <a:gdLst>
              <a:gd name="textAreaLeft" fmla="*/ 19440 w 533520"/>
              <a:gd name="textAreaRight" fmla="*/ 514080 w 5335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7775" h="21600">
                <a:moveTo>
                  <a:pt x="0" y="0"/>
                </a:moveTo>
                <a:lnTo>
                  <a:pt x="37775" y="0"/>
                </a:lnTo>
                <a:lnTo>
                  <a:pt x="37775" y="21600"/>
                </a:lnTo>
                <a:lnTo>
                  <a:pt x="0" y="21600"/>
                </a:lnTo>
                <a:close/>
              </a:path>
              <a:path fill="lightenLess" w="37775" h="21600">
                <a:moveTo>
                  <a:pt x="0" y="0"/>
                </a:moveTo>
                <a:lnTo>
                  <a:pt x="37775" y="0"/>
                </a:lnTo>
                <a:lnTo>
                  <a:pt x="36375" y="1400"/>
                </a:lnTo>
                <a:lnTo>
                  <a:pt x="1400" y="1400"/>
                </a:lnTo>
                <a:close/>
              </a:path>
              <a:path fill="darken" w="37775" h="21600">
                <a:moveTo>
                  <a:pt x="37775" y="0"/>
                </a:moveTo>
                <a:lnTo>
                  <a:pt x="37775" y="21600"/>
                </a:lnTo>
                <a:lnTo>
                  <a:pt x="36375" y="20200"/>
                </a:lnTo>
                <a:lnTo>
                  <a:pt x="36375" y="1400"/>
                </a:lnTo>
                <a:close/>
              </a:path>
              <a:path fill="darkenLess" w="37775" h="21600">
                <a:moveTo>
                  <a:pt x="377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75" y="20200"/>
                </a:lnTo>
                <a:close/>
              </a:path>
              <a:path fill="lighten" w="377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75" h="21600">
                <a:moveTo>
                  <a:pt x="11881" y="3794"/>
                </a:moveTo>
                <a:lnTo>
                  <a:pt x="25894" y="10800"/>
                </a:lnTo>
                <a:lnTo>
                  <a:pt x="1188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6">
            <a:hlinkClick r:id="" action="ppaction://hlinkshowjump?jump=previousslide"/>
          </p:cNvPr>
          <p:cNvSpPr/>
          <p:nvPr/>
        </p:nvSpPr>
        <p:spPr>
          <a:xfrm>
            <a:off x="7391520" y="6553080"/>
            <a:ext cx="533160" cy="304920"/>
          </a:xfrm>
          <a:custGeom>
            <a:avLst/>
            <a:gdLst>
              <a:gd name="textAreaLeft" fmla="*/ 19440 w 533160"/>
              <a:gd name="textAreaRight" fmla="*/ 513720 w 5331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7749" h="21600">
                <a:moveTo>
                  <a:pt x="0" y="0"/>
                </a:moveTo>
                <a:lnTo>
                  <a:pt x="37749" y="0"/>
                </a:lnTo>
                <a:lnTo>
                  <a:pt x="37749" y="21600"/>
                </a:lnTo>
                <a:lnTo>
                  <a:pt x="0" y="21600"/>
                </a:lnTo>
                <a:close/>
              </a:path>
              <a:path fill="lightenLess" w="37749" h="21600">
                <a:moveTo>
                  <a:pt x="0" y="0"/>
                </a:moveTo>
                <a:lnTo>
                  <a:pt x="37749" y="0"/>
                </a:lnTo>
                <a:lnTo>
                  <a:pt x="36349" y="1400"/>
                </a:lnTo>
                <a:lnTo>
                  <a:pt x="1400" y="1400"/>
                </a:lnTo>
                <a:close/>
              </a:path>
              <a:path fill="darken" w="37749" h="21600">
                <a:moveTo>
                  <a:pt x="37749" y="0"/>
                </a:moveTo>
                <a:lnTo>
                  <a:pt x="37749" y="21600"/>
                </a:lnTo>
                <a:lnTo>
                  <a:pt x="36349" y="20200"/>
                </a:lnTo>
                <a:lnTo>
                  <a:pt x="36349" y="1400"/>
                </a:lnTo>
                <a:close/>
              </a:path>
              <a:path fill="darkenLess" w="37749" h="21600">
                <a:moveTo>
                  <a:pt x="377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49" y="20200"/>
                </a:lnTo>
                <a:close/>
              </a:path>
              <a:path fill="lighten" w="377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49" h="21600">
                <a:moveTo>
                  <a:pt x="11868" y="10800"/>
                </a:moveTo>
                <a:lnTo>
                  <a:pt x="25881" y="3794"/>
                </a:lnTo>
                <a:lnTo>
                  <a:pt x="2588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7">
            <a:hlinkClick r:id="rId3" action="ppaction://hlinksldjump"/>
          </p:cNvPr>
          <p:cNvSpPr/>
          <p:nvPr/>
        </p:nvSpPr>
        <p:spPr>
          <a:xfrm>
            <a:off x="8077320" y="6553080"/>
            <a:ext cx="380880" cy="30492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12" descr="DSC_0173"/>
          <p:cNvPicPr/>
          <p:nvPr/>
        </p:nvPicPr>
        <p:blipFill>
          <a:blip r:embed="rId4"/>
          <a:stretch/>
        </p:blipFill>
        <p:spPr>
          <a:xfrm>
            <a:off x="609480" y="533520"/>
            <a:ext cx="4189680" cy="4395600"/>
          </a:xfrm>
          <a:prstGeom prst="rect">
            <a:avLst/>
          </a:prstGeom>
          <a:ln w="0">
            <a:noFill/>
          </a:ln>
        </p:spPr>
      </p:pic>
      <p:sp>
        <p:nvSpPr>
          <p:cNvPr id="167" name="Rectangle 13"/>
          <p:cNvSpPr/>
          <p:nvPr/>
        </p:nvSpPr>
        <p:spPr>
          <a:xfrm>
            <a:off x="609480" y="5105520"/>
            <a:ext cx="4114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локшоты — показатель, характеризующий действия баскетболиста в защит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1066680"/>
            <a:ext cx="50292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Дриблинг (ведение мяч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Передач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Подб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Перехва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Блокшо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7" action="ppaction://hlinksldjump"/>
              </a:rPr>
              <a:t>Стойки (в защите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8" action="ppaction://hlinksldjump"/>
              </a:rPr>
              <a:t>и нападени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9" action="ppaction://hlinksldjump"/>
              </a:rPr>
              <a:t>Передвижения без мяч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0" action="ppaction://hlinksldjump"/>
              </a:rPr>
              <a:t>Брос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WordArt 4"/>
          <p:cNvSpPr txBox="1"/>
          <p:nvPr/>
        </p:nvSpPr>
        <p:spPr>
          <a:xfrm>
            <a:off x="1066680" y="228600"/>
            <a:ext cx="66294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Основные элементы игры 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6" name="AutoShape 8">
            <a:hlinkClick r:id="" action="ppaction://hlinkshowjump?jump=nextslide"/>
          </p:cNvPr>
          <p:cNvSpPr/>
          <p:nvPr/>
        </p:nvSpPr>
        <p:spPr>
          <a:xfrm>
            <a:off x="8610480" y="6553080"/>
            <a:ext cx="533520" cy="304920"/>
          </a:xfrm>
          <a:custGeom>
            <a:avLst/>
            <a:gdLst>
              <a:gd name="textAreaLeft" fmla="*/ 19440 w 533520"/>
              <a:gd name="textAreaRight" fmla="*/ 514080 w 5335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7775" h="21600">
                <a:moveTo>
                  <a:pt x="0" y="0"/>
                </a:moveTo>
                <a:lnTo>
                  <a:pt x="37775" y="0"/>
                </a:lnTo>
                <a:lnTo>
                  <a:pt x="37775" y="21600"/>
                </a:lnTo>
                <a:lnTo>
                  <a:pt x="0" y="21600"/>
                </a:lnTo>
                <a:close/>
              </a:path>
              <a:path fill="lightenLess" w="37775" h="21600">
                <a:moveTo>
                  <a:pt x="0" y="0"/>
                </a:moveTo>
                <a:lnTo>
                  <a:pt x="37775" y="0"/>
                </a:lnTo>
                <a:lnTo>
                  <a:pt x="36375" y="1400"/>
                </a:lnTo>
                <a:lnTo>
                  <a:pt x="1400" y="1400"/>
                </a:lnTo>
                <a:close/>
              </a:path>
              <a:path fill="darken" w="37775" h="21600">
                <a:moveTo>
                  <a:pt x="37775" y="0"/>
                </a:moveTo>
                <a:lnTo>
                  <a:pt x="37775" y="21600"/>
                </a:lnTo>
                <a:lnTo>
                  <a:pt x="36375" y="20200"/>
                </a:lnTo>
                <a:lnTo>
                  <a:pt x="36375" y="1400"/>
                </a:lnTo>
                <a:close/>
              </a:path>
              <a:path fill="darkenLess" w="37775" h="21600">
                <a:moveTo>
                  <a:pt x="377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75" y="20200"/>
                </a:lnTo>
                <a:close/>
              </a:path>
              <a:path fill="lighten" w="377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75" h="21600">
                <a:moveTo>
                  <a:pt x="11881" y="3794"/>
                </a:moveTo>
                <a:lnTo>
                  <a:pt x="25894" y="10800"/>
                </a:lnTo>
                <a:lnTo>
                  <a:pt x="1188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9">
            <a:hlinkClick r:id="" action="ppaction://hlinkshowjump?jump=previousslide"/>
          </p:cNvPr>
          <p:cNvSpPr/>
          <p:nvPr/>
        </p:nvSpPr>
        <p:spPr>
          <a:xfrm>
            <a:off x="7391520" y="6553080"/>
            <a:ext cx="533160" cy="304920"/>
          </a:xfrm>
          <a:custGeom>
            <a:avLst/>
            <a:gdLst>
              <a:gd name="textAreaLeft" fmla="*/ 19440 w 533160"/>
              <a:gd name="textAreaRight" fmla="*/ 513720 w 5331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7749" h="21600">
                <a:moveTo>
                  <a:pt x="0" y="0"/>
                </a:moveTo>
                <a:lnTo>
                  <a:pt x="37749" y="0"/>
                </a:lnTo>
                <a:lnTo>
                  <a:pt x="37749" y="21600"/>
                </a:lnTo>
                <a:lnTo>
                  <a:pt x="0" y="21600"/>
                </a:lnTo>
                <a:close/>
              </a:path>
              <a:path fill="lightenLess" w="37749" h="21600">
                <a:moveTo>
                  <a:pt x="0" y="0"/>
                </a:moveTo>
                <a:lnTo>
                  <a:pt x="37749" y="0"/>
                </a:lnTo>
                <a:lnTo>
                  <a:pt x="36349" y="1400"/>
                </a:lnTo>
                <a:lnTo>
                  <a:pt x="1400" y="1400"/>
                </a:lnTo>
                <a:close/>
              </a:path>
              <a:path fill="darken" w="37749" h="21600">
                <a:moveTo>
                  <a:pt x="37749" y="0"/>
                </a:moveTo>
                <a:lnTo>
                  <a:pt x="37749" y="21600"/>
                </a:lnTo>
                <a:lnTo>
                  <a:pt x="36349" y="20200"/>
                </a:lnTo>
                <a:lnTo>
                  <a:pt x="36349" y="1400"/>
                </a:lnTo>
                <a:close/>
              </a:path>
              <a:path fill="darkenLess" w="37749" h="21600">
                <a:moveTo>
                  <a:pt x="377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49" y="20200"/>
                </a:lnTo>
                <a:close/>
              </a:path>
              <a:path fill="lighten" w="377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49" h="21600">
                <a:moveTo>
                  <a:pt x="11868" y="10800"/>
                </a:moveTo>
                <a:lnTo>
                  <a:pt x="25881" y="3794"/>
                </a:lnTo>
                <a:lnTo>
                  <a:pt x="2588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8" descr="197363-af44f-54739134-m750x740-u6bef5"/>
          <p:cNvPicPr/>
          <p:nvPr/>
        </p:nvPicPr>
        <p:blipFill>
          <a:blip r:embed="rId1"/>
          <a:stretch/>
        </p:blipFill>
        <p:spPr>
          <a:xfrm>
            <a:off x="4576680" y="0"/>
            <a:ext cx="4567320" cy="68580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228600" y="990720"/>
            <a:ext cx="41148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щитник должен находиться в устойчивом положении на слегка согнутых ногах и быть готовым затруднить выход нападающего на удобную позицию для атаки корзины и получения мяча. Внимательно следя за своим подопечным, защищающий игрок должен держать в поле зрения мяч и других игроков соперник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4">
            <a:hlinkClick r:id="" action="ppaction://hlinkshowjump?jump=nextslide"/>
          </p:cNvPr>
          <p:cNvSpPr/>
          <p:nvPr/>
        </p:nvSpPr>
        <p:spPr>
          <a:xfrm>
            <a:off x="8610480" y="6553080"/>
            <a:ext cx="533520" cy="304920"/>
          </a:xfrm>
          <a:custGeom>
            <a:avLst/>
            <a:gdLst>
              <a:gd name="textAreaLeft" fmla="*/ 19440 w 533520"/>
              <a:gd name="textAreaRight" fmla="*/ 514080 w 5335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7775" h="21600">
                <a:moveTo>
                  <a:pt x="0" y="0"/>
                </a:moveTo>
                <a:lnTo>
                  <a:pt x="37775" y="0"/>
                </a:lnTo>
                <a:lnTo>
                  <a:pt x="37775" y="21600"/>
                </a:lnTo>
                <a:lnTo>
                  <a:pt x="0" y="21600"/>
                </a:lnTo>
                <a:close/>
              </a:path>
              <a:path fill="lightenLess" w="37775" h="21600">
                <a:moveTo>
                  <a:pt x="0" y="0"/>
                </a:moveTo>
                <a:lnTo>
                  <a:pt x="37775" y="0"/>
                </a:lnTo>
                <a:lnTo>
                  <a:pt x="36375" y="1400"/>
                </a:lnTo>
                <a:lnTo>
                  <a:pt x="1400" y="1400"/>
                </a:lnTo>
                <a:close/>
              </a:path>
              <a:path fill="darken" w="37775" h="21600">
                <a:moveTo>
                  <a:pt x="37775" y="0"/>
                </a:moveTo>
                <a:lnTo>
                  <a:pt x="37775" y="21600"/>
                </a:lnTo>
                <a:lnTo>
                  <a:pt x="36375" y="20200"/>
                </a:lnTo>
                <a:lnTo>
                  <a:pt x="36375" y="1400"/>
                </a:lnTo>
                <a:close/>
              </a:path>
              <a:path fill="darkenLess" w="37775" h="21600">
                <a:moveTo>
                  <a:pt x="377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75" y="20200"/>
                </a:lnTo>
                <a:close/>
              </a:path>
              <a:path fill="lighten" w="377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75" h="21600">
                <a:moveTo>
                  <a:pt x="11881" y="3794"/>
                </a:moveTo>
                <a:lnTo>
                  <a:pt x="25894" y="10800"/>
                </a:lnTo>
                <a:lnTo>
                  <a:pt x="1188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5">
            <a:hlinkClick r:id="" action="ppaction://hlinkshowjump?jump=previousslide"/>
          </p:cNvPr>
          <p:cNvSpPr/>
          <p:nvPr/>
        </p:nvSpPr>
        <p:spPr>
          <a:xfrm>
            <a:off x="7391520" y="6553080"/>
            <a:ext cx="533160" cy="304920"/>
          </a:xfrm>
          <a:custGeom>
            <a:avLst/>
            <a:gdLst>
              <a:gd name="textAreaLeft" fmla="*/ 19440 w 533160"/>
              <a:gd name="textAreaRight" fmla="*/ 513720 w 5331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7749" h="21600">
                <a:moveTo>
                  <a:pt x="0" y="0"/>
                </a:moveTo>
                <a:lnTo>
                  <a:pt x="37749" y="0"/>
                </a:lnTo>
                <a:lnTo>
                  <a:pt x="37749" y="21600"/>
                </a:lnTo>
                <a:lnTo>
                  <a:pt x="0" y="21600"/>
                </a:lnTo>
                <a:close/>
              </a:path>
              <a:path fill="lightenLess" w="37749" h="21600">
                <a:moveTo>
                  <a:pt x="0" y="0"/>
                </a:moveTo>
                <a:lnTo>
                  <a:pt x="37749" y="0"/>
                </a:lnTo>
                <a:lnTo>
                  <a:pt x="36349" y="1400"/>
                </a:lnTo>
                <a:lnTo>
                  <a:pt x="1400" y="1400"/>
                </a:lnTo>
                <a:close/>
              </a:path>
              <a:path fill="darken" w="37749" h="21600">
                <a:moveTo>
                  <a:pt x="37749" y="0"/>
                </a:moveTo>
                <a:lnTo>
                  <a:pt x="37749" y="21600"/>
                </a:lnTo>
                <a:lnTo>
                  <a:pt x="36349" y="20200"/>
                </a:lnTo>
                <a:lnTo>
                  <a:pt x="36349" y="1400"/>
                </a:lnTo>
                <a:close/>
              </a:path>
              <a:path fill="darkenLess" w="37749" h="21600">
                <a:moveTo>
                  <a:pt x="377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49" y="20200"/>
                </a:lnTo>
                <a:close/>
              </a:path>
              <a:path fill="lighten" w="377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49" h="21600">
                <a:moveTo>
                  <a:pt x="11868" y="10800"/>
                </a:moveTo>
                <a:lnTo>
                  <a:pt x="25881" y="3794"/>
                </a:lnTo>
                <a:lnTo>
                  <a:pt x="2588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6">
            <a:hlinkClick r:id="rId2" action="ppaction://hlinksldjump"/>
          </p:cNvPr>
          <p:cNvSpPr/>
          <p:nvPr/>
        </p:nvSpPr>
        <p:spPr>
          <a:xfrm>
            <a:off x="8077320" y="6553080"/>
            <a:ext cx="380880" cy="30492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WordArt 9"/>
          <p:cNvSpPr txBox="1"/>
          <p:nvPr/>
        </p:nvSpPr>
        <p:spPr>
          <a:xfrm>
            <a:off x="304920" y="0"/>
            <a:ext cx="38862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тойка в защите. 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10" descr="x_dffaefef"/>
          <p:cNvPicPr/>
          <p:nvPr/>
        </p:nvPicPr>
        <p:blipFill>
          <a:blip r:embed="rId1"/>
          <a:stretch/>
        </p:blipFill>
        <p:spPr>
          <a:xfrm>
            <a:off x="5791320" y="3657600"/>
            <a:ext cx="3103560" cy="320040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456840" y="914040"/>
            <a:ext cx="8458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 исходное положение, из которого баскетболист наиболее быстро может действовать без мяча или с мячом. Ноги ставятся на ширине плеч, стопы – параллельно друг другу на одной линии или одна из них выдвинута на 15-20 см вперед. Тяжесть тела распределяется равномерно на обе ноги, на передние части стоп. Пятки приподняты от пола на 1-2 см. Колени полусогнуты, спина прямая, руки согнуты в локтях и слегка разведены в сторон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4">
            <a:hlinkClick r:id="" action="ppaction://hlinkshowjump?jump=nextslide"/>
          </p:cNvPr>
          <p:cNvSpPr/>
          <p:nvPr/>
        </p:nvSpPr>
        <p:spPr>
          <a:xfrm>
            <a:off x="8610480" y="6553080"/>
            <a:ext cx="533520" cy="304920"/>
          </a:xfrm>
          <a:custGeom>
            <a:avLst/>
            <a:gdLst>
              <a:gd name="textAreaLeft" fmla="*/ 19440 w 533520"/>
              <a:gd name="textAreaRight" fmla="*/ 514080 w 5335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7775" h="21600">
                <a:moveTo>
                  <a:pt x="0" y="0"/>
                </a:moveTo>
                <a:lnTo>
                  <a:pt x="37775" y="0"/>
                </a:lnTo>
                <a:lnTo>
                  <a:pt x="37775" y="21600"/>
                </a:lnTo>
                <a:lnTo>
                  <a:pt x="0" y="21600"/>
                </a:lnTo>
                <a:close/>
              </a:path>
              <a:path fill="lightenLess" w="37775" h="21600">
                <a:moveTo>
                  <a:pt x="0" y="0"/>
                </a:moveTo>
                <a:lnTo>
                  <a:pt x="37775" y="0"/>
                </a:lnTo>
                <a:lnTo>
                  <a:pt x="36375" y="1400"/>
                </a:lnTo>
                <a:lnTo>
                  <a:pt x="1400" y="1400"/>
                </a:lnTo>
                <a:close/>
              </a:path>
              <a:path fill="darken" w="37775" h="21600">
                <a:moveTo>
                  <a:pt x="37775" y="0"/>
                </a:moveTo>
                <a:lnTo>
                  <a:pt x="37775" y="21600"/>
                </a:lnTo>
                <a:lnTo>
                  <a:pt x="36375" y="20200"/>
                </a:lnTo>
                <a:lnTo>
                  <a:pt x="36375" y="1400"/>
                </a:lnTo>
                <a:close/>
              </a:path>
              <a:path fill="darkenLess" w="37775" h="21600">
                <a:moveTo>
                  <a:pt x="377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75" y="20200"/>
                </a:lnTo>
                <a:close/>
              </a:path>
              <a:path fill="lighten" w="377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75" h="21600">
                <a:moveTo>
                  <a:pt x="11881" y="3794"/>
                </a:moveTo>
                <a:lnTo>
                  <a:pt x="25894" y="10800"/>
                </a:lnTo>
                <a:lnTo>
                  <a:pt x="1188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5">
            <a:hlinkClick r:id="" action="ppaction://hlinkshowjump?jump=previousslide"/>
          </p:cNvPr>
          <p:cNvSpPr/>
          <p:nvPr/>
        </p:nvSpPr>
        <p:spPr>
          <a:xfrm>
            <a:off x="7391520" y="6553080"/>
            <a:ext cx="533160" cy="304920"/>
          </a:xfrm>
          <a:custGeom>
            <a:avLst/>
            <a:gdLst>
              <a:gd name="textAreaLeft" fmla="*/ 19440 w 533160"/>
              <a:gd name="textAreaRight" fmla="*/ 513720 w 5331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7749" h="21600">
                <a:moveTo>
                  <a:pt x="0" y="0"/>
                </a:moveTo>
                <a:lnTo>
                  <a:pt x="37749" y="0"/>
                </a:lnTo>
                <a:lnTo>
                  <a:pt x="37749" y="21600"/>
                </a:lnTo>
                <a:lnTo>
                  <a:pt x="0" y="21600"/>
                </a:lnTo>
                <a:close/>
              </a:path>
              <a:path fill="lightenLess" w="37749" h="21600">
                <a:moveTo>
                  <a:pt x="0" y="0"/>
                </a:moveTo>
                <a:lnTo>
                  <a:pt x="37749" y="0"/>
                </a:lnTo>
                <a:lnTo>
                  <a:pt x="36349" y="1400"/>
                </a:lnTo>
                <a:lnTo>
                  <a:pt x="1400" y="1400"/>
                </a:lnTo>
                <a:close/>
              </a:path>
              <a:path fill="darken" w="37749" h="21600">
                <a:moveTo>
                  <a:pt x="37749" y="0"/>
                </a:moveTo>
                <a:lnTo>
                  <a:pt x="37749" y="21600"/>
                </a:lnTo>
                <a:lnTo>
                  <a:pt x="36349" y="20200"/>
                </a:lnTo>
                <a:lnTo>
                  <a:pt x="36349" y="1400"/>
                </a:lnTo>
                <a:close/>
              </a:path>
              <a:path fill="darkenLess" w="37749" h="21600">
                <a:moveTo>
                  <a:pt x="377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49" y="20200"/>
                </a:lnTo>
                <a:close/>
              </a:path>
              <a:path fill="lighten" w="377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49" h="21600">
                <a:moveTo>
                  <a:pt x="11868" y="10800"/>
                </a:moveTo>
                <a:lnTo>
                  <a:pt x="25881" y="3794"/>
                </a:lnTo>
                <a:lnTo>
                  <a:pt x="2588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6">
            <a:hlinkClick r:id="rId2" action="ppaction://hlinksldjump"/>
          </p:cNvPr>
          <p:cNvSpPr/>
          <p:nvPr/>
        </p:nvSpPr>
        <p:spPr>
          <a:xfrm>
            <a:off x="8077320" y="6553080"/>
            <a:ext cx="380880" cy="30492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8" descr="DSC_0238"/>
          <p:cNvPicPr/>
          <p:nvPr/>
        </p:nvPicPr>
        <p:blipFill>
          <a:blip r:embed="rId3"/>
          <a:stretch/>
        </p:blipFill>
        <p:spPr>
          <a:xfrm>
            <a:off x="228600" y="3689280"/>
            <a:ext cx="5334120" cy="3168720"/>
          </a:xfrm>
          <a:prstGeom prst="rect">
            <a:avLst/>
          </a:prstGeom>
          <a:ln w="0">
            <a:noFill/>
          </a:ln>
        </p:spPr>
      </p:pic>
      <p:sp>
        <p:nvSpPr>
          <p:cNvPr id="180" name="WordArt 11"/>
          <p:cNvSpPr txBox="1"/>
          <p:nvPr/>
        </p:nvSpPr>
        <p:spPr>
          <a:xfrm>
            <a:off x="1981080" y="0"/>
            <a:ext cx="50292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тойка в нападении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9" descr="x_22b6860d"/>
          <p:cNvPicPr/>
          <p:nvPr/>
        </p:nvPicPr>
        <p:blipFill>
          <a:blip r:embed="rId1"/>
          <a:stretch/>
        </p:blipFill>
        <p:spPr>
          <a:xfrm>
            <a:off x="5788080" y="1828800"/>
            <a:ext cx="3355920" cy="5029200"/>
          </a:xfrm>
          <a:prstGeom prst="rect">
            <a:avLst/>
          </a:prstGeom>
          <a:ln w="0">
            <a:noFill/>
          </a:ln>
        </p:spPr>
      </p:pic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304560" y="1066320"/>
            <a:ext cx="52578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Ходьба – применяют главным образом для смены позиции в период коротких пауз, а также при изменении темпа в сочетании с бегом. Игрок передвигается, придерживаясь положения основной стойки, на полусогнутых ногах, что позволяет в любой момент резко начать ускорени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4">
            <a:hlinkClick r:id="" action="ppaction://hlinkshowjump?jump=nextslide"/>
          </p:cNvPr>
          <p:cNvSpPr/>
          <p:nvPr/>
        </p:nvSpPr>
        <p:spPr>
          <a:xfrm>
            <a:off x="8610480" y="6553080"/>
            <a:ext cx="533520" cy="304920"/>
          </a:xfrm>
          <a:custGeom>
            <a:avLst/>
            <a:gdLst>
              <a:gd name="textAreaLeft" fmla="*/ 19440 w 533520"/>
              <a:gd name="textAreaRight" fmla="*/ 514080 w 5335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7775" h="21600">
                <a:moveTo>
                  <a:pt x="0" y="0"/>
                </a:moveTo>
                <a:lnTo>
                  <a:pt x="37775" y="0"/>
                </a:lnTo>
                <a:lnTo>
                  <a:pt x="37775" y="21600"/>
                </a:lnTo>
                <a:lnTo>
                  <a:pt x="0" y="21600"/>
                </a:lnTo>
                <a:close/>
              </a:path>
              <a:path fill="lightenLess" w="37775" h="21600">
                <a:moveTo>
                  <a:pt x="0" y="0"/>
                </a:moveTo>
                <a:lnTo>
                  <a:pt x="37775" y="0"/>
                </a:lnTo>
                <a:lnTo>
                  <a:pt x="36375" y="1400"/>
                </a:lnTo>
                <a:lnTo>
                  <a:pt x="1400" y="1400"/>
                </a:lnTo>
                <a:close/>
              </a:path>
              <a:path fill="darken" w="37775" h="21600">
                <a:moveTo>
                  <a:pt x="37775" y="0"/>
                </a:moveTo>
                <a:lnTo>
                  <a:pt x="37775" y="21600"/>
                </a:lnTo>
                <a:lnTo>
                  <a:pt x="36375" y="20200"/>
                </a:lnTo>
                <a:lnTo>
                  <a:pt x="36375" y="1400"/>
                </a:lnTo>
                <a:close/>
              </a:path>
              <a:path fill="darkenLess" w="37775" h="21600">
                <a:moveTo>
                  <a:pt x="377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75" y="20200"/>
                </a:lnTo>
                <a:close/>
              </a:path>
              <a:path fill="lighten" w="377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75" h="21600">
                <a:moveTo>
                  <a:pt x="11881" y="3794"/>
                </a:moveTo>
                <a:lnTo>
                  <a:pt x="25894" y="10800"/>
                </a:lnTo>
                <a:lnTo>
                  <a:pt x="1188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5">
            <a:hlinkClick r:id="" action="ppaction://hlinkshowjump?jump=previousslide"/>
          </p:cNvPr>
          <p:cNvSpPr/>
          <p:nvPr/>
        </p:nvSpPr>
        <p:spPr>
          <a:xfrm>
            <a:off x="7391520" y="6553080"/>
            <a:ext cx="533160" cy="304920"/>
          </a:xfrm>
          <a:custGeom>
            <a:avLst/>
            <a:gdLst>
              <a:gd name="textAreaLeft" fmla="*/ 19440 w 533160"/>
              <a:gd name="textAreaRight" fmla="*/ 513720 w 5331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7749" h="21600">
                <a:moveTo>
                  <a:pt x="0" y="0"/>
                </a:moveTo>
                <a:lnTo>
                  <a:pt x="37749" y="0"/>
                </a:lnTo>
                <a:lnTo>
                  <a:pt x="37749" y="21600"/>
                </a:lnTo>
                <a:lnTo>
                  <a:pt x="0" y="21600"/>
                </a:lnTo>
                <a:close/>
              </a:path>
              <a:path fill="lightenLess" w="37749" h="21600">
                <a:moveTo>
                  <a:pt x="0" y="0"/>
                </a:moveTo>
                <a:lnTo>
                  <a:pt x="37749" y="0"/>
                </a:lnTo>
                <a:lnTo>
                  <a:pt x="36349" y="1400"/>
                </a:lnTo>
                <a:lnTo>
                  <a:pt x="1400" y="1400"/>
                </a:lnTo>
                <a:close/>
              </a:path>
              <a:path fill="darken" w="37749" h="21600">
                <a:moveTo>
                  <a:pt x="37749" y="0"/>
                </a:moveTo>
                <a:lnTo>
                  <a:pt x="37749" y="21600"/>
                </a:lnTo>
                <a:lnTo>
                  <a:pt x="36349" y="20200"/>
                </a:lnTo>
                <a:lnTo>
                  <a:pt x="36349" y="1400"/>
                </a:lnTo>
                <a:close/>
              </a:path>
              <a:path fill="darkenLess" w="37749" h="21600">
                <a:moveTo>
                  <a:pt x="377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49" y="20200"/>
                </a:lnTo>
                <a:close/>
              </a:path>
              <a:path fill="lighten" w="377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49" h="21600">
                <a:moveTo>
                  <a:pt x="11868" y="10800"/>
                </a:moveTo>
                <a:lnTo>
                  <a:pt x="25881" y="3794"/>
                </a:lnTo>
                <a:lnTo>
                  <a:pt x="2588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6">
            <a:hlinkClick r:id="rId2" action="ppaction://hlinksldjump"/>
          </p:cNvPr>
          <p:cNvSpPr/>
          <p:nvPr/>
        </p:nvSpPr>
        <p:spPr>
          <a:xfrm>
            <a:off x="8077320" y="6553080"/>
            <a:ext cx="380880" cy="30492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WordArt 10"/>
          <p:cNvSpPr txBox="1"/>
          <p:nvPr/>
        </p:nvSpPr>
        <p:spPr>
          <a:xfrm>
            <a:off x="533520" y="228600"/>
            <a:ext cx="807696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ЕРЕДВИЖЕНИЕ БЕЗ МЯЧА. 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4724280" y="380880"/>
            <a:ext cx="419112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РЕДВИЖЕНИЕ БЕЗ МЯЧ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 беге баскетболиста соприкосновение ноги с площадкой осуществляется перекатом с пятки на носок или мягкой постановкой ноги на всю ступню. Только при коротких, прямолинейных рывках первые 4-5 ударных шагов делаются резкими и короткими, с постановкой ноги с носка. При изменении направления бега игрок мощно отталкивается выставленной вперед ногой в сторону, противоположную намеченному направлению, туловище же отклоняется внутрь описываемой при передвижении тела дуг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utoShape 4">
            <a:hlinkClick r:id="" action="ppaction://hlinkshowjump?jump=nextslide"/>
          </p:cNvPr>
          <p:cNvSpPr/>
          <p:nvPr/>
        </p:nvSpPr>
        <p:spPr>
          <a:xfrm>
            <a:off x="8610480" y="6553080"/>
            <a:ext cx="533520" cy="304920"/>
          </a:xfrm>
          <a:custGeom>
            <a:avLst/>
            <a:gdLst>
              <a:gd name="textAreaLeft" fmla="*/ 19440 w 533520"/>
              <a:gd name="textAreaRight" fmla="*/ 514080 w 5335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7775" h="21600">
                <a:moveTo>
                  <a:pt x="0" y="0"/>
                </a:moveTo>
                <a:lnTo>
                  <a:pt x="37775" y="0"/>
                </a:lnTo>
                <a:lnTo>
                  <a:pt x="37775" y="21600"/>
                </a:lnTo>
                <a:lnTo>
                  <a:pt x="0" y="21600"/>
                </a:lnTo>
                <a:close/>
              </a:path>
              <a:path fill="lightenLess" w="37775" h="21600">
                <a:moveTo>
                  <a:pt x="0" y="0"/>
                </a:moveTo>
                <a:lnTo>
                  <a:pt x="37775" y="0"/>
                </a:lnTo>
                <a:lnTo>
                  <a:pt x="36375" y="1400"/>
                </a:lnTo>
                <a:lnTo>
                  <a:pt x="1400" y="1400"/>
                </a:lnTo>
                <a:close/>
              </a:path>
              <a:path fill="darken" w="37775" h="21600">
                <a:moveTo>
                  <a:pt x="37775" y="0"/>
                </a:moveTo>
                <a:lnTo>
                  <a:pt x="37775" y="21600"/>
                </a:lnTo>
                <a:lnTo>
                  <a:pt x="36375" y="20200"/>
                </a:lnTo>
                <a:lnTo>
                  <a:pt x="36375" y="1400"/>
                </a:lnTo>
                <a:close/>
              </a:path>
              <a:path fill="darkenLess" w="37775" h="21600">
                <a:moveTo>
                  <a:pt x="377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75" y="20200"/>
                </a:lnTo>
                <a:close/>
              </a:path>
              <a:path fill="lighten" w="377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75" h="21600">
                <a:moveTo>
                  <a:pt x="11881" y="3794"/>
                </a:moveTo>
                <a:lnTo>
                  <a:pt x="25894" y="10800"/>
                </a:lnTo>
                <a:lnTo>
                  <a:pt x="1188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AutoShape 5">
            <a:hlinkClick r:id="" action="ppaction://hlinkshowjump?jump=previousslide"/>
          </p:cNvPr>
          <p:cNvSpPr/>
          <p:nvPr/>
        </p:nvSpPr>
        <p:spPr>
          <a:xfrm>
            <a:off x="7391520" y="6553080"/>
            <a:ext cx="533160" cy="304920"/>
          </a:xfrm>
          <a:custGeom>
            <a:avLst/>
            <a:gdLst>
              <a:gd name="textAreaLeft" fmla="*/ 19440 w 533160"/>
              <a:gd name="textAreaRight" fmla="*/ 513720 w 5331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7749" h="21600">
                <a:moveTo>
                  <a:pt x="0" y="0"/>
                </a:moveTo>
                <a:lnTo>
                  <a:pt x="37749" y="0"/>
                </a:lnTo>
                <a:lnTo>
                  <a:pt x="37749" y="21600"/>
                </a:lnTo>
                <a:lnTo>
                  <a:pt x="0" y="21600"/>
                </a:lnTo>
                <a:close/>
              </a:path>
              <a:path fill="lightenLess" w="37749" h="21600">
                <a:moveTo>
                  <a:pt x="0" y="0"/>
                </a:moveTo>
                <a:lnTo>
                  <a:pt x="37749" y="0"/>
                </a:lnTo>
                <a:lnTo>
                  <a:pt x="36349" y="1400"/>
                </a:lnTo>
                <a:lnTo>
                  <a:pt x="1400" y="1400"/>
                </a:lnTo>
                <a:close/>
              </a:path>
              <a:path fill="darken" w="37749" h="21600">
                <a:moveTo>
                  <a:pt x="37749" y="0"/>
                </a:moveTo>
                <a:lnTo>
                  <a:pt x="37749" y="21600"/>
                </a:lnTo>
                <a:lnTo>
                  <a:pt x="36349" y="20200"/>
                </a:lnTo>
                <a:lnTo>
                  <a:pt x="36349" y="1400"/>
                </a:lnTo>
                <a:close/>
              </a:path>
              <a:path fill="darkenLess" w="37749" h="21600">
                <a:moveTo>
                  <a:pt x="377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49" y="20200"/>
                </a:lnTo>
                <a:close/>
              </a:path>
              <a:path fill="lighten" w="377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49" h="21600">
                <a:moveTo>
                  <a:pt x="11868" y="10800"/>
                </a:moveTo>
                <a:lnTo>
                  <a:pt x="25881" y="3794"/>
                </a:lnTo>
                <a:lnTo>
                  <a:pt x="2588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utoShape 6">
            <a:hlinkClick r:id="rId1" action="ppaction://hlinksldjump"/>
          </p:cNvPr>
          <p:cNvSpPr/>
          <p:nvPr/>
        </p:nvSpPr>
        <p:spPr>
          <a:xfrm>
            <a:off x="8077320" y="6553080"/>
            <a:ext cx="380880" cy="30492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8" descr="197363-f6919-54373220-m750x740-u6ef27"/>
          <p:cNvPicPr/>
          <p:nvPr/>
        </p:nvPicPr>
        <p:blipFill>
          <a:blip r:embed="rId2"/>
          <a:stretch/>
        </p:blipFill>
        <p:spPr>
          <a:xfrm>
            <a:off x="0" y="0"/>
            <a:ext cx="4568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10" descr="197363-77146-54397231-m750x740-u3bfd3"/>
          <p:cNvPicPr/>
          <p:nvPr/>
        </p:nvPicPr>
        <p:blipFill>
          <a:blip r:embed="rId1"/>
          <a:stretch/>
        </p:blipFill>
        <p:spPr>
          <a:xfrm>
            <a:off x="6705720" y="1981080"/>
            <a:ext cx="2438280" cy="4876920"/>
          </a:xfrm>
          <a:prstGeom prst="rect">
            <a:avLst/>
          </a:prstGeom>
          <a:ln w="0">
            <a:noFill/>
          </a:ln>
        </p:spPr>
      </p:pic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3505320" y="1981080"/>
            <a:ext cx="3124080" cy="185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росок двумя руками и одной рук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 груд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низ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верху вниз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би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4">
            <a:hlinkClick r:id="" action="ppaction://hlinkshowjump?jump=nextslide"/>
          </p:cNvPr>
          <p:cNvSpPr/>
          <p:nvPr/>
        </p:nvSpPr>
        <p:spPr>
          <a:xfrm>
            <a:off x="8610480" y="6553080"/>
            <a:ext cx="533520" cy="304920"/>
          </a:xfrm>
          <a:custGeom>
            <a:avLst/>
            <a:gdLst>
              <a:gd name="textAreaLeft" fmla="*/ 19440 w 533520"/>
              <a:gd name="textAreaRight" fmla="*/ 514080 w 5335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7775" h="21600">
                <a:moveTo>
                  <a:pt x="0" y="0"/>
                </a:moveTo>
                <a:lnTo>
                  <a:pt x="37775" y="0"/>
                </a:lnTo>
                <a:lnTo>
                  <a:pt x="37775" y="21600"/>
                </a:lnTo>
                <a:lnTo>
                  <a:pt x="0" y="21600"/>
                </a:lnTo>
                <a:close/>
              </a:path>
              <a:path fill="lightenLess" w="37775" h="21600">
                <a:moveTo>
                  <a:pt x="0" y="0"/>
                </a:moveTo>
                <a:lnTo>
                  <a:pt x="37775" y="0"/>
                </a:lnTo>
                <a:lnTo>
                  <a:pt x="36375" y="1400"/>
                </a:lnTo>
                <a:lnTo>
                  <a:pt x="1400" y="1400"/>
                </a:lnTo>
                <a:close/>
              </a:path>
              <a:path fill="darken" w="37775" h="21600">
                <a:moveTo>
                  <a:pt x="37775" y="0"/>
                </a:moveTo>
                <a:lnTo>
                  <a:pt x="37775" y="21600"/>
                </a:lnTo>
                <a:lnTo>
                  <a:pt x="36375" y="20200"/>
                </a:lnTo>
                <a:lnTo>
                  <a:pt x="36375" y="1400"/>
                </a:lnTo>
                <a:close/>
              </a:path>
              <a:path fill="darkenLess" w="37775" h="21600">
                <a:moveTo>
                  <a:pt x="377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75" y="20200"/>
                </a:lnTo>
                <a:close/>
              </a:path>
              <a:path fill="lighten" w="377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75" h="21600">
                <a:moveTo>
                  <a:pt x="11881" y="3794"/>
                </a:moveTo>
                <a:lnTo>
                  <a:pt x="25894" y="10800"/>
                </a:lnTo>
                <a:lnTo>
                  <a:pt x="1188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AutoShape 5">
            <a:hlinkClick r:id="" action="ppaction://hlinkshowjump?jump=previousslide"/>
          </p:cNvPr>
          <p:cNvSpPr/>
          <p:nvPr/>
        </p:nvSpPr>
        <p:spPr>
          <a:xfrm>
            <a:off x="7391520" y="6553080"/>
            <a:ext cx="533160" cy="304920"/>
          </a:xfrm>
          <a:custGeom>
            <a:avLst/>
            <a:gdLst>
              <a:gd name="textAreaLeft" fmla="*/ 19440 w 533160"/>
              <a:gd name="textAreaRight" fmla="*/ 513720 w 5331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7749" h="21600">
                <a:moveTo>
                  <a:pt x="0" y="0"/>
                </a:moveTo>
                <a:lnTo>
                  <a:pt x="37749" y="0"/>
                </a:lnTo>
                <a:lnTo>
                  <a:pt x="37749" y="21600"/>
                </a:lnTo>
                <a:lnTo>
                  <a:pt x="0" y="21600"/>
                </a:lnTo>
                <a:close/>
              </a:path>
              <a:path fill="lightenLess" w="37749" h="21600">
                <a:moveTo>
                  <a:pt x="0" y="0"/>
                </a:moveTo>
                <a:lnTo>
                  <a:pt x="37749" y="0"/>
                </a:lnTo>
                <a:lnTo>
                  <a:pt x="36349" y="1400"/>
                </a:lnTo>
                <a:lnTo>
                  <a:pt x="1400" y="1400"/>
                </a:lnTo>
                <a:close/>
              </a:path>
              <a:path fill="darken" w="37749" h="21600">
                <a:moveTo>
                  <a:pt x="37749" y="0"/>
                </a:moveTo>
                <a:lnTo>
                  <a:pt x="37749" y="21600"/>
                </a:lnTo>
                <a:lnTo>
                  <a:pt x="36349" y="20200"/>
                </a:lnTo>
                <a:lnTo>
                  <a:pt x="36349" y="1400"/>
                </a:lnTo>
                <a:close/>
              </a:path>
              <a:path fill="darkenLess" w="37749" h="21600">
                <a:moveTo>
                  <a:pt x="377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49" y="20200"/>
                </a:lnTo>
                <a:close/>
              </a:path>
              <a:path fill="lighten" w="377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49" h="21600">
                <a:moveTo>
                  <a:pt x="11868" y="10800"/>
                </a:moveTo>
                <a:lnTo>
                  <a:pt x="25881" y="3794"/>
                </a:lnTo>
                <a:lnTo>
                  <a:pt x="2588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AutoShape 6">
            <a:hlinkClick r:id="rId2" action="ppaction://hlinksldjump"/>
          </p:cNvPr>
          <p:cNvSpPr/>
          <p:nvPr/>
        </p:nvSpPr>
        <p:spPr>
          <a:xfrm>
            <a:off x="8077320" y="6553080"/>
            <a:ext cx="380880" cy="30492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WordArt 8"/>
          <p:cNvSpPr txBox="1"/>
          <p:nvPr/>
        </p:nvSpPr>
        <p:spPr>
          <a:xfrm>
            <a:off x="1219320" y="0"/>
            <a:ext cx="731520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иды бросков в баскетбол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98" name="Rectangle 9"/>
          <p:cNvSpPr/>
          <p:nvPr/>
        </p:nvSpPr>
        <p:spPr>
          <a:xfrm>
            <a:off x="685800" y="114300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е броски в баскетболе можно классифицировать по следующим категория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11" descr="197363-e718f-54398641-m750x740-u74447"/>
          <p:cNvPicPr/>
          <p:nvPr/>
        </p:nvPicPr>
        <p:blipFill>
          <a:blip r:embed="rId3"/>
          <a:stretch/>
        </p:blipFill>
        <p:spPr>
          <a:xfrm>
            <a:off x="304920" y="2057400"/>
            <a:ext cx="2741400" cy="480060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12" descr="DSC_0144"/>
          <p:cNvPicPr/>
          <p:nvPr/>
        </p:nvPicPr>
        <p:blipFill>
          <a:blip r:embed="rId4"/>
          <a:stretch/>
        </p:blipFill>
        <p:spPr>
          <a:xfrm>
            <a:off x="3733920" y="3657600"/>
            <a:ext cx="23176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зиция и передвижение игрока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09480" y="914040"/>
            <a:ext cx="50292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характер движения игрок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росок с ме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росок в движен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росок в прыж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асстояние до кольц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альний бросок - трехочков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редний брос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лизкий бросок (из под щита, сверху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AutoShape 4">
            <a:hlinkClick r:id="" action="ppaction://hlinkshowjump?jump=nextslide"/>
          </p:cNvPr>
          <p:cNvSpPr/>
          <p:nvPr/>
        </p:nvSpPr>
        <p:spPr>
          <a:xfrm>
            <a:off x="8610480" y="6553080"/>
            <a:ext cx="533520" cy="304920"/>
          </a:xfrm>
          <a:custGeom>
            <a:avLst/>
            <a:gdLst>
              <a:gd name="textAreaLeft" fmla="*/ 19440 w 533520"/>
              <a:gd name="textAreaRight" fmla="*/ 514080 w 5335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7775" h="21600">
                <a:moveTo>
                  <a:pt x="0" y="0"/>
                </a:moveTo>
                <a:lnTo>
                  <a:pt x="37775" y="0"/>
                </a:lnTo>
                <a:lnTo>
                  <a:pt x="37775" y="21600"/>
                </a:lnTo>
                <a:lnTo>
                  <a:pt x="0" y="21600"/>
                </a:lnTo>
                <a:close/>
              </a:path>
              <a:path fill="lightenLess" w="37775" h="21600">
                <a:moveTo>
                  <a:pt x="0" y="0"/>
                </a:moveTo>
                <a:lnTo>
                  <a:pt x="37775" y="0"/>
                </a:lnTo>
                <a:lnTo>
                  <a:pt x="36375" y="1400"/>
                </a:lnTo>
                <a:lnTo>
                  <a:pt x="1400" y="1400"/>
                </a:lnTo>
                <a:close/>
              </a:path>
              <a:path fill="darken" w="37775" h="21600">
                <a:moveTo>
                  <a:pt x="37775" y="0"/>
                </a:moveTo>
                <a:lnTo>
                  <a:pt x="37775" y="21600"/>
                </a:lnTo>
                <a:lnTo>
                  <a:pt x="36375" y="20200"/>
                </a:lnTo>
                <a:lnTo>
                  <a:pt x="36375" y="1400"/>
                </a:lnTo>
                <a:close/>
              </a:path>
              <a:path fill="darkenLess" w="37775" h="21600">
                <a:moveTo>
                  <a:pt x="377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75" y="20200"/>
                </a:lnTo>
                <a:close/>
              </a:path>
              <a:path fill="lighten" w="377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75" h="21600">
                <a:moveTo>
                  <a:pt x="11881" y="3794"/>
                </a:moveTo>
                <a:lnTo>
                  <a:pt x="25894" y="10800"/>
                </a:lnTo>
                <a:lnTo>
                  <a:pt x="1188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AutoShape 5">
            <a:hlinkClick r:id="" action="ppaction://hlinkshowjump?jump=previousslide"/>
          </p:cNvPr>
          <p:cNvSpPr/>
          <p:nvPr/>
        </p:nvSpPr>
        <p:spPr>
          <a:xfrm>
            <a:off x="7391520" y="6553080"/>
            <a:ext cx="533160" cy="304920"/>
          </a:xfrm>
          <a:custGeom>
            <a:avLst/>
            <a:gdLst>
              <a:gd name="textAreaLeft" fmla="*/ 19440 w 533160"/>
              <a:gd name="textAreaRight" fmla="*/ 513720 w 5331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7749" h="21600">
                <a:moveTo>
                  <a:pt x="0" y="0"/>
                </a:moveTo>
                <a:lnTo>
                  <a:pt x="37749" y="0"/>
                </a:lnTo>
                <a:lnTo>
                  <a:pt x="37749" y="21600"/>
                </a:lnTo>
                <a:lnTo>
                  <a:pt x="0" y="21600"/>
                </a:lnTo>
                <a:close/>
              </a:path>
              <a:path fill="lightenLess" w="37749" h="21600">
                <a:moveTo>
                  <a:pt x="0" y="0"/>
                </a:moveTo>
                <a:lnTo>
                  <a:pt x="37749" y="0"/>
                </a:lnTo>
                <a:lnTo>
                  <a:pt x="36349" y="1400"/>
                </a:lnTo>
                <a:lnTo>
                  <a:pt x="1400" y="1400"/>
                </a:lnTo>
                <a:close/>
              </a:path>
              <a:path fill="darken" w="37749" h="21600">
                <a:moveTo>
                  <a:pt x="37749" y="0"/>
                </a:moveTo>
                <a:lnTo>
                  <a:pt x="37749" y="21600"/>
                </a:lnTo>
                <a:lnTo>
                  <a:pt x="36349" y="20200"/>
                </a:lnTo>
                <a:lnTo>
                  <a:pt x="36349" y="1400"/>
                </a:lnTo>
                <a:close/>
              </a:path>
              <a:path fill="darkenLess" w="37749" h="21600">
                <a:moveTo>
                  <a:pt x="377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49" y="20200"/>
                </a:lnTo>
                <a:close/>
              </a:path>
              <a:path fill="lighten" w="377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49" h="21600">
                <a:moveTo>
                  <a:pt x="11868" y="10800"/>
                </a:moveTo>
                <a:lnTo>
                  <a:pt x="25881" y="3794"/>
                </a:lnTo>
                <a:lnTo>
                  <a:pt x="2588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AutoShape 6"/>
          <p:cNvSpPr/>
          <p:nvPr/>
        </p:nvSpPr>
        <p:spPr>
          <a:xfrm>
            <a:off x="8077320" y="6553080"/>
            <a:ext cx="380880" cy="30492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WordArt 7"/>
          <p:cNvSpPr txBox="1"/>
          <p:nvPr/>
        </p:nvSpPr>
        <p:spPr>
          <a:xfrm rot="5400000">
            <a:off x="-2967480" y="3205080"/>
            <a:ext cx="6629400" cy="523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c4b596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Times New Roman"/>
              </a:rPr>
              <a:t>броски мяча</a:t>
            </a:r>
            <a:endParaRPr b="0" lang="en-US" sz="1800" spc="1" strike="noStrike">
              <a:ln w="12600">
                <a:solidFill>
                  <a:srgbClr val="c4b596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207" name="Picture 8" descr="197363-bd7e5-54739543-m750x740-u90c31"/>
          <p:cNvPicPr/>
          <p:nvPr/>
        </p:nvPicPr>
        <p:blipFill>
          <a:blip r:embed="rId3"/>
          <a:stretch/>
        </p:blipFill>
        <p:spPr>
          <a:xfrm>
            <a:off x="5970600" y="1066680"/>
            <a:ext cx="3173400" cy="476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457200" y="83772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АСКЕТБОЛ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это неподражаемое феерическое зрелище, в котором может участвовать каждый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2" descr="Картинка 1 из 161510"/>
          <p:cNvPicPr/>
          <p:nvPr/>
        </p:nvPicPr>
        <p:blipFill>
          <a:blip r:embed="rId1"/>
          <a:stretch/>
        </p:blipFill>
        <p:spPr>
          <a:xfrm>
            <a:off x="2475000" y="2798640"/>
            <a:ext cx="4498920" cy="342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5486400" y="2666880"/>
            <a:ext cx="36576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атериал взят с сайтов http://ru.wikipedia.org/, http://basketlessons.net/, http://www.fizkult-ura.ru/, http://kurszdorovia.ru/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AutoShape 5">
            <a:hlinkClick r:id="" action="ppaction://hlinkshowjump?jump=previousslide"/>
          </p:cNvPr>
          <p:cNvSpPr/>
          <p:nvPr/>
        </p:nvSpPr>
        <p:spPr>
          <a:xfrm>
            <a:off x="8001000" y="6553080"/>
            <a:ext cx="533520" cy="304920"/>
          </a:xfrm>
          <a:custGeom>
            <a:avLst/>
            <a:gdLst>
              <a:gd name="textAreaLeft" fmla="*/ 19440 w 533520"/>
              <a:gd name="textAreaRight" fmla="*/ 514080 w 5335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7775" h="21600">
                <a:moveTo>
                  <a:pt x="0" y="0"/>
                </a:moveTo>
                <a:lnTo>
                  <a:pt x="37775" y="0"/>
                </a:lnTo>
                <a:lnTo>
                  <a:pt x="37775" y="21600"/>
                </a:lnTo>
                <a:lnTo>
                  <a:pt x="0" y="21600"/>
                </a:lnTo>
                <a:close/>
              </a:path>
              <a:path fill="lightenLess" w="37775" h="21600">
                <a:moveTo>
                  <a:pt x="0" y="0"/>
                </a:moveTo>
                <a:lnTo>
                  <a:pt x="37775" y="0"/>
                </a:lnTo>
                <a:lnTo>
                  <a:pt x="36375" y="1400"/>
                </a:lnTo>
                <a:lnTo>
                  <a:pt x="1400" y="1400"/>
                </a:lnTo>
                <a:close/>
              </a:path>
              <a:path fill="darken" w="37775" h="21600">
                <a:moveTo>
                  <a:pt x="37775" y="0"/>
                </a:moveTo>
                <a:lnTo>
                  <a:pt x="37775" y="21600"/>
                </a:lnTo>
                <a:lnTo>
                  <a:pt x="36375" y="20200"/>
                </a:lnTo>
                <a:lnTo>
                  <a:pt x="36375" y="1400"/>
                </a:lnTo>
                <a:close/>
              </a:path>
              <a:path fill="darkenLess" w="37775" h="21600">
                <a:moveTo>
                  <a:pt x="377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75" y="20200"/>
                </a:lnTo>
                <a:close/>
              </a:path>
              <a:path fill="lighten" w="377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75" h="21600">
                <a:moveTo>
                  <a:pt x="11881" y="10800"/>
                </a:moveTo>
                <a:lnTo>
                  <a:pt x="25894" y="3794"/>
                </a:lnTo>
                <a:lnTo>
                  <a:pt x="258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AutoShape 6"/>
          <p:cNvSpPr/>
          <p:nvPr/>
        </p:nvSpPr>
        <p:spPr>
          <a:xfrm>
            <a:off x="8763120" y="6553080"/>
            <a:ext cx="380880" cy="30492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WordArt 7"/>
          <p:cNvSpPr txBox="1"/>
          <p:nvPr/>
        </p:nvSpPr>
        <p:spPr>
          <a:xfrm>
            <a:off x="1447920" y="609480"/>
            <a:ext cx="5333760" cy="1751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8141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Спасибо за просмотр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228600" y="837720"/>
            <a:ext cx="449568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дение мяча — один из основных технических элементов баскетбола, второй, после передачи, способ перемещения мяча по площадк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WordArt 4"/>
          <p:cNvSpPr txBox="1"/>
          <p:nvPr/>
        </p:nvSpPr>
        <p:spPr>
          <a:xfrm rot="5400000">
            <a:off x="-2819160" y="3200040"/>
            <a:ext cx="6172200" cy="5335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c4b596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Times New Roman"/>
              </a:rPr>
              <a:t>ведение мяча</a:t>
            </a:r>
            <a:endParaRPr b="0" lang="en-US" sz="1800" spc="1" strike="noStrike">
              <a:ln w="12600">
                <a:solidFill>
                  <a:srgbClr val="c4b596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50" name="Picture 5" descr="DSC_0255"/>
          <p:cNvPicPr/>
          <p:nvPr/>
        </p:nvPicPr>
        <p:blipFill>
          <a:blip r:embed="rId3"/>
          <a:stretch/>
        </p:blipFill>
        <p:spPr>
          <a:xfrm>
            <a:off x="4952880" y="914400"/>
            <a:ext cx="3962520" cy="265428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8"/>
          <p:cNvSpPr/>
          <p:nvPr/>
        </p:nvSpPr>
        <p:spPr>
          <a:xfrm>
            <a:off x="5181480" y="3809880"/>
            <a:ext cx="35816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авильное, технически грамотное ведение мяча — фундамент для стабильного контроля за ним, основа индивидуального обыгрывания соперни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9" descr="x_35c9a07a[1]"/>
          <p:cNvPicPr/>
          <p:nvPr/>
        </p:nvPicPr>
        <p:blipFill>
          <a:blip r:embed="rId4"/>
          <a:stretch/>
        </p:blipFill>
        <p:spPr>
          <a:xfrm>
            <a:off x="609480" y="3009960"/>
            <a:ext cx="4267440" cy="3558960"/>
          </a:xfrm>
          <a:prstGeom prst="rect">
            <a:avLst/>
          </a:prstGeom>
          <a:ln w="0">
            <a:noFill/>
          </a:ln>
        </p:spPr>
      </p:pic>
      <p:sp>
        <p:nvSpPr>
          <p:cNvPr id="53" name="AutoShape 11">
            <a:hlinkClick r:id="" action="ppaction://hlinkshowjump?jump=nextslide"/>
          </p:cNvPr>
          <p:cNvSpPr/>
          <p:nvPr/>
        </p:nvSpPr>
        <p:spPr>
          <a:xfrm>
            <a:off x="8610480" y="6553080"/>
            <a:ext cx="533520" cy="304920"/>
          </a:xfrm>
          <a:custGeom>
            <a:avLst/>
            <a:gdLst>
              <a:gd name="textAreaLeft" fmla="*/ 19440 w 533520"/>
              <a:gd name="textAreaRight" fmla="*/ 514080 w 5335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7775" h="21600">
                <a:moveTo>
                  <a:pt x="0" y="0"/>
                </a:moveTo>
                <a:lnTo>
                  <a:pt x="37775" y="0"/>
                </a:lnTo>
                <a:lnTo>
                  <a:pt x="37775" y="21600"/>
                </a:lnTo>
                <a:lnTo>
                  <a:pt x="0" y="21600"/>
                </a:lnTo>
                <a:close/>
              </a:path>
              <a:path fill="lightenLess" w="37775" h="21600">
                <a:moveTo>
                  <a:pt x="0" y="0"/>
                </a:moveTo>
                <a:lnTo>
                  <a:pt x="37775" y="0"/>
                </a:lnTo>
                <a:lnTo>
                  <a:pt x="36375" y="1400"/>
                </a:lnTo>
                <a:lnTo>
                  <a:pt x="1400" y="1400"/>
                </a:lnTo>
                <a:close/>
              </a:path>
              <a:path fill="darken" w="37775" h="21600">
                <a:moveTo>
                  <a:pt x="37775" y="0"/>
                </a:moveTo>
                <a:lnTo>
                  <a:pt x="37775" y="21600"/>
                </a:lnTo>
                <a:lnTo>
                  <a:pt x="36375" y="20200"/>
                </a:lnTo>
                <a:lnTo>
                  <a:pt x="36375" y="1400"/>
                </a:lnTo>
                <a:close/>
              </a:path>
              <a:path fill="darkenLess" w="37775" h="21600">
                <a:moveTo>
                  <a:pt x="377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75" y="20200"/>
                </a:lnTo>
                <a:close/>
              </a:path>
              <a:path fill="lighten" w="377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75" h="21600">
                <a:moveTo>
                  <a:pt x="11881" y="3794"/>
                </a:moveTo>
                <a:lnTo>
                  <a:pt x="25894" y="10800"/>
                </a:lnTo>
                <a:lnTo>
                  <a:pt x="1188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12">
            <a:hlinkClick r:id="" action="ppaction://hlinkshowjump?jump=previousslide"/>
          </p:cNvPr>
          <p:cNvSpPr/>
          <p:nvPr/>
        </p:nvSpPr>
        <p:spPr>
          <a:xfrm>
            <a:off x="7391520" y="6553080"/>
            <a:ext cx="533160" cy="304920"/>
          </a:xfrm>
          <a:custGeom>
            <a:avLst/>
            <a:gdLst>
              <a:gd name="textAreaLeft" fmla="*/ 19440 w 533160"/>
              <a:gd name="textAreaRight" fmla="*/ 513720 w 5331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7749" h="21600">
                <a:moveTo>
                  <a:pt x="0" y="0"/>
                </a:moveTo>
                <a:lnTo>
                  <a:pt x="37749" y="0"/>
                </a:lnTo>
                <a:lnTo>
                  <a:pt x="37749" y="21600"/>
                </a:lnTo>
                <a:lnTo>
                  <a:pt x="0" y="21600"/>
                </a:lnTo>
                <a:close/>
              </a:path>
              <a:path fill="lightenLess" w="37749" h="21600">
                <a:moveTo>
                  <a:pt x="0" y="0"/>
                </a:moveTo>
                <a:lnTo>
                  <a:pt x="37749" y="0"/>
                </a:lnTo>
                <a:lnTo>
                  <a:pt x="36349" y="1400"/>
                </a:lnTo>
                <a:lnTo>
                  <a:pt x="1400" y="1400"/>
                </a:lnTo>
                <a:close/>
              </a:path>
              <a:path fill="darken" w="37749" h="21600">
                <a:moveTo>
                  <a:pt x="37749" y="0"/>
                </a:moveTo>
                <a:lnTo>
                  <a:pt x="37749" y="21600"/>
                </a:lnTo>
                <a:lnTo>
                  <a:pt x="36349" y="20200"/>
                </a:lnTo>
                <a:lnTo>
                  <a:pt x="36349" y="1400"/>
                </a:lnTo>
                <a:close/>
              </a:path>
              <a:path fill="darkenLess" w="37749" h="21600">
                <a:moveTo>
                  <a:pt x="377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49" y="20200"/>
                </a:lnTo>
                <a:close/>
              </a:path>
              <a:path fill="lighten" w="377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49" h="21600">
                <a:moveTo>
                  <a:pt x="11868" y="10800"/>
                </a:moveTo>
                <a:lnTo>
                  <a:pt x="25881" y="3794"/>
                </a:lnTo>
                <a:lnTo>
                  <a:pt x="2588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13">
            <a:hlinkClick r:id="rId5" action="ppaction://hlinksldjump"/>
          </p:cNvPr>
          <p:cNvSpPr/>
          <p:nvPr/>
        </p:nvSpPr>
        <p:spPr>
          <a:xfrm>
            <a:off x="8077320" y="6553080"/>
            <a:ext cx="380880" cy="30492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WordArt 15"/>
          <p:cNvSpPr txBox="1"/>
          <p:nvPr/>
        </p:nvSpPr>
        <p:spPr>
          <a:xfrm>
            <a:off x="1523880" y="152280"/>
            <a:ext cx="655344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Дриблинг (ведение мяча)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11" descr="x_612c068c"/>
          <p:cNvPicPr/>
          <p:nvPr/>
        </p:nvPicPr>
        <p:blipFill>
          <a:blip r:embed="rId1"/>
          <a:stretch/>
        </p:blipFill>
        <p:spPr>
          <a:xfrm>
            <a:off x="685800" y="3378240"/>
            <a:ext cx="6172200" cy="347976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152280"/>
            <a:ext cx="868680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 ведении мяч переводится с руки на руку тремя приемами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даром перед собой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даром за спиной или между ногами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ивотом (поворотом на 270—360 при соприкосновении с защитником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WordArt 4"/>
          <p:cNvSpPr txBox="1"/>
          <p:nvPr/>
        </p:nvSpPr>
        <p:spPr>
          <a:xfrm rot="5400000">
            <a:off x="-2857320" y="3162240"/>
            <a:ext cx="6248160" cy="5335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c4b596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Times New Roman"/>
              </a:rPr>
              <a:t>ведение мяча</a:t>
            </a:r>
            <a:endParaRPr b="0" lang="en-US" sz="1800" spc="1" strike="noStrike">
              <a:ln w="12600">
                <a:solidFill>
                  <a:srgbClr val="c4b596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0" name="AutoShape 7">
            <a:hlinkClick r:id="" action="ppaction://hlinkshowjump?jump=nextslide"/>
          </p:cNvPr>
          <p:cNvSpPr/>
          <p:nvPr/>
        </p:nvSpPr>
        <p:spPr>
          <a:xfrm>
            <a:off x="8610480" y="6553080"/>
            <a:ext cx="533520" cy="304920"/>
          </a:xfrm>
          <a:custGeom>
            <a:avLst/>
            <a:gdLst>
              <a:gd name="textAreaLeft" fmla="*/ 19440 w 533520"/>
              <a:gd name="textAreaRight" fmla="*/ 514080 w 5335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7775" h="21600">
                <a:moveTo>
                  <a:pt x="0" y="0"/>
                </a:moveTo>
                <a:lnTo>
                  <a:pt x="37775" y="0"/>
                </a:lnTo>
                <a:lnTo>
                  <a:pt x="37775" y="21600"/>
                </a:lnTo>
                <a:lnTo>
                  <a:pt x="0" y="21600"/>
                </a:lnTo>
                <a:close/>
              </a:path>
              <a:path fill="lightenLess" w="37775" h="21600">
                <a:moveTo>
                  <a:pt x="0" y="0"/>
                </a:moveTo>
                <a:lnTo>
                  <a:pt x="37775" y="0"/>
                </a:lnTo>
                <a:lnTo>
                  <a:pt x="36375" y="1400"/>
                </a:lnTo>
                <a:lnTo>
                  <a:pt x="1400" y="1400"/>
                </a:lnTo>
                <a:close/>
              </a:path>
              <a:path fill="darken" w="37775" h="21600">
                <a:moveTo>
                  <a:pt x="37775" y="0"/>
                </a:moveTo>
                <a:lnTo>
                  <a:pt x="37775" y="21600"/>
                </a:lnTo>
                <a:lnTo>
                  <a:pt x="36375" y="20200"/>
                </a:lnTo>
                <a:lnTo>
                  <a:pt x="36375" y="1400"/>
                </a:lnTo>
                <a:close/>
              </a:path>
              <a:path fill="darkenLess" w="37775" h="21600">
                <a:moveTo>
                  <a:pt x="377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75" y="20200"/>
                </a:lnTo>
                <a:close/>
              </a:path>
              <a:path fill="lighten" w="377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75" h="21600">
                <a:moveTo>
                  <a:pt x="11881" y="3794"/>
                </a:moveTo>
                <a:lnTo>
                  <a:pt x="25894" y="10800"/>
                </a:lnTo>
                <a:lnTo>
                  <a:pt x="1188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8">
            <a:hlinkClick r:id="" action="ppaction://hlinkshowjump?jump=previousslide"/>
          </p:cNvPr>
          <p:cNvSpPr/>
          <p:nvPr/>
        </p:nvSpPr>
        <p:spPr>
          <a:xfrm>
            <a:off x="7391520" y="6553080"/>
            <a:ext cx="533160" cy="304920"/>
          </a:xfrm>
          <a:custGeom>
            <a:avLst/>
            <a:gdLst>
              <a:gd name="textAreaLeft" fmla="*/ 19440 w 533160"/>
              <a:gd name="textAreaRight" fmla="*/ 513720 w 5331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7749" h="21600">
                <a:moveTo>
                  <a:pt x="0" y="0"/>
                </a:moveTo>
                <a:lnTo>
                  <a:pt x="37749" y="0"/>
                </a:lnTo>
                <a:lnTo>
                  <a:pt x="37749" y="21600"/>
                </a:lnTo>
                <a:lnTo>
                  <a:pt x="0" y="21600"/>
                </a:lnTo>
                <a:close/>
              </a:path>
              <a:path fill="lightenLess" w="37749" h="21600">
                <a:moveTo>
                  <a:pt x="0" y="0"/>
                </a:moveTo>
                <a:lnTo>
                  <a:pt x="37749" y="0"/>
                </a:lnTo>
                <a:lnTo>
                  <a:pt x="36349" y="1400"/>
                </a:lnTo>
                <a:lnTo>
                  <a:pt x="1400" y="1400"/>
                </a:lnTo>
                <a:close/>
              </a:path>
              <a:path fill="darken" w="37749" h="21600">
                <a:moveTo>
                  <a:pt x="37749" y="0"/>
                </a:moveTo>
                <a:lnTo>
                  <a:pt x="37749" y="21600"/>
                </a:lnTo>
                <a:lnTo>
                  <a:pt x="36349" y="20200"/>
                </a:lnTo>
                <a:lnTo>
                  <a:pt x="36349" y="1400"/>
                </a:lnTo>
                <a:close/>
              </a:path>
              <a:path fill="darkenLess" w="37749" h="21600">
                <a:moveTo>
                  <a:pt x="377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49" y="20200"/>
                </a:lnTo>
                <a:close/>
              </a:path>
              <a:path fill="lighten" w="377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49" h="21600">
                <a:moveTo>
                  <a:pt x="11868" y="10800"/>
                </a:moveTo>
                <a:lnTo>
                  <a:pt x="25881" y="3794"/>
                </a:lnTo>
                <a:lnTo>
                  <a:pt x="2588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9">
            <a:hlinkClick r:id="rId4" action="ppaction://hlinksldjump"/>
          </p:cNvPr>
          <p:cNvSpPr/>
          <p:nvPr/>
        </p:nvSpPr>
        <p:spPr>
          <a:xfrm>
            <a:off x="8077320" y="6553080"/>
            <a:ext cx="380880" cy="30492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0" descr="283597743"/>
          <p:cNvPicPr/>
          <p:nvPr/>
        </p:nvPicPr>
        <p:blipFill>
          <a:blip r:embed="rId5"/>
          <a:stretch/>
        </p:blipFill>
        <p:spPr>
          <a:xfrm>
            <a:off x="6858000" y="3429000"/>
            <a:ext cx="228600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685440" y="228240"/>
            <a:ext cx="84582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новная стойка при ведении мяча: ноги в коленях согнуты, таз опущен, тело наклонено чуть вперед, плечи развернуты, голова поднята. Во время ведения игрок должен быть готов в любой момент изменить направление движения, сделать остановку, передачу или бросить по кольцу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410080" y="2057400"/>
            <a:ext cx="3733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яч укрывается от соперника корпусом, плечом, свободной рукой. Кисть руки, ведущей мяч, регулирует силу удара, высоту отскока и направление движения мяч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 этом мяча касаются лишь кончики пальцев, игрок не должен смотреть на мяч, а только периферическим зрением контролировать его. В поле зрения дриблера одновременно должны находиться партнеры, защитники, судь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WordArt 4"/>
          <p:cNvSpPr txBox="1"/>
          <p:nvPr/>
        </p:nvSpPr>
        <p:spPr>
          <a:xfrm rot="5400000">
            <a:off x="-3162240" y="3162240"/>
            <a:ext cx="6858000" cy="5335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c4b596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Times New Roman"/>
              </a:rPr>
              <a:t>ведение мяча</a:t>
            </a:r>
            <a:endParaRPr b="0" lang="en-US" sz="1800" spc="1" strike="noStrike">
              <a:ln w="12600">
                <a:solidFill>
                  <a:srgbClr val="c4b596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67" name="Picture 11" descr="x_f3d26fd9"/>
          <p:cNvPicPr/>
          <p:nvPr/>
        </p:nvPicPr>
        <p:blipFill>
          <a:blip r:embed="rId3"/>
          <a:stretch/>
        </p:blipFill>
        <p:spPr>
          <a:xfrm>
            <a:off x="685800" y="2133720"/>
            <a:ext cx="4724280" cy="4494240"/>
          </a:xfrm>
          <a:prstGeom prst="rect">
            <a:avLst/>
          </a:prstGeom>
          <a:ln w="0">
            <a:noFill/>
          </a:ln>
        </p:spPr>
      </p:pic>
      <p:sp>
        <p:nvSpPr>
          <p:cNvPr id="68" name="AutoShape 13">
            <a:hlinkClick r:id="" action="ppaction://hlinkshowjump?jump=nextslide"/>
          </p:cNvPr>
          <p:cNvSpPr/>
          <p:nvPr/>
        </p:nvSpPr>
        <p:spPr>
          <a:xfrm>
            <a:off x="8610480" y="6553080"/>
            <a:ext cx="533520" cy="304920"/>
          </a:xfrm>
          <a:custGeom>
            <a:avLst/>
            <a:gdLst>
              <a:gd name="textAreaLeft" fmla="*/ 19440 w 533520"/>
              <a:gd name="textAreaRight" fmla="*/ 514080 w 5335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7775" h="21600">
                <a:moveTo>
                  <a:pt x="0" y="0"/>
                </a:moveTo>
                <a:lnTo>
                  <a:pt x="37775" y="0"/>
                </a:lnTo>
                <a:lnTo>
                  <a:pt x="37775" y="21600"/>
                </a:lnTo>
                <a:lnTo>
                  <a:pt x="0" y="21600"/>
                </a:lnTo>
                <a:close/>
              </a:path>
              <a:path fill="lightenLess" w="37775" h="21600">
                <a:moveTo>
                  <a:pt x="0" y="0"/>
                </a:moveTo>
                <a:lnTo>
                  <a:pt x="37775" y="0"/>
                </a:lnTo>
                <a:lnTo>
                  <a:pt x="36375" y="1400"/>
                </a:lnTo>
                <a:lnTo>
                  <a:pt x="1400" y="1400"/>
                </a:lnTo>
                <a:close/>
              </a:path>
              <a:path fill="darken" w="37775" h="21600">
                <a:moveTo>
                  <a:pt x="37775" y="0"/>
                </a:moveTo>
                <a:lnTo>
                  <a:pt x="37775" y="21600"/>
                </a:lnTo>
                <a:lnTo>
                  <a:pt x="36375" y="20200"/>
                </a:lnTo>
                <a:lnTo>
                  <a:pt x="36375" y="1400"/>
                </a:lnTo>
                <a:close/>
              </a:path>
              <a:path fill="darkenLess" w="37775" h="21600">
                <a:moveTo>
                  <a:pt x="377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75" y="20200"/>
                </a:lnTo>
                <a:close/>
              </a:path>
              <a:path fill="lighten" w="377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75" h="21600">
                <a:moveTo>
                  <a:pt x="11881" y="3794"/>
                </a:moveTo>
                <a:lnTo>
                  <a:pt x="25894" y="10800"/>
                </a:lnTo>
                <a:lnTo>
                  <a:pt x="1188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14">
            <a:hlinkClick r:id="" action="ppaction://hlinkshowjump?jump=previousslide"/>
          </p:cNvPr>
          <p:cNvSpPr/>
          <p:nvPr/>
        </p:nvSpPr>
        <p:spPr>
          <a:xfrm>
            <a:off x="7391520" y="6553080"/>
            <a:ext cx="533160" cy="304920"/>
          </a:xfrm>
          <a:custGeom>
            <a:avLst/>
            <a:gdLst>
              <a:gd name="textAreaLeft" fmla="*/ 19440 w 533160"/>
              <a:gd name="textAreaRight" fmla="*/ 513720 w 5331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7749" h="21600">
                <a:moveTo>
                  <a:pt x="0" y="0"/>
                </a:moveTo>
                <a:lnTo>
                  <a:pt x="37749" y="0"/>
                </a:lnTo>
                <a:lnTo>
                  <a:pt x="37749" y="21600"/>
                </a:lnTo>
                <a:lnTo>
                  <a:pt x="0" y="21600"/>
                </a:lnTo>
                <a:close/>
              </a:path>
              <a:path fill="lightenLess" w="37749" h="21600">
                <a:moveTo>
                  <a:pt x="0" y="0"/>
                </a:moveTo>
                <a:lnTo>
                  <a:pt x="37749" y="0"/>
                </a:lnTo>
                <a:lnTo>
                  <a:pt x="36349" y="1400"/>
                </a:lnTo>
                <a:lnTo>
                  <a:pt x="1400" y="1400"/>
                </a:lnTo>
                <a:close/>
              </a:path>
              <a:path fill="darken" w="37749" h="21600">
                <a:moveTo>
                  <a:pt x="37749" y="0"/>
                </a:moveTo>
                <a:lnTo>
                  <a:pt x="37749" y="21600"/>
                </a:lnTo>
                <a:lnTo>
                  <a:pt x="36349" y="20200"/>
                </a:lnTo>
                <a:lnTo>
                  <a:pt x="36349" y="1400"/>
                </a:lnTo>
                <a:close/>
              </a:path>
              <a:path fill="darkenLess" w="37749" h="21600">
                <a:moveTo>
                  <a:pt x="377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49" y="20200"/>
                </a:lnTo>
                <a:close/>
              </a:path>
              <a:path fill="lighten" w="377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49" h="21600">
                <a:moveTo>
                  <a:pt x="11868" y="10800"/>
                </a:moveTo>
                <a:lnTo>
                  <a:pt x="25881" y="3794"/>
                </a:lnTo>
                <a:lnTo>
                  <a:pt x="2588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15">
            <a:hlinkClick r:id="rId4" action="ppaction://hlinksldjump"/>
          </p:cNvPr>
          <p:cNvSpPr/>
          <p:nvPr/>
        </p:nvSpPr>
        <p:spPr>
          <a:xfrm>
            <a:off x="8077320" y="6553080"/>
            <a:ext cx="380880" cy="30492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WordArt 16"/>
          <p:cNvSpPr txBox="1"/>
          <p:nvPr/>
        </p:nvSpPr>
        <p:spPr>
          <a:xfrm rot="5400000">
            <a:off x="-3162240" y="3162240"/>
            <a:ext cx="6858000" cy="5335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c4b596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Times New Roman"/>
              </a:rPr>
              <a:t>ведение мяча</a:t>
            </a:r>
            <a:endParaRPr b="0" lang="en-US" sz="1800" spc="1" strike="noStrike">
              <a:ln w="12600">
                <a:solidFill>
                  <a:srgbClr val="c4b596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12" descr="197363-3cfc0-54373221-m750x740-uff5c2"/>
          <p:cNvPicPr/>
          <p:nvPr/>
        </p:nvPicPr>
        <p:blipFill>
          <a:blip r:embed="rId1"/>
          <a:stretch/>
        </p:blipFill>
        <p:spPr>
          <a:xfrm>
            <a:off x="4802040" y="0"/>
            <a:ext cx="434196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380520" y="228600"/>
            <a:ext cx="4343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ледует учитывать, как быстро не вести мяч, передача пройдёт быстрее. Способ ведения выбирается в зависимости от расстояния до защитника и кольца соперни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9">
            <a:hlinkClick r:id="" action="ppaction://hlinkshowjump?jump=nextslide"/>
          </p:cNvPr>
          <p:cNvSpPr/>
          <p:nvPr/>
        </p:nvSpPr>
        <p:spPr>
          <a:xfrm>
            <a:off x="8610480" y="6553080"/>
            <a:ext cx="533520" cy="304920"/>
          </a:xfrm>
          <a:custGeom>
            <a:avLst/>
            <a:gdLst>
              <a:gd name="textAreaLeft" fmla="*/ 19440 w 533520"/>
              <a:gd name="textAreaRight" fmla="*/ 514080 w 5335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7775" h="21600">
                <a:moveTo>
                  <a:pt x="0" y="0"/>
                </a:moveTo>
                <a:lnTo>
                  <a:pt x="37775" y="0"/>
                </a:lnTo>
                <a:lnTo>
                  <a:pt x="37775" y="21600"/>
                </a:lnTo>
                <a:lnTo>
                  <a:pt x="0" y="21600"/>
                </a:lnTo>
                <a:close/>
              </a:path>
              <a:path fill="lightenLess" w="37775" h="21600">
                <a:moveTo>
                  <a:pt x="0" y="0"/>
                </a:moveTo>
                <a:lnTo>
                  <a:pt x="37775" y="0"/>
                </a:lnTo>
                <a:lnTo>
                  <a:pt x="36375" y="1400"/>
                </a:lnTo>
                <a:lnTo>
                  <a:pt x="1400" y="1400"/>
                </a:lnTo>
                <a:close/>
              </a:path>
              <a:path fill="darken" w="37775" h="21600">
                <a:moveTo>
                  <a:pt x="37775" y="0"/>
                </a:moveTo>
                <a:lnTo>
                  <a:pt x="37775" y="21600"/>
                </a:lnTo>
                <a:lnTo>
                  <a:pt x="36375" y="20200"/>
                </a:lnTo>
                <a:lnTo>
                  <a:pt x="36375" y="1400"/>
                </a:lnTo>
                <a:close/>
              </a:path>
              <a:path fill="darkenLess" w="37775" h="21600">
                <a:moveTo>
                  <a:pt x="377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75" y="20200"/>
                </a:lnTo>
                <a:close/>
              </a:path>
              <a:path fill="lighten" w="377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75" h="21600">
                <a:moveTo>
                  <a:pt x="11881" y="3794"/>
                </a:moveTo>
                <a:lnTo>
                  <a:pt x="25894" y="10800"/>
                </a:lnTo>
                <a:lnTo>
                  <a:pt x="1188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10">
            <a:hlinkClick r:id="" action="ppaction://hlinkshowjump?jump=previousslide"/>
          </p:cNvPr>
          <p:cNvSpPr/>
          <p:nvPr/>
        </p:nvSpPr>
        <p:spPr>
          <a:xfrm>
            <a:off x="7391520" y="6553080"/>
            <a:ext cx="533160" cy="304920"/>
          </a:xfrm>
          <a:custGeom>
            <a:avLst/>
            <a:gdLst>
              <a:gd name="textAreaLeft" fmla="*/ 19440 w 533160"/>
              <a:gd name="textAreaRight" fmla="*/ 513720 w 5331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7749" h="21600">
                <a:moveTo>
                  <a:pt x="0" y="0"/>
                </a:moveTo>
                <a:lnTo>
                  <a:pt x="37749" y="0"/>
                </a:lnTo>
                <a:lnTo>
                  <a:pt x="37749" y="21600"/>
                </a:lnTo>
                <a:lnTo>
                  <a:pt x="0" y="21600"/>
                </a:lnTo>
                <a:close/>
              </a:path>
              <a:path fill="lightenLess" w="37749" h="21600">
                <a:moveTo>
                  <a:pt x="0" y="0"/>
                </a:moveTo>
                <a:lnTo>
                  <a:pt x="37749" y="0"/>
                </a:lnTo>
                <a:lnTo>
                  <a:pt x="36349" y="1400"/>
                </a:lnTo>
                <a:lnTo>
                  <a:pt x="1400" y="1400"/>
                </a:lnTo>
                <a:close/>
              </a:path>
              <a:path fill="darken" w="37749" h="21600">
                <a:moveTo>
                  <a:pt x="37749" y="0"/>
                </a:moveTo>
                <a:lnTo>
                  <a:pt x="37749" y="21600"/>
                </a:lnTo>
                <a:lnTo>
                  <a:pt x="36349" y="20200"/>
                </a:lnTo>
                <a:lnTo>
                  <a:pt x="36349" y="1400"/>
                </a:lnTo>
                <a:close/>
              </a:path>
              <a:path fill="darkenLess" w="37749" h="21600">
                <a:moveTo>
                  <a:pt x="377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49" y="20200"/>
                </a:lnTo>
                <a:close/>
              </a:path>
              <a:path fill="lighten" w="377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49" h="21600">
                <a:moveTo>
                  <a:pt x="11868" y="10800"/>
                </a:moveTo>
                <a:lnTo>
                  <a:pt x="25881" y="3794"/>
                </a:lnTo>
                <a:lnTo>
                  <a:pt x="2588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11">
            <a:hlinkClick r:id="rId2" action="ppaction://hlinksldjump"/>
          </p:cNvPr>
          <p:cNvSpPr/>
          <p:nvPr/>
        </p:nvSpPr>
        <p:spPr>
          <a:xfrm>
            <a:off x="8077320" y="6553080"/>
            <a:ext cx="380880" cy="30492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WordArt 14"/>
          <p:cNvSpPr txBox="1"/>
          <p:nvPr/>
        </p:nvSpPr>
        <p:spPr>
          <a:xfrm rot="5400000">
            <a:off x="-3162240" y="3162240"/>
            <a:ext cx="6858000" cy="5335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c4b596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Times New Roman"/>
              </a:rPr>
              <a:t>ведение мяча</a:t>
            </a:r>
            <a:endParaRPr b="0" lang="en-US" sz="1800" spc="1" strike="noStrike">
              <a:ln w="12600">
                <a:solidFill>
                  <a:srgbClr val="c4b596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78" name="Picture 15" descr="Картинка 3 из 11763"/>
          <p:cNvPicPr/>
          <p:nvPr/>
        </p:nvPicPr>
        <p:blipFill>
          <a:blip r:embed="rId5"/>
          <a:stretch/>
        </p:blipFill>
        <p:spPr>
          <a:xfrm>
            <a:off x="2666880" y="4495680"/>
            <a:ext cx="1771920" cy="23623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6" descr="Картинка 3 из 11763"/>
          <p:cNvPicPr/>
          <p:nvPr/>
        </p:nvPicPr>
        <p:blipFill>
          <a:blip r:embed="rId6"/>
          <a:stretch/>
        </p:blipFill>
        <p:spPr>
          <a:xfrm>
            <a:off x="1066680" y="4495680"/>
            <a:ext cx="182880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114800" y="914040"/>
            <a:ext cx="50292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ередача мяч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— один из важнейших и наиболее технически сложных элементов баскетбола, самый главный элемент в игре разыгрывающего защитника. Умение правильно и точно передать мяч - основа четкого, целенаправленного взаимодействия баскетболистов в игр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зультативная передач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англ.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assis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 — пас на игрока, впоследствии поразившего кольцо соперника. Результативная передача учитывается в финальном протокол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WordArt 4"/>
          <p:cNvSpPr txBox="1"/>
          <p:nvPr/>
        </p:nvSpPr>
        <p:spPr>
          <a:xfrm rot="5400000">
            <a:off x="-3200400" y="3200400"/>
            <a:ext cx="6858000" cy="4572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c4b596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Times New Roman"/>
              </a:rPr>
              <a:t>Передача мяча</a:t>
            </a:r>
            <a:endParaRPr b="0" lang="en-US" sz="1800" spc="1" strike="noStrike">
              <a:ln w="12600">
                <a:solidFill>
                  <a:srgbClr val="c4b596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82" name="Picture 5" descr="197363-0456b-54739053-m750x740-ud4a29"/>
          <p:cNvPicPr/>
          <p:nvPr/>
        </p:nvPicPr>
        <p:blipFill>
          <a:blip r:embed="rId3"/>
          <a:stretch/>
        </p:blipFill>
        <p:spPr>
          <a:xfrm>
            <a:off x="533520" y="1066680"/>
            <a:ext cx="3603600" cy="5410440"/>
          </a:xfrm>
          <a:prstGeom prst="rect">
            <a:avLst/>
          </a:prstGeom>
          <a:ln w="0">
            <a:noFill/>
          </a:ln>
        </p:spPr>
      </p:pic>
      <p:sp>
        <p:nvSpPr>
          <p:cNvPr id="83" name="AutoShape 7">
            <a:hlinkClick r:id="" action="ppaction://hlinkshowjump?jump=nextslide"/>
          </p:cNvPr>
          <p:cNvSpPr/>
          <p:nvPr/>
        </p:nvSpPr>
        <p:spPr>
          <a:xfrm>
            <a:off x="8610480" y="6553080"/>
            <a:ext cx="533520" cy="304920"/>
          </a:xfrm>
          <a:custGeom>
            <a:avLst/>
            <a:gdLst>
              <a:gd name="textAreaLeft" fmla="*/ 19440 w 533520"/>
              <a:gd name="textAreaRight" fmla="*/ 514080 w 5335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7775" h="21600">
                <a:moveTo>
                  <a:pt x="0" y="0"/>
                </a:moveTo>
                <a:lnTo>
                  <a:pt x="37775" y="0"/>
                </a:lnTo>
                <a:lnTo>
                  <a:pt x="37775" y="21600"/>
                </a:lnTo>
                <a:lnTo>
                  <a:pt x="0" y="21600"/>
                </a:lnTo>
                <a:close/>
              </a:path>
              <a:path fill="lightenLess" w="37775" h="21600">
                <a:moveTo>
                  <a:pt x="0" y="0"/>
                </a:moveTo>
                <a:lnTo>
                  <a:pt x="37775" y="0"/>
                </a:lnTo>
                <a:lnTo>
                  <a:pt x="36375" y="1400"/>
                </a:lnTo>
                <a:lnTo>
                  <a:pt x="1400" y="1400"/>
                </a:lnTo>
                <a:close/>
              </a:path>
              <a:path fill="darken" w="37775" h="21600">
                <a:moveTo>
                  <a:pt x="37775" y="0"/>
                </a:moveTo>
                <a:lnTo>
                  <a:pt x="37775" y="21600"/>
                </a:lnTo>
                <a:lnTo>
                  <a:pt x="36375" y="20200"/>
                </a:lnTo>
                <a:lnTo>
                  <a:pt x="36375" y="1400"/>
                </a:lnTo>
                <a:close/>
              </a:path>
              <a:path fill="darkenLess" w="37775" h="21600">
                <a:moveTo>
                  <a:pt x="377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75" y="20200"/>
                </a:lnTo>
                <a:close/>
              </a:path>
              <a:path fill="lighten" w="377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75" h="21600">
                <a:moveTo>
                  <a:pt x="11881" y="3794"/>
                </a:moveTo>
                <a:lnTo>
                  <a:pt x="25894" y="10800"/>
                </a:lnTo>
                <a:lnTo>
                  <a:pt x="1188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8">
            <a:hlinkClick r:id="" action="ppaction://hlinkshowjump?jump=previousslide"/>
          </p:cNvPr>
          <p:cNvSpPr/>
          <p:nvPr/>
        </p:nvSpPr>
        <p:spPr>
          <a:xfrm>
            <a:off x="7391520" y="6553080"/>
            <a:ext cx="533160" cy="304920"/>
          </a:xfrm>
          <a:custGeom>
            <a:avLst/>
            <a:gdLst>
              <a:gd name="textAreaLeft" fmla="*/ 19440 w 533160"/>
              <a:gd name="textAreaRight" fmla="*/ 513720 w 5331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7749" h="21600">
                <a:moveTo>
                  <a:pt x="0" y="0"/>
                </a:moveTo>
                <a:lnTo>
                  <a:pt x="37749" y="0"/>
                </a:lnTo>
                <a:lnTo>
                  <a:pt x="37749" y="21600"/>
                </a:lnTo>
                <a:lnTo>
                  <a:pt x="0" y="21600"/>
                </a:lnTo>
                <a:close/>
              </a:path>
              <a:path fill="lightenLess" w="37749" h="21600">
                <a:moveTo>
                  <a:pt x="0" y="0"/>
                </a:moveTo>
                <a:lnTo>
                  <a:pt x="37749" y="0"/>
                </a:lnTo>
                <a:lnTo>
                  <a:pt x="36349" y="1400"/>
                </a:lnTo>
                <a:lnTo>
                  <a:pt x="1400" y="1400"/>
                </a:lnTo>
                <a:close/>
              </a:path>
              <a:path fill="darken" w="37749" h="21600">
                <a:moveTo>
                  <a:pt x="37749" y="0"/>
                </a:moveTo>
                <a:lnTo>
                  <a:pt x="37749" y="21600"/>
                </a:lnTo>
                <a:lnTo>
                  <a:pt x="36349" y="20200"/>
                </a:lnTo>
                <a:lnTo>
                  <a:pt x="36349" y="1400"/>
                </a:lnTo>
                <a:close/>
              </a:path>
              <a:path fill="darkenLess" w="37749" h="21600">
                <a:moveTo>
                  <a:pt x="377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49" y="20200"/>
                </a:lnTo>
                <a:close/>
              </a:path>
              <a:path fill="lighten" w="377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49" h="21600">
                <a:moveTo>
                  <a:pt x="11868" y="10800"/>
                </a:moveTo>
                <a:lnTo>
                  <a:pt x="25881" y="3794"/>
                </a:lnTo>
                <a:lnTo>
                  <a:pt x="2588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9">
            <a:hlinkClick r:id="rId4" action="ppaction://hlinksldjump"/>
          </p:cNvPr>
          <p:cNvSpPr/>
          <p:nvPr/>
        </p:nvSpPr>
        <p:spPr>
          <a:xfrm>
            <a:off x="8077320" y="6553080"/>
            <a:ext cx="380880" cy="30492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WordArt 10"/>
          <p:cNvSpPr txBox="1"/>
          <p:nvPr/>
        </p:nvSpPr>
        <p:spPr>
          <a:xfrm>
            <a:off x="2666880" y="152280"/>
            <a:ext cx="4191120" cy="752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Передача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56840" y="228240"/>
            <a:ext cx="845820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асующий отвечает за точность, своевременность, быстроту передачи, ее неожиданность для соперников и за удобство обработки мяча. Уверенность при передаче мяча - очень важный фактор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WordArt 4"/>
          <p:cNvSpPr txBox="1"/>
          <p:nvPr/>
        </p:nvSpPr>
        <p:spPr>
          <a:xfrm rot="5400000">
            <a:off x="-3200400" y="3200400"/>
            <a:ext cx="6858000" cy="4572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c4b596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Times New Roman"/>
              </a:rPr>
              <a:t>Передача мяча</a:t>
            </a:r>
            <a:endParaRPr b="0" lang="en-US" sz="1800" spc="1" strike="noStrike">
              <a:ln w="12600">
                <a:solidFill>
                  <a:srgbClr val="c4b596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533520" y="2895480"/>
            <a:ext cx="2895480" cy="32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новные правила: </a:t>
            </a:r>
            <a:r>
              <a:rPr b="0" lang="ru-RU" sz="2000" spc="-1" strike="noStrike">
                <a:solidFill>
                  <a:srgbClr val="cc3300"/>
                </a:solidFill>
                <a:latin typeface="Arial"/>
              </a:rPr>
              <a:t>"</a:t>
            </a: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Не уверен -        не отдавай"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 "Виноват дающий</a:t>
            </a:r>
            <a:r>
              <a:rPr b="0" lang="ru-RU" sz="2000" spc="-1" strike="noStrike">
                <a:solidFill>
                  <a:srgbClr val="cc3300"/>
                </a:solidFill>
                <a:latin typeface="Arial"/>
              </a:rPr>
              <a:t>"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Игрок, передающий мяч, отвечает за то, чтобы мяч дошел до адресата, в 95% случаев перехватов и потерь виноват пасующ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8" descr="x_f462afb1"/>
          <p:cNvPicPr/>
          <p:nvPr/>
        </p:nvPicPr>
        <p:blipFill>
          <a:blip r:embed="rId3"/>
          <a:stretch/>
        </p:blipFill>
        <p:spPr>
          <a:xfrm>
            <a:off x="3581280" y="2685960"/>
            <a:ext cx="5562720" cy="4172040"/>
          </a:xfrm>
          <a:prstGeom prst="rect">
            <a:avLst/>
          </a:prstGeom>
          <a:ln w="0">
            <a:noFill/>
          </a:ln>
        </p:spPr>
      </p:pic>
      <p:sp>
        <p:nvSpPr>
          <p:cNvPr id="91" name="AutoShape 12">
            <a:hlinkClick r:id="" action="ppaction://hlinkshowjump?jump=nextslide"/>
          </p:cNvPr>
          <p:cNvSpPr/>
          <p:nvPr/>
        </p:nvSpPr>
        <p:spPr>
          <a:xfrm>
            <a:off x="8610480" y="6553080"/>
            <a:ext cx="533520" cy="304920"/>
          </a:xfrm>
          <a:custGeom>
            <a:avLst/>
            <a:gdLst>
              <a:gd name="textAreaLeft" fmla="*/ 19440 w 533520"/>
              <a:gd name="textAreaRight" fmla="*/ 514080 w 5335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7775" h="21600">
                <a:moveTo>
                  <a:pt x="0" y="0"/>
                </a:moveTo>
                <a:lnTo>
                  <a:pt x="37775" y="0"/>
                </a:lnTo>
                <a:lnTo>
                  <a:pt x="37775" y="21600"/>
                </a:lnTo>
                <a:lnTo>
                  <a:pt x="0" y="21600"/>
                </a:lnTo>
                <a:close/>
              </a:path>
              <a:path fill="lightenLess" w="37775" h="21600">
                <a:moveTo>
                  <a:pt x="0" y="0"/>
                </a:moveTo>
                <a:lnTo>
                  <a:pt x="37775" y="0"/>
                </a:lnTo>
                <a:lnTo>
                  <a:pt x="36375" y="1400"/>
                </a:lnTo>
                <a:lnTo>
                  <a:pt x="1400" y="1400"/>
                </a:lnTo>
                <a:close/>
              </a:path>
              <a:path fill="darken" w="37775" h="21600">
                <a:moveTo>
                  <a:pt x="37775" y="0"/>
                </a:moveTo>
                <a:lnTo>
                  <a:pt x="37775" y="21600"/>
                </a:lnTo>
                <a:lnTo>
                  <a:pt x="36375" y="20200"/>
                </a:lnTo>
                <a:lnTo>
                  <a:pt x="36375" y="1400"/>
                </a:lnTo>
                <a:close/>
              </a:path>
              <a:path fill="darkenLess" w="37775" h="21600">
                <a:moveTo>
                  <a:pt x="377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75" y="20200"/>
                </a:lnTo>
                <a:close/>
              </a:path>
              <a:path fill="lighten" w="377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75" h="21600">
                <a:moveTo>
                  <a:pt x="11881" y="3794"/>
                </a:moveTo>
                <a:lnTo>
                  <a:pt x="25894" y="10800"/>
                </a:lnTo>
                <a:lnTo>
                  <a:pt x="1188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13">
            <a:hlinkClick r:id="" action="ppaction://hlinkshowjump?jump=previousslide"/>
          </p:cNvPr>
          <p:cNvSpPr/>
          <p:nvPr/>
        </p:nvSpPr>
        <p:spPr>
          <a:xfrm>
            <a:off x="7391520" y="6553080"/>
            <a:ext cx="533160" cy="304920"/>
          </a:xfrm>
          <a:custGeom>
            <a:avLst/>
            <a:gdLst>
              <a:gd name="textAreaLeft" fmla="*/ 19440 w 533160"/>
              <a:gd name="textAreaRight" fmla="*/ 513720 w 5331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7749" h="21600">
                <a:moveTo>
                  <a:pt x="0" y="0"/>
                </a:moveTo>
                <a:lnTo>
                  <a:pt x="37749" y="0"/>
                </a:lnTo>
                <a:lnTo>
                  <a:pt x="37749" y="21600"/>
                </a:lnTo>
                <a:lnTo>
                  <a:pt x="0" y="21600"/>
                </a:lnTo>
                <a:close/>
              </a:path>
              <a:path fill="lightenLess" w="37749" h="21600">
                <a:moveTo>
                  <a:pt x="0" y="0"/>
                </a:moveTo>
                <a:lnTo>
                  <a:pt x="37749" y="0"/>
                </a:lnTo>
                <a:lnTo>
                  <a:pt x="36349" y="1400"/>
                </a:lnTo>
                <a:lnTo>
                  <a:pt x="1400" y="1400"/>
                </a:lnTo>
                <a:close/>
              </a:path>
              <a:path fill="darken" w="37749" h="21600">
                <a:moveTo>
                  <a:pt x="37749" y="0"/>
                </a:moveTo>
                <a:lnTo>
                  <a:pt x="37749" y="21600"/>
                </a:lnTo>
                <a:lnTo>
                  <a:pt x="36349" y="20200"/>
                </a:lnTo>
                <a:lnTo>
                  <a:pt x="36349" y="1400"/>
                </a:lnTo>
                <a:close/>
              </a:path>
              <a:path fill="darkenLess" w="37749" h="21600">
                <a:moveTo>
                  <a:pt x="377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49" y="20200"/>
                </a:lnTo>
                <a:close/>
              </a:path>
              <a:path fill="lighten" w="377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49" h="21600">
                <a:moveTo>
                  <a:pt x="11868" y="10800"/>
                </a:moveTo>
                <a:lnTo>
                  <a:pt x="25881" y="3794"/>
                </a:lnTo>
                <a:lnTo>
                  <a:pt x="2588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14">
            <a:hlinkClick r:id="rId4" action="ppaction://hlinksldjump"/>
          </p:cNvPr>
          <p:cNvSpPr/>
          <p:nvPr/>
        </p:nvSpPr>
        <p:spPr>
          <a:xfrm>
            <a:off x="8077320" y="6553080"/>
            <a:ext cx="380880" cy="30492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456840" y="228600"/>
            <a:ext cx="38098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люч к умению делать точные передачи — простота. Хороший пас — легкий и лишенный напряжения. Обычно это пас на 1,5—5,5 м (более дальние могут быть перехвачены) и точно рассчитанны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WordArt 4"/>
          <p:cNvSpPr txBox="1"/>
          <p:nvPr/>
        </p:nvSpPr>
        <p:spPr>
          <a:xfrm rot="5400000">
            <a:off x="-3200400" y="3200400"/>
            <a:ext cx="6858000" cy="4572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c4b596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Times New Roman"/>
              </a:rPr>
              <a:t>Передача мяча</a:t>
            </a:r>
            <a:endParaRPr b="0" lang="en-US" sz="1800" spc="1" strike="noStrike">
              <a:ln w="12600">
                <a:solidFill>
                  <a:srgbClr val="c4b596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6" name="Rectangle 7"/>
          <p:cNvSpPr/>
          <p:nvPr/>
        </p:nvSpPr>
        <p:spPr>
          <a:xfrm>
            <a:off x="685800" y="4038480"/>
            <a:ext cx="37339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 выполнении передачи и приеме мяча необходимы полный обзор поля и осмысление игровой ситуации. Игрок должен обладать хорошим периферическим зрением и тактическим мышление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9" descr="197363-46438-54397225-m750x740-u046aa"/>
          <p:cNvPicPr/>
          <p:nvPr/>
        </p:nvPicPr>
        <p:blipFill>
          <a:blip r:embed="rId3"/>
          <a:stretch/>
        </p:blipFill>
        <p:spPr>
          <a:xfrm>
            <a:off x="4575240" y="0"/>
            <a:ext cx="456876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AutoShape 11">
            <a:hlinkClick r:id="" action="ppaction://hlinkshowjump?jump=nextslide"/>
          </p:cNvPr>
          <p:cNvSpPr/>
          <p:nvPr/>
        </p:nvSpPr>
        <p:spPr>
          <a:xfrm>
            <a:off x="8610480" y="6553080"/>
            <a:ext cx="533520" cy="304920"/>
          </a:xfrm>
          <a:custGeom>
            <a:avLst/>
            <a:gdLst>
              <a:gd name="textAreaLeft" fmla="*/ 19440 w 533520"/>
              <a:gd name="textAreaRight" fmla="*/ 514080 w 5335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7775" h="21600">
                <a:moveTo>
                  <a:pt x="0" y="0"/>
                </a:moveTo>
                <a:lnTo>
                  <a:pt x="37775" y="0"/>
                </a:lnTo>
                <a:lnTo>
                  <a:pt x="37775" y="21600"/>
                </a:lnTo>
                <a:lnTo>
                  <a:pt x="0" y="21600"/>
                </a:lnTo>
                <a:close/>
              </a:path>
              <a:path fill="lightenLess" w="37775" h="21600">
                <a:moveTo>
                  <a:pt x="0" y="0"/>
                </a:moveTo>
                <a:lnTo>
                  <a:pt x="37775" y="0"/>
                </a:lnTo>
                <a:lnTo>
                  <a:pt x="36375" y="1400"/>
                </a:lnTo>
                <a:lnTo>
                  <a:pt x="1400" y="1400"/>
                </a:lnTo>
                <a:close/>
              </a:path>
              <a:path fill="darken" w="37775" h="21600">
                <a:moveTo>
                  <a:pt x="37775" y="0"/>
                </a:moveTo>
                <a:lnTo>
                  <a:pt x="37775" y="21600"/>
                </a:lnTo>
                <a:lnTo>
                  <a:pt x="36375" y="20200"/>
                </a:lnTo>
                <a:lnTo>
                  <a:pt x="36375" y="1400"/>
                </a:lnTo>
                <a:close/>
              </a:path>
              <a:path fill="darkenLess" w="37775" h="21600">
                <a:moveTo>
                  <a:pt x="377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75" y="20200"/>
                </a:lnTo>
                <a:close/>
              </a:path>
              <a:path fill="lighten" w="377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75" h="21600">
                <a:moveTo>
                  <a:pt x="11881" y="3794"/>
                </a:moveTo>
                <a:lnTo>
                  <a:pt x="25894" y="10800"/>
                </a:lnTo>
                <a:lnTo>
                  <a:pt x="1188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12">
            <a:hlinkClick r:id="" action="ppaction://hlinkshowjump?jump=previousslide"/>
          </p:cNvPr>
          <p:cNvSpPr/>
          <p:nvPr/>
        </p:nvSpPr>
        <p:spPr>
          <a:xfrm>
            <a:off x="7391520" y="6553080"/>
            <a:ext cx="533160" cy="304920"/>
          </a:xfrm>
          <a:custGeom>
            <a:avLst/>
            <a:gdLst>
              <a:gd name="textAreaLeft" fmla="*/ 19440 w 533160"/>
              <a:gd name="textAreaRight" fmla="*/ 513720 w 5331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7749" h="21600">
                <a:moveTo>
                  <a:pt x="0" y="0"/>
                </a:moveTo>
                <a:lnTo>
                  <a:pt x="37749" y="0"/>
                </a:lnTo>
                <a:lnTo>
                  <a:pt x="37749" y="21600"/>
                </a:lnTo>
                <a:lnTo>
                  <a:pt x="0" y="21600"/>
                </a:lnTo>
                <a:close/>
              </a:path>
              <a:path fill="lightenLess" w="37749" h="21600">
                <a:moveTo>
                  <a:pt x="0" y="0"/>
                </a:moveTo>
                <a:lnTo>
                  <a:pt x="37749" y="0"/>
                </a:lnTo>
                <a:lnTo>
                  <a:pt x="36349" y="1400"/>
                </a:lnTo>
                <a:lnTo>
                  <a:pt x="1400" y="1400"/>
                </a:lnTo>
                <a:close/>
              </a:path>
              <a:path fill="darken" w="37749" h="21600">
                <a:moveTo>
                  <a:pt x="37749" y="0"/>
                </a:moveTo>
                <a:lnTo>
                  <a:pt x="37749" y="21600"/>
                </a:lnTo>
                <a:lnTo>
                  <a:pt x="36349" y="20200"/>
                </a:lnTo>
                <a:lnTo>
                  <a:pt x="36349" y="1400"/>
                </a:lnTo>
                <a:close/>
              </a:path>
              <a:path fill="darkenLess" w="37749" h="21600">
                <a:moveTo>
                  <a:pt x="377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49" y="20200"/>
                </a:lnTo>
                <a:close/>
              </a:path>
              <a:path fill="lighten" w="377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49" h="21600">
                <a:moveTo>
                  <a:pt x="11868" y="10800"/>
                </a:moveTo>
                <a:lnTo>
                  <a:pt x="25881" y="3794"/>
                </a:lnTo>
                <a:lnTo>
                  <a:pt x="2588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13">
            <a:hlinkClick r:id="rId4" action="ppaction://hlinksldjump"/>
          </p:cNvPr>
          <p:cNvSpPr/>
          <p:nvPr/>
        </p:nvSpPr>
        <p:spPr>
          <a:xfrm>
            <a:off x="8077320" y="6553080"/>
            <a:ext cx="380880" cy="30492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7T09:31:08Z</dcterms:created>
  <dc:creator>ЧИК</dc:creator>
  <dc:description/>
  <dc:language>en-US</dc:language>
  <cp:lastModifiedBy>я</cp:lastModifiedBy>
  <dcterms:modified xsi:type="dcterms:W3CDTF">2017-11-05T08:34:01Z</dcterms:modified>
  <cp:revision>1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