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6.jpeg" ContentType="image/jpeg"/>
  <Override PartName="/ppt/media/image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199-6207-4F29-ABAA-0EC61FA2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770-43A1-47CD-B157-8388328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52B-81BD-46DF-A32A-08BFEEE1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105-7669-4459-8D0C-617A8BBB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4E8-B84B-41E5-B8F8-E497BD20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929-4B66-4594-9C65-32288FD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C5E-4A5B-418D-8B43-8E300B4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BF1-37F5-4A46-ABE1-F3A7CE87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FC5-4E44-4490-8FCB-95206126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FFF-F643-49A5-817C-B4551D3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70B-4184-4F74-A9FC-82E925F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6D0-5021-4D65-99A5-65800F80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4DD1-1E34-4C62-84BE-DD7918513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3276720"/>
            <a:ext cx="7629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элементы игр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аскетбол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5800" y="3808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кола мяч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105520" y="5319360"/>
            <a:ext cx="40384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Разработ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преподаватель ФГБОУ ВО «МГТУ» Многопрофильный колле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Н.В. Рыб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аиболее распространенный и эффективный способ быстро передать мяч партнеру. Эффективен, если между игроками команды, владеющей мячом, нет игроков соперника. Пасующий, держа мяч близко к груди, толкает мяч вперед, выпрямляя запястья и разворачивая кисти. После броска большие пальцы должны оказаться внизу, а тыльные стороны ладони быть повернутыми друг к другу. Нужно, чтобы мяч летел в грудь принимающ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x_94f0c3d5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222880" y="0"/>
            <a:ext cx="39211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334120" y="4800600"/>
            <a:ext cx="3429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случаев следует пускать мяч по прямой — это наиболее быстрый способ передачи мяча принимаю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990720" y="152280"/>
            <a:ext cx="35719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от груд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800240" y="609120"/>
            <a:ext cx="4343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дача, при которой мяч ударяют об пол перед тем, как он достигает партнера. Немногие защитники достаточно быстры, чтобы перехватить мяч, ударяющийся об пол, вот почему так полезна передача с отскоком. Если нападающий оказался в трудной ситуации или не хочет сделать передачу совсем рядом с защитником, когда принимающий находится в выгодной позиции для броска, передача с отскоком может оказаться лучшим вариантом. Она заставляет защитника принять неестественную позу, сгибая корпус, чтобы достать мяч, проносящийся рядом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5" descr="197363-f32a5-54397388-m750x740-u77292"/>
          <p:cNvPicPr/>
          <p:nvPr/>
        </p:nvPicPr>
        <p:blipFill>
          <a:blip r:embed="rId3"/>
          <a:stretch/>
        </p:blipFill>
        <p:spPr>
          <a:xfrm>
            <a:off x="533520" y="228600"/>
            <a:ext cx="4263840" cy="64008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48769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дача с отско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x_8ef7f450"/>
          <p:cNvPicPr/>
          <p:nvPr/>
        </p:nvPicPr>
        <p:blipFill>
          <a:blip r:embed="rId1"/>
          <a:stretch/>
        </p:blipFill>
        <p:spPr>
          <a:xfrm>
            <a:off x="4975200" y="0"/>
            <a:ext cx="4168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37335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акой передаче принимающий должен получить мяч на уровне подбородка ил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838080" y="380880"/>
            <a:ext cx="3810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дач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 голо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ри которой передающий берет мяч в руку (обычно - которой бросает) и обводит мяч вокруг корпуса за спиной. Затем совершает передачу игроку, при этом пока мяч переносится назад, пасующий успевает заблокировать принимающег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6" descr="197363-0f45a-54798721-m750x740-u6c21a"/>
          <p:cNvPicPr/>
          <p:nvPr/>
        </p:nvPicPr>
        <p:blipFill>
          <a:blip r:embed="rId3"/>
          <a:stretch/>
        </p:blipFill>
        <p:spPr>
          <a:xfrm>
            <a:off x="1295280" y="3168720"/>
            <a:ext cx="6477120" cy="36892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419720" y="2209680"/>
            <a:ext cx="4257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из-за спи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97363-8dc11-54798768-m750x740-udeed7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ebou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важнейший элемент при игре в баскетбол, при котором игрок овладевает мячом после неудачной попытки 2-х, 3-х очкового броска или последнего штрафного бро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9144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бо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197363-566aa-54355597-m750x740-uadbb9"/>
          <p:cNvPicPr/>
          <p:nvPr/>
        </p:nvPicPr>
        <p:blipFill>
          <a:blip r:embed="rId1"/>
          <a:stretch/>
        </p:blipFill>
        <p:spPr>
          <a:xfrm>
            <a:off x="5894280" y="1981080"/>
            <a:ext cx="3249720" cy="4876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несколько видов подб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нападении, на чужом щите 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of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защите, на своём 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de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тивный под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197363-9041d-54355684-m750x740-udecec"/>
          <p:cNvPicPr/>
          <p:nvPr/>
        </p:nvPicPr>
        <p:blipFill>
          <a:blip r:embed="rId5"/>
          <a:stretch/>
        </p:blipFill>
        <p:spPr>
          <a:xfrm>
            <a:off x="533520" y="3357720"/>
            <a:ext cx="5410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спешного подбора игроку необходимо заграждать путь соперника к кольцу с целью выигрыша подбора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ox o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сновном, подборы прерогатива передней линии команды — центровых и тяжелых форвардов. Чтобы подбирать мяч, нужно обладать хорошим чувством позиции и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197363-0730f-54355302-m750x740-u3efb3"/>
          <p:cNvPicPr/>
          <p:nvPr/>
        </p:nvPicPr>
        <p:blipFill>
          <a:blip r:embed="rId4"/>
          <a:stretch/>
        </p:blipFill>
        <p:spPr>
          <a:xfrm>
            <a:off x="533520" y="228600"/>
            <a:ext cx="3809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197363-7d8f1-54738654-m750x740-udfe3d"/>
          <p:cNvPicPr/>
          <p:nvPr/>
        </p:nvPicPr>
        <p:blipFill>
          <a:blip r:embed="rId1"/>
          <a:stretch/>
        </p:blipFill>
        <p:spPr>
          <a:xfrm>
            <a:off x="5413320" y="0"/>
            <a:ext cx="37306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ва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t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 баскетболе действия игрока обороны по завладению мячом. Перехват мяча выполняется при броске или передаче игроков атаки. При утрате контроля над мячом атакующей команде вследствие перехвата защитниками в статистическом отчете матча записывается потеря. После перехвата мяча защищающаяся команда переходит в быстрый прорыв и набирает «лёгкие»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9144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хва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ш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locked shot - заблокированный брос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баскетбольный термин, означающий ситуацию, когда игрок защиты блокирует по правилам бросок сопер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Blocked_shots_by_Oscar_Torres"/>
          <p:cNvPicPr/>
          <p:nvPr/>
        </p:nvPicPr>
        <p:blipFill>
          <a:blip r:embed="rId4"/>
          <a:stretch/>
        </p:blipFill>
        <p:spPr>
          <a:xfrm>
            <a:off x="1295280" y="3097080"/>
            <a:ext cx="50292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0" y="4572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блокирующими игроками являются игроки передней линии — центровые и тяжёлые форварды. Однако игроки других позиций, имеющие хороший прыжок и координацию, зачастую становятся лучшими в данном показат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DSC_0173"/>
          <p:cNvPicPr/>
          <p:nvPr/>
        </p:nvPicPr>
        <p:blipFill>
          <a:blip r:embed="rId4"/>
          <a:stretch/>
        </p:blipFill>
        <p:spPr>
          <a:xfrm>
            <a:off x="609480" y="533520"/>
            <a:ext cx="41896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609480" y="51055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шоты — показатель, характеризующий действия баскетболиста в защ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риблинг (ведение мяч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д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х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Блокш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тойки (в защит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и напад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Передвижения без мя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Бр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066680" y="2286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элементы игр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197363-af44f-54739134-m750x740-u6bef5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ник должен находиться в устойчивом положении на слегка согнутых ногах и быть готовым затруднить выход нападающего на удобную позицию для атаки корзины и получения мяча. Внимательно следя за своим подопечным, защищающий игрок должен держать в поле зрения мяч и других игроков сопер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04920" y="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защите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x_dffaefef"/>
          <p:cNvPicPr/>
          <p:nvPr/>
        </p:nvPicPr>
        <p:blipFill>
          <a:blip r:embed="rId1"/>
          <a:stretch/>
        </p:blipFill>
        <p:spPr>
          <a:xfrm>
            <a:off x="5791320" y="3657600"/>
            <a:ext cx="3103560" cy="3200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сходное положение, из которого баскетболист наиболее быстро может действовать без мяча или с мячом. Ноги ставятся на ширине плеч, стопы – параллельно друг другу на одной линии или одна из них выдвинута на 15-20 см вперед. Тяжесть тела распределяется равномерно на обе ноги, на передние части стоп. Пятки приподняты от пола на 1-2 см. Колени полусогнуты, спина прямая, руки согнуты в локтях и слегка разведены в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DSC_0238"/>
          <p:cNvPicPr/>
          <p:nvPr/>
        </p:nvPicPr>
        <p:blipFill>
          <a:blip r:embed="rId3"/>
          <a:stretch/>
        </p:blipFill>
        <p:spPr>
          <a:xfrm>
            <a:off x="228600" y="3689280"/>
            <a:ext cx="5334120" cy="31687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1"/>
          <p:cNvSpPr txBox="1"/>
          <p:nvPr/>
        </p:nvSpPr>
        <p:spPr>
          <a:xfrm>
            <a:off x="1981080" y="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нападен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x_22b6860d"/>
          <p:cNvPicPr/>
          <p:nvPr/>
        </p:nvPicPr>
        <p:blipFill>
          <a:blip r:embed="rId1"/>
          <a:stretch/>
        </p:blipFill>
        <p:spPr>
          <a:xfrm>
            <a:off x="5788080" y="1828800"/>
            <a:ext cx="335592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ьба – применяют главным образом для смены позиции в период коротких пауз, а также при изменении темпа в сочетании с бегом. Игрок передвигается, придерживаясь положения основной стойки, на полусогнутых ногах, что позволяет в любой момент резко начать уско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533520" y="2286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ВИЖЕНИЕ БЕЗ МЯЧА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24280" y="3808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ВИЖЕНИЕ БЕЗ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ге баскетболиста соприкосновение ноги с площадкой осуществляется перекатом с пятки на носок или мягкой постановкой ноги на всю ступню. Только при коротких, прямолинейных рывках первые 4-5 ударных шагов делаются резкими и короткими, с постановкой ноги с носка. При изменении направления бега игрок мощно отталкивается выставленной вперед ногой в сторону, противоположную намеченному направлению, туловище же отклоняется внутрь описываемой при передвижении тела д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rId1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197363-f6919-54373220-m750x740-u6ef27"/>
          <p:cNvPicPr/>
          <p:nvPr/>
        </p:nvPicPr>
        <p:blipFill>
          <a:blip r:embed="rId2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197363-77146-54397231-m750x740-u3bfd3"/>
          <p:cNvPicPr/>
          <p:nvPr/>
        </p:nvPicPr>
        <p:blipFill>
          <a:blip r:embed="rId1"/>
          <a:stretch/>
        </p:blipFill>
        <p:spPr>
          <a:xfrm>
            <a:off x="6705720" y="1981080"/>
            <a:ext cx="2438280" cy="4876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505320" y="1981080"/>
            <a:ext cx="31240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ок двумя руками и одной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гру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у вн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1219320" y="0"/>
            <a:ext cx="7315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ды бросков в баскетб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85800" y="1143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броски в баскетболе можно классифицировать по следующим катего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197363-e718f-54398641-m750x740-u74447"/>
          <p:cNvPicPr/>
          <p:nvPr/>
        </p:nvPicPr>
        <p:blipFill>
          <a:blip r:embed="rId3"/>
          <a:stretch/>
        </p:blipFill>
        <p:spPr>
          <a:xfrm>
            <a:off x="304920" y="2057400"/>
            <a:ext cx="2741400" cy="480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DSC_0144"/>
          <p:cNvPicPr/>
          <p:nvPr/>
        </p:nvPicPr>
        <p:blipFill>
          <a:blip r:embed="rId4"/>
          <a:stretch/>
        </p:blipFill>
        <p:spPr>
          <a:xfrm>
            <a:off x="3733920" y="3657600"/>
            <a:ext cx="231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я и передвижение игро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 движения иг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с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прыж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ояние до ко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ий бросок - трехоч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ий бр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кий бросок (из под щита, сверх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7"/>
          <p:cNvSpPr txBox="1"/>
          <p:nvPr/>
        </p:nvSpPr>
        <p:spPr>
          <a:xfrm rot="5400000">
            <a:off x="-2967480" y="320508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роски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7" name="Picture 8" descr="197363-bd7e5-54739543-m750x740-u90c31"/>
          <p:cNvPicPr/>
          <p:nvPr/>
        </p:nvPicPr>
        <p:blipFill>
          <a:blip r:embed="rId3"/>
          <a:stretch/>
        </p:blipFill>
        <p:spPr>
          <a:xfrm>
            <a:off x="5970600" y="1066680"/>
            <a:ext cx="31734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подражаемое феерическое зрелище, в котором может участвовать кажды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Картинка 1 из 161510"/>
          <p:cNvPicPr/>
          <p:nvPr/>
        </p:nvPicPr>
        <p:blipFill>
          <a:blip r:embed="rId1"/>
          <a:stretch/>
        </p:blipFill>
        <p:spPr>
          <a:xfrm>
            <a:off x="2475000" y="2798640"/>
            <a:ext cx="44989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486400" y="2666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http://ru.wikipedia.org/, http://basketlessons.net/, http://www.fizkult-ura.ru/, http://kurszdorovia.ru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previousslide"/>
          </p:cNvPr>
          <p:cNvSpPr/>
          <p:nvPr/>
        </p:nvSpPr>
        <p:spPr>
          <a:xfrm>
            <a:off x="800100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87631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1447920" y="609480"/>
            <a:ext cx="5333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просмо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мяча — один из основных технических элементов баскетбола, второй, после передачи, способ перемещения мяча по площа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 rot="5400000">
            <a:off x="-2819160" y="320004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5" descr="DSC_0255"/>
          <p:cNvPicPr/>
          <p:nvPr/>
        </p:nvPicPr>
        <p:blipFill>
          <a:blip r:embed="rId3"/>
          <a:stretch/>
        </p:blipFill>
        <p:spPr>
          <a:xfrm>
            <a:off x="4952880" y="914400"/>
            <a:ext cx="3962520" cy="2654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5181480" y="380988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е, технически грамотное ведение мяча — фундамент для стабильного контроля за ним, основа индивидуального обыгрывания сопер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x_35c9a07a[1]"/>
          <p:cNvPicPr/>
          <p:nvPr/>
        </p:nvPicPr>
        <p:blipFill>
          <a:blip r:embed="rId4"/>
          <a:stretch/>
        </p:blipFill>
        <p:spPr>
          <a:xfrm>
            <a:off x="609480" y="3009960"/>
            <a:ext cx="4267440" cy="3558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5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1523880" y="152280"/>
            <a:ext cx="655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иблинг (ведение мяч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x_612c068c"/>
          <p:cNvPicPr/>
          <p:nvPr/>
        </p:nvPicPr>
        <p:blipFill>
          <a:blip r:embed="rId1"/>
          <a:stretch/>
        </p:blipFill>
        <p:spPr>
          <a:xfrm>
            <a:off x="685800" y="3378240"/>
            <a:ext cx="6172200" cy="347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едении мяч переводится с руки на руку тремя прием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перед со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за спиной или между но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том (поворотом на 270—360 при соприкосновении с защитни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 rot="5400000">
            <a:off x="-2857320" y="3162240"/>
            <a:ext cx="62481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283597743"/>
          <p:cNvPicPr/>
          <p:nvPr/>
        </p:nvPicPr>
        <p:blipFill>
          <a:blip r:embed="rId5"/>
          <a:stretch/>
        </p:blipFill>
        <p:spPr>
          <a:xfrm>
            <a:off x="6858000" y="3429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стойка при ведении мяча: ноги в коленях согнуты, таз опущен, тело наклонено чуть вперед, плечи развернуты, голова поднята. Во время ведения игрок должен быть готов в любой момент изменить направление движения, сделать остановку, передачу или бросить по кольц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ч укрывается от соперника корпусом, плечом, свободной рукой. Кисть руки, ведущей мяч, регулирует силу удара, высоту отскока и направление движения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мяча касаются лишь кончики пальцев, игрок не должен смотреть на мяч, а только периферическим зрением контролировать его. В поле зрения дриблера одновременно должны находиться партнеры, защитники, суд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11" descr="x_f3d26fd9"/>
          <p:cNvPicPr/>
          <p:nvPr/>
        </p:nvPicPr>
        <p:blipFill>
          <a:blip r:embed="rId3"/>
          <a:stretch/>
        </p:blipFill>
        <p:spPr>
          <a:xfrm>
            <a:off x="685800" y="2133720"/>
            <a:ext cx="4724280" cy="449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6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2" descr="197363-3cfc0-54373221-m750x740-uff5c2"/>
          <p:cNvPicPr/>
          <p:nvPr/>
        </p:nvPicPr>
        <p:blipFill>
          <a:blip r:embed="rId1"/>
          <a:stretch/>
        </p:blipFill>
        <p:spPr>
          <a:xfrm>
            <a:off x="4802040" y="0"/>
            <a:ext cx="43419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читывать, как быстро не вести мяч, передача пройдёт быстрее. Способ ведения выбирается в зависимости от расстояния до защитника и кольца сопе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15" descr="Картинка 3 из 11763"/>
          <p:cNvPicPr/>
          <p:nvPr/>
        </p:nvPicPr>
        <p:blipFill>
          <a:blip r:embed="rId5"/>
          <a:stretch/>
        </p:blipFill>
        <p:spPr>
          <a:xfrm>
            <a:off x="2666880" y="4495680"/>
            <a:ext cx="177192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Картинка 3 из 11763"/>
          <p:cNvPicPr/>
          <p:nvPr/>
        </p:nvPicPr>
        <p:blipFill>
          <a:blip r:embed="rId6"/>
          <a:stretch/>
        </p:blipFill>
        <p:spPr>
          <a:xfrm>
            <a:off x="1066680" y="4495680"/>
            <a:ext cx="1828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1480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ача мя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дин из важнейших и наиболее технически сложных элементов баскетбола, самый главный элемент в игре разыгрывающего защитника. Умение правильно и точно передать мяч - основа четкого, целенаправленного взаимодействия баскетболистов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ая пере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ас на игрока, впоследствии поразившего кольцо соперника. Результативная передача учитывается в финальном прото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" descr="197363-0456b-54739053-m750x740-ud4a29"/>
          <p:cNvPicPr/>
          <p:nvPr/>
        </p:nvPicPr>
        <p:blipFill>
          <a:blip r:embed="rId3"/>
          <a:stretch/>
        </p:blipFill>
        <p:spPr>
          <a:xfrm>
            <a:off x="533520" y="1066680"/>
            <a:ext cx="3603600" cy="5410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666880" y="1522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дач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ующий отвечает за точность, своевременность, быстроту передачи, ее неожиданность для соперников и за удобство обработки мяча. Уверенность при передаче мяча - очень важный фа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33520" y="2895480"/>
            <a:ext cx="289548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авила: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е уверен -        не отдавай"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"Виноват дающий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грок, передающий мяч, отвечает за то, чтобы мяч дошел до адресата, в 95% случаев перехватов и потерь виноват пасу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x_f462afb1"/>
          <p:cNvPicPr/>
          <p:nvPr/>
        </p:nvPicPr>
        <p:blipFill>
          <a:blip r:embed="rId3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 к умению делать точные передачи — простота. Хороший пас — легкий и лишенный напряжения. Обычно это пас на 1,5—5,5 м (более дальние могут быть перехвачены) и точно рассчитан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85800" y="4038480"/>
            <a:ext cx="373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передачи и приеме мяча необходимы полный обзор поля и осмысление игровой ситуации. Игрок должен обладать хорошим периферическим зрением и тактическим 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197363-46438-54397225-m750x740-u046aa"/>
          <p:cNvPicPr/>
          <p:nvPr/>
        </p:nvPicPr>
        <p:blipFill>
          <a:blip r:embed="rId3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9:31:08Z</dcterms:created>
  <dc:creator>ЧИК</dc:creator>
  <dc:description/>
  <dc:language>en-US</dc:language>
  <cp:lastModifiedBy>я</cp:lastModifiedBy>
  <dcterms:modified xsi:type="dcterms:W3CDTF">2017-11-05T08:34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