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rawing4.xml" ContentType="application/vnd.ms-office.drawingml.diagramDrawing+xml"/>
  <Override PartName="/ppt/diagrams/quickStyle1.xml" ContentType="application/vnd.openxmlformats-officedocument.drawingml.diagramStyle+xml"/>
  <Override PartName="/ppt/diagrams/colors4.xml" ContentType="application/vnd.openxmlformats-officedocument.drawingml.diagramColors+xml"/>
  <Override PartName="/ppt/diagrams/layout1.xml" ContentType="application/vnd.openxmlformats-officedocument.drawingml.diagramLayout+xml"/>
  <Override PartName="/ppt/diagrams/layout4.xml" ContentType="application/vnd.openxmlformats-officedocument.drawingml.diagramLayout+xml"/>
  <Override PartName="/ppt/diagrams/data4.xml" ContentType="application/vnd.openxmlformats-officedocument.drawingml.diagramData+xml"/>
  <Override PartName="/ppt/diagrams/drawing1.xml" ContentType="application/vnd.ms-office.drawingml.diagramDrawing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data2.xml" ContentType="application/vnd.openxmlformats-officedocument.drawingml.diagramData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0.png" ContentType="image/png"/>
  <Override PartName="/ppt/media/image7.jpeg" ContentType="image/jpeg"/>
  <Override PartName="/ppt/media/image28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2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5.png" ContentType="image/png"/>
  <Override PartName="/ppt/media/image29.jpeg" ContentType="image/jpeg"/>
  <Override PartName="/ppt/media/image36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34.jpeg" ContentType="image/jpeg"/>
  <Override PartName="/ppt/media/image37.png" ContentType="image/png"/>
  <Override PartName="/ppt/media/image45.tif" ContentType="image/tiff"/>
  <Override PartName="/ppt/media/image46.jpeg" ContentType="image/jpeg"/>
  <Override PartName="/ppt/media/image43.png" ContentType="image/png"/>
  <Override PartName="/ppt/media/image47.jpeg" ContentType="image/jpeg"/>
  <Override PartName="/ppt/media/image11.jpeg" ContentType="image/jpeg"/>
  <Override PartName="/ppt/media/image1.gif" ContentType="image/gif"/>
  <Override PartName="/ppt/media/image31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4.png" ContentType="image/png"/>
  <Override PartName="/ppt/media/image12.jpeg" ContentType="image/jpeg"/>
  <Override PartName="/ppt/media/image6.jpeg" ContentType="image/jpeg"/>
  <Override PartName="/ppt/media/image27.png" ContentType="image/png"/>
  <Override PartName="/ppt/media/image3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</p:sldIdLst>
  <p:sldSz cx="9144000" cy="6858000"/>
  <p:notesSz cx="6788150" cy="9923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5_1">
  <dgm:title val=""/>
  <dgm:desc val=""/>
  <dgm:catLst>
    <dgm:cat type="accent5" pri="11100"/>
  </dgm:catLst>
  <dgm:styleLbl name="node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5">
        <a:alpha val="4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8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6_1">
  <dgm:title val=""/>
  <dgm:desc val=""/>
  <dgm:catLst>
    <dgm:cat type="accent6" pri="11100"/>
  </dgm:catLst>
  <dgm:styleLbl name="node0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6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6">
        <a:tint val="4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6">
        <a:tint val="4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6">
        <a:tint val="4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6">
        <a:tint val="60000"/>
      </a:schemeClr>
    </dgm:fillClrLst>
    <dgm:linClrLst meth="repeat">
      <a:schemeClr val="accent6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6">
        <a:tint val="60000"/>
      </a:schemeClr>
    </dgm:fillClrLst>
    <dgm:linClrLst meth="repeat">
      <a:schemeClr val="accent6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6">
        <a:tint val="60000"/>
      </a:schemeClr>
    </dgm:fillClrLst>
    <dgm:linClrLst meth="repeat">
      <a:schemeClr val="accent6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6">
        <a:tint val="60000"/>
      </a:schemeClr>
    </dgm:fillClrLst>
    <dgm:linClrLst meth="repeat">
      <a:schemeClr val="accent6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6"/>
    </dgm:fillClrLst>
    <dgm:linClrLst meth="repeat">
      <a:schemeClr val="accent6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accent6"/>
    </dgm:linClrLst>
    <dgm:effectClrLst/>
    <dgm:txLinClrLst/>
    <dgm:txFillClrLst/>
    <dgm:txEffectClrLst/>
  </dgm:styleLbl>
  <dgm:styleLbl name="parChTrans2D4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6"/>
    </dgm:fillClrLst>
    <dgm:linClrLst meth="repeat">
      <a:schemeClr val="accent6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/>
    </dgm:fillClrLst>
    <dgm:linClrLst meth="repeat">
      <a:schemeClr val="accent6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/>
    </dgm:fillClrLst>
    <dgm:linClrLst meth="repeat">
      <a:schemeClr val="accent6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/>
    </dgm:fillClrLst>
    <dgm:linClrLst meth="repeat">
      <a:schemeClr val="accent6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6">
        <a:alpha val="4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6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6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6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6">
        <a:alpha val="90000"/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6">
        <a:tint val="40000"/>
      </a:schemeClr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6">
        <a:shade val="80000"/>
      </a:schemeClr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6">
        <a:tint val="50000"/>
        <a:alpha val="40000"/>
      </a:schemeClr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6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5_1">
  <dgm:title val=""/>
  <dgm:desc val=""/>
  <dgm:catLst>
    <dgm:cat type="accent5" pri="11100"/>
  </dgm:catLst>
  <dgm:styleLbl name="node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5">
        <a:alpha val="4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8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5_1">
  <dgm:title val=""/>
  <dgm:desc val=""/>
  <dgm:catLst>
    <dgm:cat type="accent5" pri="11100"/>
  </dgm:catLst>
  <dgm:styleLbl name="node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5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5">
        <a:tint val="40000"/>
      </a:schemeClr>
    </dgm:fillClrLst>
    <dgm:linClrLst meth="repeat">
      <a:schemeClr val="accent5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5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5">
        <a:tint val="60000"/>
      </a:schemeClr>
    </dgm:fillClrLst>
    <dgm:linClrLst meth="repeat">
      <a:schemeClr val="accent5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3">
    <dgm:fillClrLst meth="repeat">
      <a:schemeClr val="accent5"/>
    </dgm:fillClrLst>
    <dgm:linClrLst meth="repeat">
      <a:schemeClr val="accent5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5"/>
    </dgm:fillClrLst>
    <dgm:linClrLst meth="repeat">
      <a:schemeClr val="accent5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/>
    </dgm:fillClrLst>
    <dgm:linClrLst meth="repeat">
      <a:schemeClr val="accent5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5">
        <a:alpha val="4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5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5">
        <a:alpha val="90000"/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8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1C64867-A6C6-407A-87A5-19E821BBC1D0}" type="doc">
      <dgm:prSet loTypeId="urn:microsoft.com/office/officeart/2005/8/layout/funnel1" loCatId="process" qsTypeId="urn:microsoft.com/office/officeart/2005/8/quickstyle/simple1" qsCatId="simple" csTypeId="urn:microsoft.com/office/officeart/2005/8/colors/accent5_1" csCatId="accent5" phldr="1"/>
      <dgm:spPr/>
      <dgm:t>
        <a:bodyPr/>
        <a:lstStyle/>
        <a:p>
          <a:endParaRPr lang="ru-RU"/>
        </a:p>
      </dgm:t>
    </dgm:pt>
    <dgm:pt modelId="{6632A88D-D1B9-4863-A98F-78EC73A69E6F}">
      <dgm:prSet phldrT="[Текст]"/>
      <dgm:spPr/>
      <dgm:t>
        <a:bodyPr/>
        <a:lstStyle/>
        <a:p>
          <a:r>
            <a:rPr lang="ru-RU" dirty="0" smtClean="0"/>
            <a:t>Моделирование угроз безопасности ПДн</a:t>
          </a:r>
          <a:endParaRPr lang="ru-RU" dirty="0"/>
        </a:p>
      </dgm:t>
    </dgm:pt>
    <dgm:pt modelId="{0B2DE7E9-6CAC-4D52-AE5C-896DB9B2DF62}" type="parTrans" cxnId="{3D3EC230-4292-4091-9E0C-94328AD93080}">
      <dgm:prSet/>
      <dgm:spPr/>
      <dgm:t>
        <a:bodyPr/>
        <a:lstStyle/>
        <a:p>
          <a:endParaRPr lang="ru-RU"/>
        </a:p>
      </dgm:t>
    </dgm:pt>
    <dgm:pt modelId="{D96FCBD2-0AD6-488B-92EA-D38E9F826DCB}" type="sibTrans" cxnId="{3D3EC230-4292-4091-9E0C-94328AD93080}">
      <dgm:prSet/>
      <dgm:spPr/>
      <dgm:t>
        <a:bodyPr/>
        <a:lstStyle/>
        <a:p>
          <a:endParaRPr lang="ru-RU"/>
        </a:p>
      </dgm:t>
    </dgm:pt>
    <dgm:pt modelId="{893EF75A-B1EF-4A3B-98FA-4C0D291D37C5}">
      <dgm:prSet phldrT="[Текст]"/>
      <dgm:spPr/>
      <dgm:t>
        <a:bodyPr/>
        <a:lstStyle/>
        <a:p>
          <a:r>
            <a:rPr lang="ru-RU" dirty="0" smtClean="0"/>
            <a:t>Оценка вреда субъекту ПДн</a:t>
          </a:r>
          <a:endParaRPr lang="ru-RU" b="0" dirty="0"/>
        </a:p>
      </dgm:t>
    </dgm:pt>
    <dgm:pt modelId="{5389BB4F-EF2E-4C1C-9992-C036D64AB2EC}" type="parTrans" cxnId="{507BD8CE-66CD-4297-836D-BD4C454006C2}">
      <dgm:prSet/>
      <dgm:spPr/>
      <dgm:t>
        <a:bodyPr/>
        <a:lstStyle/>
        <a:p>
          <a:endParaRPr lang="ru-RU"/>
        </a:p>
      </dgm:t>
    </dgm:pt>
    <dgm:pt modelId="{7C003F22-1872-477F-B2B0-515F8BE38380}" type="sibTrans" cxnId="{507BD8CE-66CD-4297-836D-BD4C454006C2}">
      <dgm:prSet/>
      <dgm:spPr/>
      <dgm:t>
        <a:bodyPr/>
        <a:lstStyle/>
        <a:p>
          <a:endParaRPr lang="ru-RU"/>
        </a:p>
      </dgm:t>
    </dgm:pt>
    <dgm:pt modelId="{2FE3A30A-E808-4E40-AD44-D115DEEC637E}">
      <dgm:prSet phldrT="[Текст]"/>
      <dgm:spPr/>
      <dgm:t>
        <a:bodyPr/>
        <a:lstStyle/>
        <a:p>
          <a:r>
            <a:rPr lang="ru-RU" b="1" dirty="0" smtClean="0"/>
            <a:t>Классификация ИСПДн</a:t>
          </a:r>
          <a:endParaRPr lang="ru-RU" b="1" dirty="0"/>
        </a:p>
      </dgm:t>
    </dgm:pt>
    <dgm:pt modelId="{96011356-ED32-4A2A-9B81-744FBFD47CE7}" type="parTrans" cxnId="{864F5DA7-DBA0-49A1-BCC4-2F187D5A4988}">
      <dgm:prSet/>
      <dgm:spPr/>
      <dgm:t>
        <a:bodyPr/>
        <a:lstStyle/>
        <a:p>
          <a:endParaRPr lang="ru-RU"/>
        </a:p>
      </dgm:t>
    </dgm:pt>
    <dgm:pt modelId="{00672EB3-61E9-4E95-AEED-F614809D33A8}" type="sibTrans" cxnId="{864F5DA7-DBA0-49A1-BCC4-2F187D5A4988}">
      <dgm:prSet/>
      <dgm:spPr/>
      <dgm:t>
        <a:bodyPr/>
        <a:lstStyle/>
        <a:p>
          <a:endParaRPr lang="ru-RU"/>
        </a:p>
      </dgm:t>
    </dgm:pt>
    <dgm:pt modelId="{1C1C7806-71FF-470A-A496-8C2A0F1E0CDD}">
      <dgm:prSet phldrT="[Текст]" custT="1"/>
      <dgm:spPr/>
      <dgm:t>
        <a:bodyPr/>
        <a:lstStyle/>
        <a:p>
          <a:r>
            <a:rPr lang="ru-RU" sz="1400" b="1" dirty="0" smtClean="0">
              <a:solidFill>
                <a:srgbClr val="1485A0"/>
              </a:solidFill>
            </a:rPr>
            <a:t>Требования к защите ПДн </a:t>
          </a:r>
          <a:br>
            <a:rPr lang="ru-RU" sz="1400" b="1" dirty="0" smtClean="0">
              <a:solidFill>
                <a:srgbClr val="1485A0"/>
              </a:solidFill>
            </a:rPr>
          </a:br>
          <a:r>
            <a:rPr lang="ru-RU" sz="1400" b="1" dirty="0" smtClean="0">
              <a:solidFill>
                <a:srgbClr val="1485A0"/>
              </a:solidFill>
            </a:rPr>
            <a:t>при их обработке в ИСПДн</a:t>
          </a:r>
          <a:endParaRPr lang="ru-RU" sz="1400" b="1" dirty="0">
            <a:solidFill>
              <a:srgbClr val="1485A0"/>
            </a:solidFill>
          </a:endParaRPr>
        </a:p>
      </dgm:t>
    </dgm:pt>
    <dgm:pt modelId="{00D3A6D2-F1B0-4730-9A6B-E2DBD9C4FEB1}" type="parTrans" cxnId="{91651928-4572-40F1-85AE-5FF0B7B747BD}">
      <dgm:prSet/>
      <dgm:spPr/>
      <dgm:t>
        <a:bodyPr/>
        <a:lstStyle/>
        <a:p>
          <a:endParaRPr lang="ru-RU"/>
        </a:p>
      </dgm:t>
    </dgm:pt>
    <dgm:pt modelId="{413F1117-BBBA-487A-A02C-F08C41E5BA53}" type="sibTrans" cxnId="{91651928-4572-40F1-85AE-5FF0B7B747BD}">
      <dgm:prSet/>
      <dgm:spPr/>
      <dgm:t>
        <a:bodyPr/>
        <a:lstStyle/>
        <a:p>
          <a:endParaRPr lang="ru-RU"/>
        </a:p>
      </dgm:t>
    </dgm:pt>
    <dgm:pt modelId="{C71EB83D-B3D7-4094-9159-A92C78DE1819}" type="pres">
      <dgm:prSet presAssocID="{91C64867-A6C6-407A-87A5-19E821BBC1D0}" presName="Name0" presStyleCnt="0">
        <dgm:presLayoutVars>
          <dgm:chMax val="4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213566-95F3-43B6-8B3D-C8EB553E2694}" type="pres">
      <dgm:prSet presAssocID="{91C64867-A6C6-407A-87A5-19E821BBC1D0}" presName="ellipse" presStyleLbl="trBgShp" presStyleIdx="0" presStyleCnt="1"/>
      <dgm:spPr/>
    </dgm:pt>
    <dgm:pt modelId="{08405A5B-8A6F-4A0D-936E-DBA2C193CB9D}" type="pres">
      <dgm:prSet presAssocID="{91C64867-A6C6-407A-87A5-19E821BBC1D0}" presName="arrow1" presStyleLbl="fgShp" presStyleIdx="0" presStyleCnt="1"/>
      <dgm:spPr/>
    </dgm:pt>
    <dgm:pt modelId="{38D1E84A-9746-4088-8FD7-4209965EA33A}" type="pres">
      <dgm:prSet presAssocID="{91C64867-A6C6-407A-87A5-19E821BBC1D0}" presName="rectangle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D8B7327-4C4D-499D-AE3D-4F74BC1A65FA}" type="pres">
      <dgm:prSet presAssocID="{893EF75A-B1EF-4A3B-98FA-4C0D291D37C5}" presName="item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1170A7A-6B9D-48D9-BEB6-17E5EEAE60E5}" type="pres">
      <dgm:prSet presAssocID="{2FE3A30A-E808-4E40-AD44-D115DEEC637E}" presName="item2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E86A533-B05A-4563-8EAF-28B8F98B13B9}" type="pres">
      <dgm:prSet presAssocID="{1C1C7806-71FF-470A-A496-8C2A0F1E0CDD}" presName="item3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3F3C5F2-F973-4718-B999-56B5061D0660}" type="pres">
      <dgm:prSet presAssocID="{91C64867-A6C6-407A-87A5-19E821BBC1D0}" presName="funnel" presStyleLbl="trAlignAcc1" presStyleIdx="0" presStyleCnt="1"/>
      <dgm:spPr/>
    </dgm:pt>
  </dgm:ptLst>
  <dgm:cxnLst>
    <dgm:cxn modelId="{507BD8CE-66CD-4297-836D-BD4C454006C2}" srcId="{91C64867-A6C6-407A-87A5-19E821BBC1D0}" destId="{893EF75A-B1EF-4A3B-98FA-4C0D291D37C5}" srcOrd="1" destOrd="0" parTransId="{5389BB4F-EF2E-4C1C-9992-C036D64AB2EC}" sibTransId="{7C003F22-1872-477F-B2B0-515F8BE38380}"/>
    <dgm:cxn modelId="{91651928-4572-40F1-85AE-5FF0B7B747BD}" srcId="{91C64867-A6C6-407A-87A5-19E821BBC1D0}" destId="{1C1C7806-71FF-470A-A496-8C2A0F1E0CDD}" srcOrd="3" destOrd="0" parTransId="{00D3A6D2-F1B0-4730-9A6B-E2DBD9C4FEB1}" sibTransId="{413F1117-BBBA-487A-A02C-F08C41E5BA53}"/>
    <dgm:cxn modelId="{864F5DA7-DBA0-49A1-BCC4-2F187D5A4988}" srcId="{91C64867-A6C6-407A-87A5-19E821BBC1D0}" destId="{2FE3A30A-E808-4E40-AD44-D115DEEC637E}" srcOrd="2" destOrd="0" parTransId="{96011356-ED32-4A2A-9B81-744FBFD47CE7}" sibTransId="{00672EB3-61E9-4E95-AEED-F614809D33A8}"/>
    <dgm:cxn modelId="{FEA84A02-F57E-40BF-B4ED-A7254EC55628}" type="presOf" srcId="{91C64867-A6C6-407A-87A5-19E821BBC1D0}" destId="{C71EB83D-B3D7-4094-9159-A92C78DE1819}" srcOrd="0" destOrd="0" presId="urn:microsoft.com/office/officeart/2005/8/layout/funnel1"/>
    <dgm:cxn modelId="{47B99F9A-98CB-441D-9521-5C878C90F1A8}" type="presOf" srcId="{2FE3A30A-E808-4E40-AD44-D115DEEC637E}" destId="{BD8B7327-4C4D-499D-AE3D-4F74BC1A65FA}" srcOrd="0" destOrd="0" presId="urn:microsoft.com/office/officeart/2005/8/layout/funnel1"/>
    <dgm:cxn modelId="{241E5A9A-602B-401F-B906-625560324959}" type="presOf" srcId="{6632A88D-D1B9-4863-A98F-78EC73A69E6F}" destId="{FE86A533-B05A-4563-8EAF-28B8F98B13B9}" srcOrd="0" destOrd="0" presId="urn:microsoft.com/office/officeart/2005/8/layout/funnel1"/>
    <dgm:cxn modelId="{02C9BEFB-7B97-4F2B-8293-5DA3F30435FA}" type="presOf" srcId="{1C1C7806-71FF-470A-A496-8C2A0F1E0CDD}" destId="{38D1E84A-9746-4088-8FD7-4209965EA33A}" srcOrd="0" destOrd="0" presId="urn:microsoft.com/office/officeart/2005/8/layout/funnel1"/>
    <dgm:cxn modelId="{C92E592F-3E87-4912-8DFA-88A6A7E087E1}" type="presOf" srcId="{893EF75A-B1EF-4A3B-98FA-4C0D291D37C5}" destId="{61170A7A-6B9D-48D9-BEB6-17E5EEAE60E5}" srcOrd="0" destOrd="0" presId="urn:microsoft.com/office/officeart/2005/8/layout/funnel1"/>
    <dgm:cxn modelId="{3D3EC230-4292-4091-9E0C-94328AD93080}" srcId="{91C64867-A6C6-407A-87A5-19E821BBC1D0}" destId="{6632A88D-D1B9-4863-A98F-78EC73A69E6F}" srcOrd="0" destOrd="0" parTransId="{0B2DE7E9-6CAC-4D52-AE5C-896DB9B2DF62}" sibTransId="{D96FCBD2-0AD6-488B-92EA-D38E9F826DCB}"/>
    <dgm:cxn modelId="{7B2E91A6-D272-4E0D-B182-C3D0C82FC179}" type="presParOf" srcId="{C71EB83D-B3D7-4094-9159-A92C78DE1819}" destId="{51213566-95F3-43B6-8B3D-C8EB553E2694}" srcOrd="0" destOrd="0" presId="urn:microsoft.com/office/officeart/2005/8/layout/funnel1"/>
    <dgm:cxn modelId="{2B9549DC-1A9E-4441-9E8C-00B40787F51C}" type="presParOf" srcId="{C71EB83D-B3D7-4094-9159-A92C78DE1819}" destId="{08405A5B-8A6F-4A0D-936E-DBA2C193CB9D}" srcOrd="1" destOrd="0" presId="urn:microsoft.com/office/officeart/2005/8/layout/funnel1"/>
    <dgm:cxn modelId="{B389EA93-D3F6-411D-B4D5-293956B89B33}" type="presParOf" srcId="{C71EB83D-B3D7-4094-9159-A92C78DE1819}" destId="{38D1E84A-9746-4088-8FD7-4209965EA33A}" srcOrd="2" destOrd="0" presId="urn:microsoft.com/office/officeart/2005/8/layout/funnel1"/>
    <dgm:cxn modelId="{5F6C0FFA-C71A-4DEC-B471-1A67D110DD90}" type="presParOf" srcId="{C71EB83D-B3D7-4094-9159-A92C78DE1819}" destId="{BD8B7327-4C4D-499D-AE3D-4F74BC1A65FA}" srcOrd="3" destOrd="0" presId="urn:microsoft.com/office/officeart/2005/8/layout/funnel1"/>
    <dgm:cxn modelId="{C8DAB4CC-2529-4B24-A4E4-68A50BE128C9}" type="presParOf" srcId="{C71EB83D-B3D7-4094-9159-A92C78DE1819}" destId="{61170A7A-6B9D-48D9-BEB6-17E5EEAE60E5}" srcOrd="4" destOrd="0" presId="urn:microsoft.com/office/officeart/2005/8/layout/funnel1"/>
    <dgm:cxn modelId="{426455FB-B138-48B3-9F53-98741444F626}" type="presParOf" srcId="{C71EB83D-B3D7-4094-9159-A92C78DE1819}" destId="{FE86A533-B05A-4563-8EAF-28B8F98B13B9}" srcOrd="5" destOrd="0" presId="urn:microsoft.com/office/officeart/2005/8/layout/funnel1"/>
    <dgm:cxn modelId="{9DDBC1A1-D2BF-4B9A-816A-A1961B75B693}" type="presParOf" srcId="{C71EB83D-B3D7-4094-9159-A92C78DE1819}" destId="{F3F3C5F2-F973-4718-B999-56B5061D0660}" srcOrd="6" destOrd="0" presId="urn:microsoft.com/office/officeart/2005/8/layout/funnel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91C64867-A6C6-407A-87A5-19E821BBC1D0}" type="doc">
      <dgm:prSet loTypeId="urn:microsoft.com/office/officeart/2005/8/layout/funnel1" loCatId="process" qsTypeId="urn:microsoft.com/office/officeart/2005/8/quickstyle/simple1" qsCatId="simple" csTypeId="urn:microsoft.com/office/officeart/2005/8/colors/accent6_1" csCatId="accent6" phldr="1"/>
      <dgm:spPr/>
      <dgm:t>
        <a:bodyPr/>
        <a:lstStyle/>
        <a:p>
          <a:endParaRPr lang="ru-RU"/>
        </a:p>
      </dgm:t>
    </dgm:pt>
    <dgm:pt modelId="{6632A88D-D1B9-4863-A98F-78EC73A69E6F}">
      <dgm:prSet phldrT="[Текст]"/>
      <dgm:spPr/>
      <dgm:t>
        <a:bodyPr/>
        <a:lstStyle/>
        <a:p>
          <a:r>
            <a:rPr lang="ru-RU" dirty="0" smtClean="0"/>
            <a:t>Моделирование угроз безопасности ПДн</a:t>
          </a:r>
          <a:endParaRPr lang="ru-RU" dirty="0"/>
        </a:p>
      </dgm:t>
    </dgm:pt>
    <dgm:pt modelId="{0B2DE7E9-6CAC-4D52-AE5C-896DB9B2DF62}" type="parTrans" cxnId="{3D3EC230-4292-4091-9E0C-94328AD93080}">
      <dgm:prSet/>
      <dgm:spPr/>
      <dgm:t>
        <a:bodyPr/>
        <a:lstStyle/>
        <a:p>
          <a:endParaRPr lang="ru-RU"/>
        </a:p>
      </dgm:t>
    </dgm:pt>
    <dgm:pt modelId="{D96FCBD2-0AD6-488B-92EA-D38E9F826DCB}" type="sibTrans" cxnId="{3D3EC230-4292-4091-9E0C-94328AD93080}">
      <dgm:prSet/>
      <dgm:spPr/>
      <dgm:t>
        <a:bodyPr/>
        <a:lstStyle/>
        <a:p>
          <a:endParaRPr lang="ru-RU"/>
        </a:p>
      </dgm:t>
    </dgm:pt>
    <dgm:pt modelId="{893EF75A-B1EF-4A3B-98FA-4C0D291D37C5}">
      <dgm:prSet phldrT="[Текст]"/>
      <dgm:spPr/>
      <dgm:t>
        <a:bodyPr/>
        <a:lstStyle/>
        <a:p>
          <a:r>
            <a:rPr lang="ru-RU" dirty="0" smtClean="0"/>
            <a:t>Оценка вреда субъекту ПДн</a:t>
          </a:r>
          <a:endParaRPr lang="ru-RU" dirty="0"/>
        </a:p>
      </dgm:t>
    </dgm:pt>
    <dgm:pt modelId="{5389BB4F-EF2E-4C1C-9992-C036D64AB2EC}" type="parTrans" cxnId="{507BD8CE-66CD-4297-836D-BD4C454006C2}">
      <dgm:prSet/>
      <dgm:spPr/>
      <dgm:t>
        <a:bodyPr/>
        <a:lstStyle/>
        <a:p>
          <a:endParaRPr lang="ru-RU"/>
        </a:p>
      </dgm:t>
    </dgm:pt>
    <dgm:pt modelId="{7C003F22-1872-477F-B2B0-515F8BE38380}" type="sibTrans" cxnId="{507BD8CE-66CD-4297-836D-BD4C454006C2}">
      <dgm:prSet/>
      <dgm:spPr/>
      <dgm:t>
        <a:bodyPr/>
        <a:lstStyle/>
        <a:p>
          <a:endParaRPr lang="ru-RU"/>
        </a:p>
      </dgm:t>
    </dgm:pt>
    <dgm:pt modelId="{2FE3A30A-E808-4E40-AD44-D115DEEC637E}">
      <dgm:prSet phldrT="[Текст]"/>
      <dgm:spPr/>
      <dgm:t>
        <a:bodyPr/>
        <a:lstStyle/>
        <a:p>
          <a:r>
            <a:rPr lang="ru-RU" b="1" dirty="0" smtClean="0"/>
            <a:t>Определение уровня защищенности ПДн</a:t>
          </a:r>
          <a:endParaRPr lang="ru-RU" b="1" dirty="0"/>
        </a:p>
      </dgm:t>
    </dgm:pt>
    <dgm:pt modelId="{96011356-ED32-4A2A-9B81-744FBFD47CE7}" type="parTrans" cxnId="{864F5DA7-DBA0-49A1-BCC4-2F187D5A4988}">
      <dgm:prSet/>
      <dgm:spPr/>
      <dgm:t>
        <a:bodyPr/>
        <a:lstStyle/>
        <a:p>
          <a:endParaRPr lang="ru-RU"/>
        </a:p>
      </dgm:t>
    </dgm:pt>
    <dgm:pt modelId="{00672EB3-61E9-4E95-AEED-F614809D33A8}" type="sibTrans" cxnId="{864F5DA7-DBA0-49A1-BCC4-2F187D5A4988}">
      <dgm:prSet/>
      <dgm:spPr/>
      <dgm:t>
        <a:bodyPr/>
        <a:lstStyle/>
        <a:p>
          <a:endParaRPr lang="ru-RU"/>
        </a:p>
      </dgm:t>
    </dgm:pt>
    <dgm:pt modelId="{1C1C7806-71FF-470A-A496-8C2A0F1E0CDD}">
      <dgm:prSet phldrT="[Текст]" custT="1"/>
      <dgm:spPr/>
      <dgm:t>
        <a:bodyPr/>
        <a:lstStyle/>
        <a:p>
          <a:r>
            <a:rPr lang="ru-RU" sz="1400" b="1" dirty="0" smtClean="0">
              <a:solidFill>
                <a:schemeClr val="accent6">
                  <a:lumMod val="75000"/>
                </a:schemeClr>
              </a:solidFill>
            </a:rPr>
            <a:t>Требования к защите ПДн </a:t>
          </a:r>
          <a:br>
            <a:rPr lang="ru-RU" sz="1400" b="1" dirty="0" smtClean="0">
              <a:solidFill>
                <a:schemeClr val="accent6">
                  <a:lumMod val="75000"/>
                </a:schemeClr>
              </a:solidFill>
            </a:rPr>
          </a:br>
          <a:r>
            <a:rPr lang="ru-RU" sz="1400" b="1" dirty="0" smtClean="0">
              <a:solidFill>
                <a:schemeClr val="accent6">
                  <a:lumMod val="75000"/>
                </a:schemeClr>
              </a:solidFill>
            </a:rPr>
            <a:t>при их обработке в ИСПДн</a:t>
          </a:r>
          <a:endParaRPr lang="ru-RU" sz="1400" b="1" dirty="0">
            <a:solidFill>
              <a:schemeClr val="accent6">
                <a:lumMod val="75000"/>
              </a:schemeClr>
            </a:solidFill>
          </a:endParaRPr>
        </a:p>
      </dgm:t>
    </dgm:pt>
    <dgm:pt modelId="{00D3A6D2-F1B0-4730-9A6B-E2DBD9C4FEB1}" type="parTrans" cxnId="{91651928-4572-40F1-85AE-5FF0B7B747BD}">
      <dgm:prSet/>
      <dgm:spPr/>
      <dgm:t>
        <a:bodyPr/>
        <a:lstStyle/>
        <a:p>
          <a:endParaRPr lang="ru-RU"/>
        </a:p>
      </dgm:t>
    </dgm:pt>
    <dgm:pt modelId="{413F1117-BBBA-487A-A02C-F08C41E5BA53}" type="sibTrans" cxnId="{91651928-4572-40F1-85AE-5FF0B7B747BD}">
      <dgm:prSet/>
      <dgm:spPr/>
      <dgm:t>
        <a:bodyPr/>
        <a:lstStyle/>
        <a:p>
          <a:endParaRPr lang="ru-RU"/>
        </a:p>
      </dgm:t>
    </dgm:pt>
    <dgm:pt modelId="{C71EB83D-B3D7-4094-9159-A92C78DE1819}" type="pres">
      <dgm:prSet presAssocID="{91C64867-A6C6-407A-87A5-19E821BBC1D0}" presName="Name0" presStyleCnt="0">
        <dgm:presLayoutVars>
          <dgm:chMax val="4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51213566-95F3-43B6-8B3D-C8EB553E2694}" type="pres">
      <dgm:prSet presAssocID="{91C64867-A6C6-407A-87A5-19E821BBC1D0}" presName="ellipse" presStyleLbl="trBgShp" presStyleIdx="0" presStyleCnt="1"/>
      <dgm:spPr/>
    </dgm:pt>
    <dgm:pt modelId="{08405A5B-8A6F-4A0D-936E-DBA2C193CB9D}" type="pres">
      <dgm:prSet presAssocID="{91C64867-A6C6-407A-87A5-19E821BBC1D0}" presName="arrow1" presStyleLbl="fgShp" presStyleIdx="0" presStyleCnt="1"/>
      <dgm:spPr/>
    </dgm:pt>
    <dgm:pt modelId="{38D1E84A-9746-4088-8FD7-4209965EA33A}" type="pres">
      <dgm:prSet presAssocID="{91C64867-A6C6-407A-87A5-19E821BBC1D0}" presName="rectangle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D8B7327-4C4D-499D-AE3D-4F74BC1A65FA}" type="pres">
      <dgm:prSet presAssocID="{893EF75A-B1EF-4A3B-98FA-4C0D291D37C5}" presName="item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1170A7A-6B9D-48D9-BEB6-17E5EEAE60E5}" type="pres">
      <dgm:prSet presAssocID="{2FE3A30A-E808-4E40-AD44-D115DEEC637E}" presName="item2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E86A533-B05A-4563-8EAF-28B8F98B13B9}" type="pres">
      <dgm:prSet presAssocID="{1C1C7806-71FF-470A-A496-8C2A0F1E0CDD}" presName="item3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3F3C5F2-F973-4718-B999-56B5061D0660}" type="pres">
      <dgm:prSet presAssocID="{91C64867-A6C6-407A-87A5-19E821BBC1D0}" presName="funnel" presStyleLbl="trAlignAcc1" presStyleIdx="0" presStyleCnt="1"/>
      <dgm:spPr/>
    </dgm:pt>
  </dgm:ptLst>
  <dgm:cxnLst>
    <dgm:cxn modelId="{507BD8CE-66CD-4297-836D-BD4C454006C2}" srcId="{91C64867-A6C6-407A-87A5-19E821BBC1D0}" destId="{893EF75A-B1EF-4A3B-98FA-4C0D291D37C5}" srcOrd="1" destOrd="0" parTransId="{5389BB4F-EF2E-4C1C-9992-C036D64AB2EC}" sibTransId="{7C003F22-1872-477F-B2B0-515F8BE38380}"/>
    <dgm:cxn modelId="{91651928-4572-40F1-85AE-5FF0B7B747BD}" srcId="{91C64867-A6C6-407A-87A5-19E821BBC1D0}" destId="{1C1C7806-71FF-470A-A496-8C2A0F1E0CDD}" srcOrd="3" destOrd="0" parTransId="{00D3A6D2-F1B0-4730-9A6B-E2DBD9C4FEB1}" sibTransId="{413F1117-BBBA-487A-A02C-F08C41E5BA53}"/>
    <dgm:cxn modelId="{864F5DA7-DBA0-49A1-BCC4-2F187D5A4988}" srcId="{91C64867-A6C6-407A-87A5-19E821BBC1D0}" destId="{2FE3A30A-E808-4E40-AD44-D115DEEC637E}" srcOrd="2" destOrd="0" parTransId="{96011356-ED32-4A2A-9B81-744FBFD47CE7}" sibTransId="{00672EB3-61E9-4E95-AEED-F614809D33A8}"/>
    <dgm:cxn modelId="{D98617CE-2272-427D-89C7-A0443816256B}" type="presOf" srcId="{91C64867-A6C6-407A-87A5-19E821BBC1D0}" destId="{C71EB83D-B3D7-4094-9159-A92C78DE1819}" srcOrd="0" destOrd="0" presId="urn:microsoft.com/office/officeart/2005/8/layout/funnel1"/>
    <dgm:cxn modelId="{49C3B238-9CD6-44C3-948A-A41F042DB000}" type="presOf" srcId="{6632A88D-D1B9-4863-A98F-78EC73A69E6F}" destId="{FE86A533-B05A-4563-8EAF-28B8F98B13B9}" srcOrd="0" destOrd="0" presId="urn:microsoft.com/office/officeart/2005/8/layout/funnel1"/>
    <dgm:cxn modelId="{3D3EC230-4292-4091-9E0C-94328AD93080}" srcId="{91C64867-A6C6-407A-87A5-19E821BBC1D0}" destId="{6632A88D-D1B9-4863-A98F-78EC73A69E6F}" srcOrd="0" destOrd="0" parTransId="{0B2DE7E9-6CAC-4D52-AE5C-896DB9B2DF62}" sibTransId="{D96FCBD2-0AD6-488B-92EA-D38E9F826DCB}"/>
    <dgm:cxn modelId="{58D5F90F-EAB1-4882-9FC3-A618526E2009}" type="presOf" srcId="{2FE3A30A-E808-4E40-AD44-D115DEEC637E}" destId="{BD8B7327-4C4D-499D-AE3D-4F74BC1A65FA}" srcOrd="0" destOrd="0" presId="urn:microsoft.com/office/officeart/2005/8/layout/funnel1"/>
    <dgm:cxn modelId="{B5B6ED3D-4112-49F2-B794-9234EEE8D3FA}" type="presOf" srcId="{893EF75A-B1EF-4A3B-98FA-4C0D291D37C5}" destId="{61170A7A-6B9D-48D9-BEB6-17E5EEAE60E5}" srcOrd="0" destOrd="0" presId="urn:microsoft.com/office/officeart/2005/8/layout/funnel1"/>
    <dgm:cxn modelId="{6BB7BAD9-9924-4041-B6ED-11E984FD9627}" type="presOf" srcId="{1C1C7806-71FF-470A-A496-8C2A0F1E0CDD}" destId="{38D1E84A-9746-4088-8FD7-4209965EA33A}" srcOrd="0" destOrd="0" presId="urn:microsoft.com/office/officeart/2005/8/layout/funnel1"/>
    <dgm:cxn modelId="{C8BD351B-77AC-4929-95A9-438FC7FDFD13}" type="presParOf" srcId="{C71EB83D-B3D7-4094-9159-A92C78DE1819}" destId="{51213566-95F3-43B6-8B3D-C8EB553E2694}" srcOrd="0" destOrd="0" presId="urn:microsoft.com/office/officeart/2005/8/layout/funnel1"/>
    <dgm:cxn modelId="{84924DD4-314B-4A7E-9E57-F81942810871}" type="presParOf" srcId="{C71EB83D-B3D7-4094-9159-A92C78DE1819}" destId="{08405A5B-8A6F-4A0D-936E-DBA2C193CB9D}" srcOrd="1" destOrd="0" presId="urn:microsoft.com/office/officeart/2005/8/layout/funnel1"/>
    <dgm:cxn modelId="{04650A67-1FCA-44DD-92A9-90430B8D1670}" type="presParOf" srcId="{C71EB83D-B3D7-4094-9159-A92C78DE1819}" destId="{38D1E84A-9746-4088-8FD7-4209965EA33A}" srcOrd="2" destOrd="0" presId="urn:microsoft.com/office/officeart/2005/8/layout/funnel1"/>
    <dgm:cxn modelId="{7A2FE8EC-1E73-496C-AD5B-BCAF36CD5F0B}" type="presParOf" srcId="{C71EB83D-B3D7-4094-9159-A92C78DE1819}" destId="{BD8B7327-4C4D-499D-AE3D-4F74BC1A65FA}" srcOrd="3" destOrd="0" presId="urn:microsoft.com/office/officeart/2005/8/layout/funnel1"/>
    <dgm:cxn modelId="{79E2FA44-197D-4701-AF1D-E21E9617678B}" type="presParOf" srcId="{C71EB83D-B3D7-4094-9159-A92C78DE1819}" destId="{61170A7A-6B9D-48D9-BEB6-17E5EEAE60E5}" srcOrd="4" destOrd="0" presId="urn:microsoft.com/office/officeart/2005/8/layout/funnel1"/>
    <dgm:cxn modelId="{6148C3AF-84A6-4D49-B7E2-4E5E1927218F}" type="presParOf" srcId="{C71EB83D-B3D7-4094-9159-A92C78DE1819}" destId="{FE86A533-B05A-4563-8EAF-28B8F98B13B9}" srcOrd="5" destOrd="0" presId="urn:microsoft.com/office/officeart/2005/8/layout/funnel1"/>
    <dgm:cxn modelId="{7222F7E9-A48C-4DF8-80A6-ADD4DCD66B8F}" type="presParOf" srcId="{C71EB83D-B3D7-4094-9159-A92C78DE1819}" destId="{F3F3C5F2-F973-4718-B999-56B5061D0660}" srcOrd="6" destOrd="0" presId="urn:microsoft.com/office/officeart/2005/8/layout/funnel1"/>
  </dgm:cxnLst>
  <dgm:bg/>
  <dgm:whole/>
  <dgm:extLst>
    <a:ext uri="http://schemas.microsoft.com/office/drawing/2008/diagram">
      <dsp:dataModelExt xmlns:dsp="http://schemas.microsoft.com/office/drawing/2008/diagram" relId="rId10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D9D90527-BA63-4959-A71F-9393599AF9BC}" type="doc">
      <dgm:prSet loTypeId="urn:microsoft.com/office/officeart/2005/8/layout/radial4" loCatId="relationship" qsTypeId="urn:microsoft.com/office/officeart/2005/8/quickstyle/3d6" qsCatId="3D" csTypeId="urn:microsoft.com/office/officeart/2005/8/colors/accent5_1" csCatId="accent5" phldr="1"/>
      <dgm:spPr/>
      <dgm:t>
        <a:bodyPr/>
        <a:lstStyle/>
        <a:p>
          <a:endParaRPr lang="ru-RU"/>
        </a:p>
      </dgm:t>
    </dgm:pt>
    <dgm:pt modelId="{129EEFEA-3FD4-4B62-869A-CF276714AFF3}">
      <dgm:prSet phldrT="[Текст]"/>
      <dgm:spPr/>
      <dgm:t>
        <a:bodyPr/>
        <a:lstStyle/>
        <a:p>
          <a:r>
            <a:rPr lang="ru-RU" dirty="0" smtClean="0"/>
            <a:t>Уровень защищенности ПДн</a:t>
          </a:r>
          <a:endParaRPr lang="ru-RU" dirty="0"/>
        </a:p>
      </dgm:t>
    </dgm:pt>
    <dgm:pt modelId="{ADD158B2-BD8B-4B3B-8C67-0FBB5C807DB4}" type="parTrans" cxnId="{4962ED34-2019-4A32-AAD7-BDE267EBF4BA}">
      <dgm:prSet/>
      <dgm:spPr/>
      <dgm:t>
        <a:bodyPr/>
        <a:lstStyle/>
        <a:p>
          <a:endParaRPr lang="ru-RU"/>
        </a:p>
      </dgm:t>
    </dgm:pt>
    <dgm:pt modelId="{3D0A483F-E622-4838-A49C-8C83E8967E15}" type="sibTrans" cxnId="{4962ED34-2019-4A32-AAD7-BDE267EBF4BA}">
      <dgm:prSet/>
      <dgm:spPr/>
      <dgm:t>
        <a:bodyPr/>
        <a:lstStyle/>
        <a:p>
          <a:endParaRPr lang="ru-RU"/>
        </a:p>
      </dgm:t>
    </dgm:pt>
    <dgm:pt modelId="{26B208DE-CBB8-4BF1-9E12-E945AC49556F}">
      <dgm:prSet phldrT="[Текст]"/>
      <dgm:spPr/>
      <dgm:t>
        <a:bodyPr/>
        <a:lstStyle/>
        <a:p>
          <a:r>
            <a:rPr lang="ru-RU" dirty="0" smtClean="0"/>
            <a:t>объем ПДн</a:t>
          </a:r>
          <a:endParaRPr lang="ru-RU" dirty="0"/>
        </a:p>
      </dgm:t>
    </dgm:pt>
    <dgm:pt modelId="{352ECC79-21EA-449B-BAB8-CA40460ADFA7}" type="parTrans" cxnId="{4C8B700C-831C-4F6C-BE69-DC43C704AC44}">
      <dgm:prSet/>
      <dgm:spPr/>
      <dgm:t>
        <a:bodyPr/>
        <a:lstStyle/>
        <a:p>
          <a:endParaRPr lang="ru-RU"/>
        </a:p>
      </dgm:t>
    </dgm:pt>
    <dgm:pt modelId="{C54007A4-4770-43B5-8B16-7883E4BBD051}" type="sibTrans" cxnId="{4C8B700C-831C-4F6C-BE69-DC43C704AC44}">
      <dgm:prSet/>
      <dgm:spPr/>
      <dgm:t>
        <a:bodyPr/>
        <a:lstStyle/>
        <a:p>
          <a:endParaRPr lang="ru-RU"/>
        </a:p>
      </dgm:t>
    </dgm:pt>
    <dgm:pt modelId="{D30AD1C6-6DB9-4C8C-8D7F-8F8749624CDE}">
      <dgm:prSet phldrT="[Текст]"/>
      <dgm:spPr/>
      <dgm:t>
        <a:bodyPr/>
        <a:lstStyle/>
        <a:p>
          <a:r>
            <a:rPr lang="ru-RU" dirty="0" smtClean="0"/>
            <a:t>содержание ПДн</a:t>
          </a:r>
          <a:endParaRPr lang="ru-RU" dirty="0"/>
        </a:p>
      </dgm:t>
    </dgm:pt>
    <dgm:pt modelId="{C0BD2A90-FC3D-4EB2-B4E4-90CCFC84BB77}" type="parTrans" cxnId="{D4751522-683A-41D0-9D2F-68512D2BB0A0}">
      <dgm:prSet/>
      <dgm:spPr/>
      <dgm:t>
        <a:bodyPr/>
        <a:lstStyle/>
        <a:p>
          <a:endParaRPr lang="ru-RU"/>
        </a:p>
      </dgm:t>
    </dgm:pt>
    <dgm:pt modelId="{45365FFD-8E89-4A3B-B7A6-5052311B05B0}" type="sibTrans" cxnId="{D4751522-683A-41D0-9D2F-68512D2BB0A0}">
      <dgm:prSet/>
      <dgm:spPr/>
      <dgm:t>
        <a:bodyPr/>
        <a:lstStyle/>
        <a:p>
          <a:endParaRPr lang="ru-RU"/>
        </a:p>
      </dgm:t>
    </dgm:pt>
    <dgm:pt modelId="{D8786EF5-73EF-41F0-892A-234442A3D70F}">
      <dgm:prSet phldrT="[Текст]"/>
      <dgm:spPr/>
      <dgm:t>
        <a:bodyPr/>
        <a:lstStyle/>
        <a:p>
          <a:r>
            <a:rPr lang="ru-RU" dirty="0" smtClean="0"/>
            <a:t>возможный вред субъекту ПДн</a:t>
          </a:r>
          <a:endParaRPr lang="ru-RU" dirty="0"/>
        </a:p>
      </dgm:t>
    </dgm:pt>
    <dgm:pt modelId="{248B2DC9-AE84-4478-9C4C-A0555ACBD3E7}" type="parTrans" cxnId="{30521A2A-988D-4959-BE57-0720912DE77F}">
      <dgm:prSet/>
      <dgm:spPr/>
      <dgm:t>
        <a:bodyPr/>
        <a:lstStyle/>
        <a:p>
          <a:endParaRPr lang="ru-RU"/>
        </a:p>
      </dgm:t>
    </dgm:pt>
    <dgm:pt modelId="{E9E580DC-8F5D-4B78-833A-26276517C282}" type="sibTrans" cxnId="{30521A2A-988D-4959-BE57-0720912DE77F}">
      <dgm:prSet/>
      <dgm:spPr/>
      <dgm:t>
        <a:bodyPr/>
        <a:lstStyle/>
        <a:p>
          <a:endParaRPr lang="ru-RU"/>
        </a:p>
      </dgm:t>
    </dgm:pt>
    <dgm:pt modelId="{B5AD813D-72C6-4A6E-9991-9293E2EA77B0}">
      <dgm:prSet phldrT="[Текст]"/>
      <dgm:spPr/>
      <dgm:t>
        <a:bodyPr/>
        <a:lstStyle/>
        <a:p>
          <a:r>
            <a:rPr lang="ru-RU" smtClean="0"/>
            <a:t>вид </a:t>
          </a:r>
          <a:r>
            <a:rPr lang="ru-RU" dirty="0" smtClean="0"/>
            <a:t>деятельности</a:t>
          </a:r>
          <a:endParaRPr lang="ru-RU" dirty="0"/>
        </a:p>
      </dgm:t>
    </dgm:pt>
    <dgm:pt modelId="{B0AF35CA-18E5-41D1-B89B-8C377F9246C7}" type="parTrans" cxnId="{ED405505-684D-4813-B890-8272B6181B24}">
      <dgm:prSet/>
      <dgm:spPr/>
      <dgm:t>
        <a:bodyPr/>
        <a:lstStyle/>
        <a:p>
          <a:endParaRPr lang="ru-RU"/>
        </a:p>
      </dgm:t>
    </dgm:pt>
    <dgm:pt modelId="{4BA5BB39-A98E-4B48-BE9B-F9530833D0EA}" type="sibTrans" cxnId="{ED405505-684D-4813-B890-8272B6181B24}">
      <dgm:prSet/>
      <dgm:spPr/>
      <dgm:t>
        <a:bodyPr/>
        <a:lstStyle/>
        <a:p>
          <a:endParaRPr lang="ru-RU"/>
        </a:p>
      </dgm:t>
    </dgm:pt>
    <dgm:pt modelId="{6477465C-EB28-4997-91B3-31E57C4D01F9}">
      <dgm:prSet phldrT="[Текст]"/>
      <dgm:spPr/>
      <dgm:t>
        <a:bodyPr/>
        <a:lstStyle/>
        <a:p>
          <a:r>
            <a:rPr lang="ru-RU" smtClean="0"/>
            <a:t>актуальность </a:t>
          </a:r>
          <a:r>
            <a:rPr lang="ru-RU" dirty="0" smtClean="0"/>
            <a:t>угроз безопасности ПДн</a:t>
          </a:r>
          <a:endParaRPr lang="ru-RU" dirty="0"/>
        </a:p>
      </dgm:t>
    </dgm:pt>
    <dgm:pt modelId="{710ECD8D-FD7E-4FD6-9F23-9305E02E76A0}" type="parTrans" cxnId="{53D0968E-C356-4E33-A00E-B4C14A6E7877}">
      <dgm:prSet/>
      <dgm:spPr/>
      <dgm:t>
        <a:bodyPr/>
        <a:lstStyle/>
        <a:p>
          <a:endParaRPr lang="ru-RU"/>
        </a:p>
      </dgm:t>
    </dgm:pt>
    <dgm:pt modelId="{3ABA046F-05C0-45FF-B00D-0C6FE972EE59}" type="sibTrans" cxnId="{53D0968E-C356-4E33-A00E-B4C14A6E7877}">
      <dgm:prSet/>
      <dgm:spPr/>
      <dgm:t>
        <a:bodyPr/>
        <a:lstStyle/>
        <a:p>
          <a:endParaRPr lang="ru-RU"/>
        </a:p>
      </dgm:t>
    </dgm:pt>
    <dgm:pt modelId="{6CE00369-B6BF-4C66-8230-190E9A595440}" type="pres">
      <dgm:prSet presAssocID="{D9D90527-BA63-4959-A71F-9393599AF9BC}" presName="cycle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9480098-A584-4DB2-948B-10E4570DDE42}" type="pres">
      <dgm:prSet presAssocID="{129EEFEA-3FD4-4B62-869A-CF276714AFF3}" presName="centerShape" presStyleLbl="node0" presStyleIdx="0" presStyleCnt="1"/>
      <dgm:spPr/>
      <dgm:t>
        <a:bodyPr/>
        <a:lstStyle/>
        <a:p>
          <a:endParaRPr lang="ru-RU"/>
        </a:p>
      </dgm:t>
    </dgm:pt>
    <dgm:pt modelId="{45918E47-8E7B-466F-9C7C-DF45FC64A36F}" type="pres">
      <dgm:prSet presAssocID="{352ECC79-21EA-449B-BAB8-CA40460ADFA7}" presName="parTrans" presStyleLbl="bgSibTrans2D1" presStyleIdx="0" presStyleCnt="5"/>
      <dgm:spPr/>
      <dgm:t>
        <a:bodyPr/>
        <a:lstStyle/>
        <a:p>
          <a:endParaRPr lang="ru-RU"/>
        </a:p>
      </dgm:t>
    </dgm:pt>
    <dgm:pt modelId="{5206CF5E-55FE-4790-ACD8-B07BD68F292D}" type="pres">
      <dgm:prSet presAssocID="{26B208DE-CBB8-4BF1-9E12-E945AC49556F}" presName="node" presStyleLbl="node1" presStyleIdx="0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9806B14-99D3-4FAE-A5D7-5D0A5BB8A2C1}" type="pres">
      <dgm:prSet presAssocID="{C0BD2A90-FC3D-4EB2-B4E4-90CCFC84BB77}" presName="parTrans" presStyleLbl="bgSibTrans2D1" presStyleIdx="1" presStyleCnt="5"/>
      <dgm:spPr/>
      <dgm:t>
        <a:bodyPr/>
        <a:lstStyle/>
        <a:p>
          <a:endParaRPr lang="ru-RU"/>
        </a:p>
      </dgm:t>
    </dgm:pt>
    <dgm:pt modelId="{DB9B445E-8345-407E-AC92-5144DD0C2C5F}" type="pres">
      <dgm:prSet presAssocID="{D30AD1C6-6DB9-4C8C-8D7F-8F8749624CDE}" presName="node" presStyleLbl="node1" presStyleIdx="1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8EC56F0-E8E8-4A2E-B906-A8D2F9C883FC}" type="pres">
      <dgm:prSet presAssocID="{248B2DC9-AE84-4478-9C4C-A0555ACBD3E7}" presName="parTrans" presStyleLbl="bgSibTrans2D1" presStyleIdx="2" presStyleCnt="5"/>
      <dgm:spPr/>
      <dgm:t>
        <a:bodyPr/>
        <a:lstStyle/>
        <a:p>
          <a:endParaRPr lang="ru-RU"/>
        </a:p>
      </dgm:t>
    </dgm:pt>
    <dgm:pt modelId="{9D2424E4-7EB1-4824-834F-9C15C0A8A2B1}" type="pres">
      <dgm:prSet presAssocID="{D8786EF5-73EF-41F0-892A-234442A3D70F}" presName="node" presStyleLbl="node1" presStyleIdx="2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641383F-304A-4F9A-BA01-82A425AF67C2}" type="pres">
      <dgm:prSet presAssocID="{710ECD8D-FD7E-4FD6-9F23-9305E02E76A0}" presName="parTrans" presStyleLbl="bgSibTrans2D1" presStyleIdx="3" presStyleCnt="5"/>
      <dgm:spPr/>
      <dgm:t>
        <a:bodyPr/>
        <a:lstStyle/>
        <a:p>
          <a:endParaRPr lang="ru-RU"/>
        </a:p>
      </dgm:t>
    </dgm:pt>
    <dgm:pt modelId="{56725F12-09C4-4EDF-B805-AF866DCED5FF}" type="pres">
      <dgm:prSet presAssocID="{6477465C-EB28-4997-91B3-31E57C4D01F9}" presName="node" presStyleLbl="node1" presStyleIdx="3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599712D-0AF3-4483-BF37-0FCCE3CD700C}" type="pres">
      <dgm:prSet presAssocID="{B0AF35CA-18E5-41D1-B89B-8C377F9246C7}" presName="parTrans" presStyleLbl="bgSibTrans2D1" presStyleIdx="4" presStyleCnt="5"/>
      <dgm:spPr/>
      <dgm:t>
        <a:bodyPr/>
        <a:lstStyle/>
        <a:p>
          <a:endParaRPr lang="ru-RU"/>
        </a:p>
      </dgm:t>
    </dgm:pt>
    <dgm:pt modelId="{45BE6EB5-4899-43AA-8639-BC8CBAC46B57}" type="pres">
      <dgm:prSet presAssocID="{B5AD813D-72C6-4A6E-9991-9293E2EA77B0}" presName="node" presStyleLbl="node1" presStyleIdx="4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7445749E-855F-4BFD-8316-6A3D74E089E3}" type="presOf" srcId="{6477465C-EB28-4997-91B3-31E57C4D01F9}" destId="{56725F12-09C4-4EDF-B805-AF866DCED5FF}" srcOrd="0" destOrd="0" presId="urn:microsoft.com/office/officeart/2005/8/layout/radial4"/>
    <dgm:cxn modelId="{6DF76256-E103-498C-B75E-46683B922B7E}" type="presOf" srcId="{B0AF35CA-18E5-41D1-B89B-8C377F9246C7}" destId="{6599712D-0AF3-4483-BF37-0FCCE3CD700C}" srcOrd="0" destOrd="0" presId="urn:microsoft.com/office/officeart/2005/8/layout/radial4"/>
    <dgm:cxn modelId="{5EFF52E9-3053-4500-8CD6-9F9E8C66EEB4}" type="presOf" srcId="{D8786EF5-73EF-41F0-892A-234442A3D70F}" destId="{9D2424E4-7EB1-4824-834F-9C15C0A8A2B1}" srcOrd="0" destOrd="0" presId="urn:microsoft.com/office/officeart/2005/8/layout/radial4"/>
    <dgm:cxn modelId="{FB0A8BA0-4F96-4F63-8785-03A31CC2B4EE}" type="presOf" srcId="{710ECD8D-FD7E-4FD6-9F23-9305E02E76A0}" destId="{5641383F-304A-4F9A-BA01-82A425AF67C2}" srcOrd="0" destOrd="0" presId="urn:microsoft.com/office/officeart/2005/8/layout/radial4"/>
    <dgm:cxn modelId="{CAD77BA1-034C-47F6-961B-A7A2B2D4BBD5}" type="presOf" srcId="{352ECC79-21EA-449B-BAB8-CA40460ADFA7}" destId="{45918E47-8E7B-466F-9C7C-DF45FC64A36F}" srcOrd="0" destOrd="0" presId="urn:microsoft.com/office/officeart/2005/8/layout/radial4"/>
    <dgm:cxn modelId="{7BDF028C-8ABF-47E9-879A-BE12CB9D5B74}" type="presOf" srcId="{B5AD813D-72C6-4A6E-9991-9293E2EA77B0}" destId="{45BE6EB5-4899-43AA-8639-BC8CBAC46B57}" srcOrd="0" destOrd="0" presId="urn:microsoft.com/office/officeart/2005/8/layout/radial4"/>
    <dgm:cxn modelId="{4C8B700C-831C-4F6C-BE69-DC43C704AC44}" srcId="{129EEFEA-3FD4-4B62-869A-CF276714AFF3}" destId="{26B208DE-CBB8-4BF1-9E12-E945AC49556F}" srcOrd="0" destOrd="0" parTransId="{352ECC79-21EA-449B-BAB8-CA40460ADFA7}" sibTransId="{C54007A4-4770-43B5-8B16-7883E4BBD051}"/>
    <dgm:cxn modelId="{74966DDF-A390-40BB-89F2-8B0C6499E14D}" type="presOf" srcId="{D30AD1C6-6DB9-4C8C-8D7F-8F8749624CDE}" destId="{DB9B445E-8345-407E-AC92-5144DD0C2C5F}" srcOrd="0" destOrd="0" presId="urn:microsoft.com/office/officeart/2005/8/layout/radial4"/>
    <dgm:cxn modelId="{4962ED34-2019-4A32-AAD7-BDE267EBF4BA}" srcId="{D9D90527-BA63-4959-A71F-9393599AF9BC}" destId="{129EEFEA-3FD4-4B62-869A-CF276714AFF3}" srcOrd="0" destOrd="0" parTransId="{ADD158B2-BD8B-4B3B-8C67-0FBB5C807DB4}" sibTransId="{3D0A483F-E622-4838-A49C-8C83E8967E15}"/>
    <dgm:cxn modelId="{53D0968E-C356-4E33-A00E-B4C14A6E7877}" srcId="{129EEFEA-3FD4-4B62-869A-CF276714AFF3}" destId="{6477465C-EB28-4997-91B3-31E57C4D01F9}" srcOrd="3" destOrd="0" parTransId="{710ECD8D-FD7E-4FD6-9F23-9305E02E76A0}" sibTransId="{3ABA046F-05C0-45FF-B00D-0C6FE972EE59}"/>
    <dgm:cxn modelId="{30521A2A-988D-4959-BE57-0720912DE77F}" srcId="{129EEFEA-3FD4-4B62-869A-CF276714AFF3}" destId="{D8786EF5-73EF-41F0-892A-234442A3D70F}" srcOrd="2" destOrd="0" parTransId="{248B2DC9-AE84-4478-9C4C-A0555ACBD3E7}" sibTransId="{E9E580DC-8F5D-4B78-833A-26276517C282}"/>
    <dgm:cxn modelId="{6217E53F-6371-4EA3-8090-0B05906C06F5}" type="presOf" srcId="{C0BD2A90-FC3D-4EB2-B4E4-90CCFC84BB77}" destId="{59806B14-99D3-4FAE-A5D7-5D0A5BB8A2C1}" srcOrd="0" destOrd="0" presId="urn:microsoft.com/office/officeart/2005/8/layout/radial4"/>
    <dgm:cxn modelId="{2919173D-583F-4BDD-AFCF-2A203D441CFD}" type="presOf" srcId="{248B2DC9-AE84-4478-9C4C-A0555ACBD3E7}" destId="{18EC56F0-E8E8-4A2E-B906-A8D2F9C883FC}" srcOrd="0" destOrd="0" presId="urn:microsoft.com/office/officeart/2005/8/layout/radial4"/>
    <dgm:cxn modelId="{ED405505-684D-4813-B890-8272B6181B24}" srcId="{129EEFEA-3FD4-4B62-869A-CF276714AFF3}" destId="{B5AD813D-72C6-4A6E-9991-9293E2EA77B0}" srcOrd="4" destOrd="0" parTransId="{B0AF35CA-18E5-41D1-B89B-8C377F9246C7}" sibTransId="{4BA5BB39-A98E-4B48-BE9B-F9530833D0EA}"/>
    <dgm:cxn modelId="{299A6AE4-9608-4F36-8494-857EE9BE0715}" type="presOf" srcId="{26B208DE-CBB8-4BF1-9E12-E945AC49556F}" destId="{5206CF5E-55FE-4790-ACD8-B07BD68F292D}" srcOrd="0" destOrd="0" presId="urn:microsoft.com/office/officeart/2005/8/layout/radial4"/>
    <dgm:cxn modelId="{43E6A8B1-BA12-41D2-A4D3-087C169E49E3}" type="presOf" srcId="{D9D90527-BA63-4959-A71F-9393599AF9BC}" destId="{6CE00369-B6BF-4C66-8230-190E9A595440}" srcOrd="0" destOrd="0" presId="urn:microsoft.com/office/officeart/2005/8/layout/radial4"/>
    <dgm:cxn modelId="{D4751522-683A-41D0-9D2F-68512D2BB0A0}" srcId="{129EEFEA-3FD4-4B62-869A-CF276714AFF3}" destId="{D30AD1C6-6DB9-4C8C-8D7F-8F8749624CDE}" srcOrd="1" destOrd="0" parTransId="{C0BD2A90-FC3D-4EB2-B4E4-90CCFC84BB77}" sibTransId="{45365FFD-8E89-4A3B-B7A6-5052311B05B0}"/>
    <dgm:cxn modelId="{DD61DD69-0ACC-41AE-8EE3-D9F334C3654E}" type="presOf" srcId="{129EEFEA-3FD4-4B62-869A-CF276714AFF3}" destId="{79480098-A584-4DB2-948B-10E4570DDE42}" srcOrd="0" destOrd="0" presId="urn:microsoft.com/office/officeart/2005/8/layout/radial4"/>
    <dgm:cxn modelId="{229BD1CE-EF7E-4FF9-8BA3-57F8E84042B0}" type="presParOf" srcId="{6CE00369-B6BF-4C66-8230-190E9A595440}" destId="{79480098-A584-4DB2-948B-10E4570DDE42}" srcOrd="0" destOrd="0" presId="urn:microsoft.com/office/officeart/2005/8/layout/radial4"/>
    <dgm:cxn modelId="{D249C59E-5214-404C-88AE-FD2D23BBAA0D}" type="presParOf" srcId="{6CE00369-B6BF-4C66-8230-190E9A595440}" destId="{45918E47-8E7B-466F-9C7C-DF45FC64A36F}" srcOrd="1" destOrd="0" presId="urn:microsoft.com/office/officeart/2005/8/layout/radial4"/>
    <dgm:cxn modelId="{BD9690DF-4267-4E47-8EFA-FB6189E854C9}" type="presParOf" srcId="{6CE00369-B6BF-4C66-8230-190E9A595440}" destId="{5206CF5E-55FE-4790-ACD8-B07BD68F292D}" srcOrd="2" destOrd="0" presId="urn:microsoft.com/office/officeart/2005/8/layout/radial4"/>
    <dgm:cxn modelId="{1A8D2851-BFFF-4890-A693-F6D7DD8D1079}" type="presParOf" srcId="{6CE00369-B6BF-4C66-8230-190E9A595440}" destId="{59806B14-99D3-4FAE-A5D7-5D0A5BB8A2C1}" srcOrd="3" destOrd="0" presId="urn:microsoft.com/office/officeart/2005/8/layout/radial4"/>
    <dgm:cxn modelId="{FDD07755-CB70-4BC1-BE40-B1C314BC5C32}" type="presParOf" srcId="{6CE00369-B6BF-4C66-8230-190E9A595440}" destId="{DB9B445E-8345-407E-AC92-5144DD0C2C5F}" srcOrd="4" destOrd="0" presId="urn:microsoft.com/office/officeart/2005/8/layout/radial4"/>
    <dgm:cxn modelId="{7C6F96E3-2CA1-479D-8F0F-876B79676A6D}" type="presParOf" srcId="{6CE00369-B6BF-4C66-8230-190E9A595440}" destId="{18EC56F0-E8E8-4A2E-B906-A8D2F9C883FC}" srcOrd="5" destOrd="0" presId="urn:microsoft.com/office/officeart/2005/8/layout/radial4"/>
    <dgm:cxn modelId="{17A25425-4B0F-4886-87B3-1532A9E19C05}" type="presParOf" srcId="{6CE00369-B6BF-4C66-8230-190E9A595440}" destId="{9D2424E4-7EB1-4824-834F-9C15C0A8A2B1}" srcOrd="6" destOrd="0" presId="urn:microsoft.com/office/officeart/2005/8/layout/radial4"/>
    <dgm:cxn modelId="{F11426E7-BE56-462F-A509-CA4C6930FAF1}" type="presParOf" srcId="{6CE00369-B6BF-4C66-8230-190E9A595440}" destId="{5641383F-304A-4F9A-BA01-82A425AF67C2}" srcOrd="7" destOrd="0" presId="urn:microsoft.com/office/officeart/2005/8/layout/radial4"/>
    <dgm:cxn modelId="{509424AF-F971-42B9-A2EE-559F24FFA794}" type="presParOf" srcId="{6CE00369-B6BF-4C66-8230-190E9A595440}" destId="{56725F12-09C4-4EDF-B805-AF866DCED5FF}" srcOrd="8" destOrd="0" presId="urn:microsoft.com/office/officeart/2005/8/layout/radial4"/>
    <dgm:cxn modelId="{9A9026EE-FD25-463B-B42C-60D741AEFA1D}" type="presParOf" srcId="{6CE00369-B6BF-4C66-8230-190E9A595440}" destId="{6599712D-0AF3-4483-BF37-0FCCE3CD700C}" srcOrd="9" destOrd="0" presId="urn:microsoft.com/office/officeart/2005/8/layout/radial4"/>
    <dgm:cxn modelId="{321833BB-F892-4B3A-AC2A-A2DEF5473B57}" type="presParOf" srcId="{6CE00369-B6BF-4C66-8230-190E9A595440}" destId="{45BE6EB5-4899-43AA-8639-BC8CBAC46B57}" srcOrd="10" destOrd="0" presId="urn:microsoft.com/office/officeart/2005/8/layout/radial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D9D90527-BA63-4959-A71F-9393599AF9BC}" type="doc">
      <dgm:prSet loTypeId="urn:microsoft.com/office/officeart/2005/8/layout/radial4" loCatId="relationship" qsTypeId="urn:microsoft.com/office/officeart/2005/8/quickstyle/3d6" qsCatId="3D" csTypeId="urn:microsoft.com/office/officeart/2005/8/colors/accent5_1" csCatId="accent5" phldr="1"/>
      <dgm:spPr/>
      <dgm:t>
        <a:bodyPr/>
        <a:lstStyle/>
        <a:p>
          <a:endParaRPr lang="ru-RU"/>
        </a:p>
      </dgm:t>
    </dgm:pt>
    <dgm:pt modelId="{129EEFEA-3FD4-4B62-869A-CF276714AFF3}">
      <dgm:prSet phldrT="[Текст]"/>
      <dgm:spPr/>
      <dgm:t>
        <a:bodyPr/>
        <a:lstStyle/>
        <a:p>
          <a:r>
            <a:rPr lang="ru-RU" dirty="0" smtClean="0"/>
            <a:t>Уровень защищенности ПДн</a:t>
          </a:r>
          <a:endParaRPr lang="ru-RU" dirty="0"/>
        </a:p>
      </dgm:t>
    </dgm:pt>
    <dgm:pt modelId="{ADD158B2-BD8B-4B3B-8C67-0FBB5C807DB4}" type="parTrans" cxnId="{4962ED34-2019-4A32-AAD7-BDE267EBF4BA}">
      <dgm:prSet/>
      <dgm:spPr/>
      <dgm:t>
        <a:bodyPr/>
        <a:lstStyle/>
        <a:p>
          <a:endParaRPr lang="ru-RU"/>
        </a:p>
      </dgm:t>
    </dgm:pt>
    <dgm:pt modelId="{3D0A483F-E622-4838-A49C-8C83E8967E15}" type="sibTrans" cxnId="{4962ED34-2019-4A32-AAD7-BDE267EBF4BA}">
      <dgm:prSet/>
      <dgm:spPr/>
      <dgm:t>
        <a:bodyPr/>
        <a:lstStyle/>
        <a:p>
          <a:endParaRPr lang="ru-RU"/>
        </a:p>
      </dgm:t>
    </dgm:pt>
    <dgm:pt modelId="{26B208DE-CBB8-4BF1-9E12-E945AC49556F}">
      <dgm:prSet phldrT="[Текст]"/>
      <dgm:spPr/>
      <dgm:t>
        <a:bodyPr/>
        <a:lstStyle/>
        <a:p>
          <a:r>
            <a:rPr lang="ru-RU" dirty="0" smtClean="0"/>
            <a:t>объем ПДн</a:t>
          </a:r>
          <a:endParaRPr lang="ru-RU" dirty="0"/>
        </a:p>
      </dgm:t>
    </dgm:pt>
    <dgm:pt modelId="{352ECC79-21EA-449B-BAB8-CA40460ADFA7}" type="parTrans" cxnId="{4C8B700C-831C-4F6C-BE69-DC43C704AC44}">
      <dgm:prSet/>
      <dgm:spPr/>
      <dgm:t>
        <a:bodyPr/>
        <a:lstStyle/>
        <a:p>
          <a:endParaRPr lang="ru-RU"/>
        </a:p>
      </dgm:t>
    </dgm:pt>
    <dgm:pt modelId="{C54007A4-4770-43B5-8B16-7883E4BBD051}" type="sibTrans" cxnId="{4C8B700C-831C-4F6C-BE69-DC43C704AC44}">
      <dgm:prSet/>
      <dgm:spPr/>
      <dgm:t>
        <a:bodyPr/>
        <a:lstStyle/>
        <a:p>
          <a:endParaRPr lang="ru-RU"/>
        </a:p>
      </dgm:t>
    </dgm:pt>
    <dgm:pt modelId="{D30AD1C6-6DB9-4C8C-8D7F-8F8749624CDE}">
      <dgm:prSet phldrT="[Текст]"/>
      <dgm:spPr/>
      <dgm:t>
        <a:bodyPr/>
        <a:lstStyle/>
        <a:p>
          <a:r>
            <a:rPr lang="ru-RU" dirty="0" smtClean="0"/>
            <a:t>содержание ПДн</a:t>
          </a:r>
          <a:endParaRPr lang="ru-RU" dirty="0"/>
        </a:p>
      </dgm:t>
    </dgm:pt>
    <dgm:pt modelId="{C0BD2A90-FC3D-4EB2-B4E4-90CCFC84BB77}" type="parTrans" cxnId="{D4751522-683A-41D0-9D2F-68512D2BB0A0}">
      <dgm:prSet/>
      <dgm:spPr/>
      <dgm:t>
        <a:bodyPr/>
        <a:lstStyle/>
        <a:p>
          <a:endParaRPr lang="ru-RU"/>
        </a:p>
      </dgm:t>
    </dgm:pt>
    <dgm:pt modelId="{45365FFD-8E89-4A3B-B7A6-5052311B05B0}" type="sibTrans" cxnId="{D4751522-683A-41D0-9D2F-68512D2BB0A0}">
      <dgm:prSet/>
      <dgm:spPr/>
      <dgm:t>
        <a:bodyPr/>
        <a:lstStyle/>
        <a:p>
          <a:endParaRPr lang="ru-RU"/>
        </a:p>
      </dgm:t>
    </dgm:pt>
    <dgm:pt modelId="{D8786EF5-73EF-41F0-892A-234442A3D70F}">
      <dgm:prSet phldrT="[Текст]"/>
      <dgm:spPr/>
      <dgm:t>
        <a:bodyPr/>
        <a:lstStyle/>
        <a:p>
          <a:r>
            <a:rPr lang="ru-RU" dirty="0" smtClean="0"/>
            <a:t>возможный вред субъекту ПДн</a:t>
          </a:r>
          <a:endParaRPr lang="ru-RU" dirty="0"/>
        </a:p>
      </dgm:t>
    </dgm:pt>
    <dgm:pt modelId="{248B2DC9-AE84-4478-9C4C-A0555ACBD3E7}" type="parTrans" cxnId="{30521A2A-988D-4959-BE57-0720912DE77F}">
      <dgm:prSet/>
      <dgm:spPr>
        <a:solidFill>
          <a:schemeClr val="accent6">
            <a:lumMod val="20000"/>
            <a:lumOff val="80000"/>
          </a:schemeClr>
        </a:solidFill>
        <a:ln>
          <a:solidFill>
            <a:schemeClr val="accent6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E9E580DC-8F5D-4B78-833A-26276517C282}" type="sibTrans" cxnId="{30521A2A-988D-4959-BE57-0720912DE77F}">
      <dgm:prSet/>
      <dgm:spPr/>
      <dgm:t>
        <a:bodyPr/>
        <a:lstStyle/>
        <a:p>
          <a:endParaRPr lang="ru-RU"/>
        </a:p>
      </dgm:t>
    </dgm:pt>
    <dgm:pt modelId="{B5AD813D-72C6-4A6E-9991-9293E2EA77B0}">
      <dgm:prSet phldrT="[Текст]"/>
      <dgm:spPr/>
      <dgm:t>
        <a:bodyPr/>
        <a:lstStyle/>
        <a:p>
          <a:r>
            <a:rPr lang="ru-RU" smtClean="0"/>
            <a:t>вид </a:t>
          </a:r>
          <a:r>
            <a:rPr lang="ru-RU" dirty="0" smtClean="0"/>
            <a:t>деятельности</a:t>
          </a:r>
          <a:endParaRPr lang="ru-RU" dirty="0"/>
        </a:p>
      </dgm:t>
    </dgm:pt>
    <dgm:pt modelId="{B0AF35CA-18E5-41D1-B89B-8C377F9246C7}" type="parTrans" cxnId="{ED405505-684D-4813-B890-8272B6181B24}">
      <dgm:prSet/>
      <dgm:spPr>
        <a:solidFill>
          <a:schemeClr val="accent6">
            <a:lumMod val="20000"/>
            <a:lumOff val="80000"/>
          </a:schemeClr>
        </a:solidFill>
        <a:ln>
          <a:solidFill>
            <a:schemeClr val="accent6">
              <a:lumMod val="60000"/>
              <a:lumOff val="40000"/>
            </a:schemeClr>
          </a:solidFill>
        </a:ln>
      </dgm:spPr>
      <dgm:t>
        <a:bodyPr/>
        <a:lstStyle/>
        <a:p>
          <a:endParaRPr lang="ru-RU"/>
        </a:p>
      </dgm:t>
    </dgm:pt>
    <dgm:pt modelId="{4BA5BB39-A98E-4B48-BE9B-F9530833D0EA}" type="sibTrans" cxnId="{ED405505-684D-4813-B890-8272B6181B24}">
      <dgm:prSet/>
      <dgm:spPr/>
      <dgm:t>
        <a:bodyPr/>
        <a:lstStyle/>
        <a:p>
          <a:endParaRPr lang="ru-RU"/>
        </a:p>
      </dgm:t>
    </dgm:pt>
    <dgm:pt modelId="{6477465C-EB28-4997-91B3-31E57C4D01F9}">
      <dgm:prSet phldrT="[Текст]"/>
      <dgm:spPr/>
      <dgm:t>
        <a:bodyPr/>
        <a:lstStyle/>
        <a:p>
          <a:r>
            <a:rPr lang="ru-RU" smtClean="0"/>
            <a:t>актуальность </a:t>
          </a:r>
          <a:r>
            <a:rPr lang="ru-RU" dirty="0" smtClean="0"/>
            <a:t>угроз безопасности ПДн</a:t>
          </a:r>
          <a:endParaRPr lang="ru-RU" dirty="0"/>
        </a:p>
      </dgm:t>
    </dgm:pt>
    <dgm:pt modelId="{710ECD8D-FD7E-4FD6-9F23-9305E02E76A0}" type="parTrans" cxnId="{53D0968E-C356-4E33-A00E-B4C14A6E7877}">
      <dgm:prSet/>
      <dgm:spPr/>
      <dgm:t>
        <a:bodyPr/>
        <a:lstStyle/>
        <a:p>
          <a:endParaRPr lang="ru-RU"/>
        </a:p>
      </dgm:t>
    </dgm:pt>
    <dgm:pt modelId="{3ABA046F-05C0-45FF-B00D-0C6FE972EE59}" type="sibTrans" cxnId="{53D0968E-C356-4E33-A00E-B4C14A6E7877}">
      <dgm:prSet/>
      <dgm:spPr/>
      <dgm:t>
        <a:bodyPr/>
        <a:lstStyle/>
        <a:p>
          <a:endParaRPr lang="ru-RU"/>
        </a:p>
      </dgm:t>
    </dgm:pt>
    <dgm:pt modelId="{6CE00369-B6BF-4C66-8230-190E9A595440}" type="pres">
      <dgm:prSet presAssocID="{D9D90527-BA63-4959-A71F-9393599AF9BC}" presName="cycle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9480098-A584-4DB2-948B-10E4570DDE42}" type="pres">
      <dgm:prSet presAssocID="{129EEFEA-3FD4-4B62-869A-CF276714AFF3}" presName="centerShape" presStyleLbl="node0" presStyleIdx="0" presStyleCnt="1"/>
      <dgm:spPr/>
      <dgm:t>
        <a:bodyPr/>
        <a:lstStyle/>
        <a:p>
          <a:endParaRPr lang="ru-RU"/>
        </a:p>
      </dgm:t>
    </dgm:pt>
    <dgm:pt modelId="{45918E47-8E7B-466F-9C7C-DF45FC64A36F}" type="pres">
      <dgm:prSet presAssocID="{352ECC79-21EA-449B-BAB8-CA40460ADFA7}" presName="parTrans" presStyleLbl="bgSibTrans2D1" presStyleIdx="0" presStyleCnt="5"/>
      <dgm:spPr/>
      <dgm:t>
        <a:bodyPr/>
        <a:lstStyle/>
        <a:p>
          <a:endParaRPr lang="ru-RU"/>
        </a:p>
      </dgm:t>
    </dgm:pt>
    <dgm:pt modelId="{5206CF5E-55FE-4790-ACD8-B07BD68F292D}" type="pres">
      <dgm:prSet presAssocID="{26B208DE-CBB8-4BF1-9E12-E945AC49556F}" presName="node" presStyleLbl="node1" presStyleIdx="0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9806B14-99D3-4FAE-A5D7-5D0A5BB8A2C1}" type="pres">
      <dgm:prSet presAssocID="{C0BD2A90-FC3D-4EB2-B4E4-90CCFC84BB77}" presName="parTrans" presStyleLbl="bgSibTrans2D1" presStyleIdx="1" presStyleCnt="5"/>
      <dgm:spPr/>
      <dgm:t>
        <a:bodyPr/>
        <a:lstStyle/>
        <a:p>
          <a:endParaRPr lang="ru-RU"/>
        </a:p>
      </dgm:t>
    </dgm:pt>
    <dgm:pt modelId="{DB9B445E-8345-407E-AC92-5144DD0C2C5F}" type="pres">
      <dgm:prSet presAssocID="{D30AD1C6-6DB9-4C8C-8D7F-8F8749624CDE}" presName="node" presStyleLbl="node1" presStyleIdx="1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8EC56F0-E8E8-4A2E-B906-A8D2F9C883FC}" type="pres">
      <dgm:prSet presAssocID="{248B2DC9-AE84-4478-9C4C-A0555ACBD3E7}" presName="parTrans" presStyleLbl="bgSibTrans2D1" presStyleIdx="2" presStyleCnt="5" custAng="17580000" custLinFactNeighborX="15240" custLinFactNeighborY="-25090"/>
      <dgm:spPr/>
      <dgm:t>
        <a:bodyPr/>
        <a:lstStyle/>
        <a:p>
          <a:endParaRPr lang="ru-RU"/>
        </a:p>
      </dgm:t>
    </dgm:pt>
    <dgm:pt modelId="{9D2424E4-7EB1-4824-834F-9C15C0A8A2B1}" type="pres">
      <dgm:prSet presAssocID="{D8786EF5-73EF-41F0-892A-234442A3D70F}" presName="node" presStyleLbl="node1" presStyleIdx="2" presStyleCnt="5" custRadScaleRad="100810" custRadScaleInc="-199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641383F-304A-4F9A-BA01-82A425AF67C2}" type="pres">
      <dgm:prSet presAssocID="{710ECD8D-FD7E-4FD6-9F23-9305E02E76A0}" presName="parTrans" presStyleLbl="bgSibTrans2D1" presStyleIdx="3" presStyleCnt="5"/>
      <dgm:spPr/>
      <dgm:t>
        <a:bodyPr/>
        <a:lstStyle/>
        <a:p>
          <a:endParaRPr lang="ru-RU"/>
        </a:p>
      </dgm:t>
    </dgm:pt>
    <dgm:pt modelId="{56725F12-09C4-4EDF-B805-AF866DCED5FF}" type="pres">
      <dgm:prSet presAssocID="{6477465C-EB28-4997-91B3-31E57C4D01F9}" presName="node" presStyleLbl="node1" presStyleIdx="3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599712D-0AF3-4483-BF37-0FCCE3CD700C}" type="pres">
      <dgm:prSet presAssocID="{B0AF35CA-18E5-41D1-B89B-8C377F9246C7}" presName="parTrans" presStyleLbl="bgSibTrans2D1" presStyleIdx="4" presStyleCnt="5" custAng="3780000" custLinFactNeighborX="45478" custLinFactNeighborY="-90267" custRadScaleRad="200022" custRadScaleInc="-2147483648"/>
      <dgm:spPr/>
      <dgm:t>
        <a:bodyPr/>
        <a:lstStyle/>
        <a:p>
          <a:endParaRPr lang="ru-RU"/>
        </a:p>
      </dgm:t>
    </dgm:pt>
    <dgm:pt modelId="{45BE6EB5-4899-43AA-8639-BC8CBAC46B57}" type="pres">
      <dgm:prSet presAssocID="{B5AD813D-72C6-4A6E-9991-9293E2EA77B0}" presName="node" presStyleLbl="node1" presStyleIdx="4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572A37C-D83F-4FA9-9FB9-197248130681}" type="presOf" srcId="{248B2DC9-AE84-4478-9C4C-A0555ACBD3E7}" destId="{18EC56F0-E8E8-4A2E-B906-A8D2F9C883FC}" srcOrd="0" destOrd="0" presId="urn:microsoft.com/office/officeart/2005/8/layout/radial4"/>
    <dgm:cxn modelId="{ED405505-684D-4813-B890-8272B6181B24}" srcId="{129EEFEA-3FD4-4B62-869A-CF276714AFF3}" destId="{B5AD813D-72C6-4A6E-9991-9293E2EA77B0}" srcOrd="4" destOrd="0" parTransId="{B0AF35CA-18E5-41D1-B89B-8C377F9246C7}" sibTransId="{4BA5BB39-A98E-4B48-BE9B-F9530833D0EA}"/>
    <dgm:cxn modelId="{E26A339B-23AD-4E31-B14C-1FCB82B5963E}" type="presOf" srcId="{D8786EF5-73EF-41F0-892A-234442A3D70F}" destId="{9D2424E4-7EB1-4824-834F-9C15C0A8A2B1}" srcOrd="0" destOrd="0" presId="urn:microsoft.com/office/officeart/2005/8/layout/radial4"/>
    <dgm:cxn modelId="{2C839BE9-0089-41EB-8800-9E7C71CC1511}" type="presOf" srcId="{129EEFEA-3FD4-4B62-869A-CF276714AFF3}" destId="{79480098-A584-4DB2-948B-10E4570DDE42}" srcOrd="0" destOrd="0" presId="urn:microsoft.com/office/officeart/2005/8/layout/radial4"/>
    <dgm:cxn modelId="{53D0968E-C356-4E33-A00E-B4C14A6E7877}" srcId="{129EEFEA-3FD4-4B62-869A-CF276714AFF3}" destId="{6477465C-EB28-4997-91B3-31E57C4D01F9}" srcOrd="3" destOrd="0" parTransId="{710ECD8D-FD7E-4FD6-9F23-9305E02E76A0}" sibTransId="{3ABA046F-05C0-45FF-B00D-0C6FE972EE59}"/>
    <dgm:cxn modelId="{D4751522-683A-41D0-9D2F-68512D2BB0A0}" srcId="{129EEFEA-3FD4-4B62-869A-CF276714AFF3}" destId="{D30AD1C6-6DB9-4C8C-8D7F-8F8749624CDE}" srcOrd="1" destOrd="0" parTransId="{C0BD2A90-FC3D-4EB2-B4E4-90CCFC84BB77}" sibTransId="{45365FFD-8E89-4A3B-B7A6-5052311B05B0}"/>
    <dgm:cxn modelId="{A516D3D0-74D3-4E70-8FA1-8CD3C9BD2A2B}" type="presOf" srcId="{710ECD8D-FD7E-4FD6-9F23-9305E02E76A0}" destId="{5641383F-304A-4F9A-BA01-82A425AF67C2}" srcOrd="0" destOrd="0" presId="urn:microsoft.com/office/officeart/2005/8/layout/radial4"/>
    <dgm:cxn modelId="{CA9F326C-07BC-43C3-96C3-0008B10AC018}" type="presOf" srcId="{6477465C-EB28-4997-91B3-31E57C4D01F9}" destId="{56725F12-09C4-4EDF-B805-AF866DCED5FF}" srcOrd="0" destOrd="0" presId="urn:microsoft.com/office/officeart/2005/8/layout/radial4"/>
    <dgm:cxn modelId="{36C1A1AC-887B-498B-AC5A-48CBD232247B}" type="presOf" srcId="{D9D90527-BA63-4959-A71F-9393599AF9BC}" destId="{6CE00369-B6BF-4C66-8230-190E9A595440}" srcOrd="0" destOrd="0" presId="urn:microsoft.com/office/officeart/2005/8/layout/radial4"/>
    <dgm:cxn modelId="{30521A2A-988D-4959-BE57-0720912DE77F}" srcId="{129EEFEA-3FD4-4B62-869A-CF276714AFF3}" destId="{D8786EF5-73EF-41F0-892A-234442A3D70F}" srcOrd="2" destOrd="0" parTransId="{248B2DC9-AE84-4478-9C4C-A0555ACBD3E7}" sibTransId="{E9E580DC-8F5D-4B78-833A-26276517C282}"/>
    <dgm:cxn modelId="{9F92E07D-6FE3-4FE8-A77A-710C2F20B612}" type="presOf" srcId="{C0BD2A90-FC3D-4EB2-B4E4-90CCFC84BB77}" destId="{59806B14-99D3-4FAE-A5D7-5D0A5BB8A2C1}" srcOrd="0" destOrd="0" presId="urn:microsoft.com/office/officeart/2005/8/layout/radial4"/>
    <dgm:cxn modelId="{4E3C7882-ADE1-472C-B8AF-164C65F6099E}" type="presOf" srcId="{26B208DE-CBB8-4BF1-9E12-E945AC49556F}" destId="{5206CF5E-55FE-4790-ACD8-B07BD68F292D}" srcOrd="0" destOrd="0" presId="urn:microsoft.com/office/officeart/2005/8/layout/radial4"/>
    <dgm:cxn modelId="{48EC496D-0BF9-45C6-81FC-C9AF8636ADF7}" type="presOf" srcId="{352ECC79-21EA-449B-BAB8-CA40460ADFA7}" destId="{45918E47-8E7B-466F-9C7C-DF45FC64A36F}" srcOrd="0" destOrd="0" presId="urn:microsoft.com/office/officeart/2005/8/layout/radial4"/>
    <dgm:cxn modelId="{4962ED34-2019-4A32-AAD7-BDE267EBF4BA}" srcId="{D9D90527-BA63-4959-A71F-9393599AF9BC}" destId="{129EEFEA-3FD4-4B62-869A-CF276714AFF3}" srcOrd="0" destOrd="0" parTransId="{ADD158B2-BD8B-4B3B-8C67-0FBB5C807DB4}" sibTransId="{3D0A483F-E622-4838-A49C-8C83E8967E15}"/>
    <dgm:cxn modelId="{B22FD4BC-0D41-43C6-B6FE-372FA3080D20}" type="presOf" srcId="{B5AD813D-72C6-4A6E-9991-9293E2EA77B0}" destId="{45BE6EB5-4899-43AA-8639-BC8CBAC46B57}" srcOrd="0" destOrd="0" presId="urn:microsoft.com/office/officeart/2005/8/layout/radial4"/>
    <dgm:cxn modelId="{4C8B700C-831C-4F6C-BE69-DC43C704AC44}" srcId="{129EEFEA-3FD4-4B62-869A-CF276714AFF3}" destId="{26B208DE-CBB8-4BF1-9E12-E945AC49556F}" srcOrd="0" destOrd="0" parTransId="{352ECC79-21EA-449B-BAB8-CA40460ADFA7}" sibTransId="{C54007A4-4770-43B5-8B16-7883E4BBD051}"/>
    <dgm:cxn modelId="{FED464AF-62B0-4853-98BA-AD81D06296C7}" type="presOf" srcId="{B0AF35CA-18E5-41D1-B89B-8C377F9246C7}" destId="{6599712D-0AF3-4483-BF37-0FCCE3CD700C}" srcOrd="0" destOrd="0" presId="urn:microsoft.com/office/officeart/2005/8/layout/radial4"/>
    <dgm:cxn modelId="{375B9168-C995-4ACA-8AE7-FD1B83DB785F}" type="presOf" srcId="{D30AD1C6-6DB9-4C8C-8D7F-8F8749624CDE}" destId="{DB9B445E-8345-407E-AC92-5144DD0C2C5F}" srcOrd="0" destOrd="0" presId="urn:microsoft.com/office/officeart/2005/8/layout/radial4"/>
    <dgm:cxn modelId="{9F495E47-0290-487C-A3E3-E5E011EB6604}" type="presParOf" srcId="{6CE00369-B6BF-4C66-8230-190E9A595440}" destId="{79480098-A584-4DB2-948B-10E4570DDE42}" srcOrd="0" destOrd="0" presId="urn:microsoft.com/office/officeart/2005/8/layout/radial4"/>
    <dgm:cxn modelId="{EAAF01B5-B563-447F-AAF8-53FE76410852}" type="presParOf" srcId="{6CE00369-B6BF-4C66-8230-190E9A595440}" destId="{45918E47-8E7B-466F-9C7C-DF45FC64A36F}" srcOrd="1" destOrd="0" presId="urn:microsoft.com/office/officeart/2005/8/layout/radial4"/>
    <dgm:cxn modelId="{75B22086-6BE5-485D-9BA5-D495C4EC7A63}" type="presParOf" srcId="{6CE00369-B6BF-4C66-8230-190E9A595440}" destId="{5206CF5E-55FE-4790-ACD8-B07BD68F292D}" srcOrd="2" destOrd="0" presId="urn:microsoft.com/office/officeart/2005/8/layout/radial4"/>
    <dgm:cxn modelId="{587A77BE-52EA-4917-8A6D-DA7B7ACFC0B5}" type="presParOf" srcId="{6CE00369-B6BF-4C66-8230-190E9A595440}" destId="{59806B14-99D3-4FAE-A5D7-5D0A5BB8A2C1}" srcOrd="3" destOrd="0" presId="urn:microsoft.com/office/officeart/2005/8/layout/radial4"/>
    <dgm:cxn modelId="{96AB8567-6263-4F2E-A625-C8CFDC4299F3}" type="presParOf" srcId="{6CE00369-B6BF-4C66-8230-190E9A595440}" destId="{DB9B445E-8345-407E-AC92-5144DD0C2C5F}" srcOrd="4" destOrd="0" presId="urn:microsoft.com/office/officeart/2005/8/layout/radial4"/>
    <dgm:cxn modelId="{EDE13054-6948-4500-AED7-0D23F01F3510}" type="presParOf" srcId="{6CE00369-B6BF-4C66-8230-190E9A595440}" destId="{18EC56F0-E8E8-4A2E-B906-A8D2F9C883FC}" srcOrd="5" destOrd="0" presId="urn:microsoft.com/office/officeart/2005/8/layout/radial4"/>
    <dgm:cxn modelId="{B981125E-ED01-4397-9901-18F214D0EC57}" type="presParOf" srcId="{6CE00369-B6BF-4C66-8230-190E9A595440}" destId="{9D2424E4-7EB1-4824-834F-9C15C0A8A2B1}" srcOrd="6" destOrd="0" presId="urn:microsoft.com/office/officeart/2005/8/layout/radial4"/>
    <dgm:cxn modelId="{C586F762-6F3F-490F-9FA4-5B5792440896}" type="presParOf" srcId="{6CE00369-B6BF-4C66-8230-190E9A595440}" destId="{5641383F-304A-4F9A-BA01-82A425AF67C2}" srcOrd="7" destOrd="0" presId="urn:microsoft.com/office/officeart/2005/8/layout/radial4"/>
    <dgm:cxn modelId="{13D2FFF0-EAAF-4A3D-96B1-AFD3CF28C36D}" type="presParOf" srcId="{6CE00369-B6BF-4C66-8230-190E9A595440}" destId="{56725F12-09C4-4EDF-B805-AF866DCED5FF}" srcOrd="8" destOrd="0" presId="urn:microsoft.com/office/officeart/2005/8/layout/radial4"/>
    <dgm:cxn modelId="{4E67DC4E-633C-433A-AA2B-6AC94C10E154}" type="presParOf" srcId="{6CE00369-B6BF-4C66-8230-190E9A595440}" destId="{6599712D-0AF3-4483-BF37-0FCCE3CD700C}" srcOrd="9" destOrd="0" presId="urn:microsoft.com/office/officeart/2005/8/layout/radial4"/>
    <dgm:cxn modelId="{B6151506-E520-464E-965D-13351B83A820}" type="presParOf" srcId="{6CE00369-B6BF-4C66-8230-190E9A595440}" destId="{45BE6EB5-4899-43AA-8639-BC8CBAC46B57}" srcOrd="10" destOrd="0" presId="urn:microsoft.com/office/officeart/2005/8/layout/radial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1213566-95F3-43B6-8B3D-C8EB553E2694}">
      <dsp:nvSpPr>
        <dsp:cNvPr id="0" name=""/>
        <dsp:cNvSpPr/>
      </dsp:nvSpPr>
      <dsp:spPr>
        <a:xfrm>
          <a:off x="1629327" y="190787"/>
          <a:ext cx="3786388" cy="1314962"/>
        </a:xfrm>
        <a:prstGeom prst="ellipse">
          <a:avLst/>
        </a:prstGeom>
        <a:solidFill>
          <a:schemeClr val="accent5">
            <a:tint val="50000"/>
            <a:alpha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08405A5B-8A6F-4A0D-936E-DBA2C193CB9D}">
      <dsp:nvSpPr>
        <dsp:cNvPr id="0" name=""/>
        <dsp:cNvSpPr/>
      </dsp:nvSpPr>
      <dsp:spPr>
        <a:xfrm>
          <a:off x="3161493" y="3410684"/>
          <a:ext cx="733796" cy="469629"/>
        </a:xfrm>
        <a:prstGeom prst="downArrow">
          <a:avLst/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8D1E84A-9746-4088-8FD7-4209965EA33A}">
      <dsp:nvSpPr>
        <dsp:cNvPr id="0" name=""/>
        <dsp:cNvSpPr/>
      </dsp:nvSpPr>
      <dsp:spPr>
        <a:xfrm>
          <a:off x="1767281" y="3786388"/>
          <a:ext cx="3522222" cy="880555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>
              <a:solidFill>
                <a:srgbClr val="1485A0"/>
              </a:solidFill>
            </a:rPr>
            <a:t>Требования к защите ПДн </a:t>
          </a:r>
          <a:br>
            <a:rPr lang="ru-RU" sz="1400" b="1" kern="1200" dirty="0" smtClean="0">
              <a:solidFill>
                <a:srgbClr val="1485A0"/>
              </a:solidFill>
            </a:rPr>
          </a:br>
          <a:r>
            <a:rPr lang="ru-RU" sz="1400" b="1" kern="1200" dirty="0" smtClean="0">
              <a:solidFill>
                <a:srgbClr val="1485A0"/>
              </a:solidFill>
            </a:rPr>
            <a:t>при их обработке в ИСПДн</a:t>
          </a:r>
          <a:endParaRPr lang="ru-RU" sz="1400" b="1" kern="1200" dirty="0">
            <a:solidFill>
              <a:srgbClr val="1485A0"/>
            </a:solidFill>
          </a:endParaRPr>
        </a:p>
      </dsp:txBody>
      <dsp:txXfrm>
        <a:off x="1767281" y="3786388"/>
        <a:ext cx="3522222" cy="880555"/>
      </dsp:txXfrm>
    </dsp:sp>
    <dsp:sp modelId="{BD8B7327-4C4D-499D-AE3D-4F74BC1A65FA}">
      <dsp:nvSpPr>
        <dsp:cNvPr id="0" name=""/>
        <dsp:cNvSpPr/>
      </dsp:nvSpPr>
      <dsp:spPr>
        <a:xfrm>
          <a:off x="3005929" y="1607307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5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b="1" kern="1200" dirty="0" smtClean="0"/>
            <a:t>Классификация ИСПДн</a:t>
          </a:r>
          <a:endParaRPr lang="ru-RU" sz="1000" b="1" kern="1200" dirty="0"/>
        </a:p>
      </dsp:txBody>
      <dsp:txXfrm>
        <a:off x="3199361" y="1800739"/>
        <a:ext cx="933969" cy="933969"/>
      </dsp:txXfrm>
    </dsp:sp>
    <dsp:sp modelId="{61170A7A-6B9D-48D9-BEB6-17E5EEAE60E5}">
      <dsp:nvSpPr>
        <dsp:cNvPr id="0" name=""/>
        <dsp:cNvSpPr/>
      </dsp:nvSpPr>
      <dsp:spPr>
        <a:xfrm>
          <a:off x="2060799" y="616388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5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kern="1200" dirty="0" smtClean="0"/>
            <a:t>Оценка вреда субъекту ПДн</a:t>
          </a:r>
          <a:endParaRPr lang="ru-RU" sz="1000" b="0" kern="1200" dirty="0"/>
        </a:p>
      </dsp:txBody>
      <dsp:txXfrm>
        <a:off x="2254231" y="809820"/>
        <a:ext cx="933969" cy="933969"/>
      </dsp:txXfrm>
    </dsp:sp>
    <dsp:sp modelId="{FE86A533-B05A-4563-8EAF-28B8F98B13B9}">
      <dsp:nvSpPr>
        <dsp:cNvPr id="0" name=""/>
        <dsp:cNvSpPr/>
      </dsp:nvSpPr>
      <dsp:spPr>
        <a:xfrm>
          <a:off x="3410984" y="297040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5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kern="1200" dirty="0" smtClean="0"/>
            <a:t>Моделирование угроз безопасности ПДн</a:t>
          </a:r>
          <a:endParaRPr lang="ru-RU" sz="1000" kern="1200" dirty="0"/>
        </a:p>
      </dsp:txBody>
      <dsp:txXfrm>
        <a:off x="3604416" y="490472"/>
        <a:ext cx="933969" cy="933969"/>
      </dsp:txXfrm>
    </dsp:sp>
    <dsp:sp modelId="{F3F3C5F2-F973-4718-B999-56B5061D0660}">
      <dsp:nvSpPr>
        <dsp:cNvPr id="0" name=""/>
        <dsp:cNvSpPr/>
      </dsp:nvSpPr>
      <dsp:spPr>
        <a:xfrm>
          <a:off x="1473762" y="29351"/>
          <a:ext cx="4109259" cy="3287407"/>
        </a:xfrm>
        <a:prstGeom prst="funnel">
          <a:avLst/>
        </a:prstGeom>
        <a:solidFill>
          <a:schemeClr val="accent5">
            <a:alpha val="40000"/>
            <a:tint val="4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1213566-95F3-43B6-8B3D-C8EB553E2694}">
      <dsp:nvSpPr>
        <dsp:cNvPr id="0" name=""/>
        <dsp:cNvSpPr/>
      </dsp:nvSpPr>
      <dsp:spPr>
        <a:xfrm>
          <a:off x="1629327" y="190787"/>
          <a:ext cx="3786388" cy="1314962"/>
        </a:xfrm>
        <a:prstGeom prst="ellipse">
          <a:avLst/>
        </a:prstGeom>
        <a:solidFill>
          <a:schemeClr val="accent6">
            <a:tint val="50000"/>
            <a:alpha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08405A5B-8A6F-4A0D-936E-DBA2C193CB9D}">
      <dsp:nvSpPr>
        <dsp:cNvPr id="0" name=""/>
        <dsp:cNvSpPr/>
      </dsp:nvSpPr>
      <dsp:spPr>
        <a:xfrm>
          <a:off x="3161493" y="3410684"/>
          <a:ext cx="733796" cy="469629"/>
        </a:xfrm>
        <a:prstGeom prst="downArrow">
          <a:avLst/>
        </a:prstGeom>
        <a:solidFill>
          <a:schemeClr val="accent6">
            <a:tint val="6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8D1E84A-9746-4088-8FD7-4209965EA33A}">
      <dsp:nvSpPr>
        <dsp:cNvPr id="0" name=""/>
        <dsp:cNvSpPr/>
      </dsp:nvSpPr>
      <dsp:spPr>
        <a:xfrm>
          <a:off x="1767281" y="3786388"/>
          <a:ext cx="3522222" cy="880555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ctr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400" b="1" kern="1200" dirty="0" smtClean="0">
              <a:solidFill>
                <a:schemeClr val="accent6">
                  <a:lumMod val="75000"/>
                </a:schemeClr>
              </a:solidFill>
            </a:rPr>
            <a:t>Требования к защите ПДн </a:t>
          </a:r>
          <a:br>
            <a:rPr lang="ru-RU" sz="1400" b="1" kern="1200" dirty="0" smtClean="0">
              <a:solidFill>
                <a:schemeClr val="accent6">
                  <a:lumMod val="75000"/>
                </a:schemeClr>
              </a:solidFill>
            </a:rPr>
          </a:br>
          <a:r>
            <a:rPr lang="ru-RU" sz="1400" b="1" kern="1200" dirty="0" smtClean="0">
              <a:solidFill>
                <a:schemeClr val="accent6">
                  <a:lumMod val="75000"/>
                </a:schemeClr>
              </a:solidFill>
            </a:rPr>
            <a:t>при их обработке в ИСПДн</a:t>
          </a:r>
          <a:endParaRPr lang="ru-RU" sz="1400" b="1" kern="1200" dirty="0">
            <a:solidFill>
              <a:schemeClr val="accent6">
                <a:lumMod val="75000"/>
              </a:schemeClr>
            </a:solidFill>
          </a:endParaRPr>
        </a:p>
      </dsp:txBody>
      <dsp:txXfrm>
        <a:off x="1767281" y="3786388"/>
        <a:ext cx="3522222" cy="880555"/>
      </dsp:txXfrm>
    </dsp:sp>
    <dsp:sp modelId="{BD8B7327-4C4D-499D-AE3D-4F74BC1A65FA}">
      <dsp:nvSpPr>
        <dsp:cNvPr id="0" name=""/>
        <dsp:cNvSpPr/>
      </dsp:nvSpPr>
      <dsp:spPr>
        <a:xfrm>
          <a:off x="3005929" y="1607307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6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b="1" kern="1200" dirty="0" smtClean="0"/>
            <a:t>Определение уровня защищенности ПДн</a:t>
          </a:r>
          <a:endParaRPr lang="ru-RU" sz="1000" b="1" kern="1200" dirty="0"/>
        </a:p>
      </dsp:txBody>
      <dsp:txXfrm>
        <a:off x="3199361" y="1800739"/>
        <a:ext cx="933969" cy="933969"/>
      </dsp:txXfrm>
    </dsp:sp>
    <dsp:sp modelId="{61170A7A-6B9D-48D9-BEB6-17E5EEAE60E5}">
      <dsp:nvSpPr>
        <dsp:cNvPr id="0" name=""/>
        <dsp:cNvSpPr/>
      </dsp:nvSpPr>
      <dsp:spPr>
        <a:xfrm>
          <a:off x="2060799" y="616388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6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kern="1200" dirty="0" smtClean="0"/>
            <a:t>Оценка вреда субъекту ПДн</a:t>
          </a:r>
          <a:endParaRPr lang="ru-RU" sz="1000" kern="1200" dirty="0"/>
        </a:p>
      </dsp:txBody>
      <dsp:txXfrm>
        <a:off x="2254231" y="809820"/>
        <a:ext cx="933969" cy="933969"/>
      </dsp:txXfrm>
    </dsp:sp>
    <dsp:sp modelId="{FE86A533-B05A-4563-8EAF-28B8F98B13B9}">
      <dsp:nvSpPr>
        <dsp:cNvPr id="0" name=""/>
        <dsp:cNvSpPr/>
      </dsp:nvSpPr>
      <dsp:spPr>
        <a:xfrm>
          <a:off x="3410984" y="297040"/>
          <a:ext cx="1320833" cy="1320833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6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700" tIns="12700" rIns="12700" bIns="1270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000" kern="1200" dirty="0" smtClean="0"/>
            <a:t>Моделирование угроз безопасности ПДн</a:t>
          </a:r>
          <a:endParaRPr lang="ru-RU" sz="1000" kern="1200" dirty="0"/>
        </a:p>
      </dsp:txBody>
      <dsp:txXfrm>
        <a:off x="3604416" y="490472"/>
        <a:ext cx="933969" cy="933969"/>
      </dsp:txXfrm>
    </dsp:sp>
    <dsp:sp modelId="{F3F3C5F2-F973-4718-B999-56B5061D0660}">
      <dsp:nvSpPr>
        <dsp:cNvPr id="0" name=""/>
        <dsp:cNvSpPr/>
      </dsp:nvSpPr>
      <dsp:spPr>
        <a:xfrm>
          <a:off x="1473762" y="29351"/>
          <a:ext cx="4109259" cy="3287407"/>
        </a:xfrm>
        <a:prstGeom prst="funnel">
          <a:avLst/>
        </a:prstGeom>
        <a:solidFill>
          <a:schemeClr val="accent6">
            <a:alpha val="40000"/>
            <a:tint val="4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6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9480098-A584-4DB2-948B-10E4570DDE42}">
      <dsp:nvSpPr>
        <dsp:cNvPr id="0" name=""/>
        <dsp:cNvSpPr/>
      </dsp:nvSpPr>
      <dsp:spPr>
        <a:xfrm>
          <a:off x="2807552" y="2822472"/>
          <a:ext cx="1945734" cy="194573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160" tIns="10160" rIns="10160" bIns="101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Уровень защищенности ПДн</a:t>
          </a:r>
          <a:endParaRPr lang="ru-RU" sz="1600" kern="1200" dirty="0"/>
        </a:p>
      </dsp:txBody>
      <dsp:txXfrm>
        <a:off x="3092498" y="3107418"/>
        <a:ext cx="1375842" cy="1375842"/>
      </dsp:txXfrm>
    </dsp:sp>
    <dsp:sp modelId="{45918E47-8E7B-466F-9C7C-DF45FC64A36F}">
      <dsp:nvSpPr>
        <dsp:cNvPr id="0" name=""/>
        <dsp:cNvSpPr/>
      </dsp:nvSpPr>
      <dsp:spPr>
        <a:xfrm rot="10800000">
          <a:off x="924802" y="3518073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5206CF5E-55FE-4790-ACD8-B07BD68F292D}">
      <dsp:nvSpPr>
        <dsp:cNvPr id="0" name=""/>
        <dsp:cNvSpPr/>
      </dsp:nvSpPr>
      <dsp:spPr>
        <a:xfrm>
          <a:off x="578" y="3055961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объем ПДн</a:t>
          </a:r>
          <a:endParaRPr lang="ru-RU" sz="2200" kern="1200" dirty="0"/>
        </a:p>
      </dsp:txBody>
      <dsp:txXfrm>
        <a:off x="43889" y="3099272"/>
        <a:ext cx="1761826" cy="1392136"/>
      </dsp:txXfrm>
    </dsp:sp>
    <dsp:sp modelId="{59806B14-99D3-4FAE-A5D7-5D0A5BB8A2C1}">
      <dsp:nvSpPr>
        <dsp:cNvPr id="0" name=""/>
        <dsp:cNvSpPr/>
      </dsp:nvSpPr>
      <dsp:spPr>
        <a:xfrm rot="13500000">
          <a:off x="1500636" y="2127888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DB9B445E-8345-407E-AC92-5144DD0C2C5F}">
      <dsp:nvSpPr>
        <dsp:cNvPr id="0" name=""/>
        <dsp:cNvSpPr/>
      </dsp:nvSpPr>
      <dsp:spPr>
        <a:xfrm>
          <a:off x="836969" y="1036734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содержание ПДн</a:t>
          </a:r>
          <a:endParaRPr lang="ru-RU" sz="2200" kern="1200" dirty="0"/>
        </a:p>
      </dsp:txBody>
      <dsp:txXfrm>
        <a:off x="880280" y="1080045"/>
        <a:ext cx="1761826" cy="1392136"/>
      </dsp:txXfrm>
    </dsp:sp>
    <dsp:sp modelId="{18EC56F0-E8E8-4A2E-B906-A8D2F9C883FC}">
      <dsp:nvSpPr>
        <dsp:cNvPr id="0" name=""/>
        <dsp:cNvSpPr/>
      </dsp:nvSpPr>
      <dsp:spPr>
        <a:xfrm rot="16200000">
          <a:off x="2890820" y="1552055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9D2424E4-7EB1-4824-834F-9C15C0A8A2B1}">
      <dsp:nvSpPr>
        <dsp:cNvPr id="0" name=""/>
        <dsp:cNvSpPr/>
      </dsp:nvSpPr>
      <dsp:spPr>
        <a:xfrm>
          <a:off x="2856195" y="200344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возможный вред субъекту ПДн</a:t>
          </a:r>
          <a:endParaRPr lang="ru-RU" sz="2200" kern="1200" dirty="0"/>
        </a:p>
      </dsp:txBody>
      <dsp:txXfrm>
        <a:off x="2899506" y="243655"/>
        <a:ext cx="1761826" cy="1392136"/>
      </dsp:txXfrm>
    </dsp:sp>
    <dsp:sp modelId="{5641383F-304A-4F9A-BA01-82A425AF67C2}">
      <dsp:nvSpPr>
        <dsp:cNvPr id="0" name=""/>
        <dsp:cNvSpPr/>
      </dsp:nvSpPr>
      <dsp:spPr>
        <a:xfrm rot="18900000">
          <a:off x="4281005" y="2127888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56725F12-09C4-4EDF-B805-AF866DCED5FF}">
      <dsp:nvSpPr>
        <dsp:cNvPr id="0" name=""/>
        <dsp:cNvSpPr/>
      </dsp:nvSpPr>
      <dsp:spPr>
        <a:xfrm>
          <a:off x="4875422" y="1036734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smtClean="0"/>
            <a:t>актуальность </a:t>
          </a:r>
          <a:r>
            <a:rPr lang="ru-RU" sz="2200" kern="1200" dirty="0" smtClean="0"/>
            <a:t>угроз безопасности ПДн</a:t>
          </a:r>
          <a:endParaRPr lang="ru-RU" sz="2200" kern="1200" dirty="0"/>
        </a:p>
      </dsp:txBody>
      <dsp:txXfrm>
        <a:off x="4918733" y="1080045"/>
        <a:ext cx="1761826" cy="1392136"/>
      </dsp:txXfrm>
    </dsp:sp>
    <dsp:sp modelId="{6599712D-0AF3-4483-BF37-0FCCE3CD700C}">
      <dsp:nvSpPr>
        <dsp:cNvPr id="0" name=""/>
        <dsp:cNvSpPr/>
      </dsp:nvSpPr>
      <dsp:spPr>
        <a:xfrm>
          <a:off x="4856838" y="3518073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45BE6EB5-4899-43AA-8639-BC8CBAC46B57}">
      <dsp:nvSpPr>
        <dsp:cNvPr id="0" name=""/>
        <dsp:cNvSpPr/>
      </dsp:nvSpPr>
      <dsp:spPr>
        <a:xfrm>
          <a:off x="5711812" y="3055961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smtClean="0"/>
            <a:t>вид </a:t>
          </a:r>
          <a:r>
            <a:rPr lang="ru-RU" sz="2200" kern="1200" dirty="0" smtClean="0"/>
            <a:t>деятельности</a:t>
          </a:r>
          <a:endParaRPr lang="ru-RU" sz="2200" kern="1200" dirty="0"/>
        </a:p>
      </dsp:txBody>
      <dsp:txXfrm>
        <a:off x="5755123" y="3099272"/>
        <a:ext cx="1761826" cy="1392136"/>
      </dsp:txXfrm>
    </dsp:sp>
  </dsp:spTree>
</dsp:drawing>
</file>

<file path=ppt/diagrams/drawing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79480098-A584-4DB2-948B-10E4570DDE42}">
      <dsp:nvSpPr>
        <dsp:cNvPr id="0" name=""/>
        <dsp:cNvSpPr/>
      </dsp:nvSpPr>
      <dsp:spPr>
        <a:xfrm>
          <a:off x="2807552" y="2822472"/>
          <a:ext cx="1945734" cy="194573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0160" tIns="10160" rIns="10160" bIns="10160" numCol="1" spcCol="1270" anchor="ctr" anchorCtr="0">
          <a:noAutofit/>
        </a:bodyPr>
        <a:lstStyle/>
        <a:p>
          <a:pPr lvl="0" algn="ctr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Уровень защищенности ПДн</a:t>
          </a:r>
          <a:endParaRPr lang="ru-RU" sz="1600" kern="1200" dirty="0"/>
        </a:p>
      </dsp:txBody>
      <dsp:txXfrm>
        <a:off x="3092498" y="3107418"/>
        <a:ext cx="1375842" cy="1375842"/>
      </dsp:txXfrm>
    </dsp:sp>
    <dsp:sp modelId="{45918E47-8E7B-466F-9C7C-DF45FC64A36F}">
      <dsp:nvSpPr>
        <dsp:cNvPr id="0" name=""/>
        <dsp:cNvSpPr/>
      </dsp:nvSpPr>
      <dsp:spPr>
        <a:xfrm rot="10800000">
          <a:off x="924802" y="3518073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5206CF5E-55FE-4790-ACD8-B07BD68F292D}">
      <dsp:nvSpPr>
        <dsp:cNvPr id="0" name=""/>
        <dsp:cNvSpPr/>
      </dsp:nvSpPr>
      <dsp:spPr>
        <a:xfrm>
          <a:off x="578" y="3055961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объем ПДн</a:t>
          </a:r>
          <a:endParaRPr lang="ru-RU" sz="2200" kern="1200" dirty="0"/>
        </a:p>
      </dsp:txBody>
      <dsp:txXfrm>
        <a:off x="43889" y="3099272"/>
        <a:ext cx="1761826" cy="1392136"/>
      </dsp:txXfrm>
    </dsp:sp>
    <dsp:sp modelId="{59806B14-99D3-4FAE-A5D7-5D0A5BB8A2C1}">
      <dsp:nvSpPr>
        <dsp:cNvPr id="0" name=""/>
        <dsp:cNvSpPr/>
      </dsp:nvSpPr>
      <dsp:spPr>
        <a:xfrm rot="13500000">
          <a:off x="1500636" y="2127888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DB9B445E-8345-407E-AC92-5144DD0C2C5F}">
      <dsp:nvSpPr>
        <dsp:cNvPr id="0" name=""/>
        <dsp:cNvSpPr/>
      </dsp:nvSpPr>
      <dsp:spPr>
        <a:xfrm>
          <a:off x="836969" y="1036734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содержание ПДн</a:t>
          </a:r>
          <a:endParaRPr lang="ru-RU" sz="2200" kern="1200" dirty="0"/>
        </a:p>
      </dsp:txBody>
      <dsp:txXfrm>
        <a:off x="880280" y="1080045"/>
        <a:ext cx="1761826" cy="1392136"/>
      </dsp:txXfrm>
    </dsp:sp>
    <dsp:sp modelId="{18EC56F0-E8E8-4A2E-B906-A8D2F9C883FC}">
      <dsp:nvSpPr>
        <dsp:cNvPr id="0" name=""/>
        <dsp:cNvSpPr/>
      </dsp:nvSpPr>
      <dsp:spPr>
        <a:xfrm rot="12136973">
          <a:off x="3129613" y="1400876"/>
          <a:ext cx="1801056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6">
            <a:lumMod val="20000"/>
            <a:lumOff val="80000"/>
          </a:schemeClr>
        </a:solidFill>
        <a:ln w="9525" cap="flat" cmpd="sng" algn="ctr">
          <a:solidFill>
            <a:schemeClr val="accent6">
              <a:lumMod val="60000"/>
              <a:lumOff val="4000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9D2424E4-7EB1-4824-834F-9C15C0A8A2B1}">
      <dsp:nvSpPr>
        <dsp:cNvPr id="0" name=""/>
        <dsp:cNvSpPr/>
      </dsp:nvSpPr>
      <dsp:spPr>
        <a:xfrm>
          <a:off x="2820166" y="177439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возможный вред субъекту ПДн</a:t>
          </a:r>
          <a:endParaRPr lang="ru-RU" sz="2200" kern="1200" dirty="0"/>
        </a:p>
      </dsp:txBody>
      <dsp:txXfrm>
        <a:off x="2863477" y="220750"/>
        <a:ext cx="1761826" cy="1392136"/>
      </dsp:txXfrm>
    </dsp:sp>
    <dsp:sp modelId="{5641383F-304A-4F9A-BA01-82A425AF67C2}">
      <dsp:nvSpPr>
        <dsp:cNvPr id="0" name=""/>
        <dsp:cNvSpPr/>
      </dsp:nvSpPr>
      <dsp:spPr>
        <a:xfrm rot="18900000">
          <a:off x="4281005" y="2127888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5">
            <a:tint val="6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6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56725F12-09C4-4EDF-B805-AF866DCED5FF}">
      <dsp:nvSpPr>
        <dsp:cNvPr id="0" name=""/>
        <dsp:cNvSpPr/>
      </dsp:nvSpPr>
      <dsp:spPr>
        <a:xfrm>
          <a:off x="4875422" y="1036734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smtClean="0"/>
            <a:t>актуальность </a:t>
          </a:r>
          <a:r>
            <a:rPr lang="ru-RU" sz="2200" kern="1200" dirty="0" smtClean="0"/>
            <a:t>угроз безопасности ПДн</a:t>
          </a:r>
          <a:endParaRPr lang="ru-RU" sz="2200" kern="1200" dirty="0"/>
        </a:p>
      </dsp:txBody>
      <dsp:txXfrm>
        <a:off x="4918733" y="1080045"/>
        <a:ext cx="1761826" cy="1392136"/>
      </dsp:txXfrm>
    </dsp:sp>
    <dsp:sp modelId="{6599712D-0AF3-4483-BF37-0FCCE3CD700C}">
      <dsp:nvSpPr>
        <dsp:cNvPr id="0" name=""/>
        <dsp:cNvSpPr/>
      </dsp:nvSpPr>
      <dsp:spPr>
        <a:xfrm rot="3780000">
          <a:off x="5665982" y="3017511"/>
          <a:ext cx="1779198" cy="554534"/>
        </a:xfrm>
        <a:prstGeom prst="leftArrow">
          <a:avLst>
            <a:gd name="adj1" fmla="val 60000"/>
            <a:gd name="adj2" fmla="val 50000"/>
          </a:avLst>
        </a:prstGeom>
        <a:solidFill>
          <a:schemeClr val="accent6">
            <a:lumMod val="20000"/>
            <a:lumOff val="80000"/>
          </a:schemeClr>
        </a:solidFill>
        <a:ln w="9525" cap="flat" cmpd="sng" algn="ctr">
          <a:solidFill>
            <a:schemeClr val="accent6">
              <a:lumMod val="60000"/>
              <a:lumOff val="4000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z="-54080" prstMaterial="plastic">
          <a:bevelT w="25400" h="25400"/>
          <a:bevelB w="25400" h="25400"/>
        </a:sp3d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45BE6EB5-4899-43AA-8639-BC8CBAC46B57}">
      <dsp:nvSpPr>
        <dsp:cNvPr id="0" name=""/>
        <dsp:cNvSpPr/>
      </dsp:nvSpPr>
      <dsp:spPr>
        <a:xfrm>
          <a:off x="5711812" y="3055961"/>
          <a:ext cx="1848448" cy="1478758"/>
        </a:xfrm>
        <a:prstGeom prst="roundRect">
          <a:avLst>
            <a:gd name="adj" fmla="val 10000"/>
          </a:avLst>
        </a:prstGeom>
        <a:solidFill>
          <a:schemeClr val="lt1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1910" tIns="41910" rIns="41910" bIns="4191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smtClean="0"/>
            <a:t>вид </a:t>
          </a:r>
          <a:r>
            <a:rPr lang="ru-RU" sz="2200" kern="1200" dirty="0" smtClean="0"/>
            <a:t>деятельности</a:t>
          </a:r>
          <a:endParaRPr lang="ru-RU" sz="2200" kern="1200" dirty="0"/>
        </a:p>
      </dsp:txBody>
      <dsp:txXfrm>
        <a:off x="5755123" y="3099272"/>
        <a:ext cx="1761826" cy="1392136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funnel1">
  <dgm:title val=""/>
  <dgm:desc val=""/>
  <dgm:catLst>
    <dgm:cat type="relationship" pri="2000"/>
    <dgm:cat type="process" pri="2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4"/>
      <dgm:resizeHandles val="exact"/>
    </dgm:varLst>
    <dgm:alg type="composite">
      <dgm:param type="ar" val="1.25"/>
    </dgm:alg>
    <dgm:shape xmlns:r="http://schemas.openxmlformats.org/officeDocument/2006/relationships" r:blip="">
      <dgm:adjLst/>
    </dgm:shape>
    <dgm:presOf/>
    <dgm:choose name="Name1">
      <dgm:if name="Name2" axis="ch" ptType="node" func="cnt" op="equ" val="2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w" for="ch" forName="item1" refType="w" fact="0.35"/>
          <dgm:constr type="h" for="ch" forName="item1" refType="w" fact="0.35"/>
          <dgm:constr type="t" for="ch" forName="item1" refType="h" fact="0.05"/>
          <dgm:constr type="l" for="ch" forName="item1" refType="w" fact="0.125"/>
          <dgm:constr type="primFontSz" for="ch" forName="item1" op="equ" val="65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if>
      <dgm:else name="Name3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primFontSz" for="ch" forName="rectangle" val="65"/>
          <dgm:constr type="w" for="ch" forName="item1" refType="w" fact="0.225"/>
          <dgm:constr type="h" for="ch" forName="item1" refType="w" fact="0.225"/>
          <dgm:constr type="t" for="ch" forName="item1" refType="h" fact="0.336"/>
          <dgm:constr type="l" for="ch" forName="item1" refType="w" fact="0.261"/>
          <dgm:constr type="primFontSz" for="ch" forName="item1" val="65"/>
          <dgm:constr type="w" for="ch" forName="item2" refType="w" fact="0.225"/>
          <dgm:constr type="h" for="ch" forName="item2" refType="w" fact="0.225"/>
          <dgm:constr type="t" for="ch" forName="item2" refType="h" fact="0.125"/>
          <dgm:constr type="l" for="ch" forName="item2" refType="w" fact="0.1"/>
          <dgm:constr type="primFontSz" for="ch" forName="item2" refType="primFontSz" refFor="ch" refForName="item1" op="equ"/>
          <dgm:constr type="w" for="ch" forName="item3" refType="w" fact="0.225"/>
          <dgm:constr type="h" for="ch" forName="item3" refType="w" fact="0.225"/>
          <dgm:constr type="t" for="ch" forName="item3" refType="h" fact="0.057"/>
          <dgm:constr type="l" for="ch" forName="item3" refType="w" fact="0.33"/>
          <dgm:constr type="primFontSz" for="ch" forName="item3" refType="primFontSz" refFor="ch" refForName="item1" op="equ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else>
    </dgm:choose>
    <dgm:ruleLst/>
    <dgm:choose name="Name4">
      <dgm:if name="Name5" axis="ch" ptType="node" func="cnt" op="gte" val="1">
        <dgm:layoutNode name="ellipse" styleLbl="trBgShp">
          <dgm:alg type="sp"/>
          <dgm:shape xmlns:r="http://schemas.openxmlformats.org/officeDocument/2006/relationships" type="ellipse" r:blip="">
            <dgm:adjLst/>
          </dgm:shape>
          <dgm:presOf/>
          <dgm:constrLst/>
          <dgm:ruleLst/>
        </dgm:layoutNode>
        <dgm:layoutNode name="arrow1" styleLbl="fgShp">
          <dgm:alg type="sp"/>
          <dgm:shape xmlns:r="http://schemas.openxmlformats.org/officeDocument/2006/relationships" type="downArrow" r:blip="">
            <dgm:adjLst/>
          </dgm:shape>
          <dgm:presOf/>
          <dgm:constrLst/>
          <dgm:ruleLst/>
        </dgm:layoutNode>
        <dgm:layoutNode name="rectangle" styleLbl="revTx">
          <dgm:varLst>
            <dgm:bulletEnabled val="1"/>
          </dgm:varLst>
          <dgm:alg type="tx">
            <dgm:param type="txAnchorHorzCh" val="ctr"/>
          </dgm:alg>
          <dgm:shape xmlns:r="http://schemas.openxmlformats.org/officeDocument/2006/relationships" type="rect" r:blip="">
            <dgm:adjLst/>
          </dgm:shape>
          <dgm:choose name="Name6">
            <dgm:if name="Name7" axis="ch" ptType="node" func="cnt" op="equ" val="1">
              <dgm:presOf axis="ch desOrSelf" ptType="node node" st="1 1" cnt="1 0"/>
            </dgm:if>
            <dgm:if name="Name8" axis="ch" ptType="node" func="cnt" op="equ" val="2">
              <dgm:presOf axis="ch desOrSelf" ptType="node node" st="2 1" cnt="1 0"/>
            </dgm:if>
            <dgm:if name="Name9" axis="ch" ptType="node" func="cnt" op="equ" val="3">
              <dgm:presOf axis="ch desOrSelf" ptType="node node" st="3 1" cnt="1 0"/>
            </dgm:if>
            <dgm:else name="Name10">
              <dgm:presOf axis="ch desOrSelf" ptType="node node" st="4 1" cnt="1 0"/>
            </dgm:else>
          </dgm:choose>
          <dgm:constrLst/>
          <dgm:ruleLst>
            <dgm:rule type="primFontSz" val="5" fact="NaN" max="NaN"/>
          </dgm:ruleLst>
        </dgm:layoutNode>
        <dgm:forEach name="Name11" axis="ch" ptType="node" st="2" cnt="1">
          <dgm:layoutNode name="item1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2">
              <dgm:if name="Name13" axis="root ch" ptType="all node" func="cnt" op="equ" val="1">
                <dgm:presOf/>
              </dgm:if>
              <dgm:if name="Name14" axis="root ch" ptType="all node" func="cnt" op="equ" val="2">
                <dgm:presOf axis="root ch desOrSelf" ptType="all node node" st="1 1 1" cnt="0 1 0"/>
              </dgm:if>
              <dgm:if name="Name15" axis="root ch" ptType="all node" func="cnt" op="equ" val="3">
                <dgm:presOf axis="root ch desOrSelf" ptType="all node node" st="1 2 1" cnt="0 1 0"/>
              </dgm:if>
              <dgm:else name="Name16">
                <dgm:presOf axis="root ch desOrSelf" ptType="all node node" st="1 3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17" axis="ch" ptType="node" st="3" cnt="1">
          <dgm:layoutNode name="item2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8">
              <dgm:if name="Name19" axis="root ch" ptType="all node" func="cnt" op="equ" val="1">
                <dgm:presOf/>
              </dgm:if>
              <dgm:if name="Name20" axis="root ch" ptType="all node" func="cnt" op="equ" val="2">
                <dgm:presOf/>
              </dgm:if>
              <dgm:if name="Name21" axis="root ch" ptType="all node" func="cnt" op="equ" val="3">
                <dgm:presOf axis="root ch desOrSelf" ptType="all node node" st="1 1 1" cnt="0 1 0"/>
              </dgm:if>
              <dgm:else name="Name22">
                <dgm:presOf axis="root ch desOrSelf" ptType="all node node" st="1 2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23" axis="ch" ptType="node" st="4" cnt="1">
          <dgm:layoutNode name="item3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4">
              <dgm:if name="Name25" axis="root ch" ptType="all node" func="cnt" op="equ" val="1">
                <dgm:presOf/>
              </dgm:if>
              <dgm:if name="Name26" axis="root ch" ptType="all node" func="cnt" op="equ" val="2">
                <dgm:presOf/>
              </dgm:if>
              <dgm:if name="Name27" axis="root ch" ptType="all node" func="cnt" op="equ" val="3">
                <dgm:presOf/>
              </dgm:if>
              <dgm:else name="Name28">
                <dgm:presOf axis="root ch desOrSelf" ptType="all node node" st="1 1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layoutNode name="funnel" styleLbl="trAlignAcc1">
          <dgm:alg type="sp"/>
          <dgm:shape xmlns:r="http://schemas.openxmlformats.org/officeDocument/2006/relationships" type="funnel" r:blip="">
            <dgm:adjLst/>
          </dgm:shape>
          <dgm:presOf/>
          <dgm:constrLst/>
          <dgm:ruleLst/>
        </dgm:layoutNode>
      </dgm:if>
      <dgm:else name="Name29"/>
    </dgm:choos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funnel1">
  <dgm:title val=""/>
  <dgm:desc val=""/>
  <dgm:catLst>
    <dgm:cat type="relationship" pri="2000"/>
    <dgm:cat type="process" pri="2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4"/>
      <dgm:resizeHandles val="exact"/>
    </dgm:varLst>
    <dgm:alg type="composite">
      <dgm:param type="ar" val="1.25"/>
    </dgm:alg>
    <dgm:shape xmlns:r="http://schemas.openxmlformats.org/officeDocument/2006/relationships" r:blip="">
      <dgm:adjLst/>
    </dgm:shape>
    <dgm:presOf/>
    <dgm:choose name="Name1">
      <dgm:if name="Name2" axis="ch" ptType="node" func="cnt" op="equ" val="2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w" for="ch" forName="item1" refType="w" fact="0.35"/>
          <dgm:constr type="h" for="ch" forName="item1" refType="w" fact="0.35"/>
          <dgm:constr type="t" for="ch" forName="item1" refType="h" fact="0.05"/>
          <dgm:constr type="l" for="ch" forName="item1" refType="w" fact="0.125"/>
          <dgm:constr type="primFontSz" for="ch" forName="item1" op="equ" val="65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if>
      <dgm:else name="Name3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primFontSz" for="ch" forName="rectangle" val="65"/>
          <dgm:constr type="w" for="ch" forName="item1" refType="w" fact="0.225"/>
          <dgm:constr type="h" for="ch" forName="item1" refType="w" fact="0.225"/>
          <dgm:constr type="t" for="ch" forName="item1" refType="h" fact="0.336"/>
          <dgm:constr type="l" for="ch" forName="item1" refType="w" fact="0.261"/>
          <dgm:constr type="primFontSz" for="ch" forName="item1" val="65"/>
          <dgm:constr type="w" for="ch" forName="item2" refType="w" fact="0.225"/>
          <dgm:constr type="h" for="ch" forName="item2" refType="w" fact="0.225"/>
          <dgm:constr type="t" for="ch" forName="item2" refType="h" fact="0.125"/>
          <dgm:constr type="l" for="ch" forName="item2" refType="w" fact="0.1"/>
          <dgm:constr type="primFontSz" for="ch" forName="item2" refType="primFontSz" refFor="ch" refForName="item1" op="equ"/>
          <dgm:constr type="w" for="ch" forName="item3" refType="w" fact="0.225"/>
          <dgm:constr type="h" for="ch" forName="item3" refType="w" fact="0.225"/>
          <dgm:constr type="t" for="ch" forName="item3" refType="h" fact="0.057"/>
          <dgm:constr type="l" for="ch" forName="item3" refType="w" fact="0.33"/>
          <dgm:constr type="primFontSz" for="ch" forName="item3" refType="primFontSz" refFor="ch" refForName="item1" op="equ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else>
    </dgm:choose>
    <dgm:ruleLst/>
    <dgm:choose name="Name4">
      <dgm:if name="Name5" axis="ch" ptType="node" func="cnt" op="gte" val="1">
        <dgm:layoutNode name="ellipse" styleLbl="trBgShp">
          <dgm:alg type="sp"/>
          <dgm:shape xmlns:r="http://schemas.openxmlformats.org/officeDocument/2006/relationships" type="ellipse" r:blip="">
            <dgm:adjLst/>
          </dgm:shape>
          <dgm:presOf/>
          <dgm:constrLst/>
          <dgm:ruleLst/>
        </dgm:layoutNode>
        <dgm:layoutNode name="arrow1" styleLbl="fgShp">
          <dgm:alg type="sp"/>
          <dgm:shape xmlns:r="http://schemas.openxmlformats.org/officeDocument/2006/relationships" type="downArrow" r:blip="">
            <dgm:adjLst/>
          </dgm:shape>
          <dgm:presOf/>
          <dgm:constrLst/>
          <dgm:ruleLst/>
        </dgm:layoutNode>
        <dgm:layoutNode name="rectangle" styleLbl="revTx">
          <dgm:varLst>
            <dgm:bulletEnabled val="1"/>
          </dgm:varLst>
          <dgm:alg type="tx">
            <dgm:param type="txAnchorHorzCh" val="ctr"/>
          </dgm:alg>
          <dgm:shape xmlns:r="http://schemas.openxmlformats.org/officeDocument/2006/relationships" type="rect" r:blip="">
            <dgm:adjLst/>
          </dgm:shape>
          <dgm:choose name="Name6">
            <dgm:if name="Name7" axis="ch" ptType="node" func="cnt" op="equ" val="1">
              <dgm:presOf axis="ch desOrSelf" ptType="node node" st="1 1" cnt="1 0"/>
            </dgm:if>
            <dgm:if name="Name8" axis="ch" ptType="node" func="cnt" op="equ" val="2">
              <dgm:presOf axis="ch desOrSelf" ptType="node node" st="2 1" cnt="1 0"/>
            </dgm:if>
            <dgm:if name="Name9" axis="ch" ptType="node" func="cnt" op="equ" val="3">
              <dgm:presOf axis="ch desOrSelf" ptType="node node" st="3 1" cnt="1 0"/>
            </dgm:if>
            <dgm:else name="Name10">
              <dgm:presOf axis="ch desOrSelf" ptType="node node" st="4 1" cnt="1 0"/>
            </dgm:else>
          </dgm:choose>
          <dgm:constrLst/>
          <dgm:ruleLst>
            <dgm:rule type="primFontSz" val="5" fact="NaN" max="NaN"/>
          </dgm:ruleLst>
        </dgm:layoutNode>
        <dgm:forEach name="Name11" axis="ch" ptType="node" st="2" cnt="1">
          <dgm:layoutNode name="item1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2">
              <dgm:if name="Name13" axis="root ch" ptType="all node" func="cnt" op="equ" val="1">
                <dgm:presOf/>
              </dgm:if>
              <dgm:if name="Name14" axis="root ch" ptType="all node" func="cnt" op="equ" val="2">
                <dgm:presOf axis="root ch desOrSelf" ptType="all node node" st="1 1 1" cnt="0 1 0"/>
              </dgm:if>
              <dgm:if name="Name15" axis="root ch" ptType="all node" func="cnt" op="equ" val="3">
                <dgm:presOf axis="root ch desOrSelf" ptType="all node node" st="1 2 1" cnt="0 1 0"/>
              </dgm:if>
              <dgm:else name="Name16">
                <dgm:presOf axis="root ch desOrSelf" ptType="all node node" st="1 3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17" axis="ch" ptType="node" st="3" cnt="1">
          <dgm:layoutNode name="item2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8">
              <dgm:if name="Name19" axis="root ch" ptType="all node" func="cnt" op="equ" val="1">
                <dgm:presOf/>
              </dgm:if>
              <dgm:if name="Name20" axis="root ch" ptType="all node" func="cnt" op="equ" val="2">
                <dgm:presOf/>
              </dgm:if>
              <dgm:if name="Name21" axis="root ch" ptType="all node" func="cnt" op="equ" val="3">
                <dgm:presOf axis="root ch desOrSelf" ptType="all node node" st="1 1 1" cnt="0 1 0"/>
              </dgm:if>
              <dgm:else name="Name22">
                <dgm:presOf axis="root ch desOrSelf" ptType="all node node" st="1 2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23" axis="ch" ptType="node" st="4" cnt="1">
          <dgm:layoutNode name="item3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4">
              <dgm:if name="Name25" axis="root ch" ptType="all node" func="cnt" op="equ" val="1">
                <dgm:presOf/>
              </dgm:if>
              <dgm:if name="Name26" axis="root ch" ptType="all node" func="cnt" op="equ" val="2">
                <dgm:presOf/>
              </dgm:if>
              <dgm:if name="Name27" axis="root ch" ptType="all node" func="cnt" op="equ" val="3">
                <dgm:presOf/>
              </dgm:if>
              <dgm:else name="Name28">
                <dgm:presOf axis="root ch desOrSelf" ptType="all node node" st="1 1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layoutNode name="funnel" styleLbl="trAlignAcc1">
          <dgm:alg type="sp"/>
          <dgm:shape xmlns:r="http://schemas.openxmlformats.org/officeDocument/2006/relationships" type="funnel" r:blip="">
            <dgm:adjLst/>
          </dgm:shape>
          <dgm:presOf/>
          <dgm:constrLst/>
          <dgm:ruleLst/>
        </dgm:layoutNode>
      </dgm:if>
      <dgm:else name="Name29"/>
    </dgm:choose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radial4">
  <dgm:title val=""/>
  <dgm:desc val=""/>
  <dgm:catLst>
    <dgm:cat type="relationship" pri="19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5" srcId="1" destId="11" srcOrd="0" destOrd="0"/>
        <dgm:cxn modelId="16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0"/>
              <dgm:param type="spanAng" val="360"/>
              <dgm:param type="ctrShpMap" val="fNode"/>
            </dgm:alg>
          </dgm:if>
          <dgm:else name="Name4">
            <dgm:choose name="Name5">
              <dgm:if name="Name6" axis="ch ch" ptType="node node" st="1 1" cnt="1 0" func="cnt" op="lte" val="3">
                <dgm:alg type="cycle">
                  <dgm:param type="stAng" val="-55"/>
                  <dgm:param type="spanAng" val="110"/>
                  <dgm:param type="ctrShpMap" val="fNode"/>
                </dgm:alg>
              </dgm:if>
              <dgm:else name="Name7">
                <dgm:choose name="Name8">
                  <dgm:if name="Name9" axis="ch ch" ptType="node node" st="1 1" cnt="1 0" func="cnt" op="equ" val="4">
                    <dgm:alg type="cycle">
                      <dgm:param type="stAng" val="-75"/>
                      <dgm:param type="spanAng" val="150"/>
                      <dgm:param type="ctrShpMap" val="fNode"/>
                    </dgm:alg>
                  </dgm:if>
                  <dgm:else name="Name10">
                    <dgm:alg type="cycle">
                      <dgm:param type="stAng" val="-90"/>
                      <dgm:param type="spanAng" val="180"/>
                      <dgm:param type="ctrShpMap" val="fNode"/>
                    </dgm:alg>
                  </dgm:else>
                </dgm:choose>
              </dgm:else>
            </dgm:choose>
          </dgm:else>
        </dgm:choose>
      </dgm:if>
      <dgm:else name="Name11">
        <dgm:choose name="Name12">
          <dgm:if name="Name13" axis="ch ch" ptType="node node" st="1 1" cnt="1 0" func="cnt" op="lte" val="1">
            <dgm:alg type="cycle">
              <dgm:param type="stAng" val="0"/>
              <dgm:param type="spanAng" val="-360"/>
              <dgm:param type="ctrShpMap" val="fNode"/>
            </dgm:alg>
          </dgm:if>
          <dgm:else name="Name14">
            <dgm:choose name="Name15">
              <dgm:if name="Name16" axis="ch ch" ptType="node node" st="1 1" cnt="1 0" func="cnt" op="lte" val="3">
                <dgm:alg type="cycle">
                  <dgm:param type="stAng" val="55"/>
                  <dgm:param type="spanAng" val="-110"/>
                  <dgm:param type="ctrShpMap" val="fNode"/>
                </dgm:alg>
              </dgm:if>
              <dgm:else name="Name17">
                <dgm:choose name="Name18">
                  <dgm:if name="Name19" axis="ch ch" ptType="node node" st="1 1" cnt="1 0" func="cnt" op="equ" val="4">
                    <dgm:alg type="cycle">
                      <dgm:param type="stAng" val="75"/>
                      <dgm:param type="spanAng" val="-150"/>
                      <dgm:param type="ctrShpMap" val="fNode"/>
                    </dgm:alg>
                  </dgm:if>
                  <dgm:else name="Name20">
                    <dgm:alg type="cycle">
                      <dgm:param type="stAng" val="90"/>
                      <dgm:param type="spanAng" val="-180"/>
                      <dgm:param type="ctrShpMap" val="fNode"/>
                    </dgm:alg>
                  </dgm:else>
                </dgm:choose>
              </dgm:else>
            </dgm:choose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fact="0.95"/>
      <dgm:constr type="h" for="ch" forName="parTrans" refType="w" refFor="ch" refForName="centerShape" fact="0.285"/>
      <dgm:constr type="sp" refType="w" refFor="ch" refForName="centerShape" op="equ" fact="0.23"/>
      <dgm:constr type="sibSp" refType="w" refFor="ch" refForName="node" fact="0.1"/>
      <dgm:constr type="primFontSz" for="ch" forName="node" op="equ"/>
    </dgm:constrLst>
    <dgm:choose name="Name21">
      <dgm:if name="Name22" axis="ch ch" ptType="node node" st="1 1" cnt="1 0" func="cnt" op="lte" val="5">
        <dgm:ruleLst>
          <dgm:rule type="w" for="ch" forName="centerShape" val="NaN" fact="0.27" max="NaN"/>
        </dgm:ruleLst>
      </dgm:if>
      <dgm:else name="Name23">
        <dgm:ruleLst>
          <dgm:rule type="w" for="ch" forName="centerShape" val="NaN" fact="0.27" max="NaN"/>
          <dgm:rule type="w" for="ch" forName="node" val="NaN" fact="0.7" max="NaN"/>
        </dgm:ruleLst>
      </dgm:else>
    </dgm:choose>
    <dgm:forEach name="Name24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  <dgm:constr type="primFontSz" val="65"/>
          <dgm:constr type="h" refType="w"/>
        </dgm:constrLst>
        <dgm:ruleLst>
          <dgm:rule type="primFontSz" val="5" fact="NaN" max="NaN"/>
        </dgm:ruleLst>
      </dgm:layoutNode>
      <dgm:forEach name="Name25" axis="ch">
        <dgm:forEach name="Name26" axis="self" ptType="parTrans">
          <dgm:layoutNode name="parTrans" styleLbl="bgSibTrans2D1">
            <dgm:alg type="conn">
              <dgm:param type="begPts" val="auto"/>
              <dgm:param type="endPts" val="ctr"/>
              <dgm:param type="endSty" val="noArr"/>
              <dgm:param type="begSty" val="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begPad" refType="connDist" fact="0.055"/>
              <dgm:constr type="endPad"/>
            </dgm:constrLst>
            <dgm:ruleLst/>
          </dgm:layoutNode>
        </dgm:forEach>
        <dgm:forEach name="Name27" axis="self" ptType="node">
          <dgm:layoutNode name="node" styleLbl="node1">
            <dgm:varLst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OrSelf" ptType="node"/>
            <dgm:constrLst>
              <dgm:constr type="primFontSz" val="65"/>
              <dgm:constr type="h" refType="w" fact="0.8"/>
              <dgm:constr type="tMarg" refType="primFontSz" fact="0.15"/>
              <dgm:constr type="bMarg" refType="primFontSz" fact="0.15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radial4">
  <dgm:title val=""/>
  <dgm:desc val=""/>
  <dgm:catLst>
    <dgm:cat type="relationship" pri="19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5" srcId="1" destId="11" srcOrd="0" destOrd="0"/>
        <dgm:cxn modelId="16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cycle">
    <dgm:varLst>
      <dgm:chMax val="1"/>
      <dgm:dir/>
      <dgm:animLvl val="ctr"/>
      <dgm:resizeHandles val="exact"/>
    </dgm:varLst>
    <dgm:choose name="Name0">
      <dgm:if name="Name1" func="var" arg="dir" op="equ" val="norm">
        <dgm:choose name="Name2">
          <dgm:if name="Name3" axis="ch ch" ptType="node node" st="1 1" cnt="1 0" func="cnt" op="lte" val="1">
            <dgm:alg type="cycle">
              <dgm:param type="stAng" val="0"/>
              <dgm:param type="spanAng" val="360"/>
              <dgm:param type="ctrShpMap" val="fNode"/>
            </dgm:alg>
          </dgm:if>
          <dgm:else name="Name4">
            <dgm:choose name="Name5">
              <dgm:if name="Name6" axis="ch ch" ptType="node node" st="1 1" cnt="1 0" func="cnt" op="lte" val="3">
                <dgm:alg type="cycle">
                  <dgm:param type="stAng" val="-55"/>
                  <dgm:param type="spanAng" val="110"/>
                  <dgm:param type="ctrShpMap" val="fNode"/>
                </dgm:alg>
              </dgm:if>
              <dgm:else name="Name7">
                <dgm:choose name="Name8">
                  <dgm:if name="Name9" axis="ch ch" ptType="node node" st="1 1" cnt="1 0" func="cnt" op="equ" val="4">
                    <dgm:alg type="cycle">
                      <dgm:param type="stAng" val="-75"/>
                      <dgm:param type="spanAng" val="150"/>
                      <dgm:param type="ctrShpMap" val="fNode"/>
                    </dgm:alg>
                  </dgm:if>
                  <dgm:else name="Name10">
                    <dgm:alg type="cycle">
                      <dgm:param type="stAng" val="-90"/>
                      <dgm:param type="spanAng" val="180"/>
                      <dgm:param type="ctrShpMap" val="fNode"/>
                    </dgm:alg>
                  </dgm:else>
                </dgm:choose>
              </dgm:else>
            </dgm:choose>
          </dgm:else>
        </dgm:choose>
      </dgm:if>
      <dgm:else name="Name11">
        <dgm:choose name="Name12">
          <dgm:if name="Name13" axis="ch ch" ptType="node node" st="1 1" cnt="1 0" func="cnt" op="lte" val="1">
            <dgm:alg type="cycle">
              <dgm:param type="stAng" val="0"/>
              <dgm:param type="spanAng" val="-360"/>
              <dgm:param type="ctrShpMap" val="fNode"/>
            </dgm:alg>
          </dgm:if>
          <dgm:else name="Name14">
            <dgm:choose name="Name15">
              <dgm:if name="Name16" axis="ch ch" ptType="node node" st="1 1" cnt="1 0" func="cnt" op="lte" val="3">
                <dgm:alg type="cycle">
                  <dgm:param type="stAng" val="55"/>
                  <dgm:param type="spanAng" val="-110"/>
                  <dgm:param type="ctrShpMap" val="fNode"/>
                </dgm:alg>
              </dgm:if>
              <dgm:else name="Name17">
                <dgm:choose name="Name18">
                  <dgm:if name="Name19" axis="ch ch" ptType="node node" st="1 1" cnt="1 0" func="cnt" op="equ" val="4">
                    <dgm:alg type="cycle">
                      <dgm:param type="stAng" val="75"/>
                      <dgm:param type="spanAng" val="-150"/>
                      <dgm:param type="ctrShpMap" val="fNode"/>
                    </dgm:alg>
                  </dgm:if>
                  <dgm:else name="Name20">
                    <dgm:alg type="cycle">
                      <dgm:param type="stAng" val="90"/>
                      <dgm:param type="spanAng" val="-180"/>
                      <dgm:param type="ctrShpMap" val="fNode"/>
                    </dgm:alg>
                  </dgm:else>
                </dgm:choose>
              </dgm:else>
            </dgm:choose>
          </dgm:else>
        </dgm:choose>
      </dgm:else>
    </dgm:choose>
    <dgm:shape xmlns:r="http://schemas.openxmlformats.org/officeDocument/2006/relationships" r:blip="">
      <dgm:adjLst/>
    </dgm:shape>
    <dgm:presOf/>
    <dgm:constrLst>
      <dgm:constr type="w" for="ch" forName="centerShape" refType="w"/>
      <dgm:constr type="w" for="ch" forName="node" refType="w" refFor="ch" refForName="centerShape" fact="0.95"/>
      <dgm:constr type="h" for="ch" forName="parTrans" refType="w" refFor="ch" refForName="centerShape" fact="0.285"/>
      <dgm:constr type="sp" refType="w" refFor="ch" refForName="centerShape" op="equ" fact="0.23"/>
      <dgm:constr type="sibSp" refType="w" refFor="ch" refForName="node" fact="0.1"/>
      <dgm:constr type="primFontSz" for="ch" forName="node" op="equ"/>
    </dgm:constrLst>
    <dgm:choose name="Name21">
      <dgm:if name="Name22" axis="ch ch" ptType="node node" st="1 1" cnt="1 0" func="cnt" op="lte" val="5">
        <dgm:ruleLst>
          <dgm:rule type="w" for="ch" forName="centerShape" val="NaN" fact="0.27" max="NaN"/>
        </dgm:ruleLst>
      </dgm:if>
      <dgm:else name="Name23">
        <dgm:ruleLst>
          <dgm:rule type="w" for="ch" forName="centerShape" val="NaN" fact="0.27" max="NaN"/>
          <dgm:rule type="w" for="ch" forName="node" val="NaN" fact="0.7" max="NaN"/>
        </dgm:ruleLst>
      </dgm:else>
    </dgm:choose>
    <dgm:forEach name="Name24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tMarg" refType="primFontSz" fact="0.05"/>
          <dgm:constr type="bMarg" refType="primFontSz" fact="0.05"/>
          <dgm:constr type="lMarg" refType="primFontSz" fact="0.05"/>
          <dgm:constr type="rMarg" refType="primFontSz" fact="0.05"/>
          <dgm:constr type="primFontSz" val="65"/>
          <dgm:constr type="h" refType="w"/>
        </dgm:constrLst>
        <dgm:ruleLst>
          <dgm:rule type="primFontSz" val="5" fact="NaN" max="NaN"/>
        </dgm:ruleLst>
      </dgm:layoutNode>
      <dgm:forEach name="Name25" axis="ch">
        <dgm:forEach name="Name26" axis="self" ptType="parTrans">
          <dgm:layoutNode name="parTrans" styleLbl="bgSibTrans2D1">
            <dgm:alg type="conn">
              <dgm:param type="begPts" val="auto"/>
              <dgm:param type="endPts" val="ctr"/>
              <dgm:param type="endSty" val="noArr"/>
              <dgm:param type="begSty" val="arr"/>
            </dgm:alg>
            <dgm:shape xmlns:r="http://schemas.openxmlformats.org/officeDocument/2006/relationships" type="conn" r:blip="">
              <dgm:adjLst/>
            </dgm:shape>
            <dgm:presOf axis="self"/>
            <dgm:constrLst>
              <dgm:constr type="begPad" refType="connDist" fact="0.055"/>
              <dgm:constr type="endPad"/>
            </dgm:constrLst>
            <dgm:ruleLst/>
          </dgm:layoutNode>
        </dgm:forEach>
        <dgm:forEach name="Name27" axis="self" ptType="node">
          <dgm:layoutNode name="node" styleLbl="node1">
            <dgm:varLst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OrSelf" ptType="node"/>
            <dgm:constrLst>
              <dgm:constr type="primFontSz" val="65"/>
              <dgm:constr type="h" refType="w" fact="0.8"/>
              <dgm:constr type="tMarg" refType="primFontSz" fact="0.15"/>
              <dgm:constr type="bMarg" refType="primFontSz" fact="0.15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3d6">
  <dgm:title val=""/>
  <dgm:desc val=""/>
  <dgm:catLst>
    <dgm:cat type="3D" pri="11600"/>
  </dgm:catLst>
  <dgm:scene3d>
    <a:camera prst="perspectiveRelaxedModerately" zoom="92000"/>
    <a:lightRig rig="balanced" dir="t">
      <a:rot lat="0" lon="0" rev="12700000"/>
    </a:lightRig>
  </dgm:scene3d>
  <dgm:styleLbl name="node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5400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54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5400" prstMaterial="plastic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75000" prstMaterial="plastic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2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3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4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fgAcc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z="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 z="-10400" extrusionH="12700" prstMaterial="plastic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3d6">
  <dgm:title val=""/>
  <dgm:desc val=""/>
  <dgm:catLst>
    <dgm:cat type="3D" pri="11600"/>
  </dgm:catLst>
  <dgm:scene3d>
    <a:camera prst="perspectiveRelaxedModerately" zoom="92000"/>
    <a:lightRig rig="balanced" dir="t">
      <a:rot lat="0" lon="0" rev="12700000"/>
    </a:lightRig>
  </dgm:scene3d>
  <dgm:styleLbl name="node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5400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54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5400" prstMaterial="plastic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75000" prstMaterial="plastic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2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3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4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fgAcc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z="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 z="-10400" extrusionH="12700" prstMaterial="plastic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618318-0CF2-450E-9374-14BE6487E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Num" idx="39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FD03CE3B-0447-4C69-BFCD-1AE24FA8200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55640" y="5077440"/>
            <a:ext cx="6045120" cy="48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65160" y="144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fld id="{E8E3F37F-EDF2-4818-A6B7-6AD21340968B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fld id="{7F8DE580-0BC6-4AE9-A42A-7E3CC1AF03FE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85680" y="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нижний колонтитул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40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41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C8D98F29-0461-41A0-87C1-BFD60062B6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Num" idx="42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82D65B9A-4318-4620-B870-F476F59C3CD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"/>
          <p:cNvSpPr/>
          <p:nvPr/>
        </p:nvSpPr>
        <p:spPr>
          <a:xfrm>
            <a:off x="4278960" y="10155240"/>
            <a:ext cx="327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2E5B98AA-C63D-49FE-B012-BACAE2A8F5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55640" y="5077440"/>
            <a:ext cx="6045120" cy="48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65160" y="144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fld id="{ADAAAF96-7A39-41CA-8CB2-2AEC18A4B47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fld id="{06D73FF3-570B-4A16-859C-4107FAB00C8F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90360" y="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нижний колонтитул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Num" idx="43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69BC28D8-3218-4B85-870D-96A38FADC3C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"/>
          <p:cNvSpPr/>
          <p:nvPr/>
        </p:nvSpPr>
        <p:spPr>
          <a:xfrm>
            <a:off x="4278960" y="10155240"/>
            <a:ext cx="327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B6476F6-2458-43CD-B51C-9EFE8498F6D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55640" y="5077440"/>
            <a:ext cx="6045120" cy="48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65160" y="144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fld id="{28EF0522-FD8A-45F0-BD6D-8889F1DFB5D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fld id="{E7953115-CF61-419B-A5BE-9E055A7C446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90360" y="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нижний колонтитул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Num" idx="44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3FD46977-4DEC-4D57-A21C-81114EA71F1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"/>
          <p:cNvSpPr/>
          <p:nvPr/>
        </p:nvSpPr>
        <p:spPr>
          <a:xfrm>
            <a:off x="4278960" y="10155240"/>
            <a:ext cx="3277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1CA23DC7-0C5D-4582-975A-0A513E7FD5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55640" y="5077440"/>
            <a:ext cx="6045120" cy="480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65160" y="144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fld id="{7CCF17B8-5681-4903-B839-4B322FC74F3C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fld id="{B154ABC1-FA68-434E-825F-406DE91A81D7}" type="slidenum"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90360" y="0"/>
            <a:ext cx="1080" cy="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480"/>
                <a:tab algn="l" pos="896760"/>
                <a:tab algn="l" pos="1346040"/>
                <a:tab algn="l" pos="1794960"/>
                <a:tab algn="l" pos="2244240"/>
                <a:tab algn="l" pos="2693520"/>
                <a:tab algn="l" pos="3142800"/>
                <a:tab algn="l" pos="3591720"/>
                <a:tab algn="l" pos="4041000"/>
                <a:tab algn="l" pos="4490280"/>
                <a:tab algn="l" pos="4939200"/>
                <a:tab algn="l" pos="5388480"/>
                <a:tab algn="l" pos="5837760"/>
                <a:tab algn="l" pos="6286680"/>
                <a:tab algn="l" pos="6735960"/>
                <a:tab algn="l" pos="7185240"/>
                <a:tab algn="l" pos="7634520"/>
                <a:tab algn="l" pos="8083440"/>
                <a:tab algn="l" pos="8532720"/>
                <a:tab algn="l" pos="8982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+mn-ea"/>
              </a:rPr>
              <a:t>&lt;нижний колонтитул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45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sldNum" idx="46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D4D6B5DF-BB41-409F-8156-43BAE6075F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47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48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47A86A9B-7716-42DB-94EC-1A186D8DE3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ftr" idx="49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sldNum" idx="50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CEEFB29F-B693-493C-B043-D4FB75AA56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ftr" idx="51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sldNum" idx="52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0383677C-78F6-47A9-A983-6783F1DBEA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ftr" idx="53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sldNum" idx="54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1DF1BE86-2413-443A-940B-90E3D690ED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ftr" idx="55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sldNum" idx="56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C27A2F74-3947-4E72-B7E0-2594DFFA12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57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58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DB91C540-478C-48E5-9CBB-A814C2BE56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ftr" idx="59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sldNum" idx="60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31FA1DF9-8678-4B7E-86B4-25BBFCC4AF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ftr" idx="61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sldNum" idx="62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EC81E7D3-007A-4D07-B478-D0B2630C62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63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64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5B523D60-C110-467C-9801-DC7F573063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ftr" idx="65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sldNum" idx="66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81A35C6C-0EA9-433D-9F8B-36F8E86D77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ftr" idx="67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sldNum" idx="68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D29CF185-859E-4D2A-9CDA-659DFCD6B9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ftr" idx="69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sldNum" idx="70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3641BC53-06E2-445C-A3BD-EC87CC816A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000" cy="37206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288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ftr" idx="71"/>
          </p:nvPr>
        </p:nvSpPr>
        <p:spPr>
          <a:xfrm>
            <a:off x="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DejaVu San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72"/>
          </p:nvPr>
        </p:nvSpPr>
        <p:spPr>
          <a:xfrm>
            <a:off x="3844800" y="9425160"/>
            <a:ext cx="2941200" cy="49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723600"/>
                <a:tab algn="l" pos="1447560"/>
                <a:tab algn="l" pos="2171160"/>
                <a:tab algn="l" pos="2895120"/>
              </a:tabLst>
            </a:pPr>
            <a:fld id="{B1E6991C-2541-4929-A29C-CFFA30D862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9032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29480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584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29032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29480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51640" y="240120"/>
            <a:ext cx="682056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9032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29480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8584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29032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29480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51640" y="240120"/>
            <a:ext cx="682056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29032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29480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8584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29032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29480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51640" y="240120"/>
            <a:ext cx="682056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29032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294800" y="114300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8584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229032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4294800" y="3531240"/>
            <a:ext cx="1908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640" y="240120"/>
            <a:ext cx="682056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323880" y="353124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640" y="105840"/>
            <a:ext cx="682056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584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323880" y="1143000"/>
            <a:ext cx="28929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5840" y="3531240"/>
            <a:ext cx="59288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9" descr="map.gif"/>
          <p:cNvPicPr/>
          <p:nvPr/>
        </p:nvPicPr>
        <p:blipFill>
          <a:blip r:embed="rId2"/>
          <a:stretch/>
        </p:blipFill>
        <p:spPr>
          <a:xfrm>
            <a:off x="1071360" y="2571840"/>
            <a:ext cx="5476680" cy="3238200"/>
          </a:xfrm>
          <a:prstGeom prst="rect">
            <a:avLst/>
          </a:prstGeom>
          <a:ln w="0">
            <a:noFill/>
          </a:ln>
        </p:spPr>
      </p:pic>
      <p:sp>
        <p:nvSpPr>
          <p:cNvPr id="1" name="Прямоугольник 10"/>
          <p:cNvSpPr/>
          <p:nvPr/>
        </p:nvSpPr>
        <p:spPr>
          <a:xfrm>
            <a:off x="0" y="6072120"/>
            <a:ext cx="9143640" cy="7855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8760" y="1643040"/>
            <a:ext cx="56433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70000"/>
              </a:lnSpc>
              <a:buNone/>
            </a:pPr>
            <a:r>
              <a:rPr b="0" lang="ru-RU" sz="3200" spc="-1" strike="noStrike">
                <a:solidFill>
                  <a:srgbClr val="ff6600"/>
                </a:solidFill>
                <a:latin typeface="Calibri"/>
              </a:rPr>
              <a:t>Образец 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Рисунок 5" descr="spiker.gif"/>
          <p:cNvPicPr/>
          <p:nvPr/>
        </p:nvPicPr>
        <p:blipFill>
          <a:blip r:embed="rId3"/>
          <a:stretch/>
        </p:blipFill>
        <p:spPr>
          <a:xfrm>
            <a:off x="6676920" y="1643040"/>
            <a:ext cx="2466720" cy="44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6072120" y="628668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16" descr="main.png"/>
          <p:cNvPicPr/>
          <p:nvPr/>
        </p:nvPicPr>
        <p:blipFill>
          <a:blip r:embed="rId4"/>
          <a:stretch/>
        </p:blipFill>
        <p:spPr>
          <a:xfrm>
            <a:off x="420120" y="242640"/>
            <a:ext cx="2142720" cy="89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dt" idx="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6"/>
          <p:cNvSpPr/>
          <p:nvPr/>
        </p:nvSpPr>
        <p:spPr>
          <a:xfrm>
            <a:off x="0" y="6143760"/>
            <a:ext cx="9143640" cy="713880"/>
          </a:xfrm>
          <a:prstGeom prst="rect">
            <a:avLst/>
          </a:prstGeom>
          <a:solidFill>
            <a:srgbClr val="f0f0e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0" y="0"/>
            <a:ext cx="9143640" cy="856800"/>
          </a:xfrm>
          <a:prstGeom prst="rect">
            <a:avLst/>
          </a:prstGeom>
          <a:solidFill>
            <a:srgbClr val="f0f0e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разец загол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85840" y="1143000"/>
            <a:ext cx="5928840" cy="45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ff7401"/>
              </a:buClr>
              <a:buSzPct val="130000"/>
              <a:buFont typeface="Arial"/>
              <a:buChar char="•"/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cc00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4d4d4d"/>
                </a:solidFill>
                <a:latin typeface="Calibri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ffcc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4d4d4d"/>
                </a:solidFill>
                <a:latin typeface="Calibri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4d4d4d"/>
              </a:buClr>
              <a:buFont typeface="Arial"/>
              <a:buChar char="•"/>
            </a:pPr>
            <a:r>
              <a:rPr b="0" lang="ru-RU" sz="1600" spc="-1" strike="noStrike">
                <a:solidFill>
                  <a:srgbClr val="4d4d4d"/>
                </a:solidFill>
                <a:latin typeface="Calibri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4d4d4d"/>
              </a:buClr>
              <a:buFont typeface="Arial"/>
              <a:buChar char="•"/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Пятый уровен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4" descr="main.png"/>
          <p:cNvPicPr/>
          <p:nvPr/>
        </p:nvPicPr>
        <p:blipFill>
          <a:blip r:embed="rId2"/>
          <a:stretch/>
        </p:blipFill>
        <p:spPr>
          <a:xfrm>
            <a:off x="7572240" y="214200"/>
            <a:ext cx="1264680" cy="428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4"/>
          <p:cNvSpPr/>
          <p:nvPr/>
        </p:nvSpPr>
        <p:spPr>
          <a:xfrm>
            <a:off x="297000" y="6286680"/>
            <a:ext cx="44186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 cap="small">
                <a:solidFill>
                  <a:srgbClr val="1485a0"/>
                </a:solidFill>
                <a:latin typeface="Arial"/>
              </a:rPr>
              <a:t>LETA  - </a:t>
            </a:r>
            <a:r>
              <a:rPr b="0" lang="ru-RU" sz="1200" spc="-1" strike="noStrike" cap="small">
                <a:solidFill>
                  <a:srgbClr val="1485a0"/>
                </a:solidFill>
                <a:latin typeface="Arial"/>
              </a:rPr>
              <a:t>информационная безопасность ваше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6000" cy="124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tif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diagramData" Target="../diagrams/data2.xml"/><Relationship Id="rId7" Type="http://schemas.openxmlformats.org/officeDocument/2006/relationships/diagramLayout" Target="../diagrams/layout2.xml"/><Relationship Id="rId8" Type="http://schemas.openxmlformats.org/officeDocument/2006/relationships/diagramQuickStyle" Target="../diagrams/quickStyle2.xml"/><Relationship Id="rId9" Type="http://schemas.openxmlformats.org/officeDocument/2006/relationships/diagramColors" Target="../diagrams/colors2.xml"/><Relationship Id="rId10" Type="http://schemas.microsoft.com/office/2007/relationships/diagramDrawing" Target="../diagrams/drawing2.xml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643040"/>
            <a:ext cx="56433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0000"/>
              </a:lnSpc>
              <a:buNone/>
            </a:pPr>
            <a:r>
              <a:rPr b="0" lang="ru-RU" sz="3200" spc="-1" strike="noStrike">
                <a:solidFill>
                  <a:srgbClr val="ff6600"/>
                </a:solidFill>
                <a:latin typeface="Calibri"/>
              </a:rPr>
              <a:t>Защита персональ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7"/>
          </p:nvPr>
        </p:nvSpPr>
        <p:spPr>
          <a:xfrm>
            <a:off x="6072120" y="628668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ftr" idx="16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Прямоугольник 14"/>
          <p:cNvSpPr/>
          <p:nvPr/>
        </p:nvSpPr>
        <p:spPr>
          <a:xfrm>
            <a:off x="323640" y="982440"/>
            <a:ext cx="84967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Согласно Постановлению Правительства РФ  от 01.11.2012 №1119 «Об утверждении требований к защите ПДн при их обработке в ИСПДн» уровни защищенности ПДн установлены, с уч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101208271"/>
              </p:ext>
            </p:extLst>
          </p:nvPr>
        </p:nvGraphicFramePr>
        <p:xfrm>
          <a:off x="827640" y="1196640"/>
          <a:ext cx="7560360" cy="496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ftr" idx="17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Таблица 5"/>
          <p:cNvGraphicFramePr/>
          <p:nvPr/>
        </p:nvGraphicFramePr>
        <p:xfrm>
          <a:off x="323640" y="980640"/>
          <a:ext cx="8445240" cy="5129640"/>
        </p:xfrm>
        <a:graphic>
          <a:graphicData uri="http://schemas.openxmlformats.org/drawingml/2006/table">
            <a:tbl>
              <a:tblPr/>
              <a:tblGrid>
                <a:gridCol w="1944000"/>
                <a:gridCol w="1872000"/>
                <a:gridCol w="1656000"/>
                <a:gridCol w="1008000"/>
                <a:gridCol w="1008000"/>
                <a:gridCol w="956520"/>
              </a:tblGrid>
              <a:tr h="360000">
                <a:tc rowSpan="2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держание ПДн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категория обрабатываемых ПД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держание ПДн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категория субъектов обрабатываемых ПД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Объем ПДн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количество субъектов ПД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 gridSpan="3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Тип актуальных угр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 т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2 т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3 ти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40000"/>
                        <a:lumOff val="60000"/>
                      </a:schemeClr>
                    </a:solidFill>
                  </a:tcPr>
                </a:tc>
              </a:tr>
              <a:tr h="268200">
                <a:tc rowSpan="4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пециальные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категории ПД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убъекты ПДн, не являющиеся сотрудникам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трудник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rowSpan="4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иометрические ПД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убъекты ПДн, не являющиеся сотрудникам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трудник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rowSpan="4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иные ПД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убъекты ПДн, не являющиеся сотрудникам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трудник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УЗ –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rowSpan="4"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общедоступные ПД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убъекты ПДн, не являющиеся сотрудникам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2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сотрудники операт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более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100</a:t>
                      </a:r>
                      <a:r>
                        <a:rPr b="0" lang="en-US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  <a:tr h="26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Calibri"/>
                        </a:rPr>
                        <a:t>менее 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4">
                              <a:lumMod val="75000"/>
                            </a:schemeClr>
                          </a:solidFill>
                          <a:latin typeface="Calibri"/>
                        </a:rPr>
                        <a:t>УЗ –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Calibri"/>
                        </a:rPr>
                        <a:t>УЗ –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400" spc="-1" strike="noStrike">
                          <a:solidFill>
                            <a:schemeClr val="accent5">
                              <a:lumMod val="50000"/>
                            </a:schemeClr>
                          </a:solidFill>
                          <a:latin typeface="Calibri"/>
                        </a:rPr>
                        <a:t>УЗ –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5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269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Скругленный прямоугольник 16"/>
          <p:cNvSpPr/>
          <p:nvPr/>
        </p:nvSpPr>
        <p:spPr>
          <a:xfrm>
            <a:off x="17964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1" name="Скругленный прямоугольник 17"/>
          <p:cNvSpPr/>
          <p:nvPr/>
        </p:nvSpPr>
        <p:spPr>
          <a:xfrm>
            <a:off x="17964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2" name="Скругленный прямоугольник 18"/>
          <p:cNvSpPr/>
          <p:nvPr/>
        </p:nvSpPr>
        <p:spPr>
          <a:xfrm>
            <a:off x="464400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3" name="Скругленный прямоугольник 19"/>
          <p:cNvSpPr/>
          <p:nvPr/>
        </p:nvSpPr>
        <p:spPr>
          <a:xfrm>
            <a:off x="464400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ftr" idx="18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Скругленный прямоугольник 4"/>
          <p:cNvSpPr/>
          <p:nvPr/>
        </p:nvSpPr>
        <p:spPr>
          <a:xfrm>
            <a:off x="68328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СПЕЦИАЛЬ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ый прямоугольник 5"/>
          <p:cNvSpPr/>
          <p:nvPr/>
        </p:nvSpPr>
        <p:spPr>
          <a:xfrm>
            <a:off x="514800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БИОМЕТРИЧЕСКИ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Скругленный прямоугольник 7"/>
          <p:cNvSpPr/>
          <p:nvPr/>
        </p:nvSpPr>
        <p:spPr>
          <a:xfrm>
            <a:off x="68328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ОБЩЕДОСТУПНЫ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кругленный прямоугольник 8"/>
          <p:cNvSpPr/>
          <p:nvPr/>
        </p:nvSpPr>
        <p:spPr>
          <a:xfrm>
            <a:off x="514800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2"/>
          <p:cNvSpPr/>
          <p:nvPr/>
        </p:nvSpPr>
        <p:spPr>
          <a:xfrm>
            <a:off x="611640" y="1989000"/>
            <a:ext cx="345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, касающиеся расовой, национальной принадлежности, политических взглядов, религиозных или философских убеждений, состояния здоровья, интимной жизни субъектов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3"/>
          <p:cNvSpPr/>
          <p:nvPr/>
        </p:nvSpPr>
        <p:spPr>
          <a:xfrm>
            <a:off x="4716000" y="1972080"/>
            <a:ext cx="417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сведения, которые характеризуют физиологические и биологические особенности человека, на основании которых можно установить его личность и которые используются оператором для установления личности субъекта ПДн (при этом не обрабатываются специальные категории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539640" y="4653000"/>
            <a:ext cx="36720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 субъектов ПДн, полученные только из общедоступных источников ПДн, созданных в соответствии со статьей 8 Федерального закона «О  персональных данных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5"/>
          <p:cNvSpPr/>
          <p:nvPr/>
        </p:nvSpPr>
        <p:spPr>
          <a:xfrm>
            <a:off x="4788000" y="4653000"/>
            <a:ext cx="3960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иные категории ПДн (при этом не обрабатываются специальные категории ПДн, биометрические ПДн, общедоступные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0"/>
          <p:cNvSpPr/>
          <p:nvPr/>
        </p:nvSpPr>
        <p:spPr>
          <a:xfrm>
            <a:off x="4788000" y="57135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ПДн, сделанные общедоступными субъектом 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1"/>
          <p:cNvSpPr/>
          <p:nvPr/>
        </p:nvSpPr>
        <p:spPr>
          <a:xfrm>
            <a:off x="4788000" y="5301360"/>
            <a:ext cx="396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, ПДн, прошедшие процедуру обезличива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2"/>
          <p:cNvSpPr/>
          <p:nvPr/>
        </p:nvSpPr>
        <p:spPr>
          <a:xfrm>
            <a:off x="4788000" y="53013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в    том    числе,      сведения    о   суд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Скругленный прямоугольник 16"/>
          <p:cNvSpPr/>
          <p:nvPr/>
        </p:nvSpPr>
        <p:spPr>
          <a:xfrm>
            <a:off x="17964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88" name="Скругленный прямоугольник 17"/>
          <p:cNvSpPr/>
          <p:nvPr/>
        </p:nvSpPr>
        <p:spPr>
          <a:xfrm>
            <a:off x="17964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89" name="Скругленный прямоугольник 18"/>
          <p:cNvSpPr/>
          <p:nvPr/>
        </p:nvSpPr>
        <p:spPr>
          <a:xfrm>
            <a:off x="464400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90" name="Скругленный прямоугольник 19"/>
          <p:cNvSpPr/>
          <p:nvPr/>
        </p:nvSpPr>
        <p:spPr>
          <a:xfrm>
            <a:off x="464400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ftr" idx="19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Скругленный прямоугольник 4"/>
          <p:cNvSpPr/>
          <p:nvPr/>
        </p:nvSpPr>
        <p:spPr>
          <a:xfrm>
            <a:off x="68328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СПЕЦИАЛЬ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Скругленный прямоугольник 5"/>
          <p:cNvSpPr/>
          <p:nvPr/>
        </p:nvSpPr>
        <p:spPr>
          <a:xfrm>
            <a:off x="514800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БИОМЕТРИЧЕСКИ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Скругленный прямоугольник 7"/>
          <p:cNvSpPr/>
          <p:nvPr/>
        </p:nvSpPr>
        <p:spPr>
          <a:xfrm>
            <a:off x="68328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ОБЩЕДОСТУПНЫ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Скругленный прямоугольник 8"/>
          <p:cNvSpPr/>
          <p:nvPr/>
        </p:nvSpPr>
        <p:spPr>
          <a:xfrm>
            <a:off x="514800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611640" y="1989000"/>
            <a:ext cx="345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, касающиеся расовой, национальной принадлежности, политических взглядов, религиозных или философских убеждений, состояния здоровья, интимной жизни субъектов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4716000" y="1972080"/>
            <a:ext cx="417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сведения, которые характеризуют физиологические и биологические особенности человека, на основании которых можно установить его личность и которые используются оператором для установления личности субъекта ПДн (при этом не обрабатываются специальные категории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4"/>
          <p:cNvSpPr/>
          <p:nvPr/>
        </p:nvSpPr>
        <p:spPr>
          <a:xfrm>
            <a:off x="539640" y="4653000"/>
            <a:ext cx="36720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 субъектов ПДн, полученные только из общедоступных источников ПДн, созданных в соответствии со статьей 8 Федерального закона «О  персональных данных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5"/>
          <p:cNvSpPr/>
          <p:nvPr/>
        </p:nvSpPr>
        <p:spPr>
          <a:xfrm>
            <a:off x="4788000" y="4653000"/>
            <a:ext cx="3960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иные категории ПДн (при этом не обрабатываются специальные категории ПДн, биометрические ПДн, общедоступные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0"/>
          <p:cNvSpPr/>
          <p:nvPr/>
        </p:nvSpPr>
        <p:spPr>
          <a:xfrm>
            <a:off x="4788000" y="57135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ПДн, сделанные общедоступными субъектом 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2"/>
          <p:cNvSpPr/>
          <p:nvPr/>
        </p:nvSpPr>
        <p:spPr>
          <a:xfrm>
            <a:off x="4788000" y="5301360"/>
            <a:ext cx="396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, ПДн, прошедшие процедуру обезличива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3"/>
          <p:cNvSpPr/>
          <p:nvPr/>
        </p:nvSpPr>
        <p:spPr>
          <a:xfrm>
            <a:off x="4788000" y="53013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в    том    числе,      сведения    о   суд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Выноска 3 (без границы) 25"/>
          <p:cNvSpPr/>
          <p:nvPr/>
        </p:nvSpPr>
        <p:spPr>
          <a:xfrm>
            <a:off x="2771640" y="1196640"/>
            <a:ext cx="5760360" cy="4536000"/>
          </a:xfrm>
          <a:prstGeom prst="callout3">
            <a:avLst>
              <a:gd name="adj1" fmla="val 38865"/>
              <a:gd name="adj2" fmla="val 27"/>
              <a:gd name="adj3" fmla="val 38862"/>
              <a:gd name="adj4" fmla="val -3564"/>
              <a:gd name="adj5" fmla="val 14493"/>
              <a:gd name="adj6" fmla="val -8265"/>
              <a:gd name="adj7" fmla="val 14331"/>
              <a:gd name="adj8" fmla="val -32024"/>
            </a:avLst>
          </a:prstGeom>
          <a:solidFill>
            <a:schemeClr val="bg1">
              <a:lumMod val="95000"/>
            </a:schemeClr>
          </a:solidFill>
          <a:ln w="19050">
            <a:solidFill>
              <a:srgbClr val="ff9900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180000" rIns="180000" tIns="180000" bIns="180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 u="sng">
                <a:solidFill>
                  <a:srgbClr val="4d4d4d"/>
                </a:solidFill>
                <a:uFillTx/>
                <a:latin typeface="Calibri"/>
              </a:rPr>
              <a:t>Сттья 10. Специальные категории персональных данных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1. Обработка специальных категорий персональных данных, касающихся расовой, национальной принадлежности, политических взглядов, религиозных или философских убеждений, состояния здоровья, интимной жизни, не допускается, за исключением случаев, предусмотренных частью 2 настоящей стат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2. Обработка указанных в части 1 настоящей статьи специальных категорий персональных данных допускается в случаях, есл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3. Обработка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персональных данных о судимости 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может осуществляться государственными органами или муниципальными органами в пределах полномочий, предоставленных им в соответствии с законодательством Российской Федерации, а также иными лицами в случаях и в порядке, которые определяются в соответствии с федеральными закон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 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4. Обработка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специальных категорий персональных данных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, осуществлявшаяся в случаях,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предусмотренных частями 2 и 3 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настоящей статьи, должна быть незамедлительно прекращена, если устранены причины, вследствие которых осуществлялась обработка, если иное не установлено федеральным зако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Скругленный прямоугольник 16"/>
          <p:cNvSpPr/>
          <p:nvPr/>
        </p:nvSpPr>
        <p:spPr>
          <a:xfrm>
            <a:off x="17964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06" name="Скругленный прямоугольник 17"/>
          <p:cNvSpPr/>
          <p:nvPr/>
        </p:nvSpPr>
        <p:spPr>
          <a:xfrm>
            <a:off x="17964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07" name="Скругленный прямоугольник 18"/>
          <p:cNvSpPr/>
          <p:nvPr/>
        </p:nvSpPr>
        <p:spPr>
          <a:xfrm>
            <a:off x="4644000" y="908640"/>
            <a:ext cx="4320000" cy="2520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08" name="Скругленный прямоугольник 19"/>
          <p:cNvSpPr/>
          <p:nvPr/>
        </p:nvSpPr>
        <p:spPr>
          <a:xfrm>
            <a:off x="4644000" y="357300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ftr" idx="20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Скругленный прямоугольник 4"/>
          <p:cNvSpPr/>
          <p:nvPr/>
        </p:nvSpPr>
        <p:spPr>
          <a:xfrm>
            <a:off x="68328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СПЕЦИАЛЬ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Скругленный прямоугольник 5"/>
          <p:cNvSpPr/>
          <p:nvPr/>
        </p:nvSpPr>
        <p:spPr>
          <a:xfrm>
            <a:off x="5148000" y="105264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БИОМЕТРИЧЕСКИ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Скругленный прямоугольник 7"/>
          <p:cNvSpPr/>
          <p:nvPr/>
        </p:nvSpPr>
        <p:spPr>
          <a:xfrm>
            <a:off x="68328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ОБЩЕДОСТУПНЫ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Скругленный прямоугольник 8"/>
          <p:cNvSpPr/>
          <p:nvPr/>
        </p:nvSpPr>
        <p:spPr>
          <a:xfrm>
            <a:off x="5148000" y="3712680"/>
            <a:ext cx="3312360" cy="867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ЫЕ КАТЕГОРИИ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2"/>
          <p:cNvSpPr/>
          <p:nvPr/>
        </p:nvSpPr>
        <p:spPr>
          <a:xfrm>
            <a:off x="611640" y="1989000"/>
            <a:ext cx="345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, касающиеся расовой, национальной принадлежности, политических взглядов, религиозных или философских убеждений, состояния здоровья, интимной жизни субъектов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3"/>
          <p:cNvSpPr/>
          <p:nvPr/>
        </p:nvSpPr>
        <p:spPr>
          <a:xfrm>
            <a:off x="4716000" y="1972080"/>
            <a:ext cx="417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сведения, которые характеризуют физиологические и биологические особенности человека, на основании которых можно установить его личность и которые используются оператором для установления личности субъекта ПДн (при этом не обрабатываются специальные категории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4"/>
          <p:cNvSpPr/>
          <p:nvPr/>
        </p:nvSpPr>
        <p:spPr>
          <a:xfrm>
            <a:off x="539640" y="4653000"/>
            <a:ext cx="36720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ПДн субъектов ПДн, полученные только из общедоступных источников ПДн, созданных в соответствии со статьей 8 Федерального закона «О  персональных данных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5"/>
          <p:cNvSpPr/>
          <p:nvPr/>
        </p:nvSpPr>
        <p:spPr>
          <a:xfrm>
            <a:off x="4788000" y="4653000"/>
            <a:ext cx="3960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обрабатываются иные категории ПДн (при этом не обрабатываются специальные категории ПДн, биометрические ПДн, общедоступные ПД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Выноска 3 (без границы) 25"/>
          <p:cNvSpPr/>
          <p:nvPr/>
        </p:nvSpPr>
        <p:spPr>
          <a:xfrm>
            <a:off x="2699640" y="2061000"/>
            <a:ext cx="5256360" cy="2952000"/>
          </a:xfrm>
          <a:prstGeom prst="callout3">
            <a:avLst>
              <a:gd name="adj1" fmla="val 38865"/>
              <a:gd name="adj2" fmla="val 27"/>
              <a:gd name="adj3" fmla="val 38862"/>
              <a:gd name="adj4" fmla="val -3564"/>
              <a:gd name="adj5" fmla="val 118906"/>
              <a:gd name="adj6" fmla="val -12148"/>
              <a:gd name="adj7" fmla="val 118594"/>
              <a:gd name="adj8" fmla="val -33410"/>
            </a:avLst>
          </a:prstGeom>
          <a:solidFill>
            <a:schemeClr val="bg1">
              <a:lumMod val="95000"/>
            </a:schemeClr>
          </a:solidFill>
          <a:ln w="19050">
            <a:solidFill>
              <a:srgbClr val="ff9900"/>
            </a:solidFill>
            <a:round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180000" rIns="180000" tIns="180000" bIns="180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 u="sng">
                <a:solidFill>
                  <a:srgbClr val="4d4d4d"/>
                </a:solidFill>
                <a:uFillTx/>
                <a:latin typeface="Calibri"/>
              </a:rPr>
              <a:t>Статья 8. Общедоступные источники персональных данных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272880" algn="just">
              <a:lnSpc>
                <a:spcPct val="100000"/>
              </a:lnSpc>
              <a:buClr>
                <a:srgbClr val="4d4d4d"/>
              </a:buClr>
              <a:buFont typeface="StarSymbol"/>
              <a:buAutoNum type="arabicPeriod"/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В целях информационного обеспечения могут создаваться общедоступные источники ПДн (в том числе справочники, адресные книги). В общедоступные источники ПДн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с письменного согласия субъекта ПДн </a:t>
            </a: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могут включаться его фамилия, имя, отчество, год и место рождения, адрес, абонентский номер, сведения о профессии и иные ПДн, сообщаемые субъектом ПД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272880" algn="just">
              <a:lnSpc>
                <a:spcPct val="100000"/>
              </a:lnSpc>
              <a:buClr>
                <a:srgbClr val="4d4d4d"/>
              </a:buClr>
              <a:buFont typeface="StarSymbol"/>
              <a:buAutoNum type="arabicPeriod"/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Сведения о субъекте ПДн должны быть в любое время исключены из общедоступных источников ПДн по требованию субъекта ПДн либо по решению суда или иных уполномоченных государственных орган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2"/>
          <p:cNvSpPr/>
          <p:nvPr/>
        </p:nvSpPr>
        <p:spPr>
          <a:xfrm>
            <a:off x="4788000" y="57135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ПДн, сделанные общедоступными субъектом  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3"/>
          <p:cNvSpPr/>
          <p:nvPr/>
        </p:nvSpPr>
        <p:spPr>
          <a:xfrm>
            <a:off x="4788000" y="5301360"/>
            <a:ext cx="396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                                                                                   </a:t>
            </a: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, ПДн, прошедшие процедуру обезличивани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4"/>
          <p:cNvSpPr/>
          <p:nvPr/>
        </p:nvSpPr>
        <p:spPr>
          <a:xfrm>
            <a:off x="4788000" y="5301360"/>
            <a:ext cx="4176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в    том    числе,      сведения    о   суд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ftr" idx="21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Скругленный прямоугольник 5"/>
          <p:cNvSpPr/>
          <p:nvPr/>
        </p:nvSpPr>
        <p:spPr>
          <a:xfrm>
            <a:off x="179640" y="148464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25" name="Скругленный прямоугольник 6"/>
          <p:cNvSpPr/>
          <p:nvPr/>
        </p:nvSpPr>
        <p:spPr>
          <a:xfrm>
            <a:off x="4644000" y="1484640"/>
            <a:ext cx="4320000" cy="24480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26" name="Скругленный прямоугольник 7"/>
          <p:cNvSpPr/>
          <p:nvPr/>
        </p:nvSpPr>
        <p:spPr>
          <a:xfrm>
            <a:off x="683280" y="1628640"/>
            <a:ext cx="3312360" cy="1223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ДН СОТРУДНИКОВ ОПЕРА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8"/>
          <p:cNvSpPr/>
          <p:nvPr/>
        </p:nvSpPr>
        <p:spPr>
          <a:xfrm>
            <a:off x="5148000" y="1628640"/>
            <a:ext cx="3312360" cy="1223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НФОРМАЦИОННАЯ СИСТЕМА, ОБРАБАТЫВАЮЩАЯ ПДН СУБЪЕКТОВ, НЕ ЯВЛЯЮЩИХСЯ СОТРУДНИКАМИ ОПЕРА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899280" y="3049920"/>
            <a:ext cx="288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ИСПДн, в которой обрабатываются ПДн только указанных сотруд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2"/>
          <p:cNvSpPr/>
          <p:nvPr/>
        </p:nvSpPr>
        <p:spPr>
          <a:xfrm>
            <a:off x="5076000" y="2997000"/>
            <a:ext cx="3528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все остальные случаи, не попадающие под определение ИСПДн, обрабатывающей ПДн сотрудников операт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C:\Садовникова\Вебинар по ПДн\картинка\image125935755381.jpg"/>
          <p:cNvPicPr/>
          <p:nvPr/>
        </p:nvPicPr>
        <p:blipFill>
          <a:blip r:embed="rId1"/>
          <a:srcRect l="38715" t="0" r="37510" b="55817"/>
          <a:stretch/>
        </p:blipFill>
        <p:spPr>
          <a:xfrm>
            <a:off x="1187640" y="4612320"/>
            <a:ext cx="723960" cy="904320"/>
          </a:xfrm>
          <a:prstGeom prst="rect">
            <a:avLst/>
          </a:prstGeom>
          <a:ln w="0">
            <a:noFill/>
          </a:ln>
        </p:spPr>
      </p:pic>
      <p:sp>
        <p:nvSpPr>
          <p:cNvPr id="331" name="Прямоугольник 14"/>
          <p:cNvSpPr/>
          <p:nvPr/>
        </p:nvSpPr>
        <p:spPr>
          <a:xfrm>
            <a:off x="2151360" y="4869000"/>
            <a:ext cx="63090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Д ТЕРМИНОМ «СОТРУДНИК» ПОНИМАЕТСЯ </a:t>
            </a:r>
            <a:r>
              <a:rPr b="0" lang="ru-RU" sz="1600" spc="-1" strike="noStrike" u="sng">
                <a:solidFill>
                  <a:srgbClr val="1485a0"/>
                </a:solidFill>
                <a:uFillTx/>
                <a:latin typeface="Calibri"/>
              </a:rPr>
              <a:t>РАБОТНИК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В ТЕРМИНОЛОГИИ ТРУДОВОГО КОДЕКСА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C:\Садовникова\Вебинар по ПДн\картинка\imagesCAGT4KEX.jpg"/>
          <p:cNvPicPr/>
          <p:nvPr/>
        </p:nvPicPr>
        <p:blipFill>
          <a:blip r:embed="rId2"/>
          <a:stretch/>
        </p:blipFill>
        <p:spPr>
          <a:xfrm>
            <a:off x="1691640" y="4041000"/>
            <a:ext cx="889920" cy="910080"/>
          </a:xfrm>
          <a:prstGeom prst="rect">
            <a:avLst/>
          </a:prstGeom>
          <a:ln w="0">
            <a:noFill/>
          </a:ln>
        </p:spPr>
      </p:pic>
      <p:sp>
        <p:nvSpPr>
          <p:cNvPr id="333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ftr" idx="22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Таблица 5"/>
          <p:cNvGraphicFramePr/>
          <p:nvPr/>
        </p:nvGraphicFramePr>
        <p:xfrm>
          <a:off x="251640" y="908640"/>
          <a:ext cx="8640720" cy="5265000"/>
        </p:xfrm>
        <a:graphic>
          <a:graphicData uri="http://schemas.openxmlformats.org/drawingml/2006/table">
            <a:tbl>
              <a:tblPr/>
              <a:tblGrid>
                <a:gridCol w="6019920"/>
                <a:gridCol w="665280"/>
                <a:gridCol w="665280"/>
                <a:gridCol w="665280"/>
                <a:gridCol w="624240"/>
              </a:tblGrid>
              <a:tr h="224280">
                <a:tc rowSpan="2"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Требования, выполнение которых необходимо для обеспечения соответствующего уровня защищенности ПДн при их обработке в ИСПД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gridSpan="4"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Уровни защищен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 – 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 – 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 – 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 – 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4856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рганизация режима обеспечения безопасности помещений, в которых размещена ИСПД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22428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еспечение сохранности носителей ПД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67320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тверждение документа, определяющего перечень лиц, доступ которых к ПДн, обрабатываемым в ИСПДн, необходим для выполнения ими служебных (трудовых) обязан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89748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использование средств защиты информации, прошедших процедуру оценки соответствия требованиям законодательства РФ в области обеспечения безопасности информации, в случае, когда применение таких средств необходимо для нейтрализации актуальных угроз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44856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назначение должностного лица (работника), ответственного за обеспечение безопасности ПДн в ИСПД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89748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граничение доступа к содержанию электронного журнала сообщений только для должностных лиц (работников) оператора или уполномоченного лица, которым сведения, содержащиеся в указанном журнале, необходимы для выполнения служебных (трудовых) обязан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44856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втоматическая регистрация в электронном журнале безопасности изменений полномочий сотрудников оператора по доступу к ПДн, содержащимся в ИСПД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20000"/>
                        <a:lumOff val="80000"/>
                      </a:schemeClr>
                    </a:solidFill>
                  </a:tcPr>
                </a:tc>
              </a:tr>
              <a:tr h="673200">
                <a:tc>
                  <a:txBody>
                    <a:bodyPr lIns="59760" rIns="59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оздание структурного подразделения, ответственного за обеспечение безопасности ПДн в ИСПДн, либо возложение на одно из структурных подразделений функций по обеспечению такой безопасност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9760" rIns="59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</a:pPr>
                      <a:r>
                        <a:rPr b="0" lang="ru-RU" sz="13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760" marR="59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336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ftr" idx="23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5"/>
          <p:cNvSpPr/>
          <p:nvPr/>
        </p:nvSpPr>
        <p:spPr>
          <a:xfrm>
            <a:off x="1763640" y="1000080"/>
            <a:ext cx="7056360" cy="1223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спользование средств защиты информации, прошедших процедуру оценки соответствия требованиям законодательства РФ в области обеспечения безопасности информации, </a:t>
            </a:r>
            <a:r>
              <a:rPr b="0" lang="ru-RU" sz="1600" spc="-1" strike="noStrike" u="sng">
                <a:solidFill>
                  <a:srgbClr val="1485a0"/>
                </a:solidFill>
                <a:uFillTx/>
                <a:latin typeface="Calibri"/>
              </a:rPr>
              <a:t>в случае, когда применение таких средств необходимо для нейтрализации актуальных угр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C:\Садовникова\Вебинар по ПДн\картинка\cube_with_question_mark_-big-stock-photo1-2f34wjy.jpg"/>
          <p:cNvPicPr/>
          <p:nvPr/>
        </p:nvPicPr>
        <p:blipFill>
          <a:blip r:embed="rId1"/>
          <a:stretch/>
        </p:blipFill>
        <p:spPr>
          <a:xfrm>
            <a:off x="299160" y="98064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4"/>
          <p:cNvSpPr/>
          <p:nvPr/>
        </p:nvSpPr>
        <p:spPr>
          <a:xfrm>
            <a:off x="1763640" y="2349000"/>
            <a:ext cx="669636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использование средств защиты информации, не прошедших процедуру оценки соответствия, не может считаться фактором, снижающим вероятности каких-либо угро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при этом требование использования средств защиты информации, прошедших процедуру оценки соответствия, содержится в пункте 3 части 2 статьи 19 ФЗ-1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на настоящее время под упомянутой в ПП РФ №1119 процедурой оценки соответствия требованиям законодательства РФ в области обеспечения безопасности информации понимается именно </a:t>
            </a:r>
            <a:r>
              <a:rPr b="0" lang="ru-RU" sz="1600" spc="-1" strike="noStrike" u="sng">
                <a:solidFill>
                  <a:srgbClr val="595959"/>
                </a:solidFill>
                <a:uFillTx/>
                <a:latin typeface="Calibri"/>
              </a:rPr>
              <a:t>сертифик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текущие сертификаты соответствия средств защиты информации переоформлению не подлеж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ftr" idx="24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Скругленный прямоугольник 6"/>
          <p:cNvSpPr/>
          <p:nvPr/>
        </p:nvSpPr>
        <p:spPr>
          <a:xfrm>
            <a:off x="1763640" y="1165320"/>
            <a:ext cx="7056360" cy="1070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ограничение доступа к содержанию </a:t>
            </a:r>
            <a:r>
              <a:rPr b="0" lang="ru-RU" sz="1600" spc="-1" strike="noStrike" u="sng">
                <a:solidFill>
                  <a:srgbClr val="1485a0"/>
                </a:solidFill>
                <a:uFillTx/>
                <a:latin typeface="Calibri"/>
              </a:rPr>
              <a:t>электронного журнала сообщений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только для должностных лиц (работников) оператора или уполномоченного лица, которым сведения, содержащиеся в указанном журнале, необходимы для выполнения служебных (трудовых) обязан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7"/>
          <p:cNvSpPr/>
          <p:nvPr/>
        </p:nvSpPr>
        <p:spPr>
          <a:xfrm>
            <a:off x="1763640" y="3941280"/>
            <a:ext cx="7056360" cy="791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автоматическая регистрация в </a:t>
            </a:r>
            <a:r>
              <a:rPr b="0" lang="ru-RU" sz="1600" spc="-1" strike="noStrike" u="sng">
                <a:solidFill>
                  <a:srgbClr val="1485a0"/>
                </a:solidFill>
                <a:uFillTx/>
                <a:latin typeface="Calibri"/>
              </a:rPr>
              <a:t>электронном журнале безопасности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зменений полномочий сотрудников оператора по доступу к ПДн, содержащимся в ИС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C:\Садовникова\Вебинар по ПДн\картинка\cube_with_question_mark_-big-stock-photo1-2f34wjy.jpg"/>
          <p:cNvPicPr/>
          <p:nvPr/>
        </p:nvPicPr>
        <p:blipFill>
          <a:blip r:embed="rId1"/>
          <a:stretch/>
        </p:blipFill>
        <p:spPr>
          <a:xfrm>
            <a:off x="299160" y="105264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1"/>
          <p:cNvSpPr/>
          <p:nvPr/>
        </p:nvSpPr>
        <p:spPr>
          <a:xfrm>
            <a:off x="1763640" y="2356920"/>
            <a:ext cx="669636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под электронным журналом сообщений понимается электронный журнал, в котором автоматизированными средствами информационной системы регистрируются запросы пользователей информационной системы на получение ПДн, а также факты предоставления ПДн по этим запрос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C:\Садовникова\Вебинар по ПДн\картинка\cube_with_question_mark_-big-stock-photo1-2f34wjy.jpg"/>
          <p:cNvPicPr/>
          <p:nvPr/>
        </p:nvPicPr>
        <p:blipFill>
          <a:blip r:embed="rId2"/>
          <a:stretch/>
        </p:blipFill>
        <p:spPr>
          <a:xfrm>
            <a:off x="299160" y="3689280"/>
            <a:ext cx="1295640" cy="12956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15"/>
          <p:cNvSpPr/>
          <p:nvPr/>
        </p:nvSpPr>
        <p:spPr>
          <a:xfrm>
            <a:off x="1763640" y="4921920"/>
            <a:ext cx="6696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</a:rPr>
              <a:t>под электронным журналом безопасности понимается электронный журнал, в котором отражены полномочия сотрудника оператора по доступу к ПДн, содержащимся в информационной систе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Заголовок 1"/>
          <p:cNvSpPr/>
          <p:nvPr/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Как действовать операторам, 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завершившим работы по защите пд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5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Прямоугольник 14"/>
          <p:cNvSpPr/>
          <p:nvPr/>
        </p:nvSpPr>
        <p:spPr>
          <a:xfrm>
            <a:off x="323640" y="982440"/>
            <a:ext cx="8352720" cy="1306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Как действовать операторам, которые только что закончили работы по защите ПДн (приведение процессов обработки ПДн и ИСПДн в соответствие с требованиями законодательства РФ, построение СЗПДн), которые выполнялись на основании требований утратившего силу Постановления №781 и нормативных правовых актов, разработанных во исполнение Постановления №781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5"/>
          <p:cNvSpPr/>
          <p:nvPr/>
        </p:nvSpPr>
        <p:spPr>
          <a:xfrm>
            <a:off x="165600" y="2459880"/>
            <a:ext cx="4320000" cy="3633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sp>
        <p:nvSpPr>
          <p:cNvPr id="354" name="Скругленный прямоугольник 6"/>
          <p:cNvSpPr/>
          <p:nvPr/>
        </p:nvSpPr>
        <p:spPr>
          <a:xfrm>
            <a:off x="4638600" y="2459880"/>
            <a:ext cx="4320000" cy="3633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1600" spc="-1" strike="noStrike">
              <a:solidFill>
                <a:srgbClr val="4d4d4d"/>
              </a:solidFill>
              <a:latin typeface="Calibri"/>
            </a:endParaRPr>
          </a:p>
        </p:txBody>
      </p:sp>
      <p:pic>
        <p:nvPicPr>
          <p:cNvPr id="355" name="Picture 8" descr=""/>
          <p:cNvPicPr/>
          <p:nvPr/>
        </p:nvPicPr>
        <p:blipFill>
          <a:blip r:embed="rId1"/>
          <a:stretch/>
        </p:blipFill>
        <p:spPr>
          <a:xfrm>
            <a:off x="340560" y="2686320"/>
            <a:ext cx="774720" cy="1030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1" descr=""/>
          <p:cNvPicPr/>
          <p:nvPr/>
        </p:nvPicPr>
        <p:blipFill>
          <a:blip r:embed="rId2"/>
          <a:stretch/>
        </p:blipFill>
        <p:spPr>
          <a:xfrm>
            <a:off x="4887360" y="2639880"/>
            <a:ext cx="692280" cy="114876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16"/>
          <p:cNvSpPr/>
          <p:nvPr/>
        </p:nvSpPr>
        <p:spPr>
          <a:xfrm>
            <a:off x="1331640" y="2617200"/>
            <a:ext cx="2814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озиция ФСТЭК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6"/>
          <p:cNvSpPr/>
          <p:nvPr/>
        </p:nvSpPr>
        <p:spPr>
          <a:xfrm>
            <a:off x="5796000" y="2617200"/>
            <a:ext cx="28144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озиция ФСБ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6"/>
          <p:cNvSpPr/>
          <p:nvPr/>
        </p:nvSpPr>
        <p:spPr>
          <a:xfrm>
            <a:off x="4887360" y="3060360"/>
            <a:ext cx="390276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В настоящее время ПП РФ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№1119 уже является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действующим нормативным документом и каких-либо отсрочек в части выполнения установленных им требований не предусматривает. В то же время, в ходе проводимых ФСБ России контрольных мероприятий необходимость наличия определенного времени на доработку системы защиты персональных данных (в случае, если такая необходимость возникла в связи с принятием ПП РФ №1119) будет учитыва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17"/>
          <p:cNvSpPr/>
          <p:nvPr/>
        </p:nvSpPr>
        <p:spPr>
          <a:xfrm>
            <a:off x="395640" y="3060360"/>
            <a:ext cx="392364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Нормативный правовой акт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ФСТЭК России, 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устанавливающий состав и содержание организационных и технических мер по обеспечению безопасности персональных данных при их обработке в информационных системах персональных данных, будет применяться к информационным системам персональных данных, для которых решение о создании системы защиты информации будет принято после вступления в силу указанного нормативного правового ак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ftr" idx="8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979640" y="2997000"/>
            <a:ext cx="514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 </a:t>
            </a:r>
            <a:br>
              <a:rPr sz="2800"/>
            </a:b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 персональных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79640" y="2997000"/>
            <a:ext cx="514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пыт проведения проверок роскоМнадзора</a:t>
            </a:r>
            <a:br>
              <a:rPr sz="2800"/>
            </a:br>
            <a:br>
              <a:rPr sz="2800"/>
            </a:b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сновные рекомендации операторам</a:t>
            </a:r>
            <a:br>
              <a:rPr sz="19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ftr" idx="27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Подзаголовок 2"/>
          <p:cNvSpPr/>
          <p:nvPr/>
        </p:nvSpPr>
        <p:spPr>
          <a:xfrm>
            <a:off x="2740320" y="4101480"/>
            <a:ext cx="3580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79"/>
              </a:spcBef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ПРАВА И ОБЯЗА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одзаголовок 2"/>
          <p:cNvSpPr/>
          <p:nvPr/>
        </p:nvSpPr>
        <p:spPr>
          <a:xfrm>
            <a:off x="1869120" y="4893120"/>
            <a:ext cx="7704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81"/>
              </a:spcBef>
            </a:pPr>
            <a:endParaRPr b="1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Рисунок 13" descr="DeltaIcon88_256x256-32.png"/>
          <p:cNvPicPr/>
          <p:nvPr/>
        </p:nvPicPr>
        <p:blipFill>
          <a:blip r:embed="rId1"/>
          <a:stretch/>
        </p:blipFill>
        <p:spPr>
          <a:xfrm>
            <a:off x="650160" y="1158480"/>
            <a:ext cx="1146960" cy="114696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1"/>
          <p:cNvSpPr/>
          <p:nvPr/>
        </p:nvSpPr>
        <p:spPr>
          <a:xfrm>
            <a:off x="5116680" y="5264280"/>
            <a:ext cx="36720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320"/>
              </a:spcBef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лиц, в отношении которых 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осуществляются мероприятия 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по контро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2"/>
          <p:cNvSpPr/>
          <p:nvPr/>
        </p:nvSpPr>
        <p:spPr>
          <a:xfrm>
            <a:off x="273960" y="5264280"/>
            <a:ext cx="36900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90000"/>
              </a:lnSpc>
              <a:spcBef>
                <a:spcPts val="320"/>
              </a:spcBef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должностных лиц при 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осуществлении государственного </a:t>
            </a:r>
            <a:br>
              <a:rPr sz="1600"/>
            </a:b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контроля (надзор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трелка вправо 4"/>
          <p:cNvSpPr/>
          <p:nvPr/>
        </p:nvSpPr>
        <p:spPr>
          <a:xfrm rot="7075800">
            <a:off x="3345840" y="4696920"/>
            <a:ext cx="575640" cy="44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f0ec"/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0" name="Стрелка вправо 14"/>
          <p:cNvSpPr/>
          <p:nvPr/>
        </p:nvSpPr>
        <p:spPr>
          <a:xfrm rot="4068000">
            <a:off x="5142600" y="4690080"/>
            <a:ext cx="575640" cy="44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f0ec"/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Нормативная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ый прямоугольник 16"/>
          <p:cNvSpPr/>
          <p:nvPr/>
        </p:nvSpPr>
        <p:spPr>
          <a:xfrm>
            <a:off x="1979640" y="920520"/>
            <a:ext cx="6874200" cy="16776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АДМИНИСТРАТИВНЫЙ РЕГЛАМЕН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исполнения Федеральной службой по надзору в сфере связи, информационных технологий и массовых коммуникаций государственной функции по осуществлению государственного контроля (надзора) за соответствием обработки персональных данных требованиям законодательства Российской Федерации в области персональных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кругленный прямоугольник 17"/>
          <p:cNvSpPr/>
          <p:nvPr/>
        </p:nvSpPr>
        <p:spPr>
          <a:xfrm>
            <a:off x="1991520" y="2790720"/>
            <a:ext cx="6874200" cy="114192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Федеральный закон от 26.12.2008г. №294-Ф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 защите прав юридических лиц и индивидуаль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редпринимателей при осуществлении государственного контро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(надзора) и муниципального контроля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ftr" idx="28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Формат проведения прове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одзаголовок 2"/>
          <p:cNvSpPr/>
          <p:nvPr/>
        </p:nvSpPr>
        <p:spPr>
          <a:xfrm>
            <a:off x="827640" y="2349000"/>
            <a:ext cx="33120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320"/>
              </a:spcBef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ПЛАНОВЫЕ И ВНЕПЛАН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одзаголовок 2"/>
          <p:cNvSpPr/>
          <p:nvPr/>
        </p:nvSpPr>
        <p:spPr>
          <a:xfrm>
            <a:off x="5220000" y="2349000"/>
            <a:ext cx="37440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320"/>
              </a:spcBef>
            </a:pPr>
            <a:r>
              <a:rPr b="0" lang="ru-RU" sz="1600" spc="-1" strike="noStrike">
                <a:solidFill>
                  <a:srgbClr val="4d4d4d"/>
                </a:solidFill>
                <a:latin typeface="Arial"/>
              </a:rPr>
              <a:t>ДОКУМЕНТАРНЫЕ И ВЫЕЗД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одзаголовок 2"/>
          <p:cNvSpPr/>
          <p:nvPr/>
        </p:nvSpPr>
        <p:spPr>
          <a:xfrm>
            <a:off x="467640" y="3213000"/>
            <a:ext cx="849672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</a:pPr>
            <a:endParaRPr b="0" lang="ru-RU" sz="16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9" name="Подзаголовок 2"/>
          <p:cNvSpPr/>
          <p:nvPr/>
        </p:nvSpPr>
        <p:spPr>
          <a:xfrm>
            <a:off x="755640" y="3213000"/>
            <a:ext cx="7344360" cy="25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Ежегодный план проведения плановых проверок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(размещается на официальном сайт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рок проведения как плановой, так и внеплановой проверки не может превышать двадцать рабочих д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 случае возникновения необходимости срок проведения проверки может быть продлен, но на срок не более двадцати рабочих д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одзаголовок 2"/>
          <p:cNvSpPr/>
          <p:nvPr/>
        </p:nvSpPr>
        <p:spPr>
          <a:xfrm>
            <a:off x="2339640" y="1052640"/>
            <a:ext cx="4464000" cy="5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79"/>
              </a:spcBef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ПРОВЕРКИ РОСКОМНАДЗ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Стрелка вправо 14"/>
          <p:cNvSpPr/>
          <p:nvPr/>
        </p:nvSpPr>
        <p:spPr>
          <a:xfrm rot="4068000">
            <a:off x="5174280" y="1693800"/>
            <a:ext cx="575640" cy="44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f0ec"/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2" name="Стрелка вправо 15"/>
          <p:cNvSpPr/>
          <p:nvPr/>
        </p:nvSpPr>
        <p:spPr>
          <a:xfrm rot="7075800">
            <a:off x="3377520" y="1700640"/>
            <a:ext cx="575640" cy="442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f0ec"/>
          </a:solidFill>
          <a:ln>
            <a:solidFill>
              <a:srgbClr val="ff66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ftr" idx="29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С чего всё начин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одзаголовок 2"/>
          <p:cNvSpPr/>
          <p:nvPr/>
        </p:nvSpPr>
        <p:spPr>
          <a:xfrm>
            <a:off x="2833920" y="2925000"/>
            <a:ext cx="489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одзаголовок 2"/>
          <p:cNvSpPr/>
          <p:nvPr/>
        </p:nvSpPr>
        <p:spPr>
          <a:xfrm>
            <a:off x="2833920" y="3861000"/>
            <a:ext cx="5400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1" lang="ru-RU" sz="1600" spc="-1" strike="noStrike">
              <a:solidFill>
                <a:srgbClr val="1485a0"/>
              </a:solidFill>
              <a:latin typeface="Arial"/>
            </a:endParaRPr>
          </a:p>
        </p:txBody>
      </p:sp>
      <p:pic>
        <p:nvPicPr>
          <p:cNvPr id="387" name="Рисунок 14" descr="DeltaIcon88_256x256-32.png"/>
          <p:cNvPicPr/>
          <p:nvPr/>
        </p:nvPicPr>
        <p:blipFill>
          <a:blip r:embed="rId1"/>
          <a:stretch/>
        </p:blipFill>
        <p:spPr>
          <a:xfrm>
            <a:off x="683640" y="1998720"/>
            <a:ext cx="2437920" cy="2437920"/>
          </a:xfrm>
          <a:prstGeom prst="rect">
            <a:avLst/>
          </a:prstGeom>
          <a:ln w="0">
            <a:noFill/>
          </a:ln>
        </p:spPr>
      </p:pic>
      <p:sp>
        <p:nvSpPr>
          <p:cNvPr id="388" name="Скругленный прямоугольник 10"/>
          <p:cNvSpPr/>
          <p:nvPr/>
        </p:nvSpPr>
        <p:spPr>
          <a:xfrm>
            <a:off x="3132000" y="1488240"/>
            <a:ext cx="5184360" cy="8384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РИКАЗ О ПРОВЕДЕНИИ ПРО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Скругленный прямоугольник 11"/>
          <p:cNvSpPr/>
          <p:nvPr/>
        </p:nvSpPr>
        <p:spPr>
          <a:xfrm>
            <a:off x="3157920" y="2925000"/>
            <a:ext cx="5184360" cy="8384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УВЕДОМЛЕНИЕ О ПРОВЕДЕНИИ ПРО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13"/>
          <p:cNvSpPr/>
          <p:nvPr/>
        </p:nvSpPr>
        <p:spPr>
          <a:xfrm>
            <a:off x="3165840" y="4365000"/>
            <a:ext cx="5184360" cy="8384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РОГРАММА ПРОВЕДЕНИЯ ПЛАНОВОЙ ПРОВЕРКИ </a:t>
            </a:r>
            <a:br>
              <a:rPr sz="1600"/>
            </a:b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(+ ПЕРЕЧЕНЬ ПРОВЕРЯЕМЫХ ТРЕБОВ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ftr" idx="30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одзаголовок 2"/>
          <p:cNvSpPr/>
          <p:nvPr/>
        </p:nvSpPr>
        <p:spPr>
          <a:xfrm>
            <a:off x="611640" y="2133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оберите всю имеющуюся документа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оведите самоаудит, основываясь на перечне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оверяемых требований, указанных в программе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оведения провер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одзаголовок 2"/>
          <p:cNvSpPr/>
          <p:nvPr/>
        </p:nvSpPr>
        <p:spPr>
          <a:xfrm>
            <a:off x="611640" y="3717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се ли пункты требований перекрываются вашей организационно-распорядительной документаци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се ли требования реально реализова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Рисунок 5" descr="applicant.jpg"/>
          <p:cNvPicPr/>
          <p:nvPr/>
        </p:nvPicPr>
        <p:blipFill>
          <a:blip r:embed="rId1"/>
          <a:stretch/>
        </p:blipFill>
        <p:spPr>
          <a:xfrm>
            <a:off x="6591600" y="1989000"/>
            <a:ext cx="1531800" cy="1872000"/>
          </a:xfrm>
          <a:prstGeom prst="rect">
            <a:avLst/>
          </a:prstGeom>
          <a:ln w="9525">
            <a:noFill/>
          </a:ln>
        </p:spPr>
      </p:pic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ftr" idx="31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Подзаголовок 2"/>
          <p:cNvSpPr/>
          <p:nvPr/>
        </p:nvSpPr>
        <p:spPr>
          <a:xfrm>
            <a:off x="179640" y="1700640"/>
            <a:ext cx="49683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Z:\Мои документы\Фигня\фотолиа\image-9cd3a523.jpg"/>
          <p:cNvPicPr/>
          <p:nvPr/>
        </p:nvPicPr>
        <p:blipFill>
          <a:blip r:embed="rId1"/>
          <a:stretch/>
        </p:blipFill>
        <p:spPr>
          <a:xfrm>
            <a:off x="5508000" y="1053000"/>
            <a:ext cx="3095280" cy="2015640"/>
          </a:xfrm>
          <a:prstGeom prst="rect">
            <a:avLst/>
          </a:prstGeom>
          <a:ln w="9525">
            <a:noFill/>
          </a:ln>
        </p:spPr>
      </p:pic>
      <p:sp>
        <p:nvSpPr>
          <p:cNvPr id="400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одзаголовок 2"/>
          <p:cNvSpPr/>
          <p:nvPr/>
        </p:nvSpPr>
        <p:spPr>
          <a:xfrm>
            <a:off x="611640" y="2133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повещение работников о проведении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 проверки на территории офи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Напоминание всем о существовании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рганизационно-распорядительной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кументации и необходимости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знакомится с ней при необход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одзаголовок 2"/>
          <p:cNvSpPr/>
          <p:nvPr/>
        </p:nvSpPr>
        <p:spPr>
          <a:xfrm>
            <a:off x="611640" y="3933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се реально ознакомлены с документами, и это зафиксирова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Реально ли исполняются ли требования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ftr" idx="32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Подзаголовок 2"/>
          <p:cNvSpPr/>
          <p:nvPr/>
        </p:nvSpPr>
        <p:spPr>
          <a:xfrm>
            <a:off x="179640" y="2133000"/>
            <a:ext cx="88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одзаголовок 2"/>
          <p:cNvSpPr/>
          <p:nvPr/>
        </p:nvSpPr>
        <p:spPr>
          <a:xfrm>
            <a:off x="179640" y="1700640"/>
            <a:ext cx="49683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одзаголовок 2"/>
          <p:cNvSpPr/>
          <p:nvPr/>
        </p:nvSpPr>
        <p:spPr>
          <a:xfrm>
            <a:off x="611640" y="2133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«Свежесть» предоставляемых докумен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оздаём хорошее впечатление (чистота и порядок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одзаголовок 2"/>
          <p:cNvSpPr/>
          <p:nvPr/>
        </p:nvSpPr>
        <p:spPr>
          <a:xfrm>
            <a:off x="611640" y="3429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нести до проверяющих мысль о том, что мы добросовестные операторы и стремимся выполнить закон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 случае привлечения внешних консультантов, оповестите об этом     ответственное  лицо со стороны проверяющих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ftr" idx="33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Подзаголовок 2"/>
          <p:cNvSpPr/>
          <p:nvPr/>
        </p:nvSpPr>
        <p:spPr>
          <a:xfrm>
            <a:off x="323640" y="1484640"/>
            <a:ext cx="849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БОЛЬШИЙ ИНТЕРЕС СО СТОРОНЫ ПРОВЕРЯЮ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одзаголовок 2"/>
          <p:cNvSpPr/>
          <p:nvPr/>
        </p:nvSpPr>
        <p:spPr>
          <a:xfrm>
            <a:off x="1224000" y="2565000"/>
            <a:ext cx="882000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рганизация пропускного режи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Бухгалтер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тдел кад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ервисы, предоставляемые через сай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Рисунок 13" descr="marketing.jpg"/>
          <p:cNvPicPr/>
          <p:nvPr/>
        </p:nvPicPr>
        <p:blipFill>
          <a:blip r:embed="rId1"/>
          <a:stretch/>
        </p:blipFill>
        <p:spPr>
          <a:xfrm>
            <a:off x="6084000" y="2607480"/>
            <a:ext cx="1642680" cy="1642680"/>
          </a:xfrm>
          <a:prstGeom prst="rect">
            <a:avLst/>
          </a:prstGeom>
          <a:ln w="9525">
            <a:noFill/>
          </a:ln>
        </p:spPr>
      </p:pic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ftr" idx="34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Подзаголовок 2"/>
          <p:cNvSpPr/>
          <p:nvPr/>
        </p:nvSpPr>
        <p:spPr>
          <a:xfrm>
            <a:off x="179640" y="2133000"/>
            <a:ext cx="88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одзаголовок 2"/>
          <p:cNvSpPr/>
          <p:nvPr/>
        </p:nvSpPr>
        <p:spPr>
          <a:xfrm>
            <a:off x="179640" y="2133000"/>
            <a:ext cx="88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одзаголовок 2"/>
          <p:cNvSpPr/>
          <p:nvPr/>
        </p:nvSpPr>
        <p:spPr>
          <a:xfrm>
            <a:off x="179640" y="1700640"/>
            <a:ext cx="49683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одзаголовок 2"/>
          <p:cNvSpPr/>
          <p:nvPr/>
        </p:nvSpPr>
        <p:spPr>
          <a:xfrm>
            <a:off x="611640" y="2133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отокол/акт проверки (внимание к деталя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одзаголовок 2"/>
          <p:cNvSpPr/>
          <p:nvPr/>
        </p:nvSpPr>
        <p:spPr>
          <a:xfrm>
            <a:off x="611640" y="3429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Каждое замечание/недостаток должно иметь под собой законное осн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сегда письменно излагайте свои возра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Рисунок 13" descr="marketing.jpg"/>
          <p:cNvPicPr/>
          <p:nvPr/>
        </p:nvPicPr>
        <p:blipFill>
          <a:blip r:embed="rId1"/>
          <a:stretch/>
        </p:blipFill>
        <p:spPr>
          <a:xfrm>
            <a:off x="6084000" y="2133000"/>
            <a:ext cx="1642680" cy="1642680"/>
          </a:xfrm>
          <a:prstGeom prst="rect">
            <a:avLst/>
          </a:prstGeom>
          <a:ln w="9525">
            <a:noFill/>
          </a:ln>
        </p:spPr>
      </p:pic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ftr" idx="35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Подзаголовок 2"/>
          <p:cNvSpPr/>
          <p:nvPr/>
        </p:nvSpPr>
        <p:spPr>
          <a:xfrm>
            <a:off x="179640" y="2133000"/>
            <a:ext cx="8820000" cy="9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Рисунок 5" descr="seminar-formirovanie-ranney-kommunikacii-u-mladencev-iz-grupp-medicinskogo-biologicheskogo-i-socialnogo-riska-big.jpeg"/>
          <p:cNvPicPr/>
          <p:nvPr/>
        </p:nvPicPr>
        <p:blipFill>
          <a:blip r:embed="rId1"/>
          <a:stretch/>
        </p:blipFill>
        <p:spPr>
          <a:xfrm>
            <a:off x="6444360" y="1560240"/>
            <a:ext cx="1476000" cy="1819800"/>
          </a:xfrm>
          <a:prstGeom prst="rect">
            <a:avLst/>
          </a:prstGeom>
          <a:ln w="9525">
            <a:noFill/>
          </a:ln>
        </p:spPr>
      </p:pic>
      <p:sp>
        <p:nvSpPr>
          <p:cNvPr id="428" name="Подзаголовок 2"/>
          <p:cNvSpPr/>
          <p:nvPr/>
        </p:nvSpPr>
        <p:spPr>
          <a:xfrm>
            <a:off x="179640" y="2133000"/>
            <a:ext cx="88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одзаголовок 2"/>
          <p:cNvSpPr/>
          <p:nvPr/>
        </p:nvSpPr>
        <p:spPr>
          <a:xfrm>
            <a:off x="179640" y="2133000"/>
            <a:ext cx="882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одзаголовок 2"/>
          <p:cNvSpPr/>
          <p:nvPr/>
        </p:nvSpPr>
        <p:spPr>
          <a:xfrm>
            <a:off x="179640" y="1700640"/>
            <a:ext cx="496836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одзаголовок 2"/>
          <p:cNvSpPr/>
          <p:nvPr/>
        </p:nvSpPr>
        <p:spPr>
          <a:xfrm>
            <a:off x="611640" y="2133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Оперативное реагирование на замеч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кументальное подтверждение того,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что недостаток устранё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одзаголовок 2"/>
          <p:cNvSpPr/>
          <p:nvPr/>
        </p:nvSpPr>
        <p:spPr>
          <a:xfrm>
            <a:off x="611640" y="3429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оверяющие лояльно относятся к возможности устранения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ыявленных недостат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Реагировать необходимо не только на недостатки,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указанные в протоколе, но и на устные замеч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9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Скругленный прямоугольник 12"/>
          <p:cNvSpPr/>
          <p:nvPr/>
        </p:nvSpPr>
        <p:spPr>
          <a:xfrm>
            <a:off x="3023640" y="1052640"/>
            <a:ext cx="309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Федеральный закон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от 27.07.2006 </a:t>
            </a:r>
            <a:r>
              <a:rPr b="1" lang="ru-RU" sz="1800" spc="-1" strike="noStrike">
                <a:solidFill>
                  <a:srgbClr val="1485a0"/>
                </a:solidFill>
                <a:latin typeface="Calibri"/>
              </a:rPr>
              <a:t>№152-ФЗ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«О персональных дан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Группа 25"/>
          <p:cNvGrpSpPr/>
          <p:nvPr/>
        </p:nvGrpSpPr>
        <p:grpSpPr>
          <a:xfrm>
            <a:off x="384120" y="1030320"/>
            <a:ext cx="1151640" cy="1139400"/>
            <a:chOff x="384120" y="1030320"/>
            <a:chExt cx="1151640" cy="1139400"/>
          </a:xfrm>
        </p:grpSpPr>
        <p:pic>
          <p:nvPicPr>
            <p:cNvPr id="177" name="Рисунок 4" descr=""/>
            <p:cNvPicPr/>
            <p:nvPr/>
          </p:nvPicPr>
          <p:blipFill>
            <a:blip r:embed="rId1"/>
            <a:stretch/>
          </p:blipFill>
          <p:spPr>
            <a:xfrm>
              <a:off x="384120" y="1030320"/>
              <a:ext cx="115164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13"/>
            <p:cNvSpPr/>
            <p:nvPr/>
          </p:nvSpPr>
          <p:spPr>
            <a:xfrm>
              <a:off x="456120" y="1227600"/>
              <a:ext cx="10076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ию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262626"/>
                  </a:solidFill>
                  <a:latin typeface="Arial"/>
                </a:rPr>
                <a:t>27</a:t>
              </a:r>
              <a:r>
                <a:rPr b="1" lang="ru-RU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20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Скругленный прямоугольник 7"/>
          <p:cNvSpPr/>
          <p:nvPr/>
        </p:nvSpPr>
        <p:spPr>
          <a:xfrm>
            <a:off x="25128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7.11.2007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781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беспечении безопасности ПДн при их обработке в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8"/>
          <p:cNvSpPr/>
          <p:nvPr/>
        </p:nvSpPr>
        <p:spPr>
          <a:xfrm>
            <a:off x="318564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06.07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 512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требований к материальным носителям биометрических ПДн и технологиям хранения таких данных вне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9"/>
          <p:cNvSpPr/>
          <p:nvPr/>
        </p:nvSpPr>
        <p:spPr>
          <a:xfrm>
            <a:off x="6156000" y="2421000"/>
            <a:ext cx="278136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5.09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687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собенностях обработки ПДн, осуществляемой без использования средств автоматиз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Прямая соединительная линия 10"/>
          <p:cNvCxnSpPr/>
          <p:nvPr/>
        </p:nvCxnSpPr>
        <p:spPr>
          <a:xfrm flipH="1">
            <a:off x="2699640" y="2132640"/>
            <a:ext cx="43236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183" name="Прямая соединительная линия 11"/>
          <p:cNvCxnSpPr/>
          <p:nvPr/>
        </p:nvCxnSpPr>
        <p:spPr>
          <a:xfrm>
            <a:off x="6003360" y="2132640"/>
            <a:ext cx="4813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184" name="Прямая соединительная линия 14"/>
          <p:cNvCxnSpPr>
            <a:endCxn id="180" idx="0"/>
          </p:cNvCxnSpPr>
          <p:nvPr/>
        </p:nvCxnSpPr>
        <p:spPr>
          <a:xfrm flipH="1">
            <a:off x="4571640" y="2132640"/>
            <a:ext cx="7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ftr" idx="36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Подзаголовок 2"/>
          <p:cNvSpPr/>
          <p:nvPr/>
        </p:nvSpPr>
        <p:spPr>
          <a:xfrm>
            <a:off x="323640" y="1268640"/>
            <a:ext cx="5904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24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Рисунок 5" descr="omino-crav_0.jpg"/>
          <p:cNvPicPr/>
          <p:nvPr/>
        </p:nvPicPr>
        <p:blipFill>
          <a:blip r:embed="rId1"/>
          <a:stretch/>
        </p:blipFill>
        <p:spPr>
          <a:xfrm>
            <a:off x="6444360" y="1053000"/>
            <a:ext cx="2036520" cy="2231640"/>
          </a:xfrm>
          <a:prstGeom prst="rect">
            <a:avLst/>
          </a:prstGeom>
          <a:ln w="9525">
            <a:noFill/>
          </a:ln>
        </p:spPr>
      </p:pic>
      <p:sp>
        <p:nvSpPr>
          <p:cNvPr id="438" name="Подзаголовок 2"/>
          <p:cNvSpPr/>
          <p:nvPr/>
        </p:nvSpPr>
        <p:spPr>
          <a:xfrm>
            <a:off x="683640" y="1340640"/>
            <a:ext cx="80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ru-RU" sz="2400" spc="-1" strike="noStrike">
                <a:solidFill>
                  <a:srgbClr val="1485a0"/>
                </a:solidFill>
                <a:latin typeface="Calibri"/>
              </a:rPr>
              <a:t>РЕКОМЕНДАЦИЯ №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одзаголовок 2"/>
          <p:cNvSpPr/>
          <p:nvPr/>
        </p:nvSpPr>
        <p:spPr>
          <a:xfrm>
            <a:off x="611640" y="1917000"/>
            <a:ext cx="849672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С пониманием отнеситесь к запросам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информации со стороны проверяющих…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им же тоже отчет надо писа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0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одзаголовок 2"/>
          <p:cNvSpPr/>
          <p:nvPr/>
        </p:nvSpPr>
        <p:spPr>
          <a:xfrm>
            <a:off x="611640" y="2853000"/>
            <a:ext cx="8496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</a:tabLst>
            </a:pPr>
            <a:r>
              <a:rPr b="0" lang="ru-RU" sz="2500" spc="-1" strike="noStrike" cap="all">
                <a:solidFill>
                  <a:srgbClr val="ff6600"/>
                </a:solidFill>
                <a:latin typeface="Calibri"/>
              </a:rPr>
              <a:t>Важно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о каждому пункту запроса проверяющий должен получить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документально подтвержденный  отв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Не игнорируйте запросы, даже если они касаются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предоставления информации о процессах,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которых нет в Вашей организ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ff7401"/>
              </a:buClr>
              <a:buSzPct val="130000"/>
              <a:buFont typeface="Wingdings" charset="2"/>
              <a:buChar char=""/>
              <a:tabLst>
                <a:tab algn="l" pos="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Все документы, на которые вы ссылаетесь в справках </a:t>
            </a:r>
            <a:br>
              <a:rPr sz="1600"/>
            </a:br>
            <a:r>
              <a:rPr b="0" lang="ru-RU" sz="1600" spc="-1" strike="noStrike">
                <a:solidFill>
                  <a:srgbClr val="595959"/>
                </a:solidFill>
                <a:latin typeface="Arial"/>
              </a:rPr>
              <a:t>и информационных письмах должны быть так же предоставле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РЕКОМЕНДАЦИИ ОПЕРАТО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ftr" idx="37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Рисунок 4" descr=""/>
          <p:cNvPicPr/>
          <p:nvPr/>
        </p:nvPicPr>
        <p:blipFill>
          <a:blip r:embed="rId1"/>
          <a:stretch/>
        </p:blipFill>
        <p:spPr>
          <a:xfrm>
            <a:off x="2843640" y="3220560"/>
            <a:ext cx="3463920" cy="114408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1979640" y="2277000"/>
            <a:ext cx="5147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Знакомство с сервис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2286000" y="214200"/>
            <a:ext cx="307152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377172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1"/>
          <p:cNvSpPr/>
          <p:nvPr/>
        </p:nvSpPr>
        <p:spPr>
          <a:xfrm>
            <a:off x="-252360" y="4570560"/>
            <a:ext cx="8965800" cy="1234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Calibri"/>
              </a:rPr>
              <a:t>152</a:t>
            </a:r>
            <a:r>
              <a:rPr b="1" lang="en-US" sz="3600" spc="-1" strike="noStrike">
                <a:solidFill>
                  <a:srgbClr val="ff6600"/>
                </a:solidFill>
                <a:latin typeface="Calibri"/>
              </a:rPr>
              <a:t>pro –</a:t>
            </a:r>
            <a:r>
              <a:rPr b="1" lang="ru-RU" sz="3600" spc="-1" strike="noStrike">
                <a:solidFill>
                  <a:srgbClr val="ff6600"/>
                </a:solidFill>
                <a:latin typeface="Calibri"/>
              </a:rPr>
              <a:t> онлайн-эксперт в вопросах выполнения закона «О персональных данных»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4"/>
          <p:cNvSpPr/>
          <p:nvPr/>
        </p:nvSpPr>
        <p:spPr>
          <a:xfrm>
            <a:off x="3500280" y="5875200"/>
            <a:ext cx="5643720" cy="1440"/>
          </a:xfrm>
          <a:prstGeom prst="line">
            <a:avLst/>
          </a:prstGeom>
          <a:ln w="28575">
            <a:solidFill>
              <a:srgbClr val="46aa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8" descr=""/>
          <p:cNvPicPr/>
          <p:nvPr/>
        </p:nvPicPr>
        <p:blipFill>
          <a:blip r:embed="rId2"/>
          <a:stretch/>
        </p:blipFill>
        <p:spPr>
          <a:xfrm>
            <a:off x="0" y="-27000"/>
            <a:ext cx="9096120" cy="3600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3"/>
          <a:stretch/>
        </p:blipFill>
        <p:spPr>
          <a:xfrm>
            <a:off x="7451640" y="3552840"/>
            <a:ext cx="1692000" cy="73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ff6600"/>
                </a:solidFill>
                <a:latin typeface="Calibri"/>
              </a:rPr>
              <a:t>ФЕДЕРАЛЬНОЕ ЗАКОНОДА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14" descr=""/>
          <p:cNvPicPr/>
          <p:nvPr/>
        </p:nvPicPr>
        <p:blipFill>
          <a:blip r:embed="rId1"/>
          <a:stretch/>
        </p:blipFill>
        <p:spPr>
          <a:xfrm>
            <a:off x="1116000" y="4581360"/>
            <a:ext cx="1620360" cy="143964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6"/>
          <p:cNvSpPr/>
          <p:nvPr/>
        </p:nvSpPr>
        <p:spPr>
          <a:xfrm>
            <a:off x="1476360" y="1303200"/>
            <a:ext cx="76672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58920" indent="-276120" algn="ctr">
              <a:lnSpc>
                <a:spcPct val="8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1485a0"/>
                </a:solidFill>
                <a:latin typeface="Arial"/>
              </a:rPr>
              <a:t>26 января 2007 года вступил в си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276120" algn="ctr">
              <a:lnSpc>
                <a:spcPct val="8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1485a0"/>
                </a:solidFill>
                <a:latin typeface="Arial"/>
              </a:rPr>
              <a:t>Федеральный закон № 152-ФЗ </a:t>
            </a:r>
            <a:br>
              <a:rPr sz="2800"/>
            </a:br>
            <a:r>
              <a:rPr b="0" lang="ru-RU" sz="2800" spc="-1" strike="noStrike">
                <a:solidFill>
                  <a:srgbClr val="1485a0"/>
                </a:solidFill>
                <a:latin typeface="Arial"/>
              </a:rPr>
              <a:t>«О персональных данны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7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1152000" cy="1612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894960" cy="11901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1" descr=""/>
          <p:cNvPicPr/>
          <p:nvPr/>
        </p:nvPicPr>
        <p:blipFill>
          <a:blip r:embed="rId4"/>
          <a:stretch/>
        </p:blipFill>
        <p:spPr>
          <a:xfrm>
            <a:off x="6875640" y="4586400"/>
            <a:ext cx="864720" cy="143460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оугольник 9"/>
          <p:cNvSpPr/>
          <p:nvPr/>
        </p:nvSpPr>
        <p:spPr>
          <a:xfrm>
            <a:off x="642960" y="2852640"/>
            <a:ext cx="8102160" cy="20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Закон обязывает Операторов персональных данных привести свои информационные системы персональных данных (ИСПДн) в соответствие требованиям Закона и  регулирующих орга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Регулирующими органами, ответственными за контроль соблюдения требований Закона, а также за формирование отдельных требований в рамках своих полномочий, определены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4"/>
          <p:cNvSpPr/>
          <p:nvPr/>
        </p:nvSpPr>
        <p:spPr>
          <a:xfrm>
            <a:off x="1191600" y="5877000"/>
            <a:ext cx="1362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Роскомнадз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6"/>
          <p:cNvSpPr/>
          <p:nvPr/>
        </p:nvSpPr>
        <p:spPr>
          <a:xfrm>
            <a:off x="4001400" y="5877000"/>
            <a:ext cx="1418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ФСТЭК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17"/>
          <p:cNvSpPr/>
          <p:nvPr/>
        </p:nvSpPr>
        <p:spPr>
          <a:xfrm>
            <a:off x="6665400" y="5877000"/>
            <a:ext cx="1200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ФСБ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2627280" y="906480"/>
            <a:ext cx="3820680" cy="525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3"/>
          <p:cNvSpPr/>
          <p:nvPr/>
        </p:nvSpPr>
        <p:spPr>
          <a:xfrm>
            <a:off x="468360" y="1628640"/>
            <a:ext cx="835164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выявленных в ходе проверок нарушений в 2011 году (2250) в 4 раза превысило показатели 2009 года (557)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ая сумм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енны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раф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 трехлетний пери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росла в 100 раз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ставила более 12 млн. руб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4"/>
          <p:cNvSpPr/>
          <p:nvPr/>
        </p:nvSpPr>
        <p:spPr>
          <a:xfrm>
            <a:off x="468360" y="3257640"/>
            <a:ext cx="82800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, по состоянию на конец 2009 года Роскомнадзором было рассмотрено 465 обращений, то в 2011 году эта цифра составила 3920, что демонстриру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-кратный рост количества рассмотренных обращений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5"/>
          <p:cNvSpPr/>
          <p:nvPr/>
        </p:nvSpPr>
        <p:spPr>
          <a:xfrm>
            <a:off x="684360" y="4633920"/>
            <a:ext cx="7991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отчета Роскомнадзора за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7"/>
          <p:cNvSpPr/>
          <p:nvPr/>
        </p:nvSpPr>
        <p:spPr>
          <a:xfrm>
            <a:off x="324000" y="1125360"/>
            <a:ext cx="8496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ботка персональных данных без согласия субъекта (субъектов) персональных данных в случаях, когда такое согласие обязательно, а равно обработка персональных данных с нарушением установленной законом формы согласия субъекта (субъектов) персональных данных, с целью извлечения дохода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еч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ожение административного штраф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граждан – от четырех тысяч до пяти тысяч рублей; на должностных лиц – от десяти тысяч до пятнадцати тысяч рублей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индивидуальных предпринимателе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в величине, равн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мме выруч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реализации товаров (услуг) с использованием персональных данных, обработка которых осуществлялась без согласия субъекта (субъектов) персональных данных …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календарный год…., но не менее 300 тысяч руб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идических лиц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…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менее 500 тысяч руб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8"/>
          <p:cNvSpPr/>
          <p:nvPr/>
        </p:nvSpPr>
        <p:spPr>
          <a:xfrm>
            <a:off x="1403280" y="4981680"/>
            <a:ext cx="741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 Федерального Закона «О внесении изменений в Кодекс Российской Федерации об административных правонарушения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СТАТ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5" descr=""/>
          <p:cNvPicPr/>
          <p:nvPr/>
        </p:nvPicPr>
        <p:blipFill>
          <a:blip r:embed="rId1"/>
          <a:stretch/>
        </p:blipFill>
        <p:spPr>
          <a:xfrm>
            <a:off x="0" y="1773360"/>
            <a:ext cx="4457520" cy="2657160"/>
          </a:xfrm>
          <a:prstGeom prst="rect">
            <a:avLst/>
          </a:prstGeom>
          <a:ln w="0">
            <a:noFill/>
          </a:ln>
        </p:spPr>
      </p:pic>
      <p:sp>
        <p:nvSpPr>
          <p:cNvPr id="469" name="Прямоугольник 10"/>
          <p:cNvSpPr/>
          <p:nvPr/>
        </p:nvSpPr>
        <p:spPr>
          <a:xfrm>
            <a:off x="504720" y="4365720"/>
            <a:ext cx="266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485a0"/>
                </a:solidFill>
                <a:latin typeface="Arial"/>
              </a:rPr>
              <a:t>Крупный биз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6" descr=""/>
          <p:cNvPicPr/>
          <p:nvPr/>
        </p:nvPicPr>
        <p:blipFill>
          <a:blip r:embed="rId2"/>
          <a:stretch/>
        </p:blipFill>
        <p:spPr>
          <a:xfrm>
            <a:off x="4572000" y="1916280"/>
            <a:ext cx="4428720" cy="263808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13"/>
          <p:cNvSpPr/>
          <p:nvPr/>
        </p:nvSpPr>
        <p:spPr>
          <a:xfrm>
            <a:off x="5148360" y="4437000"/>
            <a:ext cx="3384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485a0"/>
                </a:solidFill>
                <a:latin typeface="Arial"/>
              </a:rPr>
              <a:t>Малый и средний биз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2" name="Прямая соединительная линия 15"/>
          <p:cNvCxnSpPr/>
          <p:nvPr/>
        </p:nvCxnSpPr>
        <p:spPr>
          <a:xfrm>
            <a:off x="4572000" y="1196640"/>
            <a:ext cx="360" cy="4536000"/>
          </a:xfrm>
          <a:prstGeom prst="straightConnector1">
            <a:avLst/>
          </a:prstGeom>
          <a:ln w="28575">
            <a:solidFill>
              <a:srgbClr val="ffffff">
                <a:lumMod val="85000"/>
              </a:srgbClr>
            </a:solidFill>
            <a:prstDash val="sysDot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ОСНОВНЫЕ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"/>
          <p:cNvPicPr/>
          <p:nvPr/>
        </p:nvPicPr>
        <p:blipFill>
          <a:blip r:embed="rId1"/>
          <a:stretch/>
        </p:blipFill>
        <p:spPr>
          <a:xfrm>
            <a:off x="7020000" y="4149720"/>
            <a:ext cx="1907640" cy="180144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9"/>
          <p:cNvSpPr/>
          <p:nvPr/>
        </p:nvSpPr>
        <p:spPr>
          <a:xfrm>
            <a:off x="395280" y="2227320"/>
            <a:ext cx="489708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Отсутствие денежны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10"/>
          <p:cNvSpPr/>
          <p:nvPr/>
        </p:nvSpPr>
        <p:spPr>
          <a:xfrm>
            <a:off x="2556000" y="3019320"/>
            <a:ext cx="655272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Отсутствие квалифицированных кадров в шт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11"/>
          <p:cNvSpPr/>
          <p:nvPr/>
        </p:nvSpPr>
        <p:spPr>
          <a:xfrm>
            <a:off x="324000" y="3933720"/>
            <a:ext cx="7992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епонимание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еверное толк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орм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13"/>
          <p:cNvSpPr/>
          <p:nvPr/>
        </p:nvSpPr>
        <p:spPr>
          <a:xfrm>
            <a:off x="2771640" y="5157720"/>
            <a:ext cx="266364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Ко мне не придут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4"/>
          <p:cNvSpPr/>
          <p:nvPr/>
        </p:nvSpPr>
        <p:spPr>
          <a:xfrm>
            <a:off x="1042920" y="1052640"/>
            <a:ext cx="7849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Слабая осведомленность о существовании закона «О персональных дан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https://encrypted-tbn3.google.com/images?q=tbn:ANd9GcRD8ufyOCzIV_2bSGzZziRJ3Nf7J-4OGaqsnkIivG1ylnrnrC8x9Q"/>
          <p:cNvPicPr/>
          <p:nvPr/>
        </p:nvPicPr>
        <p:blipFill>
          <a:blip r:embed="rId1"/>
          <a:stretch/>
        </p:blipFill>
        <p:spPr>
          <a:xfrm>
            <a:off x="1332000" y="3807000"/>
            <a:ext cx="2376000" cy="2142720"/>
          </a:xfrm>
          <a:prstGeom prst="rect">
            <a:avLst/>
          </a:prstGeom>
          <a:ln w="0">
            <a:noFill/>
          </a:ln>
        </p:spPr>
      </p:pic>
      <p:sp>
        <p:nvSpPr>
          <p:cNvPr id="481" name="Скругленный прямоугольник 22"/>
          <p:cNvSpPr/>
          <p:nvPr/>
        </p:nvSpPr>
        <p:spPr>
          <a:xfrm>
            <a:off x="395280" y="3284640"/>
            <a:ext cx="417636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ЧТО ТРЕБ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Скругленный прямоугольник 8"/>
          <p:cNvSpPr/>
          <p:nvPr/>
        </p:nvSpPr>
        <p:spPr>
          <a:xfrm>
            <a:off x="250920" y="1197000"/>
            <a:ext cx="8713440" cy="71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Прямоугольник 12"/>
          <p:cNvSpPr/>
          <p:nvPr/>
        </p:nvSpPr>
        <p:spPr>
          <a:xfrm>
            <a:off x="324000" y="1352520"/>
            <a:ext cx="849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Выполнение закона 152-ФЗ «О персональных дан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16"/>
          <p:cNvSpPr/>
          <p:nvPr/>
        </p:nvSpPr>
        <p:spPr>
          <a:xfrm>
            <a:off x="-757080" y="3357720"/>
            <a:ext cx="6408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Проведение орг.меропри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кругленный прямоугольник 17"/>
          <p:cNvSpPr/>
          <p:nvPr/>
        </p:nvSpPr>
        <p:spPr>
          <a:xfrm>
            <a:off x="5076720" y="3357720"/>
            <a:ext cx="388728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Прямоугольник 18"/>
          <p:cNvSpPr/>
          <p:nvPr/>
        </p:nvSpPr>
        <p:spPr>
          <a:xfrm>
            <a:off x="5076720" y="3357720"/>
            <a:ext cx="3816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Установка средств защ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Штриховая стрелка вправо 20"/>
          <p:cNvSpPr/>
          <p:nvPr/>
        </p:nvSpPr>
        <p:spPr>
          <a:xfrm rot="5400000">
            <a:off x="1626480" y="2340720"/>
            <a:ext cx="1368000" cy="51876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Штриховая стрелка вправо 21"/>
          <p:cNvSpPr/>
          <p:nvPr/>
        </p:nvSpPr>
        <p:spPr>
          <a:xfrm rot="5400000">
            <a:off x="6307200" y="2341440"/>
            <a:ext cx="1368000" cy="51732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0" name="Picture 5" descr=""/>
          <p:cNvPicPr/>
          <p:nvPr/>
        </p:nvPicPr>
        <p:blipFill>
          <a:blip r:embed="rId2"/>
          <a:stretch/>
        </p:blipFill>
        <p:spPr>
          <a:xfrm>
            <a:off x="6300720" y="3984480"/>
            <a:ext cx="1655280" cy="189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10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Скругленный прямоугольник 12"/>
          <p:cNvSpPr/>
          <p:nvPr/>
        </p:nvSpPr>
        <p:spPr>
          <a:xfrm>
            <a:off x="3023640" y="1052640"/>
            <a:ext cx="309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Федеральный закон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от 27.07.2006 </a:t>
            </a:r>
            <a:r>
              <a:rPr b="1" lang="ru-RU" sz="1800" spc="-1" strike="noStrike">
                <a:solidFill>
                  <a:srgbClr val="1485a0"/>
                </a:solidFill>
                <a:latin typeface="Calibri"/>
              </a:rPr>
              <a:t>№152-ФЗ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«О персональных дан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16"/>
          <p:cNvSpPr/>
          <p:nvPr/>
        </p:nvSpPr>
        <p:spPr>
          <a:xfrm>
            <a:off x="2465640" y="1052640"/>
            <a:ext cx="4212360" cy="1223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7.11.2007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781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беспечении безопасности ПДн при их обработке в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Прямая соединительная линия 36"/>
          <p:cNvCxnSpPr/>
          <p:nvPr/>
        </p:nvCxnSpPr>
        <p:spPr>
          <a:xfrm flipH="1">
            <a:off x="1326960" y="2181600"/>
            <a:ext cx="1149840" cy="55260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190" name="Скругленный прямоугольник 17"/>
          <p:cNvSpPr/>
          <p:nvPr/>
        </p:nvSpPr>
        <p:spPr>
          <a:xfrm>
            <a:off x="2123640" y="2733840"/>
            <a:ext cx="3600000" cy="791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Методика определения актуальных угроз безопасности ПДн при их обработке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19"/>
          <p:cNvSpPr/>
          <p:nvPr/>
        </p:nvSpPr>
        <p:spPr>
          <a:xfrm>
            <a:off x="143280" y="2745000"/>
            <a:ext cx="1908000" cy="3081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Приказ ФСТЭК России, ФСБ России и </a:t>
            </a: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Мининформсвязи</a:t>
            </a: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 России от 13.02.2008  №55/86/20 «Об утверждении Порядка проведения классификации ИСПДн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20"/>
          <p:cNvSpPr/>
          <p:nvPr/>
        </p:nvSpPr>
        <p:spPr>
          <a:xfrm>
            <a:off x="2123640" y="3598200"/>
            <a:ext cx="3600000" cy="575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Базовая модель угроз безопасности ПДн при их обработке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21"/>
          <p:cNvSpPr/>
          <p:nvPr/>
        </p:nvSpPr>
        <p:spPr>
          <a:xfrm>
            <a:off x="2123640" y="4246200"/>
            <a:ext cx="3600000" cy="7164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Рекомендации по обеспечению безопасности ПДн при их обработке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22"/>
          <p:cNvSpPr/>
          <p:nvPr/>
        </p:nvSpPr>
        <p:spPr>
          <a:xfrm>
            <a:off x="2123640" y="5038200"/>
            <a:ext cx="3600000" cy="7884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marL="12600"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Основные мероприятия по организации и техническому обеспечению безопасности ПДн, обрабатываемых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23"/>
          <p:cNvSpPr/>
          <p:nvPr/>
        </p:nvSpPr>
        <p:spPr>
          <a:xfrm>
            <a:off x="5796000" y="2745000"/>
            <a:ext cx="3177360" cy="1367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Методические рекомендации по обеспечению с помощью криптосредств безопасности ПДн при их обработке в ИСПДн с использованием средств автоматиз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24"/>
          <p:cNvSpPr/>
          <p:nvPr/>
        </p:nvSpPr>
        <p:spPr>
          <a:xfrm>
            <a:off x="5796000" y="4174200"/>
            <a:ext cx="3177360" cy="18687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Типовые требования по организации и обеспечению функционирования шифровальных (криптографических) средств, предназначенных для ЗИ, не содержащей сведений, составляющих гос. тайну в случае их использования для обеспечения безопасности ПДн при их обработке в ИС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Прямая соединительная линия 29"/>
          <p:cNvCxnSpPr>
            <a:stCxn id="198" idx="0"/>
          </p:cNvCxnSpPr>
          <p:nvPr/>
        </p:nvCxnSpPr>
        <p:spPr>
          <a:xfrm flipH="1" flipV="1">
            <a:off x="6626160" y="2225520"/>
            <a:ext cx="758880" cy="26640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199" name="Прямая соединительная линия 30"/>
          <p:cNvCxnSpPr/>
          <p:nvPr/>
        </p:nvCxnSpPr>
        <p:spPr>
          <a:xfrm flipH="1">
            <a:off x="4175640" y="2273040"/>
            <a:ext cx="396720" cy="2307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00" name="Прямоугольник 32"/>
          <p:cNvSpPr/>
          <p:nvPr/>
        </p:nvSpPr>
        <p:spPr>
          <a:xfrm>
            <a:off x="1619640" y="2491920"/>
            <a:ext cx="457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ФСТЭК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35"/>
          <p:cNvSpPr/>
          <p:nvPr/>
        </p:nvSpPr>
        <p:spPr>
          <a:xfrm>
            <a:off x="5099040" y="2491920"/>
            <a:ext cx="457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ФСБ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Группа 41"/>
          <p:cNvGrpSpPr/>
          <p:nvPr/>
        </p:nvGrpSpPr>
        <p:grpSpPr>
          <a:xfrm>
            <a:off x="395640" y="1030320"/>
            <a:ext cx="1151640" cy="1113840"/>
            <a:chOff x="395640" y="1030320"/>
            <a:chExt cx="1151640" cy="1113840"/>
          </a:xfrm>
        </p:grpSpPr>
        <p:pic>
          <p:nvPicPr>
            <p:cNvPr id="202" name="Рисунок 42" descr=""/>
            <p:cNvPicPr/>
            <p:nvPr/>
          </p:nvPicPr>
          <p:blipFill>
            <a:blip r:embed="rId1"/>
            <a:stretch/>
          </p:blipFill>
          <p:spPr>
            <a:xfrm>
              <a:off x="395640" y="1030320"/>
              <a:ext cx="115164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43"/>
            <p:cNvSpPr/>
            <p:nvPr/>
          </p:nvSpPr>
          <p:spPr>
            <a:xfrm>
              <a:off x="467640" y="1419480"/>
              <a:ext cx="1007640" cy="5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500" spc="-1" strike="noStrike">
                  <a:solidFill>
                    <a:srgbClr val="262626"/>
                  </a:solidFill>
                  <a:latin typeface="Arial"/>
                </a:rPr>
                <a:t>февраль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20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ОСНОВНЫЕ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3" descr=""/>
          <p:cNvPicPr/>
          <p:nvPr/>
        </p:nvPicPr>
        <p:blipFill>
          <a:blip r:embed="rId1"/>
          <a:stretch/>
        </p:blipFill>
        <p:spPr>
          <a:xfrm>
            <a:off x="7020000" y="4149720"/>
            <a:ext cx="1907640" cy="1801440"/>
          </a:xfrm>
          <a:prstGeom prst="rect">
            <a:avLst/>
          </a:prstGeom>
          <a:ln w="0">
            <a:noFill/>
          </a:ln>
        </p:spPr>
      </p:pic>
      <p:sp>
        <p:nvSpPr>
          <p:cNvPr id="493" name="Прямоугольник 9"/>
          <p:cNvSpPr/>
          <p:nvPr/>
        </p:nvSpPr>
        <p:spPr>
          <a:xfrm>
            <a:off x="395280" y="2227320"/>
            <a:ext cx="4897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сутствие денежных сред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10"/>
          <p:cNvSpPr/>
          <p:nvPr/>
        </p:nvSpPr>
        <p:spPr>
          <a:xfrm>
            <a:off x="2556000" y="3019320"/>
            <a:ext cx="65527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сутствие квалифицированных кадров в шт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11"/>
          <p:cNvSpPr/>
          <p:nvPr/>
        </p:nvSpPr>
        <p:spPr>
          <a:xfrm>
            <a:off x="324000" y="3933720"/>
            <a:ext cx="7992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епонимание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еверное толк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норм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13"/>
          <p:cNvSpPr/>
          <p:nvPr/>
        </p:nvSpPr>
        <p:spPr>
          <a:xfrm>
            <a:off x="2771640" y="5157720"/>
            <a:ext cx="266364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Ко мне не придут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14"/>
          <p:cNvSpPr/>
          <p:nvPr/>
        </p:nvSpPr>
        <p:spPr>
          <a:xfrm>
            <a:off x="1042920" y="1052640"/>
            <a:ext cx="7849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Слабая осведомленность о существовании закона «О персональных данны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МЕТОДИЧЕСКИЕ МАТЕРИА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&amp;Scy;&amp;kcy;&amp;acy;&amp;chcy;&amp;acy;&amp;tcy;&amp;softcy; &amp;rcy;&amp;iecy;&amp;kcy;&amp;ocy;&amp;mcy;&amp;iecy;&amp;ncy;&amp;dcy;&amp;acy;&amp;tscy;&amp;icy;&amp;icy;"/>
          <p:cNvPicPr/>
          <p:nvPr/>
        </p:nvPicPr>
        <p:blipFill>
          <a:blip r:embed="rId1"/>
          <a:stretch/>
        </p:blipFill>
        <p:spPr>
          <a:xfrm>
            <a:off x="6156360" y="2001960"/>
            <a:ext cx="2674440" cy="3649320"/>
          </a:xfrm>
          <a:prstGeom prst="rect">
            <a:avLst/>
          </a:prstGeom>
          <a:ln w="0">
            <a:noFill/>
          </a:ln>
        </p:spPr>
      </p:pic>
      <p:sp>
        <p:nvSpPr>
          <p:cNvPr id="500" name="Прямоугольник 12"/>
          <p:cNvSpPr/>
          <p:nvPr/>
        </p:nvSpPr>
        <p:spPr>
          <a:xfrm>
            <a:off x="324000" y="2133720"/>
            <a:ext cx="5616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Методические рекомендации по выполнению требований закона «О персональных данных» – 200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6" descr="http://promo.marva.ru/wp-content/uploads/2012/03/effektivnye-prodazhi-263x300.jpg"/>
          <p:cNvPicPr/>
          <p:nvPr/>
        </p:nvPicPr>
        <p:blipFill>
          <a:blip r:embed="rId1"/>
          <a:stretch/>
        </p:blipFill>
        <p:spPr>
          <a:xfrm>
            <a:off x="4788000" y="2997360"/>
            <a:ext cx="2504880" cy="28573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0" descr="https://encrypted-tbn3.google.com/images?q=tbn:ANd9GcQ4RCGhmVgZbnX_uR3K9nhAkWK8TEUQtDN9LxrstjvoTutmSxMV"/>
          <p:cNvPicPr/>
          <p:nvPr/>
        </p:nvPicPr>
        <p:blipFill>
          <a:blip r:embed="rId2"/>
          <a:stretch/>
        </p:blipFill>
        <p:spPr>
          <a:xfrm>
            <a:off x="7812000" y="5300640"/>
            <a:ext cx="1193400" cy="744120"/>
          </a:xfrm>
          <a:prstGeom prst="rect">
            <a:avLst/>
          </a:prstGeom>
          <a:ln w="0">
            <a:noFill/>
          </a:ln>
        </p:spPr>
      </p:pic>
      <p:sp>
        <p:nvSpPr>
          <p:cNvPr id="503" name="Скругленный прямоугольник 20"/>
          <p:cNvSpPr/>
          <p:nvPr/>
        </p:nvSpPr>
        <p:spPr>
          <a:xfrm>
            <a:off x="7885080" y="5229360"/>
            <a:ext cx="1079280" cy="9363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Скругленный прямоугольник 19"/>
          <p:cNvSpPr/>
          <p:nvPr/>
        </p:nvSpPr>
        <p:spPr>
          <a:xfrm>
            <a:off x="7885080" y="4149720"/>
            <a:ext cx="1079280" cy="9345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Скругленный прямоугольник 18"/>
          <p:cNvSpPr/>
          <p:nvPr/>
        </p:nvSpPr>
        <p:spPr>
          <a:xfrm>
            <a:off x="7885080" y="3068640"/>
            <a:ext cx="1079280" cy="9363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Скругленный прямоугольник 13"/>
          <p:cNvSpPr/>
          <p:nvPr/>
        </p:nvSpPr>
        <p:spPr>
          <a:xfrm>
            <a:off x="7885080" y="1989000"/>
            <a:ext cx="1079280" cy="9345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>
                <a:lumMod val="50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7" name="Picture 6" descr="http://t2.gstatic.com/images?q=tbn:ANd9GcRAUWE5gp25xm1yRn-8EvytcUmSsvdGC_JpJ_5VY6QzxAUbfEk6fw&amp;t=1"/>
          <p:cNvPicPr/>
          <p:nvPr/>
        </p:nvPicPr>
        <p:blipFill>
          <a:blip r:embed="rId3"/>
          <a:stretch/>
        </p:blipFill>
        <p:spPr>
          <a:xfrm>
            <a:off x="8028000" y="3141720"/>
            <a:ext cx="774360" cy="77436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РЕШЕНИЕ 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6"/>
          <p:cNvSpPr/>
          <p:nvPr/>
        </p:nvSpPr>
        <p:spPr>
          <a:xfrm>
            <a:off x="108000" y="1052640"/>
            <a:ext cx="8135640" cy="30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Выход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: создание онлайн-системы (консультанта), который поможет выполнить требования законодатель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ff66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разъяснение норм законод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ff66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подготовка пакета необходимых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ff66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подбор средств защиты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ff66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индивидуальные онлайн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2" descr="https://encrypted-tbn2.google.com/images?q=tbn:ANd9GcQJgVYjMWytvZ0rafK8PNQx5BimzKYgsk2nQK5n13cKchVAyC7e"/>
          <p:cNvPicPr/>
          <p:nvPr/>
        </p:nvPicPr>
        <p:blipFill>
          <a:blip r:embed="rId4"/>
          <a:stretch/>
        </p:blipFill>
        <p:spPr>
          <a:xfrm>
            <a:off x="7956720" y="4292640"/>
            <a:ext cx="920520" cy="658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3" descr=""/>
          <p:cNvPicPr/>
          <p:nvPr/>
        </p:nvPicPr>
        <p:blipFill>
          <a:blip r:embed="rId5"/>
          <a:stretch/>
        </p:blipFill>
        <p:spPr>
          <a:xfrm>
            <a:off x="7956720" y="2130480"/>
            <a:ext cx="906120" cy="721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7" descr=""/>
          <p:cNvPicPr/>
          <p:nvPr/>
        </p:nvPicPr>
        <p:blipFill>
          <a:blip r:embed="rId6"/>
          <a:stretch/>
        </p:blipFill>
        <p:spPr>
          <a:xfrm>
            <a:off x="611280" y="4292640"/>
            <a:ext cx="3644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6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000" cy="68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000" cy="68511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7743600" cy="48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6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000" cy="68511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7743600" cy="4828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"/>
          <p:cNvPicPr/>
          <p:nvPr/>
        </p:nvPicPr>
        <p:blipFill>
          <a:blip r:embed="rId3"/>
          <a:stretch/>
        </p:blipFill>
        <p:spPr>
          <a:xfrm>
            <a:off x="1258920" y="1700280"/>
            <a:ext cx="7705440" cy="48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РЕШЕНИЕ 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826920" y="936720"/>
            <a:ext cx="6873480" cy="50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РЕШЕНИЕ 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826920" y="936720"/>
            <a:ext cx="6873480" cy="5084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" descr=""/>
          <p:cNvPicPr/>
          <p:nvPr/>
        </p:nvPicPr>
        <p:blipFill>
          <a:blip r:embed="rId2"/>
          <a:stretch/>
        </p:blipFill>
        <p:spPr>
          <a:xfrm>
            <a:off x="1979640" y="1044720"/>
            <a:ext cx="709272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6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000" cy="68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1"/>
          <a:stretch/>
        </p:blipFill>
        <p:spPr>
          <a:xfrm>
            <a:off x="684360" y="0"/>
            <a:ext cx="8172000" cy="68511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" descr=""/>
          <p:cNvPicPr/>
          <p:nvPr/>
        </p:nvPicPr>
        <p:blipFill>
          <a:blip r:embed="rId2"/>
          <a:stretch/>
        </p:blipFill>
        <p:spPr>
          <a:xfrm>
            <a:off x="1547640" y="0"/>
            <a:ext cx="731808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11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Скругленный прямоугольник 12"/>
          <p:cNvSpPr/>
          <p:nvPr/>
        </p:nvSpPr>
        <p:spPr>
          <a:xfrm>
            <a:off x="3023640" y="1052640"/>
            <a:ext cx="309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Федеральный закон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от 27.07.2006 </a:t>
            </a:r>
            <a:r>
              <a:rPr b="1" lang="ru-RU" sz="1800" spc="-1" strike="noStrike">
                <a:solidFill>
                  <a:srgbClr val="1485a0"/>
                </a:solidFill>
                <a:latin typeface="Calibri"/>
              </a:rPr>
              <a:t>№152-ФЗ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«О персональных дан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Группа 25"/>
          <p:cNvGrpSpPr/>
          <p:nvPr/>
        </p:nvGrpSpPr>
        <p:grpSpPr>
          <a:xfrm>
            <a:off x="384120" y="1030320"/>
            <a:ext cx="1151640" cy="1124280"/>
            <a:chOff x="384120" y="1030320"/>
            <a:chExt cx="1151640" cy="1124280"/>
          </a:xfrm>
        </p:grpSpPr>
        <p:pic>
          <p:nvPicPr>
            <p:cNvPr id="208" name="Рисунок 4" descr=""/>
            <p:cNvPicPr/>
            <p:nvPr/>
          </p:nvPicPr>
          <p:blipFill>
            <a:blip r:embed="rId1"/>
            <a:stretch/>
          </p:blipFill>
          <p:spPr>
            <a:xfrm>
              <a:off x="384120" y="1030320"/>
              <a:ext cx="115164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13"/>
            <p:cNvSpPr/>
            <p:nvPr/>
          </p:nvSpPr>
          <p:spPr>
            <a:xfrm>
              <a:off x="456120" y="1227600"/>
              <a:ext cx="10076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500" spc="-1" strike="noStrike">
                  <a:solidFill>
                    <a:srgbClr val="262626"/>
                  </a:solidFill>
                  <a:latin typeface="Arial"/>
                </a:rPr>
                <a:t>феврал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262626"/>
                  </a:solidFill>
                  <a:latin typeface="Arial"/>
                </a:rPr>
                <a:t>5</a:t>
              </a:r>
              <a:r>
                <a:rPr b="1" lang="ru-RU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20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Скругленный прямоугольник 16"/>
          <p:cNvSpPr/>
          <p:nvPr/>
        </p:nvSpPr>
        <p:spPr>
          <a:xfrm>
            <a:off x="2465640" y="1052640"/>
            <a:ext cx="4212360" cy="1223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7.11.2007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781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беспечении безопасности ПДн при их обработке в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Прямая соединительная линия 36"/>
          <p:cNvCxnSpPr/>
          <p:nvPr/>
        </p:nvCxnSpPr>
        <p:spPr>
          <a:xfrm flipH="1">
            <a:off x="1326960" y="2181600"/>
            <a:ext cx="1149840" cy="55260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12" name="Скругленный прямоугольник 17"/>
          <p:cNvSpPr/>
          <p:nvPr/>
        </p:nvSpPr>
        <p:spPr>
          <a:xfrm>
            <a:off x="2123640" y="2733840"/>
            <a:ext cx="3600000" cy="791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Методика определения актуальных угроз безопасности ПДн при их обработке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19"/>
          <p:cNvSpPr/>
          <p:nvPr/>
        </p:nvSpPr>
        <p:spPr>
          <a:xfrm>
            <a:off x="143280" y="2745000"/>
            <a:ext cx="1908000" cy="30819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72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Приказ ФСТЭК России, ФСБ России и </a:t>
            </a: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Мининформсвязи</a:t>
            </a: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 России от 13.02.2008  №55/86/20 «Об утверждении Порядка проведения классификации ИСПДн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20"/>
          <p:cNvSpPr/>
          <p:nvPr/>
        </p:nvSpPr>
        <p:spPr>
          <a:xfrm>
            <a:off x="2123640" y="3598200"/>
            <a:ext cx="3600000" cy="575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500" spc="-1" strike="noStrike">
                <a:solidFill>
                  <a:srgbClr val="1485a0"/>
                </a:solidFill>
                <a:latin typeface="Calibri"/>
              </a:rPr>
              <a:t>Базовая модель угроз безопасности ПДн при их обработке в ИСПД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23"/>
          <p:cNvSpPr/>
          <p:nvPr/>
        </p:nvSpPr>
        <p:spPr>
          <a:xfrm>
            <a:off x="5796000" y="2745000"/>
            <a:ext cx="3177360" cy="1367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Методические рекомендации по обеспечению с помощью криптосредств безопасности ПДн при их обработке в ИСПДн с использованием средств автоматиз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24"/>
          <p:cNvSpPr/>
          <p:nvPr/>
        </p:nvSpPr>
        <p:spPr>
          <a:xfrm>
            <a:off x="5796000" y="4174200"/>
            <a:ext cx="3177360" cy="186876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Типовые требования по организации и обеспечению функционирования шифровальных (криптографических) средств, предназначенных для ЗИ, не содержащей сведений, составляющих гос. тайну в случае их использования для обеспечения безопасности ПДн при их обработке в ИС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Прямая соединительная линия 29"/>
          <p:cNvCxnSpPr>
            <a:stCxn id="218" idx="0"/>
          </p:cNvCxnSpPr>
          <p:nvPr/>
        </p:nvCxnSpPr>
        <p:spPr>
          <a:xfrm flipH="1" flipV="1">
            <a:off x="6626160" y="2225520"/>
            <a:ext cx="758880" cy="26640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219" name="Прямая соединительная линия 30"/>
          <p:cNvCxnSpPr/>
          <p:nvPr/>
        </p:nvCxnSpPr>
        <p:spPr>
          <a:xfrm flipH="1">
            <a:off x="4175640" y="2273040"/>
            <a:ext cx="396720" cy="2307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20" name="Прямоугольник 32"/>
          <p:cNvSpPr/>
          <p:nvPr/>
        </p:nvSpPr>
        <p:spPr>
          <a:xfrm>
            <a:off x="1619640" y="2491920"/>
            <a:ext cx="457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ФСТЭК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5"/>
          <p:cNvSpPr/>
          <p:nvPr/>
        </p:nvSpPr>
        <p:spPr>
          <a:xfrm>
            <a:off x="5099040" y="2491920"/>
            <a:ext cx="457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200" spc="-1" strike="noStrike">
                <a:solidFill>
                  <a:srgbClr val="ff6600"/>
                </a:solidFill>
                <a:latin typeface="Arial"/>
              </a:rPr>
              <a:t>ФСБ РОСС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33"/>
          <p:cNvSpPr/>
          <p:nvPr/>
        </p:nvSpPr>
        <p:spPr>
          <a:xfrm>
            <a:off x="2123640" y="4237920"/>
            <a:ext cx="3600000" cy="15764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500" spc="-1" strike="noStrike">
                <a:solidFill>
                  <a:srgbClr val="1485a0"/>
                </a:solidFill>
                <a:latin typeface="Calibri"/>
              </a:rPr>
              <a:t>Приказ ФСТЭК России от 05.02.2010 №58 «Об утверждении положения о методах и способах защиты информации в информационных системах персональных данных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920" y="239760"/>
            <a:ext cx="682128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6600"/>
                </a:solidFill>
                <a:latin typeface="Calibri"/>
              </a:rPr>
              <a:t>РЕШЕНИЕ Л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4142880" cy="48859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"/>
          <p:cNvPicPr/>
          <p:nvPr/>
        </p:nvPicPr>
        <p:blipFill>
          <a:blip r:embed="rId2"/>
          <a:stretch/>
        </p:blipFill>
        <p:spPr>
          <a:xfrm>
            <a:off x="4859280" y="1052640"/>
            <a:ext cx="570204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ftr" idx="38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Рисунок 4" descr=""/>
          <p:cNvPicPr/>
          <p:nvPr/>
        </p:nvPicPr>
        <p:blipFill>
          <a:blip r:embed="rId1"/>
          <a:stretch/>
        </p:blipFill>
        <p:spPr>
          <a:xfrm>
            <a:off x="6660360" y="1556640"/>
            <a:ext cx="1367640" cy="195624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5" descr=""/>
          <p:cNvPicPr/>
          <p:nvPr/>
        </p:nvPicPr>
        <p:blipFill>
          <a:blip r:embed="rId2"/>
          <a:stretch/>
        </p:blipFill>
        <p:spPr>
          <a:xfrm>
            <a:off x="1106640" y="1556640"/>
            <a:ext cx="1449000" cy="195624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6" descr=""/>
          <p:cNvPicPr/>
          <p:nvPr/>
        </p:nvPicPr>
        <p:blipFill>
          <a:blip r:embed="rId3"/>
          <a:stretch/>
        </p:blipFill>
        <p:spPr>
          <a:xfrm>
            <a:off x="3868920" y="1556640"/>
            <a:ext cx="1449000" cy="1956240"/>
          </a:xfrm>
          <a:prstGeom prst="rect">
            <a:avLst/>
          </a:prstGeom>
          <a:ln w="0">
            <a:noFill/>
          </a:ln>
        </p:spPr>
      </p:pic>
      <p:sp>
        <p:nvSpPr>
          <p:cNvPr id="535" name="Скругленный прямоугольник 7"/>
          <p:cNvSpPr/>
          <p:nvPr/>
        </p:nvSpPr>
        <p:spPr>
          <a:xfrm>
            <a:off x="409680" y="3717000"/>
            <a:ext cx="273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Максимов Макс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Руководитель отдела консалтин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Mmaksimov@let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Скругленный прямоугольник 8"/>
          <p:cNvSpPr/>
          <p:nvPr/>
        </p:nvSpPr>
        <p:spPr>
          <a:xfrm>
            <a:off x="3204000" y="3717000"/>
            <a:ext cx="273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Садовникова Оль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Ведущий консультант по информационной безопас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OSadovnikova@let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Скругленный прямоугольник 9"/>
          <p:cNvSpPr/>
          <p:nvPr/>
        </p:nvSpPr>
        <p:spPr>
          <a:xfrm>
            <a:off x="6012000" y="3717000"/>
            <a:ext cx="273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Бондаренко Александр</a:t>
            </a:r>
            <a:br>
              <a:rPr sz="1800"/>
            </a:br>
            <a:r>
              <a:rPr b="0" lang="ru-RU" sz="1400" spc="-1" strike="noStrike">
                <a:solidFill>
                  <a:srgbClr val="1485a0"/>
                </a:solidFill>
                <a:latin typeface="Calibri"/>
              </a:rPr>
              <a:t>Технический дирек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ABondarenko@let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2"/>
          <p:cNvSpPr/>
          <p:nvPr/>
        </p:nvSpPr>
        <p:spPr>
          <a:xfrm>
            <a:off x="479880" y="4832640"/>
            <a:ext cx="5949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808080"/>
                </a:solidFill>
                <a:latin typeface="Calibri"/>
              </a:rPr>
              <a:t>Компания </a:t>
            </a:r>
            <a:r>
              <a:rPr b="1" lang="en-US" sz="1800" spc="-1" strike="noStrike">
                <a:solidFill>
                  <a:srgbClr val="808080"/>
                </a:solidFill>
                <a:latin typeface="Calibri"/>
              </a:rPr>
              <a:t>LETA</a:t>
            </a: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808080"/>
                </a:solidFill>
                <a:latin typeface="Calibri"/>
              </a:rPr>
              <a:t>109129, Россия, Москва, ул. 8-я Текстильщиков, д.11, стр.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808080"/>
                </a:solidFill>
                <a:latin typeface="Calibri"/>
              </a:rPr>
              <a:t>Тел./факс: +7 (495) 921-14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6600"/>
                </a:solidFill>
                <a:latin typeface="Calibri"/>
              </a:rPr>
              <a:t>www.leta.r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Скругленный прямоугольник 15"/>
          <p:cNvSpPr/>
          <p:nvPr/>
        </p:nvSpPr>
        <p:spPr>
          <a:xfrm>
            <a:off x="3996000" y="4725000"/>
            <a:ext cx="4976640" cy="13003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1485a0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marL="808200"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4d4d4d"/>
                </a:solidFill>
                <a:latin typeface="Calibri"/>
              </a:rPr>
              <a:t>Операторы, которые осуществляли обработку ПДн до 1 июля 2011 года, обязаны представить сведения (п. 5, 7.1, 10 и 11 ч. 3 статьи 22 ФЗ-152) в Роскомнадзор </a:t>
            </a:r>
            <a:br>
              <a:rPr sz="1600"/>
            </a:b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не позднее </a:t>
            </a:r>
            <a:r>
              <a:rPr b="1" lang="ru-RU" sz="1600" spc="-1" strike="noStrike">
                <a:solidFill>
                  <a:srgbClr val="ff6600"/>
                </a:solidFill>
                <a:latin typeface="Calibri"/>
              </a:rPr>
              <a:t>1 января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12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Рисунок 5" descr=""/>
          <p:cNvPicPr/>
          <p:nvPr/>
        </p:nvPicPr>
        <p:blipFill>
          <a:blip r:embed="rId1"/>
          <a:srcRect l="30618" t="6014" r="30618" b="6014"/>
          <a:stretch/>
        </p:blipFill>
        <p:spPr>
          <a:xfrm>
            <a:off x="4212000" y="4968000"/>
            <a:ext cx="461160" cy="836640"/>
          </a:xfrm>
          <a:prstGeom prst="rect">
            <a:avLst/>
          </a:prstGeom>
          <a:ln w="0">
            <a:noFill/>
          </a:ln>
        </p:spPr>
      </p:pic>
      <p:sp>
        <p:nvSpPr>
          <p:cNvPr id="226" name="Скругленный прямоугольник 12"/>
          <p:cNvSpPr/>
          <p:nvPr/>
        </p:nvSpPr>
        <p:spPr>
          <a:xfrm>
            <a:off x="3023640" y="1052640"/>
            <a:ext cx="309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Федеральный закон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от 27.07.2006 </a:t>
            </a:r>
            <a:r>
              <a:rPr b="1" lang="ru-RU" sz="1800" spc="-1" strike="noStrike">
                <a:solidFill>
                  <a:srgbClr val="1485a0"/>
                </a:solidFill>
                <a:latin typeface="Calibri"/>
              </a:rPr>
              <a:t>№152-ФЗ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«О персональных дан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Группа 25"/>
          <p:cNvGrpSpPr/>
          <p:nvPr/>
        </p:nvGrpSpPr>
        <p:grpSpPr>
          <a:xfrm>
            <a:off x="395640" y="1030320"/>
            <a:ext cx="1151640" cy="1139400"/>
            <a:chOff x="395640" y="1030320"/>
            <a:chExt cx="1151640" cy="1139400"/>
          </a:xfrm>
        </p:grpSpPr>
        <p:pic>
          <p:nvPicPr>
            <p:cNvPr id="228" name="Рисунок 4" descr=""/>
            <p:cNvPicPr/>
            <p:nvPr/>
          </p:nvPicPr>
          <p:blipFill>
            <a:blip r:embed="rId2"/>
            <a:stretch/>
          </p:blipFill>
          <p:spPr>
            <a:xfrm>
              <a:off x="395640" y="1030320"/>
              <a:ext cx="115164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Box 13"/>
            <p:cNvSpPr/>
            <p:nvPr/>
          </p:nvSpPr>
          <p:spPr>
            <a:xfrm>
              <a:off x="467640" y="1227600"/>
              <a:ext cx="10076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ию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262626"/>
                  </a:solidFill>
                  <a:latin typeface="Arial"/>
                </a:rPr>
                <a:t>25</a:t>
              </a:r>
              <a:r>
                <a:rPr b="1" lang="ru-RU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20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Скругленный прямоугольник 16"/>
          <p:cNvSpPr/>
          <p:nvPr/>
        </p:nvSpPr>
        <p:spPr>
          <a:xfrm>
            <a:off x="25128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7.11.2007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781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беспечении безопасности ПДн при их обработке в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19"/>
          <p:cNvSpPr/>
          <p:nvPr/>
        </p:nvSpPr>
        <p:spPr>
          <a:xfrm>
            <a:off x="318564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06.07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 512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требований к материальным носителям биометрических ПДн и технологиям хранения таких данных вне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20"/>
          <p:cNvSpPr/>
          <p:nvPr/>
        </p:nvSpPr>
        <p:spPr>
          <a:xfrm>
            <a:off x="6156000" y="2421000"/>
            <a:ext cx="278136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5.09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687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собенностях обработки ПДн, осуществляемой без использования средств автоматиз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Прямая соединительная линия 21"/>
          <p:cNvCxnSpPr/>
          <p:nvPr/>
        </p:nvCxnSpPr>
        <p:spPr>
          <a:xfrm flipH="1">
            <a:off x="2699640" y="2132640"/>
            <a:ext cx="43236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234" name="Прямая соединительная линия 22"/>
          <p:cNvCxnSpPr/>
          <p:nvPr/>
        </p:nvCxnSpPr>
        <p:spPr>
          <a:xfrm>
            <a:off x="6003360" y="2132640"/>
            <a:ext cx="4813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235" name="Прямая соединительная линия 35"/>
          <p:cNvCxnSpPr>
            <a:stCxn id="226" idx="2"/>
            <a:endCxn id="231" idx="0"/>
          </p:cNvCxnSpPr>
          <p:nvPr/>
        </p:nvCxnSpPr>
        <p:spPr>
          <a:xfrm flipH="1">
            <a:off x="4571640" y="2132640"/>
            <a:ext cx="7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36" name="Прямоугольник 16"/>
          <p:cNvSpPr/>
          <p:nvPr/>
        </p:nvSpPr>
        <p:spPr>
          <a:xfrm>
            <a:off x="1099080" y="4898520"/>
            <a:ext cx="2453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равительство РФ </a:t>
            </a:r>
            <a:br>
              <a:rPr sz="1400"/>
            </a:b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должно установить уровни защищенности ПДн при их обработке в ИСПД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2" descr=""/>
          <p:cNvPicPr/>
          <p:nvPr/>
        </p:nvPicPr>
        <p:blipFill>
          <a:blip r:embed="rId3"/>
          <a:stretch/>
        </p:blipFill>
        <p:spPr>
          <a:xfrm>
            <a:off x="239760" y="5015520"/>
            <a:ext cx="73008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1640" y="240120"/>
            <a:ext cx="68205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ff6600"/>
                </a:solidFill>
                <a:latin typeface="Calibri"/>
              </a:rPr>
              <a:t>Обзор изменений законодате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3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Скругленный прямоугольник 12"/>
          <p:cNvSpPr/>
          <p:nvPr/>
        </p:nvSpPr>
        <p:spPr>
          <a:xfrm>
            <a:off x="3023640" y="1052640"/>
            <a:ext cx="3096000" cy="10796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Федеральный закон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от 27.07.2006 </a:t>
            </a:r>
            <a:r>
              <a:rPr b="1" lang="ru-RU" sz="1800" spc="-1" strike="noStrike">
                <a:solidFill>
                  <a:srgbClr val="1485a0"/>
                </a:solidFill>
                <a:latin typeface="Calibri"/>
              </a:rPr>
              <a:t>№152-ФЗ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«О персональных данны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19"/>
          <p:cNvSpPr/>
          <p:nvPr/>
        </p:nvSpPr>
        <p:spPr>
          <a:xfrm>
            <a:off x="318564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06.07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 512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требований к материальным носителям биометрических ПДн и технологиям хранения таких данных вне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20"/>
          <p:cNvSpPr/>
          <p:nvPr/>
        </p:nvSpPr>
        <p:spPr>
          <a:xfrm>
            <a:off x="6156000" y="2421000"/>
            <a:ext cx="278136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72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15.09.2008 </a:t>
            </a: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№687 </a:t>
            </a:r>
            <a:r>
              <a:rPr b="0" lang="ru-RU" sz="1600" spc="-1" strike="noStrike">
                <a:solidFill>
                  <a:srgbClr val="1485a0"/>
                </a:solidFill>
                <a:latin typeface="Calibri"/>
              </a:rPr>
              <a:t>«Об утверждении Положения об особенностях обработки ПДн, осуществляемой без использования средств автоматизац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Прямая соединительная линия 21"/>
          <p:cNvCxnSpPr/>
          <p:nvPr/>
        </p:nvCxnSpPr>
        <p:spPr>
          <a:xfrm flipH="1">
            <a:off x="2699640" y="2132640"/>
            <a:ext cx="43236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244" name="Прямая соединительная линия 22"/>
          <p:cNvCxnSpPr/>
          <p:nvPr/>
        </p:nvCxnSpPr>
        <p:spPr>
          <a:xfrm>
            <a:off x="6003360" y="2132640"/>
            <a:ext cx="4813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cxnSp>
        <p:nvCxnSpPr>
          <p:cNvPr id="245" name="Прямая соединительная линия 35"/>
          <p:cNvCxnSpPr>
            <a:stCxn id="240" idx="2"/>
            <a:endCxn id="241" idx="0"/>
          </p:cNvCxnSpPr>
          <p:nvPr/>
        </p:nvCxnSpPr>
        <p:spPr>
          <a:xfrm flipH="1">
            <a:off x="4571640" y="2132640"/>
            <a:ext cx="7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46" name="Скругленный прямоугольник 17"/>
          <p:cNvSpPr/>
          <p:nvPr/>
        </p:nvSpPr>
        <p:spPr>
          <a:xfrm>
            <a:off x="251280" y="2421000"/>
            <a:ext cx="2772000" cy="208800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f7964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Постановление Правительства РФ от 01.11.2012 №1119 </a:t>
            </a:r>
            <a:br>
              <a:rPr sz="1600"/>
            </a:b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«Об утверждении требований к защите ПД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485a0"/>
                </a:solidFill>
                <a:latin typeface="Calibri"/>
              </a:rPr>
              <a:t>при их обработке в ИСПД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Прямая соединительная линия 27"/>
          <p:cNvCxnSpPr/>
          <p:nvPr/>
        </p:nvCxnSpPr>
        <p:spPr>
          <a:xfrm>
            <a:off x="971280" y="4509000"/>
            <a:ext cx="360" cy="144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pic>
        <p:nvPicPr>
          <p:cNvPr id="248" name="Picture 8" descr=""/>
          <p:cNvPicPr/>
          <p:nvPr/>
        </p:nvPicPr>
        <p:blipFill>
          <a:blip r:embed="rId1"/>
          <a:stretch/>
        </p:blipFill>
        <p:spPr>
          <a:xfrm>
            <a:off x="583920" y="4774680"/>
            <a:ext cx="774720" cy="1030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"/>
          <p:cNvPicPr/>
          <p:nvPr/>
        </p:nvPicPr>
        <p:blipFill>
          <a:blip r:embed="rId2"/>
          <a:stretch/>
        </p:blipFill>
        <p:spPr>
          <a:xfrm>
            <a:off x="3303360" y="4653000"/>
            <a:ext cx="692280" cy="114876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16"/>
          <p:cNvSpPr/>
          <p:nvPr/>
        </p:nvSpPr>
        <p:spPr>
          <a:xfrm>
            <a:off x="1424160" y="4797000"/>
            <a:ext cx="14292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Нормативно-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правовые акты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ФСТЭК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Прямая соединительная линия 26"/>
          <p:cNvCxnSpPr/>
          <p:nvPr/>
        </p:nvCxnSpPr>
        <p:spPr>
          <a:xfrm>
            <a:off x="2558520" y="4509000"/>
            <a:ext cx="481320" cy="288360"/>
          </a:xfrm>
          <a:prstGeom prst="straightConnector1">
            <a:avLst/>
          </a:prstGeom>
          <a:ln w="19050">
            <a:solidFill>
              <a:srgbClr val="f59240"/>
            </a:solidFill>
            <a:round/>
          </a:ln>
        </p:spPr>
      </p:cxnSp>
      <p:sp>
        <p:nvSpPr>
          <p:cNvPr id="252" name="Прямоугольник 16"/>
          <p:cNvSpPr/>
          <p:nvPr/>
        </p:nvSpPr>
        <p:spPr>
          <a:xfrm>
            <a:off x="3970800" y="4797000"/>
            <a:ext cx="14292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Нормативно-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правовые акты</a:t>
            </a:r>
            <a:br>
              <a:rPr sz="1400"/>
            </a:br>
            <a:r>
              <a:rPr b="0" lang="ru-RU" sz="1400" spc="-1" strike="noStrike">
                <a:solidFill>
                  <a:srgbClr val="4d4d4d"/>
                </a:solidFill>
                <a:latin typeface="Arial"/>
              </a:rPr>
              <a:t>ФСБ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36"/>
          <p:cNvSpPr/>
          <p:nvPr/>
        </p:nvSpPr>
        <p:spPr>
          <a:xfrm>
            <a:off x="1418400" y="5517360"/>
            <a:ext cx="2001240" cy="49968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1485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проекты документов – </a:t>
            </a:r>
            <a:br>
              <a:rPr sz="1400"/>
            </a:b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до 7 декабря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37"/>
          <p:cNvSpPr/>
          <p:nvPr/>
        </p:nvSpPr>
        <p:spPr>
          <a:xfrm>
            <a:off x="4033440" y="5517360"/>
            <a:ext cx="2450520" cy="516240"/>
          </a:xfrm>
          <a:prstGeom prst="roundRect">
            <a:avLst>
              <a:gd name="adj" fmla="val 16667"/>
            </a:avLst>
          </a:prstGeom>
          <a:solidFill>
            <a:schemeClr val="bg1">
              <a:lumMod val="95000"/>
            </a:schemeClr>
          </a:solidFill>
          <a:ln>
            <a:solidFill>
              <a:srgbClr val="1485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4d4d4d"/>
                </a:solidFill>
                <a:latin typeface="Calibri"/>
              </a:rPr>
              <a:t>утвержденные документы –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январь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Группа 18"/>
          <p:cNvGrpSpPr/>
          <p:nvPr/>
        </p:nvGrpSpPr>
        <p:grpSpPr>
          <a:xfrm>
            <a:off x="395640" y="1030320"/>
            <a:ext cx="1151640" cy="1139400"/>
            <a:chOff x="395640" y="1030320"/>
            <a:chExt cx="1151640" cy="1139400"/>
          </a:xfrm>
        </p:grpSpPr>
        <p:pic>
          <p:nvPicPr>
            <p:cNvPr id="256" name="Рисунок 23" descr=""/>
            <p:cNvPicPr/>
            <p:nvPr/>
          </p:nvPicPr>
          <p:blipFill>
            <a:blip r:embed="rId3"/>
            <a:stretch/>
          </p:blipFill>
          <p:spPr>
            <a:xfrm>
              <a:off x="395640" y="1030320"/>
              <a:ext cx="1151640" cy="111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Box 24"/>
            <p:cNvSpPr/>
            <p:nvPr/>
          </p:nvSpPr>
          <p:spPr>
            <a:xfrm>
              <a:off x="467640" y="1227600"/>
              <a:ext cx="10076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ноябр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ru-RU" sz="2400" spc="-1" strike="noStrike">
                  <a:solidFill>
                    <a:srgbClr val="262626"/>
                  </a:solidFill>
                  <a:latin typeface="Arial"/>
                </a:rPr>
                <a:t>1</a:t>
              </a:r>
              <a:r>
                <a:rPr b="1" lang="ru-RU" sz="1600" spc="-1" strike="noStrike">
                  <a:solidFill>
                    <a:srgbClr val="262626"/>
                  </a:solidFill>
                  <a:latin typeface="Arial"/>
                </a:rPr>
                <a:t> </a:t>
              </a:r>
              <a:br>
                <a:rPr sz="1600"/>
              </a:br>
              <a:r>
                <a:rPr b="0" lang="ru-RU" sz="1600" spc="-1" strike="noStrike">
                  <a:solidFill>
                    <a:srgbClr val="262626"/>
                  </a:solidFill>
                  <a:latin typeface="Arial"/>
                </a:rPr>
                <a:t>201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ftr" idx="14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77248032"/>
              </p:ext>
            </p:extLst>
          </p:nvPr>
        </p:nvGraphicFramePr>
        <p:xfrm>
          <a:off x="-1188720" y="1253160"/>
          <a:ext cx="7056360" cy="4695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810695285"/>
              </p:ext>
            </p:extLst>
          </p:nvPr>
        </p:nvGraphicFramePr>
        <p:xfrm>
          <a:off x="3276000" y="1325160"/>
          <a:ext cx="7056360" cy="4695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sp>
        <p:nvSpPr>
          <p:cNvPr id="260" name="Стрелка вправо 11"/>
          <p:cNvSpPr/>
          <p:nvPr/>
        </p:nvSpPr>
        <p:spPr>
          <a:xfrm>
            <a:off x="4212000" y="3573000"/>
            <a:ext cx="719640" cy="4316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95000"/>
            </a:schemeClr>
          </a:solidFill>
          <a:ln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ftr" idx="15"/>
          </p:nvPr>
        </p:nvSpPr>
        <p:spPr>
          <a:xfrm>
            <a:off x="5929200" y="63234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caeb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+7 (495) 921 1410  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8caebd"/>
                </a:solidFill>
                <a:latin typeface="Arial"/>
              </a:rPr>
              <a:t>  www.leta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251640" y="240120"/>
            <a:ext cx="7344360" cy="35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Постановление правительства рф №1119</a:t>
            </a:r>
            <a:br>
              <a:rPr sz="2400"/>
            </a:br>
            <a:r>
              <a:rPr b="0" lang="ru-RU" sz="2400" spc="-1" strike="noStrike" cap="all">
                <a:solidFill>
                  <a:srgbClr val="ff6600"/>
                </a:solidFill>
                <a:latin typeface="Calibri"/>
              </a:rPr>
              <a:t>анализ доку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098392937"/>
              </p:ext>
            </p:extLst>
          </p:nvPr>
        </p:nvGraphicFramePr>
        <p:xfrm>
          <a:off x="827640" y="1196640"/>
          <a:ext cx="7560360" cy="496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263" name="Прямоугольник 14"/>
          <p:cNvSpPr/>
          <p:nvPr/>
        </p:nvSpPr>
        <p:spPr>
          <a:xfrm>
            <a:off x="251640" y="982440"/>
            <a:ext cx="85687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Согласно ч. 3 ст. 19 Федерального закона от 27.07.2006 №152-ФЗ «О персональных данных» Правительство РФ должно было установить уровни защищенности ПДн, </a:t>
            </a:r>
            <a:br>
              <a:rPr sz="1800"/>
            </a:br>
            <a:r>
              <a:rPr b="0" lang="ru-RU" sz="1800" spc="-1" strike="noStrike">
                <a:solidFill>
                  <a:srgbClr val="1485a0"/>
                </a:solidFill>
                <a:latin typeface="Calibri"/>
              </a:rPr>
              <a:t>с уч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Шаблон LETA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Шаблон LETA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Шаблон LETA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Шаблон LETA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>
  <documentManagement/>
</p:properti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Документ" ma:contentTypeID="0x010100DE3A046897792848992447275A4DD451" ma:contentTypeVersion="0" ma:contentTypeDescription="Создание документа." ma:contentTypeScope="" ma:versionID="2f84de26740803697132cb7f1e070e42">
  <xsd:schema xmlns:xsd="http://www.w3.org/2001/XMLSchema" xmlns:p="http://schemas.microsoft.com/office/2006/metadata/properties" targetNamespace="http://schemas.microsoft.com/office/2006/metadata/properties" ma:root="true" ma:fieldsID="a5428243cd223bfbc53c1c61d171fbf1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Тип содержимого" ma:readOnly="true"/>
        <xsd:element ref="dc:title" minOccurs="0" maxOccurs="1" ma:index="4" ma:displayName="Названи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3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361D0B8E-0177-4B03-8527-F79AA975F689}">
  <ds:schemaRefs>
    <ds:schemaRef ds:uri="http://purl.org/dc/dcmitype/"/>
    <ds:schemaRef ds:uri="http://schemas.microsoft.com/office/2006/documentManagement/types"/>
    <ds:schemaRef ds:uri="http://www.w3.org/XML/1998/namespace"/>
    <ds:schemaRef ds:uri="http://purl.org/dc/terms/"/>
    <ds:schemaRef ds:uri="http://schemas.openxmlformats.org/package/2006/metadata/core-properties"/>
    <ds:schemaRef ds:uri="http://schemas.microsoft.com/office/2006/metadata/properties"/>
    <ds:schemaRef ds:uri="http://purl.org/dc/elements/1.1/"/>
  </ds:schemaRefs>
</ds:datastoreItem>
</file>

<file path=customXml/itemProps2.xml><?xml version="1.0" encoding="utf-8"?>
<ds:datastoreItem xmlns:ds="http://schemas.openxmlformats.org/officeDocument/2006/customXml" ds:itemID="{2B848F58-00B2-447F-8AF7-29023195E7B7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3.xml><?xml version="1.0" encoding="utf-8"?>
<ds:datastoreItem xmlns:ds="http://schemas.openxmlformats.org/officeDocument/2006/customXml" ds:itemID="{9A78B23D-45CC-4F43-A367-68893FB19534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3083</Words>
  <Paragraphs>5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7:17:04Z</dcterms:created>
  <dc:creator/>
  <dc:description/>
  <dc:language>en-US</dc:language>
  <cp:lastModifiedBy/>
  <dcterms:modified xsi:type="dcterms:W3CDTF">2019-12-11T05:01:0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E3A046897792848992447275A4DD451</vt:lpwstr>
  </property>
  <property fmtid="{D5CDD505-2E9C-101B-9397-08002B2CF9AE}" pid="3" name="LCID">
    <vt:lpwstr>1049</vt:lpwstr>
  </property>
  <property fmtid="{D5CDD505-2E9C-101B-9397-08002B2CF9AE}" pid="4" name="Notes">
    <vt:r8>19</vt:r8>
  </property>
  <property fmtid="{D5CDD505-2E9C-101B-9397-08002B2CF9AE}" pid="5" name="PresentationFormat">
    <vt:lpwstr>Экран (4:3)</vt:lpwstr>
  </property>
  <property fmtid="{D5CDD505-2E9C-101B-9397-08002B2CF9AE}" pid="6" name="Slides">
    <vt:r8>51</vt:r8>
  </property>
  <property fmtid="{D5CDD505-2E9C-101B-9397-08002B2CF9AE}" pid="7" name="_TemplateID">
    <vt:lpwstr>TC101671241049</vt:lpwstr>
  </property>
</Properties>
</file>