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F3E0-605E-45A7-BAE3-53B1478E12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1F45-F4CA-49BA-964E-390534CAD2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3414-3154-498B-B8B5-851D488D8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32AC-1C7E-4BD6-82B6-6B10BFA2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598-0CB9-4CF1-A557-32654BF2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F42C-8E38-424B-9C4A-0CFF4B4B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78C1-0A37-442F-B5E3-06DEE36E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418F-6E4E-4CC7-B210-6E6B97FA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11BE-2160-4BAB-A583-F0151B29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3F3B-DCAB-49C7-BA63-FD15D87F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A07D-E40A-4965-BC86-E5312153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DB73-9B89-4155-91D6-2A52EA5C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EB84-65EB-4F89-9A00-0F9F5AC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BEF0-4772-4136-8E32-9FB96DD5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F184-67E8-4042-8260-87548512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951E-1E7A-4051-971A-35C733AA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376B-8D4C-4EF0-8ACD-1EF5CD34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CB9C-CDA0-4255-B986-A36FB55E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96FA-D329-42EF-A784-7ECD82F6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571-B73E-44BD-8BB9-CE76F6BF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3C6-BB83-43FF-B6E6-A06EFB5F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9C3-7D12-4115-8868-7BF62F87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E14D-2F53-44BF-B743-B7E11DBF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4209-18CE-4AAF-A30A-41A0ADE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607-A40B-4348-A4A6-66D8638D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234-6A10-4E7E-9511-DDE6C6D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881B-81B2-4638-A92B-827899F50B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02B7-F447-4684-A376-5E7956A18F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1080" y="1143000"/>
              <a:ext cx="4176720" cy="83628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92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1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36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4200" y="1979280"/>
              <a:ext cx="18745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280"/>
              <a:ext cx="216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68720" y="1979280"/>
              <a:ext cx="18601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200" y="3500280"/>
              <a:ext cx="1800" cy="608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0720" y="1292400"/>
              <a:ext cx="4226760" cy="951840"/>
              <a:chOff x="2790720" y="1292400"/>
              <a:chExt cx="4226760" cy="95184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90800" y="1369800"/>
                <a:ext cx="40309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824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1028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93160"/>
              <a:ext cx="3656520" cy="1112400"/>
              <a:chOff x="1193760" y="4493160"/>
              <a:chExt cx="3656520" cy="111240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0176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6160" y="4493160"/>
              <a:ext cx="3656520" cy="1112400"/>
              <a:chOff x="4916160" y="4493160"/>
              <a:chExt cx="3656520" cy="111240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380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20760" y="217260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5720" y="2172600"/>
              <a:ext cx="183636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2076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280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7:50Z</dcterms:modified>
  <cp:revision>36</cp:revision>
  <dc:subject/>
  <dc:title>Презентация PowerPoint</dc:title>
</cp:coreProperties>
</file>