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36F1-E2EC-468B-8040-2C71C5444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езентации на английском языке вы можете скачать на сайте http://www.danilov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E08-1C23-449F-879B-0AF9F9A6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B87-92A7-4F14-A20F-B4A3476F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101-7650-4DF6-AA12-6951E2D9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1FA-B6AB-4A71-B8AD-98BEBBAD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804-A5CB-444E-983A-7414A29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A5B-6D73-4E42-9897-7CE98F3E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341-6103-4F7E-8E4D-41F5F37F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3C6-D432-419D-86B1-F3563C6C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EE7-8476-4732-B73D-5FC16142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D7C-6866-43A3-A824-06FBBE6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90D-601B-45FA-8F36-7FB818B5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29F-C8AA-449C-B60C-A8D6D86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D5B8-5707-4CD4-9A21-DE721923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tp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335320" cy="335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286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ENGLISH ALPHABE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6920" y="4581360"/>
            <a:ext cx="756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E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LEPHAN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F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F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65440" y="907920"/>
            <a:ext cx="3851280" cy="284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G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20720" y="4581360"/>
            <a:ext cx="590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G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AP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32160" y="1008000"/>
            <a:ext cx="2463840" cy="321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H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H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U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017720"/>
            <a:ext cx="3419280" cy="34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CE-CREA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41680" y="576360"/>
            <a:ext cx="2109960" cy="4005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A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J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J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U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3509640" cy="400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K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K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9087600">
            <a:off x="2195640" y="1483920"/>
            <a:ext cx="4682880" cy="212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L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L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DYBIR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907920"/>
            <a:ext cx="30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M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M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US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140360" cy="291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N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S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1840" y="1125360"/>
            <a:ext cx="2665440" cy="256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A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PP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O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AN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17672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P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ENCI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206520" cy="338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Q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UI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97080" y="1413000"/>
            <a:ext cx="2987640" cy="263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R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R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BBI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3348000" cy="309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S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S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T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3132000" cy="313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B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T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RE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635640" cy="3406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U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MBRELL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81440" y="801720"/>
            <a:ext cx="3419280" cy="34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99072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V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V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IOLET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28960" y="692280"/>
            <a:ext cx="3298680" cy="386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W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HA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71640" y="433440"/>
            <a:ext cx="3551400" cy="385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X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4581360"/>
            <a:ext cx="842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YLOPHON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564000" cy="2624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B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L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2952720" cy="288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Y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CH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74920" y="765000"/>
            <a:ext cx="4284720" cy="3441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Z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5640" y="4581360"/>
            <a:ext cx="77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ZEBR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432240" cy="367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65440" y="1989000"/>
            <a:ext cx="554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The End</a:t>
            </a:r>
            <a:r>
              <a:rPr b="0" lang="en-GB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C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98920" y="1057320"/>
            <a:ext cx="3744720" cy="30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03640" y="1052640"/>
            <a:ext cx="2735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0" spc="-1" strike="noStrike">
                <a:solidFill>
                  <a:srgbClr val="336600"/>
                </a:solidFill>
                <a:latin typeface="Arial"/>
              </a:rPr>
              <a:t>D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35280" y="458136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6600"/>
                </a:solidFill>
                <a:latin typeface="Arial"/>
              </a:rPr>
              <a:t>D</a:t>
            </a:r>
            <a:r>
              <a:rPr b="1" lang="en-GB" sz="10000" spc="-1" strike="noStrike">
                <a:solidFill>
                  <a:srgbClr val="99cc00"/>
                </a:solidFill>
                <a:latin typeface="Arial"/>
              </a:rPr>
              <a:t>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25858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05:06:43Z</dcterms:created>
  <dc:creator/>
  <dc:description/>
  <dc:language>en-US</dc:language>
  <cp:lastModifiedBy>Elena Lennoy</cp:lastModifiedBy>
  <dcterms:modified xsi:type="dcterms:W3CDTF">2007-05-16T11:07:26Z</dcterms:modified>
  <cp:revision>10</cp:revision>
  <dc:subject/>
  <dc:title>English alphabet</dc:title>
</cp:coreProperties>
</file>