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4.wmf" ContentType="image/x-wmf"/>
  <Override PartName="/ppt/media/image25.wmf" ContentType="image/x-wmf"/>
  <Override PartName="/ppt/media/image23.jpeg" ContentType="image/jpe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4DD4-4D5A-4D07-965C-778BD719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презентации на английском языке вы можете скачать на сайте http://www.danilov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A40-DE53-4516-9D7F-8E744191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024-D671-4AFE-B776-713E4CEF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84C-A889-4068-ABF2-6F9D0A0F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CC6-467D-41AA-B0E6-AED9929F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966-35A7-4D7E-A19E-62742EF9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1DA-809B-46BF-B54E-2145DFF1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90B-011D-41AB-A34E-E13B8F32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DEC-0103-4229-B874-90D62835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F59-C9B5-43AC-96B9-5B2D2A2E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D86-1A63-4D5A-8815-49F88C9F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525-1128-4E43-9FC8-492B4707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50E-C265-4A60-92AF-FD8239CF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C705-6EC6-483C-B6D4-D471E60AC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tp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2335320" cy="335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2860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ENGLISH ALPHABE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E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6920" y="4581360"/>
            <a:ext cx="756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E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LEPHAN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F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F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65440" y="907920"/>
            <a:ext cx="3851280" cy="2841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G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20720" y="4581360"/>
            <a:ext cx="590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G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RAP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332160" y="1008000"/>
            <a:ext cx="2463840" cy="321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H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H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US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43280" y="1017720"/>
            <a:ext cx="3419280" cy="34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I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CE-CREA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41680" y="576360"/>
            <a:ext cx="2109960" cy="4005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A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J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J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U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3509640" cy="400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K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K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E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9087600">
            <a:off x="2195640" y="1483920"/>
            <a:ext cx="4682880" cy="212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L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L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DYBIR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30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M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152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M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US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4140360" cy="291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N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ES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3280" y="83664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1840" y="1125360"/>
            <a:ext cx="2665440" cy="2567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A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PP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O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RANG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17672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P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ENCIL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206520" cy="338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Q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UI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97080" y="1413000"/>
            <a:ext cx="2987640" cy="263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R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R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BBI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348000" cy="309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S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152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S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T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3132000" cy="313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B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T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RE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635640" cy="3406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U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MBRELL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81440" y="801720"/>
            <a:ext cx="3419280" cy="341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99072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V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V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IOLET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28960" y="692280"/>
            <a:ext cx="3298680" cy="3860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W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W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HA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71640" y="433440"/>
            <a:ext cx="3551400" cy="385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X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4581360"/>
            <a:ext cx="842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YLOPHO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564000" cy="2624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B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2952720" cy="288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Y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CH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74920" y="765000"/>
            <a:ext cx="4284720" cy="3441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Z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ZEBR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432240" cy="3671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65440" y="1989000"/>
            <a:ext cx="5543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The End</a:t>
            </a:r>
            <a:r>
              <a:rPr b="0" lang="en-GB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C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98920" y="1057320"/>
            <a:ext cx="3744720" cy="30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D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D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258588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05:06:43Z</dcterms:created>
  <dc:creator/>
  <dc:description/>
  <dc:language>en-US</dc:language>
  <cp:lastModifiedBy>Elena Lennoy</cp:lastModifiedBy>
  <dcterms:modified xsi:type="dcterms:W3CDTF">2007-05-16T11:07:26Z</dcterms:modified>
  <cp:revision>10</cp:revision>
  <dc:subject/>
  <dc:title>English alphabet</dc:title>
</cp:coreProperties>
</file>