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.png" ContentType="image/png"/>
  <Override PartName="/ppt/media/image24.wmf" ContentType="image/x-wmf"/>
  <Override PartName="/ppt/media/image25.wmf" ContentType="image/x-wmf"/>
  <Override PartName="/ppt/media/image23.jpeg" ContentType="image/jpeg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jpeg" ContentType="image/jpeg"/>
  <Override PartName="/ppt/media/image15.wmf" ContentType="image/x-wmf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058B-F830-44F0-A48B-A0AAE471B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е презентации на английском языке вы можете скачать на сайте http://www.danilova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7510-AAC5-4A1C-A549-8BD3D4F48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A78D-283C-484B-9EBD-89F48824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31D4-2FDF-4F32-8CB6-A4F198DD9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D88A-E978-401B-B4EA-AA17F6E03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CF69-0A3D-4EA9-9C06-7E8455CC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70D8-BF2F-4F0B-977E-5CEB4837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7913-6449-4C1C-AE56-8D04BA3B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D107-F087-4677-9255-A67ED7A2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C954-D572-4199-913F-EAF174B2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C869-2BED-4A2C-8749-2C900FD9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F295-72B0-4CAC-9ADC-F5C77812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05B8-2C94-4939-B345-1963D5FE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5D95-079B-4B4B-852B-72962407E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wtp" descr=""/>
          <p:cNvPicPr/>
          <p:nvPr/>
        </p:nvPicPr>
        <p:blipFill>
          <a:blip r:embed="rId1"/>
          <a:stretch/>
        </p:blipFill>
        <p:spPr>
          <a:xfrm>
            <a:off x="3352680" y="3276720"/>
            <a:ext cx="2335320" cy="3355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228600"/>
            <a:ext cx="9144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ENGLISH ALPHABE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0" y="66294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E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26920" y="4581360"/>
            <a:ext cx="7561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E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LEPHAN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843280" y="620640"/>
            <a:ext cx="3419280" cy="3960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F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835280" y="4581360"/>
            <a:ext cx="5545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F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OX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665440" y="907920"/>
            <a:ext cx="3851280" cy="2841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00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G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620720" y="4581360"/>
            <a:ext cx="590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G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RAPE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332160" y="1008000"/>
            <a:ext cx="2463840" cy="3213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H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835280" y="4581360"/>
            <a:ext cx="5545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H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OUS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843280" y="1017720"/>
            <a:ext cx="3419280" cy="3419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300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I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55640" y="458136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CE-CREAM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541680" y="576360"/>
            <a:ext cx="2109960" cy="4005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A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J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835280" y="4581360"/>
            <a:ext cx="5545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J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U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419640" y="549360"/>
            <a:ext cx="3509640" cy="4005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K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55640" y="458136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K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EY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 rot="9087600">
            <a:off x="2195640" y="1483920"/>
            <a:ext cx="4682880" cy="2120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L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55640" y="458136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L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ADYBIRD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987640" y="907920"/>
            <a:ext cx="3095640" cy="2997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3000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M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1522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55640" y="458136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M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OUS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484360" y="1052640"/>
            <a:ext cx="4140360" cy="2916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N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55640" y="458136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ES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843280" y="836640"/>
            <a:ext cx="3673440" cy="367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01840" y="1125360"/>
            <a:ext cx="2665440" cy="2567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835280" y="4581360"/>
            <a:ext cx="5545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A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PPL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O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55640" y="458136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RANG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56000" y="1413000"/>
            <a:ext cx="4176720" cy="2666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P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55640" y="458136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P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ENCIL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916360" y="1125360"/>
            <a:ext cx="3206520" cy="3383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Q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3000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55640" y="458136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Q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UIL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97080" y="1413000"/>
            <a:ext cx="2987640" cy="2633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R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55640" y="458136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R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ABBI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916360" y="1125360"/>
            <a:ext cx="3348000" cy="3094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S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1522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458136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S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TAR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987640" y="1052640"/>
            <a:ext cx="3132000" cy="3132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B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T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55640" y="458136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RE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771640" y="836640"/>
            <a:ext cx="3635640" cy="34066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U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3000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55640" y="458136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MBRELL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881440" y="801720"/>
            <a:ext cx="3419280" cy="3419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8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124080" y="99072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V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55640" y="458136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V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IOLET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928960" y="692280"/>
            <a:ext cx="3298680" cy="3860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W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6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55640" y="458136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W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HAL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771640" y="433440"/>
            <a:ext cx="3551400" cy="3859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X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24000" y="4581360"/>
            <a:ext cx="8424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X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YLOPHON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771640" y="1341360"/>
            <a:ext cx="3564000" cy="26240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4" dur="3000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835280" y="4581360"/>
            <a:ext cx="5545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B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AL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59280" y="1341360"/>
            <a:ext cx="2952720" cy="2882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Y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55640" y="458136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Y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ACH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374920" y="765000"/>
            <a:ext cx="4284720" cy="34419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6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Z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2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755640" y="458136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ZEBR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843280" y="692280"/>
            <a:ext cx="3432240" cy="36716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8" dur="3000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765440" y="1989000"/>
            <a:ext cx="5543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The End</a:t>
            </a:r>
            <a:r>
              <a:rPr b="0" lang="en-GB" sz="1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C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835280" y="4581360"/>
            <a:ext cx="5545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A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698920" y="1057320"/>
            <a:ext cx="3744720" cy="3019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D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835280" y="4581360"/>
            <a:ext cx="5545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D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O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03640" y="1268280"/>
            <a:ext cx="2585880" cy="3095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05:06:43Z</dcterms:created>
  <dc:creator/>
  <dc:description/>
  <dc:language>en-US</dc:language>
  <cp:lastModifiedBy>Elena Lennoy</cp:lastModifiedBy>
  <dcterms:modified xsi:type="dcterms:W3CDTF">2007-05-16T11:07:26Z</dcterms:modified>
  <cp:revision>10</cp:revision>
  <dc:subject/>
  <dc:title>English alphabet</dc:title>
</cp:coreProperties>
</file>