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03591-51BA-48A2-9702-C4E94A9F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524FF8-56BB-4314-8797-D1F93B1DFA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F1A0A-3215-4994-BE52-578A7509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8D1E-6F9C-46D0-8C63-C5EF9F94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059-E995-4BD2-A146-A06A0727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12EF-E335-40FB-B73F-0697CB94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04E8-8CCA-4D56-BF64-662CFC3D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9F98-9ECC-4F60-9D93-54360BE8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AE6-76E8-4F53-B568-12D0830D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7701A-0D91-4DFF-B362-1A53EB2E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4076C-9AD9-45A1-8C7E-22E7FF9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F6426-DE56-4B6E-BDBA-4331DB26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D6917-E44D-4349-B3FF-7DC57BB4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082-2E1F-4B9A-B80D-02A09F9A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1FC6-2AA0-490B-BB11-00F0E8A1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9339-846E-4B38-A352-7D7A8692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910F3-D02C-41C6-8C04-D88BB4FD1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357-92AF-4215-9A63-BE0FDC13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D68-3EC0-49CD-9181-8180C89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1EF4-943A-47BE-9E06-97F962D6D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48D-9206-4FE4-A4C2-A65D0C7B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CCD1-7594-412B-A2E0-8B1574646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1959-CB82-45D2-9A92-F4EE5D67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A91A-ED01-4B7A-8689-9080005D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243A-5EE4-4A69-9E6A-210004A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FD42-7CC9-4BAC-A962-FF831C63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E12117B-3DA1-47AC-B5E8-24DD4E78AF7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2A808F4-B269-44A7-A267-1DC8F997B2E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veselajashkola.ru/interesno" TargetMode="External"/><Relationship Id="rId2" Type="http://schemas.openxmlformats.org/officeDocument/2006/relationships/hyperlink" Target="http://veselajashkola.ru/interesno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 для пешеход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60000" y="450900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город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1845000"/>
            <a:ext cx="7408080" cy="42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 лишь убедившись в безопасности дальнейшего движения и с учетом сигнала светофора (регулировщика)...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71920" y="2349000"/>
            <a:ext cx="740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veselajashkola.ru/interesno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сурсы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476720" y="2493000"/>
            <a:ext cx="171360" cy="4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0448000">
            <a:off x="467280" y="27090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0000"/>
                </a:solidFill>
                <a:latin typeface="Candara"/>
              </a:rPr>
              <a:t>Спасибо за внимание!!!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ешеходы должны двигаться по тротуарам или пешеходным дорожкам, а при их отсутствии — по обочинам.... 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отсутствии тротуаров, пешеходных дорожек или обочин, а также в случае невозможности двигаться по ним пешеходы могут двигаться по велосипедной дорожке или идти в один ряд по краю проезжей части (на дорогах с разделительной полосой — по внешнему краю проезжей части).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и движении по краю проезжей части пешеходы должны идти навстречу движению транспортных средств..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руппы детей разрешается водить только по тротуарам и пешеходным дорожкам, а при их отсутствии — и по обочинам, но лишь в светлое время суток и только в сопровождении взрослых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ешеходы должны пересекать проезжую часть по пешеходным переходам, в том числе по подземным и надземным, а при их отсутствии — на перекрестках по линии тротуаров или обочин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53</TotalTime>
  <Application>LibreOffice/7.4.7.2$Linux_X86_64 LibreOffice_project/40$Build-2</Application>
  <AppVersion>15.0000</AppVersion>
  <Words>41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05:16Z</dcterms:created>
  <dc:creator>Аня</dc:creator>
  <dc:description/>
  <dc:language>en-US</dc:language>
  <cp:lastModifiedBy>Аня</cp:lastModifiedBy>
  <dcterms:modified xsi:type="dcterms:W3CDTF">2013-05-20T17:58:50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