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0488E86-3F92-4249-BA0B-B96EDE0F1B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CAC7BE2-5EC4-4C23-9048-9BC8C515F018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8D6C-4A6B-4DFE-84EE-12A5C4A74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871920" y="447768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FC08-C3A6-4CD7-9E6A-2DE2F82FA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681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1619-BC09-4393-ACB7-6091DE503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7644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88132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87192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7644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88132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EBD0-E14B-4336-91AE-6E9F8FA04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9B2D9-9712-4748-A5E4-9953FDF27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81924-8F63-44C2-BD4B-763C4F05C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2C848-CDC6-437D-A483-ED1BCF5AB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8BFD1-866E-4F84-8821-346F78F3E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BB20A-68EC-4954-A489-30D9598D2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338400"/>
            <a:ext cx="822924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FB30F-EFF2-4EB5-838D-5797F030E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9EE7B-82E0-449A-98F5-2C035AB0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820F-EAC5-45B7-A400-6DDFC0CFC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681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766D5-7D7B-4CFA-B6A6-468826E4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E036A-8776-4525-9FDE-7CA102D3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871920" y="447768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05256-938E-437E-9E85-E196E20D8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681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17065-D400-4632-857B-6EECAEE17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7644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88132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87192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7644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88132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250A4-E625-4588-8B3D-D3DC2A2D1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A0AF-0B2A-4531-8645-15A7CA7AB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AB66-DAD3-45A1-928D-C1651CC1A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E402-9965-4C1F-ADE4-7D0C23413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338400"/>
            <a:ext cx="822924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FB66-4873-4BE9-89BF-503EB8A95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5339-9EE4-4598-8EBA-CD54A131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681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C59E-C82F-49D8-924C-862210A8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F474-C25D-49A8-8D62-475980B1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 hidden="1"/>
          <p:cNvSpPr/>
          <p:nvPr/>
        </p:nvSpPr>
        <p:spPr>
          <a:xfrm>
            <a:off x="228600" y="228600"/>
            <a:ext cx="8695440" cy="2468520"/>
          </a:xfrm>
          <a:prstGeom prst="roundRect">
            <a:avLst>
              <a:gd name="adj" fmla="val 3362"/>
            </a:avLst>
          </a:prstGeom>
          <a:gradFill rotWithShape="0">
            <a:gsLst>
              <a:gs pos="10000">
                <a:srgbClr val="83d3fe"/>
              </a:gs>
              <a:gs pos="100000">
                <a:srgbClr val="0293e0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1680" y="1679400"/>
            <a:ext cx="8723160" cy="1329480"/>
            <a:chOff x="211680" y="1679400"/>
            <a:chExt cx="8723160" cy="1329480"/>
          </a:xfrm>
        </p:grpSpPr>
        <p:sp>
          <p:nvSpPr>
            <p:cNvPr id="2" name="Freeform 14"/>
            <p:cNvSpPr/>
            <p:nvPr/>
          </p:nvSpPr>
          <p:spPr>
            <a:xfrm>
              <a:off x="6047280" y="1824480"/>
              <a:ext cx="2876040" cy="713520"/>
            </a:xfrm>
            <a:custGeom>
              <a:avLst/>
              <a:gdLst>
                <a:gd name="textAreaLeft" fmla="*/ 0 w 2876040"/>
                <a:gd name="textAreaRight" fmla="*/ 2876400 w 2876040"/>
                <a:gd name="textAreaTop" fmla="*/ 0 h 713520"/>
                <a:gd name="textAreaBottom" fmla="*/ 713880 h 7135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360" y="1696320"/>
              <a:ext cx="5544000" cy="849600"/>
            </a:xfrm>
            <a:custGeom>
              <a:avLst/>
              <a:gdLst>
                <a:gd name="textAreaLeft" fmla="*/ 0 w 5544000"/>
                <a:gd name="textAreaRight" fmla="*/ 5544360 w 554400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8560"/>
              <a:ext cx="5467680" cy="77400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000"/>
                <a:gd name="textAreaBottom" fmla="*/ 774360 h 77400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9520" y="1694880"/>
              <a:ext cx="3307680" cy="651240"/>
            </a:xfrm>
            <a:custGeom>
              <a:avLst/>
              <a:gdLst>
                <a:gd name="textAreaLeft" fmla="*/ 0 w 3307680"/>
                <a:gd name="textAreaRight" fmla="*/ 3308040 w 3307680"/>
                <a:gd name="textAreaTop" fmla="*/ 0 h 651240"/>
                <a:gd name="textAreaBottom" fmla="*/ 651600 h 65124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 useBgFill="1">
          <p:nvSpPr>
            <p:cNvPr id="6" name="Freeform 10"/>
            <p:cNvSpPr/>
            <p:nvPr/>
          </p:nvSpPr>
          <p:spPr>
            <a:xfrm>
              <a:off x="211680" y="1679400"/>
              <a:ext cx="8723160" cy="13294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29480"/>
                <a:gd name="textAreaBottom" fmla="*/ 1329840 h 13294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Rounded Rectangle 15"/>
          <p:cNvSpPr/>
          <p:nvPr/>
        </p:nvSpPr>
        <p:spPr>
          <a:xfrm>
            <a:off x="228600" y="228600"/>
            <a:ext cx="8695440" cy="6034680"/>
          </a:xfrm>
          <a:prstGeom prst="roundRect">
            <a:avLst>
              <a:gd name="adj" fmla="val 1272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ndara"/>
            </a:endParaRPr>
          </a:p>
        </p:txBody>
      </p:sp>
      <p:grpSp>
        <p:nvGrpSpPr>
          <p:cNvPr id="8" name="Group 9"/>
          <p:cNvGrpSpPr/>
          <p:nvPr/>
        </p:nvGrpSpPr>
        <p:grpSpPr>
          <a:xfrm>
            <a:off x="211680" y="5353920"/>
            <a:ext cx="8723160" cy="1331280"/>
            <a:chOff x="211680" y="5353920"/>
            <a:chExt cx="8723160" cy="1331280"/>
          </a:xfrm>
        </p:grpSpPr>
        <p:sp>
          <p:nvSpPr>
            <p:cNvPr id="9" name="Freeform 14"/>
            <p:cNvSpPr/>
            <p:nvPr/>
          </p:nvSpPr>
          <p:spPr>
            <a:xfrm>
              <a:off x="6054840" y="549936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" name="Freeform 18"/>
            <p:cNvSpPr/>
            <p:nvPr/>
          </p:nvSpPr>
          <p:spPr>
            <a:xfrm>
              <a:off x="2622240" y="5370840"/>
              <a:ext cx="5551200" cy="851040"/>
            </a:xfrm>
            <a:custGeom>
              <a:avLst/>
              <a:gdLst>
                <a:gd name="textAreaLeft" fmla="*/ 0 w 5551200"/>
                <a:gd name="textAreaRight" fmla="*/ 5551560 w 555120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1" name="Freeform 22"/>
            <p:cNvSpPr/>
            <p:nvPr/>
          </p:nvSpPr>
          <p:spPr>
            <a:xfrm>
              <a:off x="2832120" y="5383080"/>
              <a:ext cx="5474520" cy="775080"/>
            </a:xfrm>
            <a:custGeom>
              <a:avLst/>
              <a:gdLst>
                <a:gd name="textAreaLeft" fmla="*/ 0 w 5474520"/>
                <a:gd name="textAreaRight" fmla="*/ 5474880 w 5474520"/>
                <a:gd name="textAreaTop" fmla="*/ 0 h 775080"/>
                <a:gd name="textAreaBottom" fmla="*/ 775440 h 77508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2" name="Freeform 26"/>
            <p:cNvSpPr/>
            <p:nvPr/>
          </p:nvSpPr>
          <p:spPr>
            <a:xfrm>
              <a:off x="5616360" y="5369760"/>
              <a:ext cx="3312000" cy="651960"/>
            </a:xfrm>
            <a:custGeom>
              <a:avLst/>
              <a:gdLst>
                <a:gd name="textAreaLeft" fmla="*/ 0 w 3312000"/>
                <a:gd name="textAreaRight" fmla="*/ 3312360 w 3312000"/>
                <a:gd name="textAreaTop" fmla="*/ 0 h 651960"/>
                <a:gd name="textAreaBottom" fmla="*/ 652320 h 65196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 useBgFill="1">
          <p:nvSpPr>
            <p:cNvPr id="13" name="Freeform 10"/>
            <p:cNvSpPr/>
            <p:nvPr/>
          </p:nvSpPr>
          <p:spPr>
            <a:xfrm>
              <a:off x="211680" y="5353920"/>
              <a:ext cx="8723160" cy="13312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31280"/>
                <a:gd name="textAreaBottom" fmla="*/ 1331640 h 13312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dt" idx="1"/>
          </p:nvPr>
        </p:nvSpPr>
        <p:spPr>
          <a:xfrm>
            <a:off x="516384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ftr" idx="2"/>
          </p:nvPr>
        </p:nvSpPr>
        <p:spPr>
          <a:xfrm>
            <a:off x="19368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sldNum" idx="3"/>
          </p:nvPr>
        </p:nvSpPr>
        <p:spPr>
          <a:xfrm>
            <a:off x="3990960" y="6250320"/>
            <a:ext cx="1161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4B0516E-5347-4D8F-9B2D-81D52147616F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ru-RU" sz="1600" spc="-1" strike="noStrike">
              <a:solidFill>
                <a:srgbClr val="073e87"/>
              </a:solidFill>
              <a:latin typeface="Candar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ounded Rectangle 13"/>
          <p:cNvSpPr/>
          <p:nvPr/>
        </p:nvSpPr>
        <p:spPr>
          <a:xfrm>
            <a:off x="228600" y="228600"/>
            <a:ext cx="8695440" cy="2468520"/>
          </a:xfrm>
          <a:prstGeom prst="roundRect">
            <a:avLst>
              <a:gd name="adj" fmla="val 3362"/>
            </a:avLst>
          </a:prstGeom>
          <a:gradFill rotWithShape="0">
            <a:gsLst>
              <a:gs pos="10000">
                <a:srgbClr val="83d3fe"/>
              </a:gs>
              <a:gs pos="100000">
                <a:srgbClr val="0293e0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ndara"/>
            </a:endParaRPr>
          </a:p>
        </p:txBody>
      </p:sp>
      <p:grpSp>
        <p:nvGrpSpPr>
          <p:cNvPr id="56" name="Group 15"/>
          <p:cNvGrpSpPr/>
          <p:nvPr/>
        </p:nvGrpSpPr>
        <p:grpSpPr>
          <a:xfrm>
            <a:off x="211680" y="1679400"/>
            <a:ext cx="8723160" cy="1329480"/>
            <a:chOff x="211680" y="1679400"/>
            <a:chExt cx="8723160" cy="1329480"/>
          </a:xfrm>
        </p:grpSpPr>
        <p:sp>
          <p:nvSpPr>
            <p:cNvPr id="57" name="Freeform 14"/>
            <p:cNvSpPr/>
            <p:nvPr/>
          </p:nvSpPr>
          <p:spPr>
            <a:xfrm>
              <a:off x="6047280" y="1824480"/>
              <a:ext cx="2876040" cy="713520"/>
            </a:xfrm>
            <a:custGeom>
              <a:avLst/>
              <a:gdLst>
                <a:gd name="textAreaLeft" fmla="*/ 0 w 2876040"/>
                <a:gd name="textAreaRight" fmla="*/ 2876400 w 2876040"/>
                <a:gd name="textAreaTop" fmla="*/ 0 h 713520"/>
                <a:gd name="textAreaBottom" fmla="*/ 713880 h 7135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8" name="Freeform 18"/>
            <p:cNvSpPr/>
            <p:nvPr/>
          </p:nvSpPr>
          <p:spPr>
            <a:xfrm>
              <a:off x="2619360" y="1696320"/>
              <a:ext cx="5544000" cy="849600"/>
            </a:xfrm>
            <a:custGeom>
              <a:avLst/>
              <a:gdLst>
                <a:gd name="textAreaLeft" fmla="*/ 0 w 5544000"/>
                <a:gd name="textAreaRight" fmla="*/ 5544360 w 554400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2828880" y="1708560"/>
              <a:ext cx="5467680" cy="77400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000"/>
                <a:gd name="textAreaBottom" fmla="*/ 774360 h 77400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0" name="Freeform 26"/>
            <p:cNvSpPr/>
            <p:nvPr/>
          </p:nvSpPr>
          <p:spPr>
            <a:xfrm>
              <a:off x="5609520" y="1694880"/>
              <a:ext cx="3307680" cy="651240"/>
            </a:xfrm>
            <a:custGeom>
              <a:avLst/>
              <a:gdLst>
                <a:gd name="textAreaLeft" fmla="*/ 0 w 3307680"/>
                <a:gd name="textAreaRight" fmla="*/ 3308040 w 3307680"/>
                <a:gd name="textAreaTop" fmla="*/ 0 h 651240"/>
                <a:gd name="textAreaBottom" fmla="*/ 651600 h 65124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 useBgFill="1">
          <p:nvSpPr>
            <p:cNvPr id="61" name="Freeform 10"/>
            <p:cNvSpPr/>
            <p:nvPr/>
          </p:nvSpPr>
          <p:spPr>
            <a:xfrm>
              <a:off x="211680" y="1679400"/>
              <a:ext cx="8723160" cy="13294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29480"/>
                <a:gd name="textAreaBottom" fmla="*/ 1329840 h 13294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Образец текста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4320">
              <a:lnSpc>
                <a:spcPct val="100000"/>
              </a:lnSpc>
              <a:spcBef>
                <a:spcPts val="43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Второй уровень</a:t>
            </a:r>
            <a:endParaRPr b="0" lang="ru-RU" sz="22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Третий уровень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lnSpc>
                <a:spcPct val="100000"/>
              </a:lnSpc>
              <a:spcBef>
                <a:spcPts val="36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Четвертый уровень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lvl="4" marL="1463040" indent="-228600">
              <a:lnSpc>
                <a:spcPct val="100000"/>
              </a:lnSpc>
              <a:spcBef>
                <a:spcPts val="32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Пятый уровень</a:t>
            </a:r>
            <a:endParaRPr b="0" lang="ru-RU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516384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19368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3990960" y="6250320"/>
            <a:ext cx="1161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9B3B06B-BFF7-4DA7-9758-3A37AB196A8F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veselajashkola.ru/interesno" TargetMode="External"/><Relationship Id="rId2" Type="http://schemas.openxmlformats.org/officeDocument/2006/relationships/hyperlink" Target="http://veselajashkola.ru/interesno" TargetMode="External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Правила Дорожного Движения для пешеходов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3060000" y="4509000"/>
            <a:ext cx="6400440" cy="147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ndara"/>
              </a:rPr>
              <a:t>Огородова Ан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71920" y="1845000"/>
            <a:ext cx="7408080" cy="42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На нерегулируемых пешеходных переходах пешеходы могут выходить на проезжую часть после того, как оценят расстояние до приближающихся транспортных средств, их скорость и убедятся, что переход будет для них безопасен. При пересечении проезжей части вне пешеходного перехода пешеходы, кроме того, не должны создавать помех для движения транспортных средств и выходить из-за стоящего транспортного средства или иного препятствия, ограничивающего обзорность, не убедившись в отсутствии приближающихся транспортных средств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Правила Дорожного Движения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9480" indent="-2494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Выйдя на проезжую часть, пешеходы не должны задерживаться или останавливаться, если это не связано с обеспечением безопасности движения. Пешеходы, не успевшие закончить переход, должны остановиться на линии, разделяющей транспортные потоки противоположных направлений. Продолжать переход можно лишь убедившись в безопасности дальнейшего движения и с учетом сигнала светофора (регулировщика)....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Правила Дорожного Движения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71920" y="2349000"/>
            <a:ext cx="740808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en-US" sz="2400" spc="-1" strike="noStrike" u="sng">
                <a:solidFill>
                  <a:srgbClr val="0080ff"/>
                </a:solidFill>
                <a:uFillTx/>
                <a:latin typeface="Candara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80ff"/>
                </a:solidFill>
                <a:uFillTx/>
                <a:latin typeface="Candara"/>
                <a:hlinkClick r:id="rId2"/>
              </a:rPr>
              <a:t>veselajashkola.ru/interesno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Ресурсы: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-1476720" y="2493000"/>
            <a:ext cx="171360" cy="46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 rot="20448000">
            <a:off x="467280" y="27090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6600" spc="-1" strike="noStrike">
                <a:solidFill>
                  <a:srgbClr val="ff0000"/>
                </a:solidFill>
                <a:latin typeface="Candara"/>
              </a:rPr>
              <a:t>Спасибо за внимание!!!</a:t>
            </a:r>
            <a:endParaRPr b="0" lang="ru-RU" sz="66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320" indent="-274320">
              <a:lnSpc>
                <a:spcPct val="100000"/>
              </a:lnSpc>
              <a:spcBef>
                <a:spcPts val="72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Пешеходы должны двигаться по тротуарам или пешеходным дорожкам, а при их отсутствии — по обочинам.... </a:t>
            </a:r>
            <a:endParaRPr b="0" lang="ru-RU" sz="3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Правила Дорожного Движения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6040" indent="-266040">
              <a:lnSpc>
                <a:spcPct val="100000"/>
              </a:lnSpc>
              <a:spcBef>
                <a:spcPts val="561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При отсутствии тротуаров, пешеходных дорожек или обочин, а также в случае невозможности двигаться по ним пешеходы могут двигаться по велосипедной дорожке или идти в один ряд по краю проезжей части (на дорогах с разделительной полосой — по внешнему краю проезжей части).... </a:t>
            </a:r>
            <a:endParaRPr b="0" lang="ru-RU" sz="2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Правила Дорожного Движения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320" indent="-274320">
              <a:lnSpc>
                <a:spcPct val="100000"/>
              </a:lnSpc>
              <a:spcBef>
                <a:spcPts val="72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При движении по краю проезжей части пешеходы должны идти навстречу движению транспортных средств...</a:t>
            </a:r>
            <a:endParaRPr b="0" lang="ru-RU" sz="3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Правила Дорожного Движения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3160" indent="-263160">
              <a:lnSpc>
                <a:spcPct val="100000"/>
              </a:lnSpc>
              <a:spcBef>
                <a:spcPts val="561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При движении по обочинам или краю проезжей части в темное время суток или в условиях недостаточной видимости пешеходам рекомендуется иметь при себе предметы со светоотражающими элементами и обеспечивать видимость этих предметов водителями транспортных средств... </a:t>
            </a:r>
            <a:endParaRPr b="0" lang="ru-RU" sz="2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Правила Дорожного Движения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8560" indent="-268560">
              <a:lnSpc>
                <a:spcPct val="100000"/>
              </a:lnSpc>
              <a:spcBef>
                <a:spcPts val="641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Группы детей разрешается водить только по тротуарам и пешеходным дорожкам, а при их отсутствии — и по обочинам, но лишь в светлое время суток и только в сопровождении взрослых.... </a:t>
            </a:r>
            <a:endParaRPr b="0" lang="ru-RU" sz="32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Правила Дорожного Движения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Пешеходы должны пересекать проезжую часть по пешеходным переходам, в том числе по подземным и надземным, а при их отсутствии — на перекрестках по линии тротуаров или обочин.... </a:t>
            </a:r>
            <a:endParaRPr b="0" lang="ru-RU" sz="32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Правила Дорожного Движения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При отсутствии в зоне видимости перехода или перекрестка разрешается переходить дорогу под прямым углом к краю проезжей части на участках без разделительной полосы и ограждений там, где она хорошо просматривается в обе стороны.... </a:t>
            </a:r>
            <a:endParaRPr b="0" lang="ru-RU" sz="32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Правила Дорожного Движения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В местах, где движение регулируется, пешеходы должны руководствоваться сигналами регулировщика или пешеходного светофора, а при его отсутствии — транспортного светофора.... </a:t>
            </a:r>
            <a:endParaRPr b="0" lang="ru-RU" sz="32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Правила Дорожного Движения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Волна">
  <a:themeElements>
    <a:clrScheme name="Волна">
      <a:dk1>
        <a:srgbClr val="000000"/>
      </a:dk1>
      <a:lt1>
        <a:srgbClr val="ffffff"/>
      </a:lt1>
      <a:dk2>
        <a:srgbClr val="073e87"/>
      </a:dk2>
      <a:lt2>
        <a:srgbClr val="c6e7fc"/>
      </a:lt2>
      <a:accent1>
        <a:srgbClr val="31b6fd"/>
      </a:accent1>
      <a:accent2>
        <a:srgbClr val="4584d3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Волна">
  <a:themeElements>
    <a:clrScheme name="Волна">
      <a:dk1>
        <a:srgbClr val="000000"/>
      </a:dk1>
      <a:lt1>
        <a:srgbClr val="ffffff"/>
      </a:lt1>
      <a:dk2>
        <a:srgbClr val="073e87"/>
      </a:dk2>
      <a:lt2>
        <a:srgbClr val="c6e7fc"/>
      </a:lt2>
      <a:accent1>
        <a:srgbClr val="31b6fd"/>
      </a:accent1>
      <a:accent2>
        <a:srgbClr val="4584d3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73e87"/>
      </a:dk2>
      <a:lt2>
        <a:srgbClr val="c6e7fc"/>
      </a:lt2>
      <a:accent1>
        <a:srgbClr val="31b6fd"/>
      </a:accent1>
      <a:accent2>
        <a:srgbClr val="4584d3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Waveform</Template>
  <TotalTime>53</TotalTime>
  <Application>LibreOffice/7.4.7.2$Linux_X86_64 LibreOffice_project/40$Build-2</Application>
  <AppVersion>15.0000</AppVersion>
  <Words>410</Words>
  <Paragraphs>2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0T17:05:16Z</dcterms:created>
  <dc:creator>Аня</dc:creator>
  <dc:description/>
  <dc:language>en-US</dc:language>
  <cp:lastModifiedBy>Аня</cp:lastModifiedBy>
  <dcterms:modified xsi:type="dcterms:W3CDTF">2013-05-20T17:58:50Z</dcterms:modified>
  <cp:revision>4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13</vt:r8>
  </property>
</Properties>
</file>