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10.png" ContentType="image/png"/>
  <Override PartName="/ppt/media/image9.png" ContentType="image/png"/>
  <Override PartName="/ppt/media/image20.jpeg" ContentType="image/jpeg"/>
  <Override PartName="/ppt/media/image12.png" ContentType="image/png"/>
  <Override PartName="/ppt/media/image13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C5C-AA57-4BF5-A6A9-E585E943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4E8-31AE-442F-99E6-FCF15F4D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34C-C5BE-43A1-A972-EC17B1ED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FB0-DA33-4405-B380-15CAD14C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65DF-A635-4865-A0EA-2A1112E7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DCC-908F-42FF-B387-BD009B3A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B2B2-8DBE-4873-8926-E3EBF5DB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C120-C942-4D79-BF36-E9698442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90E3-E66A-4B80-9975-908AA175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2349-3F01-4D04-8CEE-CA12349D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B0B6-361F-4CFC-9EA4-50CCAD80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8DC-D0ED-434A-BE2B-09C84B6F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9779-93CD-4D80-9D2F-AF5399C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E24F-3D51-40C2-8F6C-3C1A0B49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6B19-8A43-40EB-9A9E-B8167824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3C0E-04AD-4677-BE42-154E0193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D4B9-D2E5-4005-BCD6-02A079E2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3CD-A851-475A-BBA7-CB1509A0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CE9-459C-4110-BDC3-D20DD956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505-B24B-4108-84D9-6346A87C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397-3DDB-4281-8227-086BACE1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7F2-EFE6-44A9-BC08-F3B608F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5B3-58EC-4EE4-8F9C-F8E9AA5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055-7EEB-42C6-B620-BD19F657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A3B2F1-29D3-4FB1-A500-54427C089534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5EFF58-A8E6-4A10-9D5F-3D82776B656F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45;&#1083;&#1077;&#1082;&#1090;&#1088;&#1086;&#1084;&#1077;&#1093;&#1072;&#1085;&#1110;&#1082;&#1072;" TargetMode="External"/><Relationship Id="rId2" Type="http://schemas.openxmlformats.org/officeDocument/2006/relationships/hyperlink" Target="https://uk.wikipedia.org/wiki/&#1045;&#1083;&#1077;&#1082;&#1090;&#1088;&#1080;&#1095;&#1085;&#1077;_&#1082;&#1086;&#1083;&#1086;" TargetMode="External"/><Relationship Id="rId3" Type="http://schemas.openxmlformats.org/officeDocument/2006/relationships/hyperlink" Target="https://uk.wikipedia.org/wiki/&#1045;&#1083;&#1077;&#1082;&#1090;&#1088;&#1080;&#1095;&#1085;&#1080;&#1081;_&#1089;&#1090;&#1088;&#1091;&#1084;" TargetMode="External"/><Relationship Id="rId4" Type="http://schemas.openxmlformats.org/officeDocument/2006/relationships/hyperlink" Target="https://uk.wikipedia.org/wiki/&#1055;&#1088;&#1086;&#1074;&#1110;&#1076;&#1085;&#1080;&#1082;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6" descr=""/>
          <p:cNvPicPr/>
          <p:nvPr/>
        </p:nvPicPr>
        <p:blipFill>
          <a:blip r:embed="rId1"/>
          <a:stretch/>
        </p:blipFill>
        <p:spPr>
          <a:xfrm>
            <a:off x="4836240" y="1160280"/>
            <a:ext cx="4590720" cy="3057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16" name="Заголовок 1"/>
          <p:cNvSpPr/>
          <p:nvPr/>
        </p:nvSpPr>
        <p:spPr>
          <a:xfrm>
            <a:off x="888840" y="313560"/>
            <a:ext cx="10413720" cy="169344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uk-UA" sz="5400" spc="-1" strike="noStrike">
                <a:solidFill>
                  <a:schemeClr val="accent1"/>
                </a:solidFill>
                <a:latin typeface="Times New Roman"/>
              </a:rPr>
              <a:t>Лекція 9 </a:t>
            </a: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Перемикач, цикл </a:t>
            </a:r>
            <a:r>
              <a:rPr b="1" lang="en-US" sz="54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Картинки по запросу gthtvbrfx"/>
          <p:cNvPicPr/>
          <p:nvPr/>
        </p:nvPicPr>
        <p:blipFill>
          <a:blip r:embed="rId2"/>
          <a:stretch/>
        </p:blipFill>
        <p:spPr>
          <a:xfrm>
            <a:off x="719280" y="2151000"/>
            <a:ext cx="3907440" cy="3112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076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мінна з плаваючою комою </a:t>
            </a:r>
            <a:r>
              <a:rPr b="1" lang="cy-GB" sz="4000" spc="-1" strike="noStrike">
                <a:solidFill>
                  <a:srgbClr val="00b0f0"/>
                </a:solidFill>
                <a:latin typeface="Trebuchet MS"/>
              </a:rPr>
              <a:t>float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значення  чисел</a:t>
            </a:r>
            <a:r>
              <a:rPr b="0" lang="en-US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 плаваючою комою від -3.4028235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E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+38 до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 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3.4028235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E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+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"/>
          <p:cNvPicPr/>
          <p:nvPr/>
        </p:nvPicPr>
        <p:blipFill>
          <a:blip r:embed="rId1"/>
          <a:stretch/>
        </p:blipFill>
        <p:spPr>
          <a:xfrm>
            <a:off x="1828800" y="3972240"/>
            <a:ext cx="4661280" cy="2323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076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ffc000"/>
                </a:solidFill>
                <a:latin typeface="Trebuchet MS"/>
              </a:rPr>
              <a:t>char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значення  символ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4" descr=""/>
          <p:cNvPicPr/>
          <p:nvPr/>
        </p:nvPicPr>
        <p:blipFill>
          <a:blip r:embed="rId1"/>
          <a:stretch/>
        </p:blipFill>
        <p:spPr>
          <a:xfrm>
            <a:off x="4434120" y="2721600"/>
            <a:ext cx="5297400" cy="25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076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Текстова змінна типу </a:t>
            </a:r>
            <a:r>
              <a:rPr b="1" lang="cy-GB" sz="4000" spc="-1" strike="noStrike">
                <a:solidFill>
                  <a:srgbClr val="92d050"/>
                </a:solidFill>
                <a:latin typeface="Trebuchet MS"/>
              </a:rPr>
              <a:t>String 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Заголовок 1"/>
          <p:cNvSpPr/>
          <p:nvPr/>
        </p:nvSpPr>
        <p:spPr>
          <a:xfrm>
            <a:off x="352800" y="870840"/>
            <a:ext cx="913068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</a:t>
            </a:r>
            <a:r>
              <a:rPr b="0" lang="cy-GB" sz="4000" spc="-1" strike="noStrike">
                <a:solidFill>
                  <a:schemeClr val="accent1"/>
                </a:solidFill>
                <a:latin typeface="Trebuchet MS"/>
              </a:rPr>
              <a:t> текстове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знач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5" descr=""/>
          <p:cNvPicPr/>
          <p:nvPr/>
        </p:nvPicPr>
        <p:blipFill>
          <a:blip r:embed="rId1"/>
          <a:stretch/>
        </p:blipFill>
        <p:spPr>
          <a:xfrm>
            <a:off x="2024640" y="2937960"/>
            <a:ext cx="5725800" cy="254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Згадуємо монітор порт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0" y="897120"/>
            <a:ext cx="773280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Монітор порту</a:t>
            </a:r>
            <a:r>
              <a:rPr b="1" lang="cy-GB" sz="4000" spc="-1" strike="noStrike">
                <a:solidFill>
                  <a:schemeClr val="accent1"/>
                </a:solidFill>
                <a:latin typeface="Times New Roman"/>
              </a:rPr>
              <a:t> (com port,uart) </a:t>
            </a: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- </a:t>
            </a:r>
            <a:r>
              <a:rPr b="0" lang="uk-UA" sz="4000" spc="-1" strike="noStrike">
                <a:solidFill>
                  <a:schemeClr val="accent1"/>
                </a:solidFill>
                <a:latin typeface="Times New Roman"/>
              </a:rPr>
              <a:t>це порт для зв</a:t>
            </a:r>
            <a:r>
              <a:rPr b="0" lang="cy-GB" sz="4000" spc="-1" strike="noStrike">
                <a:solidFill>
                  <a:schemeClr val="accent1"/>
                </a:solidFill>
                <a:latin typeface="Times New Roman"/>
              </a:rPr>
              <a:t>’</a:t>
            </a:r>
            <a:r>
              <a:rPr b="0" lang="uk-UA" sz="4000" spc="-1" strike="noStrike">
                <a:solidFill>
                  <a:schemeClr val="accent1"/>
                </a:solidFill>
                <a:latin typeface="Times New Roman"/>
              </a:rPr>
              <a:t>язку з платою</a:t>
            </a: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 </a:t>
            </a:r>
            <a:r>
              <a:rPr b="1" lang="cy-GB" sz="4000" spc="-1" strike="noStrike">
                <a:solidFill>
                  <a:schemeClr val="accent1"/>
                </a:solidFill>
                <a:latin typeface="Times New Roman"/>
              </a:rPr>
              <a:t>Ardu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Картинки по запросу ком порт ардуино"/>
          <p:cNvPicPr/>
          <p:nvPr/>
        </p:nvPicPr>
        <p:blipFill>
          <a:blip r:embed="rId1"/>
          <a:stretch/>
        </p:blipFill>
        <p:spPr>
          <a:xfrm>
            <a:off x="7724880" y="233640"/>
            <a:ext cx="4466880" cy="5709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Картинки по запросу ком порт ардуино"/>
          <p:cNvPicPr/>
          <p:nvPr/>
        </p:nvPicPr>
        <p:blipFill>
          <a:blip r:embed="rId2"/>
          <a:stretch/>
        </p:blipFill>
        <p:spPr>
          <a:xfrm>
            <a:off x="1005840" y="2783160"/>
            <a:ext cx="6301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1068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Команди управління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begin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швидкість</a:t>
            </a: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)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апуск звязку</a:t>
            </a:r>
            <a:r>
              <a:rPr b="0" lang="cy-GB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print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дані</a:t>
            </a: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)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надсилає дані без переходу на нову ст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println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дані</a:t>
            </a: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)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надсилає дані з переходом на нову ст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read()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читує да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85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ий сигнал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0" name="Заголовок 1"/>
          <p:cNvSpPr/>
          <p:nvPr/>
        </p:nvSpPr>
        <p:spPr>
          <a:xfrm>
            <a:off x="55728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Аналоговий сигнал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, може набувати значення в діапазоні сигналу, тобто від 0 до 5в. Чому саме 5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85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ий сигнал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55728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rduino NANO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8 аналогових входів, від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А0 до А7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, позначається буквою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А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 Для зчитування значення використовується команд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nalogRead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ін входу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і Входи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При зчитуванні аналогового сигналу </a:t>
            </a:r>
            <a:r>
              <a:rPr b="0" lang="en-US" sz="4000" spc="-1" strike="noStrike">
                <a:solidFill>
                  <a:schemeClr val="accent1"/>
                </a:solidFill>
                <a:latin typeface="Trebuchet MS"/>
              </a:rPr>
              <a:t>Arduino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конвертує його в діапазоні від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0 до 10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Тобто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при зчитуванн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0в-</a:t>
            </a:r>
            <a:r>
              <a:rPr b="0" lang="uk-UA" sz="5400" spc="-1" strike="noStrike">
                <a:solidFill>
                  <a:schemeClr val="accent1"/>
                </a:solidFill>
                <a:latin typeface="Trebuchet MS"/>
              </a:rPr>
              <a:t>це</a:t>
            </a: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5400" spc="-1" strike="noStrike">
                <a:solidFill>
                  <a:schemeClr val="accent1"/>
                </a:solidFill>
                <a:latin typeface="Trebuchet MS"/>
              </a:rPr>
              <a:t>число</a:t>
            </a: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 0, а 5в-</a:t>
            </a:r>
            <a:r>
              <a:rPr b="0" lang="uk-UA" sz="5400" spc="-1" strike="noStrike">
                <a:solidFill>
                  <a:schemeClr val="accent1"/>
                </a:solidFill>
                <a:latin typeface="Trebuchet MS"/>
              </a:rPr>
              <a:t>це число 10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і Виходи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9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В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RDUINO NANO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доступні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6 пінів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які можна налаштувати як аналоговий вихід, це </a:t>
            </a:r>
            <a:r>
              <a:rPr b="1" lang="ru-RU" sz="4000" spc="-1" strike="noStrike">
                <a:solidFill>
                  <a:schemeClr val="accent1"/>
                </a:solidFill>
                <a:latin typeface="Trebuchet MS"/>
              </a:rPr>
              <a:t>3, 5, 6, 9, 10, 11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піни. Так ви все вірно почули, деякі цифрові піни, можна налаштувати на аналоговий вихі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Команда управлі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nalogWrite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ін виходу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,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0..255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фоторезистор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22" name="Рисунок 5" descr="Картинки по запросу фоторезистор"/>
          <p:cNvPicPr/>
          <p:nvPr/>
        </p:nvPicPr>
        <p:blipFill>
          <a:blip r:embed="rId1"/>
          <a:stretch/>
        </p:blipFill>
        <p:spPr>
          <a:xfrm>
            <a:off x="430920" y="936000"/>
            <a:ext cx="5499000" cy="4476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6334200" y="1249560"/>
            <a:ext cx="48787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78320" cy="8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>
                <a:solidFill>
                  <a:schemeClr val="accent1"/>
                </a:solidFill>
                <a:latin typeface="Times New Roman"/>
              </a:rPr>
              <a:t>Згадуємо </a:t>
            </a:r>
            <a:r>
              <a:rPr b="1" lang="en-US" sz="4800" spc="-1" strike="noStrike">
                <a:solidFill>
                  <a:schemeClr val="accent1"/>
                </a:solidFill>
                <a:latin typeface="Times New Roman"/>
              </a:rPr>
              <a:t>Arduino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Picture 4" descr="Картинки по запросу види arduino"/>
          <p:cNvPicPr/>
          <p:nvPr/>
        </p:nvPicPr>
        <p:blipFill>
          <a:blip r:embed="rId1"/>
          <a:stretch/>
        </p:blipFill>
        <p:spPr>
          <a:xfrm>
            <a:off x="6696000" y="3940200"/>
            <a:ext cx="5140080" cy="2752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0" name="Заголовок 1"/>
          <p:cNvSpPr/>
          <p:nvPr/>
        </p:nvSpPr>
        <p:spPr>
          <a:xfrm>
            <a:off x="431640" y="762120"/>
            <a:ext cx="913500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cy-GB" sz="4800" spc="-1" strike="noStrike">
                <a:solidFill>
                  <a:schemeClr val="accent1"/>
                </a:solidFill>
                <a:latin typeface="Trebuchet MS"/>
              </a:rPr>
              <a:t>Arduino</a:t>
            </a:r>
            <a:r>
              <a:rPr b="0" lang="cy-GB" sz="48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800" spc="-1" strike="noStrike">
                <a:solidFill>
                  <a:schemeClr val="accent1"/>
                </a:solidFill>
                <a:latin typeface="Trebuchet MS"/>
              </a:rPr>
              <a:t>–це Мікроконтролерний пристрій, який можна програмувати за допомогою комп’юте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вчаємо перемикач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еремика́ч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або 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микач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, іноді 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ту́мблер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—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1"/>
              </a:rPr>
              <a:t>електромеханічний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пристрій для розмикання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2"/>
              </a:rPr>
              <a:t>електричного кола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або перемикання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3"/>
              </a:rPr>
              <a:t>електричного струму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з одного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4"/>
              </a:rPr>
              <a:t>провідника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на інш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5" descr="https://asenergi.com/assets/images/pereklychateli/dvijkoviy/is-1270n.jpg"/>
          <p:cNvPicPr/>
          <p:nvPr/>
        </p:nvPicPr>
        <p:blipFill>
          <a:blip r:embed="rId5"/>
          <a:stretch/>
        </p:blipFill>
        <p:spPr>
          <a:xfrm>
            <a:off x="687960" y="4136040"/>
            <a:ext cx="3339720" cy="25048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https://pokupka-radiolom.ru/upload/iblock/747/747e02bd0132830a2823bd53e4fde9bf.jpg"/>
          <p:cNvPicPr/>
          <p:nvPr/>
        </p:nvPicPr>
        <p:blipFill>
          <a:blip r:embed="rId6"/>
          <a:stretch/>
        </p:blipFill>
        <p:spPr>
          <a:xfrm>
            <a:off x="4300200" y="4377960"/>
            <a:ext cx="3373560" cy="2247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https://microteh.ck.ua/image/cache/catalog/products/653-228x228.jpg"/>
          <p:cNvPicPr/>
          <p:nvPr/>
        </p:nvPicPr>
        <p:blipFill>
          <a:blip r:embed="rId7"/>
          <a:stretch/>
        </p:blipFill>
        <p:spPr>
          <a:xfrm>
            <a:off x="8143200" y="3692160"/>
            <a:ext cx="1809360" cy="180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вчаємо перемикач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Перемикачі бувають звичайні та прохідні. Прохідні перемикають сигнал між середнім, та двома або більше контак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ПрохіднийВимикач_001"/>
          <p:cNvPicPr/>
          <p:nvPr/>
        </p:nvPicPr>
        <p:blipFill>
          <a:blip r:embed="rId1"/>
          <a:stretch/>
        </p:blipFill>
        <p:spPr>
          <a:xfrm>
            <a:off x="8245800" y="2207520"/>
            <a:ext cx="3588840" cy="4415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2586600" y="3169800"/>
            <a:ext cx="4057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Які бувають?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37" name="Picture 2" descr="Картинки по запросу gthtvbrfx"/>
          <p:cNvPicPr/>
          <p:nvPr/>
        </p:nvPicPr>
        <p:blipFill>
          <a:blip r:embed="rId1"/>
          <a:stretch/>
        </p:blipFill>
        <p:spPr>
          <a:xfrm>
            <a:off x="6230880" y="700920"/>
            <a:ext cx="5497920" cy="4380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344160" y="582480"/>
            <a:ext cx="4057200" cy="28573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8" descr="https://microteh.ck.ua/image/cache/catalog/products/653-228x228.jpg"/>
          <p:cNvPicPr/>
          <p:nvPr/>
        </p:nvPicPr>
        <p:blipFill>
          <a:blip r:embed="rId3"/>
          <a:stretch/>
        </p:blipFill>
        <p:spPr>
          <a:xfrm>
            <a:off x="585000" y="4334040"/>
            <a:ext cx="1809360" cy="18093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https://pokupka-radiolom.ru/upload/iblock/747/747e02bd0132830a2823bd53e4fde9bf.jpg"/>
          <p:cNvPicPr/>
          <p:nvPr/>
        </p:nvPicPr>
        <p:blipFill>
          <a:blip r:embed="rId4"/>
          <a:stretch/>
        </p:blipFill>
        <p:spPr>
          <a:xfrm>
            <a:off x="2556720" y="3794040"/>
            <a:ext cx="3373560" cy="22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вчаємо цикл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Цикл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while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– це такий цикл який виконується при певній умові, без можливості читання коду якщо умова циклу виконується</a:t>
            </a:r>
            <a:r>
              <a:rPr b="0" lang="en-US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1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Синтаксис циклу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46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1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17960" y="1065240"/>
            <a:ext cx="8569440" cy="49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беремо схе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488960" y="679680"/>
            <a:ext cx="9235440" cy="61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3" name="Рисунок 5" descr=""/>
          <p:cNvPicPr/>
          <p:nvPr/>
        </p:nvPicPr>
        <p:blipFill>
          <a:blip r:embed="rId1"/>
          <a:stretch/>
        </p:blipFill>
        <p:spPr>
          <a:xfrm>
            <a:off x="0" y="757800"/>
            <a:ext cx="12191760" cy="60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беремо схе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084320" y="633600"/>
            <a:ext cx="10384560" cy="62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1"/>
          <a:stretch/>
        </p:blipFill>
        <p:spPr>
          <a:xfrm>
            <a:off x="0" y="731520"/>
            <a:ext cx="12191760" cy="6126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8396640" y="2090160"/>
            <a:ext cx="851400" cy="283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8396640" y="1903320"/>
            <a:ext cx="851400" cy="28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64" name="Рисунок 4" descr=""/>
          <p:cNvPicPr/>
          <p:nvPr/>
        </p:nvPicPr>
        <p:blipFill>
          <a:blip r:embed="rId1"/>
          <a:stretch/>
        </p:blipFill>
        <p:spPr>
          <a:xfrm>
            <a:off x="2751480" y="691200"/>
            <a:ext cx="5321160" cy="61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Картинки по запросу arduino nano распиновка"/>
          <p:cNvPicPr/>
          <p:nvPr/>
        </p:nvPicPr>
        <p:blipFill>
          <a:blip r:embed="rId1"/>
          <a:srcRect l="12343" t="16065" r="16187" b="18861"/>
          <a:stretch/>
        </p:blipFill>
        <p:spPr>
          <a:xfrm>
            <a:off x="8547120" y="0"/>
            <a:ext cx="3644640" cy="2628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8840" cy="8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1"/>
                </a:solidFill>
                <a:latin typeface="Times New Roman"/>
              </a:rPr>
              <a:t>Arduino NANO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Объект 2"/>
          <p:cNvSpPr/>
          <p:nvPr/>
        </p:nvSpPr>
        <p:spPr>
          <a:xfrm>
            <a:off x="1112400" y="1664640"/>
            <a:ext cx="54968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5549760" y="1003320"/>
            <a:ext cx="638784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4800" spc="-1" strike="noStrike">
              <a:solidFill>
                <a:schemeClr val="accent1"/>
              </a:solidFill>
              <a:latin typeface="Times New Roman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0" y="2562120"/>
            <a:ext cx="10162800" cy="429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1"/>
          <a:stretch/>
        </p:blipFill>
        <p:spPr>
          <a:xfrm>
            <a:off x="2984760" y="690120"/>
            <a:ext cx="50353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32240" cy="8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Згадуємо дискретні</a:t>
            </a:r>
            <a:r>
              <a:rPr b="1" lang="cy-GB" sz="3600" spc="-1" strike="noStrike">
                <a:solidFill>
                  <a:schemeClr val="accent1"/>
                </a:solidFill>
                <a:latin typeface="Trebuchet MS"/>
              </a:rPr>
              <a:t>(</a:t>
            </a: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цифрові)</a:t>
            </a: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 входи та виходи</a:t>
            </a:r>
            <a:r>
              <a:rPr b="1" lang="uk-UA" sz="3600" spc="-1" strike="noStrike">
                <a:solidFill>
                  <a:schemeClr val="accent1"/>
                </a:solidFill>
                <a:latin typeface="Times New Roman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041120" y="14770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31" name="Прямая соединительная линия 9"/>
          <p:cNvCxnSpPr/>
          <p:nvPr/>
        </p:nvCxnSpPr>
        <p:spPr>
          <a:xfrm>
            <a:off x="7610400" y="6288120"/>
            <a:ext cx="914760" cy="914760"/>
          </a:xfrm>
          <a:prstGeom prst="straightConnector1">
            <a:avLst/>
          </a:prstGeom>
          <a:ln cap="rnd">
            <a:solidFill>
              <a:srgbClr val="f0a22e"/>
            </a:solidFill>
            <a:round/>
          </a:ln>
        </p:spPr>
      </p:cxnSp>
      <p:sp>
        <p:nvSpPr>
          <p:cNvPr id="132" name="Заголовок 1"/>
          <p:cNvSpPr/>
          <p:nvPr/>
        </p:nvSpPr>
        <p:spPr>
          <a:xfrm>
            <a:off x="340200" y="842040"/>
            <a:ext cx="84099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1"/>
                </a:solidFill>
                <a:latin typeface="Trebuchet MS"/>
              </a:rPr>
              <a:t>Цифровий сигнал </a:t>
            </a:r>
            <a:r>
              <a:rPr b="0" lang="ru-RU" sz="3200" spc="-1" strike="noStrike">
                <a:solidFill>
                  <a:schemeClr val="accent1"/>
                </a:solidFill>
                <a:latin typeface="Trebuchet MS"/>
              </a:rPr>
              <a:t>– це сигнал який може набувати двох значень високого HIGH та низького LOW або ж 1/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61"/>
          <p:cNvGrpSpPr/>
          <p:nvPr/>
        </p:nvGrpSpPr>
        <p:grpSpPr>
          <a:xfrm>
            <a:off x="1264680" y="3992040"/>
            <a:ext cx="436680" cy="1547640"/>
            <a:chOff x="1264680" y="3992040"/>
            <a:chExt cx="436680" cy="1547640"/>
          </a:xfrm>
        </p:grpSpPr>
        <p:cxnSp>
          <p:nvCxnSpPr>
            <p:cNvPr id="134" name="Прямая соединительная линия 62"/>
            <p:cNvCxnSpPr/>
            <p:nvPr/>
          </p:nvCxnSpPr>
          <p:spPr>
            <a:xfrm flipV="1">
              <a:off x="1264680" y="3992760"/>
              <a:ext cx="1800" cy="15199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35" name="Прямая соединительная линия 63"/>
            <p:cNvCxnSpPr/>
            <p:nvPr/>
          </p:nvCxnSpPr>
          <p:spPr>
            <a:xfrm>
              <a:off x="1265400" y="3992040"/>
              <a:ext cx="422280" cy="21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36" name="Прямая соединительная линия 64"/>
            <p:cNvCxnSpPr/>
            <p:nvPr/>
          </p:nvCxnSpPr>
          <p:spPr>
            <a:xfrm>
              <a:off x="1687320" y="4034160"/>
              <a:ext cx="14400" cy="150588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grpSp>
        <p:nvGrpSpPr>
          <p:cNvPr id="137" name="Группа 69"/>
          <p:cNvGrpSpPr/>
          <p:nvPr/>
        </p:nvGrpSpPr>
        <p:grpSpPr>
          <a:xfrm>
            <a:off x="2275200" y="3989880"/>
            <a:ext cx="436680" cy="1547280"/>
            <a:chOff x="2275200" y="3989880"/>
            <a:chExt cx="436680" cy="1547280"/>
          </a:xfrm>
        </p:grpSpPr>
        <p:cxnSp>
          <p:nvCxnSpPr>
            <p:cNvPr id="138" name="Прямая соединительная линия 70"/>
            <p:cNvCxnSpPr/>
            <p:nvPr/>
          </p:nvCxnSpPr>
          <p:spPr>
            <a:xfrm flipV="1">
              <a:off x="2275200" y="3990600"/>
              <a:ext cx="1800" cy="15195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39" name="Прямая соединительная линия 71"/>
            <p:cNvCxnSpPr/>
            <p:nvPr/>
          </p:nvCxnSpPr>
          <p:spPr>
            <a:xfrm>
              <a:off x="2275920" y="3989880"/>
              <a:ext cx="422280" cy="180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0" name="Прямая соединительная линия 72"/>
            <p:cNvCxnSpPr/>
            <p:nvPr/>
          </p:nvCxnSpPr>
          <p:spPr>
            <a:xfrm>
              <a:off x="2697840" y="4032000"/>
              <a:ext cx="14400" cy="15055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cxnSp>
        <p:nvCxnSpPr>
          <p:cNvPr id="141" name="Прямая со стрелкой 77"/>
          <p:cNvCxnSpPr/>
          <p:nvPr/>
        </p:nvCxnSpPr>
        <p:spPr>
          <a:xfrm flipV="1">
            <a:off x="1194120" y="2825280"/>
            <a:ext cx="2160" cy="2687400"/>
          </a:xfrm>
          <a:prstGeom prst="straightConnector1">
            <a:avLst/>
          </a:prstGeom>
          <a:ln cap="rnd" w="571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2" name="Прямая со стрелкой 78"/>
          <p:cNvCxnSpPr/>
          <p:nvPr/>
        </p:nvCxnSpPr>
        <p:spPr>
          <a:xfrm>
            <a:off x="1194840" y="5539680"/>
            <a:ext cx="4699080" cy="14400"/>
          </a:xfrm>
          <a:prstGeom prst="straightConnector1">
            <a:avLst/>
          </a:prstGeom>
          <a:ln cap="rnd" w="57150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143" name="Группа 79"/>
          <p:cNvGrpSpPr/>
          <p:nvPr/>
        </p:nvGrpSpPr>
        <p:grpSpPr>
          <a:xfrm>
            <a:off x="3287880" y="3989880"/>
            <a:ext cx="437040" cy="1547280"/>
            <a:chOff x="3287880" y="3989880"/>
            <a:chExt cx="437040" cy="1547280"/>
          </a:xfrm>
        </p:grpSpPr>
        <p:cxnSp>
          <p:nvCxnSpPr>
            <p:cNvPr id="144" name="Прямая соединительная линия 80"/>
            <p:cNvCxnSpPr/>
            <p:nvPr/>
          </p:nvCxnSpPr>
          <p:spPr>
            <a:xfrm flipV="1">
              <a:off x="3287880" y="3990600"/>
              <a:ext cx="2160" cy="15195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5" name="Прямая соединительная линия 81"/>
            <p:cNvCxnSpPr/>
            <p:nvPr/>
          </p:nvCxnSpPr>
          <p:spPr>
            <a:xfrm>
              <a:off x="3288600" y="3989880"/>
              <a:ext cx="422640" cy="180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6" name="Прямая соединительная линия 82"/>
            <p:cNvCxnSpPr/>
            <p:nvPr/>
          </p:nvCxnSpPr>
          <p:spPr>
            <a:xfrm>
              <a:off x="3710880" y="4032000"/>
              <a:ext cx="14400" cy="15055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grpSp>
        <p:nvGrpSpPr>
          <p:cNvPr id="147" name="Группа 87"/>
          <p:cNvGrpSpPr/>
          <p:nvPr/>
        </p:nvGrpSpPr>
        <p:grpSpPr>
          <a:xfrm>
            <a:off x="4298400" y="3987360"/>
            <a:ext cx="437040" cy="1547640"/>
            <a:chOff x="4298400" y="3987360"/>
            <a:chExt cx="437040" cy="1547640"/>
          </a:xfrm>
        </p:grpSpPr>
        <p:cxnSp>
          <p:nvCxnSpPr>
            <p:cNvPr id="148" name="Прямая соединительная линия 88"/>
            <p:cNvCxnSpPr/>
            <p:nvPr/>
          </p:nvCxnSpPr>
          <p:spPr>
            <a:xfrm flipV="1">
              <a:off x="4298400" y="3988080"/>
              <a:ext cx="2160" cy="15199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9" name="Прямая соединительная линия 89"/>
            <p:cNvCxnSpPr/>
            <p:nvPr/>
          </p:nvCxnSpPr>
          <p:spPr>
            <a:xfrm>
              <a:off x="4299120" y="3987360"/>
              <a:ext cx="422640" cy="21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50" name="Прямая соединительная линия 90"/>
            <p:cNvCxnSpPr/>
            <p:nvPr/>
          </p:nvCxnSpPr>
          <p:spPr>
            <a:xfrm>
              <a:off x="4721400" y="4029480"/>
              <a:ext cx="14400" cy="150588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sp>
        <p:nvSpPr>
          <p:cNvPr id="151" name="TextBox 95"/>
          <p:cNvSpPr/>
          <p:nvPr/>
        </p:nvSpPr>
        <p:spPr>
          <a:xfrm>
            <a:off x="5457600" y="5666400"/>
            <a:ext cx="78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6"/>
          <p:cNvSpPr/>
          <p:nvPr/>
        </p:nvSpPr>
        <p:spPr>
          <a:xfrm>
            <a:off x="1460160" y="2780280"/>
            <a:ext cx="78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7"/>
          <p:cNvSpPr/>
          <p:nvPr/>
        </p:nvSpPr>
        <p:spPr>
          <a:xfrm>
            <a:off x="304920" y="5340600"/>
            <a:ext cx="81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0(0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8"/>
          <p:cNvSpPr/>
          <p:nvPr/>
        </p:nvSpPr>
        <p:spPr>
          <a:xfrm>
            <a:off x="291960" y="3846960"/>
            <a:ext cx="84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1(5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4" descr="Картинки по запросу arduino ide русский"/>
          <p:cNvPicPr/>
          <p:nvPr/>
        </p:nvPicPr>
        <p:blipFill>
          <a:blip r:embed="rId1"/>
          <a:srcRect l="0" t="0" r="46023" b="49124"/>
          <a:stretch/>
        </p:blipFill>
        <p:spPr>
          <a:xfrm>
            <a:off x="5239080" y="2083320"/>
            <a:ext cx="6952680" cy="37587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8" name="Picture 6" descr="Картинки по запросу arduino ide русский"/>
          <p:cNvPicPr/>
          <p:nvPr/>
        </p:nvPicPr>
        <p:blipFill>
          <a:blip r:embed="rId2"/>
          <a:srcRect l="0" t="0" r="0" b="84745"/>
          <a:stretch/>
        </p:blipFill>
        <p:spPr>
          <a:xfrm>
            <a:off x="701640" y="235080"/>
            <a:ext cx="10913040" cy="150444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9"/>
          <p:cNvCxnSpPr/>
          <p:nvPr/>
        </p:nvCxnSpPr>
        <p:spPr>
          <a:xfrm flipV="1">
            <a:off x="507960" y="1498320"/>
            <a:ext cx="546480" cy="406440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60" name="Прямая со стрелкой 13"/>
          <p:cNvCxnSpPr/>
          <p:nvPr/>
        </p:nvCxnSpPr>
        <p:spPr>
          <a:xfrm flipV="1">
            <a:off x="1231560" y="1460160"/>
            <a:ext cx="241920" cy="266760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61" name="Прямая со стрелкой 15"/>
          <p:cNvCxnSpPr/>
          <p:nvPr/>
        </p:nvCxnSpPr>
        <p:spPr>
          <a:xfrm flipH="1" flipV="1">
            <a:off x="1930320" y="1536480"/>
            <a:ext cx="12960" cy="148644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62" name="Прямая со стрелкой 18"/>
          <p:cNvCxnSpPr/>
          <p:nvPr/>
        </p:nvCxnSpPr>
        <p:spPr>
          <a:xfrm flipH="1" flipV="1">
            <a:off x="3746160" y="1130040"/>
            <a:ext cx="1435680" cy="90216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4160" y="5537160"/>
            <a:ext cx="5244840" cy="8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Компіляція(перевірка)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1015920" y="4140360"/>
            <a:ext cx="524484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Компіляція(перевірка) 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Заванта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1498680" y="3187800"/>
            <a:ext cx="294588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Новий скет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AutoShape 2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AutoShape 2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AutoShape 3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Похожее изображение"/>
          <p:cNvPicPr/>
          <p:nvPr/>
        </p:nvPicPr>
        <p:blipFill>
          <a:blip r:embed="rId1"/>
          <a:srcRect l="0" t="0" r="0" b="56280"/>
          <a:stretch/>
        </p:blipFill>
        <p:spPr>
          <a:xfrm>
            <a:off x="457200" y="1181160"/>
            <a:ext cx="11517120" cy="3695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088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Що таке </a:t>
            </a:r>
            <a:r>
              <a:rPr b="1" lang="en-US" sz="3600" spc="-1" strike="noStrike">
                <a:solidFill>
                  <a:schemeClr val="accent1"/>
                </a:solidFill>
                <a:latin typeface="Trebuchet MS"/>
              </a:rPr>
              <a:t>void setup</a:t>
            </a: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() та </a:t>
            </a:r>
            <a:r>
              <a:rPr b="1" lang="en-US" sz="3600" spc="-1" strike="noStrike">
                <a:solidFill>
                  <a:schemeClr val="accent1"/>
                </a:solidFill>
                <a:latin typeface="Trebuchet MS"/>
              </a:rPr>
              <a:t>void loop</a:t>
            </a: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()</a:t>
            </a: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6616800" y="2629080"/>
            <a:ext cx="476208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Виконується лише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Заголовок 1"/>
          <p:cNvSpPr/>
          <p:nvPr/>
        </p:nvSpPr>
        <p:spPr>
          <a:xfrm>
            <a:off x="6654960" y="3797280"/>
            <a:ext cx="48636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Виконується нескінче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10"/>
          <p:cNvCxnSpPr/>
          <p:nvPr/>
        </p:nvCxnSpPr>
        <p:spPr>
          <a:xfrm flipH="1" flipV="1">
            <a:off x="1803240" y="2755800"/>
            <a:ext cx="4737600" cy="17820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84" name="Прямая со стрелкой 13"/>
          <p:cNvCxnSpPr/>
          <p:nvPr/>
        </p:nvCxnSpPr>
        <p:spPr>
          <a:xfrm flipH="1" flipV="1">
            <a:off x="1701720" y="3822480"/>
            <a:ext cx="4889880" cy="26712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016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Які типи змінних вивчали?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457200" y="151092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0070c0"/>
                </a:solidFill>
                <a:latin typeface="Trebuchet MS"/>
              </a:rPr>
              <a:t>intenger (int)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7030a0"/>
                </a:solidFill>
                <a:latin typeface="Trebuchet MS"/>
              </a:rPr>
              <a:t>boolean (bool)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з плаваючою комою </a:t>
            </a:r>
            <a:r>
              <a:rPr b="1" lang="cy-GB" sz="4000" spc="-1" strike="noStrike">
                <a:solidFill>
                  <a:srgbClr val="00b0f0"/>
                </a:solidFill>
                <a:latin typeface="Trebuchet MS"/>
              </a:rPr>
              <a:t>float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ffc000"/>
                </a:solidFill>
                <a:latin typeface="Trebuchet MS"/>
              </a:rPr>
              <a:t>char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Текстова змінна типу </a:t>
            </a:r>
            <a:r>
              <a:rPr b="1" lang="cy-GB" sz="4000" spc="-1" strike="noStrike">
                <a:solidFill>
                  <a:srgbClr val="92d050"/>
                </a:solidFill>
                <a:latin typeface="Trebuchet MS"/>
              </a:rPr>
              <a:t>St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0070c0"/>
                </a:solidFill>
                <a:latin typeface="Trebuchet MS"/>
              </a:rPr>
              <a:t>intenger (int)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значення цілих чисел від -32 768 до 32 7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3357000" y="3214800"/>
            <a:ext cx="4728240" cy="208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7030a0"/>
                </a:solidFill>
                <a:latin typeface="Trebuchet MS"/>
              </a:rPr>
              <a:t>boolean (bool)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логічні значення тобто правда, або неправда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true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/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false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,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також можна записувати так: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1-  це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true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, 0- це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5" descr=""/>
          <p:cNvPicPr/>
          <p:nvPr/>
        </p:nvPicPr>
        <p:blipFill>
          <a:blip r:embed="rId1"/>
          <a:stretch/>
        </p:blipFill>
        <p:spPr>
          <a:xfrm>
            <a:off x="1188720" y="4075920"/>
            <a:ext cx="5247360" cy="2285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8958</TotalTime>
  <Application>LibreOffice/7.4.7.2$Linux_X86_64 LibreOffice_project/40$Build-2</Application>
  <AppVersion>15.0000</AppVersion>
  <Words>468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3T13:08:41Z</dcterms:created>
  <dc:creator>Левковський Олександр</dc:creator>
  <dc:description/>
  <dc:language>en-US</dc:language>
  <cp:lastModifiedBy>Левковський Олександр</cp:lastModifiedBy>
  <dcterms:modified xsi:type="dcterms:W3CDTF">2020-09-28T05:39:10Z</dcterms:modified>
  <cp:revision>167</cp:revision>
  <dc:subject/>
  <dc:title>Урок 1 Основи електроні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30</vt:r8>
  </property>
</Properties>
</file>