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jpeg" ContentType="image/jpeg"/>
  <Override PartName="/ppt/media/image10.gif" ContentType="image/gif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8D9-C491-420E-BDE2-FE9D5997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9F00-7925-48D2-A3CB-A9F138CF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C85F-4616-4B20-BDB7-9E632DA12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07AB-846C-4F31-8E69-6CEBE2F8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BD5F-14F8-4740-95D8-65AB434B0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CB05-3F2E-41EA-A883-7FFE25A8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780C-0240-4D15-AEEF-D9437D54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36524-8F2C-4CFE-9415-1E0C745E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3EC6-B9A1-4FFF-B007-8A1A23DE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D7D3-1411-4956-B888-C53A0F03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EB53-B2AF-4A92-A9F6-C1008121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AE65-E648-4D96-8FEE-DC8DE331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D8C9-B387-4425-8E47-C03E7B59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649E-3422-4206-A95E-F43AE94A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E98E-9307-4164-99BA-CE21B9E9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A18E-1F84-46A3-8656-18DFFEFE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2213-3513-413F-9C94-BDD99A4F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80913-7A4D-4316-8265-9FFA1FBD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5B2E8-573C-4C51-9AD0-CBEFC8B1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ABF13-54A7-43D4-A4B0-BE831199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EB902-4CFE-48CD-B1C2-BC746431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B5E26-219E-4B4E-A37C-4934F09E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049-A2D6-43E2-AD09-E6B0A4633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B8390-B9CD-482C-85E0-788722E2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BFC01-9678-49EF-B392-EF3F5A9B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FEF53-663C-4500-8FE3-9D879F25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9473-5501-47BD-AAE1-F5963BE6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5E6E-4DDB-4026-B4F6-4A241736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1753-75AC-4C39-B001-5A07D0BC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69663-5AE0-445E-AE63-95B4314E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AF12-4E0B-4DC4-A4F9-45127CD8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B51E-F0DC-45F5-9BB1-0E112E80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AD6-A8E8-48EA-BAD7-FCB4486B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6E71-04E3-41B2-AD4D-7D2F0F4D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406-7767-4824-A278-322AF318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512-C339-4993-9EDB-998BE492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61A228-AA68-4337-A814-C9EC590820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EFFC23-1DE4-4041-B7C1-B670EBB7FD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914407-E579-4589-AD5B-D48EF89247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4.xml"/><Relationship Id="rId8" Type="http://schemas.openxmlformats.org/officeDocument/2006/relationships/slide" Target="slide14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tmp/in/&#1059;&#1088;&#1086;&#1082;%20&#1085;&#1072;%20&#1092;&#1077;&#1089;&#1090;&#1080;&#1074;&#1072;&#1083;&#1100;..doc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116000" y="3357720"/>
            <a:ext cx="7416360" cy="1777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Познакомиться с экосистемой л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Уметь составлять цепи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Учиться охранять и любить прир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_1628643_t300"/>
          <p:cNvPicPr/>
          <p:nvPr/>
        </p:nvPicPr>
        <p:blipFill>
          <a:blip r:embed="rId1"/>
          <a:stretch/>
        </p:blipFill>
        <p:spPr>
          <a:xfrm>
            <a:off x="611280" y="692280"/>
            <a:ext cx="3600000" cy="25682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9"/>
          <p:cNvSpPr txBox="1"/>
          <p:nvPr/>
        </p:nvSpPr>
        <p:spPr>
          <a:xfrm>
            <a:off x="4714920" y="1428840"/>
            <a:ext cx="3855600" cy="1079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6600"/>
                </a:solidFill>
                <a:latin typeface="Times New Roman"/>
              </a:rPr>
              <a:t>Экосистема леса</a:t>
            </a:r>
            <a:endParaRPr b="0" lang="en-US" sz="3600" spc="-1" strike="noStrike">
              <a:ln w="0">
                <a:noFill/>
              </a:ln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я берегу </a:t>
            </a: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ле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мусори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в лес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крича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в лесу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лома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ветки деревьев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разоря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гнёзда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разжига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костры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льзя разорять </a:t>
            </a:r>
            <a:r>
              <a:rPr b="0" lang="ru-RU" sz="3600" spc="-1" strike="noStrike">
                <a:solidFill>
                  <a:srgbClr val="006600"/>
                </a:solidFill>
                <a:latin typeface="Arial"/>
              </a:rPr>
              <a:t>муравейники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20"/>
              </a:spcBef>
              <a:buClr>
                <a:srgbClr val="ff0000"/>
              </a:buClr>
              <a:buFont typeface="Symbol" charset="2"/>
              <a:buChar char=""/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Берегите лес!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косистема лес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роизводител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злаки       б)камыш       в)деревь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Потребител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мышь      б)медведь      в)лягуш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рушител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грибы      б)раки            в) мотыль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258920" y="476280"/>
            <a:ext cx="6625800" cy="69804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Triangle">
              <a:avLst>
                <a:gd name="adj" fmla="val 50000"/>
              </a:avLst>
            </a:prstTxWarp>
            <a:noAutofit/>
            <a:scene3d>
              <a:camera prst="legacyObliqueTopLeft"/>
              <a:lightRig dir="r" rig="legacyNormal3"/>
            </a:scene3d>
            <a:sp3d extrusionH="201600" prstMaterial="legacyMatte">
              <a:extrusionClr>
                <a:srgbClr val="0066cc"/>
              </a:extrusionClr>
            </a:sp3d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9900"/>
                </a:solidFill>
                <a:latin typeface="Times New Roman"/>
              </a:rPr>
              <a:t>Проверка знаний.</a:t>
            </a:r>
            <a:endParaRPr b="0" lang="en-US" sz="3600" spc="-1" strike="noStrike">
              <a:ln w="0">
                <a:noFill/>
              </a:ln>
              <a:solidFill>
                <a:srgbClr val="009900"/>
              </a:solidFill>
              <a:latin typeface="Arial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2050920" y="270828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6">
            <a:hlinkClick r:id="rId2" action="ppaction://hlinksldjump"/>
          </p:cNvPr>
          <p:cNvSpPr/>
          <p:nvPr/>
        </p:nvSpPr>
        <p:spPr>
          <a:xfrm>
            <a:off x="4572000" y="278136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7">
            <a:hlinkClick r:id="rId3" action="ppaction://hlinksldjump"/>
          </p:cNvPr>
          <p:cNvSpPr/>
          <p:nvPr/>
        </p:nvSpPr>
        <p:spPr>
          <a:xfrm>
            <a:off x="7308720" y="278136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8">
            <a:hlinkClick r:id="rId4" action="ppaction://hlinksldjump"/>
          </p:cNvPr>
          <p:cNvSpPr/>
          <p:nvPr/>
        </p:nvSpPr>
        <p:spPr>
          <a:xfrm>
            <a:off x="2050920" y="393372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9">
            <a:hlinkClick r:id="rId5" action="ppaction://hlinksldjump"/>
          </p:cNvPr>
          <p:cNvSpPr/>
          <p:nvPr/>
        </p:nvSpPr>
        <p:spPr>
          <a:xfrm>
            <a:off x="4788000" y="393372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0">
            <a:hlinkClick r:id="rId6" action="ppaction://hlinksldjump"/>
          </p:cNvPr>
          <p:cNvSpPr/>
          <p:nvPr/>
        </p:nvSpPr>
        <p:spPr>
          <a:xfrm>
            <a:off x="7380360" y="393372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1">
            <a:hlinkClick r:id="rId7" action="ppaction://hlinksldjump"/>
          </p:cNvPr>
          <p:cNvSpPr/>
          <p:nvPr/>
        </p:nvSpPr>
        <p:spPr>
          <a:xfrm>
            <a:off x="7236000" y="522936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2">
            <a:hlinkClick r:id="rId8" action="ppaction://hlinksldjump"/>
          </p:cNvPr>
          <p:cNvSpPr/>
          <p:nvPr/>
        </p:nvSpPr>
        <p:spPr>
          <a:xfrm>
            <a:off x="4067280" y="530064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3">
            <a:hlinkClick r:id="rId9" action="ppaction://hlinksldjump"/>
          </p:cNvPr>
          <p:cNvSpPr/>
          <p:nvPr/>
        </p:nvSpPr>
        <p:spPr>
          <a:xfrm>
            <a:off x="2124000" y="5229360"/>
            <a:ext cx="431280" cy="71892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258920" y="3051000"/>
            <a:ext cx="6768720" cy="1746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ff6600"/>
                </a:solidFill>
                <a:latin typeface="Impact"/>
              </a:rPr>
              <a:t>Спасибо за урок!</a:t>
            </a:r>
            <a:endParaRPr b="0" lang="en-US" sz="3600" spc="-1" strike="noStrike">
              <a:ln w="0">
                <a:noFill/>
              </a:ln>
              <a:solidFill>
                <a:srgbClr val="ff6600"/>
              </a:solidFill>
              <a:latin typeface="Arial"/>
            </a:endParaRPr>
          </a:p>
        </p:txBody>
      </p:sp>
      <p:pic>
        <p:nvPicPr>
          <p:cNvPr id="168" name="Picture 5" descr="flag"/>
          <p:cNvPicPr/>
          <p:nvPr/>
        </p:nvPicPr>
        <p:blipFill>
          <a:blip r:embed="rId1"/>
          <a:stretch/>
        </p:blipFill>
        <p:spPr>
          <a:xfrm>
            <a:off x="3492360" y="1484280"/>
            <a:ext cx="1058400" cy="10584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лодец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agree"/>
          <p:cNvPicPr/>
          <p:nvPr/>
        </p:nvPicPr>
        <p:blipFill>
          <a:blip r:embed="rId1"/>
          <a:stretch/>
        </p:blipFill>
        <p:spPr>
          <a:xfrm>
            <a:off x="3132000" y="1989000"/>
            <a:ext cx="2158560" cy="883800"/>
          </a:xfrm>
          <a:prstGeom prst="rect">
            <a:avLst/>
          </a:prstGeom>
          <a:ln w="9525">
            <a:noFill/>
          </a:ln>
        </p:spPr>
      </p:pic>
      <p:sp>
        <p:nvSpPr>
          <p:cNvPr id="171" name="AutoShape 5">
            <a:hlinkClick r:id="rId2" action="ppaction://hlinksldjump"/>
          </p:cNvPr>
          <p:cNvSpPr/>
          <p:nvPr/>
        </p:nvSpPr>
        <p:spPr>
          <a:xfrm>
            <a:off x="3635280" y="3284640"/>
            <a:ext cx="1042560" cy="104256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одумай ещё!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confused"/>
          <p:cNvPicPr/>
          <p:nvPr/>
        </p:nvPicPr>
        <p:blipFill>
          <a:blip r:embed="rId1"/>
          <a:stretch/>
        </p:blipFill>
        <p:spPr>
          <a:xfrm>
            <a:off x="4140360" y="1557360"/>
            <a:ext cx="661680" cy="969480"/>
          </a:xfrm>
          <a:prstGeom prst="rect">
            <a:avLst/>
          </a:prstGeom>
          <a:ln w="9525">
            <a:noFill/>
          </a:ln>
        </p:spPr>
      </p:pic>
      <p:sp>
        <p:nvSpPr>
          <p:cNvPr id="174" name="AutoShape 5">
            <a:hlinkClick r:id="rId2" action="ppaction://hlinksldjump"/>
          </p:cNvPr>
          <p:cNvSpPr/>
          <p:nvPr/>
        </p:nvSpPr>
        <p:spPr>
          <a:xfrm>
            <a:off x="3995640" y="3429000"/>
            <a:ext cx="1042560" cy="1042560"/>
          </a:xfrm>
          <a:prstGeom prst="actionButtonHelp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rId1"/>
          </p:cNvPr>
          <p:cNvSpPr/>
          <p:nvPr/>
        </p:nvSpPr>
        <p:spPr>
          <a:xfrm>
            <a:off x="3059280" y="2997360"/>
            <a:ext cx="1042560" cy="1042560"/>
          </a:xfrm>
          <a:prstGeom prst="actionButtonBackPrevious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1402920" cy="113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роизводители лес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«Этажи леса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отребители  леса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азрушители лес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«Умничка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tarSymbol"/>
              <a:buAutoNum type="arabicPeriod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Я и лес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003101901"/>
          <p:cNvPicPr/>
          <p:nvPr/>
        </p:nvPicPr>
        <p:blipFill>
          <a:blip r:embed="rId1"/>
          <a:stretch/>
        </p:blipFill>
        <p:spPr>
          <a:xfrm>
            <a:off x="4356000" y="2205000"/>
            <a:ext cx="4303440" cy="4463640"/>
          </a:xfrm>
          <a:prstGeom prst="rect">
            <a:avLst/>
          </a:prstGeom>
          <a:ln w="0">
            <a:noFill/>
          </a:ln>
        </p:spPr>
      </p:pic>
      <p:sp>
        <p:nvSpPr>
          <p:cNvPr id="131" name="WordArt 5"/>
          <p:cNvSpPr txBox="1"/>
          <p:nvPr/>
        </p:nvSpPr>
        <p:spPr>
          <a:xfrm>
            <a:off x="2987640" y="620640"/>
            <a:ext cx="3168360" cy="4312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ln w="0">
                  <a:noFill/>
                </a:ln>
                <a:solidFill>
                  <a:srgbClr val="003300"/>
                </a:solidFill>
                <a:latin typeface="Arial"/>
              </a:rPr>
              <a:t>План</a:t>
            </a:r>
            <a:endParaRPr b="0" lang="en-US" sz="3600" spc="-1" strike="noStrike">
              <a:ln w="0">
                <a:noFill/>
              </a:ln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5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9"/>
                                    </p:cond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роизводители леса</a:t>
            </a:r>
            <a:br>
              <a:rPr sz="2000"/>
            </a:b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66720" y="1268280"/>
            <a:ext cx="3315960" cy="4752720"/>
          </a:xfrm>
          <a:prstGeom prst="rect">
            <a:avLst/>
          </a:prstGeom>
          <a:ln w="9525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110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ак называются основные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части дере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1" dur="1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астительные этажи лес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летние растения, у которых от общего корня отходят несколько твёрдых стеблей ………….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я с мягкими зелёными стеблями………………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олетние растения с крупным, твёрдым стеблем…………….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Животные лес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исли животных лес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уясь картинкой составь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цепи пит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альбоме)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916360" y="2637000"/>
            <a:ext cx="5800320" cy="360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18" dur="1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123" dur="1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шители леса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азрушители леса: ч……., ж……., г………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66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Почему говорят, что лес- устойчивая экосистема с замкнутым круговоротом веществ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9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Умничка»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 знакомые растения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ём их особенност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[NS3-OKME_R3-MP15]_[PF_002]"/>
          <p:cNvPicPr/>
          <p:nvPr/>
        </p:nvPicPr>
        <p:blipFill>
          <a:blip r:embed="rId1"/>
          <a:stretch/>
        </p:blipFill>
        <p:spPr>
          <a:xfrm>
            <a:off x="6732720" y="765000"/>
            <a:ext cx="2049120" cy="273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[NS3-OKME_R3-MP15]_[PF_004]"/>
          <p:cNvPicPr/>
          <p:nvPr/>
        </p:nvPicPr>
        <p:blipFill>
          <a:blip r:embed="rId2"/>
          <a:stretch/>
        </p:blipFill>
        <p:spPr>
          <a:xfrm>
            <a:off x="4716360" y="1484280"/>
            <a:ext cx="1920600" cy="2560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[NS3-OKME_R3-MP15]_[PF_001]"/>
          <p:cNvPicPr/>
          <p:nvPr/>
        </p:nvPicPr>
        <p:blipFill>
          <a:blip r:embed="rId3"/>
          <a:stretch/>
        </p:blipFill>
        <p:spPr>
          <a:xfrm>
            <a:off x="4788000" y="4149720"/>
            <a:ext cx="1784160" cy="237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[NS3-OKME_R3-MP15]_[PF_009]"/>
          <p:cNvPicPr/>
          <p:nvPr/>
        </p:nvPicPr>
        <p:blipFill>
          <a:blip r:embed="rId4"/>
          <a:stretch/>
        </p:blipFill>
        <p:spPr>
          <a:xfrm>
            <a:off x="539640" y="2997360"/>
            <a:ext cx="3960360" cy="297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[NS3-OKME_R3-MP15]_[PF_006]"/>
          <p:cNvPicPr/>
          <p:nvPr/>
        </p:nvPicPr>
        <p:blipFill>
          <a:blip r:embed="rId5"/>
          <a:stretch/>
        </p:blipFill>
        <p:spPr>
          <a:xfrm>
            <a:off x="7020000" y="4005360"/>
            <a:ext cx="1879200" cy="25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Я и лес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Здравствуй, лес, дремучий лес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Полон сказок и чудес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Ты о чём шумишь листвою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Ночью тёмной, грозовою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Что там шепчешь на заре,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есь в росе, как в серебре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Кто в глуши твоей таится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Что за зверь? Какая птица?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Всё открой, не утаи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Ты же видишь- мы свои!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3300"/>
                </a:solidFill>
                <a:latin typeface="Arial"/>
              </a:rPr>
              <a:t>Лес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отдых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тек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топлив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оительный материал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 чистой воды и пищи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щитник воздуха, водоёмов, почв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 для растений, животных,…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  <Words>276</Words>
  <Paragraphs>69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9T15:25:00Z</dcterms:created>
  <dc:creator>Lena</dc:creator>
  <dc:description/>
  <dc:language>en-US</dc:language>
  <cp:lastModifiedBy>Трубин Сергей Александрович</cp:lastModifiedBy>
  <dcterms:modified xsi:type="dcterms:W3CDTF">2012-09-05T10:56:26Z</dcterms:modified>
  <cp:revision>13</cp:revision>
  <dc:subject/>
  <dc:title>                      Экосистема лес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5</vt:r8>
  </property>
</Properties>
</file>