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C0C-44BF-4EAE-8239-04FFA4D5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BAE-8B67-44A5-AF5B-CA42FAE1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EEA-7DA7-4057-94F8-784E3DD7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CEA-F45A-4984-BFEF-F45CEE95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D9E9-2065-404C-A0A9-7C475C70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19BB-C5DE-449F-860F-F25DE0F0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52CF-05E1-47C4-809F-8E3F8159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3476-49D4-4257-8F5B-8ADCE76C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002C-D548-49B2-B363-42A3A24D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C79-A00F-4ADF-943A-3F4AA676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B901-D158-4801-A10F-DA3BA771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B52-8351-4732-92D0-4B06A695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B1C3-8E47-4A5D-96C7-F28DE966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A8E0-A370-4F2D-8F46-197B208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ED06-9A1A-4C3B-BA12-06050DC0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7C41-8197-4AF6-9AAC-0CBE8ABB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D469-B9B0-45D2-882B-7B97404E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EE123-9E28-4DC8-A557-B4A3D27B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AC59-234B-4D66-A748-D7926FC4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338F-B3BF-4B77-B3E4-389B8A51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554B-384D-4DEF-865C-1BE323DD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7D94F-192B-4538-9A71-67E3DE4D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974-883A-4E13-8B92-A6C4DB2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4856-24AC-412A-ADF2-3AD67145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16A1-59CD-45E7-81C0-47EE6954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AF56-3ED4-4A02-BC26-AF7BA12C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6392C-BF78-41EB-829D-FF9779E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6E6A-EB2A-40E9-B4C5-6B01FED7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324C-2BBF-4F57-87BF-69EC2DC4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8835-3303-4F74-99A2-95AF6F6A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459-1BB4-4475-9627-7204076A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DE7-C51A-40A5-B09B-E40C93E2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1B1-B684-4DF1-9044-1BCB2F65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816-B4EA-45D8-9CB0-C3DDE9B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B8D-1796-42D7-B1A6-95293C31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F7E-87AC-417F-BD89-B640600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E57360-9852-4958-90DE-9501F0522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8118F7-7333-491D-990C-33023D25A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153684-6785-4139-90C5-767D98282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in/&#1059;&#1088;&#1086;&#1082;%20&#1085;&#1072;%20&#1092;&#1077;&#1089;&#1090;&#1080;&#1074;&#1072;&#1083;&#1100;..doc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16000" y="3357720"/>
            <a:ext cx="7416360" cy="1777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Познакомиться с экосистемой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Уметь составлять цепи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Учиться охранять и любить прир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_1628643_t300"/>
          <p:cNvPicPr/>
          <p:nvPr/>
        </p:nvPicPr>
        <p:blipFill>
          <a:blip r:embed="rId1"/>
          <a:stretch/>
        </p:blipFill>
        <p:spPr>
          <a:xfrm>
            <a:off x="611280" y="692280"/>
            <a:ext cx="3600000" cy="25682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9"/>
          <p:cNvSpPr txBox="1"/>
          <p:nvPr/>
        </p:nvSpPr>
        <p:spPr>
          <a:xfrm>
            <a:off x="4714920" y="1428840"/>
            <a:ext cx="3855600" cy="107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6600"/>
                </a:solidFill>
                <a:latin typeface="Times New Roman"/>
              </a:rPr>
              <a:t>Экосистема леса</a:t>
            </a:r>
            <a:endParaRPr b="0" lang="en-US" sz="3600" spc="-1" strike="noStrike">
              <a:ln w="0">
                <a:noFill/>
              </a:ln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я берегу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ле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мусори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 лес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крича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 лес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лома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етки деревье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разоря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гнёзд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разжига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кост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разоря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уравейник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ff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Берегите лес!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косистема лес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роизводител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злаки       б)камыш       в)деревь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требител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мышь      б)медведь      в)лягуш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рушител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грибы      б)раки            в) мотыл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258920" y="476280"/>
            <a:ext cx="6625800" cy="698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Triangle">
              <a:avLst>
                <a:gd name="adj" fmla="val 50000"/>
              </a:avLst>
            </a:prstTxWarp>
            <a:noAutofit/>
            <a:scene3d>
              <a:camera prst="legacyObliqueTopLeft"/>
              <a:lightRig dir="r" rig="legacyNormal3"/>
            </a:scene3d>
            <a:sp3d extrusionH="201600" prstMaterial="legacyMatte">
              <a:extrusionClr>
                <a:srgbClr val="0066cc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9900"/>
                </a:solidFill>
                <a:latin typeface="Times New Roman"/>
              </a:rPr>
              <a:t>Проверка знаний.</a:t>
            </a:r>
            <a:endParaRPr b="0" lang="en-US" sz="3600" spc="-1" strike="noStrike">
              <a:ln w="0">
                <a:noFill/>
              </a:ln>
              <a:solidFill>
                <a:srgbClr val="009900"/>
              </a:solidFill>
              <a:latin typeface="Arial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2050920" y="270828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rId2" action="ppaction://hlinksldjump"/>
          </p:cNvPr>
          <p:cNvSpPr/>
          <p:nvPr/>
        </p:nvSpPr>
        <p:spPr>
          <a:xfrm>
            <a:off x="4572000" y="278136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>
            <a:hlinkClick r:id="rId3" action="ppaction://hlinksldjump"/>
          </p:cNvPr>
          <p:cNvSpPr/>
          <p:nvPr/>
        </p:nvSpPr>
        <p:spPr>
          <a:xfrm>
            <a:off x="7308720" y="278136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>
            <a:hlinkClick r:id="rId4" action="ppaction://hlinksldjump"/>
          </p:cNvPr>
          <p:cNvSpPr/>
          <p:nvPr/>
        </p:nvSpPr>
        <p:spPr>
          <a:xfrm>
            <a:off x="2050920" y="393372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>
            <a:hlinkClick r:id="rId5" action="ppaction://hlinksldjump"/>
          </p:cNvPr>
          <p:cNvSpPr/>
          <p:nvPr/>
        </p:nvSpPr>
        <p:spPr>
          <a:xfrm>
            <a:off x="4788000" y="393372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>
            <a:hlinkClick r:id="rId6" action="ppaction://hlinksldjump"/>
          </p:cNvPr>
          <p:cNvSpPr/>
          <p:nvPr/>
        </p:nvSpPr>
        <p:spPr>
          <a:xfrm>
            <a:off x="7380360" y="393372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>
            <a:hlinkClick r:id="rId7" action="ppaction://hlinksldjump"/>
          </p:cNvPr>
          <p:cNvSpPr/>
          <p:nvPr/>
        </p:nvSpPr>
        <p:spPr>
          <a:xfrm>
            <a:off x="7236000" y="522936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>
            <a:hlinkClick r:id="rId8" action="ppaction://hlinksldjump"/>
          </p:cNvPr>
          <p:cNvSpPr/>
          <p:nvPr/>
        </p:nvSpPr>
        <p:spPr>
          <a:xfrm>
            <a:off x="4067280" y="530064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>
            <a:hlinkClick r:id="rId9" action="ppaction://hlinksldjump"/>
          </p:cNvPr>
          <p:cNvSpPr/>
          <p:nvPr/>
        </p:nvSpPr>
        <p:spPr>
          <a:xfrm>
            <a:off x="2124000" y="522936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258920" y="3051000"/>
            <a:ext cx="6768720" cy="1746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ff6600"/>
                </a:solidFill>
                <a:latin typeface="Impact"/>
              </a:rPr>
              <a:t>Спасибо за урок!</a:t>
            </a:r>
            <a:endParaRPr b="0" lang="en-US" sz="3600" spc="-1" strike="noStrike">
              <a:ln w="0">
                <a:noFill/>
              </a:ln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68" name="Picture 5" descr="flag"/>
          <p:cNvPicPr/>
          <p:nvPr/>
        </p:nvPicPr>
        <p:blipFill>
          <a:blip r:embed="rId1"/>
          <a:stretch/>
        </p:blipFill>
        <p:spPr>
          <a:xfrm>
            <a:off x="3492360" y="1484280"/>
            <a:ext cx="1058400" cy="105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лодец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agree"/>
          <p:cNvPicPr/>
          <p:nvPr/>
        </p:nvPicPr>
        <p:blipFill>
          <a:blip r:embed="rId1"/>
          <a:stretch/>
        </p:blipFill>
        <p:spPr>
          <a:xfrm>
            <a:off x="3132000" y="1989000"/>
            <a:ext cx="2158560" cy="883800"/>
          </a:xfrm>
          <a:prstGeom prst="rect">
            <a:avLst/>
          </a:prstGeom>
          <a:ln w="9525">
            <a:noFill/>
          </a:ln>
        </p:spPr>
      </p:pic>
      <p:sp>
        <p:nvSpPr>
          <p:cNvPr id="171" name="AutoShape 5">
            <a:hlinkClick r:id="rId2" action="ppaction://hlinksldjump"/>
          </p:cNvPr>
          <p:cNvSpPr/>
          <p:nvPr/>
        </p:nvSpPr>
        <p:spPr>
          <a:xfrm>
            <a:off x="3635280" y="3284640"/>
            <a:ext cx="1042560" cy="104256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думай ещё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onfused"/>
          <p:cNvPicPr/>
          <p:nvPr/>
        </p:nvPicPr>
        <p:blipFill>
          <a:blip r:embed="rId1"/>
          <a:stretch/>
        </p:blipFill>
        <p:spPr>
          <a:xfrm>
            <a:off x="4140360" y="1557360"/>
            <a:ext cx="661680" cy="969480"/>
          </a:xfrm>
          <a:prstGeom prst="rect">
            <a:avLst/>
          </a:prstGeom>
          <a:ln w="9525">
            <a:noFill/>
          </a:ln>
        </p:spPr>
      </p:pic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995640" y="3429000"/>
            <a:ext cx="1042560" cy="104256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rId1"/>
          </p:cNvPr>
          <p:cNvSpPr/>
          <p:nvPr/>
        </p:nvSpPr>
        <p:spPr>
          <a:xfrm>
            <a:off x="3059280" y="2997360"/>
            <a:ext cx="1042560" cy="10425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1402920" cy="113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оизводители лес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«Этажи леса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требители  лес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зрушители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«Умничка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Я и лес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003101901"/>
          <p:cNvPicPr/>
          <p:nvPr/>
        </p:nvPicPr>
        <p:blipFill>
          <a:blip r:embed="rId1"/>
          <a:stretch/>
        </p:blipFill>
        <p:spPr>
          <a:xfrm>
            <a:off x="4356000" y="2205000"/>
            <a:ext cx="4303440" cy="44636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>
            <a:off x="2987640" y="620640"/>
            <a:ext cx="3168360" cy="431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3300"/>
                </a:solidFill>
                <a:latin typeface="Arial"/>
              </a:rPr>
              <a:t>План</a:t>
            </a:r>
            <a:endParaRPr b="0" lang="en-US" sz="3600" spc="-1" strike="noStrike">
              <a:ln w="0">
                <a:noFill/>
              </a:ln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9"/>
                                    </p:cond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роизводители леса</a:t>
            </a: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66720" y="1268280"/>
            <a:ext cx="3315960" cy="4752720"/>
          </a:xfrm>
          <a:prstGeom prst="rect">
            <a:avLst/>
          </a:prstGeom>
          <a:ln w="9525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110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ак называются основные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части дер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1" dur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стительные этажи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летние растения, у которых от общего корня отходят несколько твёрдых стеблей ………….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 с мягкими зелёными стеблями………………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летние растения с крупным, твёрдым стеблем…………….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Животные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 животных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картинкой составь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цепи пит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альбоме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5800320" cy="36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18" dur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23" dur="1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шители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зрушители леса: ч……., ж……., г………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чему говорят, что лес- устойчивая экосистема с замкнутым круговоротом веществ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мничка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знакомые растени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их особенност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[NS3-OKME_R3-MP15]_[PF_002]"/>
          <p:cNvPicPr/>
          <p:nvPr/>
        </p:nvPicPr>
        <p:blipFill>
          <a:blip r:embed="rId1"/>
          <a:stretch/>
        </p:blipFill>
        <p:spPr>
          <a:xfrm>
            <a:off x="6732720" y="765000"/>
            <a:ext cx="2049120" cy="273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[NS3-OKME_R3-MP15]_[PF_004]"/>
          <p:cNvPicPr/>
          <p:nvPr/>
        </p:nvPicPr>
        <p:blipFill>
          <a:blip r:embed="rId2"/>
          <a:stretch/>
        </p:blipFill>
        <p:spPr>
          <a:xfrm>
            <a:off x="4716360" y="1484280"/>
            <a:ext cx="1920600" cy="2560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[NS3-OKME_R3-MP15]_[PF_001]"/>
          <p:cNvPicPr/>
          <p:nvPr/>
        </p:nvPicPr>
        <p:blipFill>
          <a:blip r:embed="rId3"/>
          <a:stretch/>
        </p:blipFill>
        <p:spPr>
          <a:xfrm>
            <a:off x="4788000" y="4149720"/>
            <a:ext cx="1784160" cy="237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[NS3-OKME_R3-MP15]_[PF_009]"/>
          <p:cNvPicPr/>
          <p:nvPr/>
        </p:nvPicPr>
        <p:blipFill>
          <a:blip r:embed="rId4"/>
          <a:stretch/>
        </p:blipFill>
        <p:spPr>
          <a:xfrm>
            <a:off x="539640" y="2997360"/>
            <a:ext cx="3960360" cy="297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[NS3-OKME_R3-MP15]_[PF_006]"/>
          <p:cNvPicPr/>
          <p:nvPr/>
        </p:nvPicPr>
        <p:blipFill>
          <a:blip r:embed="rId5"/>
          <a:stretch/>
        </p:blipFill>
        <p:spPr>
          <a:xfrm>
            <a:off x="7020000" y="4005360"/>
            <a:ext cx="1879200" cy="25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Я и лес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Здравствуй, лес, дремучий ле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лон сказок и чудес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Ты о чём шумишь листвою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очью тёмной, грозовою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Что там шепчешь на заре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есь в росе, как в серебре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то в глуши твоей таится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Что за зверь? Какая птица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сё открой, не утаи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Ты же видишь- мы свои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Лес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отдых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те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топли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ный материа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чистой воды и пищ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ник воздуха, водоёмов, почв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 для растений, животных,…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  <Words>276</Words>
  <Paragraphs>6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5:25:00Z</dcterms:created>
  <dc:creator>Lena</dc:creator>
  <dc:description/>
  <dc:language>en-US</dc:language>
  <cp:lastModifiedBy>Трубин Сергей Александрович</cp:lastModifiedBy>
  <dcterms:modified xsi:type="dcterms:W3CDTF">2012-09-05T10:56:26Z</dcterms:modified>
  <cp:revision>13</cp:revision>
  <dc:subject/>
  <dc:title>                      Экосистема ле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