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A7E-91B6-4DB9-B8A6-F2463B6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D3D-7311-4048-B281-7D7EA83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F8B-1E3B-46F6-A730-B050FD3F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413-DBB1-468C-A51E-BA0963D5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FFF-2655-43D3-A9AB-352C53E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14B-1709-431B-805B-B24D35E6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70F-941B-49E8-ABBB-9007B11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0D5-A824-40A8-9E55-844A3B09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45D-517D-4AB0-89E0-D80C522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160-CA6A-4381-B11E-F53746A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CEB-9D19-476D-9733-22421268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01D-EF90-4688-B7E2-8FA1A385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D44E38-5452-4AFA-BE75-DD57EA93C1F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Таблица 2"/>
          <p:cNvGraphicFramePr/>
          <p:nvPr/>
        </p:nvGraphicFramePr>
        <p:xfrm>
          <a:off x="1919520" y="188640"/>
          <a:ext cx="8496720" cy="5554080"/>
        </p:xfrm>
        <a:graphic>
          <a:graphicData uri="http://schemas.openxmlformats.org/drawingml/2006/table">
            <a:tbl>
              <a:tblPr/>
              <a:tblGrid>
                <a:gridCol w="2592000"/>
                <a:gridCol w="2808000"/>
                <a:gridCol w="3096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hape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undoubted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o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con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disa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di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for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exhaus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tremendous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f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cho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enterpr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gain recog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f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ake fort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d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appo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e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desp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pprec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con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w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asto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ri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testa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bl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maj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pos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wid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mi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appoin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torr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sor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ann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reco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cho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financial affai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overwhel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honou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89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0T10:05:26Z</dcterms:created>
  <dc:creator>985</dc:creator>
  <dc:description/>
  <dc:language>en-US</dc:language>
  <cp:lastModifiedBy>985</cp:lastModifiedBy>
  <dcterms:modified xsi:type="dcterms:W3CDTF">2021-09-20T10:13:49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</vt:r8>
  </property>
</Properties>
</file>