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318-AAF7-417F-B717-6756C75A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B84-F8A0-44C0-9692-FB66F967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CCB-06C5-446E-9635-C295B026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B62-2669-4531-ABED-82482B1E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EB6-AA69-4894-AFBE-4B1222DF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F94A-C95B-4E1A-8C81-1382B037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767-6BE2-4CD7-985C-8E6E978E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F222-DA21-4D0C-A450-5C92751D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2677-24FD-4906-89C5-AF4E0B8E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5D2-5C27-4EF4-AC51-DE2AFFCA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FB90-73E3-4B6D-B7D8-265E3B09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B81-214F-4DFF-9A40-D8A8AA90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5B8BF0-4D51-4EBF-AC75-3857F58D264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" name="Таблица 2"/>
          <p:cNvGraphicFramePr/>
          <p:nvPr/>
        </p:nvGraphicFramePr>
        <p:xfrm>
          <a:off x="1919520" y="188640"/>
          <a:ext cx="8496720" cy="5554080"/>
        </p:xfrm>
        <a:graphic>
          <a:graphicData uri="http://schemas.openxmlformats.org/drawingml/2006/table">
            <a:tbl>
              <a:tblPr/>
              <a:tblGrid>
                <a:gridCol w="2592000"/>
                <a:gridCol w="2808000"/>
                <a:gridCol w="30960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chape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undoubted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lod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con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disa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di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for in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exhaus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tremendous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f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cho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enterpr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gain recogn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fu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ake fortu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d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appo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devo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en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despa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appreci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cons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w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aston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ri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testa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bl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maj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 pos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wid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min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appoin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torrent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sor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annu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reco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h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 chor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financial affai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overwhelm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honour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  <Words>89</Words>
  <Paragraphs>42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20T10:05:26Z</dcterms:created>
  <dc:creator>985</dc:creator>
  <dc:description/>
  <dc:language>en-US</dc:language>
  <cp:lastModifiedBy>985</cp:lastModifiedBy>
  <dcterms:modified xsi:type="dcterms:W3CDTF">2021-09-20T10:13:49Z</dcterms:modified>
  <cp:revision>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</vt:r8>
  </property>
</Properties>
</file>