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CAB3-A634-407B-8FCC-1CDD9815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5E1F-F8FF-4958-B936-AEDA51B7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EEAD-C2D9-4B7B-8A98-A756F194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F29-932A-4275-A165-CDDC168B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D029-5CB6-4DC5-9D69-66635256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977C-1646-4DEB-97CC-79946689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91E6-E66E-46C9-8FD6-F604C62B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3DB9-F4FA-417F-8D5A-4FDAF66F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159-D032-4F28-9D1A-5C61723E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53C-E896-4621-AA2C-A899250E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A1DA-CEF6-4843-A8BA-24773598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80F9-8262-45CD-AC91-90461207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27D73B-A14B-4A71-862E-D4A15890E13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" name="Таблица 2"/>
          <p:cNvGraphicFramePr/>
          <p:nvPr/>
        </p:nvGraphicFramePr>
        <p:xfrm>
          <a:off x="1919520" y="188640"/>
          <a:ext cx="8496720" cy="5554080"/>
        </p:xfrm>
        <a:graphic>
          <a:graphicData uri="http://schemas.openxmlformats.org/drawingml/2006/table">
            <a:tbl>
              <a:tblPr/>
              <a:tblGrid>
                <a:gridCol w="2592000"/>
                <a:gridCol w="2808000"/>
                <a:gridCol w="30960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chape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undoubted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lod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con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disa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di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for in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exhaus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tremendous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f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cho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enterpr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gain recogn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fu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ake fortu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d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appo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devo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en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despa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appreci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cons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w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aston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ri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testa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bl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maj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 pos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wid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min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appoin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torrent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sor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annu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reco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h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 chor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financial affai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overwhelm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honour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  <Words>89</Words>
  <Paragraphs>42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20T10:05:26Z</dcterms:created>
  <dc:creator>985</dc:creator>
  <dc:description/>
  <dc:language>en-US</dc:language>
  <cp:lastModifiedBy>985</cp:lastModifiedBy>
  <dcterms:modified xsi:type="dcterms:W3CDTF">2021-09-20T10:13:49Z</dcterms:modified>
  <cp:revision>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</vt:r8>
  </property>
</Properties>
</file>