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jpeg" ContentType="image/jpe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3.png" ContentType="image/png"/>
  <Override PartName="/ppt/media/image30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5.png" ContentType="image/pn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CE4D-912D-4DCC-AD24-AEA8232CA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7FF7-62F9-451C-862F-6547F84E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914A-F94C-4D3B-A71B-9DDFDA162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5B50-C813-46DB-884E-2400FA136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77CB-9580-43B8-8036-EA0E670D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AFBD-D797-4E32-A1B4-197ADCDE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A3E1-8785-41C1-A23D-59B9E9CA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5502-E62C-4FAD-9BF5-AA146DC3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1042-E55F-4BC3-9E36-A231C08AF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816F-3C33-4E84-8715-3FDFB5CC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C8F2-5A51-43CA-9515-27430998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7946-76A6-4A6F-B556-CDB353CE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7498-1EA4-4E14-AC3D-711CBE521C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1042;&#1080;&#1076;&#1077;&#1086;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hyperlink" Target="file:///&#1092;&#1110;&#1083;&#1100;&#1084;&#1080;%20&#1087;&#1088;&#1086;%20&#1110;&#1085;&#1091;&#1082;&#1094;&#1110;&#1081;&#1085;&#1110;%20&#1087;&#1083;&#1080;&#1090;&#1080;/7.3%20&#1054;&#1090;&#1076;&#1077;&#1083;&#1100;&#1085;&#1086;&#1089;&#1090;&#1086;&#1103;&#1097;&#1080;&#1077;%20&#1087;&#1083;&#1080;&#1090;&#1099;%20&#1089;%20&#1048;&#1085;&#1076;&#1091;&#1082;&#1094;&#1080;&#1077;&#1081;.mp4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8b04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План уро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Індукційні плити, їх призначення, характерист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дова, принцип роботи індукційних пл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Правила експлуатації та безпеки прац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Можливі проблеми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ід час експлуатації індукційних пл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8b04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Индукция - фото 2_сайт"/>
          <p:cNvPicPr/>
          <p:nvPr/>
        </p:nvPicPr>
        <p:blipFill>
          <a:blip r:embed="rId1"/>
          <a:stretch/>
        </p:blipFill>
        <p:spPr>
          <a:xfrm>
            <a:off x="1270080" y="417600"/>
            <a:ext cx="7405560" cy="57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c9f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Индукция - фото 3_сайт"/>
          <p:cNvPicPr/>
          <p:nvPr/>
        </p:nvPicPr>
        <p:blipFill>
          <a:blip r:embed="rId1"/>
          <a:stretch/>
        </p:blipFill>
        <p:spPr>
          <a:xfrm>
            <a:off x="1835280" y="692280"/>
            <a:ext cx="6964200" cy="55753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324000" y="5084640"/>
            <a:ext cx="1152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філь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4"/>
          <p:cNvSpPr/>
          <p:nvPr/>
        </p:nvSpPr>
        <p:spPr>
          <a:xfrm>
            <a:off x="179280" y="0"/>
            <a:ext cx="8498160" cy="652464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2205000"/>
            <a:ext cx="6400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ковороди і каструлі з плоским магнітним днищем, діаметром не менше 12см. Матеріал –сталь, емальований і неемальований чугун, якщо вказано на посудині їх придатні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610920" y="620640"/>
            <a:ext cx="8281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3300"/>
                </a:solidFill>
                <a:latin typeface="Arial"/>
              </a:rPr>
              <a:t>Посуд для індукційних пл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inductione-150x150"/>
          <p:cNvPicPr/>
          <p:nvPr/>
        </p:nvPicPr>
        <p:blipFill>
          <a:blip r:embed="rId1"/>
          <a:stretch/>
        </p:blipFill>
        <p:spPr>
          <a:xfrm>
            <a:off x="7164360" y="414972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150"/>
          <p:cNvPicPr/>
          <p:nvPr/>
        </p:nvPicPr>
        <p:blipFill>
          <a:blip r:embed="rId1"/>
          <a:stretch/>
        </p:blipFill>
        <p:spPr>
          <a:xfrm>
            <a:off x="324000" y="189000"/>
            <a:ext cx="3097080" cy="3097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BH_0601__400"/>
          <p:cNvPicPr/>
          <p:nvPr/>
        </p:nvPicPr>
        <p:blipFill>
          <a:blip r:embed="rId2"/>
          <a:stretch/>
        </p:blipFill>
        <p:spPr>
          <a:xfrm>
            <a:off x="5867280" y="3573360"/>
            <a:ext cx="3017880" cy="3017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629154"/>
          <p:cNvPicPr/>
          <p:nvPr/>
        </p:nvPicPr>
        <p:blipFill>
          <a:blip r:embed="rId3"/>
          <a:stretch/>
        </p:blipFill>
        <p:spPr>
          <a:xfrm>
            <a:off x="4932360" y="333360"/>
            <a:ext cx="3816360" cy="2581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ind3"/>
          <p:cNvPicPr/>
          <p:nvPr/>
        </p:nvPicPr>
        <p:blipFill>
          <a:blip r:embed="rId4"/>
          <a:stretch/>
        </p:blipFill>
        <p:spPr>
          <a:xfrm>
            <a:off x="179280" y="4437000"/>
            <a:ext cx="3149640" cy="2171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skovoroda-wcm-28-s-keramicheskim-pokrytijem-d-28-cm-steklanaja-kryshka-eb5c13"/>
          <p:cNvPicPr/>
          <p:nvPr/>
        </p:nvPicPr>
        <p:blipFill>
          <a:blip r:embed="rId5"/>
          <a:stretch/>
        </p:blipFill>
        <p:spPr>
          <a:xfrm>
            <a:off x="4140360" y="5516640"/>
            <a:ext cx="1544400" cy="1160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64677667_2_644x461_skovoroda-30-sm-pokrytie-titan-keramika-fotografii"/>
          <p:cNvPicPr/>
          <p:nvPr/>
        </p:nvPicPr>
        <p:blipFill>
          <a:blip r:embed="rId6"/>
          <a:stretch/>
        </p:blipFill>
        <p:spPr>
          <a:xfrm>
            <a:off x="2987640" y="3933720"/>
            <a:ext cx="2664000" cy="1878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62257a38e625df54a64b7059c49ebfb1"/>
          <p:cNvPicPr/>
          <p:nvPr/>
        </p:nvPicPr>
        <p:blipFill>
          <a:blip r:embed="rId7"/>
          <a:stretch/>
        </p:blipFill>
        <p:spPr>
          <a:xfrm>
            <a:off x="539640" y="30686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Induction znak_0"/>
          <p:cNvPicPr/>
          <p:nvPr/>
        </p:nvPicPr>
        <p:blipFill>
          <a:blip r:embed="rId8"/>
          <a:stretch/>
        </p:blipFill>
        <p:spPr>
          <a:xfrm>
            <a:off x="3132000" y="1628640"/>
            <a:ext cx="2017800" cy="26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9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7"/>
          <p:cNvSpPr/>
          <p:nvPr/>
        </p:nvSpPr>
        <p:spPr>
          <a:xfrm>
            <a:off x="684360" y="476280"/>
            <a:ext cx="7993080" cy="611964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403280" y="2637000"/>
            <a:ext cx="6400800" cy="30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іапазон температури 60-240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івень потужності 10(500-2000Вт,600-1500В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Границя часу 5-180х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971640" y="1052280"/>
            <a:ext cx="7556400" cy="20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Індукційна плита ІК 3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c9f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19230_00"/>
          <p:cNvPicPr/>
          <p:nvPr/>
        </p:nvPicPr>
        <p:blipFill>
          <a:blip r:embed="rId1"/>
          <a:stretch/>
        </p:blipFill>
        <p:spPr>
          <a:xfrm>
            <a:off x="539640" y="1413000"/>
            <a:ext cx="7740720" cy="504504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3" descr=""/>
          <p:cNvPicPr/>
          <p:nvPr/>
        </p:nvPicPr>
        <p:blipFill>
          <a:blip r:embed="rId2"/>
          <a:stretch/>
        </p:blipFill>
        <p:spPr>
          <a:xfrm>
            <a:off x="2693880" y="652320"/>
            <a:ext cx="5486400" cy="7430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8b04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4"/>
          <p:cNvSpPr/>
          <p:nvPr/>
        </p:nvSpPr>
        <p:spPr>
          <a:xfrm>
            <a:off x="539640" y="0"/>
            <a:ext cx="8209080" cy="666900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1619280" y="1197000"/>
            <a:ext cx="6840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лита має основу для встановлення на стол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ластмасовий корп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гріваюча поверхня-склокерамічна пли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ід керамічною поверхнею встановлена мідна катуш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ля приєднання до електромережі-шнур з вилкою. Пульт управлі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5796000" y="0"/>
            <a:ext cx="1655640" cy="692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1979640" y="5877000"/>
            <a:ext cx="1224000" cy="7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Прямоугольник 2" descr=""/>
          <p:cNvPicPr/>
          <p:nvPr/>
        </p:nvPicPr>
        <p:blipFill>
          <a:blip r:embed="rId1"/>
          <a:stretch/>
        </p:blipFill>
        <p:spPr>
          <a:xfrm>
            <a:off x="1170000" y="79200"/>
            <a:ext cx="479268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ульт керування плити включає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нопки блокування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ифровий дисп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на лампочка включе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нопка задання часу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◙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нопки вибирання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: час, температура, потужність, можна збільши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нопки вибирання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: час, температура, потужність, можна зменши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нопки вибирання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◄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: для рівня потужності і температу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микач та вимикач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98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98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98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98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98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898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898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98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8b04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B IK35 dp"/>
          <p:cNvPicPr/>
          <p:nvPr/>
        </p:nvPicPr>
        <p:blipFill>
          <a:blip r:embed="rId1"/>
          <a:srcRect l="0" t="2860" r="0" b="52011"/>
          <a:stretch/>
        </p:blipFill>
        <p:spPr>
          <a:xfrm>
            <a:off x="324000" y="1197000"/>
            <a:ext cx="8642160" cy="5392800"/>
          </a:xfrm>
          <a:prstGeom prst="rect">
            <a:avLst/>
          </a:prstGeom>
          <a:ln w="0">
            <a:noFill/>
          </a:ln>
        </p:spPr>
      </p:pic>
      <p:sp>
        <p:nvSpPr>
          <p:cNvPr id="106" name="WordArt 5"/>
          <p:cNvSpPr txBox="1"/>
          <p:nvPr/>
        </p:nvSpPr>
        <p:spPr>
          <a:xfrm>
            <a:off x="2627280" y="333360"/>
            <a:ext cx="3505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ульт керуванн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c9f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Oval 9"/>
          <p:cNvSpPr/>
          <p:nvPr/>
        </p:nvSpPr>
        <p:spPr>
          <a:xfrm>
            <a:off x="250920" y="1197000"/>
            <a:ext cx="8713800" cy="4753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989840" cy="35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В індукційних плитах до мідної катушки, що під склокерамічною поверхнею подається електрина напруга. При цьому появляється магнітне поле,яке завдяки фізичному ефекту напряму підігріває каструлі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WordArt 12"/>
          <p:cNvSpPr txBox="1"/>
          <p:nvPr/>
        </p:nvSpPr>
        <p:spPr>
          <a:xfrm rot="192000">
            <a:off x="2188800" y="473040"/>
            <a:ext cx="4776840" cy="938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нцип роботи пли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250920" y="5373720"/>
            <a:ext cx="93636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філь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8b04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"/>
          <p:cNvSpPr/>
          <p:nvPr/>
        </p:nvSpPr>
        <p:spPr>
          <a:xfrm>
            <a:off x="250920" y="404640"/>
            <a:ext cx="8893080" cy="583272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116000" y="1267920"/>
            <a:ext cx="7128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ндукційні варильні поверхні – це нове покоління кухонної техніки, що  дозволяє швидко та безпечно готувати завдяки електромагнітним потокам, які нагрівають виключно дно посу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ильний зовнішній вигляд та високотехнологічність вигідно вирізняють індукційні поверхні на світовому рин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9"/>
          <p:cNvSpPr txBox="1"/>
          <p:nvPr/>
        </p:nvSpPr>
        <p:spPr>
          <a:xfrm>
            <a:off x="3348000" y="549360"/>
            <a:ext cx="2879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інновація</a:t>
            </a: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sh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схема-идукц"/>
          <p:cNvPicPr/>
          <p:nvPr/>
        </p:nvPicPr>
        <p:blipFill>
          <a:blip r:embed="rId1"/>
          <a:stretch/>
        </p:blipFill>
        <p:spPr>
          <a:xfrm>
            <a:off x="380880" y="189000"/>
            <a:ext cx="4624560" cy="626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kt-102_-3"/>
          <p:cNvPicPr/>
          <p:nvPr/>
        </p:nvPicPr>
        <p:blipFill>
          <a:blip r:embed="rId2"/>
          <a:stretch/>
        </p:blipFill>
        <p:spPr>
          <a:xfrm>
            <a:off x="5508720" y="260280"/>
            <a:ext cx="3316320" cy="3529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454-292-Inductive_owen"/>
          <p:cNvPicPr/>
          <p:nvPr/>
        </p:nvPicPr>
        <p:blipFill>
          <a:blip r:embed="rId3"/>
          <a:stretch/>
        </p:blipFill>
        <p:spPr>
          <a:xfrm>
            <a:off x="4932360" y="4005360"/>
            <a:ext cx="396072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8b04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литу встановити на рівне місце з вільним доступом,на відстані від стін та предметів не менше 5-10с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єднати плиту до електромережі(при цьому засвітиться лампочка і пролунає звуковий сигнал-режим чеканн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осуд поставити на середину нагрівального елеме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WordArt 4"/>
          <p:cNvSpPr txBox="1"/>
          <p:nvPr/>
        </p:nvSpPr>
        <p:spPr>
          <a:xfrm>
            <a:off x="2050920" y="333360"/>
            <a:ext cx="5545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ила експлуатації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8b04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дати рівень потужності, натиснувши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◄►.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За допомогою кнопок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▲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або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▼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в будь-який час можна змінити параметри потужності в діапазоні 1-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що ми не хочемо працювати з режимом потужності,то ми  можемо, натиснувши кнопку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◄►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перейти в режим температури (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виться “120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BD14565_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4859280" y="357336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BD14565_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572000" y="357336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8b04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 допомогою кнопок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▲, ▼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вибору   можна в будь-який час змінити температуру від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 до 240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  з кроком 20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. На цифровому дисплеї 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виться обрана температу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ісля задання потужності або температури можна задати час, натиснувши кнопку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◙.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 пульті 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виться “0” і загориться контрольна лампочка ча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529272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8b04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 допомогою кнопок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▲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або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▼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можна задати час роботи з 5-хвилинним інтервалом.Максимальний час-180хв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Щоб перевірити час, що залишився, потрібно знову натиснути кноп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що час вийшов,чути звуковий сигнал і плита автоматично переключається в режим очікува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6804000" y="5877000"/>
            <a:ext cx="122400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філь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лита має дві кнопки блокування(для кожного нагрівального елемента). Дану кнопку використовують після встановлення рівня потужності або температури.Над кнопкою засвічується сигнальна лампочка,що вказує: на даний момент регулювати інші параметри не мож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4"/>
          <p:cNvSpPr txBox="1"/>
          <p:nvPr/>
        </p:nvSpPr>
        <p:spPr>
          <a:xfrm>
            <a:off x="2268360" y="476280"/>
            <a:ext cx="49676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кнопка блокуванн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25" name="WordArt 6"/>
          <p:cNvSpPr txBox="1"/>
          <p:nvPr/>
        </p:nvSpPr>
        <p:spPr>
          <a:xfrm>
            <a:off x="1403280" y="5734080"/>
            <a:ext cx="547380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хист від дітей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d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898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8b04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20"/>
          <p:cNvSpPr txBox="1"/>
          <p:nvPr/>
        </p:nvSpPr>
        <p:spPr>
          <a:xfrm>
            <a:off x="3059280" y="260280"/>
            <a:ext cx="4032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ісля робот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laptop"/>
          <p:cNvSpPr/>
          <p:nvPr/>
        </p:nvSpPr>
        <p:spPr>
          <a:xfrm>
            <a:off x="0" y="907920"/>
            <a:ext cx="9144000" cy="3313080"/>
          </a:xfrm>
          <a:prstGeom prst="pi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29"/>
          <p:cNvSpPr txBox="1"/>
          <p:nvPr/>
        </p:nvSpPr>
        <p:spPr>
          <a:xfrm>
            <a:off x="1908000" y="1341360"/>
            <a:ext cx="525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иту вимкнути, натиснувши на кнопку</a:t>
            </a:r>
            <a:endParaRPr b="0" lang="en-US" sz="2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AutoShape 31"/>
          <p:cNvSpPr/>
          <p:nvPr/>
        </p:nvSpPr>
        <p:spPr>
          <a:xfrm>
            <a:off x="1403280" y="4365720"/>
            <a:ext cx="6335640" cy="2349360"/>
          </a:xfrm>
          <a:custGeom>
            <a:avLst/>
            <a:gdLst>
              <a:gd name="textAreaLeft" fmla="*/ 0 w 6335640"/>
              <a:gd name="textAreaRight" fmla="*/ 6336000 w 6335640"/>
              <a:gd name="textAreaTop" fmla="*/ 304560 h 2349360"/>
              <a:gd name="textAreaBottom" fmla="*/ 2044800 h 2349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WordArt 36"/>
          <p:cNvSpPr txBox="1"/>
          <p:nvPr/>
        </p:nvSpPr>
        <p:spPr>
          <a:xfrm>
            <a:off x="1692360" y="5084640"/>
            <a:ext cx="590400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ід'єднати від електромережі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nt"/>
          <p:cNvSpPr/>
          <p:nvPr/>
        </p:nvSpPr>
        <p:spPr>
          <a:xfrm>
            <a:off x="1332000" y="0"/>
            <a:ext cx="5976720" cy="242100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15"/>
          <p:cNvSpPr txBox="1"/>
          <p:nvPr/>
        </p:nvSpPr>
        <p:spPr>
          <a:xfrm>
            <a:off x="3419640" y="981000"/>
            <a:ext cx="21715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холодити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AutoShape 16"/>
          <p:cNvSpPr/>
          <p:nvPr/>
        </p:nvSpPr>
        <p:spPr>
          <a:xfrm>
            <a:off x="468360" y="2104920"/>
            <a:ext cx="8280360" cy="47530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58560" y="2852280"/>
            <a:ext cx="72738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Гріючу поверхню та панель керування протерти 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якою тканиною з розчином мила,та витер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42920" y="1197000"/>
            <a:ext cx="787104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кривати вентиляційні отво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римати біля плити легкогорючі речовини,кислоти та лу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ласти на плиту магнітні речі,металеві пластини,алюмінієву фоль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ористуватися грубими чистящими засоб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еребувати біля плити людям, які носять стимулятор серц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WordArt 5"/>
          <p:cNvSpPr txBox="1"/>
          <p:nvPr/>
        </p:nvSpPr>
        <p:spPr>
          <a:xfrm>
            <a:off x="2268360" y="189000"/>
            <a:ext cx="4176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боронено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6"/>
          <p:cNvSpPr/>
          <p:nvPr/>
        </p:nvSpPr>
        <p:spPr>
          <a:xfrm>
            <a:off x="250920" y="1413000"/>
            <a:ext cx="3816360" cy="53290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4859280" y="0"/>
            <a:ext cx="4105440" cy="486900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71640" y="1989000"/>
            <a:ext cx="3092400" cy="38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ерша варильна поверхня з індукційними властивостями була виготовлена в 1987роц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08720" y="981000"/>
            <a:ext cx="3249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грівається не конфорка,а сковорода або каструля.Пере-дачі тепла через склянну поверхню не відбуває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19"/>
          <p:cNvSpPr txBox="1"/>
          <p:nvPr/>
        </p:nvSpPr>
        <p:spPr>
          <a:xfrm>
            <a:off x="826920" y="260280"/>
            <a:ext cx="27781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ікавинк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Line 20"/>
          <p:cNvSpPr/>
          <p:nvPr/>
        </p:nvSpPr>
        <p:spPr>
          <a:xfrm>
            <a:off x="3635280" y="836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1"/>
          <p:cNvSpPr/>
          <p:nvPr/>
        </p:nvSpPr>
        <p:spPr>
          <a:xfrm>
            <a:off x="2195640" y="1197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4" descr="90913_r5283"/>
          <p:cNvPicPr/>
          <p:nvPr/>
        </p:nvPicPr>
        <p:blipFill>
          <a:blip r:embed="rId3"/>
          <a:stretch/>
        </p:blipFill>
        <p:spPr>
          <a:xfrm>
            <a:off x="5219640" y="4846680"/>
            <a:ext cx="3451320" cy="2011320"/>
          </a:xfrm>
          <a:prstGeom prst="rect">
            <a:avLst/>
          </a:prstGeom>
          <a:ln w="0">
            <a:noFill/>
          </a:ln>
        </p:spPr>
      </p:pic>
      <p:sp>
        <p:nvSpPr>
          <p:cNvPr id="54" name="Line 26"/>
          <p:cNvSpPr/>
          <p:nvPr/>
        </p:nvSpPr>
        <p:spPr>
          <a:xfrm>
            <a:off x="7093080" y="4365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ідина швидше закипає на пли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кономиться час і електроенергі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рави на плиті не пригоряю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лита швидко реагує на зміну потужності і температ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 роботі плити з пустим посудом,або посуд знятий- плита автоматично вимикає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4"/>
          <p:cNvSpPr txBox="1"/>
          <p:nvPr/>
        </p:nvSpPr>
        <p:spPr>
          <a:xfrm>
            <a:off x="1835280" y="549360"/>
            <a:ext cx="54100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переваги індукційних пли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7667640" y="3573360"/>
            <a:ext cx="1081080" cy="719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філь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98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98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98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98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98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8b04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476280"/>
            <a:ext cx="784692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Плити індукційні призначені для приготування перших, другіх і третіх страв у наплитному посуді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4221000"/>
            <a:ext cx="71611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На плитах можна варити, смажити,припускати,тушкува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19230_00"/>
          <p:cNvPicPr/>
          <p:nvPr/>
        </p:nvPicPr>
        <p:blipFill>
          <a:blip r:embed="rId2"/>
          <a:stretch/>
        </p:blipFill>
        <p:spPr>
          <a:xfrm>
            <a:off x="1547640" y="3703680"/>
            <a:ext cx="7393320" cy="3019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19229_00"/>
          <p:cNvPicPr/>
          <p:nvPr/>
        </p:nvPicPr>
        <p:blipFill>
          <a:blip r:embed="rId3"/>
          <a:stretch/>
        </p:blipFill>
        <p:spPr>
          <a:xfrm>
            <a:off x="3492360" y="189000"/>
            <a:ext cx="5472360" cy="3279600"/>
          </a:xfrm>
          <a:prstGeom prst="rect">
            <a:avLst/>
          </a:prstGeom>
          <a:ln w="0">
            <a:noFill/>
          </a:ln>
        </p:spPr>
      </p:pic>
      <p:sp>
        <p:nvSpPr>
          <p:cNvPr id="62" name="WordArt 13"/>
          <p:cNvSpPr txBox="1"/>
          <p:nvPr/>
        </p:nvSpPr>
        <p:spPr>
          <a:xfrm>
            <a:off x="250920" y="189000"/>
            <a:ext cx="2087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лит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3" name="WordArt 14"/>
          <p:cNvSpPr txBox="1"/>
          <p:nvPr/>
        </p:nvSpPr>
        <p:spPr>
          <a:xfrm>
            <a:off x="971640" y="907920"/>
            <a:ext cx="1873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ізних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4" name="WordArt 15"/>
          <p:cNvSpPr txBox="1"/>
          <p:nvPr/>
        </p:nvSpPr>
        <p:spPr>
          <a:xfrm>
            <a:off x="1258920" y="1628640"/>
            <a:ext cx="21589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делей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77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770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77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770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1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19228_00"/>
          <p:cNvPicPr/>
          <p:nvPr/>
        </p:nvPicPr>
        <p:blipFill>
          <a:blip r:embed="rId1"/>
          <a:stretch/>
        </p:blipFill>
        <p:spPr>
          <a:xfrm>
            <a:off x="179280" y="266760"/>
            <a:ext cx="5113440" cy="3057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10583_Bartscher-600x400"/>
          <p:cNvPicPr/>
          <p:nvPr/>
        </p:nvPicPr>
        <p:blipFill>
          <a:blip r:embed="rId2"/>
          <a:stretch/>
        </p:blipFill>
        <p:spPr>
          <a:xfrm>
            <a:off x="5435640" y="1220760"/>
            <a:ext cx="3583080" cy="2986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19229_00"/>
          <p:cNvPicPr/>
          <p:nvPr/>
        </p:nvPicPr>
        <p:blipFill>
          <a:blip r:embed="rId3"/>
          <a:stretch/>
        </p:blipFill>
        <p:spPr>
          <a:xfrm>
            <a:off x="324000" y="4005360"/>
            <a:ext cx="4535280" cy="2589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105970"/>
          <p:cNvPicPr/>
          <p:nvPr/>
        </p:nvPicPr>
        <p:blipFill>
          <a:blip r:embed="rId4"/>
          <a:stretch/>
        </p:blipFill>
        <p:spPr>
          <a:xfrm>
            <a:off x="5076720" y="4221000"/>
            <a:ext cx="3622680" cy="24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77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770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6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77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" dur="770" fill="hold"/>
                                        <p:tgtEl>
                                          <p:spTgt spid="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7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77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" dur="770" fill="hold"/>
                                        <p:tgtEl>
                                          <p:spTgt spid="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8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8b04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индукция 4_thm"/>
          <p:cNvPicPr/>
          <p:nvPr/>
        </p:nvPicPr>
        <p:blipFill>
          <a:blip r:embed="rId1"/>
          <a:srcRect l="0" t="0" r="4220" b="0"/>
          <a:stretch/>
        </p:blipFill>
        <p:spPr>
          <a:xfrm>
            <a:off x="179280" y="333360"/>
            <a:ext cx="3097440" cy="2286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plita_VOK_250"/>
          <p:cNvPicPr/>
          <p:nvPr/>
        </p:nvPicPr>
        <p:blipFill>
          <a:blip r:embed="rId2"/>
          <a:stretch/>
        </p:blipFill>
        <p:spPr>
          <a:xfrm>
            <a:off x="3492360" y="189000"/>
            <a:ext cx="3816360" cy="1955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_vbudovana-indukcijna-poverkhnya-eh601me21e20111214103424"/>
          <p:cNvPicPr/>
          <p:nvPr/>
        </p:nvPicPr>
        <p:blipFill>
          <a:blip r:embed="rId3"/>
          <a:stretch/>
        </p:blipFill>
        <p:spPr>
          <a:xfrm>
            <a:off x="179280" y="3429000"/>
            <a:ext cx="3143520" cy="3143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OHP-18C_w"/>
          <p:cNvPicPr/>
          <p:nvPr/>
        </p:nvPicPr>
        <p:blipFill>
          <a:blip r:embed="rId4"/>
          <a:stretch/>
        </p:blipFill>
        <p:spPr>
          <a:xfrm>
            <a:off x="4932360" y="4076640"/>
            <a:ext cx="4032360" cy="2616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7"/>
          <p:cNvPicPr/>
          <p:nvPr/>
        </p:nvPicPr>
        <p:blipFill>
          <a:blip r:embed="rId5"/>
          <a:stretch/>
        </p:blipFill>
        <p:spPr>
          <a:xfrm>
            <a:off x="3276720" y="2133720"/>
            <a:ext cx="5222880" cy="2016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9"/>
          <p:cNvSpPr/>
          <p:nvPr/>
        </p:nvSpPr>
        <p:spPr>
          <a:xfrm>
            <a:off x="3780000" y="5877000"/>
            <a:ext cx="100800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філь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6600718_w640_h640_4c13acfb"/>
          <p:cNvPicPr/>
          <p:nvPr/>
        </p:nvPicPr>
        <p:blipFill>
          <a:blip r:embed="rId1"/>
          <a:stretch/>
        </p:blipFill>
        <p:spPr>
          <a:xfrm>
            <a:off x="0" y="260280"/>
            <a:ext cx="4753080" cy="3032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id580_w645"/>
          <p:cNvPicPr/>
          <p:nvPr/>
        </p:nvPicPr>
        <p:blipFill>
          <a:blip r:embed="rId2"/>
          <a:stretch/>
        </p:blipFill>
        <p:spPr>
          <a:xfrm>
            <a:off x="4356000" y="1521000"/>
            <a:ext cx="4788000" cy="3119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10583_Bartscher-600x400"/>
          <p:cNvPicPr/>
          <p:nvPr/>
        </p:nvPicPr>
        <p:blipFill>
          <a:blip r:embed="rId3"/>
          <a:stretch/>
        </p:blipFill>
        <p:spPr>
          <a:xfrm>
            <a:off x="900000" y="3357720"/>
            <a:ext cx="395928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9:36:22Z</dcterms:created>
  <dc:creator>Admin</dc:creator>
  <dc:description/>
  <dc:language>en-US</dc:language>
  <cp:lastModifiedBy>Acer</cp:lastModifiedBy>
  <dcterms:modified xsi:type="dcterms:W3CDTF">2019-02-25T15:41:03Z</dcterms:modified>
  <cp:revision>122</cp:revision>
  <dc:subject/>
  <dc:title>Слайд 1</dc:title>
</cp:coreProperties>
</file>