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7D4-5911-46D2-8AF9-74D08463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10880" y="26064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736-87B2-4DFF-A2AE-EBAC1723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652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266-5DC9-4AD4-82B7-D197881A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464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1804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1088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26464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1804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C7C-171B-4832-BB09-6D329EAA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B03F-1019-48BA-B629-64D71EB8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A1FF-B155-4D5F-AFBA-F5B2D6E4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7A2A-6373-4E40-A482-BC745F96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039F-F6FC-429D-AC01-3B66DA2F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C619-36DC-45CF-A948-6B571997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2120" y="4572000"/>
            <a:ext cx="678456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1A2C-639F-4E0B-B230-842FE0FB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CC0E-C16D-42F4-A3CC-5D819A08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7FD-D8C8-4DA9-8DCB-05503E23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652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6AB9-DF4C-4287-95B7-89502EF9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1B23-6B5F-40AC-ADC6-AE7F6E79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0880" y="26064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4B7E-56DA-4021-8A1F-1AC463D9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652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E69E-C62E-4DB6-B055-CFBA6688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6464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1804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71088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526464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81804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E232-150C-4B30-9FCA-039A6136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052-6DF1-4AC0-A4CE-91478D27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7B5-426A-4ABA-A85D-33023EF7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A19-2449-4986-9783-48FB5D0C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4572000"/>
            <a:ext cx="678456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644-DCB3-4CC3-9603-D7C2C2F6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52C-BF10-4A45-BF8E-14154985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652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D5E-5FAF-450F-99CD-8CDF7887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555-407C-4FB9-92CD-44FFEE18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 hidden="1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77240" y="0"/>
            <a:ext cx="7543440" cy="304776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4F34D1-F4BD-4913-A0C4-7D42E62BC19B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762120" y="457200"/>
            <a:ext cx="267336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08B783-4F4A-4ADD-91EB-B5039F5B9B9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Straight Connector 9"/>
          <p:cNvCxnSpPr/>
          <p:nvPr/>
        </p:nvCxnSpPr>
        <p:spPr>
          <a:xfrm flipH="1">
            <a:off x="3581280" y="610200"/>
            <a:ext cx="1800" cy="3810240"/>
          </a:xfrm>
          <a:prstGeom prst="straightConnector1">
            <a:avLst/>
          </a:prstGeom>
          <a:ln>
            <a:solidFill>
              <a:srgbClr val="303030">
                <a:lumMod val="50000"/>
                <a:lumOff val="50000"/>
              </a:srgbClr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Виды силовых способностей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7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 средства их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Титова А.А. педагог доп.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26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редства развития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Объект 4" descr=""/>
          <p:cNvPicPr/>
          <p:nvPr/>
        </p:nvPicPr>
        <p:blipFill>
          <a:blip r:embed="rId1"/>
          <a:stretch/>
        </p:blipFill>
        <p:spPr>
          <a:xfrm>
            <a:off x="3924000" y="764640"/>
            <a:ext cx="4320000" cy="432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2801520" cy="49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К </a:t>
            </a:r>
            <a:r>
              <a:rPr b="1" lang="ru-RU" sz="2100" spc="-1" strike="noStrike" u="sng">
                <a:solidFill>
                  <a:srgbClr val="303030"/>
                </a:solidFill>
                <a:uFillTx/>
                <a:latin typeface="Times New Roman"/>
              </a:rPr>
              <a:t>упражнениям с внешним сопротивлением 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относятся: - упражнения с тяжестями (штангой, гантелями, гирями), в том числе и на тренажерах; уп­ражнения с сопротивлением других предметов (резиновых амортизаторов, жгутов, блочных устройств и др.); упражнения в преодолении сопротивления внешней среды (бег по песку, снегу, против ветра и т.п.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26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редства развития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Объект 4" descr=""/>
          <p:cNvPicPr/>
          <p:nvPr/>
        </p:nvPicPr>
        <p:blipFill>
          <a:blip r:embed="rId1"/>
          <a:stretch/>
        </p:blipFill>
        <p:spPr>
          <a:xfrm>
            <a:off x="3711600" y="1000080"/>
            <a:ext cx="5103360" cy="3364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332640"/>
            <a:ext cx="3240000" cy="51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пражнения с преодолением веса собственного тела: - применяются при занятиях людей различного возраста, пола, подготовленности во всех формах занятий. Выделяют следующие их разновидности: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322560" indent="-32256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гимнастические силовые упражнения (сгибание и разгибание рук в упо­рах, лазание по канату, поднимание ног к перекладине);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322560" indent="-32256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легкоатлетические прыжковые упражнения (прыжки на одной или двух ногах);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322560" indent="-32256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пражнения в преодолении препятствий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36000" y="5257800"/>
            <a:ext cx="55076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редства развития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Объект 4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4536000" cy="4536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32640"/>
            <a:ext cx="3707640" cy="652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 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Изометрические упражнения: способствуют одновременному напряжению максимально возможного коли­чества двигательных единиц работающих мышц и подразделяются на упраж­нения: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418320" indent="-41832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Impact"/>
              <a:buAutoNum type="arabicPeriod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держание в пассивном напряжении мышц (удержание груза на пред­плечьях рук, плечах, спине и т.п.);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418320" indent="-41832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Impact"/>
              <a:buAutoNum type="arabicPeriod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пражнения с активным напряжением мышц в течение определенного времени в определенной позе (выпрямление полусогнутых ног, попытка оторвать от пола штангу чрезмерного веса и т.п.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 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Данные виды упражнений, выполняются обычно при задержке дыхания, тем самым приучают организм к работе в очень трудных условиях (кислород­ное голодание). Характерной особенностью занятий с использованием изо­метрических упражнений является их простота, они требуют мало времени, не сложное оборудование и с помощью данных упражнений можно воздействовать на лю­бые мышечные группы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26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Виды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Объект 4" descr=""/>
          <p:cNvPicPr/>
          <p:nvPr/>
        </p:nvPicPr>
        <p:blipFill>
          <a:blip r:embed="rId1"/>
          <a:stretch/>
        </p:blipFill>
        <p:spPr>
          <a:xfrm>
            <a:off x="3711600" y="791640"/>
            <a:ext cx="4593960" cy="344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640" y="457200"/>
            <a:ext cx="2952000" cy="49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читывая зависимость механической силы от массы собственного тела, различают </a:t>
            </a:r>
            <a:r>
              <a:rPr b="1" lang="ru-RU" sz="2100" spc="-1" strike="noStrike">
                <a:solidFill>
                  <a:srgbClr val="303030"/>
                </a:solidFill>
                <a:latin typeface="Times New Roman"/>
              </a:rPr>
              <a:t>абсолютную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 и </a:t>
            </a:r>
            <a:r>
              <a:rPr b="1" lang="ru-RU" sz="2100" spc="-1" strike="noStrike">
                <a:solidFill>
                  <a:srgbClr val="303030"/>
                </a:solidFill>
                <a:latin typeface="Times New Roman"/>
              </a:rPr>
              <a:t>относительную силу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 u="sng">
                <a:solidFill>
                  <a:srgbClr val="303030"/>
                </a:solidFill>
                <a:uFillTx/>
                <a:latin typeface="Times New Roman"/>
              </a:rPr>
              <a:t>Абсолютная сила 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оценивается по максимальному весу, который может преодолеть занимающийся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013000"/>
            <a:ext cx="7632360" cy="109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Виды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Объект 4" descr=""/>
          <p:cNvPicPr/>
          <p:nvPr/>
        </p:nvPicPr>
        <p:blipFill>
          <a:blip r:embed="rId1"/>
          <a:stretch/>
        </p:blipFill>
        <p:spPr>
          <a:xfrm>
            <a:off x="3780000" y="890640"/>
            <a:ext cx="5163480" cy="3762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640" y="404640"/>
            <a:ext cx="3456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 u="sng">
                <a:solidFill>
                  <a:srgbClr val="303030"/>
                </a:solidFill>
                <a:uFillTx/>
                <a:latin typeface="Times New Roman"/>
              </a:rPr>
              <a:t>Относительная сила 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— это не что иное как соотношение абсолютной силы в пересчете на вес тела (кг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Безусловно, по морфофункциональным показателям человек, имеющий большую массу (если она в большей степени мышечная) имеет и большую абсолютную силу, но не всегда абсолютная сила прямопропорциональна весу, по относительным показателям (в определенных пределах) человек, имеющий меньший вес обладает большей относительной силой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229360"/>
            <a:ext cx="9143640" cy="94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обствен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Объект 4" descr=""/>
          <p:cNvPicPr/>
          <p:nvPr/>
        </p:nvPicPr>
        <p:blipFill>
          <a:blip r:embed="rId1"/>
          <a:stretch/>
        </p:blipFill>
        <p:spPr>
          <a:xfrm>
            <a:off x="3711600" y="842400"/>
            <a:ext cx="5234400" cy="3810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640" y="457200"/>
            <a:ext cx="3255840" cy="433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Собственно силовые способности проявляются: 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1) при относительно медленных сокращениях мышц, в упражнениях, выполняемых с околопредельными, предельными отягощениями (например, при приседаниях со штангой достаточно большого веса); 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2) при мышечных напряжениях изометрического (статического) типа (без изменения длины мышцы). В соответствии с этим различают медленную силу и статическую силу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обствен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Объект 4" descr=""/>
          <p:cNvPicPr/>
          <p:nvPr/>
        </p:nvPicPr>
        <p:blipFill>
          <a:blip r:embed="rId1"/>
          <a:stretch/>
        </p:blipFill>
        <p:spPr>
          <a:xfrm>
            <a:off x="3852000" y="764640"/>
            <a:ext cx="4248000" cy="3653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457200"/>
            <a:ext cx="311184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Статическая сила характеризуется двумя ее особенностями проявления 1) при напряжении мышц за счет активных волевых усилий человека (активная статическая сила); 2) при попытке внешних сил или под воздействием соб­ственного веса человека насильственно растянуть напряженную мышцу (пассивная статическая сила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корост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Объект 4" descr=""/>
          <p:cNvPicPr/>
          <p:nvPr/>
        </p:nvPicPr>
        <p:blipFill>
          <a:blip r:embed="rId1"/>
          <a:stretch/>
        </p:blipFill>
        <p:spPr>
          <a:xfrm>
            <a:off x="3780000" y="1340640"/>
            <a:ext cx="5204880" cy="2880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303030"/>
                </a:solidFill>
                <a:latin typeface="Times New Roman"/>
              </a:rPr>
              <a:t>Скоростно-силовые способности — это соединение силовых и скоростных способностей (со значительной механической силой требуемая и значительная быстрота движений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корост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Объект 4" descr=""/>
          <p:cNvPicPr/>
          <p:nvPr/>
        </p:nvPicPr>
        <p:blipFill>
          <a:blip r:embed="rId1"/>
          <a:stretch/>
        </p:blipFill>
        <p:spPr>
          <a:xfrm>
            <a:off x="3711600" y="960120"/>
            <a:ext cx="5244480" cy="3548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640" y="332640"/>
            <a:ext cx="32558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К скоростно-силовым способностям относят: 1) быструю силу; 2) взрывную силу. 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i="1" lang="ru-RU" sz="2100" spc="-1" strike="noStrike">
                <a:solidFill>
                  <a:srgbClr val="303030"/>
                </a:solidFill>
                <a:latin typeface="Times New Roman"/>
              </a:rPr>
              <a:t>Быстрая сила 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характеризуется непредельным напряжением мышц, проявляемым в упражнениях, которые выполняются со значительной скоростью, не достигающей пред ель-рой величины. 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36000" y="4581000"/>
            <a:ext cx="55076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корост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Объект 4" descr=""/>
          <p:cNvPicPr/>
          <p:nvPr/>
        </p:nvPicPr>
        <p:blipFill>
          <a:blip r:embed="rId1"/>
          <a:stretch/>
        </p:blipFill>
        <p:spPr>
          <a:xfrm>
            <a:off x="3711600" y="620640"/>
            <a:ext cx="5355720" cy="33159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640" y="332640"/>
            <a:ext cx="34560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i="1" lang="ru-RU" sz="2100" spc="-1" strike="noStrike">
                <a:solidFill>
                  <a:srgbClr val="303030"/>
                </a:solidFill>
                <a:latin typeface="Times New Roman"/>
              </a:rPr>
              <a:t>Взрывная сила 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отражает способность человека по ходу выполнения двигательного действия достигать максимальных показателей силы в возможно короткое время (например, при низком старте в беге на короткие дистанции, в легкоатлетических прыжках и метаниях и т.д.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Взрывная сила характеризуется двумя компонентами: стартовой силой и ускоряющей силой. Стартовая сила — это характеристика способности мышц к быстрому развитию рабочего усилия в начальный момент их напряжения. Ускоряющая сила— способность мышц к быстроте наращивания рабочего усилия в условиях их начавшегося сокращения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98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редства развития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Объект 4" descr=""/>
          <p:cNvPicPr/>
          <p:nvPr/>
        </p:nvPicPr>
        <p:blipFill>
          <a:blip r:embed="rId1"/>
          <a:stretch/>
        </p:blipFill>
        <p:spPr>
          <a:xfrm>
            <a:off x="3852000" y="836640"/>
            <a:ext cx="5021280" cy="3816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2673360" cy="48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При развитии силовых способностей используются упражнения с повы­шенным сопротивлением - силовыми упражнениями. В зависимости от при­роды сопротивления они подразделяются на 3 группы: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1. Упражнения с внешним сопротивлением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2. Упражнения с преодолением веса собственного тела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3. Изометрические упражнения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ewsprint</Template>
  <TotalTime>1100</TotalTime>
  <Application>LibreOffice/7.4.7.2$Linux_X86_64 LibreOffice_project/40$Build-2</Application>
  <AppVersion>15.0000</AppVersion>
  <Words>498</Words>
  <Paragraphs>4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5T17:53:02Z</dcterms:created>
  <dc:creator>Microsoft</dc:creator>
  <dc:description/>
  <dc:language>en-US</dc:language>
  <cp:lastModifiedBy>Microsoft</cp:lastModifiedBy>
  <dcterms:modified xsi:type="dcterms:W3CDTF">2020-04-09T11:56:47Z</dcterms:modified>
  <cp:revision>9</cp:revision>
  <dc:subject/>
  <dc:title>Виды силовых способнос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