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3B12-BAF5-44EA-B474-E5F8E2B63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456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10880" y="457200"/>
            <a:ext cx="4594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710880" y="2606400"/>
            <a:ext cx="4594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B1A8-7D4A-4268-98CC-996D2A2E7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456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710880" y="457200"/>
            <a:ext cx="22420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065280" y="457200"/>
            <a:ext cx="22420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710880" y="2606400"/>
            <a:ext cx="22420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065280" y="2606400"/>
            <a:ext cx="22420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6BE3-F170-48BD-9560-40DF778DC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456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710880" y="457200"/>
            <a:ext cx="14792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4640" y="457200"/>
            <a:ext cx="14792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18040" y="457200"/>
            <a:ext cx="14792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710880" y="2606400"/>
            <a:ext cx="14792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5264640" y="2606400"/>
            <a:ext cx="14792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818040" y="2606400"/>
            <a:ext cx="14792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4FF9-2C53-4CDC-B51D-791E15008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6A33D-F3BD-43EC-96D2-A579BD91B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456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710880" y="457200"/>
            <a:ext cx="459468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A66E8-8CAA-465F-88CF-2D8433891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456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710880" y="457200"/>
            <a:ext cx="459468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FC5FF-E4EF-4EE4-B564-0B4068036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456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710880" y="457200"/>
            <a:ext cx="224208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065280" y="457200"/>
            <a:ext cx="224208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36FFB-8B88-4686-BBB0-A79D5CD55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456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EFA83-D81E-49C6-8979-A14FC7761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762120" y="4572000"/>
            <a:ext cx="6784560" cy="74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70DB7-76F2-4204-8FDF-F0B1A8948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456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710880" y="457200"/>
            <a:ext cx="22420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65280" y="457200"/>
            <a:ext cx="224208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710880" y="2606400"/>
            <a:ext cx="22420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AF88C-D9A8-4E6A-BA71-1ADDAFA5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456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710880" y="457200"/>
            <a:ext cx="459468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22E3-4CAC-4DF1-990F-D508805B3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456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710880" y="457200"/>
            <a:ext cx="224208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65280" y="457200"/>
            <a:ext cx="22420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65280" y="2606400"/>
            <a:ext cx="22420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D9133-3AE1-47C0-A0C9-F2DF1F31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456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710880" y="457200"/>
            <a:ext cx="22420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65280" y="457200"/>
            <a:ext cx="22420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710880" y="2606400"/>
            <a:ext cx="4594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5A427-7A63-494E-B783-E8A6DA91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456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710880" y="457200"/>
            <a:ext cx="4594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10880" y="2606400"/>
            <a:ext cx="4594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00702-77F7-419D-801B-06A41FC52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456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710880" y="457200"/>
            <a:ext cx="22420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065280" y="457200"/>
            <a:ext cx="22420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710880" y="2606400"/>
            <a:ext cx="22420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065280" y="2606400"/>
            <a:ext cx="22420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A3290-BC34-44A7-B793-4A11EDC02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456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710880" y="457200"/>
            <a:ext cx="14792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264640" y="457200"/>
            <a:ext cx="14792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18040" y="457200"/>
            <a:ext cx="14792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710880" y="2606400"/>
            <a:ext cx="14792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5264640" y="2606400"/>
            <a:ext cx="14792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818040" y="2606400"/>
            <a:ext cx="14792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B1469-E4D3-49A6-8CB4-5874C5552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456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710880" y="457200"/>
            <a:ext cx="459468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2EE9-6D1C-4346-866D-570D0E0C0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456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710880" y="457200"/>
            <a:ext cx="224208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065280" y="457200"/>
            <a:ext cx="224208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90EC-49D0-47F8-807C-7F0EE628A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456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6B70-DB7C-4B74-9055-89C0A83E4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62120" y="4572000"/>
            <a:ext cx="6784560" cy="74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FD2D-FE0D-4BD8-B6DD-10B4C8481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456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10880" y="457200"/>
            <a:ext cx="22420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065280" y="457200"/>
            <a:ext cx="224208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710880" y="2606400"/>
            <a:ext cx="22420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5F4C-D02D-467F-BBD2-B7DFCB78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456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10880" y="457200"/>
            <a:ext cx="224208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65280" y="457200"/>
            <a:ext cx="22420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65280" y="2606400"/>
            <a:ext cx="22420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B8A5-50C2-4BB3-9C89-7FD8109C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456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10880" y="457200"/>
            <a:ext cx="22420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65280" y="457200"/>
            <a:ext cx="22420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710880" y="2606400"/>
            <a:ext cx="4594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8574-D9F2-41D5-863B-A7C5E898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 hidden="1"/>
          <p:cNvSpPr/>
          <p:nvPr/>
        </p:nvSpPr>
        <p:spPr>
          <a:xfrm>
            <a:off x="777240" y="0"/>
            <a:ext cx="7543440" cy="380520"/>
          </a:xfrm>
          <a:prstGeom prst="rect">
            <a:avLst/>
          </a:prstGeom>
          <a:solidFill>
            <a:srgbClr val="ad01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1" name="Rectangle 8" hidden="1"/>
          <p:cNvSpPr/>
          <p:nvPr/>
        </p:nvSpPr>
        <p:spPr>
          <a:xfrm>
            <a:off x="777240" y="6172200"/>
            <a:ext cx="7543440" cy="27000"/>
          </a:xfrm>
          <a:prstGeom prst="rect">
            <a:avLst/>
          </a:prstGeom>
          <a:solidFill>
            <a:srgbClr val="ad01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7640" bIns="-17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777240" y="0"/>
            <a:ext cx="7543440" cy="3047760"/>
          </a:xfrm>
          <a:prstGeom prst="rect">
            <a:avLst/>
          </a:prstGeom>
          <a:solidFill>
            <a:srgbClr val="ad01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8000" spc="-1" strike="noStrike">
                <a:solidFill>
                  <a:srgbClr val="262626"/>
                </a:solidFill>
                <a:latin typeface="Impact"/>
              </a:rPr>
              <a:t>Образец заголовка</a:t>
            </a:r>
            <a:endParaRPr b="0" lang="ru-RU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248520" y="62089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762120" y="6208920"/>
            <a:ext cx="48736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7620120" y="5687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977FFCE-6279-4E2A-9BE8-53E27A173409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6"/>
          <p:cNvSpPr/>
          <p:nvPr/>
        </p:nvSpPr>
        <p:spPr>
          <a:xfrm>
            <a:off x="777240" y="6172200"/>
            <a:ext cx="7543440" cy="27000"/>
          </a:xfrm>
          <a:prstGeom prst="rect">
            <a:avLst/>
          </a:prstGeom>
          <a:solidFill>
            <a:srgbClr val="ad01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7640" bIns="-17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ru-RU" sz="2000" spc="-1" strike="noStrike">
              <a:solidFill>
                <a:srgbClr val="30303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ru-RU" sz="1800" spc="-1" strike="noStrike">
              <a:solidFill>
                <a:srgbClr val="30303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ru-RU" sz="1800" spc="-1" strike="noStrike">
              <a:solidFill>
                <a:srgbClr val="30303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ru-RU" sz="2000" spc="-1" strike="noStrike">
              <a:solidFill>
                <a:srgbClr val="30303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ru-RU" sz="2000" spc="-1" strike="noStrike">
              <a:solidFill>
                <a:srgbClr val="30303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ru-RU" sz="20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777240" y="0"/>
            <a:ext cx="7543440" cy="380520"/>
          </a:xfrm>
          <a:prstGeom prst="rect">
            <a:avLst/>
          </a:prstGeom>
          <a:solidFill>
            <a:srgbClr val="ad01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777240" y="6172200"/>
            <a:ext cx="7543440" cy="27000"/>
          </a:xfrm>
          <a:prstGeom prst="rect">
            <a:avLst/>
          </a:prstGeom>
          <a:solidFill>
            <a:srgbClr val="ad01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7640" bIns="-17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456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Образец заголовка</a:t>
            </a:r>
            <a:endParaRPr b="0" lang="ru-RU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710880" y="457200"/>
            <a:ext cx="4594680" cy="41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ad0101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</a:rPr>
              <a:t>Образец текста</a:t>
            </a:r>
            <a:endParaRPr b="0" lang="ru-RU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4360" indent="-274320">
              <a:lnSpc>
                <a:spcPct val="100000"/>
              </a:lnSpc>
              <a:spcBef>
                <a:spcPts val="439"/>
              </a:spcBef>
              <a:buClr>
                <a:srgbClr val="ad0101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303030"/>
                </a:solidFill>
                <a:latin typeface="Times New Roman"/>
              </a:rPr>
              <a:t>Второй уровень</a:t>
            </a:r>
            <a:endParaRPr b="0" lang="ru-RU" sz="22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680" indent="-228600">
              <a:lnSpc>
                <a:spcPct val="100000"/>
              </a:lnSpc>
              <a:spcBef>
                <a:spcPts val="400"/>
              </a:spcBef>
              <a:buClr>
                <a:srgbClr val="ad0101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303030"/>
                </a:solidFill>
                <a:latin typeface="Times New Roman"/>
              </a:rPr>
              <a:t>Третий уровень</a:t>
            </a:r>
            <a:endParaRPr b="0" lang="ru-RU" sz="20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lnSpc>
                <a:spcPct val="100000"/>
              </a:lnSpc>
              <a:spcBef>
                <a:spcPts val="360"/>
              </a:spcBef>
              <a:buClr>
                <a:srgbClr val="ad0101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303030"/>
                </a:solidFill>
                <a:latin typeface="Times New Roman"/>
              </a:rPr>
              <a:t>Четвертый уровень</a:t>
            </a:r>
            <a:endParaRPr b="0" lang="ru-RU" sz="18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lnSpc>
                <a:spcPct val="100000"/>
              </a:lnSpc>
              <a:spcBef>
                <a:spcPts val="360"/>
              </a:spcBef>
              <a:buClr>
                <a:srgbClr val="ad0101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303030"/>
                </a:solidFill>
                <a:latin typeface="Times New Roman"/>
              </a:rPr>
              <a:t>Пятый уровень</a:t>
            </a:r>
            <a:endParaRPr b="0" lang="ru-RU" sz="18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762120" y="457200"/>
            <a:ext cx="2673360" cy="41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303030"/>
                </a:solidFill>
                <a:latin typeface="Times New Roman"/>
              </a:rPr>
              <a:t>Образец текста</a:t>
            </a:r>
            <a:endParaRPr b="0" lang="ru-RU" sz="21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4"/>
          </p:nvPr>
        </p:nvSpPr>
        <p:spPr>
          <a:xfrm>
            <a:off x="6248520" y="62089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762120" y="6208920"/>
            <a:ext cx="48736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7620120" y="5687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A06FC5A-D290-4E15-A62E-71A98C5F7246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Straight Connector 9"/>
          <p:cNvCxnSpPr/>
          <p:nvPr/>
        </p:nvCxnSpPr>
        <p:spPr>
          <a:xfrm flipH="1">
            <a:off x="3581280" y="610200"/>
            <a:ext cx="1800" cy="3810240"/>
          </a:xfrm>
          <a:prstGeom prst="straightConnector1">
            <a:avLst/>
          </a:prstGeom>
          <a:ln>
            <a:solidFill>
              <a:srgbClr val="303030">
                <a:lumMod val="50000"/>
                <a:lumOff val="50000"/>
              </a:srgbClr>
            </a:solidFill>
            <a:round/>
          </a:ln>
        </p:spPr>
      </p:cxn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320040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8000" spc="-1" strike="noStrike">
                <a:solidFill>
                  <a:srgbClr val="262626"/>
                </a:solidFill>
                <a:latin typeface="Impact"/>
              </a:rPr>
              <a:t>Виды силовых способностей</a:t>
            </a:r>
            <a:endParaRPr b="0" lang="ru-RU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62120" y="4724280"/>
            <a:ext cx="68576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И средства их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</a:rPr>
              <a:t>Титова А.А. педагог доп. 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762624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1000"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Средства развития силы</a:t>
            </a:r>
            <a:endParaRPr b="0" lang="ru-RU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Объект 4" descr=""/>
          <p:cNvPicPr/>
          <p:nvPr/>
        </p:nvPicPr>
        <p:blipFill>
          <a:blip r:embed="rId1"/>
          <a:stretch/>
        </p:blipFill>
        <p:spPr>
          <a:xfrm>
            <a:off x="3924000" y="764640"/>
            <a:ext cx="4320000" cy="4320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457200"/>
            <a:ext cx="2801520" cy="491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7000"/>
          </a:bodyPr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303030"/>
                </a:solidFill>
                <a:latin typeface="Times New Roman"/>
              </a:rPr>
              <a:t>К </a:t>
            </a:r>
            <a:r>
              <a:rPr b="1" lang="ru-RU" sz="2100" spc="-1" strike="noStrike" u="sng">
                <a:solidFill>
                  <a:srgbClr val="303030"/>
                </a:solidFill>
                <a:uFillTx/>
                <a:latin typeface="Times New Roman"/>
              </a:rPr>
              <a:t>упражнениям с внешним сопротивлением </a:t>
            </a:r>
            <a:r>
              <a:rPr b="0" lang="ru-RU" sz="2100" spc="-1" strike="noStrike">
                <a:solidFill>
                  <a:srgbClr val="303030"/>
                </a:solidFill>
                <a:latin typeface="Times New Roman"/>
              </a:rPr>
              <a:t>относятся: - упражнения с тяжестями (штангой, гантелями, гирями), в том числе и на тренажерах; уп­ражнения с сопротивлением других предметов (резиновых амортизаторов, жгутов, блочных устройств и др.); упражнения в преодолении сопротивления внешней среды (бег по песку, снегу, против ветра и т.п.).</a:t>
            </a:r>
            <a:endParaRPr b="0" lang="ru-RU" sz="21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762624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1000"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Средства развития силы</a:t>
            </a:r>
            <a:endParaRPr b="0" lang="ru-RU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Объект 4" descr=""/>
          <p:cNvPicPr/>
          <p:nvPr/>
        </p:nvPicPr>
        <p:blipFill>
          <a:blip r:embed="rId1"/>
          <a:stretch/>
        </p:blipFill>
        <p:spPr>
          <a:xfrm>
            <a:off x="3711600" y="1000080"/>
            <a:ext cx="5103360" cy="33649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3640" y="332640"/>
            <a:ext cx="3240000" cy="51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0000"/>
          </a:bodyPr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303030"/>
                </a:solidFill>
                <a:latin typeface="Times New Roman"/>
              </a:rPr>
              <a:t>Упражнения с преодолением веса собственного тела: - применяются при занятиях людей различного возраста, пола, подготовленности во всех формах занятий. Выделяют следующие их разновидности:</a:t>
            </a:r>
            <a:endParaRPr b="0" lang="ru-RU" sz="2100" spc="-1" strike="noStrike">
              <a:solidFill>
                <a:srgbClr val="303030"/>
              </a:solidFill>
              <a:latin typeface="Times New Roman"/>
            </a:endParaRPr>
          </a:p>
          <a:p>
            <a:pPr marL="322560" indent="-322560">
              <a:lnSpc>
                <a:spcPct val="100000"/>
              </a:lnSpc>
              <a:spcBef>
                <a:spcPts val="420"/>
              </a:spcBef>
              <a:buClr>
                <a:srgbClr val="ad0101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100" spc="-1" strike="noStrike">
                <a:solidFill>
                  <a:srgbClr val="303030"/>
                </a:solidFill>
                <a:latin typeface="Times New Roman"/>
              </a:rPr>
              <a:t>гимнастические силовые упражнения (сгибание и разгибание рук в упо­рах, лазание по канату, поднимание ног к перекладине);</a:t>
            </a:r>
            <a:endParaRPr b="0" lang="ru-RU" sz="2100" spc="-1" strike="noStrike">
              <a:solidFill>
                <a:srgbClr val="303030"/>
              </a:solidFill>
              <a:latin typeface="Times New Roman"/>
            </a:endParaRPr>
          </a:p>
          <a:p>
            <a:pPr marL="322560" indent="-322560">
              <a:lnSpc>
                <a:spcPct val="100000"/>
              </a:lnSpc>
              <a:spcBef>
                <a:spcPts val="420"/>
              </a:spcBef>
              <a:buClr>
                <a:srgbClr val="ad0101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100" spc="-1" strike="noStrike">
                <a:solidFill>
                  <a:srgbClr val="303030"/>
                </a:solidFill>
                <a:latin typeface="Times New Roman"/>
              </a:rPr>
              <a:t>легкоатлетические прыжковые упражнения (прыжки на одной или двух ногах);</a:t>
            </a:r>
            <a:endParaRPr b="0" lang="ru-RU" sz="2100" spc="-1" strike="noStrike">
              <a:solidFill>
                <a:srgbClr val="303030"/>
              </a:solidFill>
              <a:latin typeface="Times New Roman"/>
            </a:endParaRPr>
          </a:p>
          <a:p>
            <a:pPr marL="322560" indent="-322560">
              <a:lnSpc>
                <a:spcPct val="100000"/>
              </a:lnSpc>
              <a:spcBef>
                <a:spcPts val="420"/>
              </a:spcBef>
              <a:buClr>
                <a:srgbClr val="ad0101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100" spc="-1" strike="noStrike">
                <a:solidFill>
                  <a:srgbClr val="303030"/>
                </a:solidFill>
                <a:latin typeface="Times New Roman"/>
              </a:rPr>
              <a:t>упражнения в преодолении препятствий.</a:t>
            </a:r>
            <a:endParaRPr b="0" lang="ru-RU" sz="21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636000" y="5257800"/>
            <a:ext cx="550764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1000"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Средства развития силы</a:t>
            </a:r>
            <a:endParaRPr b="0" lang="ru-RU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Объект 4" descr=""/>
          <p:cNvPicPr/>
          <p:nvPr/>
        </p:nvPicPr>
        <p:blipFill>
          <a:blip r:embed="rId1"/>
          <a:stretch/>
        </p:blipFill>
        <p:spPr>
          <a:xfrm>
            <a:off x="3780000" y="620640"/>
            <a:ext cx="4536000" cy="4536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332640"/>
            <a:ext cx="3707640" cy="652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1000"/>
          </a:bodyPr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303030"/>
                </a:solidFill>
                <a:latin typeface="Times New Roman"/>
              </a:rPr>
              <a:t> </a:t>
            </a:r>
            <a:r>
              <a:rPr b="0" lang="ru-RU" sz="2100" spc="-1" strike="noStrike">
                <a:solidFill>
                  <a:srgbClr val="303030"/>
                </a:solidFill>
                <a:latin typeface="Times New Roman"/>
              </a:rPr>
              <a:t>Изометрические упражнения: способствуют одновременному напряжению максимально возможного коли­чества двигательных единиц работающих мышц и подразделяются на упраж­нения:</a:t>
            </a:r>
            <a:endParaRPr b="0" lang="ru-RU" sz="2100" spc="-1" strike="noStrike">
              <a:solidFill>
                <a:srgbClr val="303030"/>
              </a:solidFill>
              <a:latin typeface="Times New Roman"/>
            </a:endParaRPr>
          </a:p>
          <a:p>
            <a:pPr marL="418320" indent="-418320">
              <a:lnSpc>
                <a:spcPct val="100000"/>
              </a:lnSpc>
              <a:spcBef>
                <a:spcPts val="420"/>
              </a:spcBef>
              <a:buClr>
                <a:srgbClr val="ad0101"/>
              </a:buClr>
              <a:buFont typeface="Impact"/>
              <a:buAutoNum type="arabicPeriod"/>
              <a:tabLst>
                <a:tab algn="l" pos="0"/>
              </a:tabLst>
            </a:pPr>
            <a:r>
              <a:rPr b="0" lang="ru-RU" sz="2100" spc="-1" strike="noStrike">
                <a:solidFill>
                  <a:srgbClr val="303030"/>
                </a:solidFill>
                <a:latin typeface="Times New Roman"/>
              </a:rPr>
              <a:t>удержание в пассивном напряжении мышц (удержание груза на пред­плечьях рук, плечах, спине и т.п.);</a:t>
            </a:r>
            <a:endParaRPr b="0" lang="ru-RU" sz="2100" spc="-1" strike="noStrike">
              <a:solidFill>
                <a:srgbClr val="303030"/>
              </a:solidFill>
              <a:latin typeface="Times New Roman"/>
            </a:endParaRPr>
          </a:p>
          <a:p>
            <a:pPr marL="418320" indent="-418320">
              <a:lnSpc>
                <a:spcPct val="100000"/>
              </a:lnSpc>
              <a:spcBef>
                <a:spcPts val="420"/>
              </a:spcBef>
              <a:buClr>
                <a:srgbClr val="ad0101"/>
              </a:buClr>
              <a:buFont typeface="Impact"/>
              <a:buAutoNum type="arabicPeriod"/>
              <a:tabLst>
                <a:tab algn="l" pos="0"/>
              </a:tabLst>
            </a:pPr>
            <a:r>
              <a:rPr b="0" lang="ru-RU" sz="2100" spc="-1" strike="noStrike">
                <a:solidFill>
                  <a:srgbClr val="303030"/>
                </a:solidFill>
                <a:latin typeface="Times New Roman"/>
              </a:rPr>
              <a:t>упражнения с активным напряжением мышц в течение определенного времени в определенной позе (выпрямление полусогнутых ног, попытка оторвать от пола штангу чрезмерного веса и т.п.).</a:t>
            </a:r>
            <a:endParaRPr b="0" lang="ru-RU" sz="2100" spc="-1" strike="noStrike">
              <a:solidFill>
                <a:srgbClr val="30303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303030"/>
                </a:solidFill>
                <a:latin typeface="Times New Roman"/>
              </a:rPr>
              <a:t> </a:t>
            </a:r>
            <a:r>
              <a:rPr b="0" lang="ru-RU" sz="2100" spc="-1" strike="noStrike">
                <a:solidFill>
                  <a:srgbClr val="303030"/>
                </a:solidFill>
                <a:latin typeface="Times New Roman"/>
              </a:rPr>
              <a:t>Данные виды упражнений, выполняются обычно при задержке дыхания, тем самым приучают организм к работе в очень трудных условиях (кислород­ное голодание). Характерной особенностью занятий с использованием изо­метрических упражнений является их простота, они требуют мало времени, не сложное оборудование и с помощью данных упражнений можно воздействовать на лю­бые мышечные группы</a:t>
            </a:r>
            <a:endParaRPr b="0" lang="ru-RU" sz="21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762624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Виды силы</a:t>
            </a:r>
            <a:endParaRPr b="0" lang="ru-RU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Объект 4" descr=""/>
          <p:cNvPicPr/>
          <p:nvPr/>
        </p:nvPicPr>
        <p:blipFill>
          <a:blip r:embed="rId1"/>
          <a:stretch/>
        </p:blipFill>
        <p:spPr>
          <a:xfrm>
            <a:off x="3711600" y="791640"/>
            <a:ext cx="4593960" cy="34452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1640" y="457200"/>
            <a:ext cx="2952000" cy="491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303030"/>
                </a:solidFill>
                <a:latin typeface="Times New Roman"/>
              </a:rPr>
              <a:t>Учитывая зависимость механической силы от массы собственного тела, различают </a:t>
            </a:r>
            <a:r>
              <a:rPr b="1" lang="ru-RU" sz="2100" spc="-1" strike="noStrike">
                <a:solidFill>
                  <a:srgbClr val="303030"/>
                </a:solidFill>
                <a:latin typeface="Times New Roman"/>
              </a:rPr>
              <a:t>абсолютную</a:t>
            </a:r>
            <a:r>
              <a:rPr b="0" lang="ru-RU" sz="2100" spc="-1" strike="noStrike">
                <a:solidFill>
                  <a:srgbClr val="303030"/>
                </a:solidFill>
                <a:latin typeface="Times New Roman"/>
              </a:rPr>
              <a:t> и </a:t>
            </a:r>
            <a:r>
              <a:rPr b="1" lang="ru-RU" sz="2100" spc="-1" strike="noStrike">
                <a:solidFill>
                  <a:srgbClr val="303030"/>
                </a:solidFill>
                <a:latin typeface="Times New Roman"/>
              </a:rPr>
              <a:t>относительную силу</a:t>
            </a:r>
            <a:r>
              <a:rPr b="0" lang="ru-RU" sz="2100" spc="-1" strike="noStrike">
                <a:solidFill>
                  <a:srgbClr val="303030"/>
                </a:solidFill>
                <a:latin typeface="Times New Roman"/>
              </a:rPr>
              <a:t>.</a:t>
            </a:r>
            <a:endParaRPr b="0" lang="ru-RU" sz="2100" spc="-1" strike="noStrike">
              <a:solidFill>
                <a:srgbClr val="30303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1" lang="ru-RU" sz="2100" spc="-1" strike="noStrike" u="sng">
                <a:solidFill>
                  <a:srgbClr val="303030"/>
                </a:solidFill>
                <a:uFillTx/>
                <a:latin typeface="Times New Roman"/>
              </a:rPr>
              <a:t>Абсолютная сила </a:t>
            </a:r>
            <a:r>
              <a:rPr b="0" lang="ru-RU" sz="2100" spc="-1" strike="noStrike">
                <a:solidFill>
                  <a:srgbClr val="303030"/>
                </a:solidFill>
                <a:latin typeface="Times New Roman"/>
              </a:rPr>
              <a:t>оценивается по максимальному весу, который может преодолеть занимающийся.</a:t>
            </a:r>
            <a:endParaRPr b="0" lang="ru-RU" sz="21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5013000"/>
            <a:ext cx="7632360" cy="109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Виды силы</a:t>
            </a:r>
            <a:endParaRPr b="0" lang="ru-RU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Объект 4" descr=""/>
          <p:cNvPicPr/>
          <p:nvPr/>
        </p:nvPicPr>
        <p:blipFill>
          <a:blip r:embed="rId1"/>
          <a:stretch/>
        </p:blipFill>
        <p:spPr>
          <a:xfrm>
            <a:off x="3780000" y="890640"/>
            <a:ext cx="5163480" cy="37623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1640" y="404640"/>
            <a:ext cx="3456000" cy="50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9000"/>
          </a:bodyPr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1" lang="ru-RU" sz="2100" spc="-1" strike="noStrike" u="sng">
                <a:solidFill>
                  <a:srgbClr val="303030"/>
                </a:solidFill>
                <a:uFillTx/>
                <a:latin typeface="Times New Roman"/>
              </a:rPr>
              <a:t>Относительная сила </a:t>
            </a:r>
            <a:r>
              <a:rPr b="0" lang="ru-RU" sz="2100" spc="-1" strike="noStrike">
                <a:solidFill>
                  <a:srgbClr val="303030"/>
                </a:solidFill>
                <a:latin typeface="Times New Roman"/>
              </a:rPr>
              <a:t>— это не что иное как соотношение абсолютной силы в пересчете на вес тела (кг).</a:t>
            </a:r>
            <a:endParaRPr b="0" lang="ru-RU" sz="2100" spc="-1" strike="noStrike">
              <a:solidFill>
                <a:srgbClr val="30303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303030"/>
                </a:solidFill>
                <a:latin typeface="Times New Roman"/>
              </a:rPr>
              <a:t>Безусловно, по морфофункциональным показателям человек, имеющий большую массу (если она в большей степени мышечная) имеет и большую абсолютную силу, но не всегда абсолютная сила прямопропорциональна весу, по относительным показателям (в определенных пределах) человек, имеющий меньший вес обладает большей относительной силой.</a:t>
            </a:r>
            <a:endParaRPr b="0" lang="ru-RU" sz="21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5229360"/>
            <a:ext cx="9143640" cy="94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1000"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Собственно-силовые способности</a:t>
            </a:r>
            <a:endParaRPr b="0" lang="ru-RU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Объект 4" descr=""/>
          <p:cNvPicPr/>
          <p:nvPr/>
        </p:nvPicPr>
        <p:blipFill>
          <a:blip r:embed="rId1"/>
          <a:stretch/>
        </p:blipFill>
        <p:spPr>
          <a:xfrm>
            <a:off x="3711600" y="842400"/>
            <a:ext cx="5234400" cy="38106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9640" y="457200"/>
            <a:ext cx="3255840" cy="433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1000"/>
          </a:bodyPr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303030"/>
                </a:solidFill>
                <a:latin typeface="Times New Roman"/>
              </a:rPr>
              <a:t>Собственно силовые способности проявляются: </a:t>
            </a:r>
            <a:endParaRPr b="0" lang="ru-RU" sz="2100" spc="-1" strike="noStrike">
              <a:solidFill>
                <a:srgbClr val="30303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303030"/>
                </a:solidFill>
                <a:latin typeface="Times New Roman"/>
              </a:rPr>
              <a:t>1) при относительно медленных сокращениях мышц, в упражнениях, выполняемых с околопредельными, предельными отягощениями (например, при приседаниях со штангой достаточно большого веса); </a:t>
            </a:r>
            <a:endParaRPr b="0" lang="ru-RU" sz="2100" spc="-1" strike="noStrike">
              <a:solidFill>
                <a:srgbClr val="30303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303030"/>
                </a:solidFill>
                <a:latin typeface="Times New Roman"/>
              </a:rPr>
              <a:t>2) при мышечных напряжениях изометрического (статического) типа (без изменения длины мышцы). В соответствии с этим различают медленную силу и статическую силу.</a:t>
            </a:r>
            <a:endParaRPr b="0" lang="ru-RU" sz="21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456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0000"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Собственно-силовые способности</a:t>
            </a:r>
            <a:endParaRPr b="0" lang="ru-RU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Объект 4" descr=""/>
          <p:cNvPicPr/>
          <p:nvPr/>
        </p:nvPicPr>
        <p:blipFill>
          <a:blip r:embed="rId1"/>
          <a:stretch/>
        </p:blipFill>
        <p:spPr>
          <a:xfrm>
            <a:off x="3852000" y="764640"/>
            <a:ext cx="4248000" cy="36532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3640" y="457200"/>
            <a:ext cx="3111840" cy="426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2000"/>
          </a:bodyPr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303030"/>
                </a:solidFill>
                <a:latin typeface="Times New Roman"/>
              </a:rPr>
              <a:t>Статическая сила характеризуется двумя ее особенностями проявления 1) при напряжении мышц за счет активных волевых усилий человека (активная статическая сила); 2) при попытке внешних сил или под воздействием соб­ственного веса человека насильственно растянуть напряженную мышцу (пассивная статическая сила).</a:t>
            </a:r>
            <a:endParaRPr b="0" lang="ru-RU" sz="21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456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0000"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Скоростно-силовые способности</a:t>
            </a:r>
            <a:endParaRPr b="0" lang="ru-RU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Объект 4" descr=""/>
          <p:cNvPicPr/>
          <p:nvPr/>
        </p:nvPicPr>
        <p:blipFill>
          <a:blip r:embed="rId1"/>
          <a:stretch/>
        </p:blipFill>
        <p:spPr>
          <a:xfrm>
            <a:off x="3780000" y="1340640"/>
            <a:ext cx="5204880" cy="2880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457200"/>
            <a:ext cx="2673360" cy="41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1" lang="ru-RU" sz="2100" spc="-1" strike="noStrike">
                <a:solidFill>
                  <a:srgbClr val="303030"/>
                </a:solidFill>
                <a:latin typeface="Times New Roman"/>
              </a:rPr>
              <a:t>Скоростно-силовые способности — это соединение силовых и скоростных способностей (со значительной механической силой требуемая и значительная быстрота движений</a:t>
            </a:r>
            <a:r>
              <a:rPr b="0" lang="ru-RU" sz="2100" spc="-1" strike="noStrike">
                <a:solidFill>
                  <a:srgbClr val="303030"/>
                </a:solidFill>
                <a:latin typeface="Times New Roman"/>
              </a:rPr>
              <a:t>).</a:t>
            </a:r>
            <a:endParaRPr b="0" lang="ru-RU" sz="21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678456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0000"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Скоростно-силовые способности</a:t>
            </a:r>
            <a:endParaRPr b="0" lang="ru-RU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Объект 4" descr=""/>
          <p:cNvPicPr/>
          <p:nvPr/>
        </p:nvPicPr>
        <p:blipFill>
          <a:blip r:embed="rId1"/>
          <a:stretch/>
        </p:blipFill>
        <p:spPr>
          <a:xfrm>
            <a:off x="3711600" y="960120"/>
            <a:ext cx="5244480" cy="35485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640" y="332640"/>
            <a:ext cx="3255840" cy="44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303030"/>
                </a:solidFill>
                <a:latin typeface="Times New Roman"/>
              </a:rPr>
              <a:t>К скоростно-силовым способностям относят: 1) быструю силу; 2) взрывную силу. </a:t>
            </a:r>
            <a:endParaRPr b="0" lang="ru-RU" sz="2100" spc="-1" strike="noStrike">
              <a:solidFill>
                <a:srgbClr val="30303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i="1" lang="ru-RU" sz="2100" spc="-1" strike="noStrike">
                <a:solidFill>
                  <a:srgbClr val="303030"/>
                </a:solidFill>
                <a:latin typeface="Times New Roman"/>
              </a:rPr>
              <a:t>Быстрая сила </a:t>
            </a:r>
            <a:r>
              <a:rPr b="0" lang="ru-RU" sz="2100" spc="-1" strike="noStrike">
                <a:solidFill>
                  <a:srgbClr val="303030"/>
                </a:solidFill>
                <a:latin typeface="Times New Roman"/>
              </a:rPr>
              <a:t>характеризуется непредельным напряжением мышц, проявляемым в упражнениях, которые выполняются со значительной скоростью, не достигающей пред ель-рой величины. </a:t>
            </a:r>
            <a:endParaRPr b="0" lang="ru-RU" sz="21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636000" y="4581000"/>
            <a:ext cx="550764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9000"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Скоростно-силовые способности</a:t>
            </a:r>
            <a:endParaRPr b="0" lang="ru-RU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Объект 4" descr=""/>
          <p:cNvPicPr/>
          <p:nvPr/>
        </p:nvPicPr>
        <p:blipFill>
          <a:blip r:embed="rId1"/>
          <a:stretch/>
        </p:blipFill>
        <p:spPr>
          <a:xfrm>
            <a:off x="3711600" y="620640"/>
            <a:ext cx="5355720" cy="33159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7640" y="332640"/>
            <a:ext cx="3456000" cy="58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i="1" lang="ru-RU" sz="2100" spc="-1" strike="noStrike">
                <a:solidFill>
                  <a:srgbClr val="303030"/>
                </a:solidFill>
                <a:latin typeface="Times New Roman"/>
              </a:rPr>
              <a:t>Взрывная сила </a:t>
            </a:r>
            <a:r>
              <a:rPr b="0" lang="ru-RU" sz="2100" spc="-1" strike="noStrike">
                <a:solidFill>
                  <a:srgbClr val="303030"/>
                </a:solidFill>
                <a:latin typeface="Times New Roman"/>
              </a:rPr>
              <a:t>отражает способность человека по ходу выполнения двигательного действия достигать максимальных показателей силы в возможно короткое время (например, при низком старте в беге на короткие дистанции, в легкоатлетических прыжках и метаниях и т.д.).</a:t>
            </a:r>
            <a:endParaRPr b="0" lang="ru-RU" sz="2100" spc="-1" strike="noStrike">
              <a:solidFill>
                <a:srgbClr val="30303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303030"/>
                </a:solidFill>
                <a:latin typeface="Times New Roman"/>
              </a:rPr>
              <a:t>Взрывная сила характеризуется двумя компонентами: стартовой силой и ускоряющей силой. Стартовая сила — это характеристика способности мышц к быстрому развитию рабочего усилия в начальный момент их напряжения. Ускоряющая сила— способность мышц к быстроте наращивания рабочего усилия в условиях их начавшегося сокращения.</a:t>
            </a:r>
            <a:endParaRPr b="0" lang="ru-RU" sz="21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4572000"/>
            <a:ext cx="769824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1000"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Impact"/>
              </a:rPr>
              <a:t>Средства развития силы</a:t>
            </a:r>
            <a:endParaRPr b="0" lang="ru-RU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Объект 4" descr=""/>
          <p:cNvPicPr/>
          <p:nvPr/>
        </p:nvPicPr>
        <p:blipFill>
          <a:blip r:embed="rId1"/>
          <a:stretch/>
        </p:blipFill>
        <p:spPr>
          <a:xfrm>
            <a:off x="3852000" y="836640"/>
            <a:ext cx="5021280" cy="3816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457200"/>
            <a:ext cx="2673360" cy="484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2000"/>
          </a:bodyPr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303030"/>
                </a:solidFill>
                <a:latin typeface="Times New Roman"/>
              </a:rPr>
              <a:t>При развитии силовых способностей используются упражнения с повы­шенным сопротивлением - силовыми упражнениями. В зависимости от при­роды сопротивления они подразделяются на 3 группы:</a:t>
            </a:r>
            <a:endParaRPr b="0" lang="ru-RU" sz="2100" spc="-1" strike="noStrike">
              <a:solidFill>
                <a:srgbClr val="30303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303030"/>
                </a:solidFill>
                <a:latin typeface="Times New Roman"/>
              </a:rPr>
              <a:t>1. Упражнения с внешним сопротивлением.</a:t>
            </a:r>
            <a:endParaRPr b="0" lang="ru-RU" sz="2100" spc="-1" strike="noStrike">
              <a:solidFill>
                <a:srgbClr val="30303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303030"/>
                </a:solidFill>
                <a:latin typeface="Times New Roman"/>
              </a:rPr>
              <a:t>2. Упражнения с преодолением веса собственного тела.</a:t>
            </a:r>
            <a:endParaRPr b="0" lang="ru-RU" sz="2100" spc="-1" strike="noStrike">
              <a:solidFill>
                <a:srgbClr val="30303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303030"/>
                </a:solidFill>
                <a:latin typeface="Times New Roman"/>
              </a:rPr>
              <a:t>3. Изометрические упражнения.</a:t>
            </a:r>
            <a:endParaRPr b="0" lang="ru-RU" sz="21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NewsPrint">
  <a:themeElements>
    <a:clrScheme name="NewsPrint">
      <a:dk1>
        <a:srgbClr val="000000"/>
      </a:dk1>
      <a:lt1>
        <a:srgbClr val="ffffff"/>
      </a:lt1>
      <a:dk2>
        <a:srgbClr val="303030"/>
      </a:dk2>
      <a:lt2>
        <a:srgbClr val="dedee0"/>
      </a:lt2>
      <a:accent1>
        <a:srgbClr val="ad0101"/>
      </a:accent1>
      <a:accent2>
        <a:srgbClr val="726056"/>
      </a:accent2>
      <a:accent3>
        <a:srgbClr val="ac956e"/>
      </a:accent3>
      <a:accent4>
        <a:srgbClr val="808da9"/>
      </a:accent4>
      <a:accent5>
        <a:srgbClr val="424e5b"/>
      </a:accent5>
      <a:accent6>
        <a:srgbClr val="730e00"/>
      </a:accent6>
      <a:hlink>
        <a:srgbClr val="d26900"/>
      </a:hlink>
      <a:folHlink>
        <a:srgbClr val="d89243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NewsPrint">
  <a:themeElements>
    <a:clrScheme name="NewsPrint">
      <a:dk1>
        <a:srgbClr val="000000"/>
      </a:dk1>
      <a:lt1>
        <a:srgbClr val="ffffff"/>
      </a:lt1>
      <a:dk2>
        <a:srgbClr val="303030"/>
      </a:dk2>
      <a:lt2>
        <a:srgbClr val="dedee0"/>
      </a:lt2>
      <a:accent1>
        <a:srgbClr val="ad0101"/>
      </a:accent1>
      <a:accent2>
        <a:srgbClr val="726056"/>
      </a:accent2>
      <a:accent3>
        <a:srgbClr val="ac956e"/>
      </a:accent3>
      <a:accent4>
        <a:srgbClr val="808da9"/>
      </a:accent4>
      <a:accent5>
        <a:srgbClr val="424e5b"/>
      </a:accent5>
      <a:accent6>
        <a:srgbClr val="730e00"/>
      </a:accent6>
      <a:hlink>
        <a:srgbClr val="d26900"/>
      </a:hlink>
      <a:folHlink>
        <a:srgbClr val="d89243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Newsprint</Template>
  <TotalTime>1100</TotalTime>
  <Application>LibreOffice/7.4.7.2$Linux_X86_64 LibreOffice_project/40$Build-2</Application>
  <AppVersion>15.0000</AppVersion>
  <Words>498</Words>
  <Paragraphs>41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15T17:53:02Z</dcterms:created>
  <dc:creator>Microsoft</dc:creator>
  <dc:description/>
  <dc:language>en-US</dc:language>
  <cp:lastModifiedBy>Microsoft</cp:lastModifiedBy>
  <dcterms:modified xsi:type="dcterms:W3CDTF">2020-04-09T11:56:47Z</dcterms:modified>
  <cp:revision>9</cp:revision>
  <dc:subject/>
  <dc:title>Виды силовых способносте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2</vt:r8>
  </property>
</Properties>
</file>