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70E-D61D-42AD-973F-FF6A582F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10880" y="26064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67C-69B3-46BB-8BDA-7ADAA61F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652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B26-854C-4A2B-A6CE-8E304FEA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464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1804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1088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26464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1804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208-6758-4FA8-B652-2A9DE445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1AB6-ECA8-44EF-892C-F37BE538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5405-E4B2-46F2-93F8-4D4A4C9B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D6BB-4969-454A-86A2-52299735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6CE0-A5D7-4237-9306-643662AC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4153-A1F9-4346-8229-F24D7EAC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2120" y="4572000"/>
            <a:ext cx="678456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1794-C763-4F04-AA5F-DE7B73DD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CF88-1C9D-461D-821B-1604DFBC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041-42EE-43EA-96E2-AA4D4782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652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1E65-564F-4D90-BE68-64B9A1D0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5B9C-79FB-4517-8CF5-7652B2B8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0880" y="26064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594F-B005-4BF8-9D00-BA993F17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652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ABEE-141B-4400-B456-080C0566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6464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1804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71088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526464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81804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6A61-9304-456E-AB7C-98AF6F75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06B-1AAA-4501-89F9-7AD5B3C3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FA3-09B3-4BB3-AE66-7EA6263C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CD6-3360-4A30-B1C9-BC4CBBA3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4572000"/>
            <a:ext cx="678456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1D4-BBD6-4168-BB04-667EF002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F08-6180-4F2E-B44B-A06E07A7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652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317-72CE-47C1-95DA-242F5E20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693-ADD4-4A55-A310-AA244F60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 hidden="1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77240" y="0"/>
            <a:ext cx="7543440" cy="304776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94B8F7-9AB2-4925-88D3-EB3F9BE73BC6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762120" y="457200"/>
            <a:ext cx="267336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C2FDB9-A4DE-4D37-BF27-793844F73B9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Straight Connector 9"/>
          <p:cNvCxnSpPr/>
          <p:nvPr/>
        </p:nvCxnSpPr>
        <p:spPr>
          <a:xfrm flipH="1">
            <a:off x="3581280" y="610200"/>
            <a:ext cx="1800" cy="3810240"/>
          </a:xfrm>
          <a:prstGeom prst="straightConnector1">
            <a:avLst/>
          </a:prstGeom>
          <a:ln>
            <a:solidFill>
              <a:srgbClr val="303030">
                <a:lumMod val="50000"/>
                <a:lumOff val="50000"/>
              </a:srgbClr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Виды силовых способностей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7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 средства их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Титова А.А. педагог доп.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26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редства развития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Объект 4" descr=""/>
          <p:cNvPicPr/>
          <p:nvPr/>
        </p:nvPicPr>
        <p:blipFill>
          <a:blip r:embed="rId1"/>
          <a:stretch/>
        </p:blipFill>
        <p:spPr>
          <a:xfrm>
            <a:off x="3924000" y="764640"/>
            <a:ext cx="4320000" cy="432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2801520" cy="49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К </a:t>
            </a:r>
            <a:r>
              <a:rPr b="1" lang="ru-RU" sz="2100" spc="-1" strike="noStrike" u="sng">
                <a:solidFill>
                  <a:srgbClr val="303030"/>
                </a:solidFill>
                <a:uFillTx/>
                <a:latin typeface="Times New Roman"/>
              </a:rPr>
              <a:t>упражнениям с внешним сопротивлением 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относятся: - упражнения с тяжестями (штангой, гантелями, гирями), в том числе и на тренажерах; уп­ражнения с сопротивлением других предметов (резиновых амортизаторов, жгутов, блочных устройств и др.); упражнения в преодолении сопротивления внешней среды (бег по песку, снегу, против ветра и т.п.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26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редства развития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Объект 4" descr=""/>
          <p:cNvPicPr/>
          <p:nvPr/>
        </p:nvPicPr>
        <p:blipFill>
          <a:blip r:embed="rId1"/>
          <a:stretch/>
        </p:blipFill>
        <p:spPr>
          <a:xfrm>
            <a:off x="3711600" y="1000080"/>
            <a:ext cx="5103360" cy="3364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332640"/>
            <a:ext cx="3240000" cy="51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пражнения с преодолением веса собственного тела: - применяются при занятиях людей различного возраста, пола, подготовленности во всех формах занятий. Выделяют следующие их разновидности: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322560" indent="-32256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гимнастические силовые упражнения (сгибание и разгибание рук в упо­рах, лазание по канату, поднимание ног к перекладине);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322560" indent="-32256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легкоатлетические прыжковые упражнения (прыжки на одной или двух ногах);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322560" indent="-32256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пражнения в преодолении препятствий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36000" y="5257800"/>
            <a:ext cx="55076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редства развития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Объект 4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4536000" cy="4536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32640"/>
            <a:ext cx="3707640" cy="652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 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Изометрические упражнения: способствуют одновременному напряжению максимально возможного коли­чества двигательных единиц работающих мышц и подразделяются на упраж­нения: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418320" indent="-41832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Impact"/>
              <a:buAutoNum type="arabicPeriod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держание в пассивном напряжении мышц (удержание груза на пред­плечьях рук, плечах, спине и т.п.);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418320" indent="-41832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Impact"/>
              <a:buAutoNum type="arabicPeriod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пражнения с активным напряжением мышц в течение определенного времени в определенной позе (выпрямление полусогнутых ног, попытка оторвать от пола штангу чрезмерного веса и т.п.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 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Данные виды упражнений, выполняются обычно при задержке дыхания, тем самым приучают организм к работе в очень трудных условиях (кислород­ное голодание). Характерной особенностью занятий с использованием изо­метрических упражнений является их простота, они требуют мало времени, не сложное оборудование и с помощью данных упражнений можно воздействовать на лю­бые мышечные группы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26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Виды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Объект 4" descr=""/>
          <p:cNvPicPr/>
          <p:nvPr/>
        </p:nvPicPr>
        <p:blipFill>
          <a:blip r:embed="rId1"/>
          <a:stretch/>
        </p:blipFill>
        <p:spPr>
          <a:xfrm>
            <a:off x="3711600" y="791640"/>
            <a:ext cx="4593960" cy="344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640" y="457200"/>
            <a:ext cx="2952000" cy="49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читывая зависимость механической силы от массы собственного тела, различают </a:t>
            </a:r>
            <a:r>
              <a:rPr b="1" lang="ru-RU" sz="2100" spc="-1" strike="noStrike">
                <a:solidFill>
                  <a:srgbClr val="303030"/>
                </a:solidFill>
                <a:latin typeface="Times New Roman"/>
              </a:rPr>
              <a:t>абсолютную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 и </a:t>
            </a:r>
            <a:r>
              <a:rPr b="1" lang="ru-RU" sz="2100" spc="-1" strike="noStrike">
                <a:solidFill>
                  <a:srgbClr val="303030"/>
                </a:solidFill>
                <a:latin typeface="Times New Roman"/>
              </a:rPr>
              <a:t>относительную силу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 u="sng">
                <a:solidFill>
                  <a:srgbClr val="303030"/>
                </a:solidFill>
                <a:uFillTx/>
                <a:latin typeface="Times New Roman"/>
              </a:rPr>
              <a:t>Абсолютная сила 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оценивается по максимальному весу, который может преодолеть занимающийся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013000"/>
            <a:ext cx="7632360" cy="109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Виды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Объект 4" descr=""/>
          <p:cNvPicPr/>
          <p:nvPr/>
        </p:nvPicPr>
        <p:blipFill>
          <a:blip r:embed="rId1"/>
          <a:stretch/>
        </p:blipFill>
        <p:spPr>
          <a:xfrm>
            <a:off x="3780000" y="890640"/>
            <a:ext cx="5163480" cy="3762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640" y="404640"/>
            <a:ext cx="3456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 u="sng">
                <a:solidFill>
                  <a:srgbClr val="303030"/>
                </a:solidFill>
                <a:uFillTx/>
                <a:latin typeface="Times New Roman"/>
              </a:rPr>
              <a:t>Относительная сила 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— это не что иное как соотношение абсолютной силы в пересчете на вес тела (кг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Безусловно, по морфофункциональным показателям человек, имеющий большую массу (если она в большей степени мышечная) имеет и большую абсолютную силу, но не всегда абсолютная сила прямопропорциональна весу, по относительным показателям (в определенных пределах) человек, имеющий меньший вес обладает большей относительной силой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229360"/>
            <a:ext cx="9143640" cy="94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обствен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Объект 4" descr=""/>
          <p:cNvPicPr/>
          <p:nvPr/>
        </p:nvPicPr>
        <p:blipFill>
          <a:blip r:embed="rId1"/>
          <a:stretch/>
        </p:blipFill>
        <p:spPr>
          <a:xfrm>
            <a:off x="3711600" y="842400"/>
            <a:ext cx="5234400" cy="3810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640" y="457200"/>
            <a:ext cx="3255840" cy="433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Собственно силовые способности проявляются: 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1) при относительно медленных сокращениях мышц, в упражнениях, выполняемых с околопредельными, предельными отягощениями (например, при приседаниях со штангой достаточно большого веса); 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2) при мышечных напряжениях изометрического (статического) типа (без изменения длины мышцы). В соответствии с этим различают медленную силу и статическую силу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обствен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Объект 4" descr=""/>
          <p:cNvPicPr/>
          <p:nvPr/>
        </p:nvPicPr>
        <p:blipFill>
          <a:blip r:embed="rId1"/>
          <a:stretch/>
        </p:blipFill>
        <p:spPr>
          <a:xfrm>
            <a:off x="3852000" y="764640"/>
            <a:ext cx="4248000" cy="3653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457200"/>
            <a:ext cx="311184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Статическая сила характеризуется двумя ее особенностями проявления 1) при напряжении мышц за счет активных волевых усилий человека (активная статическая сила); 2) при попытке внешних сил или под воздействием соб­ственного веса человека насильственно растянуть напряженную мышцу (пассивная статическая сила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корост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Объект 4" descr=""/>
          <p:cNvPicPr/>
          <p:nvPr/>
        </p:nvPicPr>
        <p:blipFill>
          <a:blip r:embed="rId1"/>
          <a:stretch/>
        </p:blipFill>
        <p:spPr>
          <a:xfrm>
            <a:off x="3780000" y="1340640"/>
            <a:ext cx="5204880" cy="2880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303030"/>
                </a:solidFill>
                <a:latin typeface="Times New Roman"/>
              </a:rPr>
              <a:t>Скоростно-силовые способности — это соединение силовых и скоростных способностей (со значительной механической силой требуемая и значительная быстрота движений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корост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Объект 4" descr=""/>
          <p:cNvPicPr/>
          <p:nvPr/>
        </p:nvPicPr>
        <p:blipFill>
          <a:blip r:embed="rId1"/>
          <a:stretch/>
        </p:blipFill>
        <p:spPr>
          <a:xfrm>
            <a:off x="3711600" y="960120"/>
            <a:ext cx="5244480" cy="3548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640" y="332640"/>
            <a:ext cx="32558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К скоростно-силовым способностям относят: 1) быструю силу; 2) взрывную силу. 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i="1" lang="ru-RU" sz="2100" spc="-1" strike="noStrike">
                <a:solidFill>
                  <a:srgbClr val="303030"/>
                </a:solidFill>
                <a:latin typeface="Times New Roman"/>
              </a:rPr>
              <a:t>Быстрая сила 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характеризуется непредельным напряжением мышц, проявляемым в упражнениях, которые выполняются со значительной скоростью, не достигающей пред ель-рой величины. 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36000" y="4581000"/>
            <a:ext cx="55076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корост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Объект 4" descr=""/>
          <p:cNvPicPr/>
          <p:nvPr/>
        </p:nvPicPr>
        <p:blipFill>
          <a:blip r:embed="rId1"/>
          <a:stretch/>
        </p:blipFill>
        <p:spPr>
          <a:xfrm>
            <a:off x="3711600" y="620640"/>
            <a:ext cx="5355720" cy="33159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640" y="332640"/>
            <a:ext cx="34560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i="1" lang="ru-RU" sz="2100" spc="-1" strike="noStrike">
                <a:solidFill>
                  <a:srgbClr val="303030"/>
                </a:solidFill>
                <a:latin typeface="Times New Roman"/>
              </a:rPr>
              <a:t>Взрывная сила 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отражает способность человека по ходу выполнения двигательного действия достигать максимальных показателей силы в возможно короткое время (например, при низком старте в беге на короткие дистанции, в легкоатлетических прыжках и метаниях и т.д.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Взрывная сила характеризуется двумя компонентами: стартовой силой и ускоряющей силой. Стартовая сила — это характеристика способности мышц к быстрому развитию рабочего усилия в начальный момент их напряжения. Ускоряющая сила— способность мышц к быстроте наращивания рабочего усилия в условиях их начавшегося сокращения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98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редства развития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Объект 4" descr=""/>
          <p:cNvPicPr/>
          <p:nvPr/>
        </p:nvPicPr>
        <p:blipFill>
          <a:blip r:embed="rId1"/>
          <a:stretch/>
        </p:blipFill>
        <p:spPr>
          <a:xfrm>
            <a:off x="3852000" y="836640"/>
            <a:ext cx="5021280" cy="3816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2673360" cy="48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При развитии силовых способностей используются упражнения с повы­шенным сопротивлением - силовыми упражнениями. В зависимости от при­роды сопротивления они подразделяются на 3 группы: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1. Упражнения с внешним сопротивлением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2. Упражнения с преодолением веса собственного тела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3. Изометрические упражнения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ewsprint</Template>
  <TotalTime>1100</TotalTime>
  <Application>LibreOffice/7.4.7.2$Linux_X86_64 LibreOffice_project/40$Build-2</Application>
  <AppVersion>15.0000</AppVersion>
  <Words>498</Words>
  <Paragraphs>4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5T17:53:02Z</dcterms:created>
  <dc:creator>Microsoft</dc:creator>
  <dc:description/>
  <dc:language>en-US</dc:language>
  <cp:lastModifiedBy>Microsoft</cp:lastModifiedBy>
  <dcterms:modified xsi:type="dcterms:W3CDTF">2020-04-09T11:56:47Z</dcterms:modified>
  <cp:revision>9</cp:revision>
  <dc:subject/>
  <dc:title>Виды силовых способнос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