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6A0-53AA-4287-A2A4-AB73031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FFC-45EB-46AC-A3E7-ACE0474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512-B48C-469B-BBAE-59F0531B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C05-B3DE-4B62-8F70-A2FF5C4E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1E0-0F28-4172-89CD-72B3B1E0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D92-3CC4-4694-B8AD-F04B17DD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35AD-50E3-4FF7-8AFA-2FDE0B1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5CC-533D-4858-86A2-2CD27BD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4B4B-F79B-4E5E-9D98-068379CF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8D28-343F-40F0-A3B8-A85FF7A6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8817-7E28-4433-9D41-D1FCB6F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F52-D8BD-43EE-A35D-C4DD42DE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6479-63AF-47F3-8CF1-A55FCFE8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0474-7BCB-4FCE-9159-733C971A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7BD-ABA3-4CA8-98D5-FA4FD0A9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24A6-04BE-4B73-83C3-B2734C03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C9CE-4025-4F71-A9E8-578442C3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3D7-4349-48C8-9C87-5B14092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265-54FE-426D-9FC1-3F07365F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497-E4E0-4CD7-BFDB-A1EA6170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9D0-E391-42BB-9E9E-5DF49C4F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FDB-ABA2-413F-8CC0-D050B63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574-C727-4F2A-8C5F-F7AF818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CB1-1228-4398-90EF-2EC75FC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4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14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B0E3FC-70DB-450D-9FEB-66B43AA0A457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4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0"/>
            <a:ext cx="2356200" cy="6852960"/>
            <a:chOff x="27360" y="0"/>
            <a:chExt cx="2356200" cy="6852960"/>
          </a:xfrm>
        </p:grpSpPr>
        <p:sp>
          <p:nvSpPr>
            <p:cNvPr id="83" name="Freeform 27"/>
            <p:cNvSpPr/>
            <p:nvPr/>
          </p:nvSpPr>
          <p:spPr>
            <a:xfrm>
              <a:off x="27360" y="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AA4F08-D27B-4CEE-9ECF-3EF6596B9422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89120" y="2527200"/>
            <a:ext cx="8915040" cy="224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Круговой метод тренировк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89120" y="4777200"/>
            <a:ext cx="8915040" cy="11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правленный на развитие основных групп мышц с дополнительным оборудованием (предме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1)Виды упражн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2)Тяга гантели, стоя на одном колен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)Разгибание ног в тренажёре или с эспандеро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4)</a:t>
            </a:r>
            <a:r>
              <a:rPr b="0" lang="ru-RU" sz="1800" spc="-1" strike="noStrike" cap="all">
                <a:solidFill>
                  <a:srgbClr val="404040"/>
                </a:solidFill>
                <a:latin typeface="Century Gothic"/>
              </a:rPr>
              <a:t>РАЗГИБАНИЕ РУК С КАНАТНОЙ РУКОЯТЬЮ В КРОССОВЕРЕ СТО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5)Отжимания с подставкой под ног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6)Т-отжимания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1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яга гантели, стоя на одном колен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развития широчайших мышц спины, попутно вовлекаются трапециевидные мышцы, бицепсы, задние пучки дельт и предплечь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ять упражнение в течение 30 секунд, затем поменяйте сторо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6477120" y="3137040"/>
            <a:ext cx="5714640" cy="37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2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Разгибание ног в тренажёре или с эспандеро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олирующее упражнение на квадрицепс, которое способствует прорисовке рельефа и улучшению формы данной мышц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ение в течении минут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634080" y="3238560"/>
            <a:ext cx="5557680" cy="36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all">
                <a:solidFill>
                  <a:srgbClr val="262626"/>
                </a:solidFill>
                <a:latin typeface="Century Gothic"/>
              </a:rPr>
              <a:t>Упражнение 3</a:t>
            </a:r>
            <a:r>
              <a:rPr b="1" lang="ru-RU" sz="3000" spc="-1" strike="noStrike" cap="all">
                <a:solidFill>
                  <a:srgbClr val="262626"/>
                </a:solidFill>
                <a:latin typeface="Century Gothic"/>
              </a:rPr>
              <a:t>: </a:t>
            </a:r>
            <a:r>
              <a:rPr b="1" lang="ru-RU" sz="3200" spc="-1" strike="noStrike" cap="all">
                <a:solidFill>
                  <a:srgbClr val="262626"/>
                </a:solidFill>
                <a:latin typeface="Century Gothic"/>
              </a:rPr>
              <a:t>РАЗГИБАНИЕ РУК С КАНАТНОЙ РУКОЯТЬЮ В КРОССОВЕРЕ СТО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олированное упражнение для трицепсов, которое поможет сделать руки более рельефными и сильны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30 повторен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7581960" y="2487600"/>
            <a:ext cx="460980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4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: Гиперэкстензи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ражнение для развития выпрямителей спины, а также ягодичных мышц и сгибателей бедра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полните 20 ра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5168880" y="3040560"/>
            <a:ext cx="7022880" cy="38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5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: Отжимания с подставкой под ног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ражнение для развития верхней части тела — в особенности, грудных мышц и трицепсов.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ыполните 20 ра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инута отдых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4940280" y="3147480"/>
            <a:ext cx="7251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пражнение 6: 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-отжиман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мбинация классических отжиманий от пола с упражнением для развития боковых мышц живот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ремя выполнения 30 секунд меняем ру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дых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8089920" y="2527200"/>
            <a:ext cx="4101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647252"/>
      </a:dk2>
      <a:lt2>
        <a:srgbClr val="eae8cf"/>
      </a:lt2>
      <a:accent1>
        <a:srgbClr val="e78712"/>
      </a:accent1>
      <a:accent2>
        <a:srgbClr val="b73c26"/>
      </a:accent2>
      <a:accent3>
        <a:srgbClr val="865331"/>
      </a:accent3>
      <a:accent4>
        <a:srgbClr val="b38648"/>
      </a:accent4>
      <a:accent5>
        <a:srgbClr val="bbb473"/>
      </a:accent5>
      <a:accent6>
        <a:srgbClr val="849276"/>
      </a:accent6>
      <a:hlink>
        <a:srgbClr val="fdab2a"/>
      </a:hlink>
      <a:folHlink>
        <a:srgbClr val="ccb1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647252"/>
      </a:dk2>
      <a:lt2>
        <a:srgbClr val="eae8cf"/>
      </a:lt2>
      <a:accent1>
        <a:srgbClr val="e78712"/>
      </a:accent1>
      <a:accent2>
        <a:srgbClr val="b73c26"/>
      </a:accent2>
      <a:accent3>
        <a:srgbClr val="865331"/>
      </a:accent3>
      <a:accent4>
        <a:srgbClr val="b38648"/>
      </a:accent4>
      <a:accent5>
        <a:srgbClr val="bbb473"/>
      </a:accent5>
      <a:accent6>
        <a:srgbClr val="849276"/>
      </a:accent6>
      <a:hlink>
        <a:srgbClr val="fdab2a"/>
      </a:hlink>
      <a:folHlink>
        <a:srgbClr val="ccb1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53</TotalTime>
  <Application>LibreOffice/7.4.7.2$Linux_X86_64 LibreOffice_project/40$Build-2</Application>
  <AppVersion>15.0000</AppVersion>
  <Words>230</Words>
  <Paragraphs>3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9:54:19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0-11-26T10:47:29Z</dcterms:modified>
  <cp:revision>6</cp:revision>
  <dc:subject/>
  <dc:title>Круговой метод трениро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