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BFD-6AAC-4B46-8CD0-B4EABAAC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52D-643B-4EA2-888B-60F6C63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15D-78AA-4EB6-ACBE-0B92B4FE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781-2D52-4E2B-83FA-E8DD522C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B74C-D3CB-4CBF-9507-C03411FD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D69-B1CB-4BD5-89D7-B3A856A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08E9-D2F9-416A-B223-9EB86BC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546-473A-4C0F-A28E-087A2651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E017-680D-43D1-955D-9CF11C49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A7A-C1DE-438E-AB26-0CB6E64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F5AA-8D47-4B98-A240-83E74AB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AC1-7023-4401-A679-61DBF10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F245-9D2E-4987-ABD4-66AB40F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E360-F0CA-4D57-8627-E63B669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34BC-BFAE-405D-A19D-294B330C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720E-CACC-4A51-AC04-2A3C797A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487-6CD0-4E0D-9B58-0ADC4913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63E-C258-4F70-8432-FCE0A719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8A5-20F9-4CF1-B2A8-B544521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021-A63D-4E07-B591-A746043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E52-0C31-4567-8B4F-25B31167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D6A-44CA-4181-8B22-E4A8A1A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BDE-39A9-43BF-991B-3242FEF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033-6972-4F0A-B42F-054F3FB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14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546AFB-EE95-4515-AA3F-BBC515BDC6E4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83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9FF750-AE67-47BA-92D1-DBF061472C59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Виды упражн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)Тяга гантели, стоя на одном колен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)Разгибание ног в тренажёре или с эспандер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)</a:t>
            </a:r>
            <a:r>
              <a:rPr b="0" lang="ru-RU" sz="1800" spc="-1" strike="noStrike" cap="all">
                <a:solidFill>
                  <a:srgbClr val="404040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)Отжимания с подставкой под ног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)Т-отжимания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1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яга гантели, стоя на одном колен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ять упражнение в течение 30 секунд, затем поменяйте сторо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2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азгибание ног в тренажёре или с эспандеро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ующее упражнение на квадрицепс, которое способствует прорисовке рельефа и улучшению формы данной мышц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ение в течении мину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634080" y="3238560"/>
            <a:ext cx="5557680" cy="36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262626"/>
                </a:solidFill>
                <a:latin typeface="Century Gothic"/>
              </a:rPr>
              <a:t>Упражнение 3</a:t>
            </a:r>
            <a:r>
              <a:rPr b="1" lang="ru-RU" sz="3000" spc="-1" strike="noStrike" cap="all">
                <a:solidFill>
                  <a:srgbClr val="262626"/>
                </a:solidFill>
                <a:latin typeface="Century Gothic"/>
              </a:rPr>
              <a:t>: </a:t>
            </a:r>
            <a:r>
              <a:rPr b="1" lang="ru-RU" sz="3200" spc="-1" strike="noStrike" cap="all">
                <a:solidFill>
                  <a:srgbClr val="262626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0 повтор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4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Гиперэкстензи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ите 20 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5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Отжимания с подставкой под ног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те 20 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6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-отжима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ремя выполнения 30 секунд меняем ру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дых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53</TotalTime>
  <Application>LibreOffice/7.4.7.2$Linux_X86_64 LibreOffice_project/40$Build-2</Application>
  <AppVersion>15.0000</AppVersion>
  <Words>230</Words>
  <Paragraphs>3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1-26T10:47:29Z</dcterms:modified>
  <cp:revision>6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