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B67-FDD7-46AF-AD47-C335D370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2F-A51C-4B87-8AF9-33B67DA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82F-7D6D-47B5-9BAB-8709B045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FCA-6437-4637-B6CC-80CEB1A0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93B-BACB-4C98-8E9F-870215CD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199D-7FB7-4C04-8349-2CDF8F02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C8FF-EAAD-4908-856C-680F704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799-72A8-46C3-9444-779DFEA9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5AE4-589F-429A-A0B9-605BB21C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AD7-555F-4A7A-A6CC-2154F99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885-25AB-40C8-9B2D-AD89AA1F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7BA-6B3C-4C63-8AF9-206DC1C0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FB62-A4C4-4297-A83D-AEA2C9B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93FB-8916-4595-A04B-D2628139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7B9A-BC11-4831-B7FE-A93870F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E79D-94CF-43F9-AEDB-EE668462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53D-239C-4938-9F7D-4A0E3B1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3E9-E4C1-483F-91E8-F6227DEB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C2E-9E8D-4836-8CE7-BEF1D17F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285-B2B2-4B1B-A80A-7BE44A2C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914-39D1-4780-B9BA-5D84FBA0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144-9086-40B4-8499-0DEFEF0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B20-3BE4-4B9C-900E-2073BC0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C3A-3B44-4B36-B0B0-D0C185F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14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55636C-9E29-41EC-ABA1-7E7D3B3E99C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83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F28C2E-83E2-4CD9-BF5E-710836DF71F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Виды упражн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)Тяга гантели, стоя на одном колен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)Разгибание ног в тренажёре или с эспандер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)</a:t>
            </a:r>
            <a:r>
              <a:rPr b="0" lang="ru-RU" sz="1800" spc="-1" strike="noStrike" cap="all">
                <a:solidFill>
                  <a:srgbClr val="404040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)Отжимания с подставкой под ног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)Т-отжимания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1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яга гантели, стоя на одном колен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ять упражнение в течение 30 секунд, затем поменяйте сторо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2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азгибание ног в тренажёре или с эспандеро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ующее упражнение на квадрицепс, которое способствует прорисовке рельефа и улучшению формы данной мышц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ение в течении мину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634080" y="3238560"/>
            <a:ext cx="5557680" cy="36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262626"/>
                </a:solidFill>
                <a:latin typeface="Century Gothic"/>
              </a:rPr>
              <a:t>Упражнение 3</a:t>
            </a:r>
            <a:r>
              <a:rPr b="1" lang="ru-RU" sz="3000" spc="-1" strike="noStrike" cap="all">
                <a:solidFill>
                  <a:srgbClr val="262626"/>
                </a:solidFill>
                <a:latin typeface="Century Gothic"/>
              </a:rPr>
              <a:t>: </a:t>
            </a:r>
            <a:r>
              <a:rPr b="1" lang="ru-RU" sz="3200" spc="-1" strike="noStrike" cap="all">
                <a:solidFill>
                  <a:srgbClr val="262626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0 повтор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4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Гиперэкстензи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ите 20 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5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Отжимания с подставкой под ног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те 20 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6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-отжима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ремя выполнения 30 секунд меняем ру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дых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53</TotalTime>
  <Application>LibreOffice/7.4.7.2$Linux_X86_64 LibreOffice_project/40$Build-2</Application>
  <AppVersion>15.0000</AppVersion>
  <Words>230</Words>
  <Paragraphs>3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1-26T10:47:29Z</dcterms:modified>
  <cp:revision>6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