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574-9005-49BC-9112-E54FC438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5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10F-4E4A-40F3-B17A-12A7DF95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71140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FCA-3BFC-4441-97EF-D1CFB963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D8E-358A-47B4-A183-BC7F18C5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DD993-BBFE-4A93-8A90-DDA3D84F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19B65-4D7E-4D86-AD9C-78B5EDD5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160E2-0003-4AE3-A200-7781F9DB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546B7-8987-4227-BBB8-E84E224F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8970C-3C98-4AEF-AA7E-DB91E38F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9956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BD72A-F49E-4A30-B6C9-6E41C366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DFF8D-503B-42DD-9B01-A46849BD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A4C-45AD-4837-B00F-37B9A8F2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140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074F6-3816-4754-8F49-D424250A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5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BED63-B459-4141-B923-A9DC416D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5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0CF3F-C0E3-4649-B142-BEB50F20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71140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5AA70-DA38-4B5A-A15B-278CDFF9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F5A09-797E-4CB2-8B01-CC656395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3A9-44E2-4208-9BD7-69F61939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FD0-3459-4589-AEE9-178B6C16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113E-E8C7-4A86-A0C8-E49B48DA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9956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3365-3C82-4A63-BB06-39FD63D4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6C9-785D-4F2E-8D62-E60DE76C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1140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02C-FD36-4962-98C7-92018F78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5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6B7-27BF-4A9A-8183-FAE1B219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1168380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1015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1198872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11785680" y="0"/>
            <a:ext cx="40608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118872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10875240" y="5715000"/>
            <a:ext cx="73116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8120" y="3124080"/>
            <a:ext cx="82292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10734120" y="1110600"/>
            <a:ext cx="2285640" cy="50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10046520" y="4117680"/>
            <a:ext cx="3657240" cy="5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507960" y="0"/>
            <a:ext cx="8125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368280" y="0"/>
            <a:ext cx="13932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1320840" y="0"/>
            <a:ext cx="24228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521720" y="0"/>
            <a:ext cx="30672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4148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121896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113868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230184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42236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121518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625760" y="0"/>
            <a:ext cx="1011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812880" y="3429000"/>
            <a:ext cx="1726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746000" y="4866840"/>
            <a:ext cx="85500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454760" y="5500800"/>
            <a:ext cx="18252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2219040" y="5788080"/>
            <a:ext cx="36540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2540160" y="4495680"/>
            <a:ext cx="48744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767240" y="4928760"/>
            <a:ext cx="8125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77F6076-8DFA-4A71-A0D4-F2CCA243CA0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1168380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1015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1198872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11785680" y="0"/>
            <a:ext cx="40608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118872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10875240" y="5715000"/>
            <a:ext cx="73116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10455120" y="1018080"/>
            <a:ext cx="2011320" cy="5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10838520" y="5734080"/>
            <a:ext cx="8125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BE1F56A-55C4-4FCE-B34F-FA31C365F94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9853920" y="3675960"/>
            <a:ext cx="3200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lifehacker.ru/2016/10/27/stanovaya-tyaga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89120" y="2527200"/>
            <a:ext cx="89150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 cap="small">
                <a:solidFill>
                  <a:srgbClr val="575f6d"/>
                </a:solidFill>
                <a:latin typeface="Century Schoolbook"/>
              </a:rPr>
              <a:t>Круговой метод тренировки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048120" y="50032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направленный на развитие основных групп мышц с дополнительным оборудованием (предмет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8: прыжки чрез козл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имнастические прыжки комплексно воздействуют на тело, повышая тонус мышц, гибкость и развивая чувство равновес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прыжо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7" name="Рисунок 5" descr=""/>
          <p:cNvPicPr/>
          <p:nvPr/>
        </p:nvPicPr>
        <p:blipFill>
          <a:blip r:embed="rId1"/>
          <a:stretch/>
        </p:blipFill>
        <p:spPr>
          <a:xfrm>
            <a:off x="4848120" y="3301920"/>
            <a:ext cx="73436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Содержание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Тяга гантели, стоя на одном коле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Отжимания в упоре сзад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)</a:t>
            </a:r>
            <a:r>
              <a:rPr b="0" lang="ru-RU" sz="2400" spc="-1" strike="noStrike" cap="all">
                <a:solidFill>
                  <a:srgbClr val="000000"/>
                </a:solidFill>
                <a:latin typeface="Century Schoolbook"/>
              </a:rPr>
              <a:t>РАЗГИБАНИЕ РУК С КАНАТНОЙ РУКОЯТЬЮ В КРОССОВЕРЕ СТО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)Отжимания с подставкой под ног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) Гиперэкстенз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6)Становая тяг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7) Т-отжим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8. Прыжки чрез коз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1: </a:t>
            </a: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Тяга гантели, стоя на одном колене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развития широчайших мышц спины, попутно вовлекаются трапециевидные мышцы, бицепсы, задние пучки дельт и предплечь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полнять упражнение в течение 30 секунд, затем поменяйте сторо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6477120" y="3137040"/>
            <a:ext cx="5714640" cy="37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2: </a:t>
            </a: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тжимания в упоре сзади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ля проработки трехглавых мышц плеча трицепс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0 повтор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9" name="Рисунок 5" descr=""/>
          <p:cNvPicPr/>
          <p:nvPr/>
        </p:nvPicPr>
        <p:blipFill>
          <a:blip r:embed="rId1"/>
          <a:stretch/>
        </p:blipFill>
        <p:spPr>
          <a:xfrm>
            <a:off x="5829480" y="2616120"/>
            <a:ext cx="636228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all">
                <a:solidFill>
                  <a:srgbClr val="575f6d"/>
                </a:solidFill>
                <a:latin typeface="Century Schoolbook"/>
              </a:rPr>
              <a:t>Упражнение 3</a:t>
            </a:r>
            <a:r>
              <a:rPr b="1" lang="ru-RU" sz="3000" spc="-1" strike="noStrike" cap="all">
                <a:solidFill>
                  <a:srgbClr val="575f6d"/>
                </a:solidFill>
                <a:latin typeface="Century Schoolbook"/>
              </a:rPr>
              <a:t>: </a:t>
            </a:r>
            <a:r>
              <a:rPr b="1" lang="ru-RU" sz="3200" spc="-1" strike="noStrike" cap="all">
                <a:solidFill>
                  <a:srgbClr val="575f6d"/>
                </a:solidFill>
                <a:latin typeface="Century Schoolbook"/>
              </a:rPr>
              <a:t>РАЗГИБАНИЕ РУК С КАНАТНОЙ РУКОЯТЬЮ В КРОССОВЕРЕ СТО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олированное упражнение для трицепсов, которое поможет сделать руки более рельефными и сильны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0 повтор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2" name="Рисунок 3" descr=""/>
          <p:cNvPicPr/>
          <p:nvPr/>
        </p:nvPicPr>
        <p:blipFill>
          <a:blip r:embed="rId1"/>
          <a:stretch/>
        </p:blipFill>
        <p:spPr>
          <a:xfrm>
            <a:off x="7581960" y="2487600"/>
            <a:ext cx="4609800" cy="43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4</a:t>
            </a: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: Отжимания с подставкой под ног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пражнение для развития верхней части тела — в особенности, грудных мышц и трицепсов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полните 20 раз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5" name="Рисунок 3" descr=""/>
          <p:cNvPicPr/>
          <p:nvPr/>
        </p:nvPicPr>
        <p:blipFill>
          <a:blip r:embed="rId1"/>
          <a:stretch/>
        </p:blipFill>
        <p:spPr>
          <a:xfrm>
            <a:off x="4940280" y="3147480"/>
            <a:ext cx="725148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5</a:t>
            </a: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: Гиперэкстензия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пражнение для развития выпрямителей спины, а также ягодичных мышц и сгибателей бедра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полните 20 раз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8" name="Рисунок 3" descr=""/>
          <p:cNvPicPr/>
          <p:nvPr/>
        </p:nvPicPr>
        <p:blipFill>
          <a:blip r:embed="rId1"/>
          <a:stretch/>
        </p:blipFill>
        <p:spPr>
          <a:xfrm>
            <a:off x="5168880" y="3040560"/>
            <a:ext cx="7022880" cy="381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6:</a:t>
            </a: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 Становая тяга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Становая тяг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прорабатывает заднюю сторону бедра, ягодицы и мышцы-разгибатели спи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полнить 10 раз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1" name="Рисунок 3" descr=""/>
          <p:cNvPicPr/>
          <p:nvPr/>
        </p:nvPicPr>
        <p:blipFill>
          <a:blip r:embed="rId2"/>
          <a:stretch/>
        </p:blipFill>
        <p:spPr>
          <a:xfrm>
            <a:off x="6642000" y="2651040"/>
            <a:ext cx="554940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6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7: </a:t>
            </a: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Т-отжимания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бинация классических отжиманий от пола с упражнением для развития боковых мышц живо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ремя выполнения 30 секунд меняем рук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дых мину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4" name="Рисунок 3" descr=""/>
          <p:cNvPicPr/>
          <p:nvPr/>
        </p:nvPicPr>
        <p:blipFill>
          <a:blip r:embed="rId1"/>
          <a:stretch/>
        </p:blipFill>
        <p:spPr>
          <a:xfrm>
            <a:off x="8089920" y="2527200"/>
            <a:ext cx="410184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76</TotalTime>
  <Application>LibreOffice/7.4.7.2$Linux_X86_64 LibreOffice_project/40$Build-2</Application>
  <AppVersion>15.0000</AppVersion>
  <Words>262</Words>
  <Paragraphs>44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6T09:54:19Z</dcterms:created>
  <dc:creator>Учетная запись Майкрософт</dc:creator>
  <dc:description/>
  <dc:language>en-US</dc:language>
  <cp:lastModifiedBy>Юля</cp:lastModifiedBy>
  <dcterms:modified xsi:type="dcterms:W3CDTF">2020-11-27T12:45:22Z</dcterms:modified>
  <cp:revision>10</cp:revision>
  <dc:subject/>
  <dc:title>Круговой метод трениров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0</vt:r8>
  </property>
</Properties>
</file>