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6B2-6927-4474-B484-3DABFBF0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FE7-E366-4A7A-BC20-9F7AD67B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327-AF7E-40C5-855C-B73AE31B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186-2A35-42DD-98BF-A4AF318A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8E2A3-2398-4719-8101-5C313D61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30C82-BE86-44B9-8493-AB79A79B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62CCD-AF5E-461A-9E81-3965CC8C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9BA95-19D4-4E78-A5BD-F1DC685A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36745-C98B-42A8-8BB9-47289A1B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9956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BCCC6-FCE8-4F6B-B1E9-A2EFB98E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E97A0-436E-4316-9E66-C4C631D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C02-C986-4F56-B770-3706D300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E9343-56D5-483D-BE4A-282F1CF8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4D550-4C10-4D37-B67F-1276C1A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8536B-E2B1-4B97-9992-DD1CF5A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0650D-9E43-4C35-8B04-5E4AAB02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D4CB5-0AB4-4634-9190-F116533A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3EB-D399-47CF-8508-C00C641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FA5-8384-4C89-8573-07788BBA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231-807A-4CB2-9D87-34177F00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9956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D8F-E6F2-430C-9F56-4F72EDD2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7D8-9122-4AAF-87BF-68D64CB4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11400" y="414612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0D8-76DD-4FF5-88E0-403EB5D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11400" y="1600200"/>
            <a:ext cx="485856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5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E51-826C-46A4-AA75-992B9C4A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1168380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1015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1198872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11785680" y="0"/>
            <a:ext cx="40608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118872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10875240" y="5715000"/>
            <a:ext cx="73116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8120" y="3124080"/>
            <a:ext cx="82292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734120" y="1110600"/>
            <a:ext cx="2285640" cy="50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10046520" y="4117680"/>
            <a:ext cx="3657240" cy="5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507960" y="0"/>
            <a:ext cx="8125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368280" y="0"/>
            <a:ext cx="13932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1320840" y="0"/>
            <a:ext cx="24228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521720" y="0"/>
            <a:ext cx="30672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4148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121896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113868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230184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42236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121518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625760" y="0"/>
            <a:ext cx="1011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812880" y="3429000"/>
            <a:ext cx="1726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746000" y="4866840"/>
            <a:ext cx="85500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454760" y="5500800"/>
            <a:ext cx="18252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2219040" y="5788080"/>
            <a:ext cx="36540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2540160" y="4495680"/>
            <a:ext cx="48744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767240" y="4928760"/>
            <a:ext cx="8125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47BB8A6-0A26-4D36-A916-B4A3587598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1168380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1015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1198872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11785680" y="0"/>
            <a:ext cx="40608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118872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10875240" y="5715000"/>
            <a:ext cx="73116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10455120" y="1018080"/>
            <a:ext cx="2011320" cy="5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10838520" y="5734080"/>
            <a:ext cx="8125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F9EF774-4658-4784-AAF0-C67C238E458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9853920" y="3675960"/>
            <a:ext cx="3200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lifehacker.ru/2016/10/27/stanovaya-tyaga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89120" y="2527200"/>
            <a:ext cx="89150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small">
                <a:solidFill>
                  <a:srgbClr val="575f6d"/>
                </a:solidFill>
                <a:latin typeface="Century Schoolbook"/>
              </a:rPr>
              <a:t>Круговой метод тренировки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48120" y="5003280"/>
            <a:ext cx="82292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направленный на развитие основных групп мышц с дополнительным оборудованием (предме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8: прыжки чрез козл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имнастические прыжки комплексно воздействуют на тело, повышая тонус мышц, гибкость и развивая чувство равновес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прыж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7" name="Рисунок 5" descr=""/>
          <p:cNvPicPr/>
          <p:nvPr/>
        </p:nvPicPr>
        <p:blipFill>
          <a:blip r:embed="rId1"/>
          <a:stretch/>
        </p:blipFill>
        <p:spPr>
          <a:xfrm>
            <a:off x="4848120" y="3301920"/>
            <a:ext cx="73436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Содержание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Тяга гантели, стоя на одном коле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Отжимания в упоре сзад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ru-RU" sz="2400" spc="-1" strike="noStrike" cap="all">
                <a:solidFill>
                  <a:srgbClr val="000000"/>
                </a:solidFill>
                <a:latin typeface="Century Schoolbook"/>
              </a:rPr>
              <a:t>РАЗГИБАНИЕ РУК С КАНАТНОЙ РУКОЯТЬЮ В КРОССОВЕРЕ СТО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Отжимания с подставкой под н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) Гиперэкстенз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)Становая тяг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7) Т-отжим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8. Прыжки чрез коз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1: 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Тяга гантели, стоя на одном колене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развития широчайших мышц спины, попутно вовлекаются трапециевидные мышцы, бицепсы, задние пучки дельт и предплечь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ять упражнение в течение 30 секунд, затем поменяйте сторо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6477120" y="3137040"/>
            <a:ext cx="5714640" cy="37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2: 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тжимания в упоре сзади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ля проработки трехглавых мышц плеча трицепс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0 повтор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9" name="Рисунок 5" descr=""/>
          <p:cNvPicPr/>
          <p:nvPr/>
        </p:nvPicPr>
        <p:blipFill>
          <a:blip r:embed="rId1"/>
          <a:stretch/>
        </p:blipFill>
        <p:spPr>
          <a:xfrm>
            <a:off x="5829480" y="2616120"/>
            <a:ext cx="636228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all">
                <a:solidFill>
                  <a:srgbClr val="575f6d"/>
                </a:solidFill>
                <a:latin typeface="Century Schoolbook"/>
              </a:rPr>
              <a:t>Упражнение 3</a:t>
            </a:r>
            <a:r>
              <a:rPr b="1" lang="ru-RU" sz="3000" spc="-1" strike="noStrike" cap="all">
                <a:solidFill>
                  <a:srgbClr val="575f6d"/>
                </a:solidFill>
                <a:latin typeface="Century Schoolbook"/>
              </a:rPr>
              <a:t>: </a:t>
            </a:r>
            <a:r>
              <a:rPr b="1" lang="ru-RU" sz="3200" spc="-1" strike="noStrike" cap="all">
                <a:solidFill>
                  <a:srgbClr val="575f6d"/>
                </a:solidFill>
                <a:latin typeface="Century Schoolbook"/>
              </a:rPr>
              <a:t>РАЗГИБАНИЕ РУК С КАНАТНОЙ РУКОЯТЬЮ В КРОССОВЕРЕ СТО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олированное упражнение для трицепсов, которое поможет сделать руки более рельефными и сильны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0 повтор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7581960" y="2487600"/>
            <a:ext cx="4609800" cy="43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4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: Отжимания с подставкой под ног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е для развития верхней части тела — в особенности, грудных мышц и трицепсов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е 20 р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4940280" y="3147480"/>
            <a:ext cx="72514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5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: Гиперэкстензи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ражнение для развития выпрямителей спины, а также ягодичных мышц и сгибателей бедра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е 20 р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8" name="Рисунок 3" descr=""/>
          <p:cNvPicPr/>
          <p:nvPr/>
        </p:nvPicPr>
        <p:blipFill>
          <a:blip r:embed="rId1"/>
          <a:stretch/>
        </p:blipFill>
        <p:spPr>
          <a:xfrm>
            <a:off x="5168880" y="3040560"/>
            <a:ext cx="7022880" cy="38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6: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 Становая тяга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Становая тяг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прорабатывает заднюю сторону бедра, ягодицы и мышцы-разгибатели спи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ь 10 ра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инута отды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6642000" y="2651040"/>
            <a:ext cx="554940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9956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6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Упражнение 7: </a:t>
            </a: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Т-отжимания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5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бинация классических отжиманий от пола с упражнением для развития боковых мышц живо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я выполнения 30 секунд меняем рук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дых мину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8089920" y="2527200"/>
            <a:ext cx="410184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76</TotalTime>
  <Application>LibreOffice/7.4.7.2$Linux_X86_64 LibreOffice_project/40$Build-2</Application>
  <AppVersion>15.0000</AppVersion>
  <Words>262</Words>
  <Paragraphs>4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6T09:54:19Z</dcterms:created>
  <dc:creator>Учетная запись Майкрософт</dc:creator>
  <dc:description/>
  <dc:language>en-US</dc:language>
  <cp:lastModifiedBy>Юля</cp:lastModifiedBy>
  <dcterms:modified xsi:type="dcterms:W3CDTF">2020-11-27T12:45:22Z</dcterms:modified>
  <cp:revision>10</cp:revision>
  <dc:subject/>
  <dc:title>Круговой метод трениро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0</vt:r8>
  </property>
</Properties>
</file>