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FAE-85A5-4627-9D3E-C8BE45BB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5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C3A-7A9E-4E7C-8E30-54EE75F9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71140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9BF-0E62-482C-B945-4809FDF0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1CE3-879B-4F61-9906-418F3449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13B56-EEB8-4FF2-8CE7-73829907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49B9E-B8E3-4E73-B6DD-F04C4F30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A1A22-7662-4E47-9E08-5495C95D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91241-89BA-4537-AACC-31BC205A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B9D65-3100-4B22-9299-8703D4CD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9956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05C1B-9A10-4BE4-B4BA-57DC25CF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67A12-6E47-42F0-A7D8-5703738D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DC4-60BA-4D08-9897-3C203096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140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4B938-4593-4FA4-B7CC-D8061AB7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5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CD0EB-ECDB-4CBD-B263-7CAF3491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5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A64BA-5B71-448C-AA1B-F481A4AF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71140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0F60A-09F3-4BE5-96A3-0976DC39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E5026-98A2-47A0-BAFC-DF3500E1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96E-8189-4D42-9E98-F1B6ACDF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85F-DCB4-414A-B380-76E3217E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324-30BC-4154-B3D0-3993D416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9956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6833-1F60-4DBC-B456-8AEB6B2F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5D01-E54A-414C-91D2-298E985B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1140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A3C5-C4D5-4E9E-9774-CFE37805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5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2E2-0C34-4062-8D1F-4C1B8387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1168380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1015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1198872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11785680" y="0"/>
            <a:ext cx="40608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118872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10875240" y="5715000"/>
            <a:ext cx="73116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8120" y="3124080"/>
            <a:ext cx="82292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10734120" y="1110600"/>
            <a:ext cx="2285640" cy="50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10046520" y="4117680"/>
            <a:ext cx="3657240" cy="5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507960" y="0"/>
            <a:ext cx="8125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368280" y="0"/>
            <a:ext cx="13932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1320840" y="0"/>
            <a:ext cx="24228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521720" y="0"/>
            <a:ext cx="30672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4148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121896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113868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230184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42236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121518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625760" y="0"/>
            <a:ext cx="1011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812880" y="3429000"/>
            <a:ext cx="1726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746000" y="4866840"/>
            <a:ext cx="85500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454760" y="5500800"/>
            <a:ext cx="18252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2219040" y="5788080"/>
            <a:ext cx="36540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2540160" y="4495680"/>
            <a:ext cx="48744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767240" y="4928760"/>
            <a:ext cx="8125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DFBE4DA-F960-4F08-908F-BDE0BAD8EBE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1168380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1015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1198872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11785680" y="0"/>
            <a:ext cx="40608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118872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10875240" y="5715000"/>
            <a:ext cx="73116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10455120" y="1018080"/>
            <a:ext cx="2011320" cy="5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10838520" y="5734080"/>
            <a:ext cx="8125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06D5FAA-BD80-42EF-9A68-37BFF61F048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9853920" y="3675960"/>
            <a:ext cx="3200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lifehacker.ru/2016/10/27/stanovaya-tyaga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89120" y="2527200"/>
            <a:ext cx="89150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 cap="small">
                <a:solidFill>
                  <a:srgbClr val="575f6d"/>
                </a:solidFill>
                <a:latin typeface="Century Schoolbook"/>
              </a:rPr>
              <a:t>Круговой метод тренировки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048120" y="50032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направленный на развитие основных групп мышц с дополнительным оборудованием (предмет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8: прыжки чрез козл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имнастические прыжки комплексно воздействуют на тело, повышая тонус мышц, гибкость и развивая чувство равновес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прыжо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7" name="Рисунок 5" descr=""/>
          <p:cNvPicPr/>
          <p:nvPr/>
        </p:nvPicPr>
        <p:blipFill>
          <a:blip r:embed="rId1"/>
          <a:stretch/>
        </p:blipFill>
        <p:spPr>
          <a:xfrm>
            <a:off x="4848120" y="3301920"/>
            <a:ext cx="73436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Содержание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Тяга гантели, стоя на одном коле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Отжимания в упоре сзад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)</a:t>
            </a:r>
            <a:r>
              <a:rPr b="0" lang="ru-RU" sz="2400" spc="-1" strike="noStrike" cap="all">
                <a:solidFill>
                  <a:srgbClr val="000000"/>
                </a:solidFill>
                <a:latin typeface="Century Schoolbook"/>
              </a:rPr>
              <a:t>РАЗГИБАНИЕ РУК С КАНАТНОЙ РУКОЯТЬЮ В КРОССОВЕРЕ СТО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)Отжимания с подставкой под ног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) Гиперэкстенз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6)Становая тяг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7) Т-отжим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8. Прыжки чрез коз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1: </a:t>
            </a: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Тяга гантели, стоя на одном колене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развития широчайших мышц спины, попутно вовлекаются трапециевидные мышцы, бицепсы, задние пучки дельт и предплечь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полнять упражнение в течение 30 секунд, затем поменяйте сторо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6477120" y="3137040"/>
            <a:ext cx="5714640" cy="37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2: </a:t>
            </a: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тжимания в упоре сзади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ля проработки трехглавых мышц плеча трицепс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0 повтор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9" name="Рисунок 5" descr=""/>
          <p:cNvPicPr/>
          <p:nvPr/>
        </p:nvPicPr>
        <p:blipFill>
          <a:blip r:embed="rId1"/>
          <a:stretch/>
        </p:blipFill>
        <p:spPr>
          <a:xfrm>
            <a:off x="5829480" y="2616120"/>
            <a:ext cx="636228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all">
                <a:solidFill>
                  <a:srgbClr val="575f6d"/>
                </a:solidFill>
                <a:latin typeface="Century Schoolbook"/>
              </a:rPr>
              <a:t>Упражнение 3</a:t>
            </a:r>
            <a:r>
              <a:rPr b="1" lang="ru-RU" sz="3000" spc="-1" strike="noStrike" cap="all">
                <a:solidFill>
                  <a:srgbClr val="575f6d"/>
                </a:solidFill>
                <a:latin typeface="Century Schoolbook"/>
              </a:rPr>
              <a:t>: </a:t>
            </a:r>
            <a:r>
              <a:rPr b="1" lang="ru-RU" sz="3200" spc="-1" strike="noStrike" cap="all">
                <a:solidFill>
                  <a:srgbClr val="575f6d"/>
                </a:solidFill>
                <a:latin typeface="Century Schoolbook"/>
              </a:rPr>
              <a:t>РАЗГИБАНИЕ РУК С КАНАТНОЙ РУКОЯТЬЮ В КРОССОВЕРЕ СТО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олированное упражнение для трицепсов, которое поможет сделать руки более рельефными и сильны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0 повтор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2" name="Рисунок 3" descr=""/>
          <p:cNvPicPr/>
          <p:nvPr/>
        </p:nvPicPr>
        <p:blipFill>
          <a:blip r:embed="rId1"/>
          <a:stretch/>
        </p:blipFill>
        <p:spPr>
          <a:xfrm>
            <a:off x="7581960" y="2487600"/>
            <a:ext cx="4609800" cy="43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4</a:t>
            </a: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: Отжимания с подставкой под ног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пражнение для развития верхней части тела — в особенности, грудных мышц и трицепсов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полните 20 раз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5" name="Рисунок 3" descr=""/>
          <p:cNvPicPr/>
          <p:nvPr/>
        </p:nvPicPr>
        <p:blipFill>
          <a:blip r:embed="rId1"/>
          <a:stretch/>
        </p:blipFill>
        <p:spPr>
          <a:xfrm>
            <a:off x="4940280" y="3147480"/>
            <a:ext cx="725148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5</a:t>
            </a: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: Гиперэкстензия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пражнение для развития выпрямителей спины, а также ягодичных мышц и сгибателей бедра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полните 20 раз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8" name="Рисунок 3" descr=""/>
          <p:cNvPicPr/>
          <p:nvPr/>
        </p:nvPicPr>
        <p:blipFill>
          <a:blip r:embed="rId1"/>
          <a:stretch/>
        </p:blipFill>
        <p:spPr>
          <a:xfrm>
            <a:off x="5168880" y="3040560"/>
            <a:ext cx="7022880" cy="381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6:</a:t>
            </a: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 Становая тяга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Становая тяг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прорабатывает заднюю сторону бедра, ягодицы и мышцы-разгибатели спи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полнить 10 раз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1" name="Рисунок 3" descr=""/>
          <p:cNvPicPr/>
          <p:nvPr/>
        </p:nvPicPr>
        <p:blipFill>
          <a:blip r:embed="rId2"/>
          <a:stretch/>
        </p:blipFill>
        <p:spPr>
          <a:xfrm>
            <a:off x="6642000" y="2651040"/>
            <a:ext cx="554940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6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7: </a:t>
            </a: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Т-отжимания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бинация классических отжиманий от пола с упражнением для развития боковых мышц живо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ремя выполнения 30 секунд меняем рук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дых мину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4" name="Рисунок 3" descr=""/>
          <p:cNvPicPr/>
          <p:nvPr/>
        </p:nvPicPr>
        <p:blipFill>
          <a:blip r:embed="rId1"/>
          <a:stretch/>
        </p:blipFill>
        <p:spPr>
          <a:xfrm>
            <a:off x="8089920" y="2527200"/>
            <a:ext cx="410184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76</TotalTime>
  <Application>LibreOffice/7.4.7.2$Linux_X86_64 LibreOffice_project/40$Build-2</Application>
  <AppVersion>15.0000</AppVersion>
  <Words>262</Words>
  <Paragraphs>44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6T09:54:19Z</dcterms:created>
  <dc:creator>Учетная запись Майкрософт</dc:creator>
  <dc:description/>
  <dc:language>en-US</dc:language>
  <cp:lastModifiedBy>Юля</cp:lastModifiedBy>
  <dcterms:modified xsi:type="dcterms:W3CDTF">2020-11-27T12:45:22Z</dcterms:modified>
  <cp:revision>10</cp:revision>
  <dc:subject/>
  <dc:title>Круговой метод трениров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0</vt:r8>
  </property>
</Properties>
</file>