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E1-8BCC-4CDC-AE39-40A6E6FA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DA6-A70E-4042-8537-B4CE487E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714-B679-4898-9663-ADD7DEA2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729-FDFB-49F1-9724-D6DB8DDB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25F-47CB-4AAB-A5D5-F18FD2CF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A38B-DE70-4823-AEDB-6B2C43E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8FC-925B-4C31-9BD0-AD122E98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8A7-C7C0-46B6-90D1-BD1EE81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A76-C9A0-4FD3-82E5-49A8F55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6FCF-67EB-4A10-85EF-A9D40930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451E-8AEA-472E-92BE-5E560F9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6E4-C2AD-4F60-961F-C0DC6F7C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1B2D-0579-47CA-8DE5-CE91CE5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620E-BAB7-4B47-AB8D-E61D8B8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25C7-10E9-4AAB-9B97-61A472A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BB1E-D6AA-4208-97B3-82949312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7A7E-1260-47E2-8931-E4C08AA2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CA1-E5CD-43F6-A4DA-EEDBDB4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845-EC45-4D6E-9272-BFE01E91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6DE-AD0B-40B2-8D62-F8B5B945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296-61D0-40F4-AA01-1953959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0F8-0757-46F3-9211-3E65E9F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0FD-9FA5-49A3-80C8-4950653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7AB-9A10-41CA-A94D-B7359381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EEA249-2D69-443C-A52E-0995789F8DDF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DC9ED0-DA15-4AF0-90AF-A52864FBD90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26064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снова тактики игры в волейбол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895640" y="4509000"/>
            <a:ext cx="424800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ыполнил студент 2 курса Об-ФКДО-2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гданов Никита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04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актика волейбола - это умения и разумная организация всех действий игроков с целью выйти победителем в игре. Все действия игроков в волейболе делятся на две категории: защитные и нападающие действ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32840" y="2987280"/>
            <a:ext cx="58158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79640" y="1268640"/>
            <a:ext cx="5976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любительском классическом волейболе игроки обычно стоят на следующих позициях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 номер — подача и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 номер — игрок под сеткой. В его обязанности входит пас и блок. В приеме не участвует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4 номер — нападение и блок. Реже — прием близкой подач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5 номер — защита в приеме и при нападении. Может нападать только из-за линии напа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78440" indent="-3589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6 номер — либеро. Главный защитник команд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55640" y="836640"/>
            <a:ext cx="446400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1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4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десь имеем четырёх нападающих и двух связующих. Связующие пасуют из 2-3 номера, находясь по диагонали друг от друга. Двое основных нападающих располагаются на первой линии в номерах 2 и 4. Это достаточно популярный вариант в любительском волейболе, только при использовании одного связующего под сетко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08320" indent="-38124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достатки такой расстановки: нападение всегда атакует из одной и той же точки рядом с сеткой, и его легко заблокировать; сложно иметь в команде целых двух связующих, т.к. эта специальность в волейболе дефицитная; игрокам задней линии сложно ударить по мячу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10933" t="27092" r="0" b="26052"/>
          <a:stretch/>
        </p:blipFill>
        <p:spPr>
          <a:xfrm>
            <a:off x="0" y="5085360"/>
            <a:ext cx="4598280" cy="181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67640" y="908640"/>
            <a:ext cx="583236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сстановка «6 — 2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51440" indent="-33840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ариант аналогичен «4 — 2». Отличие в том, что связующий, находясь на передней линии, становится сразу и нападающим. Т.о. на передней линии играют трое нападающих. Второй связующий выходит с задней линии на пас. После перехода они меняются местами, здесь кроется минус этой расстановки. Два игрока в команде должны обладать серьёзной подготовкой связующего и нападающего, а игроков такого уровня найти непросто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27421" t="24037" r="22272" b="18583"/>
          <a:stretch/>
        </p:blipFill>
        <p:spPr>
          <a:xfrm>
            <a:off x="-35640" y="4333320"/>
            <a:ext cx="29509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3640" y="2493000"/>
            <a:ext cx="59144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пасибо за внимание!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5</TotalTime>
  <Application>LibreOffice/7.4.7.2$Linux_X86_64 LibreOffice_project/40$Build-2</Application>
  <AppVersion>15.0000</AppVersion>
  <Words>333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09:15:08Z</dcterms:created>
  <dc:creator>HOME</dc:creator>
  <dc:description/>
  <dc:language>en-US</dc:language>
  <cp:lastModifiedBy>Компьютер</cp:lastModifiedBy>
  <dcterms:modified xsi:type="dcterms:W3CDTF">2020-11-29T12:00:57Z</dcterms:modified>
  <cp:revision>3</cp:revision>
  <dc:subject/>
  <dc:title>Основа тактики игры в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