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7CCD-96FB-4365-BC70-5B095145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0F72-101F-4AA4-8071-A6D77E2E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77A-326D-4979-A115-55D7EF82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E444-F205-45A8-9381-BEE7AA42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613F-E70E-4BFB-83CD-131B4FAC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8CFE-191B-43A5-8A37-27D4CB3C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6B01-1A28-4FE0-899B-4579FA18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3C57-1F8A-45B7-B556-7F919CEF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2336-662F-497F-8326-DA37CB42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DD8B-DE4B-461C-99DC-EA1F70FF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0353-892D-4D9D-8951-61FD7528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7C54-932B-40BC-9B96-6897423A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2035-CEF8-4894-A027-B8001724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73EC-DF0B-4E59-AD9E-58B4FE41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922C-CA28-4280-B5EB-8A7E2B3A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1F15-B315-4C12-BC73-DA2874CF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20FA-E2AB-4E81-8562-CD0D38CB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7A98-1560-4441-8F37-E42B9C2A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AD3-6CE3-46C8-A35B-A7651B0E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1BE1-52CC-4665-975B-1B21C4FC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CD4-5955-44C0-8625-6259DC0E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C47E-220C-49A5-872A-E97742E6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DB9-3204-44E6-A5AA-41C994A1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8E5-DAAA-4466-8279-8D537828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F0858E-842E-4800-9F2A-C1F3CFBC0CED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B6733C-1C78-4FCA-B9DA-BE331935511B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9640" y="26064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снова тактики игры в волейбол</a:t>
            </a:r>
            <a:endParaRPr b="0" lang="ru-RU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895640" y="4509000"/>
            <a:ext cx="4248000" cy="13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ыполнил студент 2 курса Об-ФКДО-2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Богданов Никита Андр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979640" y="1268640"/>
            <a:ext cx="590436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актика волейбола - это умения и разумная организация всех действий игроков с целью выйти победителем в игре. Все действия игроков в волейболе делятся на две категории: защитные и нападающие действия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932840" y="2987280"/>
            <a:ext cx="581580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979640" y="1268640"/>
            <a:ext cx="597636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8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любительском классическом волейболе игроки обычно стоят на следующих позициях: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78440" indent="-3589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1 номер — подача и защита в приеме и при нападении. Может нападать только из-за линии нападения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78440" indent="-3589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2 номер — нападение и блок. Реже — прием близкой подачи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78440" indent="-3589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3 номер — игрок под сеткой. В его обязанности входит пас и блок. В приеме не участвует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78440" indent="-3589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4 номер — нападение и блок. Реже — прием близкой подачи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78440" indent="-3589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5 номер — защита в приеме и при нападении. Может нападать только из-за линии нападения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78440" indent="-3589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6 номер — либеро. Главный защитник команды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55640" y="836640"/>
            <a:ext cx="446400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1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Расстановка «4 — 2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08320" indent="-3812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Здесь имеем четырёх нападающих и двух связующих. Связующие пасуют из 2-3 номера, находясь по диагонали друг от друга. Двое основных нападающих располагаются на первой линии в номерах 2 и 4. Это достаточно популярный вариант в любительском волейболе, только при использовании одного связующего под сеткой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08320" indent="-3812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едостатки такой расстановки: нападение всегда атакует из одной и той же точки рядом с сеткой, и его легко заблокировать; сложно иметь в команде целых двух связующих, т.к. эта специальность в волейболе дефицитная; игрокам задней линии сложно ударить по мячу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rcRect l="10933" t="27092" r="0" b="26052"/>
          <a:stretch/>
        </p:blipFill>
        <p:spPr>
          <a:xfrm>
            <a:off x="0" y="5085360"/>
            <a:ext cx="4598280" cy="181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67640" y="908640"/>
            <a:ext cx="583236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Расстановка «6 — 2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51440" indent="-3384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ариант аналогичен «4 — 2». Отличие в том, что связующий, находясь на передней линии, становится сразу и нападающим. Т.о. на передней линии играют трое нападающих. Второй связующий выходит с задней линии на пас. После перехода они меняются местами, здесь кроется минус этой расстановки. Два игрока в команде должны обладать серьёзной подготовкой связующего и нападающего, а игроков такого уровня найти непросто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rcRect l="27421" t="24037" r="22272" b="18583"/>
          <a:stretch/>
        </p:blipFill>
        <p:spPr>
          <a:xfrm>
            <a:off x="-35640" y="4333320"/>
            <a:ext cx="29509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23640" y="2493000"/>
            <a:ext cx="59144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Спасибо за внимание!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5</TotalTime>
  <Application>LibreOffice/7.4.7.2$Linux_X86_64 LibreOffice_project/40$Build-2</Application>
  <AppVersion>15.0000</AppVersion>
  <Words>333</Words>
  <Paragraphs>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7T09:15:08Z</dcterms:created>
  <dc:creator>HOME</dc:creator>
  <dc:description/>
  <dc:language>en-US</dc:language>
  <cp:lastModifiedBy>Компьютер</cp:lastModifiedBy>
  <dcterms:modified xsi:type="dcterms:W3CDTF">2020-11-29T12:00:57Z</dcterms:modified>
  <cp:revision>3</cp:revision>
  <dc:subject/>
  <dc:title>Основа тактики игры в волейбо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