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C610-9410-48C7-B8D7-275F98CA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EDB6-8212-45E0-8321-CE107DD2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3CC7-78F5-401A-826E-5FF48B17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346-F5CF-4FF7-AFEA-24D2709E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AC8B-FEC0-4267-A3C3-7E3F0689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7A28-E57A-4F1A-B090-3B3462B0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2F9E-1A8C-49C4-AF8A-D0AB3F7C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3508-DC4F-4A7B-9220-CE5916FD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D756-F61D-4C80-8AB6-927AE916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5562-7DDE-4CB4-929E-40A51D99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9405-DC74-4B8B-9F92-657D557C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3CCD-F8F1-46F3-804E-7226238B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1B85-A781-4DAD-AD9F-6DF3E234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CD57-E1BA-4800-93A4-4EB68B0F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A46E-D85C-4C5E-AFD3-DB709F2B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3409-B531-465B-BCC6-97CAE212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EDB2-8F02-4BAA-AC37-9BEE1D37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B30D-4675-41A6-B566-537CBF87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8FF-A4D3-42D3-8F71-E13A49AA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7881-2641-466C-8876-E4F4DC17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46B-BAD5-4A32-BF17-1A79DACA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AAF-8DB2-4019-8A9E-5CB00C83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D53-62F0-4F56-A591-CE9CA7C5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964D-4D4D-47D7-AF01-8EC8782A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058EFC-9CF8-478E-B640-8E8462BF0A5F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069458-67EA-473B-9E0D-BDE6D2EEAA92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9640" y="26064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снова тактики игры в волейбол</a:t>
            </a:r>
            <a:endParaRPr b="0" lang="ru-RU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895640" y="4509000"/>
            <a:ext cx="4248000" cy="13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ыполнил студент 2 курса Об-ФКДО-2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Богданов Никита Андр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979640" y="1268640"/>
            <a:ext cx="590436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актика волейбола - это умения и разумная организация всех действий игроков с целью выйти победителем в игре. Все действия игроков в волейболе делятся на две категории: защитные и нападающие действия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932840" y="2987280"/>
            <a:ext cx="581580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979640" y="1268640"/>
            <a:ext cx="597636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8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любительском классическом волейболе игроки обычно стоят на следующих позициях: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78440" indent="-3589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1 номер — подача и защита в приеме и при нападении. Может нападать только из-за линии нападения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78440" indent="-3589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2 номер — нападение и блок. Реже — прием близкой подачи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78440" indent="-3589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3 номер — игрок под сеткой. В его обязанности входит пас и блок. В приеме не участвует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78440" indent="-3589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4 номер — нападение и блок. Реже — прием близкой подачи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78440" indent="-3589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5 номер — защита в приеме и при нападении. Может нападать только из-за линии нападения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78440" indent="-3589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6 номер — либеро. Главный защитник команды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55640" y="836640"/>
            <a:ext cx="446400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1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Расстановка «4 — 2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08320" indent="-3812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Здесь имеем четырёх нападающих и двух связующих. Связующие пасуют из 2-3 номера, находясь по диагонали друг от друга. Двое основных нападающих располагаются на первой линии в номерах 2 и 4. Это достаточно популярный вариант в любительском волейболе, только при использовании одного связующего под сеткой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08320" indent="-3812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едостатки такой расстановки: нападение всегда атакует из одной и той же точки рядом с сеткой, и его легко заблокировать; сложно иметь в команде целых двух связующих, т.к. эта специальность в волейболе дефицитная; игрокам задней линии сложно ударить по мячу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rcRect l="10933" t="27092" r="0" b="26052"/>
          <a:stretch/>
        </p:blipFill>
        <p:spPr>
          <a:xfrm>
            <a:off x="0" y="5085360"/>
            <a:ext cx="4598280" cy="181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67640" y="908640"/>
            <a:ext cx="583236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Расстановка «6 — 2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51440" indent="-3384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ариант аналогичен «4 — 2». Отличие в том, что связующий, находясь на передней линии, становится сразу и нападающим. Т.о. на передней линии играют трое нападающих. Второй связующий выходит с задней линии на пас. После перехода они меняются местами, здесь кроется минус этой расстановки. Два игрока в команде должны обладать серьёзной подготовкой связующего и нападающего, а игроков такого уровня найти непросто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rcRect l="27421" t="24037" r="22272" b="18583"/>
          <a:stretch/>
        </p:blipFill>
        <p:spPr>
          <a:xfrm>
            <a:off x="-35640" y="4333320"/>
            <a:ext cx="29509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23640" y="2493000"/>
            <a:ext cx="59144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Спасибо за внимание!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5</TotalTime>
  <Application>LibreOffice/7.4.7.2$Linux_X86_64 LibreOffice_project/40$Build-2</Application>
  <AppVersion>15.0000</AppVersion>
  <Words>333</Words>
  <Paragraphs>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7T09:15:08Z</dcterms:created>
  <dc:creator>HOME</dc:creator>
  <dc:description/>
  <dc:language>en-US</dc:language>
  <cp:lastModifiedBy>Компьютер</cp:lastModifiedBy>
  <dcterms:modified xsi:type="dcterms:W3CDTF">2020-11-29T12:00:57Z</dcterms:modified>
  <cp:revision>3</cp:revision>
  <dc:subject/>
  <dc:title>Основа тактики игры в волейбо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