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9D0-0486-42C5-BB57-B42DB733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086-6E88-4E5C-961F-4568FDB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59E-940F-4A34-A20A-71D4EBE1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53E-5F88-4831-824C-7F945B86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18E-F7D6-42DF-B673-BEC9B26E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3D1-BDAA-4FA7-B1BC-22B8AA49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7658-54ED-4715-9BBA-31B6FAE4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C257-E4B3-4997-BDF7-2DF71F7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D8C-F233-41FA-B2D1-5EF64E6D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442-F836-4AA8-94E0-AF1CC2F9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E06C-A321-4BD5-97DD-820FD3B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A97-771D-4BAC-837E-707B3C1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1AE6-CAA0-4821-B6B1-ECB822B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5307-25D0-4F15-AC38-0BBEFBD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86E2-A7B4-448F-ADA2-D81CE9A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23E2-ADEE-4A59-80D6-CA6967D7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4C09-9377-4433-806F-025E29E9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C42-A069-4D79-940F-0564FCB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D6F-EDE2-4A9E-B363-F9B1C5F1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E99-1DE3-4D9B-8438-0BA87838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266-3B88-45B9-B9A9-108FA924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389-4BA1-4C72-9147-473C0CA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D1E-049C-4B50-A69B-DA350FB1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0B5-1FAD-4301-BA96-80EADC8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D3784-686D-467C-AE7B-A3C59C738F00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2FB1B5-3223-4865-B8E0-597C3CB80893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3"/>
          <p:cNvSpPr/>
          <p:nvPr/>
        </p:nvSpPr>
        <p:spPr>
          <a:xfrm>
            <a:off x="2286000" y="3105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OR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72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CaixaDeTexto 4"/>
          <p:cNvSpPr/>
          <p:nvPr/>
        </p:nvSpPr>
        <p:spPr>
          <a:xfrm>
            <a:off x="2267640" y="1954800"/>
            <a:ext cx="4608000" cy="27709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 </a:t>
            </a: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LITTLE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&amp; FE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tângulo 1"/>
          <p:cNvSpPr/>
          <p:nvPr/>
        </p:nvSpPr>
        <p:spPr>
          <a:xfrm>
            <a:off x="0" y="2565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mushrooms in my mushroom soup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2"/>
          <p:cNvSpPr/>
          <p:nvPr/>
        </p:nvSpPr>
        <p:spPr>
          <a:xfrm>
            <a:off x="4716000" y="251856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053480" y="260640"/>
            <a:ext cx="189252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23640" y="4437000"/>
            <a:ext cx="1992960" cy="19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252108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animals can survive in the des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2"/>
          <p:cNvSpPr/>
          <p:nvPr/>
        </p:nvSpPr>
        <p:spPr>
          <a:xfrm>
            <a:off x="61164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rcRect l="0" t="0" r="0" b="9220"/>
          <a:stretch/>
        </p:blipFill>
        <p:spPr>
          <a:xfrm>
            <a:off x="231480" y="4797000"/>
            <a:ext cx="3423960" cy="188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012000" y="260640"/>
            <a:ext cx="289512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256500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e had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snow last win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2"/>
          <p:cNvSpPr/>
          <p:nvPr/>
        </p:nvSpPr>
        <p:spPr>
          <a:xfrm>
            <a:off x="298800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23640" y="4114080"/>
            <a:ext cx="2376000" cy="237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0" t="0" r="0" b="6137"/>
          <a:stretch/>
        </p:blipFill>
        <p:spPr>
          <a:xfrm>
            <a:off x="6876360" y="332640"/>
            <a:ext cx="1828440" cy="17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1"/>
          <p:cNvSpPr/>
          <p:nvPr/>
        </p:nvSpPr>
        <p:spPr>
          <a:xfrm>
            <a:off x="0" y="2457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people were interested in the exhibi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2"/>
          <p:cNvSpPr/>
          <p:nvPr/>
        </p:nvSpPr>
        <p:spPr>
          <a:xfrm>
            <a:off x="140364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300360" y="188640"/>
            <a:ext cx="2597040" cy="1952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0" t="47881" r="0" b="8555"/>
          <a:stretch/>
        </p:blipFill>
        <p:spPr>
          <a:xfrm>
            <a:off x="251640" y="4869000"/>
            <a:ext cx="5621400" cy="17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tângulo 1"/>
          <p:cNvSpPr/>
          <p:nvPr/>
        </p:nvSpPr>
        <p:spPr>
          <a:xfrm>
            <a:off x="8640" y="2874960"/>
            <a:ext cx="913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I speak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Fren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2"/>
          <p:cNvSpPr/>
          <p:nvPr/>
        </p:nvSpPr>
        <p:spPr>
          <a:xfrm>
            <a:off x="302004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3640" y="4149000"/>
            <a:ext cx="2570400" cy="262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rcRect l="0" t="13080" r="0" b="25094"/>
          <a:stretch/>
        </p:blipFill>
        <p:spPr>
          <a:xfrm>
            <a:off x="6444360" y="332640"/>
            <a:ext cx="2476080" cy="16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14400" y="2709000"/>
            <a:ext cx="9129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gentlemen nowaday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2"/>
          <p:cNvSpPr/>
          <p:nvPr/>
        </p:nvSpPr>
        <p:spPr>
          <a:xfrm>
            <a:off x="4579200" y="24930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9640" y="4155480"/>
            <a:ext cx="2147400" cy="250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0" b="7505"/>
          <a:stretch/>
        </p:blipFill>
        <p:spPr>
          <a:xfrm>
            <a:off x="6948360" y="417960"/>
            <a:ext cx="1723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tângulo 1"/>
          <p:cNvSpPr/>
          <p:nvPr/>
        </p:nvSpPr>
        <p:spPr>
          <a:xfrm>
            <a:off x="0" y="287496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relativ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2"/>
          <p:cNvSpPr/>
          <p:nvPr/>
        </p:nvSpPr>
        <p:spPr>
          <a:xfrm>
            <a:off x="298800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0" b="6293"/>
          <a:stretch/>
        </p:blipFill>
        <p:spPr>
          <a:xfrm>
            <a:off x="323640" y="4365000"/>
            <a:ext cx="3552480" cy="23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14218" t="65689" r="11429" b="17147"/>
          <a:stretch/>
        </p:blipFill>
        <p:spPr>
          <a:xfrm>
            <a:off x="4140000" y="188640"/>
            <a:ext cx="4433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1"/>
          <p:cNvSpPr/>
          <p:nvPr/>
        </p:nvSpPr>
        <p:spPr>
          <a:xfrm>
            <a:off x="0" y="2853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ater in the pon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2"/>
          <p:cNvSpPr/>
          <p:nvPr/>
        </p:nvSpPr>
        <p:spPr>
          <a:xfrm>
            <a:off x="306000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9640" y="4725000"/>
            <a:ext cx="3619080" cy="189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264360" y="247680"/>
            <a:ext cx="2520000" cy="15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1"/>
          <p:cNvSpPr/>
          <p:nvPr/>
        </p:nvSpPr>
        <p:spPr>
          <a:xfrm>
            <a:off x="-13320" y="2565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ngineer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 spend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ime in compan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2"/>
          <p:cNvSpPr/>
          <p:nvPr/>
        </p:nvSpPr>
        <p:spPr>
          <a:xfrm>
            <a:off x="971640" y="309564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0" r="0" b="8033"/>
          <a:stretch/>
        </p:blipFill>
        <p:spPr>
          <a:xfrm>
            <a:off x="395640" y="4725000"/>
            <a:ext cx="1286640" cy="182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7524360" y="256680"/>
            <a:ext cx="1223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tângulo 1"/>
          <p:cNvSpPr/>
          <p:nvPr/>
        </p:nvSpPr>
        <p:spPr>
          <a:xfrm>
            <a:off x="-26640" y="2709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knowledge of this subjec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2"/>
          <p:cNvSpPr/>
          <p:nvPr/>
        </p:nvSpPr>
        <p:spPr>
          <a:xfrm>
            <a:off x="3015000" y="24930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21244" t="0" r="11898" b="10819"/>
          <a:stretch/>
        </p:blipFill>
        <p:spPr>
          <a:xfrm>
            <a:off x="6732360" y="260640"/>
            <a:ext cx="217692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rcRect l="0" t="0" r="0" b="10981"/>
          <a:stretch/>
        </p:blipFill>
        <p:spPr>
          <a:xfrm>
            <a:off x="467640" y="4653000"/>
            <a:ext cx="2057040" cy="19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89</Words>
  <Paragraphs>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4:32:59Z</dcterms:created>
  <dc:creator>Celia</dc:creator>
  <dc:description/>
  <dc:language>en-US</dc:language>
  <cp:lastModifiedBy>Celia</cp:lastModifiedBy>
  <dcterms:modified xsi:type="dcterms:W3CDTF">2020-04-22T16:19:53Z</dcterms:modified>
  <cp:revision>5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presentação na tela (4:3)</vt:lpwstr>
  </property>
  <property fmtid="{D5CDD505-2E9C-101B-9397-08002B2CF9AE}" pid="3" name="Slides">
    <vt:r8>11</vt:r8>
  </property>
</Properties>
</file>