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E4B3-42D8-45F7-92AA-85F8AFFC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F449-BE95-4F58-B1F4-9DF77D81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2A87-4ACD-4E89-A8F1-DCF98FAD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ECF-4C7A-4BCB-98A2-D7F3167D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E5FF-0E60-4BF3-806C-013A676B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CDBF-1E49-4127-9707-DB52B6C8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E784-F53F-4CD7-BC53-D0E30351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6DE6-A273-4B29-A7DE-184CF1D9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D95B-53A7-459B-AA54-56F2739B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7004-C7C1-474B-A79F-4B3B767B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E531-B189-4B14-B615-25478B3A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7FF9-309A-492E-8A0D-B8B6FC3E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007F-2279-4EF8-8B2E-F89DD3F5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9A85-B160-4F2F-8C33-C5B7C246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4773-219C-40A3-9F19-EDE7EC92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C639-4ADA-4BFD-8BEF-65020E2F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0A7C-FD65-48F0-A63B-386F5F37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7439-CAD8-4123-BB9C-0162C150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9B79-3376-4185-A88E-2550C918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472C-EA45-4C98-A13D-7AF311A9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ECD6-E042-4C51-A993-1AB95317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36E7-2097-4145-BDCC-9033935D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4EF0-8F75-4239-8653-34A32437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5BB1-EE5E-4C73-831D-1B4BD2AD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lique para editar o título mestre</a:t>
            </a: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pt-B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t-BR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t-B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B23151-CCC4-42CD-8BF1-839C21182393}" type="slidenum">
              <a:rPr b="0" lang="pt-B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pt-BR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pt-B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t-BR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t-B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705EA4-B967-423A-B7A3-538790B8D1D4}" type="slidenum">
              <a:rPr b="0" lang="pt-B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pt-B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pt-BR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pt-BR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tângulo 3"/>
          <p:cNvSpPr/>
          <p:nvPr/>
        </p:nvSpPr>
        <p:spPr>
          <a:xfrm>
            <a:off x="2286000" y="3105720"/>
            <a:ext cx="457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TTLE OR F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3720" cy="6857640"/>
          </a:xfrm>
          <a:prstGeom prst="rect">
            <a:avLst/>
          </a:prstGeom>
          <a:ln w="0">
            <a:noFill/>
          </a:ln>
        </p:spPr>
      </p:pic>
      <p:sp>
        <p:nvSpPr>
          <p:cNvPr id="84" name="CaixaDeTexto 4"/>
          <p:cNvSpPr/>
          <p:nvPr/>
        </p:nvSpPr>
        <p:spPr>
          <a:xfrm>
            <a:off x="2267640" y="1954800"/>
            <a:ext cx="4608000" cy="277092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pt-BR" sz="8800" spc="-1" strike="noStrike">
                <a:solidFill>
                  <a:srgbClr val="ff0000"/>
                </a:solidFill>
                <a:latin typeface="Aharoni"/>
              </a:rPr>
              <a:t> </a:t>
            </a:r>
            <a:r>
              <a:rPr b="0" lang="pt-BR" sz="8800" spc="-1" strike="noStrike">
                <a:solidFill>
                  <a:srgbClr val="ff0000"/>
                </a:solidFill>
                <a:latin typeface="Aharoni"/>
              </a:rPr>
              <a:t>LITTLE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pt-BR" sz="8800" spc="-1" strike="noStrike">
                <a:solidFill>
                  <a:srgbClr val="ff0000"/>
                </a:solidFill>
                <a:latin typeface="Aharoni"/>
              </a:rPr>
              <a:t>&amp; FEW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tângulo 1"/>
          <p:cNvSpPr/>
          <p:nvPr/>
        </p:nvSpPr>
        <p:spPr>
          <a:xfrm>
            <a:off x="0" y="2565000"/>
            <a:ext cx="9143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There are </a:t>
            </a: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__________ 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mushrooms in my mushroom soup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aixaDeTexto 2"/>
          <p:cNvSpPr/>
          <p:nvPr/>
        </p:nvSpPr>
        <p:spPr>
          <a:xfrm>
            <a:off x="4716000" y="2518560"/>
            <a:ext cx="2664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4400" spc="-1" strike="noStrike">
                <a:solidFill>
                  <a:srgbClr val="ff0000"/>
                </a:solidFill>
                <a:latin typeface="Comic Sans MS"/>
              </a:rPr>
              <a:t>F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7053480" y="260640"/>
            <a:ext cx="1892520" cy="1656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323640" y="4437000"/>
            <a:ext cx="1992960" cy="199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tângulo 1"/>
          <p:cNvSpPr/>
          <p:nvPr/>
        </p:nvSpPr>
        <p:spPr>
          <a:xfrm>
            <a:off x="0" y="2521080"/>
            <a:ext cx="9143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__________ 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animals can survive in the deser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aixaDeTexto 2"/>
          <p:cNvSpPr/>
          <p:nvPr/>
        </p:nvSpPr>
        <p:spPr>
          <a:xfrm>
            <a:off x="611640" y="2326320"/>
            <a:ext cx="2664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4400" spc="-1" strike="noStrike">
                <a:solidFill>
                  <a:srgbClr val="ff0000"/>
                </a:solidFill>
                <a:latin typeface="Comic Sans MS"/>
              </a:rPr>
              <a:t>F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rcRect l="0" t="0" r="0" b="9220"/>
          <a:stretch/>
        </p:blipFill>
        <p:spPr>
          <a:xfrm>
            <a:off x="231480" y="4797000"/>
            <a:ext cx="3423960" cy="1883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6012000" y="260640"/>
            <a:ext cx="2895120" cy="162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tângulo 1"/>
          <p:cNvSpPr/>
          <p:nvPr/>
        </p:nvSpPr>
        <p:spPr>
          <a:xfrm>
            <a:off x="0" y="2565000"/>
            <a:ext cx="9143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We had </a:t>
            </a: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__________ 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snow last winte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ixaDeTexto 2"/>
          <p:cNvSpPr/>
          <p:nvPr/>
        </p:nvSpPr>
        <p:spPr>
          <a:xfrm>
            <a:off x="2988000" y="2326320"/>
            <a:ext cx="2664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4400" spc="-1" strike="noStrike">
                <a:solidFill>
                  <a:srgbClr val="ff0000"/>
                </a:solidFill>
                <a:latin typeface="Comic Sans MS"/>
              </a:rPr>
              <a:t>LIT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323640" y="4114080"/>
            <a:ext cx="2376000" cy="2376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rcRect l="0" t="0" r="0" b="6137"/>
          <a:stretch/>
        </p:blipFill>
        <p:spPr>
          <a:xfrm>
            <a:off x="6876360" y="332640"/>
            <a:ext cx="1828440" cy="17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tângulo 1"/>
          <p:cNvSpPr/>
          <p:nvPr/>
        </p:nvSpPr>
        <p:spPr>
          <a:xfrm>
            <a:off x="0" y="2457000"/>
            <a:ext cx="9143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__________ 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people were interested in the exhibitio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aixaDeTexto 2"/>
          <p:cNvSpPr/>
          <p:nvPr/>
        </p:nvSpPr>
        <p:spPr>
          <a:xfrm>
            <a:off x="1403640" y="2326320"/>
            <a:ext cx="2664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4400" spc="-1" strike="noStrike">
                <a:solidFill>
                  <a:srgbClr val="ff0000"/>
                </a:solidFill>
                <a:latin typeface="Comic Sans MS"/>
              </a:rPr>
              <a:t>F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6300360" y="188640"/>
            <a:ext cx="2597040" cy="1952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rcRect l="0" t="47881" r="0" b="8555"/>
          <a:stretch/>
        </p:blipFill>
        <p:spPr>
          <a:xfrm>
            <a:off x="251640" y="4869000"/>
            <a:ext cx="5621400" cy="17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tângulo 1"/>
          <p:cNvSpPr/>
          <p:nvPr/>
        </p:nvSpPr>
        <p:spPr>
          <a:xfrm>
            <a:off x="8640" y="2874960"/>
            <a:ext cx="9135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I speak</a:t>
            </a: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__________ 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French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ixaDeTexto 2"/>
          <p:cNvSpPr/>
          <p:nvPr/>
        </p:nvSpPr>
        <p:spPr>
          <a:xfrm>
            <a:off x="3020040" y="2710800"/>
            <a:ext cx="2664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4400" spc="-1" strike="noStrike">
                <a:solidFill>
                  <a:srgbClr val="ff0000"/>
                </a:solidFill>
                <a:latin typeface="Comic Sans MS"/>
              </a:rPr>
              <a:t>LIT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323640" y="4149000"/>
            <a:ext cx="2570400" cy="262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rcRect l="0" t="13080" r="0" b="25094"/>
          <a:stretch/>
        </p:blipFill>
        <p:spPr>
          <a:xfrm>
            <a:off x="6444360" y="332640"/>
            <a:ext cx="2476080" cy="16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tângulo 1"/>
          <p:cNvSpPr/>
          <p:nvPr/>
        </p:nvSpPr>
        <p:spPr>
          <a:xfrm>
            <a:off x="14400" y="2709000"/>
            <a:ext cx="91292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There are </a:t>
            </a: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__________ 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gentlemen nowaday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aixaDeTexto 2"/>
          <p:cNvSpPr/>
          <p:nvPr/>
        </p:nvSpPr>
        <p:spPr>
          <a:xfrm>
            <a:off x="4579200" y="2493000"/>
            <a:ext cx="2664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4400" spc="-1" strike="noStrike">
                <a:solidFill>
                  <a:srgbClr val="ff0000"/>
                </a:solidFill>
                <a:latin typeface="Comic Sans MS"/>
              </a:rPr>
              <a:t>F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79640" y="4155480"/>
            <a:ext cx="2147400" cy="2506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rcRect l="0" t="0" r="0" b="7505"/>
          <a:stretch/>
        </p:blipFill>
        <p:spPr>
          <a:xfrm>
            <a:off x="6948360" y="417960"/>
            <a:ext cx="17236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tângulo 1"/>
          <p:cNvSpPr/>
          <p:nvPr/>
        </p:nvSpPr>
        <p:spPr>
          <a:xfrm>
            <a:off x="0" y="2874960"/>
            <a:ext cx="91436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She has </a:t>
            </a: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__________ 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relative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aixaDeTexto 2"/>
          <p:cNvSpPr/>
          <p:nvPr/>
        </p:nvSpPr>
        <p:spPr>
          <a:xfrm>
            <a:off x="2988000" y="2710800"/>
            <a:ext cx="2664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4400" spc="-1" strike="noStrike">
                <a:solidFill>
                  <a:srgbClr val="ff0000"/>
                </a:solidFill>
                <a:latin typeface="Comic Sans MS"/>
              </a:rPr>
              <a:t>F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rcRect l="0" t="0" r="0" b="6293"/>
          <a:stretch/>
        </p:blipFill>
        <p:spPr>
          <a:xfrm>
            <a:off x="323640" y="4365000"/>
            <a:ext cx="3552480" cy="2335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rcRect l="14218" t="65689" r="11429" b="17147"/>
          <a:stretch/>
        </p:blipFill>
        <p:spPr>
          <a:xfrm>
            <a:off x="4140000" y="188640"/>
            <a:ext cx="44330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tângulo 1"/>
          <p:cNvSpPr/>
          <p:nvPr/>
        </p:nvSpPr>
        <p:spPr>
          <a:xfrm>
            <a:off x="0" y="2853000"/>
            <a:ext cx="9143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There is </a:t>
            </a: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__________ 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water in the pon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aixaDeTexto 2"/>
          <p:cNvSpPr/>
          <p:nvPr/>
        </p:nvSpPr>
        <p:spPr>
          <a:xfrm>
            <a:off x="3060000" y="2710800"/>
            <a:ext cx="2664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4400" spc="-1" strike="noStrike">
                <a:solidFill>
                  <a:srgbClr val="ff0000"/>
                </a:solidFill>
                <a:latin typeface="Comic Sans MS"/>
              </a:rPr>
              <a:t>LIT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79640" y="4725000"/>
            <a:ext cx="3619080" cy="189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6264360" y="247680"/>
            <a:ext cx="2520000" cy="15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tângulo 1"/>
          <p:cNvSpPr/>
          <p:nvPr/>
        </p:nvSpPr>
        <p:spPr>
          <a:xfrm>
            <a:off x="-13320" y="2565000"/>
            <a:ext cx="9143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engineer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 spends </a:t>
            </a: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__________ 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time in company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aixaDeTexto 2"/>
          <p:cNvSpPr/>
          <p:nvPr/>
        </p:nvSpPr>
        <p:spPr>
          <a:xfrm>
            <a:off x="971640" y="3095640"/>
            <a:ext cx="2664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4400" spc="-1" strike="noStrike">
                <a:solidFill>
                  <a:srgbClr val="ff0000"/>
                </a:solidFill>
                <a:latin typeface="Comic Sans MS"/>
              </a:rPr>
              <a:t>LIT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rcRect l="0" t="0" r="0" b="8033"/>
          <a:stretch/>
        </p:blipFill>
        <p:spPr>
          <a:xfrm>
            <a:off x="395640" y="4725000"/>
            <a:ext cx="1286640" cy="1824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7524360" y="256680"/>
            <a:ext cx="122364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tângulo 1"/>
          <p:cNvSpPr/>
          <p:nvPr/>
        </p:nvSpPr>
        <p:spPr>
          <a:xfrm>
            <a:off x="-26640" y="2709000"/>
            <a:ext cx="9143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We have </a:t>
            </a:r>
            <a:r>
              <a:rPr b="1" lang="hu-HU" sz="4400" spc="-1" strike="noStrike">
                <a:solidFill>
                  <a:srgbClr val="000000"/>
                </a:solidFill>
                <a:latin typeface="Comic Sans MS"/>
              </a:rPr>
              <a:t>__________ </a:t>
            </a:r>
            <a:r>
              <a:rPr b="0" lang="hu-HU" sz="4400" spc="-1" strike="noStrike">
                <a:solidFill>
                  <a:srgbClr val="000000"/>
                </a:solidFill>
                <a:latin typeface="Comic Sans MS"/>
              </a:rPr>
              <a:t>knowledge of this subjec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aixaDeTexto 2"/>
          <p:cNvSpPr/>
          <p:nvPr/>
        </p:nvSpPr>
        <p:spPr>
          <a:xfrm>
            <a:off x="3015000" y="2493000"/>
            <a:ext cx="2664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4400" spc="-1" strike="noStrike">
                <a:solidFill>
                  <a:srgbClr val="ff0000"/>
                </a:solidFill>
                <a:latin typeface="Comic Sans MS"/>
              </a:rPr>
              <a:t>LIT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21244" t="0" r="11898" b="10819"/>
          <a:stretch/>
        </p:blipFill>
        <p:spPr>
          <a:xfrm>
            <a:off x="6732360" y="260640"/>
            <a:ext cx="2176920" cy="2095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rcRect l="0" t="0" r="0" b="10981"/>
          <a:stretch/>
        </p:blipFill>
        <p:spPr>
          <a:xfrm>
            <a:off x="467640" y="4653000"/>
            <a:ext cx="2057040" cy="19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Tema do Office">
  <a:themeElements>
    <a:clrScheme name="Escritório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a do Office">
  <a:themeElements>
    <a:clrScheme name="Escritório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  <Words>89</Words>
  <Paragraphs>23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2T14:32:59Z</dcterms:created>
  <dc:creator>Celia</dc:creator>
  <dc:description/>
  <dc:language>en-US</dc:language>
  <cp:lastModifiedBy>Celia</cp:lastModifiedBy>
  <dcterms:modified xsi:type="dcterms:W3CDTF">2020-04-22T16:19:53Z</dcterms:modified>
  <cp:revision>5</cp:revision>
  <dc:subject/>
  <dc:title>Apresentação do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Apresentação na tela (4:3)</vt:lpwstr>
  </property>
  <property fmtid="{D5CDD505-2E9C-101B-9397-08002B2CF9AE}" pid="3" name="Slides">
    <vt:r8>11</vt:r8>
  </property>
</Properties>
</file>