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D6D-48EA-4382-A509-8DDBA1E2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1BC-7781-466E-8639-3BF9D54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652-9566-417A-8987-9B7DD66B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02F-B44E-44D9-BC58-BF4A5172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0419-36D6-43A4-AADE-4EAD7298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1F05-ED9B-42AB-97F1-60CDD8DB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5DD4-11EC-4198-8A45-CE47FCDF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251-CE03-4C56-BB82-870B127E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A62-847B-4BD0-BA80-FFC70C0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4CEB-4D74-4C4A-B84D-4A85E93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E5D2-F470-4304-94A1-90B43D7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52D-0555-457D-B3F5-A9B9A4C0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8B3F-2061-4DA9-9F20-0300979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9C0-2FE4-46A7-9349-F8FBD2C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B84-BA59-43C7-965F-68A6C92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4522-537A-42F1-9C3B-8073D19E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7356-FB51-40DC-AA58-47804B69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A07-C77D-4D8B-B932-EA33CC8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B81-9C88-4805-BE58-017911F2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F91-2958-42B6-A198-93CF2B7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8B0-0BB2-4D35-AB33-4B64B4C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345-E915-4BC5-A2BF-78D03775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BBE-2020-4C1A-9891-A9923D4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A1C-49FC-41F8-956C-B943E54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46819F-1345-4DE2-AD77-6903118F0151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9A420-254B-4568-9D34-A21F1DE7AE4D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3"/>
          <p:cNvSpPr/>
          <p:nvPr/>
        </p:nvSpPr>
        <p:spPr>
          <a:xfrm>
            <a:off x="2286000" y="3105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OR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72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CaixaDeTexto 4"/>
          <p:cNvSpPr/>
          <p:nvPr/>
        </p:nvSpPr>
        <p:spPr>
          <a:xfrm>
            <a:off x="2267640" y="1954800"/>
            <a:ext cx="4608000" cy="27709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 </a:t>
            </a: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LITTLE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&amp; FE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tângulo 1"/>
          <p:cNvSpPr/>
          <p:nvPr/>
        </p:nvSpPr>
        <p:spPr>
          <a:xfrm>
            <a:off x="0" y="2565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mushrooms in my mushroom soup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2"/>
          <p:cNvSpPr/>
          <p:nvPr/>
        </p:nvSpPr>
        <p:spPr>
          <a:xfrm>
            <a:off x="4716000" y="251856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053480" y="260640"/>
            <a:ext cx="189252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23640" y="4437000"/>
            <a:ext cx="1992960" cy="19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252108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animals can survive in the des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2"/>
          <p:cNvSpPr/>
          <p:nvPr/>
        </p:nvSpPr>
        <p:spPr>
          <a:xfrm>
            <a:off x="61164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rcRect l="0" t="0" r="0" b="9220"/>
          <a:stretch/>
        </p:blipFill>
        <p:spPr>
          <a:xfrm>
            <a:off x="231480" y="4797000"/>
            <a:ext cx="3423960" cy="188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012000" y="260640"/>
            <a:ext cx="289512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256500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e had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snow last win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2"/>
          <p:cNvSpPr/>
          <p:nvPr/>
        </p:nvSpPr>
        <p:spPr>
          <a:xfrm>
            <a:off x="298800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23640" y="4114080"/>
            <a:ext cx="2376000" cy="237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0" t="0" r="0" b="6137"/>
          <a:stretch/>
        </p:blipFill>
        <p:spPr>
          <a:xfrm>
            <a:off x="6876360" y="332640"/>
            <a:ext cx="1828440" cy="17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1"/>
          <p:cNvSpPr/>
          <p:nvPr/>
        </p:nvSpPr>
        <p:spPr>
          <a:xfrm>
            <a:off x="0" y="2457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people were interested in the exhibi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2"/>
          <p:cNvSpPr/>
          <p:nvPr/>
        </p:nvSpPr>
        <p:spPr>
          <a:xfrm>
            <a:off x="140364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300360" y="188640"/>
            <a:ext cx="2597040" cy="1952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0" t="47881" r="0" b="8555"/>
          <a:stretch/>
        </p:blipFill>
        <p:spPr>
          <a:xfrm>
            <a:off x="251640" y="4869000"/>
            <a:ext cx="5621400" cy="17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tângulo 1"/>
          <p:cNvSpPr/>
          <p:nvPr/>
        </p:nvSpPr>
        <p:spPr>
          <a:xfrm>
            <a:off x="8640" y="2874960"/>
            <a:ext cx="913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I speak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Fren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2"/>
          <p:cNvSpPr/>
          <p:nvPr/>
        </p:nvSpPr>
        <p:spPr>
          <a:xfrm>
            <a:off x="302004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3640" y="4149000"/>
            <a:ext cx="2570400" cy="262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rcRect l="0" t="13080" r="0" b="25094"/>
          <a:stretch/>
        </p:blipFill>
        <p:spPr>
          <a:xfrm>
            <a:off x="6444360" y="332640"/>
            <a:ext cx="2476080" cy="16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14400" y="2709000"/>
            <a:ext cx="9129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gentlemen nowaday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2"/>
          <p:cNvSpPr/>
          <p:nvPr/>
        </p:nvSpPr>
        <p:spPr>
          <a:xfrm>
            <a:off x="4579200" y="24930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9640" y="4155480"/>
            <a:ext cx="2147400" cy="250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0" b="7505"/>
          <a:stretch/>
        </p:blipFill>
        <p:spPr>
          <a:xfrm>
            <a:off x="6948360" y="417960"/>
            <a:ext cx="1723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tângulo 1"/>
          <p:cNvSpPr/>
          <p:nvPr/>
        </p:nvSpPr>
        <p:spPr>
          <a:xfrm>
            <a:off x="0" y="287496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relativ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2"/>
          <p:cNvSpPr/>
          <p:nvPr/>
        </p:nvSpPr>
        <p:spPr>
          <a:xfrm>
            <a:off x="298800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0" b="6293"/>
          <a:stretch/>
        </p:blipFill>
        <p:spPr>
          <a:xfrm>
            <a:off x="323640" y="4365000"/>
            <a:ext cx="3552480" cy="23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14218" t="65689" r="11429" b="17147"/>
          <a:stretch/>
        </p:blipFill>
        <p:spPr>
          <a:xfrm>
            <a:off x="4140000" y="188640"/>
            <a:ext cx="4433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1"/>
          <p:cNvSpPr/>
          <p:nvPr/>
        </p:nvSpPr>
        <p:spPr>
          <a:xfrm>
            <a:off x="0" y="2853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ater in the pon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2"/>
          <p:cNvSpPr/>
          <p:nvPr/>
        </p:nvSpPr>
        <p:spPr>
          <a:xfrm>
            <a:off x="306000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9640" y="4725000"/>
            <a:ext cx="3619080" cy="189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264360" y="247680"/>
            <a:ext cx="2520000" cy="15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1"/>
          <p:cNvSpPr/>
          <p:nvPr/>
        </p:nvSpPr>
        <p:spPr>
          <a:xfrm>
            <a:off x="-13320" y="2565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ngineer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 spend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ime in compan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2"/>
          <p:cNvSpPr/>
          <p:nvPr/>
        </p:nvSpPr>
        <p:spPr>
          <a:xfrm>
            <a:off x="971640" y="309564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0" r="0" b="8033"/>
          <a:stretch/>
        </p:blipFill>
        <p:spPr>
          <a:xfrm>
            <a:off x="395640" y="4725000"/>
            <a:ext cx="1286640" cy="182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7524360" y="256680"/>
            <a:ext cx="1223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tângulo 1"/>
          <p:cNvSpPr/>
          <p:nvPr/>
        </p:nvSpPr>
        <p:spPr>
          <a:xfrm>
            <a:off x="-26640" y="2709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knowledge of this subjec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2"/>
          <p:cNvSpPr/>
          <p:nvPr/>
        </p:nvSpPr>
        <p:spPr>
          <a:xfrm>
            <a:off x="3015000" y="24930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21244" t="0" r="11898" b="10819"/>
          <a:stretch/>
        </p:blipFill>
        <p:spPr>
          <a:xfrm>
            <a:off x="6732360" y="260640"/>
            <a:ext cx="217692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rcRect l="0" t="0" r="0" b="10981"/>
          <a:stretch/>
        </p:blipFill>
        <p:spPr>
          <a:xfrm>
            <a:off x="467640" y="4653000"/>
            <a:ext cx="2057040" cy="19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89</Words>
  <Paragraphs>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4:32:59Z</dcterms:created>
  <dc:creator>Celia</dc:creator>
  <dc:description/>
  <dc:language>en-US</dc:language>
  <cp:lastModifiedBy>Celia</cp:lastModifiedBy>
  <dcterms:modified xsi:type="dcterms:W3CDTF">2020-04-22T16:19:53Z</dcterms:modified>
  <cp:revision>5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presentação na tela (4:3)</vt:lpwstr>
  </property>
  <property fmtid="{D5CDD505-2E9C-101B-9397-08002B2CF9AE}" pid="3" name="Slides">
    <vt:r8>11</vt:r8>
  </property>
</Properties>
</file>