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.png" ContentType="image/png"/>
  <Override PartName="/ppt/media/image14.tif" ContentType="image/tif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tif" ContentType="image/tiff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media/image12.tif" ContentType="image/tiff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7D298-0954-4E96-9551-1FB236ECA4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7EEE8-F3F2-49A7-A593-2D7C7D8CC9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9B8B6-3B4C-42DF-B9D3-A9801D652D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89740-0E43-49A2-946A-0E72B43580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FB906-37D0-41AE-A885-A82247C04D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2FD8A-697A-49E7-88D6-6B5B90B9DA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AD3DA-FF21-4E28-B1F8-2B356AD9FF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49AA6-3B4D-49C5-8070-E7B694D09F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6DD47-D6BC-405C-B5D7-39B78D42EA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C65B4-BD18-4C34-A6F2-4D2F1F45AF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66600-0D8E-45FB-A054-8CB71D4150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29671-0E93-4872-8B93-A90EA4AFCD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11786400" y="6537600"/>
            <a:ext cx="308520" cy="2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FR" sz="1200" spc="-1" strike="noStrike">
                <a:solidFill>
                  <a:srgbClr val="8b8b8b"/>
                </a:solidFill>
                <a:latin typeface="Montserra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E66972-7917-4CDD-9F14-2A501F0E06B3}" type="slidenum">
              <a:rPr b="1" lang="en-FR" sz="1200" spc="-1" strike="noStrike">
                <a:solidFill>
                  <a:srgbClr val="8b8b8b"/>
                </a:solidFill>
                <a:latin typeface="Montserra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tif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9.png"/><Relationship Id="rId26" Type="http://schemas.openxmlformats.org/officeDocument/2006/relationships/image" Target="../media/image9.png"/><Relationship Id="rId27" Type="http://schemas.openxmlformats.org/officeDocument/2006/relationships/image" Target="../media/image9.png"/><Relationship Id="rId28" Type="http://schemas.openxmlformats.org/officeDocument/2006/relationships/image" Target="../media/image9.png"/><Relationship Id="rId29" Type="http://schemas.openxmlformats.org/officeDocument/2006/relationships/image" Target="../media/image9.png"/><Relationship Id="rId30" Type="http://schemas.openxmlformats.org/officeDocument/2006/relationships/image" Target="../media/image9.png"/><Relationship Id="rId31" Type="http://schemas.openxmlformats.org/officeDocument/2006/relationships/image" Target="../media/image9.png"/><Relationship Id="rId32" Type="http://schemas.openxmlformats.org/officeDocument/2006/relationships/image" Target="../media/image9.png"/><Relationship Id="rId33" Type="http://schemas.openxmlformats.org/officeDocument/2006/relationships/image" Target="../media/image9.png"/><Relationship Id="rId34" Type="http://schemas.openxmlformats.org/officeDocument/2006/relationships/image" Target="../media/image9.png"/><Relationship Id="rId35" Type="http://schemas.openxmlformats.org/officeDocument/2006/relationships/image" Target="../media/image9.png"/><Relationship Id="rId36" Type="http://schemas.openxmlformats.org/officeDocument/2006/relationships/image" Target="../media/image9.png"/><Relationship Id="rId37" Type="http://schemas.openxmlformats.org/officeDocument/2006/relationships/image" Target="../media/image9.png"/><Relationship Id="rId38" Type="http://schemas.openxmlformats.org/officeDocument/2006/relationships/image" Target="../media/image9.png"/><Relationship Id="rId39" Type="http://schemas.openxmlformats.org/officeDocument/2006/relationships/image" Target="../media/image9.png"/><Relationship Id="rId40" Type="http://schemas.openxmlformats.org/officeDocument/2006/relationships/image" Target="../media/image9.png"/><Relationship Id="rId41" Type="http://schemas.openxmlformats.org/officeDocument/2006/relationships/image" Target="../media/image9.png"/><Relationship Id="rId42" Type="http://schemas.openxmlformats.org/officeDocument/2006/relationships/image" Target="../media/image9.png"/><Relationship Id="rId43" Type="http://schemas.openxmlformats.org/officeDocument/2006/relationships/image" Target="../media/image9.png"/><Relationship Id="rId44" Type="http://schemas.openxmlformats.org/officeDocument/2006/relationships/image" Target="../media/image9.png"/><Relationship Id="rId45" Type="http://schemas.openxmlformats.org/officeDocument/2006/relationships/image" Target="../media/image9.png"/><Relationship Id="rId46" Type="http://schemas.openxmlformats.org/officeDocument/2006/relationships/image" Target="../media/image9.png"/><Relationship Id="rId47" Type="http://schemas.openxmlformats.org/officeDocument/2006/relationships/image" Target="../media/image9.png"/><Relationship Id="rId48" Type="http://schemas.openxmlformats.org/officeDocument/2006/relationships/image" Target="../media/image9.png"/><Relationship Id="rId49" Type="http://schemas.openxmlformats.org/officeDocument/2006/relationships/image" Target="../media/image9.png"/><Relationship Id="rId50" Type="http://schemas.openxmlformats.org/officeDocument/2006/relationships/image" Target="../media/image9.png"/><Relationship Id="rId51" Type="http://schemas.openxmlformats.org/officeDocument/2006/relationships/image" Target="../media/image9.png"/><Relationship Id="rId52" Type="http://schemas.openxmlformats.org/officeDocument/2006/relationships/image" Target="../media/image9.png"/><Relationship Id="rId53" Type="http://schemas.openxmlformats.org/officeDocument/2006/relationships/image" Target="../media/image9.png"/><Relationship Id="rId54" Type="http://schemas.openxmlformats.org/officeDocument/2006/relationships/image" Target="../media/image9.png"/><Relationship Id="rId55" Type="http://schemas.openxmlformats.org/officeDocument/2006/relationships/image" Target="../media/image9.png"/><Relationship Id="rId56" Type="http://schemas.openxmlformats.org/officeDocument/2006/relationships/image" Target="../media/image9.png"/><Relationship Id="rId57" Type="http://schemas.openxmlformats.org/officeDocument/2006/relationships/image" Target="../media/image9.png"/><Relationship Id="rId58" Type="http://schemas.openxmlformats.org/officeDocument/2006/relationships/image" Target="../media/image9.png"/><Relationship Id="rId59" Type="http://schemas.openxmlformats.org/officeDocument/2006/relationships/image" Target="../media/image9.png"/><Relationship Id="rId60" Type="http://schemas.openxmlformats.org/officeDocument/2006/relationships/image" Target="../media/image9.png"/><Relationship Id="rId61" Type="http://schemas.openxmlformats.org/officeDocument/2006/relationships/image" Target="../media/image9.png"/><Relationship Id="rId62" Type="http://schemas.openxmlformats.org/officeDocument/2006/relationships/image" Target="../media/image9.png"/><Relationship Id="rId63" Type="http://schemas.openxmlformats.org/officeDocument/2006/relationships/image" Target="../media/image9.png"/><Relationship Id="rId64" Type="http://schemas.openxmlformats.org/officeDocument/2006/relationships/image" Target="../media/image9.png"/><Relationship Id="rId65" Type="http://schemas.openxmlformats.org/officeDocument/2006/relationships/image" Target="../media/image9.png"/><Relationship Id="rId66" Type="http://schemas.openxmlformats.org/officeDocument/2006/relationships/image" Target="../media/image9.png"/><Relationship Id="rId67" Type="http://schemas.openxmlformats.org/officeDocument/2006/relationships/image" Target="../media/image9.png"/><Relationship Id="rId68" Type="http://schemas.openxmlformats.org/officeDocument/2006/relationships/image" Target="../media/image9.png"/><Relationship Id="rId69" Type="http://schemas.openxmlformats.org/officeDocument/2006/relationships/image" Target="../media/image9.png"/><Relationship Id="rId70" Type="http://schemas.openxmlformats.org/officeDocument/2006/relationships/image" Target="../media/image9.png"/><Relationship Id="rId71" Type="http://schemas.openxmlformats.org/officeDocument/2006/relationships/image" Target="../media/image9.png"/><Relationship Id="rId72" Type="http://schemas.openxmlformats.org/officeDocument/2006/relationships/image" Target="../media/image9.png"/><Relationship Id="rId73" Type="http://schemas.openxmlformats.org/officeDocument/2006/relationships/image" Target="../media/image9.png"/><Relationship Id="rId74" Type="http://schemas.openxmlformats.org/officeDocument/2006/relationships/image" Target="../media/image9.png"/><Relationship Id="rId75" Type="http://schemas.openxmlformats.org/officeDocument/2006/relationships/image" Target="../media/image9.png"/><Relationship Id="rId76" Type="http://schemas.openxmlformats.org/officeDocument/2006/relationships/image" Target="../media/image9.png"/><Relationship Id="rId77" Type="http://schemas.openxmlformats.org/officeDocument/2006/relationships/image" Target="../media/image9.png"/><Relationship Id="rId78" Type="http://schemas.openxmlformats.org/officeDocument/2006/relationships/image" Target="../media/image9.png"/><Relationship Id="rId79" Type="http://schemas.openxmlformats.org/officeDocument/2006/relationships/image" Target="../media/image9.png"/><Relationship Id="rId80" Type="http://schemas.openxmlformats.org/officeDocument/2006/relationships/image" Target="../media/image9.png"/><Relationship Id="rId81" Type="http://schemas.openxmlformats.org/officeDocument/2006/relationships/image" Target="../media/image9.png"/><Relationship Id="rId82" Type="http://schemas.openxmlformats.org/officeDocument/2006/relationships/image" Target="../media/image9.png"/><Relationship Id="rId83" Type="http://schemas.openxmlformats.org/officeDocument/2006/relationships/image" Target="../media/image9.png"/><Relationship Id="rId84" Type="http://schemas.openxmlformats.org/officeDocument/2006/relationships/image" Target="../media/image9.png"/><Relationship Id="rId85" Type="http://schemas.openxmlformats.org/officeDocument/2006/relationships/image" Target="../media/image9.png"/><Relationship Id="rId86" Type="http://schemas.openxmlformats.org/officeDocument/2006/relationships/image" Target="../media/image9.png"/><Relationship Id="rId87" Type="http://schemas.openxmlformats.org/officeDocument/2006/relationships/image" Target="../media/image9.png"/><Relationship Id="rId88" Type="http://schemas.openxmlformats.org/officeDocument/2006/relationships/image" Target="../media/image9.png"/><Relationship Id="rId89" Type="http://schemas.openxmlformats.org/officeDocument/2006/relationships/image" Target="../media/image9.png"/><Relationship Id="rId90" Type="http://schemas.openxmlformats.org/officeDocument/2006/relationships/image" Target="../media/image9.png"/><Relationship Id="rId91" Type="http://schemas.openxmlformats.org/officeDocument/2006/relationships/image" Target="../media/image9.png"/><Relationship Id="rId92" Type="http://schemas.openxmlformats.org/officeDocument/2006/relationships/image" Target="../media/image9.png"/><Relationship Id="rId93" Type="http://schemas.openxmlformats.org/officeDocument/2006/relationships/image" Target="../media/image9.png"/><Relationship Id="rId94" Type="http://schemas.openxmlformats.org/officeDocument/2006/relationships/image" Target="../media/image9.png"/><Relationship Id="rId95" Type="http://schemas.openxmlformats.org/officeDocument/2006/relationships/image" Target="../media/image9.png"/><Relationship Id="rId96" Type="http://schemas.openxmlformats.org/officeDocument/2006/relationships/image" Target="../media/image9.png"/><Relationship Id="rId97" Type="http://schemas.openxmlformats.org/officeDocument/2006/relationships/image" Target="../media/image9.png"/><Relationship Id="rId98" Type="http://schemas.openxmlformats.org/officeDocument/2006/relationships/image" Target="../media/image9.png"/><Relationship Id="rId99" Type="http://schemas.openxmlformats.org/officeDocument/2006/relationships/image" Target="../media/image9.png"/><Relationship Id="rId100" Type="http://schemas.openxmlformats.org/officeDocument/2006/relationships/image" Target="../media/image10.png"/><Relationship Id="rId101" Type="http://schemas.openxmlformats.org/officeDocument/2006/relationships/image" Target="../media/image11.png"/><Relationship Id="rId102" Type="http://schemas.openxmlformats.org/officeDocument/2006/relationships/image" Target="../media/image12.tif"/><Relationship Id="rId103" Type="http://schemas.openxmlformats.org/officeDocument/2006/relationships/image" Target="../media/image13.png"/><Relationship Id="rId104" Type="http://schemas.openxmlformats.org/officeDocument/2006/relationships/image" Target="../media/image13.png"/><Relationship Id="rId105" Type="http://schemas.openxmlformats.org/officeDocument/2006/relationships/image" Target="../media/image13.png"/><Relationship Id="rId106" Type="http://schemas.openxmlformats.org/officeDocument/2006/relationships/image" Target="../media/image13.png"/><Relationship Id="rId107" Type="http://schemas.openxmlformats.org/officeDocument/2006/relationships/image" Target="../media/image14.tif"/><Relationship Id="rId108" Type="http://schemas.openxmlformats.org/officeDocument/2006/relationships/image" Target="../media/image13.png"/><Relationship Id="rId109" Type="http://schemas.openxmlformats.org/officeDocument/2006/relationships/image" Target="../media/image13.png"/><Relationship Id="rId1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aulig: более 140 лет экспертизы"/>
          <p:cNvSpPr/>
          <p:nvPr/>
        </p:nvSpPr>
        <p:spPr>
          <a:xfrm>
            <a:off x="475920" y="289440"/>
            <a:ext cx="10448640" cy="6804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Spectral Bold"/>
                <a:ea typeface="Spectral Bold"/>
              </a:rPr>
              <a:t>Интересные Фак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Shape"/>
          <p:cNvSpPr/>
          <p:nvPr/>
        </p:nvSpPr>
        <p:spPr>
          <a:xfrm rot="2700000">
            <a:off x="3162600" y="976680"/>
            <a:ext cx="349200" cy="698760"/>
          </a:xfrm>
          <a:custGeom>
            <a:avLst/>
            <a:gdLst>
              <a:gd name="textAreaLeft" fmla="*/ 0 w 349200"/>
              <a:gd name="textAreaRight" fmla="*/ 349560 w 349200"/>
              <a:gd name="textAreaTop" fmla="*/ 0 h 698760"/>
              <a:gd name="textAreaBottom" fmla="*/ 699120 h 69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5400"/>
                </a:lnTo>
                <a:lnTo>
                  <a:pt x="10800" y="10800"/>
                </a:lnTo>
                <a:lnTo>
                  <a:pt x="0" y="16200"/>
                </a:lnTo>
                <a:lnTo>
                  <a:pt x="0" y="21600"/>
                </a:lnTo>
                <a:lnTo>
                  <a:pt x="21600" y="10800"/>
                </a:lnTo>
                <a:lnTo>
                  <a:pt x="0" y="0"/>
                </a:lnTo>
                <a:close/>
              </a:path>
            </a:pathLst>
          </a:custGeom>
          <a:solidFill>
            <a:srgbClr val="f7f7f7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" name="Group"/>
          <p:cNvGrpSpPr/>
          <p:nvPr/>
        </p:nvGrpSpPr>
        <p:grpSpPr>
          <a:xfrm>
            <a:off x="125280" y="1132920"/>
            <a:ext cx="421920" cy="408600"/>
            <a:chOff x="125280" y="1132920"/>
            <a:chExt cx="421920" cy="408600"/>
          </a:xfrm>
        </p:grpSpPr>
        <p:sp>
          <p:nvSpPr>
            <p:cNvPr id="42" name="Circle"/>
            <p:cNvSpPr/>
            <p:nvPr/>
          </p:nvSpPr>
          <p:spPr>
            <a:xfrm>
              <a:off x="254880" y="1132920"/>
              <a:ext cx="33120" cy="33120"/>
            </a:xfrm>
            <a:prstGeom prst="ellipse">
              <a:avLst/>
            </a:prstGeom>
            <a:solidFill>
              <a:srgbClr val="43957c"/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35640" rIns="35640" tIns="11880" bIns="118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Circle"/>
            <p:cNvSpPr/>
            <p:nvPr/>
          </p:nvSpPr>
          <p:spPr>
            <a:xfrm>
              <a:off x="384480" y="1132920"/>
              <a:ext cx="33120" cy="33120"/>
            </a:xfrm>
            <a:prstGeom prst="ellipse">
              <a:avLst/>
            </a:prstGeom>
            <a:solidFill>
              <a:srgbClr val="43957c"/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35640" rIns="35640" tIns="11880" bIns="118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Circle"/>
            <p:cNvSpPr/>
            <p:nvPr/>
          </p:nvSpPr>
          <p:spPr>
            <a:xfrm>
              <a:off x="125280" y="1257840"/>
              <a:ext cx="33120" cy="33120"/>
            </a:xfrm>
            <a:prstGeom prst="ellipse">
              <a:avLst/>
            </a:prstGeom>
            <a:solidFill>
              <a:srgbClr val="43957c"/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35640" rIns="35640" tIns="11880" bIns="118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Circle"/>
            <p:cNvSpPr/>
            <p:nvPr/>
          </p:nvSpPr>
          <p:spPr>
            <a:xfrm>
              <a:off x="254880" y="1257840"/>
              <a:ext cx="33120" cy="33120"/>
            </a:xfrm>
            <a:prstGeom prst="ellipse">
              <a:avLst/>
            </a:prstGeom>
            <a:solidFill>
              <a:srgbClr val="43957c"/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35640" rIns="35640" tIns="11880" bIns="118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Circle"/>
            <p:cNvSpPr/>
            <p:nvPr/>
          </p:nvSpPr>
          <p:spPr>
            <a:xfrm>
              <a:off x="384480" y="1257840"/>
              <a:ext cx="33120" cy="33120"/>
            </a:xfrm>
            <a:prstGeom prst="ellipse">
              <a:avLst/>
            </a:prstGeom>
            <a:solidFill>
              <a:srgbClr val="43957c"/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35640" rIns="35640" tIns="11880" bIns="118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Circle"/>
            <p:cNvSpPr/>
            <p:nvPr/>
          </p:nvSpPr>
          <p:spPr>
            <a:xfrm>
              <a:off x="514080" y="1257840"/>
              <a:ext cx="33120" cy="33120"/>
            </a:xfrm>
            <a:prstGeom prst="ellipse">
              <a:avLst/>
            </a:prstGeom>
            <a:solidFill>
              <a:srgbClr val="43957c"/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35640" rIns="35640" tIns="11880" bIns="118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Circle"/>
            <p:cNvSpPr/>
            <p:nvPr/>
          </p:nvSpPr>
          <p:spPr>
            <a:xfrm>
              <a:off x="125280" y="1383120"/>
              <a:ext cx="33120" cy="33120"/>
            </a:xfrm>
            <a:prstGeom prst="ellipse">
              <a:avLst/>
            </a:prstGeom>
            <a:solidFill>
              <a:srgbClr val="43957c"/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35640" rIns="35640" tIns="11880" bIns="118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Circle"/>
            <p:cNvSpPr/>
            <p:nvPr/>
          </p:nvSpPr>
          <p:spPr>
            <a:xfrm>
              <a:off x="254880" y="1383120"/>
              <a:ext cx="33120" cy="33120"/>
            </a:xfrm>
            <a:prstGeom prst="ellipse">
              <a:avLst/>
            </a:prstGeom>
            <a:solidFill>
              <a:srgbClr val="43957c"/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35640" rIns="35640" tIns="11880" bIns="118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Circle"/>
            <p:cNvSpPr/>
            <p:nvPr/>
          </p:nvSpPr>
          <p:spPr>
            <a:xfrm>
              <a:off x="384480" y="1383120"/>
              <a:ext cx="33120" cy="33120"/>
            </a:xfrm>
            <a:prstGeom prst="ellipse">
              <a:avLst/>
            </a:prstGeom>
            <a:solidFill>
              <a:srgbClr val="43957c"/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35640" rIns="35640" tIns="11880" bIns="118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Circle"/>
            <p:cNvSpPr/>
            <p:nvPr/>
          </p:nvSpPr>
          <p:spPr>
            <a:xfrm>
              <a:off x="514080" y="1383120"/>
              <a:ext cx="33120" cy="33120"/>
            </a:xfrm>
            <a:prstGeom prst="ellipse">
              <a:avLst/>
            </a:prstGeom>
            <a:solidFill>
              <a:srgbClr val="43957c"/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35640" rIns="35640" tIns="11880" bIns="118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Circle"/>
            <p:cNvSpPr/>
            <p:nvPr/>
          </p:nvSpPr>
          <p:spPr>
            <a:xfrm>
              <a:off x="254880" y="1508400"/>
              <a:ext cx="33120" cy="33120"/>
            </a:xfrm>
            <a:prstGeom prst="ellipse">
              <a:avLst/>
            </a:prstGeom>
            <a:solidFill>
              <a:srgbClr val="43957c"/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35640" rIns="35640" tIns="11880" bIns="118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Circle"/>
            <p:cNvSpPr/>
            <p:nvPr/>
          </p:nvSpPr>
          <p:spPr>
            <a:xfrm>
              <a:off x="384480" y="1508400"/>
              <a:ext cx="33120" cy="33120"/>
            </a:xfrm>
            <a:prstGeom prst="ellipse">
              <a:avLst/>
            </a:prstGeom>
            <a:solidFill>
              <a:srgbClr val="43957c"/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35640" rIns="35640" tIns="11880" bIns="118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Год основания…"/>
          <p:cNvSpPr/>
          <p:nvPr/>
        </p:nvSpPr>
        <p:spPr>
          <a:xfrm>
            <a:off x="474840" y="2138760"/>
            <a:ext cx="1672920" cy="6382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д осн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ании Paul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Густав Паулиг открывает магазин в центре Хельсинки. Его идея – открывать вкусы продуктов со всего мира.…"/>
          <p:cNvSpPr/>
          <p:nvPr/>
        </p:nvSpPr>
        <p:spPr>
          <a:xfrm>
            <a:off x="450360" y="2617200"/>
            <a:ext cx="2318400" cy="25585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устав Паулиг открывает магазин в центре Хельсинки. Его идея – поиск новых вкусов со всего ми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ожено начало экспорту кофе, специй и других продуктов 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1876"/>
          <p:cNvSpPr/>
          <p:nvPr/>
        </p:nvSpPr>
        <p:spPr>
          <a:xfrm>
            <a:off x="1067040" y="1671120"/>
            <a:ext cx="67788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877050"/>
                </a:solidFill>
                <a:latin typeface="Montserrat Bold"/>
                <a:ea typeface="Montserrat Bold"/>
              </a:rPr>
              <a:t>18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001-cafeteria.png" descr="001-cafeteria.png"/>
          <p:cNvPicPr/>
          <p:nvPr/>
        </p:nvPicPr>
        <p:blipFill>
          <a:blip r:embed="rId1"/>
          <a:stretch/>
        </p:blipFill>
        <p:spPr>
          <a:xfrm>
            <a:off x="510840" y="1633680"/>
            <a:ext cx="469440" cy="469440"/>
          </a:xfrm>
          <a:prstGeom prst="rect">
            <a:avLst/>
          </a:prstGeom>
          <a:ln w="12700">
            <a:noFill/>
          </a:ln>
        </p:spPr>
      </p:pic>
      <p:sp>
        <p:nvSpPr>
          <p:cNvPr id="58" name="Новая…"/>
          <p:cNvSpPr/>
          <p:nvPr/>
        </p:nvSpPr>
        <p:spPr>
          <a:xfrm>
            <a:off x="3356280" y="2138760"/>
            <a:ext cx="1619640" cy="6382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в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паковка 250 г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Компания Paulig первой на рынке предложила кофе…"/>
          <p:cNvSpPr/>
          <p:nvPr/>
        </p:nvSpPr>
        <p:spPr>
          <a:xfrm>
            <a:off x="3342960" y="2617200"/>
            <a:ext cx="2327760" cy="17355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ания Paulig перво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рынке предложила коф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удобной рознич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паковке 250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924"/>
          <p:cNvSpPr/>
          <p:nvPr/>
        </p:nvSpPr>
        <p:spPr>
          <a:xfrm>
            <a:off x="3966840" y="1671120"/>
            <a:ext cx="67788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877050"/>
                </a:solidFill>
                <a:latin typeface="Montserrat Bold"/>
                <a:ea typeface="Montserrat Bold"/>
              </a:rPr>
              <a:t>19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aulig…"/>
          <p:cNvSpPr/>
          <p:nvPr/>
        </p:nvSpPr>
        <p:spPr>
          <a:xfrm>
            <a:off x="6249240" y="2138760"/>
            <a:ext cx="1380240" cy="6382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Paul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Santa 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артнерство приводит…"/>
          <p:cNvSpPr/>
          <p:nvPr/>
        </p:nvSpPr>
        <p:spPr>
          <a:xfrm>
            <a:off x="6248160" y="2617200"/>
            <a:ext cx="2327760" cy="20098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ртнерство приводи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 расширению географии присутствия брендов, начинается международн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1990"/>
          <p:cNvSpPr/>
          <p:nvPr/>
        </p:nvSpPr>
        <p:spPr>
          <a:xfrm>
            <a:off x="6867000" y="1671120"/>
            <a:ext cx="67788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877050"/>
                </a:solidFill>
                <a:latin typeface="Montserrat Bold"/>
                <a:ea typeface="Montserrat Bold"/>
              </a:rPr>
              <a:t>19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дна…"/>
          <p:cNvSpPr/>
          <p:nvPr/>
        </p:nvSpPr>
        <p:spPr>
          <a:xfrm>
            <a:off x="9157680" y="2138760"/>
            <a:ext cx="1051200" cy="6382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д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aulig и Santa Maria начинают работу…"/>
          <p:cNvSpPr/>
          <p:nvPr/>
        </p:nvSpPr>
        <p:spPr>
          <a:xfrm>
            <a:off x="9150120" y="2617200"/>
            <a:ext cx="2009880" cy="11869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Paulig и Santa Maria начинают работ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России как одна комп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2018"/>
          <p:cNvSpPr/>
          <p:nvPr/>
        </p:nvSpPr>
        <p:spPr>
          <a:xfrm>
            <a:off x="9766440" y="1671120"/>
            <a:ext cx="67788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877050"/>
                </a:solidFill>
                <a:latin typeface="Montserrat Bold"/>
                <a:ea typeface="Montserrat Bold"/>
              </a:rPr>
              <a:t>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Кофеобжарочное производство"/>
          <p:cNvSpPr/>
          <p:nvPr/>
        </p:nvSpPr>
        <p:spPr>
          <a:xfrm>
            <a:off x="1586160" y="4782600"/>
            <a:ext cx="2115360" cy="5158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Montserrat Bold"/>
                <a:ea typeface="Montserrat Bold"/>
              </a:rPr>
              <a:t>Кофеобжарочное производ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Густав начинает обжарку небольших порций зеленого кофе. 12 июня 1905 года зарегистрирована торговая марка Gustav Paulig"/>
          <p:cNvSpPr/>
          <p:nvPr/>
        </p:nvSpPr>
        <p:spPr>
          <a:xfrm>
            <a:off x="1586160" y="5261040"/>
            <a:ext cx="2327760" cy="926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000000"/>
                </a:solidFill>
                <a:latin typeface="Montserrat Regular"/>
                <a:ea typeface="Montserrat Regular"/>
              </a:rPr>
              <a:t>Густав начинает обжарку небольших порций зеленого кофе. 12 июня 1905 года зарегистрирована торговая марка Gustav Pauli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1905"/>
          <p:cNvSpPr/>
          <p:nvPr/>
        </p:nvSpPr>
        <p:spPr>
          <a:xfrm>
            <a:off x="2202480" y="4315320"/>
            <a:ext cx="67788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877050"/>
                </a:solidFill>
                <a:latin typeface="Montserrat Bold"/>
                <a:ea typeface="Montserrat Bold"/>
              </a:rPr>
              <a:t>19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вый завод…"/>
          <p:cNvSpPr/>
          <p:nvPr/>
        </p:nvSpPr>
        <p:spPr>
          <a:xfrm>
            <a:off x="4503240" y="4782600"/>
            <a:ext cx="1401480" cy="6382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вый зав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Paul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овременное…"/>
          <p:cNvSpPr/>
          <p:nvPr/>
        </p:nvSpPr>
        <p:spPr>
          <a:xfrm>
            <a:off x="4497480" y="5261040"/>
            <a:ext cx="2379600" cy="17355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времен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изводство кофе открывается в Финлянд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г. Хельсинки (Вуосаар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1968"/>
          <p:cNvSpPr/>
          <p:nvPr/>
        </p:nvSpPr>
        <p:spPr>
          <a:xfrm>
            <a:off x="5120640" y="4315320"/>
            <a:ext cx="67788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877050"/>
                </a:solidFill>
                <a:latin typeface="Montserrat Bold"/>
                <a:ea typeface="Montserrat Bold"/>
              </a:rPr>
              <a:t>19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Завод Paulig…"/>
          <p:cNvSpPr/>
          <p:nvPr/>
        </p:nvSpPr>
        <p:spPr>
          <a:xfrm>
            <a:off x="7467120" y="4782600"/>
            <a:ext cx="1320840" cy="6382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вод Paul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ачинается…"/>
          <p:cNvSpPr/>
          <p:nvPr/>
        </p:nvSpPr>
        <p:spPr>
          <a:xfrm>
            <a:off x="7443000" y="5261040"/>
            <a:ext cx="2115360" cy="11869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чина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извод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фе на заво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Тверской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2011"/>
          <p:cNvSpPr/>
          <p:nvPr/>
        </p:nvSpPr>
        <p:spPr>
          <a:xfrm>
            <a:off x="8035920" y="4315320"/>
            <a:ext cx="67644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877050"/>
                </a:solidFill>
                <a:latin typeface="Montserrat Bold"/>
                <a:ea typeface="Montserrat Bold"/>
              </a:rPr>
              <a:t>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aulig…"/>
          <p:cNvSpPr/>
          <p:nvPr/>
        </p:nvSpPr>
        <p:spPr>
          <a:xfrm>
            <a:off x="10363320" y="4782600"/>
            <a:ext cx="647280" cy="6382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Paul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aulig – компания…"/>
          <p:cNvSpPr/>
          <p:nvPr/>
        </p:nvSpPr>
        <p:spPr>
          <a:xfrm>
            <a:off x="10339920" y="5261040"/>
            <a:ext cx="1911240" cy="14612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Paulig – комп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богатой истори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грандиозным будущ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2020"/>
          <p:cNvSpPr/>
          <p:nvPr/>
        </p:nvSpPr>
        <p:spPr>
          <a:xfrm>
            <a:off x="10956240" y="4315320"/>
            <a:ext cx="67788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877050"/>
                </a:solidFill>
                <a:latin typeface="Montserrat Bold"/>
                <a:ea typeface="Montserrat Bold"/>
              </a:rPr>
              <a:t>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"/>
          <p:cNvGrpSpPr/>
          <p:nvPr/>
        </p:nvGrpSpPr>
        <p:grpSpPr>
          <a:xfrm>
            <a:off x="696600" y="4043880"/>
            <a:ext cx="816120" cy="504360"/>
            <a:chOff x="696600" y="4043880"/>
            <a:chExt cx="816120" cy="504360"/>
          </a:xfrm>
        </p:grpSpPr>
        <p:sp>
          <p:nvSpPr>
            <p:cNvPr id="80" name="Triangle"/>
            <p:cNvSpPr/>
            <p:nvPr/>
          </p:nvSpPr>
          <p:spPr>
            <a:xfrm rot="10800000">
              <a:off x="696600" y="4043880"/>
              <a:ext cx="143640" cy="105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35640" rIns="35640" tIns="35640" bIns="35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Line"/>
            <p:cNvSpPr/>
            <p:nvPr/>
          </p:nvSpPr>
          <p:spPr>
            <a:xfrm>
              <a:off x="766800" y="4062240"/>
              <a:ext cx="745920" cy="48600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</a:path>
              </a:pathLst>
            </a:custGeom>
            <a:noFill/>
            <a:ln w="12700">
              <a:solidFill>
                <a:srgbClr val="dddddd"/>
              </a:solidFill>
              <a:custDash>
                <a:ds d="600000" sp="600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Group"/>
          <p:cNvGrpSpPr/>
          <p:nvPr/>
        </p:nvGrpSpPr>
        <p:grpSpPr>
          <a:xfrm>
            <a:off x="3389760" y="3906000"/>
            <a:ext cx="816120" cy="641880"/>
            <a:chOff x="3389760" y="3906000"/>
            <a:chExt cx="816120" cy="641880"/>
          </a:xfrm>
        </p:grpSpPr>
        <p:sp>
          <p:nvSpPr>
            <p:cNvPr id="83" name="Triangle"/>
            <p:cNvSpPr/>
            <p:nvPr/>
          </p:nvSpPr>
          <p:spPr>
            <a:xfrm rot="10800000">
              <a:off x="3389760" y="3906000"/>
              <a:ext cx="143640" cy="105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35640" rIns="35640" tIns="35640" bIns="35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Line"/>
            <p:cNvSpPr/>
            <p:nvPr/>
          </p:nvSpPr>
          <p:spPr>
            <a:xfrm>
              <a:off x="3459960" y="3997080"/>
              <a:ext cx="745920" cy="55080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550800"/>
                <a:gd name="textAreaBottom" fmla="*/ 551160 h 55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</a:path>
              </a:pathLst>
            </a:custGeom>
            <a:noFill/>
            <a:ln w="12700">
              <a:solidFill>
                <a:srgbClr val="dddddd"/>
              </a:solidFill>
              <a:custDash>
                <a:ds d="600000" sp="600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"/>
          <p:cNvGrpSpPr/>
          <p:nvPr/>
        </p:nvGrpSpPr>
        <p:grpSpPr>
          <a:xfrm>
            <a:off x="6333120" y="3906000"/>
            <a:ext cx="816480" cy="641880"/>
            <a:chOff x="6333120" y="3906000"/>
            <a:chExt cx="816480" cy="641880"/>
          </a:xfrm>
        </p:grpSpPr>
        <p:sp>
          <p:nvSpPr>
            <p:cNvPr id="86" name="Triangle"/>
            <p:cNvSpPr/>
            <p:nvPr/>
          </p:nvSpPr>
          <p:spPr>
            <a:xfrm rot="10800000">
              <a:off x="6333120" y="3906000"/>
              <a:ext cx="143640" cy="105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35640" rIns="35640" tIns="35640" bIns="35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Line"/>
            <p:cNvSpPr/>
            <p:nvPr/>
          </p:nvSpPr>
          <p:spPr>
            <a:xfrm>
              <a:off x="6403680" y="3997080"/>
              <a:ext cx="745920" cy="55080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550800"/>
                <a:gd name="textAreaBottom" fmla="*/ 551160 h 55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</a:path>
              </a:pathLst>
            </a:custGeom>
            <a:noFill/>
            <a:ln w="12700">
              <a:solidFill>
                <a:srgbClr val="dddddd"/>
              </a:solidFill>
              <a:custDash>
                <a:ds d="600000" sp="600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"/>
          <p:cNvGrpSpPr/>
          <p:nvPr/>
        </p:nvGrpSpPr>
        <p:grpSpPr>
          <a:xfrm>
            <a:off x="9210960" y="3906000"/>
            <a:ext cx="816480" cy="641880"/>
            <a:chOff x="9210960" y="3906000"/>
            <a:chExt cx="816480" cy="641880"/>
          </a:xfrm>
        </p:grpSpPr>
        <p:sp>
          <p:nvSpPr>
            <p:cNvPr id="89" name="Triangle"/>
            <p:cNvSpPr/>
            <p:nvPr/>
          </p:nvSpPr>
          <p:spPr>
            <a:xfrm rot="10800000">
              <a:off x="9210960" y="3906000"/>
              <a:ext cx="143640" cy="105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35640" rIns="35640" tIns="35640" bIns="35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Line"/>
            <p:cNvSpPr/>
            <p:nvPr/>
          </p:nvSpPr>
          <p:spPr>
            <a:xfrm>
              <a:off x="9281520" y="3997080"/>
              <a:ext cx="745920" cy="55080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550800"/>
                <a:gd name="textAreaBottom" fmla="*/ 551160 h 55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</a:path>
              </a:pathLst>
            </a:custGeom>
            <a:noFill/>
            <a:ln w="12700">
              <a:solidFill>
                <a:srgbClr val="dddddd"/>
              </a:solidFill>
              <a:custDash>
                <a:ds d="600000" sp="600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"/>
          <p:cNvGrpSpPr/>
          <p:nvPr/>
        </p:nvGrpSpPr>
        <p:grpSpPr>
          <a:xfrm>
            <a:off x="2902320" y="1933200"/>
            <a:ext cx="316800" cy="2198160"/>
            <a:chOff x="2902320" y="1933200"/>
            <a:chExt cx="316800" cy="2198160"/>
          </a:xfrm>
        </p:grpSpPr>
        <p:sp>
          <p:nvSpPr>
            <p:cNvPr id="92" name="Line"/>
            <p:cNvSpPr/>
            <p:nvPr/>
          </p:nvSpPr>
          <p:spPr>
            <a:xfrm rot="5400000">
              <a:off x="2006640" y="2899800"/>
              <a:ext cx="2179080" cy="245520"/>
            </a:xfrm>
            <a:custGeom>
              <a:avLst/>
              <a:gdLst>
                <a:gd name="textAreaLeft" fmla="*/ 0 w 2179080"/>
                <a:gd name="textAreaRight" fmla="*/ 2179440 w 217908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</a:path>
              </a:pathLst>
            </a:custGeom>
            <a:noFill/>
            <a:ln w="12700">
              <a:solidFill>
                <a:srgbClr val="dddddd"/>
              </a:solidFill>
              <a:custDash>
                <a:ds d="600000" sp="600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Triangle"/>
            <p:cNvSpPr/>
            <p:nvPr/>
          </p:nvSpPr>
          <p:spPr>
            <a:xfrm>
              <a:off x="2902320" y="4028040"/>
              <a:ext cx="140040" cy="10332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35640" rIns="35640" tIns="35640" bIns="35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"/>
          <p:cNvGrpSpPr/>
          <p:nvPr/>
        </p:nvGrpSpPr>
        <p:grpSpPr>
          <a:xfrm>
            <a:off x="5843880" y="1933200"/>
            <a:ext cx="316800" cy="2198160"/>
            <a:chOff x="5843880" y="1933200"/>
            <a:chExt cx="316800" cy="2198160"/>
          </a:xfrm>
        </p:grpSpPr>
        <p:sp>
          <p:nvSpPr>
            <p:cNvPr id="95" name="Line"/>
            <p:cNvSpPr/>
            <p:nvPr/>
          </p:nvSpPr>
          <p:spPr>
            <a:xfrm rot="5400000">
              <a:off x="4948200" y="2899800"/>
              <a:ext cx="2179080" cy="245520"/>
            </a:xfrm>
            <a:custGeom>
              <a:avLst/>
              <a:gdLst>
                <a:gd name="textAreaLeft" fmla="*/ 0 w 2179080"/>
                <a:gd name="textAreaRight" fmla="*/ 2179440 w 217908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</a:path>
              </a:pathLst>
            </a:custGeom>
            <a:noFill/>
            <a:ln w="12700">
              <a:solidFill>
                <a:srgbClr val="dddddd"/>
              </a:solidFill>
              <a:custDash>
                <a:ds d="600000" sp="600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riangle"/>
            <p:cNvSpPr/>
            <p:nvPr/>
          </p:nvSpPr>
          <p:spPr>
            <a:xfrm>
              <a:off x="5843880" y="4028040"/>
              <a:ext cx="140040" cy="10332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35640" rIns="35640" tIns="35640" bIns="35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"/>
          <p:cNvGrpSpPr/>
          <p:nvPr/>
        </p:nvGrpSpPr>
        <p:grpSpPr>
          <a:xfrm>
            <a:off x="8704800" y="1933200"/>
            <a:ext cx="316800" cy="2198160"/>
            <a:chOff x="8704800" y="1933200"/>
            <a:chExt cx="316800" cy="2198160"/>
          </a:xfrm>
        </p:grpSpPr>
        <p:sp>
          <p:nvSpPr>
            <p:cNvPr id="98" name="Line"/>
            <p:cNvSpPr/>
            <p:nvPr/>
          </p:nvSpPr>
          <p:spPr>
            <a:xfrm rot="5400000">
              <a:off x="7809120" y="2899800"/>
              <a:ext cx="2179080" cy="245520"/>
            </a:xfrm>
            <a:custGeom>
              <a:avLst/>
              <a:gdLst>
                <a:gd name="textAreaLeft" fmla="*/ 0 w 2179080"/>
                <a:gd name="textAreaRight" fmla="*/ 2179440 w 217908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</a:path>
              </a:pathLst>
            </a:custGeom>
            <a:noFill/>
            <a:ln w="12700">
              <a:solidFill>
                <a:srgbClr val="dddddd"/>
              </a:solidFill>
              <a:custDash>
                <a:ds d="600000" sp="600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Triangle"/>
            <p:cNvSpPr/>
            <p:nvPr/>
          </p:nvSpPr>
          <p:spPr>
            <a:xfrm>
              <a:off x="8704800" y="4028040"/>
              <a:ext cx="140040" cy="10332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35640" rIns="35640" tIns="35640" bIns="35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0" name="factory.png" descr="factory.png"/>
          <p:cNvPicPr/>
          <p:nvPr/>
        </p:nvPicPr>
        <p:blipFill>
          <a:blip r:embed="rId2"/>
          <a:stretch/>
        </p:blipFill>
        <p:spPr>
          <a:xfrm>
            <a:off x="7494840" y="4276440"/>
            <a:ext cx="471960" cy="471960"/>
          </a:xfrm>
          <a:prstGeom prst="rect">
            <a:avLst/>
          </a:prstGeom>
          <a:ln w="12700">
            <a:noFill/>
          </a:ln>
        </p:spPr>
      </p:pic>
      <p:pic>
        <p:nvPicPr>
          <p:cNvPr id="101" name="factory.png" descr="factory.png"/>
          <p:cNvPicPr/>
          <p:nvPr/>
        </p:nvPicPr>
        <p:blipFill>
          <a:blip r:embed="rId3"/>
          <a:stretch/>
        </p:blipFill>
        <p:spPr>
          <a:xfrm>
            <a:off x="4554360" y="4276440"/>
            <a:ext cx="471960" cy="471960"/>
          </a:xfrm>
          <a:prstGeom prst="rect">
            <a:avLst/>
          </a:prstGeom>
          <a:ln w="12700">
            <a:noFill/>
          </a:ln>
        </p:spPr>
      </p:pic>
      <p:pic>
        <p:nvPicPr>
          <p:cNvPr id="102" name="factory.png" descr="factory.png"/>
          <p:cNvPicPr/>
          <p:nvPr/>
        </p:nvPicPr>
        <p:blipFill>
          <a:blip r:embed="rId4"/>
          <a:stretch/>
        </p:blipFill>
        <p:spPr>
          <a:xfrm>
            <a:off x="1649520" y="4276440"/>
            <a:ext cx="471960" cy="471960"/>
          </a:xfrm>
          <a:prstGeom prst="rect">
            <a:avLst/>
          </a:prstGeom>
          <a:ln w="12700">
            <a:noFill/>
          </a:ln>
        </p:spPr>
      </p:pic>
      <p:pic>
        <p:nvPicPr>
          <p:cNvPr id="103" name="004-package.png" descr="004-package.png"/>
          <p:cNvPicPr/>
          <p:nvPr/>
        </p:nvPicPr>
        <p:blipFill>
          <a:blip r:embed="rId5"/>
          <a:stretch/>
        </p:blipFill>
        <p:spPr>
          <a:xfrm>
            <a:off x="3417480" y="1659240"/>
            <a:ext cx="469440" cy="469440"/>
          </a:xfrm>
          <a:prstGeom prst="rect">
            <a:avLst/>
          </a:prstGeom>
          <a:ln w="12700">
            <a:noFill/>
          </a:ln>
        </p:spPr>
      </p:pic>
      <p:pic>
        <p:nvPicPr>
          <p:cNvPr id="104" name="001-enterprise.png" descr="001-enterprise.png"/>
          <p:cNvPicPr/>
          <p:nvPr/>
        </p:nvPicPr>
        <p:blipFill>
          <a:blip r:embed="rId6"/>
          <a:stretch/>
        </p:blipFill>
        <p:spPr>
          <a:xfrm>
            <a:off x="9210960" y="1652760"/>
            <a:ext cx="469440" cy="469440"/>
          </a:xfrm>
          <a:prstGeom prst="rect">
            <a:avLst/>
          </a:prstGeom>
          <a:ln w="12700">
            <a:noFill/>
          </a:ln>
        </p:spPr>
      </p:pic>
      <p:pic>
        <p:nvPicPr>
          <p:cNvPr id="105" name="005-respect.png" descr="005-respect.png"/>
          <p:cNvPicPr/>
          <p:nvPr/>
        </p:nvPicPr>
        <p:blipFill>
          <a:blip r:embed="rId7"/>
          <a:stretch/>
        </p:blipFill>
        <p:spPr>
          <a:xfrm>
            <a:off x="6315840" y="1652760"/>
            <a:ext cx="469440" cy="469440"/>
          </a:xfrm>
          <a:prstGeom prst="rect">
            <a:avLst/>
          </a:prstGeom>
          <a:ln w="12700">
            <a:noFill/>
          </a:ln>
        </p:spPr>
      </p:pic>
      <p:grpSp>
        <p:nvGrpSpPr>
          <p:cNvPr id="106" name="Group"/>
          <p:cNvGrpSpPr/>
          <p:nvPr/>
        </p:nvGrpSpPr>
        <p:grpSpPr>
          <a:xfrm>
            <a:off x="7725600" y="1758960"/>
            <a:ext cx="678960" cy="806760"/>
            <a:chOff x="7725600" y="1758960"/>
            <a:chExt cx="678960" cy="806760"/>
          </a:xfrm>
        </p:grpSpPr>
        <p:sp>
          <p:nvSpPr>
            <p:cNvPr id="107" name="Shape"/>
            <p:cNvSpPr/>
            <p:nvPr/>
          </p:nvSpPr>
          <p:spPr>
            <a:xfrm>
              <a:off x="7737840" y="1771200"/>
              <a:ext cx="662400" cy="466200"/>
            </a:xfrm>
            <a:custGeom>
              <a:avLst/>
              <a:gdLst>
                <a:gd name="textAreaLeft" fmla="*/ 0 w 662400"/>
                <a:gd name="textAreaRight" fmla="*/ 662760 w 66240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608" y="0"/>
                  </a:moveTo>
                  <a:lnTo>
                    <a:pt x="0" y="5089"/>
                  </a:lnTo>
                  <a:lnTo>
                    <a:pt x="26" y="16113"/>
                  </a:lnTo>
                  <a:lnTo>
                    <a:pt x="10799" y="21600"/>
                  </a:lnTo>
                  <a:lnTo>
                    <a:pt x="21458" y="16142"/>
                  </a:lnTo>
                  <a:lnTo>
                    <a:pt x="21600" y="5314"/>
                  </a:lnTo>
                  <a:lnTo>
                    <a:pt x="10608" y="0"/>
                  </a:lnTo>
                  <a:close/>
                </a:path>
              </a:pathLst>
            </a:custGeom>
            <a:solidFill>
              <a:srgbClr val="ffffff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8" name="Image" descr="Image"/>
            <p:cNvPicPr/>
            <p:nvPr/>
          </p:nvPicPr>
          <p:blipFill>
            <a:blip r:embed="rId8"/>
            <a:stretch/>
          </p:blipFill>
          <p:spPr>
            <a:xfrm>
              <a:off x="7725600" y="1758960"/>
              <a:ext cx="678960" cy="48672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09" name="Image" descr="Image"/>
            <p:cNvPicPr/>
            <p:nvPr/>
          </p:nvPicPr>
          <p:blipFill>
            <a:blip r:embed="rId9"/>
            <a:stretch/>
          </p:blipFill>
          <p:spPr>
            <a:xfrm>
              <a:off x="7725600" y="2309760"/>
              <a:ext cx="678960" cy="255960"/>
            </a:xfrm>
            <a:prstGeom prst="rect">
              <a:avLst/>
            </a:prstGeom>
            <a:ln w="12700">
              <a:noFill/>
            </a:ln>
          </p:spPr>
        </p:pic>
      </p:grpSp>
      <p:sp>
        <p:nvSpPr>
          <p:cNvPr id="110" name="Line"/>
          <p:cNvSpPr/>
          <p:nvPr/>
        </p:nvSpPr>
        <p:spPr>
          <a:xfrm>
            <a:off x="11833920" y="4545720"/>
            <a:ext cx="622440" cy="360"/>
          </a:xfrm>
          <a:prstGeom prst="line">
            <a:avLst/>
          </a:prstGeom>
          <a:ln w="12700">
            <a:solidFill>
              <a:srgbClr val="dddddd"/>
            </a:solidFill>
            <a:custDash>
              <a:ds d="600000" sp="600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riangle"/>
          <p:cNvSpPr/>
          <p:nvPr/>
        </p:nvSpPr>
        <p:spPr>
          <a:xfrm rot="5400000">
            <a:off x="11787840" y="4491360"/>
            <a:ext cx="143640" cy="105840"/>
          </a:xfrm>
          <a:custGeom>
            <a:avLst/>
            <a:gdLst>
              <a:gd name="textAreaLeft" fmla="*/ 0 w 143640"/>
              <a:gd name="textAreaRight" fmla="*/ 144000 w 14364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conquer.png" descr="conquer.png"/>
          <p:cNvPicPr/>
          <p:nvPr/>
        </p:nvPicPr>
        <p:blipFill>
          <a:blip r:embed="rId10"/>
          <a:stretch/>
        </p:blipFill>
        <p:spPr>
          <a:xfrm>
            <a:off x="10368360" y="4309560"/>
            <a:ext cx="469440" cy="469440"/>
          </a:xfrm>
          <a:prstGeom prst="rect">
            <a:avLst/>
          </a:prstGeom>
          <a:ln w="1270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sldNum" idx="2"/>
          </p:nvPr>
        </p:nvSpPr>
        <p:spPr>
          <a:xfrm>
            <a:off x="11786400" y="6537600"/>
            <a:ext cx="308520" cy="2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200" spc="-1" strike="noStrike">
                <a:solidFill>
                  <a:srgbClr val="8b8b8b"/>
                </a:solidFill>
                <a:latin typeface="Montserra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8b8b8b"/>
                </a:solidFill>
                <a:latin typeface="Montserrat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"/>
          <p:cNvSpPr/>
          <p:nvPr/>
        </p:nvSpPr>
        <p:spPr>
          <a:xfrm>
            <a:off x="-57600" y="3812040"/>
            <a:ext cx="12306600" cy="3119400"/>
          </a:xfrm>
          <a:prstGeom prst="rect">
            <a:avLst/>
          </a:prstGeom>
          <a:solidFill>
            <a:srgbClr val="f7f7f7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20% потребляемого молотого или зернового натурального кофе в России приходится…"/>
          <p:cNvSpPr/>
          <p:nvPr/>
        </p:nvSpPr>
        <p:spPr>
          <a:xfrm>
            <a:off x="4335840" y="1400760"/>
            <a:ext cx="3597840" cy="11869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0% потребляемого молотого или зернового натурального кофе в России приходи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кофе компании Pauli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Каждая 5 чашка"/>
          <p:cNvSpPr/>
          <p:nvPr/>
        </p:nvSpPr>
        <p:spPr>
          <a:xfrm>
            <a:off x="4425480" y="1104120"/>
            <a:ext cx="1803960" cy="3330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877050"/>
                </a:solidFill>
                <a:latin typeface="Montserrat Bold"/>
                <a:ea typeface="Montserrat Bold"/>
              </a:rPr>
              <a:t>Каждая 5 чашка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Ежегодно компания Paulig закупает каждое 100 зерно от мирового урожая зеленого кофе."/>
          <p:cNvSpPr/>
          <p:nvPr/>
        </p:nvSpPr>
        <p:spPr>
          <a:xfrm>
            <a:off x="464040" y="1400760"/>
            <a:ext cx="2886480" cy="5918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000000"/>
                </a:solidFill>
                <a:latin typeface="Montserrat Regular"/>
                <a:ea typeface="Montserrat Regular"/>
              </a:rPr>
              <a:t>Ежегодно компания Paulig закупает каждое 100 зерно от мирового урожая зеленого кофе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Каждое 100 зерно"/>
          <p:cNvSpPr/>
          <p:nvPr/>
        </p:nvSpPr>
        <p:spPr>
          <a:xfrm>
            <a:off x="572400" y="1104120"/>
            <a:ext cx="1935000" cy="3330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877050"/>
                </a:solidFill>
                <a:latin typeface="Montserrat Bold"/>
                <a:ea typeface="Montserrat Bold"/>
              </a:rPr>
              <a:t>Каждое 100 зер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Каждая 7 пачка кофе,…"/>
          <p:cNvSpPr/>
          <p:nvPr/>
        </p:nvSpPr>
        <p:spPr>
          <a:xfrm>
            <a:off x="8118720" y="1400760"/>
            <a:ext cx="3178440" cy="9126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дая 7 пачка коф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упленная в Росс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изведена Pauli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Каждая 7 пачка*"/>
          <p:cNvSpPr/>
          <p:nvPr/>
        </p:nvSpPr>
        <p:spPr>
          <a:xfrm>
            <a:off x="8198640" y="1104120"/>
            <a:ext cx="1860480" cy="3330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877050"/>
                </a:solidFill>
                <a:latin typeface="Montserrat Bold"/>
                <a:ea typeface="Montserrat Bold"/>
              </a:rPr>
              <a:t>Каждая 7 пачка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В настоящее время Paulig производит 15 блендов на любой вкус в удобной упаковке  от 75 граммов…"/>
          <p:cNvSpPr/>
          <p:nvPr/>
        </p:nvSpPr>
        <p:spPr>
          <a:xfrm>
            <a:off x="4335840" y="4245840"/>
            <a:ext cx="3052440" cy="14612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настоящее время Paulig производит 15 блендов на любой вкус в удобной упаковке  от 75 грамм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 1 килограм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15 блендов кофе в России"/>
          <p:cNvSpPr/>
          <p:nvPr/>
        </p:nvSpPr>
        <p:spPr>
          <a:xfrm>
            <a:off x="4481640" y="3949200"/>
            <a:ext cx="2681640" cy="3330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877050"/>
                </a:solidFill>
                <a:latin typeface="Montserrat Bold"/>
                <a:ea typeface="Montserrat Bold"/>
              </a:rPr>
              <a:t>15 блендов кофе в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aulig закупает кофе…"/>
          <p:cNvSpPr/>
          <p:nvPr/>
        </p:nvSpPr>
        <p:spPr>
          <a:xfrm>
            <a:off x="8118720" y="4245840"/>
            <a:ext cx="2886480" cy="9126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Paulig закупает коф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15 странах-производител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Закупки в 15 странах"/>
          <p:cNvSpPr/>
          <p:nvPr/>
        </p:nvSpPr>
        <p:spPr>
          <a:xfrm>
            <a:off x="8220600" y="3949200"/>
            <a:ext cx="2192760" cy="3330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877050"/>
                </a:solidFill>
                <a:latin typeface="Montserrat Bold"/>
                <a:ea typeface="Montserrat Bold"/>
              </a:rPr>
              <a:t>Закупки в 15 стран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"/>
          <p:cNvGrpSpPr/>
          <p:nvPr/>
        </p:nvGrpSpPr>
        <p:grpSpPr>
          <a:xfrm>
            <a:off x="494640" y="2107800"/>
            <a:ext cx="1919880" cy="1515960"/>
            <a:chOff x="494640" y="2107800"/>
            <a:chExt cx="1919880" cy="1515960"/>
          </a:xfrm>
        </p:grpSpPr>
        <p:pic>
          <p:nvPicPr>
            <p:cNvPr id="126" name="Image" descr="Image"/>
            <p:cNvPicPr/>
            <p:nvPr/>
          </p:nvPicPr>
          <p:blipFill>
            <a:blip r:embed="rId1">
              <a:alphaModFix amt="15000"/>
            </a:blip>
            <a:stretch/>
          </p:blipFill>
          <p:spPr>
            <a:xfrm>
              <a:off x="494640" y="21078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27" name="Image" descr="Image"/>
            <p:cNvPicPr/>
            <p:nvPr/>
          </p:nvPicPr>
          <p:blipFill>
            <a:blip r:embed="rId2">
              <a:alphaModFix amt="15000"/>
            </a:blip>
            <a:stretch/>
          </p:blipFill>
          <p:spPr>
            <a:xfrm>
              <a:off x="692640" y="21078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28" name="Image" descr="Image"/>
            <p:cNvPicPr/>
            <p:nvPr/>
          </p:nvPicPr>
          <p:blipFill>
            <a:blip r:embed="rId3">
              <a:alphaModFix amt="15000"/>
            </a:blip>
            <a:stretch/>
          </p:blipFill>
          <p:spPr>
            <a:xfrm>
              <a:off x="890280" y="21078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29" name="Image" descr="Image"/>
            <p:cNvPicPr/>
            <p:nvPr/>
          </p:nvPicPr>
          <p:blipFill>
            <a:blip r:embed="rId4">
              <a:alphaModFix amt="15000"/>
            </a:blip>
            <a:stretch/>
          </p:blipFill>
          <p:spPr>
            <a:xfrm>
              <a:off x="1088280" y="21078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30" name="Image" descr="Image"/>
            <p:cNvPicPr/>
            <p:nvPr/>
          </p:nvPicPr>
          <p:blipFill>
            <a:blip r:embed="rId5">
              <a:alphaModFix amt="15000"/>
            </a:blip>
            <a:stretch/>
          </p:blipFill>
          <p:spPr>
            <a:xfrm>
              <a:off x="1286280" y="21078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31" name="Image" descr="Image"/>
            <p:cNvPicPr/>
            <p:nvPr/>
          </p:nvPicPr>
          <p:blipFill>
            <a:blip r:embed="rId6">
              <a:alphaModFix amt="15000"/>
            </a:blip>
            <a:stretch/>
          </p:blipFill>
          <p:spPr>
            <a:xfrm>
              <a:off x="1484280" y="21078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32" name="Image" descr="Image"/>
            <p:cNvPicPr/>
            <p:nvPr/>
          </p:nvPicPr>
          <p:blipFill>
            <a:blip r:embed="rId7">
              <a:alphaModFix amt="15000"/>
            </a:blip>
            <a:stretch/>
          </p:blipFill>
          <p:spPr>
            <a:xfrm>
              <a:off x="1681920" y="21078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33" name="Image" descr="Image"/>
            <p:cNvPicPr/>
            <p:nvPr/>
          </p:nvPicPr>
          <p:blipFill>
            <a:blip r:embed="rId8">
              <a:alphaModFix amt="15000"/>
            </a:blip>
            <a:stretch/>
          </p:blipFill>
          <p:spPr>
            <a:xfrm>
              <a:off x="1879920" y="21078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34" name="Image" descr="Image"/>
            <p:cNvPicPr/>
            <p:nvPr/>
          </p:nvPicPr>
          <p:blipFill>
            <a:blip r:embed="rId9">
              <a:alphaModFix amt="15000"/>
            </a:blip>
            <a:stretch/>
          </p:blipFill>
          <p:spPr>
            <a:xfrm>
              <a:off x="2077920" y="21078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35" name="Image" descr="Image"/>
            <p:cNvPicPr/>
            <p:nvPr/>
          </p:nvPicPr>
          <p:blipFill>
            <a:blip r:embed="rId10">
              <a:alphaModFix amt="15000"/>
            </a:blip>
            <a:stretch/>
          </p:blipFill>
          <p:spPr>
            <a:xfrm>
              <a:off x="2275920" y="21078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36" name="Image" descr="Image"/>
            <p:cNvPicPr/>
            <p:nvPr/>
          </p:nvPicPr>
          <p:blipFill>
            <a:blip r:embed="rId11">
              <a:alphaModFix amt="15000"/>
            </a:blip>
            <a:stretch/>
          </p:blipFill>
          <p:spPr>
            <a:xfrm>
              <a:off x="494640" y="22662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37" name="Image" descr="Image"/>
            <p:cNvPicPr/>
            <p:nvPr/>
          </p:nvPicPr>
          <p:blipFill>
            <a:blip r:embed="rId12">
              <a:alphaModFix amt="15000"/>
            </a:blip>
            <a:stretch/>
          </p:blipFill>
          <p:spPr>
            <a:xfrm>
              <a:off x="692640" y="22662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38" name="Image" descr="Image"/>
            <p:cNvPicPr/>
            <p:nvPr/>
          </p:nvPicPr>
          <p:blipFill>
            <a:blip r:embed="rId13">
              <a:alphaModFix amt="15000"/>
            </a:blip>
            <a:stretch/>
          </p:blipFill>
          <p:spPr>
            <a:xfrm>
              <a:off x="890280" y="22662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39" name="Image" descr="Image"/>
            <p:cNvPicPr/>
            <p:nvPr/>
          </p:nvPicPr>
          <p:blipFill>
            <a:blip r:embed="rId14">
              <a:alphaModFix amt="15000"/>
            </a:blip>
            <a:stretch/>
          </p:blipFill>
          <p:spPr>
            <a:xfrm>
              <a:off x="1088280" y="22662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40" name="Image" descr="Image"/>
            <p:cNvPicPr/>
            <p:nvPr/>
          </p:nvPicPr>
          <p:blipFill>
            <a:blip r:embed="rId15">
              <a:alphaModFix amt="15000"/>
            </a:blip>
            <a:stretch/>
          </p:blipFill>
          <p:spPr>
            <a:xfrm>
              <a:off x="1286280" y="22662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41" name="Image" descr="Image"/>
            <p:cNvPicPr/>
            <p:nvPr/>
          </p:nvPicPr>
          <p:blipFill>
            <a:blip r:embed="rId16">
              <a:alphaModFix amt="15000"/>
            </a:blip>
            <a:stretch/>
          </p:blipFill>
          <p:spPr>
            <a:xfrm>
              <a:off x="1484280" y="22662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42" name="Image" descr="Image"/>
            <p:cNvPicPr/>
            <p:nvPr/>
          </p:nvPicPr>
          <p:blipFill>
            <a:blip r:embed="rId17">
              <a:alphaModFix amt="15000"/>
            </a:blip>
            <a:stretch/>
          </p:blipFill>
          <p:spPr>
            <a:xfrm>
              <a:off x="1681920" y="22662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43" name="Image" descr="Image"/>
            <p:cNvPicPr/>
            <p:nvPr/>
          </p:nvPicPr>
          <p:blipFill>
            <a:blip r:embed="rId18">
              <a:alphaModFix amt="15000"/>
            </a:blip>
            <a:stretch/>
          </p:blipFill>
          <p:spPr>
            <a:xfrm>
              <a:off x="1879920" y="22662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44" name="Image" descr="Image"/>
            <p:cNvPicPr/>
            <p:nvPr/>
          </p:nvPicPr>
          <p:blipFill>
            <a:blip r:embed="rId19">
              <a:alphaModFix amt="15000"/>
            </a:blip>
            <a:stretch/>
          </p:blipFill>
          <p:spPr>
            <a:xfrm>
              <a:off x="2077920" y="22662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45" name="Image" descr="Image"/>
            <p:cNvPicPr/>
            <p:nvPr/>
          </p:nvPicPr>
          <p:blipFill>
            <a:blip r:embed="rId20">
              <a:alphaModFix amt="15000"/>
            </a:blip>
            <a:stretch/>
          </p:blipFill>
          <p:spPr>
            <a:xfrm>
              <a:off x="2275920" y="22662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46" name="Image" descr="Image"/>
            <p:cNvPicPr/>
            <p:nvPr/>
          </p:nvPicPr>
          <p:blipFill>
            <a:blip r:embed="rId21">
              <a:alphaModFix amt="15000"/>
            </a:blip>
            <a:stretch/>
          </p:blipFill>
          <p:spPr>
            <a:xfrm>
              <a:off x="494640" y="24246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47" name="Image" descr="Image"/>
            <p:cNvPicPr/>
            <p:nvPr/>
          </p:nvPicPr>
          <p:blipFill>
            <a:blip r:embed="rId22">
              <a:alphaModFix amt="15000"/>
            </a:blip>
            <a:stretch/>
          </p:blipFill>
          <p:spPr>
            <a:xfrm>
              <a:off x="692640" y="24246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48" name="Image" descr="Image"/>
            <p:cNvPicPr/>
            <p:nvPr/>
          </p:nvPicPr>
          <p:blipFill>
            <a:blip r:embed="rId23">
              <a:alphaModFix amt="15000"/>
            </a:blip>
            <a:stretch/>
          </p:blipFill>
          <p:spPr>
            <a:xfrm>
              <a:off x="890280" y="24246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49" name="Image" descr="Image"/>
            <p:cNvPicPr/>
            <p:nvPr/>
          </p:nvPicPr>
          <p:blipFill>
            <a:blip r:embed="rId24">
              <a:alphaModFix amt="15000"/>
            </a:blip>
            <a:stretch/>
          </p:blipFill>
          <p:spPr>
            <a:xfrm>
              <a:off x="1088280" y="24246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50" name="Image" descr="Image"/>
            <p:cNvPicPr/>
            <p:nvPr/>
          </p:nvPicPr>
          <p:blipFill>
            <a:blip r:embed="rId25">
              <a:alphaModFix amt="15000"/>
            </a:blip>
            <a:stretch/>
          </p:blipFill>
          <p:spPr>
            <a:xfrm>
              <a:off x="1286280" y="24246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51" name="Image" descr="Image"/>
            <p:cNvPicPr/>
            <p:nvPr/>
          </p:nvPicPr>
          <p:blipFill>
            <a:blip r:embed="rId26">
              <a:alphaModFix amt="15000"/>
            </a:blip>
            <a:stretch/>
          </p:blipFill>
          <p:spPr>
            <a:xfrm>
              <a:off x="1484280" y="24246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52" name="Image" descr="Image"/>
            <p:cNvPicPr/>
            <p:nvPr/>
          </p:nvPicPr>
          <p:blipFill>
            <a:blip r:embed="rId27">
              <a:alphaModFix amt="15000"/>
            </a:blip>
            <a:stretch/>
          </p:blipFill>
          <p:spPr>
            <a:xfrm>
              <a:off x="1681920" y="24246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53" name="Image" descr="Image"/>
            <p:cNvPicPr/>
            <p:nvPr/>
          </p:nvPicPr>
          <p:blipFill>
            <a:blip r:embed="rId28">
              <a:alphaModFix amt="15000"/>
            </a:blip>
            <a:stretch/>
          </p:blipFill>
          <p:spPr>
            <a:xfrm>
              <a:off x="1879920" y="24246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54" name="Image" descr="Image"/>
            <p:cNvPicPr/>
            <p:nvPr/>
          </p:nvPicPr>
          <p:blipFill>
            <a:blip r:embed="rId29">
              <a:alphaModFix amt="15000"/>
            </a:blip>
            <a:stretch/>
          </p:blipFill>
          <p:spPr>
            <a:xfrm>
              <a:off x="2077920" y="24246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55" name="Image" descr="Image"/>
            <p:cNvPicPr/>
            <p:nvPr/>
          </p:nvPicPr>
          <p:blipFill>
            <a:blip r:embed="rId30">
              <a:alphaModFix amt="15000"/>
            </a:blip>
            <a:stretch/>
          </p:blipFill>
          <p:spPr>
            <a:xfrm>
              <a:off x="2275920" y="24246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56" name="Image" descr="Image"/>
            <p:cNvPicPr/>
            <p:nvPr/>
          </p:nvPicPr>
          <p:blipFill>
            <a:blip r:embed="rId31">
              <a:alphaModFix amt="15000"/>
            </a:blip>
            <a:stretch/>
          </p:blipFill>
          <p:spPr>
            <a:xfrm>
              <a:off x="494640" y="25830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57" name="Image" descr="Image"/>
            <p:cNvPicPr/>
            <p:nvPr/>
          </p:nvPicPr>
          <p:blipFill>
            <a:blip r:embed="rId32">
              <a:alphaModFix amt="15000"/>
            </a:blip>
            <a:stretch/>
          </p:blipFill>
          <p:spPr>
            <a:xfrm>
              <a:off x="692640" y="25830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58" name="Image" descr="Image"/>
            <p:cNvPicPr/>
            <p:nvPr/>
          </p:nvPicPr>
          <p:blipFill>
            <a:blip r:embed="rId33">
              <a:alphaModFix amt="15000"/>
            </a:blip>
            <a:stretch/>
          </p:blipFill>
          <p:spPr>
            <a:xfrm>
              <a:off x="890280" y="25830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59" name="Image" descr="Image"/>
            <p:cNvPicPr/>
            <p:nvPr/>
          </p:nvPicPr>
          <p:blipFill>
            <a:blip r:embed="rId34">
              <a:alphaModFix amt="15000"/>
            </a:blip>
            <a:stretch/>
          </p:blipFill>
          <p:spPr>
            <a:xfrm>
              <a:off x="1088280" y="25830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60" name="Image" descr="Image"/>
            <p:cNvPicPr/>
            <p:nvPr/>
          </p:nvPicPr>
          <p:blipFill>
            <a:blip r:embed="rId35">
              <a:alphaModFix amt="15000"/>
            </a:blip>
            <a:stretch/>
          </p:blipFill>
          <p:spPr>
            <a:xfrm>
              <a:off x="1286280" y="25830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61" name="Image" descr="Image"/>
            <p:cNvPicPr/>
            <p:nvPr/>
          </p:nvPicPr>
          <p:blipFill>
            <a:blip r:embed="rId36">
              <a:alphaModFix amt="15000"/>
            </a:blip>
            <a:stretch/>
          </p:blipFill>
          <p:spPr>
            <a:xfrm>
              <a:off x="1484280" y="25830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62" name="Image" descr="Image"/>
            <p:cNvPicPr/>
            <p:nvPr/>
          </p:nvPicPr>
          <p:blipFill>
            <a:blip r:embed="rId37">
              <a:alphaModFix amt="15000"/>
            </a:blip>
            <a:stretch/>
          </p:blipFill>
          <p:spPr>
            <a:xfrm>
              <a:off x="1681920" y="25830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63" name="Image" descr="Image"/>
            <p:cNvPicPr/>
            <p:nvPr/>
          </p:nvPicPr>
          <p:blipFill>
            <a:blip r:embed="rId38">
              <a:alphaModFix amt="15000"/>
            </a:blip>
            <a:stretch/>
          </p:blipFill>
          <p:spPr>
            <a:xfrm>
              <a:off x="1879920" y="25830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64" name="Image" descr="Image"/>
            <p:cNvPicPr/>
            <p:nvPr/>
          </p:nvPicPr>
          <p:blipFill>
            <a:blip r:embed="rId39">
              <a:alphaModFix amt="15000"/>
            </a:blip>
            <a:stretch/>
          </p:blipFill>
          <p:spPr>
            <a:xfrm>
              <a:off x="2077920" y="25830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65" name="Image" descr="Image"/>
            <p:cNvPicPr/>
            <p:nvPr/>
          </p:nvPicPr>
          <p:blipFill>
            <a:blip r:embed="rId40">
              <a:alphaModFix amt="15000"/>
            </a:blip>
            <a:stretch/>
          </p:blipFill>
          <p:spPr>
            <a:xfrm>
              <a:off x="2275920" y="25830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66" name="Image" descr="Image"/>
            <p:cNvPicPr/>
            <p:nvPr/>
          </p:nvPicPr>
          <p:blipFill>
            <a:blip r:embed="rId41">
              <a:alphaModFix amt="15000"/>
            </a:blip>
            <a:stretch/>
          </p:blipFill>
          <p:spPr>
            <a:xfrm>
              <a:off x="494640" y="27414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67" name="Image" descr="Image"/>
            <p:cNvPicPr/>
            <p:nvPr/>
          </p:nvPicPr>
          <p:blipFill>
            <a:blip r:embed="rId42">
              <a:alphaModFix amt="15000"/>
            </a:blip>
            <a:stretch/>
          </p:blipFill>
          <p:spPr>
            <a:xfrm>
              <a:off x="692640" y="27414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68" name="Image" descr="Image"/>
            <p:cNvPicPr/>
            <p:nvPr/>
          </p:nvPicPr>
          <p:blipFill>
            <a:blip r:embed="rId43">
              <a:alphaModFix amt="15000"/>
            </a:blip>
            <a:stretch/>
          </p:blipFill>
          <p:spPr>
            <a:xfrm>
              <a:off x="890280" y="27414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69" name="Image" descr="Image"/>
            <p:cNvPicPr/>
            <p:nvPr/>
          </p:nvPicPr>
          <p:blipFill>
            <a:blip r:embed="rId44">
              <a:alphaModFix amt="15000"/>
            </a:blip>
            <a:stretch/>
          </p:blipFill>
          <p:spPr>
            <a:xfrm>
              <a:off x="1088280" y="27414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70" name="Image" descr="Image"/>
            <p:cNvPicPr/>
            <p:nvPr/>
          </p:nvPicPr>
          <p:blipFill>
            <a:blip r:embed="rId45">
              <a:alphaModFix amt="15000"/>
            </a:blip>
            <a:stretch/>
          </p:blipFill>
          <p:spPr>
            <a:xfrm>
              <a:off x="1286280" y="27414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71" name="Image" descr="Image"/>
            <p:cNvPicPr/>
            <p:nvPr/>
          </p:nvPicPr>
          <p:blipFill>
            <a:blip r:embed="rId46">
              <a:alphaModFix amt="15000"/>
            </a:blip>
            <a:stretch/>
          </p:blipFill>
          <p:spPr>
            <a:xfrm>
              <a:off x="1484280" y="27414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72" name="Image" descr="Image"/>
            <p:cNvPicPr/>
            <p:nvPr/>
          </p:nvPicPr>
          <p:blipFill>
            <a:blip r:embed="rId47">
              <a:alphaModFix amt="15000"/>
            </a:blip>
            <a:stretch/>
          </p:blipFill>
          <p:spPr>
            <a:xfrm>
              <a:off x="1681920" y="27414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73" name="Image" descr="Image"/>
            <p:cNvPicPr/>
            <p:nvPr/>
          </p:nvPicPr>
          <p:blipFill>
            <a:blip r:embed="rId48">
              <a:alphaModFix amt="15000"/>
            </a:blip>
            <a:stretch/>
          </p:blipFill>
          <p:spPr>
            <a:xfrm>
              <a:off x="1879920" y="27414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74" name="Image" descr="Image"/>
            <p:cNvPicPr/>
            <p:nvPr/>
          </p:nvPicPr>
          <p:blipFill>
            <a:blip r:embed="rId49">
              <a:alphaModFix amt="15000"/>
            </a:blip>
            <a:stretch/>
          </p:blipFill>
          <p:spPr>
            <a:xfrm>
              <a:off x="2077920" y="27414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75" name="Image" descr="Image"/>
            <p:cNvPicPr/>
            <p:nvPr/>
          </p:nvPicPr>
          <p:blipFill>
            <a:blip r:embed="rId50">
              <a:alphaModFix amt="15000"/>
            </a:blip>
            <a:stretch/>
          </p:blipFill>
          <p:spPr>
            <a:xfrm>
              <a:off x="2275920" y="27414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76" name="Image" descr="Image"/>
            <p:cNvPicPr/>
            <p:nvPr/>
          </p:nvPicPr>
          <p:blipFill>
            <a:blip r:embed="rId51">
              <a:alphaModFix amt="15000"/>
            </a:blip>
            <a:stretch/>
          </p:blipFill>
          <p:spPr>
            <a:xfrm>
              <a:off x="494640" y="28998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77" name="Image" descr="Image"/>
            <p:cNvPicPr/>
            <p:nvPr/>
          </p:nvPicPr>
          <p:blipFill>
            <a:blip r:embed="rId52">
              <a:alphaModFix amt="15000"/>
            </a:blip>
            <a:stretch/>
          </p:blipFill>
          <p:spPr>
            <a:xfrm>
              <a:off x="692640" y="28998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78" name="Image" descr="Image"/>
            <p:cNvPicPr/>
            <p:nvPr/>
          </p:nvPicPr>
          <p:blipFill>
            <a:blip r:embed="rId53">
              <a:alphaModFix amt="15000"/>
            </a:blip>
            <a:stretch/>
          </p:blipFill>
          <p:spPr>
            <a:xfrm>
              <a:off x="890280" y="28998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79" name="Image" descr="Image"/>
            <p:cNvPicPr/>
            <p:nvPr/>
          </p:nvPicPr>
          <p:blipFill>
            <a:blip r:embed="rId54">
              <a:alphaModFix amt="15000"/>
            </a:blip>
            <a:stretch/>
          </p:blipFill>
          <p:spPr>
            <a:xfrm>
              <a:off x="1088280" y="28998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80" name="Image" descr="Image"/>
            <p:cNvPicPr/>
            <p:nvPr/>
          </p:nvPicPr>
          <p:blipFill>
            <a:blip r:embed="rId55">
              <a:alphaModFix amt="15000"/>
            </a:blip>
            <a:stretch/>
          </p:blipFill>
          <p:spPr>
            <a:xfrm>
              <a:off x="1286280" y="28998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81" name="Image" descr="Image"/>
            <p:cNvPicPr/>
            <p:nvPr/>
          </p:nvPicPr>
          <p:blipFill>
            <a:blip r:embed="rId56">
              <a:alphaModFix amt="15000"/>
            </a:blip>
            <a:stretch/>
          </p:blipFill>
          <p:spPr>
            <a:xfrm>
              <a:off x="1484280" y="28998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82" name="Image" descr="Image"/>
            <p:cNvPicPr/>
            <p:nvPr/>
          </p:nvPicPr>
          <p:blipFill>
            <a:blip r:embed="rId57">
              <a:alphaModFix amt="15000"/>
            </a:blip>
            <a:stretch/>
          </p:blipFill>
          <p:spPr>
            <a:xfrm>
              <a:off x="1681920" y="28998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83" name="Image" descr="Image"/>
            <p:cNvPicPr/>
            <p:nvPr/>
          </p:nvPicPr>
          <p:blipFill>
            <a:blip r:embed="rId58">
              <a:alphaModFix amt="15000"/>
            </a:blip>
            <a:stretch/>
          </p:blipFill>
          <p:spPr>
            <a:xfrm>
              <a:off x="1879920" y="28998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84" name="Image" descr="Image"/>
            <p:cNvPicPr/>
            <p:nvPr/>
          </p:nvPicPr>
          <p:blipFill>
            <a:blip r:embed="rId59">
              <a:alphaModFix amt="15000"/>
            </a:blip>
            <a:stretch/>
          </p:blipFill>
          <p:spPr>
            <a:xfrm>
              <a:off x="2077920" y="28998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85" name="Image" descr="Image"/>
            <p:cNvPicPr/>
            <p:nvPr/>
          </p:nvPicPr>
          <p:blipFill>
            <a:blip r:embed="rId60">
              <a:alphaModFix amt="15000"/>
            </a:blip>
            <a:stretch/>
          </p:blipFill>
          <p:spPr>
            <a:xfrm>
              <a:off x="2275920" y="28998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86" name="Image" descr="Image"/>
            <p:cNvPicPr/>
            <p:nvPr/>
          </p:nvPicPr>
          <p:blipFill>
            <a:blip r:embed="rId61">
              <a:alphaModFix amt="15000"/>
            </a:blip>
            <a:stretch/>
          </p:blipFill>
          <p:spPr>
            <a:xfrm>
              <a:off x="494640" y="30582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87" name="Image" descr="Image"/>
            <p:cNvPicPr/>
            <p:nvPr/>
          </p:nvPicPr>
          <p:blipFill>
            <a:blip r:embed="rId62">
              <a:alphaModFix amt="15000"/>
            </a:blip>
            <a:stretch/>
          </p:blipFill>
          <p:spPr>
            <a:xfrm>
              <a:off x="692640" y="30582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88" name="Image" descr="Image"/>
            <p:cNvPicPr/>
            <p:nvPr/>
          </p:nvPicPr>
          <p:blipFill>
            <a:blip r:embed="rId63">
              <a:alphaModFix amt="15000"/>
            </a:blip>
            <a:stretch/>
          </p:blipFill>
          <p:spPr>
            <a:xfrm>
              <a:off x="890280" y="30582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89" name="Image" descr="Image"/>
            <p:cNvPicPr/>
            <p:nvPr/>
          </p:nvPicPr>
          <p:blipFill>
            <a:blip r:embed="rId64">
              <a:alphaModFix amt="15000"/>
            </a:blip>
            <a:stretch/>
          </p:blipFill>
          <p:spPr>
            <a:xfrm>
              <a:off x="1088280" y="30582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90" name="Image" descr="Image"/>
            <p:cNvPicPr/>
            <p:nvPr/>
          </p:nvPicPr>
          <p:blipFill>
            <a:blip r:embed="rId65">
              <a:alphaModFix amt="15000"/>
            </a:blip>
            <a:stretch/>
          </p:blipFill>
          <p:spPr>
            <a:xfrm>
              <a:off x="1286280" y="30582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91" name="Image" descr="Image"/>
            <p:cNvPicPr/>
            <p:nvPr/>
          </p:nvPicPr>
          <p:blipFill>
            <a:blip r:embed="rId66">
              <a:alphaModFix amt="15000"/>
            </a:blip>
            <a:stretch/>
          </p:blipFill>
          <p:spPr>
            <a:xfrm>
              <a:off x="1484280" y="30582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92" name="Image" descr="Image"/>
            <p:cNvPicPr/>
            <p:nvPr/>
          </p:nvPicPr>
          <p:blipFill>
            <a:blip r:embed="rId67">
              <a:alphaModFix amt="15000"/>
            </a:blip>
            <a:stretch/>
          </p:blipFill>
          <p:spPr>
            <a:xfrm>
              <a:off x="1681920" y="30582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93" name="Image" descr="Image"/>
            <p:cNvPicPr/>
            <p:nvPr/>
          </p:nvPicPr>
          <p:blipFill>
            <a:blip r:embed="rId68">
              <a:alphaModFix amt="15000"/>
            </a:blip>
            <a:stretch/>
          </p:blipFill>
          <p:spPr>
            <a:xfrm>
              <a:off x="1879920" y="30582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94" name="Image" descr="Image"/>
            <p:cNvPicPr/>
            <p:nvPr/>
          </p:nvPicPr>
          <p:blipFill>
            <a:blip r:embed="rId69">
              <a:alphaModFix amt="15000"/>
            </a:blip>
            <a:stretch/>
          </p:blipFill>
          <p:spPr>
            <a:xfrm>
              <a:off x="2077920" y="30582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95" name="Image" descr="Image"/>
            <p:cNvPicPr/>
            <p:nvPr/>
          </p:nvPicPr>
          <p:blipFill>
            <a:blip r:embed="rId70">
              <a:alphaModFix amt="15000"/>
            </a:blip>
            <a:stretch/>
          </p:blipFill>
          <p:spPr>
            <a:xfrm>
              <a:off x="2275920" y="30582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96" name="Image" descr="Image"/>
            <p:cNvPicPr/>
            <p:nvPr/>
          </p:nvPicPr>
          <p:blipFill>
            <a:blip r:embed="rId71">
              <a:alphaModFix amt="15000"/>
            </a:blip>
            <a:stretch/>
          </p:blipFill>
          <p:spPr>
            <a:xfrm>
              <a:off x="494640" y="32166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97" name="Image" descr="Image"/>
            <p:cNvPicPr/>
            <p:nvPr/>
          </p:nvPicPr>
          <p:blipFill>
            <a:blip r:embed="rId72">
              <a:alphaModFix amt="15000"/>
            </a:blip>
            <a:stretch/>
          </p:blipFill>
          <p:spPr>
            <a:xfrm>
              <a:off x="692640" y="32166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98" name="Image" descr="Image"/>
            <p:cNvPicPr/>
            <p:nvPr/>
          </p:nvPicPr>
          <p:blipFill>
            <a:blip r:embed="rId73">
              <a:alphaModFix amt="15000"/>
            </a:blip>
            <a:stretch/>
          </p:blipFill>
          <p:spPr>
            <a:xfrm>
              <a:off x="890280" y="32166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99" name="Image" descr="Image"/>
            <p:cNvPicPr/>
            <p:nvPr/>
          </p:nvPicPr>
          <p:blipFill>
            <a:blip r:embed="rId74">
              <a:alphaModFix amt="15000"/>
            </a:blip>
            <a:stretch/>
          </p:blipFill>
          <p:spPr>
            <a:xfrm>
              <a:off x="1088280" y="32166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200" name="Image" descr="Image"/>
            <p:cNvPicPr/>
            <p:nvPr/>
          </p:nvPicPr>
          <p:blipFill>
            <a:blip r:embed="rId75">
              <a:alphaModFix amt="15000"/>
            </a:blip>
            <a:stretch/>
          </p:blipFill>
          <p:spPr>
            <a:xfrm>
              <a:off x="1286280" y="32166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201" name="Image" descr="Image"/>
            <p:cNvPicPr/>
            <p:nvPr/>
          </p:nvPicPr>
          <p:blipFill>
            <a:blip r:embed="rId76">
              <a:alphaModFix amt="15000"/>
            </a:blip>
            <a:stretch/>
          </p:blipFill>
          <p:spPr>
            <a:xfrm>
              <a:off x="1484280" y="32166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202" name="Image" descr="Image"/>
            <p:cNvPicPr/>
            <p:nvPr/>
          </p:nvPicPr>
          <p:blipFill>
            <a:blip r:embed="rId77">
              <a:alphaModFix amt="15000"/>
            </a:blip>
            <a:stretch/>
          </p:blipFill>
          <p:spPr>
            <a:xfrm>
              <a:off x="1681920" y="32166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203" name="Image" descr="Image"/>
            <p:cNvPicPr/>
            <p:nvPr/>
          </p:nvPicPr>
          <p:blipFill>
            <a:blip r:embed="rId78">
              <a:alphaModFix amt="15000"/>
            </a:blip>
            <a:stretch/>
          </p:blipFill>
          <p:spPr>
            <a:xfrm>
              <a:off x="1879920" y="32166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204" name="Image" descr="Image"/>
            <p:cNvPicPr/>
            <p:nvPr/>
          </p:nvPicPr>
          <p:blipFill>
            <a:blip r:embed="rId79">
              <a:alphaModFix amt="15000"/>
            </a:blip>
            <a:stretch/>
          </p:blipFill>
          <p:spPr>
            <a:xfrm>
              <a:off x="2077920" y="32166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205" name="Image" descr="Image"/>
            <p:cNvPicPr/>
            <p:nvPr/>
          </p:nvPicPr>
          <p:blipFill>
            <a:blip r:embed="rId80">
              <a:alphaModFix amt="15000"/>
            </a:blip>
            <a:stretch/>
          </p:blipFill>
          <p:spPr>
            <a:xfrm>
              <a:off x="2275920" y="32166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206" name="Image" descr="Image"/>
            <p:cNvPicPr/>
            <p:nvPr/>
          </p:nvPicPr>
          <p:blipFill>
            <a:blip r:embed="rId81">
              <a:alphaModFix amt="15000"/>
            </a:blip>
            <a:stretch/>
          </p:blipFill>
          <p:spPr>
            <a:xfrm>
              <a:off x="494640" y="33750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207" name="Image" descr="Image"/>
            <p:cNvPicPr/>
            <p:nvPr/>
          </p:nvPicPr>
          <p:blipFill>
            <a:blip r:embed="rId82">
              <a:alphaModFix amt="15000"/>
            </a:blip>
            <a:stretch/>
          </p:blipFill>
          <p:spPr>
            <a:xfrm>
              <a:off x="692640" y="33750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208" name="Image" descr="Image"/>
            <p:cNvPicPr/>
            <p:nvPr/>
          </p:nvPicPr>
          <p:blipFill>
            <a:blip r:embed="rId83">
              <a:alphaModFix amt="15000"/>
            </a:blip>
            <a:stretch/>
          </p:blipFill>
          <p:spPr>
            <a:xfrm>
              <a:off x="890280" y="33750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209" name="Image" descr="Image"/>
            <p:cNvPicPr/>
            <p:nvPr/>
          </p:nvPicPr>
          <p:blipFill>
            <a:blip r:embed="rId84">
              <a:alphaModFix amt="15000"/>
            </a:blip>
            <a:stretch/>
          </p:blipFill>
          <p:spPr>
            <a:xfrm>
              <a:off x="1088280" y="33750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210" name="Image" descr="Image"/>
            <p:cNvPicPr/>
            <p:nvPr/>
          </p:nvPicPr>
          <p:blipFill>
            <a:blip r:embed="rId85">
              <a:alphaModFix amt="15000"/>
            </a:blip>
            <a:stretch/>
          </p:blipFill>
          <p:spPr>
            <a:xfrm>
              <a:off x="1286280" y="33750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211" name="Image" descr="Image"/>
            <p:cNvPicPr/>
            <p:nvPr/>
          </p:nvPicPr>
          <p:blipFill>
            <a:blip r:embed="rId86">
              <a:alphaModFix amt="15000"/>
            </a:blip>
            <a:stretch/>
          </p:blipFill>
          <p:spPr>
            <a:xfrm>
              <a:off x="1484280" y="33750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212" name="Image" descr="Image"/>
            <p:cNvPicPr/>
            <p:nvPr/>
          </p:nvPicPr>
          <p:blipFill>
            <a:blip r:embed="rId87">
              <a:alphaModFix amt="15000"/>
            </a:blip>
            <a:stretch/>
          </p:blipFill>
          <p:spPr>
            <a:xfrm>
              <a:off x="1681920" y="33750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213" name="Image" descr="Image"/>
            <p:cNvPicPr/>
            <p:nvPr/>
          </p:nvPicPr>
          <p:blipFill>
            <a:blip r:embed="rId88">
              <a:alphaModFix amt="15000"/>
            </a:blip>
            <a:stretch/>
          </p:blipFill>
          <p:spPr>
            <a:xfrm>
              <a:off x="1879920" y="33750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214" name="Image" descr="Image"/>
            <p:cNvPicPr/>
            <p:nvPr/>
          </p:nvPicPr>
          <p:blipFill>
            <a:blip r:embed="rId89">
              <a:alphaModFix amt="15000"/>
            </a:blip>
            <a:stretch/>
          </p:blipFill>
          <p:spPr>
            <a:xfrm>
              <a:off x="2077920" y="33750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215" name="Image" descr="Image"/>
            <p:cNvPicPr/>
            <p:nvPr/>
          </p:nvPicPr>
          <p:blipFill>
            <a:blip r:embed="rId90">
              <a:alphaModFix amt="15000"/>
            </a:blip>
            <a:stretch/>
          </p:blipFill>
          <p:spPr>
            <a:xfrm>
              <a:off x="2275920" y="33750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216" name="Image" descr="Image"/>
            <p:cNvPicPr/>
            <p:nvPr/>
          </p:nvPicPr>
          <p:blipFill>
            <a:blip r:embed="rId91">
              <a:alphaModFix amt="15000"/>
            </a:blip>
            <a:stretch/>
          </p:blipFill>
          <p:spPr>
            <a:xfrm>
              <a:off x="494640" y="35334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217" name="Image" descr="Image"/>
            <p:cNvPicPr/>
            <p:nvPr/>
          </p:nvPicPr>
          <p:blipFill>
            <a:blip r:embed="rId92">
              <a:alphaModFix amt="15000"/>
            </a:blip>
            <a:stretch/>
          </p:blipFill>
          <p:spPr>
            <a:xfrm>
              <a:off x="692640" y="35334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218" name="Image" descr="Image"/>
            <p:cNvPicPr/>
            <p:nvPr/>
          </p:nvPicPr>
          <p:blipFill>
            <a:blip r:embed="rId93">
              <a:alphaModFix amt="15000"/>
            </a:blip>
            <a:stretch/>
          </p:blipFill>
          <p:spPr>
            <a:xfrm>
              <a:off x="890280" y="35334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219" name="Image" descr="Image"/>
            <p:cNvPicPr/>
            <p:nvPr/>
          </p:nvPicPr>
          <p:blipFill>
            <a:blip r:embed="rId94">
              <a:alphaModFix amt="15000"/>
            </a:blip>
            <a:stretch/>
          </p:blipFill>
          <p:spPr>
            <a:xfrm>
              <a:off x="1088280" y="35334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220" name="Image" descr="Image"/>
            <p:cNvPicPr/>
            <p:nvPr/>
          </p:nvPicPr>
          <p:blipFill>
            <a:blip r:embed="rId95">
              <a:alphaModFix amt="15000"/>
            </a:blip>
            <a:stretch/>
          </p:blipFill>
          <p:spPr>
            <a:xfrm>
              <a:off x="1286280" y="35334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221" name="Image" descr="Image"/>
            <p:cNvPicPr/>
            <p:nvPr/>
          </p:nvPicPr>
          <p:blipFill>
            <a:blip r:embed="rId96">
              <a:alphaModFix amt="15000"/>
            </a:blip>
            <a:stretch/>
          </p:blipFill>
          <p:spPr>
            <a:xfrm>
              <a:off x="1484280" y="35334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222" name="Image" descr="Image"/>
            <p:cNvPicPr/>
            <p:nvPr/>
          </p:nvPicPr>
          <p:blipFill>
            <a:blip r:embed="rId97">
              <a:alphaModFix amt="15000"/>
            </a:blip>
            <a:stretch/>
          </p:blipFill>
          <p:spPr>
            <a:xfrm>
              <a:off x="1681920" y="35334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223" name="Image" descr="Image"/>
            <p:cNvPicPr/>
            <p:nvPr/>
          </p:nvPicPr>
          <p:blipFill>
            <a:blip r:embed="rId98">
              <a:alphaModFix amt="15000"/>
            </a:blip>
            <a:stretch/>
          </p:blipFill>
          <p:spPr>
            <a:xfrm>
              <a:off x="1879920" y="35334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224" name="Image" descr="Image"/>
            <p:cNvPicPr/>
            <p:nvPr/>
          </p:nvPicPr>
          <p:blipFill>
            <a:blip r:embed="rId99">
              <a:alphaModFix amt="15000"/>
            </a:blip>
            <a:stretch/>
          </p:blipFill>
          <p:spPr>
            <a:xfrm>
              <a:off x="2077920" y="35334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sp>
          <p:nvSpPr>
            <p:cNvPr id="225" name="Shape"/>
            <p:cNvSpPr/>
            <p:nvPr/>
          </p:nvSpPr>
          <p:spPr>
            <a:xfrm>
              <a:off x="2275560" y="3533400"/>
              <a:ext cx="130680" cy="9036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21440" h="21019">
                  <a:moveTo>
                    <a:pt x="11880" y="202"/>
                  </a:moveTo>
                  <a:cubicBezTo>
                    <a:pt x="9868" y="515"/>
                    <a:pt x="7870" y="1174"/>
                    <a:pt x="5962" y="2194"/>
                  </a:cubicBezTo>
                  <a:cubicBezTo>
                    <a:pt x="3152" y="3696"/>
                    <a:pt x="462" y="6294"/>
                    <a:pt x="44" y="10411"/>
                  </a:cubicBezTo>
                  <a:cubicBezTo>
                    <a:pt x="-82" y="11649"/>
                    <a:pt x="71" y="12903"/>
                    <a:pt x="431" y="14046"/>
                  </a:cubicBezTo>
                  <a:cubicBezTo>
                    <a:pt x="1413" y="14026"/>
                    <a:pt x="2390" y="13900"/>
                    <a:pt x="3355" y="13648"/>
                  </a:cubicBezTo>
                  <a:cubicBezTo>
                    <a:pt x="4603" y="13322"/>
                    <a:pt x="5814" y="12799"/>
                    <a:pt x="6984" y="12104"/>
                  </a:cubicBezTo>
                  <a:cubicBezTo>
                    <a:pt x="9893" y="10375"/>
                    <a:pt x="12006" y="6945"/>
                    <a:pt x="15333" y="5829"/>
                  </a:cubicBezTo>
                  <a:cubicBezTo>
                    <a:pt x="16989" y="5273"/>
                    <a:pt x="18634" y="4675"/>
                    <a:pt x="20335" y="4833"/>
                  </a:cubicBezTo>
                  <a:lnTo>
                    <a:pt x="17940" y="351"/>
                  </a:lnTo>
                  <a:cubicBezTo>
                    <a:pt x="15920" y="-58"/>
                    <a:pt x="13892" y="-111"/>
                    <a:pt x="11880" y="202"/>
                  </a:cubicBezTo>
                  <a:close/>
                  <a:moveTo>
                    <a:pt x="17904" y="6875"/>
                  </a:moveTo>
                  <a:cubicBezTo>
                    <a:pt x="16677" y="7240"/>
                    <a:pt x="15584" y="8060"/>
                    <a:pt x="14487" y="8917"/>
                  </a:cubicBezTo>
                  <a:cubicBezTo>
                    <a:pt x="11744" y="11061"/>
                    <a:pt x="9432" y="14022"/>
                    <a:pt x="6138" y="15042"/>
                  </a:cubicBezTo>
                  <a:cubicBezTo>
                    <a:pt x="4476" y="15557"/>
                    <a:pt x="2840" y="16170"/>
                    <a:pt x="1136" y="16188"/>
                  </a:cubicBezTo>
                  <a:lnTo>
                    <a:pt x="3496" y="20670"/>
                  </a:lnTo>
                  <a:cubicBezTo>
                    <a:pt x="7535" y="21489"/>
                    <a:pt x="11657" y="20868"/>
                    <a:pt x="15474" y="18827"/>
                  </a:cubicBezTo>
                  <a:cubicBezTo>
                    <a:pt x="18284" y="17324"/>
                    <a:pt x="20973" y="14727"/>
                    <a:pt x="21392" y="10610"/>
                  </a:cubicBezTo>
                  <a:cubicBezTo>
                    <a:pt x="21518" y="9372"/>
                    <a:pt x="21400" y="8117"/>
                    <a:pt x="21040" y="6975"/>
                  </a:cubicBezTo>
                  <a:cubicBezTo>
                    <a:pt x="20021" y="6596"/>
                    <a:pt x="18935" y="6569"/>
                    <a:pt x="17904" y="6875"/>
                  </a:cubicBezTo>
                  <a:close/>
                </a:path>
              </a:pathLst>
            </a:custGeom>
            <a:solidFill>
              <a:srgbClr val="877050"/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tIns="45360" bIns="45360" anchor="t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6" name="Untitled-11 copy.png" descr="Untitled-11 copy.png"/>
          <p:cNvPicPr/>
          <p:nvPr/>
        </p:nvPicPr>
        <p:blipFill>
          <a:blip r:embed="rId100"/>
          <a:stretch/>
        </p:blipFill>
        <p:spPr>
          <a:xfrm>
            <a:off x="4368960" y="5119920"/>
            <a:ext cx="2520000" cy="1569960"/>
          </a:xfrm>
          <a:prstGeom prst="rect">
            <a:avLst/>
          </a:prstGeom>
          <a:ln w="12700">
            <a:noFill/>
          </a:ln>
        </p:spPr>
      </p:pic>
      <p:pic>
        <p:nvPicPr>
          <p:cNvPr id="227" name="Image" descr="Image"/>
          <p:cNvPicPr/>
          <p:nvPr/>
        </p:nvPicPr>
        <p:blipFill>
          <a:blip r:embed="rId101"/>
          <a:stretch/>
        </p:blipFill>
        <p:spPr>
          <a:xfrm>
            <a:off x="8156880" y="4776480"/>
            <a:ext cx="3888360" cy="2215080"/>
          </a:xfrm>
          <a:prstGeom prst="rect">
            <a:avLst/>
          </a:prstGeom>
          <a:ln w="12700">
            <a:noFill/>
          </a:ln>
        </p:spPr>
      </p:pic>
      <p:sp>
        <p:nvSpPr>
          <p:cNvPr id="228" name="Shape"/>
          <p:cNvSpPr/>
          <p:nvPr/>
        </p:nvSpPr>
        <p:spPr>
          <a:xfrm rot="13500000">
            <a:off x="-10080" y="4520520"/>
            <a:ext cx="731880" cy="1463760"/>
          </a:xfrm>
          <a:custGeom>
            <a:avLst/>
            <a:gdLst>
              <a:gd name="textAreaLeft" fmla="*/ 0 w 731880"/>
              <a:gd name="textAreaRight" fmla="*/ 732240 w 731880"/>
              <a:gd name="textAreaTop" fmla="*/ 0 h 1463760"/>
              <a:gd name="textAreaBottom" fmla="*/ 1464120 h 14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5400"/>
                </a:lnTo>
                <a:lnTo>
                  <a:pt x="10800" y="10800"/>
                </a:lnTo>
                <a:lnTo>
                  <a:pt x="0" y="16200"/>
                </a:lnTo>
                <a:lnTo>
                  <a:pt x="0" y="21600"/>
                </a:lnTo>
                <a:lnTo>
                  <a:pt x="21600" y="10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Line"/>
          <p:cNvSpPr/>
          <p:nvPr/>
        </p:nvSpPr>
        <p:spPr>
          <a:xfrm>
            <a:off x="380880" y="1181880"/>
            <a:ext cx="360" cy="722880"/>
          </a:xfrm>
          <a:prstGeom prst="line">
            <a:avLst/>
          </a:prstGeom>
          <a:ln w="38100">
            <a:solidFill>
              <a:srgbClr val="ffc7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*Nielsen Russia, YTD W17 2020"/>
          <p:cNvSpPr/>
          <p:nvPr/>
        </p:nvSpPr>
        <p:spPr>
          <a:xfrm>
            <a:off x="10532520" y="186840"/>
            <a:ext cx="903240" cy="196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700" spc="-1" strike="noStrike">
                <a:solidFill>
                  <a:srgbClr val="a7a7a7"/>
                </a:solidFill>
                <a:latin typeface="Montserrat Regular"/>
                <a:ea typeface="Montserrat Regular"/>
              </a:rPr>
              <a:t>*Euromonitor, 202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"/>
          <p:cNvSpPr/>
          <p:nvPr/>
        </p:nvSpPr>
        <p:spPr>
          <a:xfrm>
            <a:off x="4257720" y="1181880"/>
            <a:ext cx="360" cy="722880"/>
          </a:xfrm>
          <a:prstGeom prst="line">
            <a:avLst/>
          </a:prstGeom>
          <a:ln w="38100">
            <a:solidFill>
              <a:srgbClr val="0099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Line"/>
          <p:cNvSpPr/>
          <p:nvPr/>
        </p:nvSpPr>
        <p:spPr>
          <a:xfrm>
            <a:off x="8051400" y="1181880"/>
            <a:ext cx="360" cy="722880"/>
          </a:xfrm>
          <a:prstGeom prst="line">
            <a:avLst/>
          </a:prstGeom>
          <a:ln w="38100">
            <a:solidFill>
              <a:srgbClr val="fe3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Line"/>
          <p:cNvSpPr/>
          <p:nvPr/>
        </p:nvSpPr>
        <p:spPr>
          <a:xfrm>
            <a:off x="380880" y="4050720"/>
            <a:ext cx="360" cy="872640"/>
          </a:xfrm>
          <a:prstGeom prst="line">
            <a:avLst/>
          </a:prstGeom>
          <a:ln w="38100">
            <a:solidFill>
              <a:srgbClr val="307f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Line"/>
          <p:cNvSpPr/>
          <p:nvPr/>
        </p:nvSpPr>
        <p:spPr>
          <a:xfrm>
            <a:off x="4257720" y="4050720"/>
            <a:ext cx="360" cy="872640"/>
          </a:xfrm>
          <a:prstGeom prst="line">
            <a:avLst/>
          </a:prstGeom>
          <a:ln w="38100">
            <a:solidFill>
              <a:srgbClr val="877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Line"/>
          <p:cNvSpPr/>
          <p:nvPr/>
        </p:nvSpPr>
        <p:spPr>
          <a:xfrm>
            <a:off x="8051400" y="4050720"/>
            <a:ext cx="360" cy="605520"/>
          </a:xfrm>
          <a:prstGeom prst="line">
            <a:avLst/>
          </a:prstGeom>
          <a:ln w="38100">
            <a:solidFill>
              <a:srgbClr val="ffc7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hape"/>
          <p:cNvSpPr/>
          <p:nvPr/>
        </p:nvSpPr>
        <p:spPr>
          <a:xfrm>
            <a:off x="511920" y="5289120"/>
            <a:ext cx="331920" cy="330840"/>
          </a:xfrm>
          <a:custGeom>
            <a:avLst/>
            <a:gdLst>
              <a:gd name="textAreaLeft" fmla="*/ 0 w 331920"/>
              <a:gd name="textAreaRight" fmla="*/ 332280 w 331920"/>
              <a:gd name="textAreaTop" fmla="*/ 0 h 330840"/>
              <a:gd name="textAreaBottom" fmla="*/ 331200 h 33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59" y="13269"/>
                </a:lnTo>
                <a:lnTo>
                  <a:pt x="4228" y="21600"/>
                </a:lnTo>
                <a:lnTo>
                  <a:pt x="14299" y="21600"/>
                </a:lnTo>
                <a:lnTo>
                  <a:pt x="16844" y="14000"/>
                </a:lnTo>
                <a:lnTo>
                  <a:pt x="19165" y="13629"/>
                </a:lnTo>
                <a:lnTo>
                  <a:pt x="21577" y="10823"/>
                </a:lnTo>
                <a:lnTo>
                  <a:pt x="21600" y="4790"/>
                </a:lnTo>
                <a:lnTo>
                  <a:pt x="19396" y="2227"/>
                </a:lnTo>
                <a:lnTo>
                  <a:pt x="18130" y="2219"/>
                </a:lnTo>
                <a:lnTo>
                  <a:pt x="18355" y="19"/>
                </a:lnTo>
                <a:lnTo>
                  <a:pt x="0" y="0"/>
                </a:lnTo>
                <a:close/>
                <a:moveTo>
                  <a:pt x="17971" y="3798"/>
                </a:moveTo>
                <a:lnTo>
                  <a:pt x="19107" y="3828"/>
                </a:lnTo>
                <a:lnTo>
                  <a:pt x="20477" y="5423"/>
                </a:lnTo>
                <a:lnTo>
                  <a:pt x="20477" y="10190"/>
                </a:lnTo>
                <a:lnTo>
                  <a:pt x="18736" y="12216"/>
                </a:lnTo>
                <a:lnTo>
                  <a:pt x="17082" y="12489"/>
                </a:lnTo>
                <a:lnTo>
                  <a:pt x="17971" y="3798"/>
                </a:lnTo>
                <a:close/>
                <a:moveTo>
                  <a:pt x="2985" y="4203"/>
                </a:moveTo>
                <a:lnTo>
                  <a:pt x="4092" y="4203"/>
                </a:lnTo>
                <a:lnTo>
                  <a:pt x="6637" y="7165"/>
                </a:lnTo>
                <a:lnTo>
                  <a:pt x="7359" y="6320"/>
                </a:lnTo>
                <a:lnTo>
                  <a:pt x="5543" y="4207"/>
                </a:lnTo>
                <a:lnTo>
                  <a:pt x="7109" y="4207"/>
                </a:lnTo>
                <a:lnTo>
                  <a:pt x="7080" y="4237"/>
                </a:lnTo>
                <a:lnTo>
                  <a:pt x="8007" y="5317"/>
                </a:lnTo>
                <a:lnTo>
                  <a:pt x="8928" y="4237"/>
                </a:lnTo>
                <a:lnTo>
                  <a:pt x="8902" y="4207"/>
                </a:lnTo>
                <a:lnTo>
                  <a:pt x="10351" y="4211"/>
                </a:lnTo>
                <a:lnTo>
                  <a:pt x="11249" y="5256"/>
                </a:lnTo>
                <a:lnTo>
                  <a:pt x="12151" y="4211"/>
                </a:lnTo>
                <a:lnTo>
                  <a:pt x="13332" y="4211"/>
                </a:lnTo>
                <a:lnTo>
                  <a:pt x="16197" y="7547"/>
                </a:lnTo>
                <a:lnTo>
                  <a:pt x="16200" y="7543"/>
                </a:lnTo>
                <a:lnTo>
                  <a:pt x="16041" y="8926"/>
                </a:lnTo>
                <a:lnTo>
                  <a:pt x="14218" y="6809"/>
                </a:lnTo>
                <a:lnTo>
                  <a:pt x="13492" y="7649"/>
                </a:lnTo>
                <a:lnTo>
                  <a:pt x="15868" y="10414"/>
                </a:lnTo>
                <a:lnTo>
                  <a:pt x="15643" y="12303"/>
                </a:lnTo>
                <a:lnTo>
                  <a:pt x="15624" y="12383"/>
                </a:lnTo>
                <a:lnTo>
                  <a:pt x="14136" y="10652"/>
                </a:lnTo>
                <a:lnTo>
                  <a:pt x="13414" y="11493"/>
                </a:lnTo>
                <a:lnTo>
                  <a:pt x="14188" y="12394"/>
                </a:lnTo>
                <a:lnTo>
                  <a:pt x="11718" y="12394"/>
                </a:lnTo>
                <a:lnTo>
                  <a:pt x="11471" y="12394"/>
                </a:lnTo>
                <a:lnTo>
                  <a:pt x="11978" y="11807"/>
                </a:lnTo>
                <a:lnTo>
                  <a:pt x="9521" y="8952"/>
                </a:lnTo>
                <a:lnTo>
                  <a:pt x="8795" y="9793"/>
                </a:lnTo>
                <a:lnTo>
                  <a:pt x="11031" y="12394"/>
                </a:lnTo>
                <a:lnTo>
                  <a:pt x="10787" y="12394"/>
                </a:lnTo>
                <a:lnTo>
                  <a:pt x="9846" y="12394"/>
                </a:lnTo>
                <a:lnTo>
                  <a:pt x="9472" y="11959"/>
                </a:lnTo>
                <a:lnTo>
                  <a:pt x="9098" y="12394"/>
                </a:lnTo>
                <a:lnTo>
                  <a:pt x="8723" y="12394"/>
                </a:lnTo>
                <a:lnTo>
                  <a:pt x="7636" y="12394"/>
                </a:lnTo>
                <a:lnTo>
                  <a:pt x="6643" y="12394"/>
                </a:lnTo>
                <a:lnTo>
                  <a:pt x="6403" y="12394"/>
                </a:lnTo>
                <a:lnTo>
                  <a:pt x="4905" y="10652"/>
                </a:lnTo>
                <a:lnTo>
                  <a:pt x="4183" y="11493"/>
                </a:lnTo>
                <a:lnTo>
                  <a:pt x="4957" y="12394"/>
                </a:lnTo>
                <a:lnTo>
                  <a:pt x="2637" y="12394"/>
                </a:lnTo>
                <a:lnTo>
                  <a:pt x="3151" y="11796"/>
                </a:lnTo>
                <a:lnTo>
                  <a:pt x="2357" y="10872"/>
                </a:lnTo>
                <a:lnTo>
                  <a:pt x="2174" y="8626"/>
                </a:lnTo>
                <a:lnTo>
                  <a:pt x="2763" y="7941"/>
                </a:lnTo>
                <a:lnTo>
                  <a:pt x="2054" y="7112"/>
                </a:lnTo>
                <a:lnTo>
                  <a:pt x="1920" y="5442"/>
                </a:lnTo>
                <a:lnTo>
                  <a:pt x="2985" y="4203"/>
                </a:lnTo>
                <a:close/>
                <a:moveTo>
                  <a:pt x="14784" y="4215"/>
                </a:moveTo>
                <a:lnTo>
                  <a:pt x="16587" y="4215"/>
                </a:lnTo>
                <a:lnTo>
                  <a:pt x="16373" y="6063"/>
                </a:lnTo>
                <a:lnTo>
                  <a:pt x="14784" y="4215"/>
                </a:lnTo>
                <a:close/>
                <a:moveTo>
                  <a:pt x="3349" y="5264"/>
                </a:moveTo>
                <a:lnTo>
                  <a:pt x="2617" y="6119"/>
                </a:lnTo>
                <a:lnTo>
                  <a:pt x="3349" y="6975"/>
                </a:lnTo>
                <a:lnTo>
                  <a:pt x="4085" y="6119"/>
                </a:lnTo>
                <a:lnTo>
                  <a:pt x="3349" y="5264"/>
                </a:lnTo>
                <a:close/>
                <a:moveTo>
                  <a:pt x="12890" y="5264"/>
                </a:moveTo>
                <a:lnTo>
                  <a:pt x="12157" y="6119"/>
                </a:lnTo>
                <a:lnTo>
                  <a:pt x="12890" y="6975"/>
                </a:lnTo>
                <a:lnTo>
                  <a:pt x="13625" y="6119"/>
                </a:lnTo>
                <a:lnTo>
                  <a:pt x="12890" y="5264"/>
                </a:lnTo>
                <a:close/>
                <a:moveTo>
                  <a:pt x="9521" y="5358"/>
                </a:moveTo>
                <a:lnTo>
                  <a:pt x="8795" y="6199"/>
                </a:lnTo>
                <a:lnTo>
                  <a:pt x="11249" y="9058"/>
                </a:lnTo>
                <a:lnTo>
                  <a:pt x="11978" y="8214"/>
                </a:lnTo>
                <a:lnTo>
                  <a:pt x="9521" y="5358"/>
                </a:lnTo>
                <a:close/>
                <a:moveTo>
                  <a:pt x="4905" y="7059"/>
                </a:moveTo>
                <a:lnTo>
                  <a:pt x="4183" y="7899"/>
                </a:lnTo>
                <a:lnTo>
                  <a:pt x="6637" y="10758"/>
                </a:lnTo>
                <a:lnTo>
                  <a:pt x="7359" y="9914"/>
                </a:lnTo>
                <a:lnTo>
                  <a:pt x="4905" y="7059"/>
                </a:lnTo>
                <a:close/>
                <a:moveTo>
                  <a:pt x="8007" y="7085"/>
                </a:moveTo>
                <a:lnTo>
                  <a:pt x="7272" y="7941"/>
                </a:lnTo>
                <a:lnTo>
                  <a:pt x="8007" y="8793"/>
                </a:lnTo>
                <a:lnTo>
                  <a:pt x="8743" y="7941"/>
                </a:lnTo>
                <a:lnTo>
                  <a:pt x="8007" y="7085"/>
                </a:lnTo>
                <a:close/>
                <a:moveTo>
                  <a:pt x="3349" y="8907"/>
                </a:moveTo>
                <a:lnTo>
                  <a:pt x="2617" y="9762"/>
                </a:lnTo>
                <a:lnTo>
                  <a:pt x="3349" y="10614"/>
                </a:lnTo>
                <a:lnTo>
                  <a:pt x="4085" y="9762"/>
                </a:lnTo>
                <a:lnTo>
                  <a:pt x="3349" y="8907"/>
                </a:lnTo>
                <a:close/>
                <a:moveTo>
                  <a:pt x="12799" y="9032"/>
                </a:moveTo>
                <a:lnTo>
                  <a:pt x="12066" y="9887"/>
                </a:lnTo>
                <a:lnTo>
                  <a:pt x="12799" y="10739"/>
                </a:lnTo>
                <a:lnTo>
                  <a:pt x="13537" y="9887"/>
                </a:lnTo>
                <a:lnTo>
                  <a:pt x="12799" y="9032"/>
                </a:lnTo>
                <a:close/>
                <a:moveTo>
                  <a:pt x="8007" y="10611"/>
                </a:moveTo>
                <a:lnTo>
                  <a:pt x="7272" y="11470"/>
                </a:lnTo>
                <a:lnTo>
                  <a:pt x="8007" y="12322"/>
                </a:lnTo>
                <a:lnTo>
                  <a:pt x="8743" y="11470"/>
                </a:lnTo>
                <a:lnTo>
                  <a:pt x="8007" y="10611"/>
                </a:lnTo>
                <a:close/>
                <a:moveTo>
                  <a:pt x="3450" y="13542"/>
                </a:moveTo>
                <a:lnTo>
                  <a:pt x="4511" y="13542"/>
                </a:lnTo>
                <a:lnTo>
                  <a:pt x="4511" y="18021"/>
                </a:lnTo>
                <a:lnTo>
                  <a:pt x="3467" y="15227"/>
                </a:lnTo>
                <a:cubicBezTo>
                  <a:pt x="3465" y="15056"/>
                  <a:pt x="3461" y="14886"/>
                  <a:pt x="3460" y="14716"/>
                </a:cubicBezTo>
                <a:cubicBezTo>
                  <a:pt x="3457" y="14322"/>
                  <a:pt x="3453" y="13935"/>
                  <a:pt x="3450" y="13542"/>
                </a:cubicBezTo>
                <a:close/>
                <a:moveTo>
                  <a:pt x="5504" y="13542"/>
                </a:moveTo>
                <a:lnTo>
                  <a:pt x="6643" y="13542"/>
                </a:lnTo>
                <a:lnTo>
                  <a:pt x="6643" y="20059"/>
                </a:lnTo>
                <a:lnTo>
                  <a:pt x="5576" y="20066"/>
                </a:lnTo>
                <a:lnTo>
                  <a:pt x="5504" y="13542"/>
                </a:lnTo>
                <a:close/>
                <a:moveTo>
                  <a:pt x="7636" y="13542"/>
                </a:moveTo>
                <a:lnTo>
                  <a:pt x="8723" y="13542"/>
                </a:lnTo>
                <a:lnTo>
                  <a:pt x="8723" y="20047"/>
                </a:lnTo>
                <a:lnTo>
                  <a:pt x="7636" y="20059"/>
                </a:lnTo>
                <a:lnTo>
                  <a:pt x="7636" y="13542"/>
                </a:lnTo>
                <a:close/>
                <a:moveTo>
                  <a:pt x="9719" y="13542"/>
                </a:moveTo>
                <a:lnTo>
                  <a:pt x="10787" y="13542"/>
                </a:lnTo>
                <a:lnTo>
                  <a:pt x="10787" y="20040"/>
                </a:lnTo>
                <a:lnTo>
                  <a:pt x="9719" y="20047"/>
                </a:lnTo>
                <a:lnTo>
                  <a:pt x="9719" y="13542"/>
                </a:lnTo>
                <a:close/>
                <a:moveTo>
                  <a:pt x="11718" y="13542"/>
                </a:moveTo>
                <a:lnTo>
                  <a:pt x="12857" y="13542"/>
                </a:lnTo>
                <a:lnTo>
                  <a:pt x="12799" y="20028"/>
                </a:lnTo>
                <a:lnTo>
                  <a:pt x="11718" y="20040"/>
                </a:lnTo>
                <a:lnTo>
                  <a:pt x="11718" y="13542"/>
                </a:lnTo>
                <a:close/>
                <a:moveTo>
                  <a:pt x="13850" y="13542"/>
                </a:moveTo>
                <a:lnTo>
                  <a:pt x="14911" y="13542"/>
                </a:lnTo>
                <a:cubicBezTo>
                  <a:pt x="14908" y="13935"/>
                  <a:pt x="14907" y="14322"/>
                  <a:pt x="14905" y="14716"/>
                </a:cubicBezTo>
                <a:cubicBezTo>
                  <a:pt x="14904" y="14729"/>
                  <a:pt x="14905" y="14744"/>
                  <a:pt x="14905" y="14757"/>
                </a:cubicBezTo>
                <a:lnTo>
                  <a:pt x="13824" y="18317"/>
                </a:lnTo>
                <a:lnTo>
                  <a:pt x="13850" y="13542"/>
                </a:lnTo>
                <a:close/>
              </a:path>
            </a:pathLst>
          </a:custGeom>
          <a:solidFill>
            <a:srgbClr val="d6d6d6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hape"/>
          <p:cNvSpPr/>
          <p:nvPr/>
        </p:nvSpPr>
        <p:spPr>
          <a:xfrm>
            <a:off x="5276880" y="2091240"/>
            <a:ext cx="704520" cy="605520"/>
          </a:xfrm>
          <a:custGeom>
            <a:avLst/>
            <a:gdLst>
              <a:gd name="textAreaLeft" fmla="*/ 0 w 704520"/>
              <a:gd name="textAreaRight" fmla="*/ 704880 w 704520"/>
              <a:gd name="textAreaTop" fmla="*/ 0 h 605520"/>
              <a:gd name="textAreaBottom" fmla="*/ 605880 h 60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59" y="13269"/>
                </a:lnTo>
                <a:lnTo>
                  <a:pt x="4228" y="21600"/>
                </a:lnTo>
                <a:lnTo>
                  <a:pt x="14299" y="21600"/>
                </a:lnTo>
                <a:lnTo>
                  <a:pt x="16844" y="14000"/>
                </a:lnTo>
                <a:lnTo>
                  <a:pt x="19165" y="13629"/>
                </a:lnTo>
                <a:lnTo>
                  <a:pt x="21577" y="10823"/>
                </a:lnTo>
                <a:lnTo>
                  <a:pt x="21600" y="4790"/>
                </a:lnTo>
                <a:lnTo>
                  <a:pt x="19396" y="2227"/>
                </a:lnTo>
                <a:lnTo>
                  <a:pt x="18130" y="2219"/>
                </a:lnTo>
                <a:lnTo>
                  <a:pt x="18355" y="19"/>
                </a:lnTo>
                <a:lnTo>
                  <a:pt x="0" y="0"/>
                </a:lnTo>
                <a:close/>
                <a:moveTo>
                  <a:pt x="17971" y="3798"/>
                </a:moveTo>
                <a:lnTo>
                  <a:pt x="19107" y="3828"/>
                </a:lnTo>
                <a:lnTo>
                  <a:pt x="20477" y="5423"/>
                </a:lnTo>
                <a:lnTo>
                  <a:pt x="20477" y="10190"/>
                </a:lnTo>
                <a:lnTo>
                  <a:pt x="18736" y="12216"/>
                </a:lnTo>
                <a:lnTo>
                  <a:pt x="17082" y="12489"/>
                </a:lnTo>
                <a:lnTo>
                  <a:pt x="17971" y="3798"/>
                </a:lnTo>
                <a:close/>
                <a:moveTo>
                  <a:pt x="2985" y="4203"/>
                </a:moveTo>
                <a:lnTo>
                  <a:pt x="4092" y="4203"/>
                </a:lnTo>
                <a:lnTo>
                  <a:pt x="6637" y="7165"/>
                </a:lnTo>
                <a:lnTo>
                  <a:pt x="7359" y="6320"/>
                </a:lnTo>
                <a:lnTo>
                  <a:pt x="5543" y="4207"/>
                </a:lnTo>
                <a:lnTo>
                  <a:pt x="7109" y="4207"/>
                </a:lnTo>
                <a:lnTo>
                  <a:pt x="7080" y="4237"/>
                </a:lnTo>
                <a:lnTo>
                  <a:pt x="8007" y="5317"/>
                </a:lnTo>
                <a:lnTo>
                  <a:pt x="8928" y="4237"/>
                </a:lnTo>
                <a:lnTo>
                  <a:pt x="8902" y="4207"/>
                </a:lnTo>
                <a:lnTo>
                  <a:pt x="10351" y="4211"/>
                </a:lnTo>
                <a:lnTo>
                  <a:pt x="11249" y="5256"/>
                </a:lnTo>
                <a:lnTo>
                  <a:pt x="12151" y="4211"/>
                </a:lnTo>
                <a:lnTo>
                  <a:pt x="13332" y="4211"/>
                </a:lnTo>
                <a:lnTo>
                  <a:pt x="16197" y="7547"/>
                </a:lnTo>
                <a:lnTo>
                  <a:pt x="16200" y="7543"/>
                </a:lnTo>
                <a:lnTo>
                  <a:pt x="16041" y="8926"/>
                </a:lnTo>
                <a:lnTo>
                  <a:pt x="14218" y="6809"/>
                </a:lnTo>
                <a:lnTo>
                  <a:pt x="13492" y="7649"/>
                </a:lnTo>
                <a:lnTo>
                  <a:pt x="15868" y="10414"/>
                </a:lnTo>
                <a:lnTo>
                  <a:pt x="15643" y="12303"/>
                </a:lnTo>
                <a:lnTo>
                  <a:pt x="15624" y="12383"/>
                </a:lnTo>
                <a:lnTo>
                  <a:pt x="14136" y="10652"/>
                </a:lnTo>
                <a:lnTo>
                  <a:pt x="13414" y="11493"/>
                </a:lnTo>
                <a:lnTo>
                  <a:pt x="14188" y="12394"/>
                </a:lnTo>
                <a:lnTo>
                  <a:pt x="11718" y="12394"/>
                </a:lnTo>
                <a:lnTo>
                  <a:pt x="11471" y="12394"/>
                </a:lnTo>
                <a:lnTo>
                  <a:pt x="11978" y="11807"/>
                </a:lnTo>
                <a:lnTo>
                  <a:pt x="9521" y="8952"/>
                </a:lnTo>
                <a:lnTo>
                  <a:pt x="8795" y="9793"/>
                </a:lnTo>
                <a:lnTo>
                  <a:pt x="11031" y="12394"/>
                </a:lnTo>
                <a:lnTo>
                  <a:pt x="10787" y="12394"/>
                </a:lnTo>
                <a:lnTo>
                  <a:pt x="9846" y="12394"/>
                </a:lnTo>
                <a:lnTo>
                  <a:pt x="9472" y="11959"/>
                </a:lnTo>
                <a:lnTo>
                  <a:pt x="9098" y="12394"/>
                </a:lnTo>
                <a:lnTo>
                  <a:pt x="8723" y="12394"/>
                </a:lnTo>
                <a:lnTo>
                  <a:pt x="7636" y="12394"/>
                </a:lnTo>
                <a:lnTo>
                  <a:pt x="6643" y="12394"/>
                </a:lnTo>
                <a:lnTo>
                  <a:pt x="6403" y="12394"/>
                </a:lnTo>
                <a:lnTo>
                  <a:pt x="4905" y="10652"/>
                </a:lnTo>
                <a:lnTo>
                  <a:pt x="4183" y="11493"/>
                </a:lnTo>
                <a:lnTo>
                  <a:pt x="4957" y="12394"/>
                </a:lnTo>
                <a:lnTo>
                  <a:pt x="2637" y="12394"/>
                </a:lnTo>
                <a:lnTo>
                  <a:pt x="3151" y="11796"/>
                </a:lnTo>
                <a:lnTo>
                  <a:pt x="2357" y="10872"/>
                </a:lnTo>
                <a:lnTo>
                  <a:pt x="2174" y="8626"/>
                </a:lnTo>
                <a:lnTo>
                  <a:pt x="2763" y="7941"/>
                </a:lnTo>
                <a:lnTo>
                  <a:pt x="2054" y="7112"/>
                </a:lnTo>
                <a:lnTo>
                  <a:pt x="1920" y="5442"/>
                </a:lnTo>
                <a:lnTo>
                  <a:pt x="2985" y="4203"/>
                </a:lnTo>
                <a:close/>
                <a:moveTo>
                  <a:pt x="14784" y="4215"/>
                </a:moveTo>
                <a:lnTo>
                  <a:pt x="16587" y="4215"/>
                </a:lnTo>
                <a:lnTo>
                  <a:pt x="16373" y="6063"/>
                </a:lnTo>
                <a:lnTo>
                  <a:pt x="14784" y="4215"/>
                </a:lnTo>
                <a:close/>
                <a:moveTo>
                  <a:pt x="3349" y="5264"/>
                </a:moveTo>
                <a:lnTo>
                  <a:pt x="2617" y="6119"/>
                </a:lnTo>
                <a:lnTo>
                  <a:pt x="3349" y="6975"/>
                </a:lnTo>
                <a:lnTo>
                  <a:pt x="4085" y="6119"/>
                </a:lnTo>
                <a:lnTo>
                  <a:pt x="3349" y="5264"/>
                </a:lnTo>
                <a:close/>
                <a:moveTo>
                  <a:pt x="12890" y="5264"/>
                </a:moveTo>
                <a:lnTo>
                  <a:pt x="12157" y="6119"/>
                </a:lnTo>
                <a:lnTo>
                  <a:pt x="12890" y="6975"/>
                </a:lnTo>
                <a:lnTo>
                  <a:pt x="13625" y="6119"/>
                </a:lnTo>
                <a:lnTo>
                  <a:pt x="12890" y="5264"/>
                </a:lnTo>
                <a:close/>
                <a:moveTo>
                  <a:pt x="9521" y="5358"/>
                </a:moveTo>
                <a:lnTo>
                  <a:pt x="8795" y="6199"/>
                </a:lnTo>
                <a:lnTo>
                  <a:pt x="11249" y="9058"/>
                </a:lnTo>
                <a:lnTo>
                  <a:pt x="11978" y="8214"/>
                </a:lnTo>
                <a:lnTo>
                  <a:pt x="9521" y="5358"/>
                </a:lnTo>
                <a:close/>
                <a:moveTo>
                  <a:pt x="4905" y="7059"/>
                </a:moveTo>
                <a:lnTo>
                  <a:pt x="4183" y="7899"/>
                </a:lnTo>
                <a:lnTo>
                  <a:pt x="6637" y="10758"/>
                </a:lnTo>
                <a:lnTo>
                  <a:pt x="7359" y="9914"/>
                </a:lnTo>
                <a:lnTo>
                  <a:pt x="4905" y="7059"/>
                </a:lnTo>
                <a:close/>
                <a:moveTo>
                  <a:pt x="8007" y="7085"/>
                </a:moveTo>
                <a:lnTo>
                  <a:pt x="7272" y="7941"/>
                </a:lnTo>
                <a:lnTo>
                  <a:pt x="8007" y="8793"/>
                </a:lnTo>
                <a:lnTo>
                  <a:pt x="8743" y="7941"/>
                </a:lnTo>
                <a:lnTo>
                  <a:pt x="8007" y="7085"/>
                </a:lnTo>
                <a:close/>
                <a:moveTo>
                  <a:pt x="3349" y="8907"/>
                </a:moveTo>
                <a:lnTo>
                  <a:pt x="2617" y="9762"/>
                </a:lnTo>
                <a:lnTo>
                  <a:pt x="3349" y="10614"/>
                </a:lnTo>
                <a:lnTo>
                  <a:pt x="4085" y="9762"/>
                </a:lnTo>
                <a:lnTo>
                  <a:pt x="3349" y="8907"/>
                </a:lnTo>
                <a:close/>
                <a:moveTo>
                  <a:pt x="12799" y="9032"/>
                </a:moveTo>
                <a:lnTo>
                  <a:pt x="12066" y="9887"/>
                </a:lnTo>
                <a:lnTo>
                  <a:pt x="12799" y="10739"/>
                </a:lnTo>
                <a:lnTo>
                  <a:pt x="13537" y="9887"/>
                </a:lnTo>
                <a:lnTo>
                  <a:pt x="12799" y="9032"/>
                </a:lnTo>
                <a:close/>
                <a:moveTo>
                  <a:pt x="8007" y="10611"/>
                </a:moveTo>
                <a:lnTo>
                  <a:pt x="7272" y="11470"/>
                </a:lnTo>
                <a:lnTo>
                  <a:pt x="8007" y="12322"/>
                </a:lnTo>
                <a:lnTo>
                  <a:pt x="8743" y="11470"/>
                </a:lnTo>
                <a:lnTo>
                  <a:pt x="8007" y="10611"/>
                </a:lnTo>
                <a:close/>
                <a:moveTo>
                  <a:pt x="3450" y="13542"/>
                </a:moveTo>
                <a:lnTo>
                  <a:pt x="4511" y="13542"/>
                </a:lnTo>
                <a:lnTo>
                  <a:pt x="4511" y="18021"/>
                </a:lnTo>
                <a:lnTo>
                  <a:pt x="3467" y="15227"/>
                </a:lnTo>
                <a:cubicBezTo>
                  <a:pt x="3465" y="15056"/>
                  <a:pt x="3461" y="14886"/>
                  <a:pt x="3460" y="14716"/>
                </a:cubicBezTo>
                <a:cubicBezTo>
                  <a:pt x="3457" y="14322"/>
                  <a:pt x="3453" y="13935"/>
                  <a:pt x="3450" y="13542"/>
                </a:cubicBezTo>
                <a:close/>
                <a:moveTo>
                  <a:pt x="5504" y="13542"/>
                </a:moveTo>
                <a:lnTo>
                  <a:pt x="6643" y="13542"/>
                </a:lnTo>
                <a:lnTo>
                  <a:pt x="6643" y="20059"/>
                </a:lnTo>
                <a:lnTo>
                  <a:pt x="5576" y="20066"/>
                </a:lnTo>
                <a:lnTo>
                  <a:pt x="5504" y="13542"/>
                </a:lnTo>
                <a:close/>
                <a:moveTo>
                  <a:pt x="7636" y="13542"/>
                </a:moveTo>
                <a:lnTo>
                  <a:pt x="8723" y="13542"/>
                </a:lnTo>
                <a:lnTo>
                  <a:pt x="8723" y="20047"/>
                </a:lnTo>
                <a:lnTo>
                  <a:pt x="7636" y="20059"/>
                </a:lnTo>
                <a:lnTo>
                  <a:pt x="7636" y="13542"/>
                </a:lnTo>
                <a:close/>
                <a:moveTo>
                  <a:pt x="9719" y="13542"/>
                </a:moveTo>
                <a:lnTo>
                  <a:pt x="10787" y="13542"/>
                </a:lnTo>
                <a:lnTo>
                  <a:pt x="10787" y="20040"/>
                </a:lnTo>
                <a:lnTo>
                  <a:pt x="9719" y="20047"/>
                </a:lnTo>
                <a:lnTo>
                  <a:pt x="9719" y="13542"/>
                </a:lnTo>
                <a:close/>
                <a:moveTo>
                  <a:pt x="11718" y="13542"/>
                </a:moveTo>
                <a:lnTo>
                  <a:pt x="12857" y="13542"/>
                </a:lnTo>
                <a:lnTo>
                  <a:pt x="12799" y="20028"/>
                </a:lnTo>
                <a:lnTo>
                  <a:pt x="11718" y="20040"/>
                </a:lnTo>
                <a:lnTo>
                  <a:pt x="11718" y="13542"/>
                </a:lnTo>
                <a:close/>
                <a:moveTo>
                  <a:pt x="13850" y="13542"/>
                </a:moveTo>
                <a:lnTo>
                  <a:pt x="14911" y="13542"/>
                </a:lnTo>
                <a:cubicBezTo>
                  <a:pt x="14908" y="13935"/>
                  <a:pt x="14907" y="14322"/>
                  <a:pt x="14905" y="14716"/>
                </a:cubicBezTo>
                <a:cubicBezTo>
                  <a:pt x="14904" y="14729"/>
                  <a:pt x="14905" y="14744"/>
                  <a:pt x="14905" y="14757"/>
                </a:cubicBezTo>
                <a:lnTo>
                  <a:pt x="13824" y="18317"/>
                </a:lnTo>
                <a:lnTo>
                  <a:pt x="13850" y="13542"/>
                </a:lnTo>
                <a:close/>
              </a:path>
            </a:pathLst>
          </a:custGeom>
          <a:solidFill>
            <a:srgbClr val="d6d6d6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hape"/>
          <p:cNvSpPr/>
          <p:nvPr/>
        </p:nvSpPr>
        <p:spPr>
          <a:xfrm>
            <a:off x="4405320" y="2824920"/>
            <a:ext cx="704520" cy="605520"/>
          </a:xfrm>
          <a:custGeom>
            <a:avLst/>
            <a:gdLst>
              <a:gd name="textAreaLeft" fmla="*/ 0 w 704520"/>
              <a:gd name="textAreaRight" fmla="*/ 704880 w 704520"/>
              <a:gd name="textAreaTop" fmla="*/ 0 h 605520"/>
              <a:gd name="textAreaBottom" fmla="*/ 605880 h 60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59" y="13269"/>
                </a:lnTo>
                <a:lnTo>
                  <a:pt x="4228" y="21600"/>
                </a:lnTo>
                <a:lnTo>
                  <a:pt x="14299" y="21600"/>
                </a:lnTo>
                <a:lnTo>
                  <a:pt x="16844" y="14000"/>
                </a:lnTo>
                <a:lnTo>
                  <a:pt x="19165" y="13629"/>
                </a:lnTo>
                <a:lnTo>
                  <a:pt x="21577" y="10823"/>
                </a:lnTo>
                <a:lnTo>
                  <a:pt x="21600" y="4790"/>
                </a:lnTo>
                <a:lnTo>
                  <a:pt x="19396" y="2227"/>
                </a:lnTo>
                <a:lnTo>
                  <a:pt x="18130" y="2219"/>
                </a:lnTo>
                <a:lnTo>
                  <a:pt x="18355" y="19"/>
                </a:lnTo>
                <a:lnTo>
                  <a:pt x="0" y="0"/>
                </a:lnTo>
                <a:close/>
                <a:moveTo>
                  <a:pt x="17971" y="3798"/>
                </a:moveTo>
                <a:lnTo>
                  <a:pt x="19107" y="3828"/>
                </a:lnTo>
                <a:lnTo>
                  <a:pt x="20477" y="5423"/>
                </a:lnTo>
                <a:lnTo>
                  <a:pt x="20477" y="10190"/>
                </a:lnTo>
                <a:lnTo>
                  <a:pt x="18736" y="12216"/>
                </a:lnTo>
                <a:lnTo>
                  <a:pt x="17082" y="12489"/>
                </a:lnTo>
                <a:lnTo>
                  <a:pt x="17971" y="3798"/>
                </a:lnTo>
                <a:close/>
                <a:moveTo>
                  <a:pt x="2985" y="4203"/>
                </a:moveTo>
                <a:lnTo>
                  <a:pt x="4092" y="4203"/>
                </a:lnTo>
                <a:lnTo>
                  <a:pt x="6637" y="7165"/>
                </a:lnTo>
                <a:lnTo>
                  <a:pt x="7359" y="6320"/>
                </a:lnTo>
                <a:lnTo>
                  <a:pt x="5543" y="4207"/>
                </a:lnTo>
                <a:lnTo>
                  <a:pt x="7109" y="4207"/>
                </a:lnTo>
                <a:lnTo>
                  <a:pt x="7080" y="4237"/>
                </a:lnTo>
                <a:lnTo>
                  <a:pt x="8007" y="5317"/>
                </a:lnTo>
                <a:lnTo>
                  <a:pt x="8928" y="4237"/>
                </a:lnTo>
                <a:lnTo>
                  <a:pt x="8902" y="4207"/>
                </a:lnTo>
                <a:lnTo>
                  <a:pt x="10351" y="4211"/>
                </a:lnTo>
                <a:lnTo>
                  <a:pt x="11249" y="5256"/>
                </a:lnTo>
                <a:lnTo>
                  <a:pt x="12151" y="4211"/>
                </a:lnTo>
                <a:lnTo>
                  <a:pt x="13332" y="4211"/>
                </a:lnTo>
                <a:lnTo>
                  <a:pt x="16197" y="7547"/>
                </a:lnTo>
                <a:lnTo>
                  <a:pt x="16200" y="7543"/>
                </a:lnTo>
                <a:lnTo>
                  <a:pt x="16041" y="8926"/>
                </a:lnTo>
                <a:lnTo>
                  <a:pt x="14218" y="6809"/>
                </a:lnTo>
                <a:lnTo>
                  <a:pt x="13492" y="7649"/>
                </a:lnTo>
                <a:lnTo>
                  <a:pt x="15868" y="10414"/>
                </a:lnTo>
                <a:lnTo>
                  <a:pt x="15643" y="12303"/>
                </a:lnTo>
                <a:lnTo>
                  <a:pt x="15624" y="12383"/>
                </a:lnTo>
                <a:lnTo>
                  <a:pt x="14136" y="10652"/>
                </a:lnTo>
                <a:lnTo>
                  <a:pt x="13414" y="11493"/>
                </a:lnTo>
                <a:lnTo>
                  <a:pt x="14188" y="12394"/>
                </a:lnTo>
                <a:lnTo>
                  <a:pt x="11718" y="12394"/>
                </a:lnTo>
                <a:lnTo>
                  <a:pt x="11471" y="12394"/>
                </a:lnTo>
                <a:lnTo>
                  <a:pt x="11978" y="11807"/>
                </a:lnTo>
                <a:lnTo>
                  <a:pt x="9521" y="8952"/>
                </a:lnTo>
                <a:lnTo>
                  <a:pt x="8795" y="9793"/>
                </a:lnTo>
                <a:lnTo>
                  <a:pt x="11031" y="12394"/>
                </a:lnTo>
                <a:lnTo>
                  <a:pt x="10787" y="12394"/>
                </a:lnTo>
                <a:lnTo>
                  <a:pt x="9846" y="12394"/>
                </a:lnTo>
                <a:lnTo>
                  <a:pt x="9472" y="11959"/>
                </a:lnTo>
                <a:lnTo>
                  <a:pt x="9098" y="12394"/>
                </a:lnTo>
                <a:lnTo>
                  <a:pt x="8723" y="12394"/>
                </a:lnTo>
                <a:lnTo>
                  <a:pt x="7636" y="12394"/>
                </a:lnTo>
                <a:lnTo>
                  <a:pt x="6643" y="12394"/>
                </a:lnTo>
                <a:lnTo>
                  <a:pt x="6403" y="12394"/>
                </a:lnTo>
                <a:lnTo>
                  <a:pt x="4905" y="10652"/>
                </a:lnTo>
                <a:lnTo>
                  <a:pt x="4183" y="11493"/>
                </a:lnTo>
                <a:lnTo>
                  <a:pt x="4957" y="12394"/>
                </a:lnTo>
                <a:lnTo>
                  <a:pt x="2637" y="12394"/>
                </a:lnTo>
                <a:lnTo>
                  <a:pt x="3151" y="11796"/>
                </a:lnTo>
                <a:lnTo>
                  <a:pt x="2357" y="10872"/>
                </a:lnTo>
                <a:lnTo>
                  <a:pt x="2174" y="8626"/>
                </a:lnTo>
                <a:lnTo>
                  <a:pt x="2763" y="7941"/>
                </a:lnTo>
                <a:lnTo>
                  <a:pt x="2054" y="7112"/>
                </a:lnTo>
                <a:lnTo>
                  <a:pt x="1920" y="5442"/>
                </a:lnTo>
                <a:lnTo>
                  <a:pt x="2985" y="4203"/>
                </a:lnTo>
                <a:close/>
                <a:moveTo>
                  <a:pt x="14784" y="4215"/>
                </a:moveTo>
                <a:lnTo>
                  <a:pt x="16587" y="4215"/>
                </a:lnTo>
                <a:lnTo>
                  <a:pt x="16373" y="6063"/>
                </a:lnTo>
                <a:lnTo>
                  <a:pt x="14784" y="4215"/>
                </a:lnTo>
                <a:close/>
                <a:moveTo>
                  <a:pt x="3349" y="5264"/>
                </a:moveTo>
                <a:lnTo>
                  <a:pt x="2617" y="6119"/>
                </a:lnTo>
                <a:lnTo>
                  <a:pt x="3349" y="6975"/>
                </a:lnTo>
                <a:lnTo>
                  <a:pt x="4085" y="6119"/>
                </a:lnTo>
                <a:lnTo>
                  <a:pt x="3349" y="5264"/>
                </a:lnTo>
                <a:close/>
                <a:moveTo>
                  <a:pt x="12890" y="5264"/>
                </a:moveTo>
                <a:lnTo>
                  <a:pt x="12157" y="6119"/>
                </a:lnTo>
                <a:lnTo>
                  <a:pt x="12890" y="6975"/>
                </a:lnTo>
                <a:lnTo>
                  <a:pt x="13625" y="6119"/>
                </a:lnTo>
                <a:lnTo>
                  <a:pt x="12890" y="5264"/>
                </a:lnTo>
                <a:close/>
                <a:moveTo>
                  <a:pt x="9521" y="5358"/>
                </a:moveTo>
                <a:lnTo>
                  <a:pt x="8795" y="6199"/>
                </a:lnTo>
                <a:lnTo>
                  <a:pt x="11249" y="9058"/>
                </a:lnTo>
                <a:lnTo>
                  <a:pt x="11978" y="8214"/>
                </a:lnTo>
                <a:lnTo>
                  <a:pt x="9521" y="5358"/>
                </a:lnTo>
                <a:close/>
                <a:moveTo>
                  <a:pt x="4905" y="7059"/>
                </a:moveTo>
                <a:lnTo>
                  <a:pt x="4183" y="7899"/>
                </a:lnTo>
                <a:lnTo>
                  <a:pt x="6637" y="10758"/>
                </a:lnTo>
                <a:lnTo>
                  <a:pt x="7359" y="9914"/>
                </a:lnTo>
                <a:lnTo>
                  <a:pt x="4905" y="7059"/>
                </a:lnTo>
                <a:close/>
                <a:moveTo>
                  <a:pt x="8007" y="7085"/>
                </a:moveTo>
                <a:lnTo>
                  <a:pt x="7272" y="7941"/>
                </a:lnTo>
                <a:lnTo>
                  <a:pt x="8007" y="8793"/>
                </a:lnTo>
                <a:lnTo>
                  <a:pt x="8743" y="7941"/>
                </a:lnTo>
                <a:lnTo>
                  <a:pt x="8007" y="7085"/>
                </a:lnTo>
                <a:close/>
                <a:moveTo>
                  <a:pt x="3349" y="8907"/>
                </a:moveTo>
                <a:lnTo>
                  <a:pt x="2617" y="9762"/>
                </a:lnTo>
                <a:lnTo>
                  <a:pt x="3349" y="10614"/>
                </a:lnTo>
                <a:lnTo>
                  <a:pt x="4085" y="9762"/>
                </a:lnTo>
                <a:lnTo>
                  <a:pt x="3349" y="8907"/>
                </a:lnTo>
                <a:close/>
                <a:moveTo>
                  <a:pt x="12799" y="9032"/>
                </a:moveTo>
                <a:lnTo>
                  <a:pt x="12066" y="9887"/>
                </a:lnTo>
                <a:lnTo>
                  <a:pt x="12799" y="10739"/>
                </a:lnTo>
                <a:lnTo>
                  <a:pt x="13537" y="9887"/>
                </a:lnTo>
                <a:lnTo>
                  <a:pt x="12799" y="9032"/>
                </a:lnTo>
                <a:close/>
                <a:moveTo>
                  <a:pt x="8007" y="10611"/>
                </a:moveTo>
                <a:lnTo>
                  <a:pt x="7272" y="11470"/>
                </a:lnTo>
                <a:lnTo>
                  <a:pt x="8007" y="12322"/>
                </a:lnTo>
                <a:lnTo>
                  <a:pt x="8743" y="11470"/>
                </a:lnTo>
                <a:lnTo>
                  <a:pt x="8007" y="10611"/>
                </a:lnTo>
                <a:close/>
                <a:moveTo>
                  <a:pt x="3450" y="13542"/>
                </a:moveTo>
                <a:lnTo>
                  <a:pt x="4511" y="13542"/>
                </a:lnTo>
                <a:lnTo>
                  <a:pt x="4511" y="18021"/>
                </a:lnTo>
                <a:lnTo>
                  <a:pt x="3467" y="15227"/>
                </a:lnTo>
                <a:cubicBezTo>
                  <a:pt x="3465" y="15056"/>
                  <a:pt x="3461" y="14886"/>
                  <a:pt x="3460" y="14716"/>
                </a:cubicBezTo>
                <a:cubicBezTo>
                  <a:pt x="3457" y="14322"/>
                  <a:pt x="3453" y="13935"/>
                  <a:pt x="3450" y="13542"/>
                </a:cubicBezTo>
                <a:close/>
                <a:moveTo>
                  <a:pt x="5504" y="13542"/>
                </a:moveTo>
                <a:lnTo>
                  <a:pt x="6643" y="13542"/>
                </a:lnTo>
                <a:lnTo>
                  <a:pt x="6643" y="20059"/>
                </a:lnTo>
                <a:lnTo>
                  <a:pt x="5576" y="20066"/>
                </a:lnTo>
                <a:lnTo>
                  <a:pt x="5504" y="13542"/>
                </a:lnTo>
                <a:close/>
                <a:moveTo>
                  <a:pt x="7636" y="13542"/>
                </a:moveTo>
                <a:lnTo>
                  <a:pt x="8723" y="13542"/>
                </a:lnTo>
                <a:lnTo>
                  <a:pt x="8723" y="20047"/>
                </a:lnTo>
                <a:lnTo>
                  <a:pt x="7636" y="20059"/>
                </a:lnTo>
                <a:lnTo>
                  <a:pt x="7636" y="13542"/>
                </a:lnTo>
                <a:close/>
                <a:moveTo>
                  <a:pt x="9719" y="13542"/>
                </a:moveTo>
                <a:lnTo>
                  <a:pt x="10787" y="13542"/>
                </a:lnTo>
                <a:lnTo>
                  <a:pt x="10787" y="20040"/>
                </a:lnTo>
                <a:lnTo>
                  <a:pt x="9719" y="20047"/>
                </a:lnTo>
                <a:lnTo>
                  <a:pt x="9719" y="13542"/>
                </a:lnTo>
                <a:close/>
                <a:moveTo>
                  <a:pt x="11718" y="13542"/>
                </a:moveTo>
                <a:lnTo>
                  <a:pt x="12857" y="13542"/>
                </a:lnTo>
                <a:lnTo>
                  <a:pt x="12799" y="20028"/>
                </a:lnTo>
                <a:lnTo>
                  <a:pt x="11718" y="20040"/>
                </a:lnTo>
                <a:lnTo>
                  <a:pt x="11718" y="13542"/>
                </a:lnTo>
                <a:close/>
                <a:moveTo>
                  <a:pt x="13850" y="13542"/>
                </a:moveTo>
                <a:lnTo>
                  <a:pt x="14911" y="13542"/>
                </a:lnTo>
                <a:cubicBezTo>
                  <a:pt x="14908" y="13935"/>
                  <a:pt x="14907" y="14322"/>
                  <a:pt x="14905" y="14716"/>
                </a:cubicBezTo>
                <a:cubicBezTo>
                  <a:pt x="14904" y="14729"/>
                  <a:pt x="14905" y="14744"/>
                  <a:pt x="14905" y="14757"/>
                </a:cubicBezTo>
                <a:lnTo>
                  <a:pt x="13824" y="18317"/>
                </a:lnTo>
                <a:lnTo>
                  <a:pt x="13850" y="13542"/>
                </a:lnTo>
                <a:close/>
              </a:path>
            </a:pathLst>
          </a:custGeom>
          <a:solidFill>
            <a:srgbClr val="d6d6d6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hape"/>
          <p:cNvSpPr/>
          <p:nvPr/>
        </p:nvSpPr>
        <p:spPr>
          <a:xfrm>
            <a:off x="5276880" y="2824920"/>
            <a:ext cx="704520" cy="605520"/>
          </a:xfrm>
          <a:custGeom>
            <a:avLst/>
            <a:gdLst>
              <a:gd name="textAreaLeft" fmla="*/ 0 w 704520"/>
              <a:gd name="textAreaRight" fmla="*/ 704880 w 704520"/>
              <a:gd name="textAreaTop" fmla="*/ 0 h 605520"/>
              <a:gd name="textAreaBottom" fmla="*/ 605880 h 60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59" y="13269"/>
                </a:lnTo>
                <a:lnTo>
                  <a:pt x="4228" y="21600"/>
                </a:lnTo>
                <a:lnTo>
                  <a:pt x="14299" y="21600"/>
                </a:lnTo>
                <a:lnTo>
                  <a:pt x="16844" y="14000"/>
                </a:lnTo>
                <a:lnTo>
                  <a:pt x="19165" y="13629"/>
                </a:lnTo>
                <a:lnTo>
                  <a:pt x="21577" y="10823"/>
                </a:lnTo>
                <a:lnTo>
                  <a:pt x="21600" y="4790"/>
                </a:lnTo>
                <a:lnTo>
                  <a:pt x="19396" y="2227"/>
                </a:lnTo>
                <a:lnTo>
                  <a:pt x="18130" y="2219"/>
                </a:lnTo>
                <a:lnTo>
                  <a:pt x="18355" y="19"/>
                </a:lnTo>
                <a:lnTo>
                  <a:pt x="0" y="0"/>
                </a:lnTo>
                <a:close/>
                <a:moveTo>
                  <a:pt x="17971" y="3798"/>
                </a:moveTo>
                <a:lnTo>
                  <a:pt x="19107" y="3828"/>
                </a:lnTo>
                <a:lnTo>
                  <a:pt x="20477" y="5423"/>
                </a:lnTo>
                <a:lnTo>
                  <a:pt x="20477" y="10190"/>
                </a:lnTo>
                <a:lnTo>
                  <a:pt x="18736" y="12216"/>
                </a:lnTo>
                <a:lnTo>
                  <a:pt x="17082" y="12489"/>
                </a:lnTo>
                <a:lnTo>
                  <a:pt x="17971" y="3798"/>
                </a:lnTo>
                <a:close/>
                <a:moveTo>
                  <a:pt x="2985" y="4203"/>
                </a:moveTo>
                <a:lnTo>
                  <a:pt x="4092" y="4203"/>
                </a:lnTo>
                <a:lnTo>
                  <a:pt x="6637" y="7165"/>
                </a:lnTo>
                <a:lnTo>
                  <a:pt x="7359" y="6320"/>
                </a:lnTo>
                <a:lnTo>
                  <a:pt x="5543" y="4207"/>
                </a:lnTo>
                <a:lnTo>
                  <a:pt x="7109" y="4207"/>
                </a:lnTo>
                <a:lnTo>
                  <a:pt x="7080" y="4237"/>
                </a:lnTo>
                <a:lnTo>
                  <a:pt x="8007" y="5317"/>
                </a:lnTo>
                <a:lnTo>
                  <a:pt x="8928" y="4237"/>
                </a:lnTo>
                <a:lnTo>
                  <a:pt x="8902" y="4207"/>
                </a:lnTo>
                <a:lnTo>
                  <a:pt x="10351" y="4211"/>
                </a:lnTo>
                <a:lnTo>
                  <a:pt x="11249" y="5256"/>
                </a:lnTo>
                <a:lnTo>
                  <a:pt x="12151" y="4211"/>
                </a:lnTo>
                <a:lnTo>
                  <a:pt x="13332" y="4211"/>
                </a:lnTo>
                <a:lnTo>
                  <a:pt x="16197" y="7547"/>
                </a:lnTo>
                <a:lnTo>
                  <a:pt x="16200" y="7543"/>
                </a:lnTo>
                <a:lnTo>
                  <a:pt x="16041" y="8926"/>
                </a:lnTo>
                <a:lnTo>
                  <a:pt x="14218" y="6809"/>
                </a:lnTo>
                <a:lnTo>
                  <a:pt x="13492" y="7649"/>
                </a:lnTo>
                <a:lnTo>
                  <a:pt x="15868" y="10414"/>
                </a:lnTo>
                <a:lnTo>
                  <a:pt x="15643" y="12303"/>
                </a:lnTo>
                <a:lnTo>
                  <a:pt x="15624" y="12383"/>
                </a:lnTo>
                <a:lnTo>
                  <a:pt x="14136" y="10652"/>
                </a:lnTo>
                <a:lnTo>
                  <a:pt x="13414" y="11493"/>
                </a:lnTo>
                <a:lnTo>
                  <a:pt x="14188" y="12394"/>
                </a:lnTo>
                <a:lnTo>
                  <a:pt x="11718" y="12394"/>
                </a:lnTo>
                <a:lnTo>
                  <a:pt x="11471" y="12394"/>
                </a:lnTo>
                <a:lnTo>
                  <a:pt x="11978" y="11807"/>
                </a:lnTo>
                <a:lnTo>
                  <a:pt x="9521" y="8952"/>
                </a:lnTo>
                <a:lnTo>
                  <a:pt x="8795" y="9793"/>
                </a:lnTo>
                <a:lnTo>
                  <a:pt x="11031" y="12394"/>
                </a:lnTo>
                <a:lnTo>
                  <a:pt x="10787" y="12394"/>
                </a:lnTo>
                <a:lnTo>
                  <a:pt x="9846" y="12394"/>
                </a:lnTo>
                <a:lnTo>
                  <a:pt x="9472" y="11959"/>
                </a:lnTo>
                <a:lnTo>
                  <a:pt x="9098" y="12394"/>
                </a:lnTo>
                <a:lnTo>
                  <a:pt x="8723" y="12394"/>
                </a:lnTo>
                <a:lnTo>
                  <a:pt x="7636" y="12394"/>
                </a:lnTo>
                <a:lnTo>
                  <a:pt x="6643" y="12394"/>
                </a:lnTo>
                <a:lnTo>
                  <a:pt x="6403" y="12394"/>
                </a:lnTo>
                <a:lnTo>
                  <a:pt x="4905" y="10652"/>
                </a:lnTo>
                <a:lnTo>
                  <a:pt x="4183" y="11493"/>
                </a:lnTo>
                <a:lnTo>
                  <a:pt x="4957" y="12394"/>
                </a:lnTo>
                <a:lnTo>
                  <a:pt x="2637" y="12394"/>
                </a:lnTo>
                <a:lnTo>
                  <a:pt x="3151" y="11796"/>
                </a:lnTo>
                <a:lnTo>
                  <a:pt x="2357" y="10872"/>
                </a:lnTo>
                <a:lnTo>
                  <a:pt x="2174" y="8626"/>
                </a:lnTo>
                <a:lnTo>
                  <a:pt x="2763" y="7941"/>
                </a:lnTo>
                <a:lnTo>
                  <a:pt x="2054" y="7112"/>
                </a:lnTo>
                <a:lnTo>
                  <a:pt x="1920" y="5442"/>
                </a:lnTo>
                <a:lnTo>
                  <a:pt x="2985" y="4203"/>
                </a:lnTo>
                <a:close/>
                <a:moveTo>
                  <a:pt x="14784" y="4215"/>
                </a:moveTo>
                <a:lnTo>
                  <a:pt x="16587" y="4215"/>
                </a:lnTo>
                <a:lnTo>
                  <a:pt x="16373" y="6063"/>
                </a:lnTo>
                <a:lnTo>
                  <a:pt x="14784" y="4215"/>
                </a:lnTo>
                <a:close/>
                <a:moveTo>
                  <a:pt x="3349" y="5264"/>
                </a:moveTo>
                <a:lnTo>
                  <a:pt x="2617" y="6119"/>
                </a:lnTo>
                <a:lnTo>
                  <a:pt x="3349" y="6975"/>
                </a:lnTo>
                <a:lnTo>
                  <a:pt x="4085" y="6119"/>
                </a:lnTo>
                <a:lnTo>
                  <a:pt x="3349" y="5264"/>
                </a:lnTo>
                <a:close/>
                <a:moveTo>
                  <a:pt x="12890" y="5264"/>
                </a:moveTo>
                <a:lnTo>
                  <a:pt x="12157" y="6119"/>
                </a:lnTo>
                <a:lnTo>
                  <a:pt x="12890" y="6975"/>
                </a:lnTo>
                <a:lnTo>
                  <a:pt x="13625" y="6119"/>
                </a:lnTo>
                <a:lnTo>
                  <a:pt x="12890" y="5264"/>
                </a:lnTo>
                <a:close/>
                <a:moveTo>
                  <a:pt x="9521" y="5358"/>
                </a:moveTo>
                <a:lnTo>
                  <a:pt x="8795" y="6199"/>
                </a:lnTo>
                <a:lnTo>
                  <a:pt x="11249" y="9058"/>
                </a:lnTo>
                <a:lnTo>
                  <a:pt x="11978" y="8214"/>
                </a:lnTo>
                <a:lnTo>
                  <a:pt x="9521" y="5358"/>
                </a:lnTo>
                <a:close/>
                <a:moveTo>
                  <a:pt x="4905" y="7059"/>
                </a:moveTo>
                <a:lnTo>
                  <a:pt x="4183" y="7899"/>
                </a:lnTo>
                <a:lnTo>
                  <a:pt x="6637" y="10758"/>
                </a:lnTo>
                <a:lnTo>
                  <a:pt x="7359" y="9914"/>
                </a:lnTo>
                <a:lnTo>
                  <a:pt x="4905" y="7059"/>
                </a:lnTo>
                <a:close/>
                <a:moveTo>
                  <a:pt x="8007" y="7085"/>
                </a:moveTo>
                <a:lnTo>
                  <a:pt x="7272" y="7941"/>
                </a:lnTo>
                <a:lnTo>
                  <a:pt x="8007" y="8793"/>
                </a:lnTo>
                <a:lnTo>
                  <a:pt x="8743" y="7941"/>
                </a:lnTo>
                <a:lnTo>
                  <a:pt x="8007" y="7085"/>
                </a:lnTo>
                <a:close/>
                <a:moveTo>
                  <a:pt x="3349" y="8907"/>
                </a:moveTo>
                <a:lnTo>
                  <a:pt x="2617" y="9762"/>
                </a:lnTo>
                <a:lnTo>
                  <a:pt x="3349" y="10614"/>
                </a:lnTo>
                <a:lnTo>
                  <a:pt x="4085" y="9762"/>
                </a:lnTo>
                <a:lnTo>
                  <a:pt x="3349" y="8907"/>
                </a:lnTo>
                <a:close/>
                <a:moveTo>
                  <a:pt x="12799" y="9032"/>
                </a:moveTo>
                <a:lnTo>
                  <a:pt x="12066" y="9887"/>
                </a:lnTo>
                <a:lnTo>
                  <a:pt x="12799" y="10739"/>
                </a:lnTo>
                <a:lnTo>
                  <a:pt x="13537" y="9887"/>
                </a:lnTo>
                <a:lnTo>
                  <a:pt x="12799" y="9032"/>
                </a:lnTo>
                <a:close/>
                <a:moveTo>
                  <a:pt x="8007" y="10611"/>
                </a:moveTo>
                <a:lnTo>
                  <a:pt x="7272" y="11470"/>
                </a:lnTo>
                <a:lnTo>
                  <a:pt x="8007" y="12322"/>
                </a:lnTo>
                <a:lnTo>
                  <a:pt x="8743" y="11470"/>
                </a:lnTo>
                <a:lnTo>
                  <a:pt x="8007" y="10611"/>
                </a:lnTo>
                <a:close/>
                <a:moveTo>
                  <a:pt x="3450" y="13542"/>
                </a:moveTo>
                <a:lnTo>
                  <a:pt x="4511" y="13542"/>
                </a:lnTo>
                <a:lnTo>
                  <a:pt x="4511" y="18021"/>
                </a:lnTo>
                <a:lnTo>
                  <a:pt x="3467" y="15227"/>
                </a:lnTo>
                <a:cubicBezTo>
                  <a:pt x="3465" y="15056"/>
                  <a:pt x="3461" y="14886"/>
                  <a:pt x="3460" y="14716"/>
                </a:cubicBezTo>
                <a:cubicBezTo>
                  <a:pt x="3457" y="14322"/>
                  <a:pt x="3453" y="13935"/>
                  <a:pt x="3450" y="13542"/>
                </a:cubicBezTo>
                <a:close/>
                <a:moveTo>
                  <a:pt x="5504" y="13542"/>
                </a:moveTo>
                <a:lnTo>
                  <a:pt x="6643" y="13542"/>
                </a:lnTo>
                <a:lnTo>
                  <a:pt x="6643" y="20059"/>
                </a:lnTo>
                <a:lnTo>
                  <a:pt x="5576" y="20066"/>
                </a:lnTo>
                <a:lnTo>
                  <a:pt x="5504" y="13542"/>
                </a:lnTo>
                <a:close/>
                <a:moveTo>
                  <a:pt x="7636" y="13542"/>
                </a:moveTo>
                <a:lnTo>
                  <a:pt x="8723" y="13542"/>
                </a:lnTo>
                <a:lnTo>
                  <a:pt x="8723" y="20047"/>
                </a:lnTo>
                <a:lnTo>
                  <a:pt x="7636" y="20059"/>
                </a:lnTo>
                <a:lnTo>
                  <a:pt x="7636" y="13542"/>
                </a:lnTo>
                <a:close/>
                <a:moveTo>
                  <a:pt x="9719" y="13542"/>
                </a:moveTo>
                <a:lnTo>
                  <a:pt x="10787" y="13542"/>
                </a:lnTo>
                <a:lnTo>
                  <a:pt x="10787" y="20040"/>
                </a:lnTo>
                <a:lnTo>
                  <a:pt x="9719" y="20047"/>
                </a:lnTo>
                <a:lnTo>
                  <a:pt x="9719" y="13542"/>
                </a:lnTo>
                <a:close/>
                <a:moveTo>
                  <a:pt x="11718" y="13542"/>
                </a:moveTo>
                <a:lnTo>
                  <a:pt x="12857" y="13542"/>
                </a:lnTo>
                <a:lnTo>
                  <a:pt x="12799" y="20028"/>
                </a:lnTo>
                <a:lnTo>
                  <a:pt x="11718" y="20040"/>
                </a:lnTo>
                <a:lnTo>
                  <a:pt x="11718" y="13542"/>
                </a:lnTo>
                <a:close/>
                <a:moveTo>
                  <a:pt x="13850" y="13542"/>
                </a:moveTo>
                <a:lnTo>
                  <a:pt x="14911" y="13542"/>
                </a:lnTo>
                <a:cubicBezTo>
                  <a:pt x="14908" y="13935"/>
                  <a:pt x="14907" y="14322"/>
                  <a:pt x="14905" y="14716"/>
                </a:cubicBezTo>
                <a:cubicBezTo>
                  <a:pt x="14904" y="14729"/>
                  <a:pt x="14905" y="14744"/>
                  <a:pt x="14905" y="14757"/>
                </a:cubicBezTo>
                <a:lnTo>
                  <a:pt x="13824" y="18317"/>
                </a:lnTo>
                <a:lnTo>
                  <a:pt x="13850" y="13542"/>
                </a:lnTo>
                <a:close/>
              </a:path>
            </a:pathLst>
          </a:custGeom>
          <a:solidFill>
            <a:srgbClr val="d6d6d6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hape"/>
          <p:cNvSpPr/>
          <p:nvPr/>
        </p:nvSpPr>
        <p:spPr>
          <a:xfrm>
            <a:off x="6148440" y="2078280"/>
            <a:ext cx="1571040" cy="1350360"/>
          </a:xfrm>
          <a:custGeom>
            <a:avLst/>
            <a:gdLst>
              <a:gd name="textAreaLeft" fmla="*/ 0 w 1571040"/>
              <a:gd name="textAreaRight" fmla="*/ 1571400 w 1571040"/>
              <a:gd name="textAreaTop" fmla="*/ 0 h 1350360"/>
              <a:gd name="textAreaBottom" fmla="*/ 1350720 h 135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59" y="13269"/>
                </a:lnTo>
                <a:lnTo>
                  <a:pt x="4228" y="21600"/>
                </a:lnTo>
                <a:lnTo>
                  <a:pt x="14299" y="21600"/>
                </a:lnTo>
                <a:lnTo>
                  <a:pt x="16844" y="14000"/>
                </a:lnTo>
                <a:lnTo>
                  <a:pt x="19165" y="13629"/>
                </a:lnTo>
                <a:lnTo>
                  <a:pt x="21577" y="10823"/>
                </a:lnTo>
                <a:lnTo>
                  <a:pt x="21600" y="4790"/>
                </a:lnTo>
                <a:lnTo>
                  <a:pt x="19396" y="2227"/>
                </a:lnTo>
                <a:lnTo>
                  <a:pt x="18130" y="2219"/>
                </a:lnTo>
                <a:lnTo>
                  <a:pt x="18355" y="19"/>
                </a:lnTo>
                <a:lnTo>
                  <a:pt x="0" y="0"/>
                </a:lnTo>
                <a:close/>
                <a:moveTo>
                  <a:pt x="17971" y="3798"/>
                </a:moveTo>
                <a:lnTo>
                  <a:pt x="19107" y="3828"/>
                </a:lnTo>
                <a:lnTo>
                  <a:pt x="20477" y="5423"/>
                </a:lnTo>
                <a:lnTo>
                  <a:pt x="20477" y="10190"/>
                </a:lnTo>
                <a:lnTo>
                  <a:pt x="18736" y="12216"/>
                </a:lnTo>
                <a:lnTo>
                  <a:pt x="17082" y="12489"/>
                </a:lnTo>
                <a:lnTo>
                  <a:pt x="17971" y="3798"/>
                </a:lnTo>
                <a:close/>
                <a:moveTo>
                  <a:pt x="2985" y="4203"/>
                </a:moveTo>
                <a:lnTo>
                  <a:pt x="4092" y="4203"/>
                </a:lnTo>
                <a:lnTo>
                  <a:pt x="6637" y="7165"/>
                </a:lnTo>
                <a:lnTo>
                  <a:pt x="7359" y="6320"/>
                </a:lnTo>
                <a:lnTo>
                  <a:pt x="5543" y="4207"/>
                </a:lnTo>
                <a:lnTo>
                  <a:pt x="7109" y="4207"/>
                </a:lnTo>
                <a:lnTo>
                  <a:pt x="7080" y="4237"/>
                </a:lnTo>
                <a:lnTo>
                  <a:pt x="8007" y="5317"/>
                </a:lnTo>
                <a:lnTo>
                  <a:pt x="8928" y="4237"/>
                </a:lnTo>
                <a:lnTo>
                  <a:pt x="8902" y="4207"/>
                </a:lnTo>
                <a:lnTo>
                  <a:pt x="10351" y="4211"/>
                </a:lnTo>
                <a:lnTo>
                  <a:pt x="11249" y="5256"/>
                </a:lnTo>
                <a:lnTo>
                  <a:pt x="12151" y="4211"/>
                </a:lnTo>
                <a:lnTo>
                  <a:pt x="13332" y="4211"/>
                </a:lnTo>
                <a:lnTo>
                  <a:pt x="16197" y="7547"/>
                </a:lnTo>
                <a:lnTo>
                  <a:pt x="16200" y="7543"/>
                </a:lnTo>
                <a:lnTo>
                  <a:pt x="16041" y="8926"/>
                </a:lnTo>
                <a:lnTo>
                  <a:pt x="14218" y="6809"/>
                </a:lnTo>
                <a:lnTo>
                  <a:pt x="13492" y="7649"/>
                </a:lnTo>
                <a:lnTo>
                  <a:pt x="15868" y="10414"/>
                </a:lnTo>
                <a:lnTo>
                  <a:pt x="15643" y="12303"/>
                </a:lnTo>
                <a:lnTo>
                  <a:pt x="15624" y="12383"/>
                </a:lnTo>
                <a:lnTo>
                  <a:pt x="14136" y="10652"/>
                </a:lnTo>
                <a:lnTo>
                  <a:pt x="13414" y="11493"/>
                </a:lnTo>
                <a:lnTo>
                  <a:pt x="14188" y="12394"/>
                </a:lnTo>
                <a:lnTo>
                  <a:pt x="11718" y="12394"/>
                </a:lnTo>
                <a:lnTo>
                  <a:pt x="11471" y="12394"/>
                </a:lnTo>
                <a:lnTo>
                  <a:pt x="11978" y="11807"/>
                </a:lnTo>
                <a:lnTo>
                  <a:pt x="9521" y="8952"/>
                </a:lnTo>
                <a:lnTo>
                  <a:pt x="8795" y="9793"/>
                </a:lnTo>
                <a:lnTo>
                  <a:pt x="11031" y="12394"/>
                </a:lnTo>
                <a:lnTo>
                  <a:pt x="10787" y="12394"/>
                </a:lnTo>
                <a:lnTo>
                  <a:pt x="9846" y="12394"/>
                </a:lnTo>
                <a:lnTo>
                  <a:pt x="9472" y="11959"/>
                </a:lnTo>
                <a:lnTo>
                  <a:pt x="9098" y="12394"/>
                </a:lnTo>
                <a:lnTo>
                  <a:pt x="8723" y="12394"/>
                </a:lnTo>
                <a:lnTo>
                  <a:pt x="7636" y="12394"/>
                </a:lnTo>
                <a:lnTo>
                  <a:pt x="6643" y="12394"/>
                </a:lnTo>
                <a:lnTo>
                  <a:pt x="6403" y="12394"/>
                </a:lnTo>
                <a:lnTo>
                  <a:pt x="4905" y="10652"/>
                </a:lnTo>
                <a:lnTo>
                  <a:pt x="4183" y="11493"/>
                </a:lnTo>
                <a:lnTo>
                  <a:pt x="4957" y="12394"/>
                </a:lnTo>
                <a:lnTo>
                  <a:pt x="2637" y="12394"/>
                </a:lnTo>
                <a:lnTo>
                  <a:pt x="3151" y="11796"/>
                </a:lnTo>
                <a:lnTo>
                  <a:pt x="2357" y="10872"/>
                </a:lnTo>
                <a:lnTo>
                  <a:pt x="2174" y="8626"/>
                </a:lnTo>
                <a:lnTo>
                  <a:pt x="2763" y="7941"/>
                </a:lnTo>
                <a:lnTo>
                  <a:pt x="2054" y="7112"/>
                </a:lnTo>
                <a:lnTo>
                  <a:pt x="1920" y="5442"/>
                </a:lnTo>
                <a:lnTo>
                  <a:pt x="2985" y="4203"/>
                </a:lnTo>
                <a:close/>
                <a:moveTo>
                  <a:pt x="14784" y="4215"/>
                </a:moveTo>
                <a:lnTo>
                  <a:pt x="16587" y="4215"/>
                </a:lnTo>
                <a:lnTo>
                  <a:pt x="16373" y="6063"/>
                </a:lnTo>
                <a:lnTo>
                  <a:pt x="14784" y="4215"/>
                </a:lnTo>
                <a:close/>
                <a:moveTo>
                  <a:pt x="3349" y="5264"/>
                </a:moveTo>
                <a:lnTo>
                  <a:pt x="2617" y="6119"/>
                </a:lnTo>
                <a:lnTo>
                  <a:pt x="3349" y="6975"/>
                </a:lnTo>
                <a:lnTo>
                  <a:pt x="4085" y="6119"/>
                </a:lnTo>
                <a:lnTo>
                  <a:pt x="3349" y="5264"/>
                </a:lnTo>
                <a:close/>
                <a:moveTo>
                  <a:pt x="12890" y="5264"/>
                </a:moveTo>
                <a:lnTo>
                  <a:pt x="12157" y="6119"/>
                </a:lnTo>
                <a:lnTo>
                  <a:pt x="12890" y="6975"/>
                </a:lnTo>
                <a:lnTo>
                  <a:pt x="13625" y="6119"/>
                </a:lnTo>
                <a:lnTo>
                  <a:pt x="12890" y="5264"/>
                </a:lnTo>
                <a:close/>
                <a:moveTo>
                  <a:pt x="9521" y="5358"/>
                </a:moveTo>
                <a:lnTo>
                  <a:pt x="8795" y="6199"/>
                </a:lnTo>
                <a:lnTo>
                  <a:pt x="11249" y="9058"/>
                </a:lnTo>
                <a:lnTo>
                  <a:pt x="11978" y="8214"/>
                </a:lnTo>
                <a:lnTo>
                  <a:pt x="9521" y="5358"/>
                </a:lnTo>
                <a:close/>
                <a:moveTo>
                  <a:pt x="4905" y="7059"/>
                </a:moveTo>
                <a:lnTo>
                  <a:pt x="4183" y="7899"/>
                </a:lnTo>
                <a:lnTo>
                  <a:pt x="6637" y="10758"/>
                </a:lnTo>
                <a:lnTo>
                  <a:pt x="7359" y="9914"/>
                </a:lnTo>
                <a:lnTo>
                  <a:pt x="4905" y="7059"/>
                </a:lnTo>
                <a:close/>
                <a:moveTo>
                  <a:pt x="8007" y="7085"/>
                </a:moveTo>
                <a:lnTo>
                  <a:pt x="7272" y="7941"/>
                </a:lnTo>
                <a:lnTo>
                  <a:pt x="8007" y="8793"/>
                </a:lnTo>
                <a:lnTo>
                  <a:pt x="8743" y="7941"/>
                </a:lnTo>
                <a:lnTo>
                  <a:pt x="8007" y="7085"/>
                </a:lnTo>
                <a:close/>
                <a:moveTo>
                  <a:pt x="3349" y="8907"/>
                </a:moveTo>
                <a:lnTo>
                  <a:pt x="2617" y="9762"/>
                </a:lnTo>
                <a:lnTo>
                  <a:pt x="3349" y="10614"/>
                </a:lnTo>
                <a:lnTo>
                  <a:pt x="4085" y="9762"/>
                </a:lnTo>
                <a:lnTo>
                  <a:pt x="3349" y="8907"/>
                </a:lnTo>
                <a:close/>
                <a:moveTo>
                  <a:pt x="12799" y="9032"/>
                </a:moveTo>
                <a:lnTo>
                  <a:pt x="12066" y="9887"/>
                </a:lnTo>
                <a:lnTo>
                  <a:pt x="12799" y="10739"/>
                </a:lnTo>
                <a:lnTo>
                  <a:pt x="13537" y="9887"/>
                </a:lnTo>
                <a:lnTo>
                  <a:pt x="12799" y="9032"/>
                </a:lnTo>
                <a:close/>
                <a:moveTo>
                  <a:pt x="8007" y="10611"/>
                </a:moveTo>
                <a:lnTo>
                  <a:pt x="7272" y="11470"/>
                </a:lnTo>
                <a:lnTo>
                  <a:pt x="8007" y="12322"/>
                </a:lnTo>
                <a:lnTo>
                  <a:pt x="8743" y="11470"/>
                </a:lnTo>
                <a:lnTo>
                  <a:pt x="8007" y="10611"/>
                </a:lnTo>
                <a:close/>
                <a:moveTo>
                  <a:pt x="3450" y="13542"/>
                </a:moveTo>
                <a:lnTo>
                  <a:pt x="4511" y="13542"/>
                </a:lnTo>
                <a:lnTo>
                  <a:pt x="4511" y="18021"/>
                </a:lnTo>
                <a:lnTo>
                  <a:pt x="3467" y="15227"/>
                </a:lnTo>
                <a:cubicBezTo>
                  <a:pt x="3465" y="15056"/>
                  <a:pt x="3461" y="14886"/>
                  <a:pt x="3460" y="14716"/>
                </a:cubicBezTo>
                <a:cubicBezTo>
                  <a:pt x="3457" y="14322"/>
                  <a:pt x="3453" y="13935"/>
                  <a:pt x="3450" y="13542"/>
                </a:cubicBezTo>
                <a:close/>
                <a:moveTo>
                  <a:pt x="5504" y="13542"/>
                </a:moveTo>
                <a:lnTo>
                  <a:pt x="6643" y="13542"/>
                </a:lnTo>
                <a:lnTo>
                  <a:pt x="6643" y="20059"/>
                </a:lnTo>
                <a:lnTo>
                  <a:pt x="5576" y="20066"/>
                </a:lnTo>
                <a:lnTo>
                  <a:pt x="5504" y="13542"/>
                </a:lnTo>
                <a:close/>
                <a:moveTo>
                  <a:pt x="7636" y="13542"/>
                </a:moveTo>
                <a:lnTo>
                  <a:pt x="8723" y="13542"/>
                </a:lnTo>
                <a:lnTo>
                  <a:pt x="8723" y="20047"/>
                </a:lnTo>
                <a:lnTo>
                  <a:pt x="7636" y="20059"/>
                </a:lnTo>
                <a:lnTo>
                  <a:pt x="7636" y="13542"/>
                </a:lnTo>
                <a:close/>
                <a:moveTo>
                  <a:pt x="9719" y="13542"/>
                </a:moveTo>
                <a:lnTo>
                  <a:pt x="10787" y="13542"/>
                </a:lnTo>
                <a:lnTo>
                  <a:pt x="10787" y="20040"/>
                </a:lnTo>
                <a:lnTo>
                  <a:pt x="9719" y="20047"/>
                </a:lnTo>
                <a:lnTo>
                  <a:pt x="9719" y="13542"/>
                </a:lnTo>
                <a:close/>
                <a:moveTo>
                  <a:pt x="11718" y="13542"/>
                </a:moveTo>
                <a:lnTo>
                  <a:pt x="12857" y="13542"/>
                </a:lnTo>
                <a:lnTo>
                  <a:pt x="12799" y="20028"/>
                </a:lnTo>
                <a:lnTo>
                  <a:pt x="11718" y="20040"/>
                </a:lnTo>
                <a:lnTo>
                  <a:pt x="11718" y="13542"/>
                </a:lnTo>
                <a:close/>
                <a:moveTo>
                  <a:pt x="13850" y="13542"/>
                </a:moveTo>
                <a:lnTo>
                  <a:pt x="14911" y="13542"/>
                </a:lnTo>
                <a:cubicBezTo>
                  <a:pt x="14908" y="13935"/>
                  <a:pt x="14907" y="14322"/>
                  <a:pt x="14905" y="14716"/>
                </a:cubicBezTo>
                <a:cubicBezTo>
                  <a:pt x="14904" y="14729"/>
                  <a:pt x="14905" y="14744"/>
                  <a:pt x="14905" y="14757"/>
                </a:cubicBezTo>
                <a:lnTo>
                  <a:pt x="13824" y="18317"/>
                </a:lnTo>
                <a:lnTo>
                  <a:pt x="13850" y="13542"/>
                </a:lnTo>
                <a:close/>
              </a:path>
            </a:pathLst>
          </a:custGeom>
          <a:solidFill>
            <a:srgbClr val="877050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Line"/>
          <p:cNvSpPr/>
          <p:nvPr/>
        </p:nvSpPr>
        <p:spPr>
          <a:xfrm>
            <a:off x="2457360" y="3073680"/>
            <a:ext cx="770760" cy="505800"/>
          </a:xfrm>
          <a:custGeom>
            <a:avLst/>
            <a:gdLst>
              <a:gd name="textAreaLeft" fmla="*/ 0 w 770760"/>
              <a:gd name="textAreaRight" fmla="*/ 771120 w 770760"/>
              <a:gd name="textAreaTop" fmla="*/ 0 h 505800"/>
              <a:gd name="textAreaBottom" fmla="*/ 506160 h 50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0"/>
                </a:lnTo>
              </a:path>
            </a:pathLst>
          </a:custGeom>
          <a:noFill/>
          <a:ln w="12700">
            <a:solidFill>
              <a:srgbClr val="877050"/>
            </a:solidFill>
            <a:custDash>
              <a:ds d="100000" sp="200000"/>
            </a:custDash>
            <a:round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Image" descr="Image"/>
          <p:cNvPicPr/>
          <p:nvPr/>
        </p:nvPicPr>
        <p:blipFill>
          <a:blip r:embed="rId102"/>
          <a:stretch/>
        </p:blipFill>
        <p:spPr>
          <a:xfrm>
            <a:off x="2617560" y="2119320"/>
            <a:ext cx="1217520" cy="872280"/>
          </a:xfrm>
          <a:prstGeom prst="rect">
            <a:avLst/>
          </a:prstGeom>
          <a:ln w="12700">
            <a:noFill/>
          </a:ln>
        </p:spPr>
      </p:pic>
      <p:pic>
        <p:nvPicPr>
          <p:cNvPr id="243" name="Image" descr="Image"/>
          <p:cNvPicPr/>
          <p:nvPr/>
        </p:nvPicPr>
        <p:blipFill>
          <a:blip r:embed="rId103">
            <a:alphaModFix amt="21000"/>
          </a:blip>
          <a:stretch/>
        </p:blipFill>
        <p:spPr>
          <a:xfrm>
            <a:off x="9513360" y="2091240"/>
            <a:ext cx="415440" cy="704880"/>
          </a:xfrm>
          <a:prstGeom prst="rect">
            <a:avLst/>
          </a:prstGeom>
          <a:ln w="12700">
            <a:noFill/>
          </a:ln>
        </p:spPr>
      </p:pic>
      <p:pic>
        <p:nvPicPr>
          <p:cNvPr id="244" name="Image" descr="Image"/>
          <p:cNvPicPr/>
          <p:nvPr/>
        </p:nvPicPr>
        <p:blipFill>
          <a:blip r:embed="rId104">
            <a:alphaModFix amt="21000"/>
          </a:blip>
          <a:stretch/>
        </p:blipFill>
        <p:spPr>
          <a:xfrm>
            <a:off x="8204040" y="2091240"/>
            <a:ext cx="415440" cy="704880"/>
          </a:xfrm>
          <a:prstGeom prst="rect">
            <a:avLst/>
          </a:prstGeom>
          <a:ln w="12700">
            <a:noFill/>
          </a:ln>
        </p:spPr>
      </p:pic>
      <p:pic>
        <p:nvPicPr>
          <p:cNvPr id="245" name="Image" descr="Image"/>
          <p:cNvPicPr/>
          <p:nvPr/>
        </p:nvPicPr>
        <p:blipFill>
          <a:blip r:embed="rId105">
            <a:alphaModFix amt="21000"/>
          </a:blip>
          <a:stretch/>
        </p:blipFill>
        <p:spPr>
          <a:xfrm>
            <a:off x="8204040" y="2907360"/>
            <a:ext cx="415440" cy="704880"/>
          </a:xfrm>
          <a:prstGeom prst="rect">
            <a:avLst/>
          </a:prstGeom>
          <a:ln w="12700">
            <a:noFill/>
          </a:ln>
        </p:spPr>
      </p:pic>
      <p:pic>
        <p:nvPicPr>
          <p:cNvPr id="246" name="Image" descr="Image"/>
          <p:cNvPicPr/>
          <p:nvPr/>
        </p:nvPicPr>
        <p:blipFill>
          <a:blip r:embed="rId106">
            <a:alphaModFix amt="21000"/>
          </a:blip>
          <a:stretch/>
        </p:blipFill>
        <p:spPr>
          <a:xfrm>
            <a:off x="8858880" y="2091240"/>
            <a:ext cx="415440" cy="704880"/>
          </a:xfrm>
          <a:prstGeom prst="rect">
            <a:avLst/>
          </a:prstGeom>
          <a:ln w="12700">
            <a:noFill/>
          </a:ln>
        </p:spPr>
      </p:pic>
      <p:pic>
        <p:nvPicPr>
          <p:cNvPr id="247" name="Image" descr="Image"/>
          <p:cNvPicPr/>
          <p:nvPr/>
        </p:nvPicPr>
        <p:blipFill>
          <a:blip r:embed="rId107"/>
          <a:stretch/>
        </p:blipFill>
        <p:spPr>
          <a:xfrm>
            <a:off x="10168200" y="2091240"/>
            <a:ext cx="893520" cy="1516320"/>
          </a:xfrm>
          <a:prstGeom prst="rect">
            <a:avLst/>
          </a:prstGeom>
          <a:ln w="12700">
            <a:noFill/>
          </a:ln>
        </p:spPr>
      </p:pic>
      <p:pic>
        <p:nvPicPr>
          <p:cNvPr id="248" name="Image" descr="Image"/>
          <p:cNvPicPr/>
          <p:nvPr/>
        </p:nvPicPr>
        <p:blipFill>
          <a:blip r:embed="rId108">
            <a:alphaModFix amt="21000"/>
          </a:blip>
          <a:stretch/>
        </p:blipFill>
        <p:spPr>
          <a:xfrm>
            <a:off x="9513360" y="2907360"/>
            <a:ext cx="415440" cy="704880"/>
          </a:xfrm>
          <a:prstGeom prst="rect">
            <a:avLst/>
          </a:prstGeom>
          <a:ln w="12700">
            <a:noFill/>
          </a:ln>
        </p:spPr>
      </p:pic>
      <p:pic>
        <p:nvPicPr>
          <p:cNvPr id="249" name="Image" descr="Image"/>
          <p:cNvPicPr/>
          <p:nvPr/>
        </p:nvPicPr>
        <p:blipFill>
          <a:blip r:embed="rId109">
            <a:alphaModFix amt="21000"/>
          </a:blip>
          <a:stretch/>
        </p:blipFill>
        <p:spPr>
          <a:xfrm>
            <a:off x="8858880" y="2907360"/>
            <a:ext cx="415440" cy="704880"/>
          </a:xfrm>
          <a:prstGeom prst="rect">
            <a:avLst/>
          </a:prstGeom>
          <a:ln w="1270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sldNum" idx="3"/>
          </p:nvPr>
        </p:nvSpPr>
        <p:spPr>
          <a:xfrm>
            <a:off x="11786400" y="6537600"/>
            <a:ext cx="308520" cy="2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200" spc="-1" strike="noStrike">
                <a:solidFill>
                  <a:srgbClr val="8b8b8b"/>
                </a:solidFill>
                <a:latin typeface="Montserra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8b8b8b"/>
                </a:solidFill>
                <a:latin typeface="Montserrat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*Nielsen Russia, YTD W17 2020"/>
          <p:cNvSpPr/>
          <p:nvPr/>
        </p:nvSpPr>
        <p:spPr>
          <a:xfrm>
            <a:off x="10529280" y="416520"/>
            <a:ext cx="1432080" cy="196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700" spc="-1" strike="noStrike">
                <a:solidFill>
                  <a:srgbClr val="a7a7a7"/>
                </a:solidFill>
                <a:latin typeface="Montserrat Regular"/>
                <a:ea typeface="Montserrat Regular"/>
              </a:rPr>
              <a:t>**Nielsen Russia, YTD W17 202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В настоящее время Paulig производит 15 блендов на любой вкус в удобной упаковке  от 75 граммов…"/>
          <p:cNvSpPr/>
          <p:nvPr/>
        </p:nvSpPr>
        <p:spPr>
          <a:xfrm>
            <a:off x="475920" y="4255200"/>
            <a:ext cx="3052440" cy="11869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менно с таким количеством кофе в день проводит каппинг главный дегустатор компании Paulig Марья Тоур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15 блендов кофе в России"/>
          <p:cNvSpPr/>
          <p:nvPr/>
        </p:nvSpPr>
        <p:spPr>
          <a:xfrm>
            <a:off x="615600" y="3958560"/>
            <a:ext cx="1811520" cy="3330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877050"/>
                </a:solidFill>
                <a:latin typeface="Montserrat Bold"/>
                <a:ea typeface="Montserrat Bold"/>
              </a:rPr>
              <a:t>Около 300 чаше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hape"/>
          <p:cNvSpPr/>
          <p:nvPr/>
        </p:nvSpPr>
        <p:spPr>
          <a:xfrm>
            <a:off x="4374000" y="2091240"/>
            <a:ext cx="704520" cy="605520"/>
          </a:xfrm>
          <a:custGeom>
            <a:avLst/>
            <a:gdLst>
              <a:gd name="textAreaLeft" fmla="*/ 0 w 704520"/>
              <a:gd name="textAreaRight" fmla="*/ 704880 w 704520"/>
              <a:gd name="textAreaTop" fmla="*/ 0 h 605520"/>
              <a:gd name="textAreaBottom" fmla="*/ 605880 h 60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59" y="13269"/>
                </a:lnTo>
                <a:lnTo>
                  <a:pt x="4228" y="21600"/>
                </a:lnTo>
                <a:lnTo>
                  <a:pt x="14299" y="21600"/>
                </a:lnTo>
                <a:lnTo>
                  <a:pt x="16844" y="14000"/>
                </a:lnTo>
                <a:lnTo>
                  <a:pt x="19165" y="13629"/>
                </a:lnTo>
                <a:lnTo>
                  <a:pt x="21577" y="10823"/>
                </a:lnTo>
                <a:lnTo>
                  <a:pt x="21600" y="4790"/>
                </a:lnTo>
                <a:lnTo>
                  <a:pt x="19396" y="2227"/>
                </a:lnTo>
                <a:lnTo>
                  <a:pt x="18130" y="2219"/>
                </a:lnTo>
                <a:lnTo>
                  <a:pt x="18355" y="19"/>
                </a:lnTo>
                <a:lnTo>
                  <a:pt x="0" y="0"/>
                </a:lnTo>
                <a:close/>
                <a:moveTo>
                  <a:pt x="17971" y="3798"/>
                </a:moveTo>
                <a:lnTo>
                  <a:pt x="19107" y="3828"/>
                </a:lnTo>
                <a:lnTo>
                  <a:pt x="20477" y="5423"/>
                </a:lnTo>
                <a:lnTo>
                  <a:pt x="20477" y="10190"/>
                </a:lnTo>
                <a:lnTo>
                  <a:pt x="18736" y="12216"/>
                </a:lnTo>
                <a:lnTo>
                  <a:pt x="17082" y="12489"/>
                </a:lnTo>
                <a:lnTo>
                  <a:pt x="17971" y="3798"/>
                </a:lnTo>
                <a:close/>
                <a:moveTo>
                  <a:pt x="2985" y="4203"/>
                </a:moveTo>
                <a:lnTo>
                  <a:pt x="4092" y="4203"/>
                </a:lnTo>
                <a:lnTo>
                  <a:pt x="6637" y="7165"/>
                </a:lnTo>
                <a:lnTo>
                  <a:pt x="7359" y="6320"/>
                </a:lnTo>
                <a:lnTo>
                  <a:pt x="5543" y="4207"/>
                </a:lnTo>
                <a:lnTo>
                  <a:pt x="7109" y="4207"/>
                </a:lnTo>
                <a:lnTo>
                  <a:pt x="7080" y="4237"/>
                </a:lnTo>
                <a:lnTo>
                  <a:pt x="8007" y="5317"/>
                </a:lnTo>
                <a:lnTo>
                  <a:pt x="8928" y="4237"/>
                </a:lnTo>
                <a:lnTo>
                  <a:pt x="8902" y="4207"/>
                </a:lnTo>
                <a:lnTo>
                  <a:pt x="10351" y="4211"/>
                </a:lnTo>
                <a:lnTo>
                  <a:pt x="11249" y="5256"/>
                </a:lnTo>
                <a:lnTo>
                  <a:pt x="12151" y="4211"/>
                </a:lnTo>
                <a:lnTo>
                  <a:pt x="13332" y="4211"/>
                </a:lnTo>
                <a:lnTo>
                  <a:pt x="16197" y="7547"/>
                </a:lnTo>
                <a:lnTo>
                  <a:pt x="16200" y="7543"/>
                </a:lnTo>
                <a:lnTo>
                  <a:pt x="16041" y="8926"/>
                </a:lnTo>
                <a:lnTo>
                  <a:pt x="14218" y="6809"/>
                </a:lnTo>
                <a:lnTo>
                  <a:pt x="13492" y="7649"/>
                </a:lnTo>
                <a:lnTo>
                  <a:pt x="15868" y="10414"/>
                </a:lnTo>
                <a:lnTo>
                  <a:pt x="15643" y="12303"/>
                </a:lnTo>
                <a:lnTo>
                  <a:pt x="15624" y="12383"/>
                </a:lnTo>
                <a:lnTo>
                  <a:pt x="14136" y="10652"/>
                </a:lnTo>
                <a:lnTo>
                  <a:pt x="13414" y="11493"/>
                </a:lnTo>
                <a:lnTo>
                  <a:pt x="14188" y="12394"/>
                </a:lnTo>
                <a:lnTo>
                  <a:pt x="11718" y="12394"/>
                </a:lnTo>
                <a:lnTo>
                  <a:pt x="11471" y="12394"/>
                </a:lnTo>
                <a:lnTo>
                  <a:pt x="11978" y="11807"/>
                </a:lnTo>
                <a:lnTo>
                  <a:pt x="9521" y="8952"/>
                </a:lnTo>
                <a:lnTo>
                  <a:pt x="8795" y="9793"/>
                </a:lnTo>
                <a:lnTo>
                  <a:pt x="11031" y="12394"/>
                </a:lnTo>
                <a:lnTo>
                  <a:pt x="10787" y="12394"/>
                </a:lnTo>
                <a:lnTo>
                  <a:pt x="9846" y="12394"/>
                </a:lnTo>
                <a:lnTo>
                  <a:pt x="9472" y="11959"/>
                </a:lnTo>
                <a:lnTo>
                  <a:pt x="9098" y="12394"/>
                </a:lnTo>
                <a:lnTo>
                  <a:pt x="8723" y="12394"/>
                </a:lnTo>
                <a:lnTo>
                  <a:pt x="7636" y="12394"/>
                </a:lnTo>
                <a:lnTo>
                  <a:pt x="6643" y="12394"/>
                </a:lnTo>
                <a:lnTo>
                  <a:pt x="6403" y="12394"/>
                </a:lnTo>
                <a:lnTo>
                  <a:pt x="4905" y="10652"/>
                </a:lnTo>
                <a:lnTo>
                  <a:pt x="4183" y="11493"/>
                </a:lnTo>
                <a:lnTo>
                  <a:pt x="4957" y="12394"/>
                </a:lnTo>
                <a:lnTo>
                  <a:pt x="2637" y="12394"/>
                </a:lnTo>
                <a:lnTo>
                  <a:pt x="3151" y="11796"/>
                </a:lnTo>
                <a:lnTo>
                  <a:pt x="2357" y="10872"/>
                </a:lnTo>
                <a:lnTo>
                  <a:pt x="2174" y="8626"/>
                </a:lnTo>
                <a:lnTo>
                  <a:pt x="2763" y="7941"/>
                </a:lnTo>
                <a:lnTo>
                  <a:pt x="2054" y="7112"/>
                </a:lnTo>
                <a:lnTo>
                  <a:pt x="1920" y="5442"/>
                </a:lnTo>
                <a:lnTo>
                  <a:pt x="2985" y="4203"/>
                </a:lnTo>
                <a:close/>
                <a:moveTo>
                  <a:pt x="14784" y="4215"/>
                </a:moveTo>
                <a:lnTo>
                  <a:pt x="16587" y="4215"/>
                </a:lnTo>
                <a:lnTo>
                  <a:pt x="16373" y="6063"/>
                </a:lnTo>
                <a:lnTo>
                  <a:pt x="14784" y="4215"/>
                </a:lnTo>
                <a:close/>
                <a:moveTo>
                  <a:pt x="3349" y="5264"/>
                </a:moveTo>
                <a:lnTo>
                  <a:pt x="2617" y="6119"/>
                </a:lnTo>
                <a:lnTo>
                  <a:pt x="3349" y="6975"/>
                </a:lnTo>
                <a:lnTo>
                  <a:pt x="4085" y="6119"/>
                </a:lnTo>
                <a:lnTo>
                  <a:pt x="3349" y="5264"/>
                </a:lnTo>
                <a:close/>
                <a:moveTo>
                  <a:pt x="12890" y="5264"/>
                </a:moveTo>
                <a:lnTo>
                  <a:pt x="12157" y="6119"/>
                </a:lnTo>
                <a:lnTo>
                  <a:pt x="12890" y="6975"/>
                </a:lnTo>
                <a:lnTo>
                  <a:pt x="13625" y="6119"/>
                </a:lnTo>
                <a:lnTo>
                  <a:pt x="12890" y="5264"/>
                </a:lnTo>
                <a:close/>
                <a:moveTo>
                  <a:pt x="9521" y="5358"/>
                </a:moveTo>
                <a:lnTo>
                  <a:pt x="8795" y="6199"/>
                </a:lnTo>
                <a:lnTo>
                  <a:pt x="11249" y="9058"/>
                </a:lnTo>
                <a:lnTo>
                  <a:pt x="11978" y="8214"/>
                </a:lnTo>
                <a:lnTo>
                  <a:pt x="9521" y="5358"/>
                </a:lnTo>
                <a:close/>
                <a:moveTo>
                  <a:pt x="4905" y="7059"/>
                </a:moveTo>
                <a:lnTo>
                  <a:pt x="4183" y="7899"/>
                </a:lnTo>
                <a:lnTo>
                  <a:pt x="6637" y="10758"/>
                </a:lnTo>
                <a:lnTo>
                  <a:pt x="7359" y="9914"/>
                </a:lnTo>
                <a:lnTo>
                  <a:pt x="4905" y="7059"/>
                </a:lnTo>
                <a:close/>
                <a:moveTo>
                  <a:pt x="8007" y="7085"/>
                </a:moveTo>
                <a:lnTo>
                  <a:pt x="7272" y="7941"/>
                </a:lnTo>
                <a:lnTo>
                  <a:pt x="8007" y="8793"/>
                </a:lnTo>
                <a:lnTo>
                  <a:pt x="8743" y="7941"/>
                </a:lnTo>
                <a:lnTo>
                  <a:pt x="8007" y="7085"/>
                </a:lnTo>
                <a:close/>
                <a:moveTo>
                  <a:pt x="3349" y="8907"/>
                </a:moveTo>
                <a:lnTo>
                  <a:pt x="2617" y="9762"/>
                </a:lnTo>
                <a:lnTo>
                  <a:pt x="3349" y="10614"/>
                </a:lnTo>
                <a:lnTo>
                  <a:pt x="4085" y="9762"/>
                </a:lnTo>
                <a:lnTo>
                  <a:pt x="3349" y="8907"/>
                </a:lnTo>
                <a:close/>
                <a:moveTo>
                  <a:pt x="12799" y="9032"/>
                </a:moveTo>
                <a:lnTo>
                  <a:pt x="12066" y="9887"/>
                </a:lnTo>
                <a:lnTo>
                  <a:pt x="12799" y="10739"/>
                </a:lnTo>
                <a:lnTo>
                  <a:pt x="13537" y="9887"/>
                </a:lnTo>
                <a:lnTo>
                  <a:pt x="12799" y="9032"/>
                </a:lnTo>
                <a:close/>
                <a:moveTo>
                  <a:pt x="8007" y="10611"/>
                </a:moveTo>
                <a:lnTo>
                  <a:pt x="7272" y="11470"/>
                </a:lnTo>
                <a:lnTo>
                  <a:pt x="8007" y="12322"/>
                </a:lnTo>
                <a:lnTo>
                  <a:pt x="8743" y="11470"/>
                </a:lnTo>
                <a:lnTo>
                  <a:pt x="8007" y="10611"/>
                </a:lnTo>
                <a:close/>
                <a:moveTo>
                  <a:pt x="3450" y="13542"/>
                </a:moveTo>
                <a:lnTo>
                  <a:pt x="4511" y="13542"/>
                </a:lnTo>
                <a:lnTo>
                  <a:pt x="4511" y="18021"/>
                </a:lnTo>
                <a:lnTo>
                  <a:pt x="3467" y="15227"/>
                </a:lnTo>
                <a:cubicBezTo>
                  <a:pt x="3465" y="15056"/>
                  <a:pt x="3461" y="14886"/>
                  <a:pt x="3460" y="14716"/>
                </a:cubicBezTo>
                <a:cubicBezTo>
                  <a:pt x="3457" y="14322"/>
                  <a:pt x="3453" y="13935"/>
                  <a:pt x="3450" y="13542"/>
                </a:cubicBezTo>
                <a:close/>
                <a:moveTo>
                  <a:pt x="5504" y="13542"/>
                </a:moveTo>
                <a:lnTo>
                  <a:pt x="6643" y="13542"/>
                </a:lnTo>
                <a:lnTo>
                  <a:pt x="6643" y="20059"/>
                </a:lnTo>
                <a:lnTo>
                  <a:pt x="5576" y="20066"/>
                </a:lnTo>
                <a:lnTo>
                  <a:pt x="5504" y="13542"/>
                </a:lnTo>
                <a:close/>
                <a:moveTo>
                  <a:pt x="7636" y="13542"/>
                </a:moveTo>
                <a:lnTo>
                  <a:pt x="8723" y="13542"/>
                </a:lnTo>
                <a:lnTo>
                  <a:pt x="8723" y="20047"/>
                </a:lnTo>
                <a:lnTo>
                  <a:pt x="7636" y="20059"/>
                </a:lnTo>
                <a:lnTo>
                  <a:pt x="7636" y="13542"/>
                </a:lnTo>
                <a:close/>
                <a:moveTo>
                  <a:pt x="9719" y="13542"/>
                </a:moveTo>
                <a:lnTo>
                  <a:pt x="10787" y="13542"/>
                </a:lnTo>
                <a:lnTo>
                  <a:pt x="10787" y="20040"/>
                </a:lnTo>
                <a:lnTo>
                  <a:pt x="9719" y="20047"/>
                </a:lnTo>
                <a:lnTo>
                  <a:pt x="9719" y="13542"/>
                </a:lnTo>
                <a:close/>
                <a:moveTo>
                  <a:pt x="11718" y="13542"/>
                </a:moveTo>
                <a:lnTo>
                  <a:pt x="12857" y="13542"/>
                </a:lnTo>
                <a:lnTo>
                  <a:pt x="12799" y="20028"/>
                </a:lnTo>
                <a:lnTo>
                  <a:pt x="11718" y="20040"/>
                </a:lnTo>
                <a:lnTo>
                  <a:pt x="11718" y="13542"/>
                </a:lnTo>
                <a:close/>
                <a:moveTo>
                  <a:pt x="13850" y="13542"/>
                </a:moveTo>
                <a:lnTo>
                  <a:pt x="14911" y="13542"/>
                </a:lnTo>
                <a:cubicBezTo>
                  <a:pt x="14908" y="13935"/>
                  <a:pt x="14907" y="14322"/>
                  <a:pt x="14905" y="14716"/>
                </a:cubicBezTo>
                <a:cubicBezTo>
                  <a:pt x="14904" y="14729"/>
                  <a:pt x="14905" y="14744"/>
                  <a:pt x="14905" y="14757"/>
                </a:cubicBezTo>
                <a:lnTo>
                  <a:pt x="13824" y="18317"/>
                </a:lnTo>
                <a:lnTo>
                  <a:pt x="13850" y="13542"/>
                </a:lnTo>
                <a:close/>
              </a:path>
            </a:pathLst>
          </a:custGeom>
          <a:solidFill>
            <a:srgbClr val="d6d6d6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hape"/>
          <p:cNvSpPr/>
          <p:nvPr/>
        </p:nvSpPr>
        <p:spPr>
          <a:xfrm>
            <a:off x="918000" y="5293800"/>
            <a:ext cx="331920" cy="330840"/>
          </a:xfrm>
          <a:custGeom>
            <a:avLst/>
            <a:gdLst>
              <a:gd name="textAreaLeft" fmla="*/ 0 w 331920"/>
              <a:gd name="textAreaRight" fmla="*/ 332280 w 331920"/>
              <a:gd name="textAreaTop" fmla="*/ 0 h 330840"/>
              <a:gd name="textAreaBottom" fmla="*/ 331200 h 33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59" y="13269"/>
                </a:lnTo>
                <a:lnTo>
                  <a:pt x="4228" y="21600"/>
                </a:lnTo>
                <a:lnTo>
                  <a:pt x="14299" y="21600"/>
                </a:lnTo>
                <a:lnTo>
                  <a:pt x="16844" y="14000"/>
                </a:lnTo>
                <a:lnTo>
                  <a:pt x="19165" y="13629"/>
                </a:lnTo>
                <a:lnTo>
                  <a:pt x="21577" y="10823"/>
                </a:lnTo>
                <a:lnTo>
                  <a:pt x="21600" y="4790"/>
                </a:lnTo>
                <a:lnTo>
                  <a:pt x="19396" y="2227"/>
                </a:lnTo>
                <a:lnTo>
                  <a:pt x="18130" y="2219"/>
                </a:lnTo>
                <a:lnTo>
                  <a:pt x="18355" y="19"/>
                </a:lnTo>
                <a:lnTo>
                  <a:pt x="0" y="0"/>
                </a:lnTo>
                <a:close/>
                <a:moveTo>
                  <a:pt x="17971" y="3798"/>
                </a:moveTo>
                <a:lnTo>
                  <a:pt x="19107" y="3828"/>
                </a:lnTo>
                <a:lnTo>
                  <a:pt x="20477" y="5423"/>
                </a:lnTo>
                <a:lnTo>
                  <a:pt x="20477" y="10190"/>
                </a:lnTo>
                <a:lnTo>
                  <a:pt x="18736" y="12216"/>
                </a:lnTo>
                <a:lnTo>
                  <a:pt x="17082" y="12489"/>
                </a:lnTo>
                <a:lnTo>
                  <a:pt x="17971" y="3798"/>
                </a:lnTo>
                <a:close/>
                <a:moveTo>
                  <a:pt x="2985" y="4203"/>
                </a:moveTo>
                <a:lnTo>
                  <a:pt x="4092" y="4203"/>
                </a:lnTo>
                <a:lnTo>
                  <a:pt x="6637" y="7165"/>
                </a:lnTo>
                <a:lnTo>
                  <a:pt x="7359" y="6320"/>
                </a:lnTo>
                <a:lnTo>
                  <a:pt x="5543" y="4207"/>
                </a:lnTo>
                <a:lnTo>
                  <a:pt x="7109" y="4207"/>
                </a:lnTo>
                <a:lnTo>
                  <a:pt x="7080" y="4237"/>
                </a:lnTo>
                <a:lnTo>
                  <a:pt x="8007" y="5317"/>
                </a:lnTo>
                <a:lnTo>
                  <a:pt x="8928" y="4237"/>
                </a:lnTo>
                <a:lnTo>
                  <a:pt x="8902" y="4207"/>
                </a:lnTo>
                <a:lnTo>
                  <a:pt x="10351" y="4211"/>
                </a:lnTo>
                <a:lnTo>
                  <a:pt x="11249" y="5256"/>
                </a:lnTo>
                <a:lnTo>
                  <a:pt x="12151" y="4211"/>
                </a:lnTo>
                <a:lnTo>
                  <a:pt x="13332" y="4211"/>
                </a:lnTo>
                <a:lnTo>
                  <a:pt x="16197" y="7547"/>
                </a:lnTo>
                <a:lnTo>
                  <a:pt x="16200" y="7543"/>
                </a:lnTo>
                <a:lnTo>
                  <a:pt x="16041" y="8926"/>
                </a:lnTo>
                <a:lnTo>
                  <a:pt x="14218" y="6809"/>
                </a:lnTo>
                <a:lnTo>
                  <a:pt x="13492" y="7649"/>
                </a:lnTo>
                <a:lnTo>
                  <a:pt x="15868" y="10414"/>
                </a:lnTo>
                <a:lnTo>
                  <a:pt x="15643" y="12303"/>
                </a:lnTo>
                <a:lnTo>
                  <a:pt x="15624" y="12383"/>
                </a:lnTo>
                <a:lnTo>
                  <a:pt x="14136" y="10652"/>
                </a:lnTo>
                <a:lnTo>
                  <a:pt x="13414" y="11493"/>
                </a:lnTo>
                <a:lnTo>
                  <a:pt x="14188" y="12394"/>
                </a:lnTo>
                <a:lnTo>
                  <a:pt x="11718" y="12394"/>
                </a:lnTo>
                <a:lnTo>
                  <a:pt x="11471" y="12394"/>
                </a:lnTo>
                <a:lnTo>
                  <a:pt x="11978" y="11807"/>
                </a:lnTo>
                <a:lnTo>
                  <a:pt x="9521" y="8952"/>
                </a:lnTo>
                <a:lnTo>
                  <a:pt x="8795" y="9793"/>
                </a:lnTo>
                <a:lnTo>
                  <a:pt x="11031" y="12394"/>
                </a:lnTo>
                <a:lnTo>
                  <a:pt x="10787" y="12394"/>
                </a:lnTo>
                <a:lnTo>
                  <a:pt x="9846" y="12394"/>
                </a:lnTo>
                <a:lnTo>
                  <a:pt x="9472" y="11959"/>
                </a:lnTo>
                <a:lnTo>
                  <a:pt x="9098" y="12394"/>
                </a:lnTo>
                <a:lnTo>
                  <a:pt x="8723" y="12394"/>
                </a:lnTo>
                <a:lnTo>
                  <a:pt x="7636" y="12394"/>
                </a:lnTo>
                <a:lnTo>
                  <a:pt x="6643" y="12394"/>
                </a:lnTo>
                <a:lnTo>
                  <a:pt x="6403" y="12394"/>
                </a:lnTo>
                <a:lnTo>
                  <a:pt x="4905" y="10652"/>
                </a:lnTo>
                <a:lnTo>
                  <a:pt x="4183" y="11493"/>
                </a:lnTo>
                <a:lnTo>
                  <a:pt x="4957" y="12394"/>
                </a:lnTo>
                <a:lnTo>
                  <a:pt x="2637" y="12394"/>
                </a:lnTo>
                <a:lnTo>
                  <a:pt x="3151" y="11796"/>
                </a:lnTo>
                <a:lnTo>
                  <a:pt x="2357" y="10872"/>
                </a:lnTo>
                <a:lnTo>
                  <a:pt x="2174" y="8626"/>
                </a:lnTo>
                <a:lnTo>
                  <a:pt x="2763" y="7941"/>
                </a:lnTo>
                <a:lnTo>
                  <a:pt x="2054" y="7112"/>
                </a:lnTo>
                <a:lnTo>
                  <a:pt x="1920" y="5442"/>
                </a:lnTo>
                <a:lnTo>
                  <a:pt x="2985" y="4203"/>
                </a:lnTo>
                <a:close/>
                <a:moveTo>
                  <a:pt x="14784" y="4215"/>
                </a:moveTo>
                <a:lnTo>
                  <a:pt x="16587" y="4215"/>
                </a:lnTo>
                <a:lnTo>
                  <a:pt x="16373" y="6063"/>
                </a:lnTo>
                <a:lnTo>
                  <a:pt x="14784" y="4215"/>
                </a:lnTo>
                <a:close/>
                <a:moveTo>
                  <a:pt x="3349" y="5264"/>
                </a:moveTo>
                <a:lnTo>
                  <a:pt x="2617" y="6119"/>
                </a:lnTo>
                <a:lnTo>
                  <a:pt x="3349" y="6975"/>
                </a:lnTo>
                <a:lnTo>
                  <a:pt x="4085" y="6119"/>
                </a:lnTo>
                <a:lnTo>
                  <a:pt x="3349" y="5264"/>
                </a:lnTo>
                <a:close/>
                <a:moveTo>
                  <a:pt x="12890" y="5264"/>
                </a:moveTo>
                <a:lnTo>
                  <a:pt x="12157" y="6119"/>
                </a:lnTo>
                <a:lnTo>
                  <a:pt x="12890" y="6975"/>
                </a:lnTo>
                <a:lnTo>
                  <a:pt x="13625" y="6119"/>
                </a:lnTo>
                <a:lnTo>
                  <a:pt x="12890" y="5264"/>
                </a:lnTo>
                <a:close/>
                <a:moveTo>
                  <a:pt x="9521" y="5358"/>
                </a:moveTo>
                <a:lnTo>
                  <a:pt x="8795" y="6199"/>
                </a:lnTo>
                <a:lnTo>
                  <a:pt x="11249" y="9058"/>
                </a:lnTo>
                <a:lnTo>
                  <a:pt x="11978" y="8214"/>
                </a:lnTo>
                <a:lnTo>
                  <a:pt x="9521" y="5358"/>
                </a:lnTo>
                <a:close/>
                <a:moveTo>
                  <a:pt x="4905" y="7059"/>
                </a:moveTo>
                <a:lnTo>
                  <a:pt x="4183" y="7899"/>
                </a:lnTo>
                <a:lnTo>
                  <a:pt x="6637" y="10758"/>
                </a:lnTo>
                <a:lnTo>
                  <a:pt x="7359" y="9914"/>
                </a:lnTo>
                <a:lnTo>
                  <a:pt x="4905" y="7059"/>
                </a:lnTo>
                <a:close/>
                <a:moveTo>
                  <a:pt x="8007" y="7085"/>
                </a:moveTo>
                <a:lnTo>
                  <a:pt x="7272" y="7941"/>
                </a:lnTo>
                <a:lnTo>
                  <a:pt x="8007" y="8793"/>
                </a:lnTo>
                <a:lnTo>
                  <a:pt x="8743" y="7941"/>
                </a:lnTo>
                <a:lnTo>
                  <a:pt x="8007" y="7085"/>
                </a:lnTo>
                <a:close/>
                <a:moveTo>
                  <a:pt x="3349" y="8907"/>
                </a:moveTo>
                <a:lnTo>
                  <a:pt x="2617" y="9762"/>
                </a:lnTo>
                <a:lnTo>
                  <a:pt x="3349" y="10614"/>
                </a:lnTo>
                <a:lnTo>
                  <a:pt x="4085" y="9762"/>
                </a:lnTo>
                <a:lnTo>
                  <a:pt x="3349" y="8907"/>
                </a:lnTo>
                <a:close/>
                <a:moveTo>
                  <a:pt x="12799" y="9032"/>
                </a:moveTo>
                <a:lnTo>
                  <a:pt x="12066" y="9887"/>
                </a:lnTo>
                <a:lnTo>
                  <a:pt x="12799" y="10739"/>
                </a:lnTo>
                <a:lnTo>
                  <a:pt x="13537" y="9887"/>
                </a:lnTo>
                <a:lnTo>
                  <a:pt x="12799" y="9032"/>
                </a:lnTo>
                <a:close/>
                <a:moveTo>
                  <a:pt x="8007" y="10611"/>
                </a:moveTo>
                <a:lnTo>
                  <a:pt x="7272" y="11470"/>
                </a:lnTo>
                <a:lnTo>
                  <a:pt x="8007" y="12322"/>
                </a:lnTo>
                <a:lnTo>
                  <a:pt x="8743" y="11470"/>
                </a:lnTo>
                <a:lnTo>
                  <a:pt x="8007" y="10611"/>
                </a:lnTo>
                <a:close/>
                <a:moveTo>
                  <a:pt x="3450" y="13542"/>
                </a:moveTo>
                <a:lnTo>
                  <a:pt x="4511" y="13542"/>
                </a:lnTo>
                <a:lnTo>
                  <a:pt x="4511" y="18021"/>
                </a:lnTo>
                <a:lnTo>
                  <a:pt x="3467" y="15227"/>
                </a:lnTo>
                <a:cubicBezTo>
                  <a:pt x="3465" y="15056"/>
                  <a:pt x="3461" y="14886"/>
                  <a:pt x="3460" y="14716"/>
                </a:cubicBezTo>
                <a:cubicBezTo>
                  <a:pt x="3457" y="14322"/>
                  <a:pt x="3453" y="13935"/>
                  <a:pt x="3450" y="13542"/>
                </a:cubicBezTo>
                <a:close/>
                <a:moveTo>
                  <a:pt x="5504" y="13542"/>
                </a:moveTo>
                <a:lnTo>
                  <a:pt x="6643" y="13542"/>
                </a:lnTo>
                <a:lnTo>
                  <a:pt x="6643" y="20059"/>
                </a:lnTo>
                <a:lnTo>
                  <a:pt x="5576" y="20066"/>
                </a:lnTo>
                <a:lnTo>
                  <a:pt x="5504" y="13542"/>
                </a:lnTo>
                <a:close/>
                <a:moveTo>
                  <a:pt x="7636" y="13542"/>
                </a:moveTo>
                <a:lnTo>
                  <a:pt x="8723" y="13542"/>
                </a:lnTo>
                <a:lnTo>
                  <a:pt x="8723" y="20047"/>
                </a:lnTo>
                <a:lnTo>
                  <a:pt x="7636" y="20059"/>
                </a:lnTo>
                <a:lnTo>
                  <a:pt x="7636" y="13542"/>
                </a:lnTo>
                <a:close/>
                <a:moveTo>
                  <a:pt x="9719" y="13542"/>
                </a:moveTo>
                <a:lnTo>
                  <a:pt x="10787" y="13542"/>
                </a:lnTo>
                <a:lnTo>
                  <a:pt x="10787" y="20040"/>
                </a:lnTo>
                <a:lnTo>
                  <a:pt x="9719" y="20047"/>
                </a:lnTo>
                <a:lnTo>
                  <a:pt x="9719" y="13542"/>
                </a:lnTo>
                <a:close/>
                <a:moveTo>
                  <a:pt x="11718" y="13542"/>
                </a:moveTo>
                <a:lnTo>
                  <a:pt x="12857" y="13542"/>
                </a:lnTo>
                <a:lnTo>
                  <a:pt x="12799" y="20028"/>
                </a:lnTo>
                <a:lnTo>
                  <a:pt x="11718" y="20040"/>
                </a:lnTo>
                <a:lnTo>
                  <a:pt x="11718" y="13542"/>
                </a:lnTo>
                <a:close/>
                <a:moveTo>
                  <a:pt x="13850" y="13542"/>
                </a:moveTo>
                <a:lnTo>
                  <a:pt x="14911" y="13542"/>
                </a:lnTo>
                <a:cubicBezTo>
                  <a:pt x="14908" y="13935"/>
                  <a:pt x="14907" y="14322"/>
                  <a:pt x="14905" y="14716"/>
                </a:cubicBezTo>
                <a:cubicBezTo>
                  <a:pt x="14904" y="14729"/>
                  <a:pt x="14905" y="14744"/>
                  <a:pt x="14905" y="14757"/>
                </a:cubicBezTo>
                <a:lnTo>
                  <a:pt x="13824" y="18317"/>
                </a:lnTo>
                <a:lnTo>
                  <a:pt x="13850" y="13542"/>
                </a:lnTo>
                <a:close/>
              </a:path>
            </a:pathLst>
          </a:custGeom>
          <a:solidFill>
            <a:srgbClr val="d6d6d6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hape"/>
          <p:cNvSpPr/>
          <p:nvPr/>
        </p:nvSpPr>
        <p:spPr>
          <a:xfrm>
            <a:off x="1324080" y="5281920"/>
            <a:ext cx="331920" cy="330840"/>
          </a:xfrm>
          <a:custGeom>
            <a:avLst/>
            <a:gdLst>
              <a:gd name="textAreaLeft" fmla="*/ 0 w 331920"/>
              <a:gd name="textAreaRight" fmla="*/ 332280 w 331920"/>
              <a:gd name="textAreaTop" fmla="*/ 0 h 330840"/>
              <a:gd name="textAreaBottom" fmla="*/ 331200 h 33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59" y="13269"/>
                </a:lnTo>
                <a:lnTo>
                  <a:pt x="4228" y="21600"/>
                </a:lnTo>
                <a:lnTo>
                  <a:pt x="14299" y="21600"/>
                </a:lnTo>
                <a:lnTo>
                  <a:pt x="16844" y="14000"/>
                </a:lnTo>
                <a:lnTo>
                  <a:pt x="19165" y="13629"/>
                </a:lnTo>
                <a:lnTo>
                  <a:pt x="21577" y="10823"/>
                </a:lnTo>
                <a:lnTo>
                  <a:pt x="21600" y="4790"/>
                </a:lnTo>
                <a:lnTo>
                  <a:pt x="19396" y="2227"/>
                </a:lnTo>
                <a:lnTo>
                  <a:pt x="18130" y="2219"/>
                </a:lnTo>
                <a:lnTo>
                  <a:pt x="18355" y="19"/>
                </a:lnTo>
                <a:lnTo>
                  <a:pt x="0" y="0"/>
                </a:lnTo>
                <a:close/>
                <a:moveTo>
                  <a:pt x="17971" y="3798"/>
                </a:moveTo>
                <a:lnTo>
                  <a:pt x="19107" y="3828"/>
                </a:lnTo>
                <a:lnTo>
                  <a:pt x="20477" y="5423"/>
                </a:lnTo>
                <a:lnTo>
                  <a:pt x="20477" y="10190"/>
                </a:lnTo>
                <a:lnTo>
                  <a:pt x="18736" y="12216"/>
                </a:lnTo>
                <a:lnTo>
                  <a:pt x="17082" y="12489"/>
                </a:lnTo>
                <a:lnTo>
                  <a:pt x="17971" y="3798"/>
                </a:lnTo>
                <a:close/>
                <a:moveTo>
                  <a:pt x="2985" y="4203"/>
                </a:moveTo>
                <a:lnTo>
                  <a:pt x="4092" y="4203"/>
                </a:lnTo>
                <a:lnTo>
                  <a:pt x="6637" y="7165"/>
                </a:lnTo>
                <a:lnTo>
                  <a:pt x="7359" y="6320"/>
                </a:lnTo>
                <a:lnTo>
                  <a:pt x="5543" y="4207"/>
                </a:lnTo>
                <a:lnTo>
                  <a:pt x="7109" y="4207"/>
                </a:lnTo>
                <a:lnTo>
                  <a:pt x="7080" y="4237"/>
                </a:lnTo>
                <a:lnTo>
                  <a:pt x="8007" y="5317"/>
                </a:lnTo>
                <a:lnTo>
                  <a:pt x="8928" y="4237"/>
                </a:lnTo>
                <a:lnTo>
                  <a:pt x="8902" y="4207"/>
                </a:lnTo>
                <a:lnTo>
                  <a:pt x="10351" y="4211"/>
                </a:lnTo>
                <a:lnTo>
                  <a:pt x="11249" y="5256"/>
                </a:lnTo>
                <a:lnTo>
                  <a:pt x="12151" y="4211"/>
                </a:lnTo>
                <a:lnTo>
                  <a:pt x="13332" y="4211"/>
                </a:lnTo>
                <a:lnTo>
                  <a:pt x="16197" y="7547"/>
                </a:lnTo>
                <a:lnTo>
                  <a:pt x="16200" y="7543"/>
                </a:lnTo>
                <a:lnTo>
                  <a:pt x="16041" y="8926"/>
                </a:lnTo>
                <a:lnTo>
                  <a:pt x="14218" y="6809"/>
                </a:lnTo>
                <a:lnTo>
                  <a:pt x="13492" y="7649"/>
                </a:lnTo>
                <a:lnTo>
                  <a:pt x="15868" y="10414"/>
                </a:lnTo>
                <a:lnTo>
                  <a:pt x="15643" y="12303"/>
                </a:lnTo>
                <a:lnTo>
                  <a:pt x="15624" y="12383"/>
                </a:lnTo>
                <a:lnTo>
                  <a:pt x="14136" y="10652"/>
                </a:lnTo>
                <a:lnTo>
                  <a:pt x="13414" y="11493"/>
                </a:lnTo>
                <a:lnTo>
                  <a:pt x="14188" y="12394"/>
                </a:lnTo>
                <a:lnTo>
                  <a:pt x="11718" y="12394"/>
                </a:lnTo>
                <a:lnTo>
                  <a:pt x="11471" y="12394"/>
                </a:lnTo>
                <a:lnTo>
                  <a:pt x="11978" y="11807"/>
                </a:lnTo>
                <a:lnTo>
                  <a:pt x="9521" y="8952"/>
                </a:lnTo>
                <a:lnTo>
                  <a:pt x="8795" y="9793"/>
                </a:lnTo>
                <a:lnTo>
                  <a:pt x="11031" y="12394"/>
                </a:lnTo>
                <a:lnTo>
                  <a:pt x="10787" y="12394"/>
                </a:lnTo>
                <a:lnTo>
                  <a:pt x="9846" y="12394"/>
                </a:lnTo>
                <a:lnTo>
                  <a:pt x="9472" y="11959"/>
                </a:lnTo>
                <a:lnTo>
                  <a:pt x="9098" y="12394"/>
                </a:lnTo>
                <a:lnTo>
                  <a:pt x="8723" y="12394"/>
                </a:lnTo>
                <a:lnTo>
                  <a:pt x="7636" y="12394"/>
                </a:lnTo>
                <a:lnTo>
                  <a:pt x="6643" y="12394"/>
                </a:lnTo>
                <a:lnTo>
                  <a:pt x="6403" y="12394"/>
                </a:lnTo>
                <a:lnTo>
                  <a:pt x="4905" y="10652"/>
                </a:lnTo>
                <a:lnTo>
                  <a:pt x="4183" y="11493"/>
                </a:lnTo>
                <a:lnTo>
                  <a:pt x="4957" y="12394"/>
                </a:lnTo>
                <a:lnTo>
                  <a:pt x="2637" y="12394"/>
                </a:lnTo>
                <a:lnTo>
                  <a:pt x="3151" y="11796"/>
                </a:lnTo>
                <a:lnTo>
                  <a:pt x="2357" y="10872"/>
                </a:lnTo>
                <a:lnTo>
                  <a:pt x="2174" y="8626"/>
                </a:lnTo>
                <a:lnTo>
                  <a:pt x="2763" y="7941"/>
                </a:lnTo>
                <a:lnTo>
                  <a:pt x="2054" y="7112"/>
                </a:lnTo>
                <a:lnTo>
                  <a:pt x="1920" y="5442"/>
                </a:lnTo>
                <a:lnTo>
                  <a:pt x="2985" y="4203"/>
                </a:lnTo>
                <a:close/>
                <a:moveTo>
                  <a:pt x="14784" y="4215"/>
                </a:moveTo>
                <a:lnTo>
                  <a:pt x="16587" y="4215"/>
                </a:lnTo>
                <a:lnTo>
                  <a:pt x="16373" y="6063"/>
                </a:lnTo>
                <a:lnTo>
                  <a:pt x="14784" y="4215"/>
                </a:lnTo>
                <a:close/>
                <a:moveTo>
                  <a:pt x="3349" y="5264"/>
                </a:moveTo>
                <a:lnTo>
                  <a:pt x="2617" y="6119"/>
                </a:lnTo>
                <a:lnTo>
                  <a:pt x="3349" y="6975"/>
                </a:lnTo>
                <a:lnTo>
                  <a:pt x="4085" y="6119"/>
                </a:lnTo>
                <a:lnTo>
                  <a:pt x="3349" y="5264"/>
                </a:lnTo>
                <a:close/>
                <a:moveTo>
                  <a:pt x="12890" y="5264"/>
                </a:moveTo>
                <a:lnTo>
                  <a:pt x="12157" y="6119"/>
                </a:lnTo>
                <a:lnTo>
                  <a:pt x="12890" y="6975"/>
                </a:lnTo>
                <a:lnTo>
                  <a:pt x="13625" y="6119"/>
                </a:lnTo>
                <a:lnTo>
                  <a:pt x="12890" y="5264"/>
                </a:lnTo>
                <a:close/>
                <a:moveTo>
                  <a:pt x="9521" y="5358"/>
                </a:moveTo>
                <a:lnTo>
                  <a:pt x="8795" y="6199"/>
                </a:lnTo>
                <a:lnTo>
                  <a:pt x="11249" y="9058"/>
                </a:lnTo>
                <a:lnTo>
                  <a:pt x="11978" y="8214"/>
                </a:lnTo>
                <a:lnTo>
                  <a:pt x="9521" y="5358"/>
                </a:lnTo>
                <a:close/>
                <a:moveTo>
                  <a:pt x="4905" y="7059"/>
                </a:moveTo>
                <a:lnTo>
                  <a:pt x="4183" y="7899"/>
                </a:lnTo>
                <a:lnTo>
                  <a:pt x="6637" y="10758"/>
                </a:lnTo>
                <a:lnTo>
                  <a:pt x="7359" y="9914"/>
                </a:lnTo>
                <a:lnTo>
                  <a:pt x="4905" y="7059"/>
                </a:lnTo>
                <a:close/>
                <a:moveTo>
                  <a:pt x="8007" y="7085"/>
                </a:moveTo>
                <a:lnTo>
                  <a:pt x="7272" y="7941"/>
                </a:lnTo>
                <a:lnTo>
                  <a:pt x="8007" y="8793"/>
                </a:lnTo>
                <a:lnTo>
                  <a:pt x="8743" y="7941"/>
                </a:lnTo>
                <a:lnTo>
                  <a:pt x="8007" y="7085"/>
                </a:lnTo>
                <a:close/>
                <a:moveTo>
                  <a:pt x="3349" y="8907"/>
                </a:moveTo>
                <a:lnTo>
                  <a:pt x="2617" y="9762"/>
                </a:lnTo>
                <a:lnTo>
                  <a:pt x="3349" y="10614"/>
                </a:lnTo>
                <a:lnTo>
                  <a:pt x="4085" y="9762"/>
                </a:lnTo>
                <a:lnTo>
                  <a:pt x="3349" y="8907"/>
                </a:lnTo>
                <a:close/>
                <a:moveTo>
                  <a:pt x="12799" y="9032"/>
                </a:moveTo>
                <a:lnTo>
                  <a:pt x="12066" y="9887"/>
                </a:lnTo>
                <a:lnTo>
                  <a:pt x="12799" y="10739"/>
                </a:lnTo>
                <a:lnTo>
                  <a:pt x="13537" y="9887"/>
                </a:lnTo>
                <a:lnTo>
                  <a:pt x="12799" y="9032"/>
                </a:lnTo>
                <a:close/>
                <a:moveTo>
                  <a:pt x="8007" y="10611"/>
                </a:moveTo>
                <a:lnTo>
                  <a:pt x="7272" y="11470"/>
                </a:lnTo>
                <a:lnTo>
                  <a:pt x="8007" y="12322"/>
                </a:lnTo>
                <a:lnTo>
                  <a:pt x="8743" y="11470"/>
                </a:lnTo>
                <a:lnTo>
                  <a:pt x="8007" y="10611"/>
                </a:lnTo>
                <a:close/>
                <a:moveTo>
                  <a:pt x="3450" y="13542"/>
                </a:moveTo>
                <a:lnTo>
                  <a:pt x="4511" y="13542"/>
                </a:lnTo>
                <a:lnTo>
                  <a:pt x="4511" y="18021"/>
                </a:lnTo>
                <a:lnTo>
                  <a:pt x="3467" y="15227"/>
                </a:lnTo>
                <a:cubicBezTo>
                  <a:pt x="3465" y="15056"/>
                  <a:pt x="3461" y="14886"/>
                  <a:pt x="3460" y="14716"/>
                </a:cubicBezTo>
                <a:cubicBezTo>
                  <a:pt x="3457" y="14322"/>
                  <a:pt x="3453" y="13935"/>
                  <a:pt x="3450" y="13542"/>
                </a:cubicBezTo>
                <a:close/>
                <a:moveTo>
                  <a:pt x="5504" y="13542"/>
                </a:moveTo>
                <a:lnTo>
                  <a:pt x="6643" y="13542"/>
                </a:lnTo>
                <a:lnTo>
                  <a:pt x="6643" y="20059"/>
                </a:lnTo>
                <a:lnTo>
                  <a:pt x="5576" y="20066"/>
                </a:lnTo>
                <a:lnTo>
                  <a:pt x="5504" y="13542"/>
                </a:lnTo>
                <a:close/>
                <a:moveTo>
                  <a:pt x="7636" y="13542"/>
                </a:moveTo>
                <a:lnTo>
                  <a:pt x="8723" y="13542"/>
                </a:lnTo>
                <a:lnTo>
                  <a:pt x="8723" y="20047"/>
                </a:lnTo>
                <a:lnTo>
                  <a:pt x="7636" y="20059"/>
                </a:lnTo>
                <a:lnTo>
                  <a:pt x="7636" y="13542"/>
                </a:lnTo>
                <a:close/>
                <a:moveTo>
                  <a:pt x="9719" y="13542"/>
                </a:moveTo>
                <a:lnTo>
                  <a:pt x="10787" y="13542"/>
                </a:lnTo>
                <a:lnTo>
                  <a:pt x="10787" y="20040"/>
                </a:lnTo>
                <a:lnTo>
                  <a:pt x="9719" y="20047"/>
                </a:lnTo>
                <a:lnTo>
                  <a:pt x="9719" y="13542"/>
                </a:lnTo>
                <a:close/>
                <a:moveTo>
                  <a:pt x="11718" y="13542"/>
                </a:moveTo>
                <a:lnTo>
                  <a:pt x="12857" y="13542"/>
                </a:lnTo>
                <a:lnTo>
                  <a:pt x="12799" y="20028"/>
                </a:lnTo>
                <a:lnTo>
                  <a:pt x="11718" y="20040"/>
                </a:lnTo>
                <a:lnTo>
                  <a:pt x="11718" y="13542"/>
                </a:lnTo>
                <a:close/>
                <a:moveTo>
                  <a:pt x="13850" y="13542"/>
                </a:moveTo>
                <a:lnTo>
                  <a:pt x="14911" y="13542"/>
                </a:lnTo>
                <a:cubicBezTo>
                  <a:pt x="14908" y="13935"/>
                  <a:pt x="14907" y="14322"/>
                  <a:pt x="14905" y="14716"/>
                </a:cubicBezTo>
                <a:cubicBezTo>
                  <a:pt x="14904" y="14729"/>
                  <a:pt x="14905" y="14744"/>
                  <a:pt x="14905" y="14757"/>
                </a:cubicBezTo>
                <a:lnTo>
                  <a:pt x="13824" y="18317"/>
                </a:lnTo>
                <a:lnTo>
                  <a:pt x="13850" y="13542"/>
                </a:lnTo>
                <a:close/>
              </a:path>
            </a:pathLst>
          </a:custGeom>
          <a:solidFill>
            <a:srgbClr val="d6d6d6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hape"/>
          <p:cNvSpPr/>
          <p:nvPr/>
        </p:nvSpPr>
        <p:spPr>
          <a:xfrm>
            <a:off x="1730160" y="5286600"/>
            <a:ext cx="331920" cy="330840"/>
          </a:xfrm>
          <a:custGeom>
            <a:avLst/>
            <a:gdLst>
              <a:gd name="textAreaLeft" fmla="*/ 0 w 331920"/>
              <a:gd name="textAreaRight" fmla="*/ 332280 w 331920"/>
              <a:gd name="textAreaTop" fmla="*/ 0 h 330840"/>
              <a:gd name="textAreaBottom" fmla="*/ 331200 h 33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59" y="13269"/>
                </a:lnTo>
                <a:lnTo>
                  <a:pt x="4228" y="21600"/>
                </a:lnTo>
                <a:lnTo>
                  <a:pt x="14299" y="21600"/>
                </a:lnTo>
                <a:lnTo>
                  <a:pt x="16844" y="14000"/>
                </a:lnTo>
                <a:lnTo>
                  <a:pt x="19165" y="13629"/>
                </a:lnTo>
                <a:lnTo>
                  <a:pt x="21577" y="10823"/>
                </a:lnTo>
                <a:lnTo>
                  <a:pt x="21600" y="4790"/>
                </a:lnTo>
                <a:lnTo>
                  <a:pt x="19396" y="2227"/>
                </a:lnTo>
                <a:lnTo>
                  <a:pt x="18130" y="2219"/>
                </a:lnTo>
                <a:lnTo>
                  <a:pt x="18355" y="19"/>
                </a:lnTo>
                <a:lnTo>
                  <a:pt x="0" y="0"/>
                </a:lnTo>
                <a:close/>
                <a:moveTo>
                  <a:pt x="17971" y="3798"/>
                </a:moveTo>
                <a:lnTo>
                  <a:pt x="19107" y="3828"/>
                </a:lnTo>
                <a:lnTo>
                  <a:pt x="20477" y="5423"/>
                </a:lnTo>
                <a:lnTo>
                  <a:pt x="20477" y="10190"/>
                </a:lnTo>
                <a:lnTo>
                  <a:pt x="18736" y="12216"/>
                </a:lnTo>
                <a:lnTo>
                  <a:pt x="17082" y="12489"/>
                </a:lnTo>
                <a:lnTo>
                  <a:pt x="17971" y="3798"/>
                </a:lnTo>
                <a:close/>
                <a:moveTo>
                  <a:pt x="2985" y="4203"/>
                </a:moveTo>
                <a:lnTo>
                  <a:pt x="4092" y="4203"/>
                </a:lnTo>
                <a:lnTo>
                  <a:pt x="6637" y="7165"/>
                </a:lnTo>
                <a:lnTo>
                  <a:pt x="7359" y="6320"/>
                </a:lnTo>
                <a:lnTo>
                  <a:pt x="5543" y="4207"/>
                </a:lnTo>
                <a:lnTo>
                  <a:pt x="7109" y="4207"/>
                </a:lnTo>
                <a:lnTo>
                  <a:pt x="7080" y="4237"/>
                </a:lnTo>
                <a:lnTo>
                  <a:pt x="8007" y="5317"/>
                </a:lnTo>
                <a:lnTo>
                  <a:pt x="8928" y="4237"/>
                </a:lnTo>
                <a:lnTo>
                  <a:pt x="8902" y="4207"/>
                </a:lnTo>
                <a:lnTo>
                  <a:pt x="10351" y="4211"/>
                </a:lnTo>
                <a:lnTo>
                  <a:pt x="11249" y="5256"/>
                </a:lnTo>
                <a:lnTo>
                  <a:pt x="12151" y="4211"/>
                </a:lnTo>
                <a:lnTo>
                  <a:pt x="13332" y="4211"/>
                </a:lnTo>
                <a:lnTo>
                  <a:pt x="16197" y="7547"/>
                </a:lnTo>
                <a:lnTo>
                  <a:pt x="16200" y="7543"/>
                </a:lnTo>
                <a:lnTo>
                  <a:pt x="16041" y="8926"/>
                </a:lnTo>
                <a:lnTo>
                  <a:pt x="14218" y="6809"/>
                </a:lnTo>
                <a:lnTo>
                  <a:pt x="13492" y="7649"/>
                </a:lnTo>
                <a:lnTo>
                  <a:pt x="15868" y="10414"/>
                </a:lnTo>
                <a:lnTo>
                  <a:pt x="15643" y="12303"/>
                </a:lnTo>
                <a:lnTo>
                  <a:pt x="15624" y="12383"/>
                </a:lnTo>
                <a:lnTo>
                  <a:pt x="14136" y="10652"/>
                </a:lnTo>
                <a:lnTo>
                  <a:pt x="13414" y="11493"/>
                </a:lnTo>
                <a:lnTo>
                  <a:pt x="14188" y="12394"/>
                </a:lnTo>
                <a:lnTo>
                  <a:pt x="11718" y="12394"/>
                </a:lnTo>
                <a:lnTo>
                  <a:pt x="11471" y="12394"/>
                </a:lnTo>
                <a:lnTo>
                  <a:pt x="11978" y="11807"/>
                </a:lnTo>
                <a:lnTo>
                  <a:pt x="9521" y="8952"/>
                </a:lnTo>
                <a:lnTo>
                  <a:pt x="8795" y="9793"/>
                </a:lnTo>
                <a:lnTo>
                  <a:pt x="11031" y="12394"/>
                </a:lnTo>
                <a:lnTo>
                  <a:pt x="10787" y="12394"/>
                </a:lnTo>
                <a:lnTo>
                  <a:pt x="9846" y="12394"/>
                </a:lnTo>
                <a:lnTo>
                  <a:pt x="9472" y="11959"/>
                </a:lnTo>
                <a:lnTo>
                  <a:pt x="9098" y="12394"/>
                </a:lnTo>
                <a:lnTo>
                  <a:pt x="8723" y="12394"/>
                </a:lnTo>
                <a:lnTo>
                  <a:pt x="7636" y="12394"/>
                </a:lnTo>
                <a:lnTo>
                  <a:pt x="6643" y="12394"/>
                </a:lnTo>
                <a:lnTo>
                  <a:pt x="6403" y="12394"/>
                </a:lnTo>
                <a:lnTo>
                  <a:pt x="4905" y="10652"/>
                </a:lnTo>
                <a:lnTo>
                  <a:pt x="4183" y="11493"/>
                </a:lnTo>
                <a:lnTo>
                  <a:pt x="4957" y="12394"/>
                </a:lnTo>
                <a:lnTo>
                  <a:pt x="2637" y="12394"/>
                </a:lnTo>
                <a:lnTo>
                  <a:pt x="3151" y="11796"/>
                </a:lnTo>
                <a:lnTo>
                  <a:pt x="2357" y="10872"/>
                </a:lnTo>
                <a:lnTo>
                  <a:pt x="2174" y="8626"/>
                </a:lnTo>
                <a:lnTo>
                  <a:pt x="2763" y="7941"/>
                </a:lnTo>
                <a:lnTo>
                  <a:pt x="2054" y="7112"/>
                </a:lnTo>
                <a:lnTo>
                  <a:pt x="1920" y="5442"/>
                </a:lnTo>
                <a:lnTo>
                  <a:pt x="2985" y="4203"/>
                </a:lnTo>
                <a:close/>
                <a:moveTo>
                  <a:pt x="14784" y="4215"/>
                </a:moveTo>
                <a:lnTo>
                  <a:pt x="16587" y="4215"/>
                </a:lnTo>
                <a:lnTo>
                  <a:pt x="16373" y="6063"/>
                </a:lnTo>
                <a:lnTo>
                  <a:pt x="14784" y="4215"/>
                </a:lnTo>
                <a:close/>
                <a:moveTo>
                  <a:pt x="3349" y="5264"/>
                </a:moveTo>
                <a:lnTo>
                  <a:pt x="2617" y="6119"/>
                </a:lnTo>
                <a:lnTo>
                  <a:pt x="3349" y="6975"/>
                </a:lnTo>
                <a:lnTo>
                  <a:pt x="4085" y="6119"/>
                </a:lnTo>
                <a:lnTo>
                  <a:pt x="3349" y="5264"/>
                </a:lnTo>
                <a:close/>
                <a:moveTo>
                  <a:pt x="12890" y="5264"/>
                </a:moveTo>
                <a:lnTo>
                  <a:pt x="12157" y="6119"/>
                </a:lnTo>
                <a:lnTo>
                  <a:pt x="12890" y="6975"/>
                </a:lnTo>
                <a:lnTo>
                  <a:pt x="13625" y="6119"/>
                </a:lnTo>
                <a:lnTo>
                  <a:pt x="12890" y="5264"/>
                </a:lnTo>
                <a:close/>
                <a:moveTo>
                  <a:pt x="9521" y="5358"/>
                </a:moveTo>
                <a:lnTo>
                  <a:pt x="8795" y="6199"/>
                </a:lnTo>
                <a:lnTo>
                  <a:pt x="11249" y="9058"/>
                </a:lnTo>
                <a:lnTo>
                  <a:pt x="11978" y="8214"/>
                </a:lnTo>
                <a:lnTo>
                  <a:pt x="9521" y="5358"/>
                </a:lnTo>
                <a:close/>
                <a:moveTo>
                  <a:pt x="4905" y="7059"/>
                </a:moveTo>
                <a:lnTo>
                  <a:pt x="4183" y="7899"/>
                </a:lnTo>
                <a:lnTo>
                  <a:pt x="6637" y="10758"/>
                </a:lnTo>
                <a:lnTo>
                  <a:pt x="7359" y="9914"/>
                </a:lnTo>
                <a:lnTo>
                  <a:pt x="4905" y="7059"/>
                </a:lnTo>
                <a:close/>
                <a:moveTo>
                  <a:pt x="8007" y="7085"/>
                </a:moveTo>
                <a:lnTo>
                  <a:pt x="7272" y="7941"/>
                </a:lnTo>
                <a:lnTo>
                  <a:pt x="8007" y="8793"/>
                </a:lnTo>
                <a:lnTo>
                  <a:pt x="8743" y="7941"/>
                </a:lnTo>
                <a:lnTo>
                  <a:pt x="8007" y="7085"/>
                </a:lnTo>
                <a:close/>
                <a:moveTo>
                  <a:pt x="3349" y="8907"/>
                </a:moveTo>
                <a:lnTo>
                  <a:pt x="2617" y="9762"/>
                </a:lnTo>
                <a:lnTo>
                  <a:pt x="3349" y="10614"/>
                </a:lnTo>
                <a:lnTo>
                  <a:pt x="4085" y="9762"/>
                </a:lnTo>
                <a:lnTo>
                  <a:pt x="3349" y="8907"/>
                </a:lnTo>
                <a:close/>
                <a:moveTo>
                  <a:pt x="12799" y="9032"/>
                </a:moveTo>
                <a:lnTo>
                  <a:pt x="12066" y="9887"/>
                </a:lnTo>
                <a:lnTo>
                  <a:pt x="12799" y="10739"/>
                </a:lnTo>
                <a:lnTo>
                  <a:pt x="13537" y="9887"/>
                </a:lnTo>
                <a:lnTo>
                  <a:pt x="12799" y="9032"/>
                </a:lnTo>
                <a:close/>
                <a:moveTo>
                  <a:pt x="8007" y="10611"/>
                </a:moveTo>
                <a:lnTo>
                  <a:pt x="7272" y="11470"/>
                </a:lnTo>
                <a:lnTo>
                  <a:pt x="8007" y="12322"/>
                </a:lnTo>
                <a:lnTo>
                  <a:pt x="8743" y="11470"/>
                </a:lnTo>
                <a:lnTo>
                  <a:pt x="8007" y="10611"/>
                </a:lnTo>
                <a:close/>
                <a:moveTo>
                  <a:pt x="3450" y="13542"/>
                </a:moveTo>
                <a:lnTo>
                  <a:pt x="4511" y="13542"/>
                </a:lnTo>
                <a:lnTo>
                  <a:pt x="4511" y="18021"/>
                </a:lnTo>
                <a:lnTo>
                  <a:pt x="3467" y="15227"/>
                </a:lnTo>
                <a:cubicBezTo>
                  <a:pt x="3465" y="15056"/>
                  <a:pt x="3461" y="14886"/>
                  <a:pt x="3460" y="14716"/>
                </a:cubicBezTo>
                <a:cubicBezTo>
                  <a:pt x="3457" y="14322"/>
                  <a:pt x="3453" y="13935"/>
                  <a:pt x="3450" y="13542"/>
                </a:cubicBezTo>
                <a:close/>
                <a:moveTo>
                  <a:pt x="5504" y="13542"/>
                </a:moveTo>
                <a:lnTo>
                  <a:pt x="6643" y="13542"/>
                </a:lnTo>
                <a:lnTo>
                  <a:pt x="6643" y="20059"/>
                </a:lnTo>
                <a:lnTo>
                  <a:pt x="5576" y="20066"/>
                </a:lnTo>
                <a:lnTo>
                  <a:pt x="5504" y="13542"/>
                </a:lnTo>
                <a:close/>
                <a:moveTo>
                  <a:pt x="7636" y="13542"/>
                </a:moveTo>
                <a:lnTo>
                  <a:pt x="8723" y="13542"/>
                </a:lnTo>
                <a:lnTo>
                  <a:pt x="8723" y="20047"/>
                </a:lnTo>
                <a:lnTo>
                  <a:pt x="7636" y="20059"/>
                </a:lnTo>
                <a:lnTo>
                  <a:pt x="7636" y="13542"/>
                </a:lnTo>
                <a:close/>
                <a:moveTo>
                  <a:pt x="9719" y="13542"/>
                </a:moveTo>
                <a:lnTo>
                  <a:pt x="10787" y="13542"/>
                </a:lnTo>
                <a:lnTo>
                  <a:pt x="10787" y="20040"/>
                </a:lnTo>
                <a:lnTo>
                  <a:pt x="9719" y="20047"/>
                </a:lnTo>
                <a:lnTo>
                  <a:pt x="9719" y="13542"/>
                </a:lnTo>
                <a:close/>
                <a:moveTo>
                  <a:pt x="11718" y="13542"/>
                </a:moveTo>
                <a:lnTo>
                  <a:pt x="12857" y="13542"/>
                </a:lnTo>
                <a:lnTo>
                  <a:pt x="12799" y="20028"/>
                </a:lnTo>
                <a:lnTo>
                  <a:pt x="11718" y="20040"/>
                </a:lnTo>
                <a:lnTo>
                  <a:pt x="11718" y="13542"/>
                </a:lnTo>
                <a:close/>
                <a:moveTo>
                  <a:pt x="13850" y="13542"/>
                </a:moveTo>
                <a:lnTo>
                  <a:pt x="14911" y="13542"/>
                </a:lnTo>
                <a:cubicBezTo>
                  <a:pt x="14908" y="13935"/>
                  <a:pt x="14907" y="14322"/>
                  <a:pt x="14905" y="14716"/>
                </a:cubicBezTo>
                <a:cubicBezTo>
                  <a:pt x="14904" y="14729"/>
                  <a:pt x="14905" y="14744"/>
                  <a:pt x="14905" y="14757"/>
                </a:cubicBezTo>
                <a:lnTo>
                  <a:pt x="13824" y="18317"/>
                </a:lnTo>
                <a:lnTo>
                  <a:pt x="13850" y="13542"/>
                </a:lnTo>
                <a:close/>
              </a:path>
            </a:pathLst>
          </a:custGeom>
          <a:solidFill>
            <a:srgbClr val="d6d6d6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hape"/>
          <p:cNvSpPr/>
          <p:nvPr/>
        </p:nvSpPr>
        <p:spPr>
          <a:xfrm>
            <a:off x="2136240" y="5284080"/>
            <a:ext cx="331920" cy="330840"/>
          </a:xfrm>
          <a:custGeom>
            <a:avLst/>
            <a:gdLst>
              <a:gd name="textAreaLeft" fmla="*/ 0 w 331920"/>
              <a:gd name="textAreaRight" fmla="*/ 332280 w 331920"/>
              <a:gd name="textAreaTop" fmla="*/ 0 h 330840"/>
              <a:gd name="textAreaBottom" fmla="*/ 331200 h 33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59" y="13269"/>
                </a:lnTo>
                <a:lnTo>
                  <a:pt x="4228" y="21600"/>
                </a:lnTo>
                <a:lnTo>
                  <a:pt x="14299" y="21600"/>
                </a:lnTo>
                <a:lnTo>
                  <a:pt x="16844" y="14000"/>
                </a:lnTo>
                <a:lnTo>
                  <a:pt x="19165" y="13629"/>
                </a:lnTo>
                <a:lnTo>
                  <a:pt x="21577" y="10823"/>
                </a:lnTo>
                <a:lnTo>
                  <a:pt x="21600" y="4790"/>
                </a:lnTo>
                <a:lnTo>
                  <a:pt x="19396" y="2227"/>
                </a:lnTo>
                <a:lnTo>
                  <a:pt x="18130" y="2219"/>
                </a:lnTo>
                <a:lnTo>
                  <a:pt x="18355" y="19"/>
                </a:lnTo>
                <a:lnTo>
                  <a:pt x="0" y="0"/>
                </a:lnTo>
                <a:close/>
                <a:moveTo>
                  <a:pt x="17971" y="3798"/>
                </a:moveTo>
                <a:lnTo>
                  <a:pt x="19107" y="3828"/>
                </a:lnTo>
                <a:lnTo>
                  <a:pt x="20477" y="5423"/>
                </a:lnTo>
                <a:lnTo>
                  <a:pt x="20477" y="10190"/>
                </a:lnTo>
                <a:lnTo>
                  <a:pt x="18736" y="12216"/>
                </a:lnTo>
                <a:lnTo>
                  <a:pt x="17082" y="12489"/>
                </a:lnTo>
                <a:lnTo>
                  <a:pt x="17971" y="3798"/>
                </a:lnTo>
                <a:close/>
                <a:moveTo>
                  <a:pt x="2985" y="4203"/>
                </a:moveTo>
                <a:lnTo>
                  <a:pt x="4092" y="4203"/>
                </a:lnTo>
                <a:lnTo>
                  <a:pt x="6637" y="7165"/>
                </a:lnTo>
                <a:lnTo>
                  <a:pt x="7359" y="6320"/>
                </a:lnTo>
                <a:lnTo>
                  <a:pt x="5543" y="4207"/>
                </a:lnTo>
                <a:lnTo>
                  <a:pt x="7109" y="4207"/>
                </a:lnTo>
                <a:lnTo>
                  <a:pt x="7080" y="4237"/>
                </a:lnTo>
                <a:lnTo>
                  <a:pt x="8007" y="5317"/>
                </a:lnTo>
                <a:lnTo>
                  <a:pt x="8928" y="4237"/>
                </a:lnTo>
                <a:lnTo>
                  <a:pt x="8902" y="4207"/>
                </a:lnTo>
                <a:lnTo>
                  <a:pt x="10351" y="4211"/>
                </a:lnTo>
                <a:lnTo>
                  <a:pt x="11249" y="5256"/>
                </a:lnTo>
                <a:lnTo>
                  <a:pt x="12151" y="4211"/>
                </a:lnTo>
                <a:lnTo>
                  <a:pt x="13332" y="4211"/>
                </a:lnTo>
                <a:lnTo>
                  <a:pt x="16197" y="7547"/>
                </a:lnTo>
                <a:lnTo>
                  <a:pt x="16200" y="7543"/>
                </a:lnTo>
                <a:lnTo>
                  <a:pt x="16041" y="8926"/>
                </a:lnTo>
                <a:lnTo>
                  <a:pt x="14218" y="6809"/>
                </a:lnTo>
                <a:lnTo>
                  <a:pt x="13492" y="7649"/>
                </a:lnTo>
                <a:lnTo>
                  <a:pt x="15868" y="10414"/>
                </a:lnTo>
                <a:lnTo>
                  <a:pt x="15643" y="12303"/>
                </a:lnTo>
                <a:lnTo>
                  <a:pt x="15624" y="12383"/>
                </a:lnTo>
                <a:lnTo>
                  <a:pt x="14136" y="10652"/>
                </a:lnTo>
                <a:lnTo>
                  <a:pt x="13414" y="11493"/>
                </a:lnTo>
                <a:lnTo>
                  <a:pt x="14188" y="12394"/>
                </a:lnTo>
                <a:lnTo>
                  <a:pt x="11718" y="12394"/>
                </a:lnTo>
                <a:lnTo>
                  <a:pt x="11471" y="12394"/>
                </a:lnTo>
                <a:lnTo>
                  <a:pt x="11978" y="11807"/>
                </a:lnTo>
                <a:lnTo>
                  <a:pt x="9521" y="8952"/>
                </a:lnTo>
                <a:lnTo>
                  <a:pt x="8795" y="9793"/>
                </a:lnTo>
                <a:lnTo>
                  <a:pt x="11031" y="12394"/>
                </a:lnTo>
                <a:lnTo>
                  <a:pt x="10787" y="12394"/>
                </a:lnTo>
                <a:lnTo>
                  <a:pt x="9846" y="12394"/>
                </a:lnTo>
                <a:lnTo>
                  <a:pt x="9472" y="11959"/>
                </a:lnTo>
                <a:lnTo>
                  <a:pt x="9098" y="12394"/>
                </a:lnTo>
                <a:lnTo>
                  <a:pt x="8723" y="12394"/>
                </a:lnTo>
                <a:lnTo>
                  <a:pt x="7636" y="12394"/>
                </a:lnTo>
                <a:lnTo>
                  <a:pt x="6643" y="12394"/>
                </a:lnTo>
                <a:lnTo>
                  <a:pt x="6403" y="12394"/>
                </a:lnTo>
                <a:lnTo>
                  <a:pt x="4905" y="10652"/>
                </a:lnTo>
                <a:lnTo>
                  <a:pt x="4183" y="11493"/>
                </a:lnTo>
                <a:lnTo>
                  <a:pt x="4957" y="12394"/>
                </a:lnTo>
                <a:lnTo>
                  <a:pt x="2637" y="12394"/>
                </a:lnTo>
                <a:lnTo>
                  <a:pt x="3151" y="11796"/>
                </a:lnTo>
                <a:lnTo>
                  <a:pt x="2357" y="10872"/>
                </a:lnTo>
                <a:lnTo>
                  <a:pt x="2174" y="8626"/>
                </a:lnTo>
                <a:lnTo>
                  <a:pt x="2763" y="7941"/>
                </a:lnTo>
                <a:lnTo>
                  <a:pt x="2054" y="7112"/>
                </a:lnTo>
                <a:lnTo>
                  <a:pt x="1920" y="5442"/>
                </a:lnTo>
                <a:lnTo>
                  <a:pt x="2985" y="4203"/>
                </a:lnTo>
                <a:close/>
                <a:moveTo>
                  <a:pt x="14784" y="4215"/>
                </a:moveTo>
                <a:lnTo>
                  <a:pt x="16587" y="4215"/>
                </a:lnTo>
                <a:lnTo>
                  <a:pt x="16373" y="6063"/>
                </a:lnTo>
                <a:lnTo>
                  <a:pt x="14784" y="4215"/>
                </a:lnTo>
                <a:close/>
                <a:moveTo>
                  <a:pt x="3349" y="5264"/>
                </a:moveTo>
                <a:lnTo>
                  <a:pt x="2617" y="6119"/>
                </a:lnTo>
                <a:lnTo>
                  <a:pt x="3349" y="6975"/>
                </a:lnTo>
                <a:lnTo>
                  <a:pt x="4085" y="6119"/>
                </a:lnTo>
                <a:lnTo>
                  <a:pt x="3349" y="5264"/>
                </a:lnTo>
                <a:close/>
                <a:moveTo>
                  <a:pt x="12890" y="5264"/>
                </a:moveTo>
                <a:lnTo>
                  <a:pt x="12157" y="6119"/>
                </a:lnTo>
                <a:lnTo>
                  <a:pt x="12890" y="6975"/>
                </a:lnTo>
                <a:lnTo>
                  <a:pt x="13625" y="6119"/>
                </a:lnTo>
                <a:lnTo>
                  <a:pt x="12890" y="5264"/>
                </a:lnTo>
                <a:close/>
                <a:moveTo>
                  <a:pt x="9521" y="5358"/>
                </a:moveTo>
                <a:lnTo>
                  <a:pt x="8795" y="6199"/>
                </a:lnTo>
                <a:lnTo>
                  <a:pt x="11249" y="9058"/>
                </a:lnTo>
                <a:lnTo>
                  <a:pt x="11978" y="8214"/>
                </a:lnTo>
                <a:lnTo>
                  <a:pt x="9521" y="5358"/>
                </a:lnTo>
                <a:close/>
                <a:moveTo>
                  <a:pt x="4905" y="7059"/>
                </a:moveTo>
                <a:lnTo>
                  <a:pt x="4183" y="7899"/>
                </a:lnTo>
                <a:lnTo>
                  <a:pt x="6637" y="10758"/>
                </a:lnTo>
                <a:lnTo>
                  <a:pt x="7359" y="9914"/>
                </a:lnTo>
                <a:lnTo>
                  <a:pt x="4905" y="7059"/>
                </a:lnTo>
                <a:close/>
                <a:moveTo>
                  <a:pt x="8007" y="7085"/>
                </a:moveTo>
                <a:lnTo>
                  <a:pt x="7272" y="7941"/>
                </a:lnTo>
                <a:lnTo>
                  <a:pt x="8007" y="8793"/>
                </a:lnTo>
                <a:lnTo>
                  <a:pt x="8743" y="7941"/>
                </a:lnTo>
                <a:lnTo>
                  <a:pt x="8007" y="7085"/>
                </a:lnTo>
                <a:close/>
                <a:moveTo>
                  <a:pt x="3349" y="8907"/>
                </a:moveTo>
                <a:lnTo>
                  <a:pt x="2617" y="9762"/>
                </a:lnTo>
                <a:lnTo>
                  <a:pt x="3349" y="10614"/>
                </a:lnTo>
                <a:lnTo>
                  <a:pt x="4085" y="9762"/>
                </a:lnTo>
                <a:lnTo>
                  <a:pt x="3349" y="8907"/>
                </a:lnTo>
                <a:close/>
                <a:moveTo>
                  <a:pt x="12799" y="9032"/>
                </a:moveTo>
                <a:lnTo>
                  <a:pt x="12066" y="9887"/>
                </a:lnTo>
                <a:lnTo>
                  <a:pt x="12799" y="10739"/>
                </a:lnTo>
                <a:lnTo>
                  <a:pt x="13537" y="9887"/>
                </a:lnTo>
                <a:lnTo>
                  <a:pt x="12799" y="9032"/>
                </a:lnTo>
                <a:close/>
                <a:moveTo>
                  <a:pt x="8007" y="10611"/>
                </a:moveTo>
                <a:lnTo>
                  <a:pt x="7272" y="11470"/>
                </a:lnTo>
                <a:lnTo>
                  <a:pt x="8007" y="12322"/>
                </a:lnTo>
                <a:lnTo>
                  <a:pt x="8743" y="11470"/>
                </a:lnTo>
                <a:lnTo>
                  <a:pt x="8007" y="10611"/>
                </a:lnTo>
                <a:close/>
                <a:moveTo>
                  <a:pt x="3450" y="13542"/>
                </a:moveTo>
                <a:lnTo>
                  <a:pt x="4511" y="13542"/>
                </a:lnTo>
                <a:lnTo>
                  <a:pt x="4511" y="18021"/>
                </a:lnTo>
                <a:lnTo>
                  <a:pt x="3467" y="15227"/>
                </a:lnTo>
                <a:cubicBezTo>
                  <a:pt x="3465" y="15056"/>
                  <a:pt x="3461" y="14886"/>
                  <a:pt x="3460" y="14716"/>
                </a:cubicBezTo>
                <a:cubicBezTo>
                  <a:pt x="3457" y="14322"/>
                  <a:pt x="3453" y="13935"/>
                  <a:pt x="3450" y="13542"/>
                </a:cubicBezTo>
                <a:close/>
                <a:moveTo>
                  <a:pt x="5504" y="13542"/>
                </a:moveTo>
                <a:lnTo>
                  <a:pt x="6643" y="13542"/>
                </a:lnTo>
                <a:lnTo>
                  <a:pt x="6643" y="20059"/>
                </a:lnTo>
                <a:lnTo>
                  <a:pt x="5576" y="20066"/>
                </a:lnTo>
                <a:lnTo>
                  <a:pt x="5504" y="13542"/>
                </a:lnTo>
                <a:close/>
                <a:moveTo>
                  <a:pt x="7636" y="13542"/>
                </a:moveTo>
                <a:lnTo>
                  <a:pt x="8723" y="13542"/>
                </a:lnTo>
                <a:lnTo>
                  <a:pt x="8723" y="20047"/>
                </a:lnTo>
                <a:lnTo>
                  <a:pt x="7636" y="20059"/>
                </a:lnTo>
                <a:lnTo>
                  <a:pt x="7636" y="13542"/>
                </a:lnTo>
                <a:close/>
                <a:moveTo>
                  <a:pt x="9719" y="13542"/>
                </a:moveTo>
                <a:lnTo>
                  <a:pt x="10787" y="13542"/>
                </a:lnTo>
                <a:lnTo>
                  <a:pt x="10787" y="20040"/>
                </a:lnTo>
                <a:lnTo>
                  <a:pt x="9719" y="20047"/>
                </a:lnTo>
                <a:lnTo>
                  <a:pt x="9719" y="13542"/>
                </a:lnTo>
                <a:close/>
                <a:moveTo>
                  <a:pt x="11718" y="13542"/>
                </a:moveTo>
                <a:lnTo>
                  <a:pt x="12857" y="13542"/>
                </a:lnTo>
                <a:lnTo>
                  <a:pt x="12799" y="20028"/>
                </a:lnTo>
                <a:lnTo>
                  <a:pt x="11718" y="20040"/>
                </a:lnTo>
                <a:lnTo>
                  <a:pt x="11718" y="13542"/>
                </a:lnTo>
                <a:close/>
                <a:moveTo>
                  <a:pt x="13850" y="13542"/>
                </a:moveTo>
                <a:lnTo>
                  <a:pt x="14911" y="13542"/>
                </a:lnTo>
                <a:cubicBezTo>
                  <a:pt x="14908" y="13935"/>
                  <a:pt x="14907" y="14322"/>
                  <a:pt x="14905" y="14716"/>
                </a:cubicBezTo>
                <a:cubicBezTo>
                  <a:pt x="14904" y="14729"/>
                  <a:pt x="14905" y="14744"/>
                  <a:pt x="14905" y="14757"/>
                </a:cubicBezTo>
                <a:lnTo>
                  <a:pt x="13824" y="18317"/>
                </a:lnTo>
                <a:lnTo>
                  <a:pt x="13850" y="13542"/>
                </a:lnTo>
                <a:close/>
              </a:path>
            </a:pathLst>
          </a:custGeom>
          <a:solidFill>
            <a:srgbClr val="d6d6d6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hape"/>
          <p:cNvSpPr/>
          <p:nvPr/>
        </p:nvSpPr>
        <p:spPr>
          <a:xfrm>
            <a:off x="2542320" y="5291280"/>
            <a:ext cx="331920" cy="330840"/>
          </a:xfrm>
          <a:custGeom>
            <a:avLst/>
            <a:gdLst>
              <a:gd name="textAreaLeft" fmla="*/ 0 w 331920"/>
              <a:gd name="textAreaRight" fmla="*/ 332280 w 331920"/>
              <a:gd name="textAreaTop" fmla="*/ 0 h 330840"/>
              <a:gd name="textAreaBottom" fmla="*/ 331200 h 33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59" y="13269"/>
                </a:lnTo>
                <a:lnTo>
                  <a:pt x="4228" y="21600"/>
                </a:lnTo>
                <a:lnTo>
                  <a:pt x="14299" y="21600"/>
                </a:lnTo>
                <a:lnTo>
                  <a:pt x="16844" y="14000"/>
                </a:lnTo>
                <a:lnTo>
                  <a:pt x="19165" y="13629"/>
                </a:lnTo>
                <a:lnTo>
                  <a:pt x="21577" y="10823"/>
                </a:lnTo>
                <a:lnTo>
                  <a:pt x="21600" y="4790"/>
                </a:lnTo>
                <a:lnTo>
                  <a:pt x="19396" y="2227"/>
                </a:lnTo>
                <a:lnTo>
                  <a:pt x="18130" y="2219"/>
                </a:lnTo>
                <a:lnTo>
                  <a:pt x="18355" y="19"/>
                </a:lnTo>
                <a:lnTo>
                  <a:pt x="0" y="0"/>
                </a:lnTo>
                <a:close/>
                <a:moveTo>
                  <a:pt x="17971" y="3798"/>
                </a:moveTo>
                <a:lnTo>
                  <a:pt x="19107" y="3828"/>
                </a:lnTo>
                <a:lnTo>
                  <a:pt x="20477" y="5423"/>
                </a:lnTo>
                <a:lnTo>
                  <a:pt x="20477" y="10190"/>
                </a:lnTo>
                <a:lnTo>
                  <a:pt x="18736" y="12216"/>
                </a:lnTo>
                <a:lnTo>
                  <a:pt x="17082" y="12489"/>
                </a:lnTo>
                <a:lnTo>
                  <a:pt x="17971" y="3798"/>
                </a:lnTo>
                <a:close/>
                <a:moveTo>
                  <a:pt x="2985" y="4203"/>
                </a:moveTo>
                <a:lnTo>
                  <a:pt x="4092" y="4203"/>
                </a:lnTo>
                <a:lnTo>
                  <a:pt x="6637" y="7165"/>
                </a:lnTo>
                <a:lnTo>
                  <a:pt x="7359" y="6320"/>
                </a:lnTo>
                <a:lnTo>
                  <a:pt x="5543" y="4207"/>
                </a:lnTo>
                <a:lnTo>
                  <a:pt x="7109" y="4207"/>
                </a:lnTo>
                <a:lnTo>
                  <a:pt x="7080" y="4237"/>
                </a:lnTo>
                <a:lnTo>
                  <a:pt x="8007" y="5317"/>
                </a:lnTo>
                <a:lnTo>
                  <a:pt x="8928" y="4237"/>
                </a:lnTo>
                <a:lnTo>
                  <a:pt x="8902" y="4207"/>
                </a:lnTo>
                <a:lnTo>
                  <a:pt x="10351" y="4211"/>
                </a:lnTo>
                <a:lnTo>
                  <a:pt x="11249" y="5256"/>
                </a:lnTo>
                <a:lnTo>
                  <a:pt x="12151" y="4211"/>
                </a:lnTo>
                <a:lnTo>
                  <a:pt x="13332" y="4211"/>
                </a:lnTo>
                <a:lnTo>
                  <a:pt x="16197" y="7547"/>
                </a:lnTo>
                <a:lnTo>
                  <a:pt x="16200" y="7543"/>
                </a:lnTo>
                <a:lnTo>
                  <a:pt x="16041" y="8926"/>
                </a:lnTo>
                <a:lnTo>
                  <a:pt x="14218" y="6809"/>
                </a:lnTo>
                <a:lnTo>
                  <a:pt x="13492" y="7649"/>
                </a:lnTo>
                <a:lnTo>
                  <a:pt x="15868" y="10414"/>
                </a:lnTo>
                <a:lnTo>
                  <a:pt x="15643" y="12303"/>
                </a:lnTo>
                <a:lnTo>
                  <a:pt x="15624" y="12383"/>
                </a:lnTo>
                <a:lnTo>
                  <a:pt x="14136" y="10652"/>
                </a:lnTo>
                <a:lnTo>
                  <a:pt x="13414" y="11493"/>
                </a:lnTo>
                <a:lnTo>
                  <a:pt x="14188" y="12394"/>
                </a:lnTo>
                <a:lnTo>
                  <a:pt x="11718" y="12394"/>
                </a:lnTo>
                <a:lnTo>
                  <a:pt x="11471" y="12394"/>
                </a:lnTo>
                <a:lnTo>
                  <a:pt x="11978" y="11807"/>
                </a:lnTo>
                <a:lnTo>
                  <a:pt x="9521" y="8952"/>
                </a:lnTo>
                <a:lnTo>
                  <a:pt x="8795" y="9793"/>
                </a:lnTo>
                <a:lnTo>
                  <a:pt x="11031" y="12394"/>
                </a:lnTo>
                <a:lnTo>
                  <a:pt x="10787" y="12394"/>
                </a:lnTo>
                <a:lnTo>
                  <a:pt x="9846" y="12394"/>
                </a:lnTo>
                <a:lnTo>
                  <a:pt x="9472" y="11959"/>
                </a:lnTo>
                <a:lnTo>
                  <a:pt x="9098" y="12394"/>
                </a:lnTo>
                <a:lnTo>
                  <a:pt x="8723" y="12394"/>
                </a:lnTo>
                <a:lnTo>
                  <a:pt x="7636" y="12394"/>
                </a:lnTo>
                <a:lnTo>
                  <a:pt x="6643" y="12394"/>
                </a:lnTo>
                <a:lnTo>
                  <a:pt x="6403" y="12394"/>
                </a:lnTo>
                <a:lnTo>
                  <a:pt x="4905" y="10652"/>
                </a:lnTo>
                <a:lnTo>
                  <a:pt x="4183" y="11493"/>
                </a:lnTo>
                <a:lnTo>
                  <a:pt x="4957" y="12394"/>
                </a:lnTo>
                <a:lnTo>
                  <a:pt x="2637" y="12394"/>
                </a:lnTo>
                <a:lnTo>
                  <a:pt x="3151" y="11796"/>
                </a:lnTo>
                <a:lnTo>
                  <a:pt x="2357" y="10872"/>
                </a:lnTo>
                <a:lnTo>
                  <a:pt x="2174" y="8626"/>
                </a:lnTo>
                <a:lnTo>
                  <a:pt x="2763" y="7941"/>
                </a:lnTo>
                <a:lnTo>
                  <a:pt x="2054" y="7112"/>
                </a:lnTo>
                <a:lnTo>
                  <a:pt x="1920" y="5442"/>
                </a:lnTo>
                <a:lnTo>
                  <a:pt x="2985" y="4203"/>
                </a:lnTo>
                <a:close/>
                <a:moveTo>
                  <a:pt x="14784" y="4215"/>
                </a:moveTo>
                <a:lnTo>
                  <a:pt x="16587" y="4215"/>
                </a:lnTo>
                <a:lnTo>
                  <a:pt x="16373" y="6063"/>
                </a:lnTo>
                <a:lnTo>
                  <a:pt x="14784" y="4215"/>
                </a:lnTo>
                <a:close/>
                <a:moveTo>
                  <a:pt x="3349" y="5264"/>
                </a:moveTo>
                <a:lnTo>
                  <a:pt x="2617" y="6119"/>
                </a:lnTo>
                <a:lnTo>
                  <a:pt x="3349" y="6975"/>
                </a:lnTo>
                <a:lnTo>
                  <a:pt x="4085" y="6119"/>
                </a:lnTo>
                <a:lnTo>
                  <a:pt x="3349" y="5264"/>
                </a:lnTo>
                <a:close/>
                <a:moveTo>
                  <a:pt x="12890" y="5264"/>
                </a:moveTo>
                <a:lnTo>
                  <a:pt x="12157" y="6119"/>
                </a:lnTo>
                <a:lnTo>
                  <a:pt x="12890" y="6975"/>
                </a:lnTo>
                <a:lnTo>
                  <a:pt x="13625" y="6119"/>
                </a:lnTo>
                <a:lnTo>
                  <a:pt x="12890" y="5264"/>
                </a:lnTo>
                <a:close/>
                <a:moveTo>
                  <a:pt x="9521" y="5358"/>
                </a:moveTo>
                <a:lnTo>
                  <a:pt x="8795" y="6199"/>
                </a:lnTo>
                <a:lnTo>
                  <a:pt x="11249" y="9058"/>
                </a:lnTo>
                <a:lnTo>
                  <a:pt x="11978" y="8214"/>
                </a:lnTo>
                <a:lnTo>
                  <a:pt x="9521" y="5358"/>
                </a:lnTo>
                <a:close/>
                <a:moveTo>
                  <a:pt x="4905" y="7059"/>
                </a:moveTo>
                <a:lnTo>
                  <a:pt x="4183" y="7899"/>
                </a:lnTo>
                <a:lnTo>
                  <a:pt x="6637" y="10758"/>
                </a:lnTo>
                <a:lnTo>
                  <a:pt x="7359" y="9914"/>
                </a:lnTo>
                <a:lnTo>
                  <a:pt x="4905" y="7059"/>
                </a:lnTo>
                <a:close/>
                <a:moveTo>
                  <a:pt x="8007" y="7085"/>
                </a:moveTo>
                <a:lnTo>
                  <a:pt x="7272" y="7941"/>
                </a:lnTo>
                <a:lnTo>
                  <a:pt x="8007" y="8793"/>
                </a:lnTo>
                <a:lnTo>
                  <a:pt x="8743" y="7941"/>
                </a:lnTo>
                <a:lnTo>
                  <a:pt x="8007" y="7085"/>
                </a:lnTo>
                <a:close/>
                <a:moveTo>
                  <a:pt x="3349" y="8907"/>
                </a:moveTo>
                <a:lnTo>
                  <a:pt x="2617" y="9762"/>
                </a:lnTo>
                <a:lnTo>
                  <a:pt x="3349" y="10614"/>
                </a:lnTo>
                <a:lnTo>
                  <a:pt x="4085" y="9762"/>
                </a:lnTo>
                <a:lnTo>
                  <a:pt x="3349" y="8907"/>
                </a:lnTo>
                <a:close/>
                <a:moveTo>
                  <a:pt x="12799" y="9032"/>
                </a:moveTo>
                <a:lnTo>
                  <a:pt x="12066" y="9887"/>
                </a:lnTo>
                <a:lnTo>
                  <a:pt x="12799" y="10739"/>
                </a:lnTo>
                <a:lnTo>
                  <a:pt x="13537" y="9887"/>
                </a:lnTo>
                <a:lnTo>
                  <a:pt x="12799" y="9032"/>
                </a:lnTo>
                <a:close/>
                <a:moveTo>
                  <a:pt x="8007" y="10611"/>
                </a:moveTo>
                <a:lnTo>
                  <a:pt x="7272" y="11470"/>
                </a:lnTo>
                <a:lnTo>
                  <a:pt x="8007" y="12322"/>
                </a:lnTo>
                <a:lnTo>
                  <a:pt x="8743" y="11470"/>
                </a:lnTo>
                <a:lnTo>
                  <a:pt x="8007" y="10611"/>
                </a:lnTo>
                <a:close/>
                <a:moveTo>
                  <a:pt x="3450" y="13542"/>
                </a:moveTo>
                <a:lnTo>
                  <a:pt x="4511" y="13542"/>
                </a:lnTo>
                <a:lnTo>
                  <a:pt x="4511" y="18021"/>
                </a:lnTo>
                <a:lnTo>
                  <a:pt x="3467" y="15227"/>
                </a:lnTo>
                <a:cubicBezTo>
                  <a:pt x="3465" y="15056"/>
                  <a:pt x="3461" y="14886"/>
                  <a:pt x="3460" y="14716"/>
                </a:cubicBezTo>
                <a:cubicBezTo>
                  <a:pt x="3457" y="14322"/>
                  <a:pt x="3453" y="13935"/>
                  <a:pt x="3450" y="13542"/>
                </a:cubicBezTo>
                <a:close/>
                <a:moveTo>
                  <a:pt x="5504" y="13542"/>
                </a:moveTo>
                <a:lnTo>
                  <a:pt x="6643" y="13542"/>
                </a:lnTo>
                <a:lnTo>
                  <a:pt x="6643" y="20059"/>
                </a:lnTo>
                <a:lnTo>
                  <a:pt x="5576" y="20066"/>
                </a:lnTo>
                <a:lnTo>
                  <a:pt x="5504" y="13542"/>
                </a:lnTo>
                <a:close/>
                <a:moveTo>
                  <a:pt x="7636" y="13542"/>
                </a:moveTo>
                <a:lnTo>
                  <a:pt x="8723" y="13542"/>
                </a:lnTo>
                <a:lnTo>
                  <a:pt x="8723" y="20047"/>
                </a:lnTo>
                <a:lnTo>
                  <a:pt x="7636" y="20059"/>
                </a:lnTo>
                <a:lnTo>
                  <a:pt x="7636" y="13542"/>
                </a:lnTo>
                <a:close/>
                <a:moveTo>
                  <a:pt x="9719" y="13542"/>
                </a:moveTo>
                <a:lnTo>
                  <a:pt x="10787" y="13542"/>
                </a:lnTo>
                <a:lnTo>
                  <a:pt x="10787" y="20040"/>
                </a:lnTo>
                <a:lnTo>
                  <a:pt x="9719" y="20047"/>
                </a:lnTo>
                <a:lnTo>
                  <a:pt x="9719" y="13542"/>
                </a:lnTo>
                <a:close/>
                <a:moveTo>
                  <a:pt x="11718" y="13542"/>
                </a:moveTo>
                <a:lnTo>
                  <a:pt x="12857" y="13542"/>
                </a:lnTo>
                <a:lnTo>
                  <a:pt x="12799" y="20028"/>
                </a:lnTo>
                <a:lnTo>
                  <a:pt x="11718" y="20040"/>
                </a:lnTo>
                <a:lnTo>
                  <a:pt x="11718" y="13542"/>
                </a:lnTo>
                <a:close/>
                <a:moveTo>
                  <a:pt x="13850" y="13542"/>
                </a:moveTo>
                <a:lnTo>
                  <a:pt x="14911" y="13542"/>
                </a:lnTo>
                <a:cubicBezTo>
                  <a:pt x="14908" y="13935"/>
                  <a:pt x="14907" y="14322"/>
                  <a:pt x="14905" y="14716"/>
                </a:cubicBezTo>
                <a:cubicBezTo>
                  <a:pt x="14904" y="14729"/>
                  <a:pt x="14905" y="14744"/>
                  <a:pt x="14905" y="14757"/>
                </a:cubicBezTo>
                <a:lnTo>
                  <a:pt x="13824" y="18317"/>
                </a:lnTo>
                <a:lnTo>
                  <a:pt x="13850" y="13542"/>
                </a:lnTo>
                <a:close/>
              </a:path>
            </a:pathLst>
          </a:custGeom>
          <a:solidFill>
            <a:srgbClr val="d6d6d6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hape"/>
          <p:cNvSpPr/>
          <p:nvPr/>
        </p:nvSpPr>
        <p:spPr>
          <a:xfrm>
            <a:off x="511920" y="5740200"/>
            <a:ext cx="331920" cy="330840"/>
          </a:xfrm>
          <a:custGeom>
            <a:avLst/>
            <a:gdLst>
              <a:gd name="textAreaLeft" fmla="*/ 0 w 331920"/>
              <a:gd name="textAreaRight" fmla="*/ 332280 w 331920"/>
              <a:gd name="textAreaTop" fmla="*/ 0 h 330840"/>
              <a:gd name="textAreaBottom" fmla="*/ 331200 h 33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59" y="13269"/>
                </a:lnTo>
                <a:lnTo>
                  <a:pt x="4228" y="21600"/>
                </a:lnTo>
                <a:lnTo>
                  <a:pt x="14299" y="21600"/>
                </a:lnTo>
                <a:lnTo>
                  <a:pt x="16844" y="14000"/>
                </a:lnTo>
                <a:lnTo>
                  <a:pt x="19165" y="13629"/>
                </a:lnTo>
                <a:lnTo>
                  <a:pt x="21577" y="10823"/>
                </a:lnTo>
                <a:lnTo>
                  <a:pt x="21600" y="4790"/>
                </a:lnTo>
                <a:lnTo>
                  <a:pt x="19396" y="2227"/>
                </a:lnTo>
                <a:lnTo>
                  <a:pt x="18130" y="2219"/>
                </a:lnTo>
                <a:lnTo>
                  <a:pt x="18355" y="19"/>
                </a:lnTo>
                <a:lnTo>
                  <a:pt x="0" y="0"/>
                </a:lnTo>
                <a:close/>
                <a:moveTo>
                  <a:pt x="17971" y="3798"/>
                </a:moveTo>
                <a:lnTo>
                  <a:pt x="19107" y="3828"/>
                </a:lnTo>
                <a:lnTo>
                  <a:pt x="20477" y="5423"/>
                </a:lnTo>
                <a:lnTo>
                  <a:pt x="20477" y="10190"/>
                </a:lnTo>
                <a:lnTo>
                  <a:pt x="18736" y="12216"/>
                </a:lnTo>
                <a:lnTo>
                  <a:pt x="17082" y="12489"/>
                </a:lnTo>
                <a:lnTo>
                  <a:pt x="17971" y="3798"/>
                </a:lnTo>
                <a:close/>
                <a:moveTo>
                  <a:pt x="2985" y="4203"/>
                </a:moveTo>
                <a:lnTo>
                  <a:pt x="4092" y="4203"/>
                </a:lnTo>
                <a:lnTo>
                  <a:pt x="6637" y="7165"/>
                </a:lnTo>
                <a:lnTo>
                  <a:pt x="7359" y="6320"/>
                </a:lnTo>
                <a:lnTo>
                  <a:pt x="5543" y="4207"/>
                </a:lnTo>
                <a:lnTo>
                  <a:pt x="7109" y="4207"/>
                </a:lnTo>
                <a:lnTo>
                  <a:pt x="7080" y="4237"/>
                </a:lnTo>
                <a:lnTo>
                  <a:pt x="8007" y="5317"/>
                </a:lnTo>
                <a:lnTo>
                  <a:pt x="8928" y="4237"/>
                </a:lnTo>
                <a:lnTo>
                  <a:pt x="8902" y="4207"/>
                </a:lnTo>
                <a:lnTo>
                  <a:pt x="10351" y="4211"/>
                </a:lnTo>
                <a:lnTo>
                  <a:pt x="11249" y="5256"/>
                </a:lnTo>
                <a:lnTo>
                  <a:pt x="12151" y="4211"/>
                </a:lnTo>
                <a:lnTo>
                  <a:pt x="13332" y="4211"/>
                </a:lnTo>
                <a:lnTo>
                  <a:pt x="16197" y="7547"/>
                </a:lnTo>
                <a:lnTo>
                  <a:pt x="16200" y="7543"/>
                </a:lnTo>
                <a:lnTo>
                  <a:pt x="16041" y="8926"/>
                </a:lnTo>
                <a:lnTo>
                  <a:pt x="14218" y="6809"/>
                </a:lnTo>
                <a:lnTo>
                  <a:pt x="13492" y="7649"/>
                </a:lnTo>
                <a:lnTo>
                  <a:pt x="15868" y="10414"/>
                </a:lnTo>
                <a:lnTo>
                  <a:pt x="15643" y="12303"/>
                </a:lnTo>
                <a:lnTo>
                  <a:pt x="15624" y="12383"/>
                </a:lnTo>
                <a:lnTo>
                  <a:pt x="14136" y="10652"/>
                </a:lnTo>
                <a:lnTo>
                  <a:pt x="13414" y="11493"/>
                </a:lnTo>
                <a:lnTo>
                  <a:pt x="14188" y="12394"/>
                </a:lnTo>
                <a:lnTo>
                  <a:pt x="11718" y="12394"/>
                </a:lnTo>
                <a:lnTo>
                  <a:pt x="11471" y="12394"/>
                </a:lnTo>
                <a:lnTo>
                  <a:pt x="11978" y="11807"/>
                </a:lnTo>
                <a:lnTo>
                  <a:pt x="9521" y="8952"/>
                </a:lnTo>
                <a:lnTo>
                  <a:pt x="8795" y="9793"/>
                </a:lnTo>
                <a:lnTo>
                  <a:pt x="11031" y="12394"/>
                </a:lnTo>
                <a:lnTo>
                  <a:pt x="10787" y="12394"/>
                </a:lnTo>
                <a:lnTo>
                  <a:pt x="9846" y="12394"/>
                </a:lnTo>
                <a:lnTo>
                  <a:pt x="9472" y="11959"/>
                </a:lnTo>
                <a:lnTo>
                  <a:pt x="9098" y="12394"/>
                </a:lnTo>
                <a:lnTo>
                  <a:pt x="8723" y="12394"/>
                </a:lnTo>
                <a:lnTo>
                  <a:pt x="7636" y="12394"/>
                </a:lnTo>
                <a:lnTo>
                  <a:pt x="6643" y="12394"/>
                </a:lnTo>
                <a:lnTo>
                  <a:pt x="6403" y="12394"/>
                </a:lnTo>
                <a:lnTo>
                  <a:pt x="4905" y="10652"/>
                </a:lnTo>
                <a:lnTo>
                  <a:pt x="4183" y="11493"/>
                </a:lnTo>
                <a:lnTo>
                  <a:pt x="4957" y="12394"/>
                </a:lnTo>
                <a:lnTo>
                  <a:pt x="2637" y="12394"/>
                </a:lnTo>
                <a:lnTo>
                  <a:pt x="3151" y="11796"/>
                </a:lnTo>
                <a:lnTo>
                  <a:pt x="2357" y="10872"/>
                </a:lnTo>
                <a:lnTo>
                  <a:pt x="2174" y="8626"/>
                </a:lnTo>
                <a:lnTo>
                  <a:pt x="2763" y="7941"/>
                </a:lnTo>
                <a:lnTo>
                  <a:pt x="2054" y="7112"/>
                </a:lnTo>
                <a:lnTo>
                  <a:pt x="1920" y="5442"/>
                </a:lnTo>
                <a:lnTo>
                  <a:pt x="2985" y="4203"/>
                </a:lnTo>
                <a:close/>
                <a:moveTo>
                  <a:pt x="14784" y="4215"/>
                </a:moveTo>
                <a:lnTo>
                  <a:pt x="16587" y="4215"/>
                </a:lnTo>
                <a:lnTo>
                  <a:pt x="16373" y="6063"/>
                </a:lnTo>
                <a:lnTo>
                  <a:pt x="14784" y="4215"/>
                </a:lnTo>
                <a:close/>
                <a:moveTo>
                  <a:pt x="3349" y="5264"/>
                </a:moveTo>
                <a:lnTo>
                  <a:pt x="2617" y="6119"/>
                </a:lnTo>
                <a:lnTo>
                  <a:pt x="3349" y="6975"/>
                </a:lnTo>
                <a:lnTo>
                  <a:pt x="4085" y="6119"/>
                </a:lnTo>
                <a:lnTo>
                  <a:pt x="3349" y="5264"/>
                </a:lnTo>
                <a:close/>
                <a:moveTo>
                  <a:pt x="12890" y="5264"/>
                </a:moveTo>
                <a:lnTo>
                  <a:pt x="12157" y="6119"/>
                </a:lnTo>
                <a:lnTo>
                  <a:pt x="12890" y="6975"/>
                </a:lnTo>
                <a:lnTo>
                  <a:pt x="13625" y="6119"/>
                </a:lnTo>
                <a:lnTo>
                  <a:pt x="12890" y="5264"/>
                </a:lnTo>
                <a:close/>
                <a:moveTo>
                  <a:pt x="9521" y="5358"/>
                </a:moveTo>
                <a:lnTo>
                  <a:pt x="8795" y="6199"/>
                </a:lnTo>
                <a:lnTo>
                  <a:pt x="11249" y="9058"/>
                </a:lnTo>
                <a:lnTo>
                  <a:pt x="11978" y="8214"/>
                </a:lnTo>
                <a:lnTo>
                  <a:pt x="9521" y="5358"/>
                </a:lnTo>
                <a:close/>
                <a:moveTo>
                  <a:pt x="4905" y="7059"/>
                </a:moveTo>
                <a:lnTo>
                  <a:pt x="4183" y="7899"/>
                </a:lnTo>
                <a:lnTo>
                  <a:pt x="6637" y="10758"/>
                </a:lnTo>
                <a:lnTo>
                  <a:pt x="7359" y="9914"/>
                </a:lnTo>
                <a:lnTo>
                  <a:pt x="4905" y="7059"/>
                </a:lnTo>
                <a:close/>
                <a:moveTo>
                  <a:pt x="8007" y="7085"/>
                </a:moveTo>
                <a:lnTo>
                  <a:pt x="7272" y="7941"/>
                </a:lnTo>
                <a:lnTo>
                  <a:pt x="8007" y="8793"/>
                </a:lnTo>
                <a:lnTo>
                  <a:pt x="8743" y="7941"/>
                </a:lnTo>
                <a:lnTo>
                  <a:pt x="8007" y="7085"/>
                </a:lnTo>
                <a:close/>
                <a:moveTo>
                  <a:pt x="3349" y="8907"/>
                </a:moveTo>
                <a:lnTo>
                  <a:pt x="2617" y="9762"/>
                </a:lnTo>
                <a:lnTo>
                  <a:pt x="3349" y="10614"/>
                </a:lnTo>
                <a:lnTo>
                  <a:pt x="4085" y="9762"/>
                </a:lnTo>
                <a:lnTo>
                  <a:pt x="3349" y="8907"/>
                </a:lnTo>
                <a:close/>
                <a:moveTo>
                  <a:pt x="12799" y="9032"/>
                </a:moveTo>
                <a:lnTo>
                  <a:pt x="12066" y="9887"/>
                </a:lnTo>
                <a:lnTo>
                  <a:pt x="12799" y="10739"/>
                </a:lnTo>
                <a:lnTo>
                  <a:pt x="13537" y="9887"/>
                </a:lnTo>
                <a:lnTo>
                  <a:pt x="12799" y="9032"/>
                </a:lnTo>
                <a:close/>
                <a:moveTo>
                  <a:pt x="8007" y="10611"/>
                </a:moveTo>
                <a:lnTo>
                  <a:pt x="7272" y="11470"/>
                </a:lnTo>
                <a:lnTo>
                  <a:pt x="8007" y="12322"/>
                </a:lnTo>
                <a:lnTo>
                  <a:pt x="8743" y="11470"/>
                </a:lnTo>
                <a:lnTo>
                  <a:pt x="8007" y="10611"/>
                </a:lnTo>
                <a:close/>
                <a:moveTo>
                  <a:pt x="3450" y="13542"/>
                </a:moveTo>
                <a:lnTo>
                  <a:pt x="4511" y="13542"/>
                </a:lnTo>
                <a:lnTo>
                  <a:pt x="4511" y="18021"/>
                </a:lnTo>
                <a:lnTo>
                  <a:pt x="3467" y="15227"/>
                </a:lnTo>
                <a:cubicBezTo>
                  <a:pt x="3465" y="15056"/>
                  <a:pt x="3461" y="14886"/>
                  <a:pt x="3460" y="14716"/>
                </a:cubicBezTo>
                <a:cubicBezTo>
                  <a:pt x="3457" y="14322"/>
                  <a:pt x="3453" y="13935"/>
                  <a:pt x="3450" y="13542"/>
                </a:cubicBezTo>
                <a:close/>
                <a:moveTo>
                  <a:pt x="5504" y="13542"/>
                </a:moveTo>
                <a:lnTo>
                  <a:pt x="6643" y="13542"/>
                </a:lnTo>
                <a:lnTo>
                  <a:pt x="6643" y="20059"/>
                </a:lnTo>
                <a:lnTo>
                  <a:pt x="5576" y="20066"/>
                </a:lnTo>
                <a:lnTo>
                  <a:pt x="5504" y="13542"/>
                </a:lnTo>
                <a:close/>
                <a:moveTo>
                  <a:pt x="7636" y="13542"/>
                </a:moveTo>
                <a:lnTo>
                  <a:pt x="8723" y="13542"/>
                </a:lnTo>
                <a:lnTo>
                  <a:pt x="8723" y="20047"/>
                </a:lnTo>
                <a:lnTo>
                  <a:pt x="7636" y="20059"/>
                </a:lnTo>
                <a:lnTo>
                  <a:pt x="7636" y="13542"/>
                </a:lnTo>
                <a:close/>
                <a:moveTo>
                  <a:pt x="9719" y="13542"/>
                </a:moveTo>
                <a:lnTo>
                  <a:pt x="10787" y="13542"/>
                </a:lnTo>
                <a:lnTo>
                  <a:pt x="10787" y="20040"/>
                </a:lnTo>
                <a:lnTo>
                  <a:pt x="9719" y="20047"/>
                </a:lnTo>
                <a:lnTo>
                  <a:pt x="9719" y="13542"/>
                </a:lnTo>
                <a:close/>
                <a:moveTo>
                  <a:pt x="11718" y="13542"/>
                </a:moveTo>
                <a:lnTo>
                  <a:pt x="12857" y="13542"/>
                </a:lnTo>
                <a:lnTo>
                  <a:pt x="12799" y="20028"/>
                </a:lnTo>
                <a:lnTo>
                  <a:pt x="11718" y="20040"/>
                </a:lnTo>
                <a:lnTo>
                  <a:pt x="11718" y="13542"/>
                </a:lnTo>
                <a:close/>
                <a:moveTo>
                  <a:pt x="13850" y="13542"/>
                </a:moveTo>
                <a:lnTo>
                  <a:pt x="14911" y="13542"/>
                </a:lnTo>
                <a:cubicBezTo>
                  <a:pt x="14908" y="13935"/>
                  <a:pt x="14907" y="14322"/>
                  <a:pt x="14905" y="14716"/>
                </a:cubicBezTo>
                <a:cubicBezTo>
                  <a:pt x="14904" y="14729"/>
                  <a:pt x="14905" y="14744"/>
                  <a:pt x="14905" y="14757"/>
                </a:cubicBezTo>
                <a:lnTo>
                  <a:pt x="13824" y="18317"/>
                </a:lnTo>
                <a:lnTo>
                  <a:pt x="13850" y="13542"/>
                </a:lnTo>
                <a:close/>
              </a:path>
            </a:pathLst>
          </a:custGeom>
          <a:solidFill>
            <a:srgbClr val="d6d6d6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hape"/>
          <p:cNvSpPr/>
          <p:nvPr/>
        </p:nvSpPr>
        <p:spPr>
          <a:xfrm>
            <a:off x="918000" y="5740200"/>
            <a:ext cx="331920" cy="330840"/>
          </a:xfrm>
          <a:custGeom>
            <a:avLst/>
            <a:gdLst>
              <a:gd name="textAreaLeft" fmla="*/ 0 w 331920"/>
              <a:gd name="textAreaRight" fmla="*/ 332280 w 331920"/>
              <a:gd name="textAreaTop" fmla="*/ 0 h 330840"/>
              <a:gd name="textAreaBottom" fmla="*/ 331200 h 33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59" y="13269"/>
                </a:lnTo>
                <a:lnTo>
                  <a:pt x="4228" y="21600"/>
                </a:lnTo>
                <a:lnTo>
                  <a:pt x="14299" y="21600"/>
                </a:lnTo>
                <a:lnTo>
                  <a:pt x="16844" y="14000"/>
                </a:lnTo>
                <a:lnTo>
                  <a:pt x="19165" y="13629"/>
                </a:lnTo>
                <a:lnTo>
                  <a:pt x="21577" y="10823"/>
                </a:lnTo>
                <a:lnTo>
                  <a:pt x="21600" y="4790"/>
                </a:lnTo>
                <a:lnTo>
                  <a:pt x="19396" y="2227"/>
                </a:lnTo>
                <a:lnTo>
                  <a:pt x="18130" y="2219"/>
                </a:lnTo>
                <a:lnTo>
                  <a:pt x="18355" y="19"/>
                </a:lnTo>
                <a:lnTo>
                  <a:pt x="0" y="0"/>
                </a:lnTo>
                <a:close/>
                <a:moveTo>
                  <a:pt x="17971" y="3798"/>
                </a:moveTo>
                <a:lnTo>
                  <a:pt x="19107" y="3828"/>
                </a:lnTo>
                <a:lnTo>
                  <a:pt x="20477" y="5423"/>
                </a:lnTo>
                <a:lnTo>
                  <a:pt x="20477" y="10190"/>
                </a:lnTo>
                <a:lnTo>
                  <a:pt x="18736" y="12216"/>
                </a:lnTo>
                <a:lnTo>
                  <a:pt x="17082" y="12489"/>
                </a:lnTo>
                <a:lnTo>
                  <a:pt x="17971" y="3798"/>
                </a:lnTo>
                <a:close/>
                <a:moveTo>
                  <a:pt x="2985" y="4203"/>
                </a:moveTo>
                <a:lnTo>
                  <a:pt x="4092" y="4203"/>
                </a:lnTo>
                <a:lnTo>
                  <a:pt x="6637" y="7165"/>
                </a:lnTo>
                <a:lnTo>
                  <a:pt x="7359" y="6320"/>
                </a:lnTo>
                <a:lnTo>
                  <a:pt x="5543" y="4207"/>
                </a:lnTo>
                <a:lnTo>
                  <a:pt x="7109" y="4207"/>
                </a:lnTo>
                <a:lnTo>
                  <a:pt x="7080" y="4237"/>
                </a:lnTo>
                <a:lnTo>
                  <a:pt x="8007" y="5317"/>
                </a:lnTo>
                <a:lnTo>
                  <a:pt x="8928" y="4237"/>
                </a:lnTo>
                <a:lnTo>
                  <a:pt x="8902" y="4207"/>
                </a:lnTo>
                <a:lnTo>
                  <a:pt x="10351" y="4211"/>
                </a:lnTo>
                <a:lnTo>
                  <a:pt x="11249" y="5256"/>
                </a:lnTo>
                <a:lnTo>
                  <a:pt x="12151" y="4211"/>
                </a:lnTo>
                <a:lnTo>
                  <a:pt x="13332" y="4211"/>
                </a:lnTo>
                <a:lnTo>
                  <a:pt x="16197" y="7547"/>
                </a:lnTo>
                <a:lnTo>
                  <a:pt x="16200" y="7543"/>
                </a:lnTo>
                <a:lnTo>
                  <a:pt x="16041" y="8926"/>
                </a:lnTo>
                <a:lnTo>
                  <a:pt x="14218" y="6809"/>
                </a:lnTo>
                <a:lnTo>
                  <a:pt x="13492" y="7649"/>
                </a:lnTo>
                <a:lnTo>
                  <a:pt x="15868" y="10414"/>
                </a:lnTo>
                <a:lnTo>
                  <a:pt x="15643" y="12303"/>
                </a:lnTo>
                <a:lnTo>
                  <a:pt x="15624" y="12383"/>
                </a:lnTo>
                <a:lnTo>
                  <a:pt x="14136" y="10652"/>
                </a:lnTo>
                <a:lnTo>
                  <a:pt x="13414" y="11493"/>
                </a:lnTo>
                <a:lnTo>
                  <a:pt x="14188" y="12394"/>
                </a:lnTo>
                <a:lnTo>
                  <a:pt x="11718" y="12394"/>
                </a:lnTo>
                <a:lnTo>
                  <a:pt x="11471" y="12394"/>
                </a:lnTo>
                <a:lnTo>
                  <a:pt x="11978" y="11807"/>
                </a:lnTo>
                <a:lnTo>
                  <a:pt x="9521" y="8952"/>
                </a:lnTo>
                <a:lnTo>
                  <a:pt x="8795" y="9793"/>
                </a:lnTo>
                <a:lnTo>
                  <a:pt x="11031" y="12394"/>
                </a:lnTo>
                <a:lnTo>
                  <a:pt x="10787" y="12394"/>
                </a:lnTo>
                <a:lnTo>
                  <a:pt x="9846" y="12394"/>
                </a:lnTo>
                <a:lnTo>
                  <a:pt x="9472" y="11959"/>
                </a:lnTo>
                <a:lnTo>
                  <a:pt x="9098" y="12394"/>
                </a:lnTo>
                <a:lnTo>
                  <a:pt x="8723" y="12394"/>
                </a:lnTo>
                <a:lnTo>
                  <a:pt x="7636" y="12394"/>
                </a:lnTo>
                <a:lnTo>
                  <a:pt x="6643" y="12394"/>
                </a:lnTo>
                <a:lnTo>
                  <a:pt x="6403" y="12394"/>
                </a:lnTo>
                <a:lnTo>
                  <a:pt x="4905" y="10652"/>
                </a:lnTo>
                <a:lnTo>
                  <a:pt x="4183" y="11493"/>
                </a:lnTo>
                <a:lnTo>
                  <a:pt x="4957" y="12394"/>
                </a:lnTo>
                <a:lnTo>
                  <a:pt x="2637" y="12394"/>
                </a:lnTo>
                <a:lnTo>
                  <a:pt x="3151" y="11796"/>
                </a:lnTo>
                <a:lnTo>
                  <a:pt x="2357" y="10872"/>
                </a:lnTo>
                <a:lnTo>
                  <a:pt x="2174" y="8626"/>
                </a:lnTo>
                <a:lnTo>
                  <a:pt x="2763" y="7941"/>
                </a:lnTo>
                <a:lnTo>
                  <a:pt x="2054" y="7112"/>
                </a:lnTo>
                <a:lnTo>
                  <a:pt x="1920" y="5442"/>
                </a:lnTo>
                <a:lnTo>
                  <a:pt x="2985" y="4203"/>
                </a:lnTo>
                <a:close/>
                <a:moveTo>
                  <a:pt x="14784" y="4215"/>
                </a:moveTo>
                <a:lnTo>
                  <a:pt x="16587" y="4215"/>
                </a:lnTo>
                <a:lnTo>
                  <a:pt x="16373" y="6063"/>
                </a:lnTo>
                <a:lnTo>
                  <a:pt x="14784" y="4215"/>
                </a:lnTo>
                <a:close/>
                <a:moveTo>
                  <a:pt x="3349" y="5264"/>
                </a:moveTo>
                <a:lnTo>
                  <a:pt x="2617" y="6119"/>
                </a:lnTo>
                <a:lnTo>
                  <a:pt x="3349" y="6975"/>
                </a:lnTo>
                <a:lnTo>
                  <a:pt x="4085" y="6119"/>
                </a:lnTo>
                <a:lnTo>
                  <a:pt x="3349" y="5264"/>
                </a:lnTo>
                <a:close/>
                <a:moveTo>
                  <a:pt x="12890" y="5264"/>
                </a:moveTo>
                <a:lnTo>
                  <a:pt x="12157" y="6119"/>
                </a:lnTo>
                <a:lnTo>
                  <a:pt x="12890" y="6975"/>
                </a:lnTo>
                <a:lnTo>
                  <a:pt x="13625" y="6119"/>
                </a:lnTo>
                <a:lnTo>
                  <a:pt x="12890" y="5264"/>
                </a:lnTo>
                <a:close/>
                <a:moveTo>
                  <a:pt x="9521" y="5358"/>
                </a:moveTo>
                <a:lnTo>
                  <a:pt x="8795" y="6199"/>
                </a:lnTo>
                <a:lnTo>
                  <a:pt x="11249" y="9058"/>
                </a:lnTo>
                <a:lnTo>
                  <a:pt x="11978" y="8214"/>
                </a:lnTo>
                <a:lnTo>
                  <a:pt x="9521" y="5358"/>
                </a:lnTo>
                <a:close/>
                <a:moveTo>
                  <a:pt x="4905" y="7059"/>
                </a:moveTo>
                <a:lnTo>
                  <a:pt x="4183" y="7899"/>
                </a:lnTo>
                <a:lnTo>
                  <a:pt x="6637" y="10758"/>
                </a:lnTo>
                <a:lnTo>
                  <a:pt x="7359" y="9914"/>
                </a:lnTo>
                <a:lnTo>
                  <a:pt x="4905" y="7059"/>
                </a:lnTo>
                <a:close/>
                <a:moveTo>
                  <a:pt x="8007" y="7085"/>
                </a:moveTo>
                <a:lnTo>
                  <a:pt x="7272" y="7941"/>
                </a:lnTo>
                <a:lnTo>
                  <a:pt x="8007" y="8793"/>
                </a:lnTo>
                <a:lnTo>
                  <a:pt x="8743" y="7941"/>
                </a:lnTo>
                <a:lnTo>
                  <a:pt x="8007" y="7085"/>
                </a:lnTo>
                <a:close/>
                <a:moveTo>
                  <a:pt x="3349" y="8907"/>
                </a:moveTo>
                <a:lnTo>
                  <a:pt x="2617" y="9762"/>
                </a:lnTo>
                <a:lnTo>
                  <a:pt x="3349" y="10614"/>
                </a:lnTo>
                <a:lnTo>
                  <a:pt x="4085" y="9762"/>
                </a:lnTo>
                <a:lnTo>
                  <a:pt x="3349" y="8907"/>
                </a:lnTo>
                <a:close/>
                <a:moveTo>
                  <a:pt x="12799" y="9032"/>
                </a:moveTo>
                <a:lnTo>
                  <a:pt x="12066" y="9887"/>
                </a:lnTo>
                <a:lnTo>
                  <a:pt x="12799" y="10739"/>
                </a:lnTo>
                <a:lnTo>
                  <a:pt x="13537" y="9887"/>
                </a:lnTo>
                <a:lnTo>
                  <a:pt x="12799" y="9032"/>
                </a:lnTo>
                <a:close/>
                <a:moveTo>
                  <a:pt x="8007" y="10611"/>
                </a:moveTo>
                <a:lnTo>
                  <a:pt x="7272" y="11470"/>
                </a:lnTo>
                <a:lnTo>
                  <a:pt x="8007" y="12322"/>
                </a:lnTo>
                <a:lnTo>
                  <a:pt x="8743" y="11470"/>
                </a:lnTo>
                <a:lnTo>
                  <a:pt x="8007" y="10611"/>
                </a:lnTo>
                <a:close/>
                <a:moveTo>
                  <a:pt x="3450" y="13542"/>
                </a:moveTo>
                <a:lnTo>
                  <a:pt x="4511" y="13542"/>
                </a:lnTo>
                <a:lnTo>
                  <a:pt x="4511" y="18021"/>
                </a:lnTo>
                <a:lnTo>
                  <a:pt x="3467" y="15227"/>
                </a:lnTo>
                <a:cubicBezTo>
                  <a:pt x="3465" y="15056"/>
                  <a:pt x="3461" y="14886"/>
                  <a:pt x="3460" y="14716"/>
                </a:cubicBezTo>
                <a:cubicBezTo>
                  <a:pt x="3457" y="14322"/>
                  <a:pt x="3453" y="13935"/>
                  <a:pt x="3450" y="13542"/>
                </a:cubicBezTo>
                <a:close/>
                <a:moveTo>
                  <a:pt x="5504" y="13542"/>
                </a:moveTo>
                <a:lnTo>
                  <a:pt x="6643" y="13542"/>
                </a:lnTo>
                <a:lnTo>
                  <a:pt x="6643" y="20059"/>
                </a:lnTo>
                <a:lnTo>
                  <a:pt x="5576" y="20066"/>
                </a:lnTo>
                <a:lnTo>
                  <a:pt x="5504" y="13542"/>
                </a:lnTo>
                <a:close/>
                <a:moveTo>
                  <a:pt x="7636" y="13542"/>
                </a:moveTo>
                <a:lnTo>
                  <a:pt x="8723" y="13542"/>
                </a:lnTo>
                <a:lnTo>
                  <a:pt x="8723" y="20047"/>
                </a:lnTo>
                <a:lnTo>
                  <a:pt x="7636" y="20059"/>
                </a:lnTo>
                <a:lnTo>
                  <a:pt x="7636" y="13542"/>
                </a:lnTo>
                <a:close/>
                <a:moveTo>
                  <a:pt x="9719" y="13542"/>
                </a:moveTo>
                <a:lnTo>
                  <a:pt x="10787" y="13542"/>
                </a:lnTo>
                <a:lnTo>
                  <a:pt x="10787" y="20040"/>
                </a:lnTo>
                <a:lnTo>
                  <a:pt x="9719" y="20047"/>
                </a:lnTo>
                <a:lnTo>
                  <a:pt x="9719" y="13542"/>
                </a:lnTo>
                <a:close/>
                <a:moveTo>
                  <a:pt x="11718" y="13542"/>
                </a:moveTo>
                <a:lnTo>
                  <a:pt x="12857" y="13542"/>
                </a:lnTo>
                <a:lnTo>
                  <a:pt x="12799" y="20028"/>
                </a:lnTo>
                <a:lnTo>
                  <a:pt x="11718" y="20040"/>
                </a:lnTo>
                <a:lnTo>
                  <a:pt x="11718" y="13542"/>
                </a:lnTo>
                <a:close/>
                <a:moveTo>
                  <a:pt x="13850" y="13542"/>
                </a:moveTo>
                <a:lnTo>
                  <a:pt x="14911" y="13542"/>
                </a:lnTo>
                <a:cubicBezTo>
                  <a:pt x="14908" y="13935"/>
                  <a:pt x="14907" y="14322"/>
                  <a:pt x="14905" y="14716"/>
                </a:cubicBezTo>
                <a:cubicBezTo>
                  <a:pt x="14904" y="14729"/>
                  <a:pt x="14905" y="14744"/>
                  <a:pt x="14905" y="14757"/>
                </a:cubicBezTo>
                <a:lnTo>
                  <a:pt x="13824" y="18317"/>
                </a:lnTo>
                <a:lnTo>
                  <a:pt x="13850" y="13542"/>
                </a:lnTo>
                <a:close/>
              </a:path>
            </a:pathLst>
          </a:custGeom>
          <a:solidFill>
            <a:srgbClr val="d6d6d6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hape"/>
          <p:cNvSpPr/>
          <p:nvPr/>
        </p:nvSpPr>
        <p:spPr>
          <a:xfrm>
            <a:off x="1324080" y="5728320"/>
            <a:ext cx="331920" cy="330840"/>
          </a:xfrm>
          <a:custGeom>
            <a:avLst/>
            <a:gdLst>
              <a:gd name="textAreaLeft" fmla="*/ 0 w 331920"/>
              <a:gd name="textAreaRight" fmla="*/ 332280 w 331920"/>
              <a:gd name="textAreaTop" fmla="*/ 0 h 330840"/>
              <a:gd name="textAreaBottom" fmla="*/ 331200 h 33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59" y="13269"/>
                </a:lnTo>
                <a:lnTo>
                  <a:pt x="4228" y="21600"/>
                </a:lnTo>
                <a:lnTo>
                  <a:pt x="14299" y="21600"/>
                </a:lnTo>
                <a:lnTo>
                  <a:pt x="16844" y="14000"/>
                </a:lnTo>
                <a:lnTo>
                  <a:pt x="19165" y="13629"/>
                </a:lnTo>
                <a:lnTo>
                  <a:pt x="21577" y="10823"/>
                </a:lnTo>
                <a:lnTo>
                  <a:pt x="21600" y="4790"/>
                </a:lnTo>
                <a:lnTo>
                  <a:pt x="19396" y="2227"/>
                </a:lnTo>
                <a:lnTo>
                  <a:pt x="18130" y="2219"/>
                </a:lnTo>
                <a:lnTo>
                  <a:pt x="18355" y="19"/>
                </a:lnTo>
                <a:lnTo>
                  <a:pt x="0" y="0"/>
                </a:lnTo>
                <a:close/>
                <a:moveTo>
                  <a:pt x="17971" y="3798"/>
                </a:moveTo>
                <a:lnTo>
                  <a:pt x="19107" y="3828"/>
                </a:lnTo>
                <a:lnTo>
                  <a:pt x="20477" y="5423"/>
                </a:lnTo>
                <a:lnTo>
                  <a:pt x="20477" y="10190"/>
                </a:lnTo>
                <a:lnTo>
                  <a:pt x="18736" y="12216"/>
                </a:lnTo>
                <a:lnTo>
                  <a:pt x="17082" y="12489"/>
                </a:lnTo>
                <a:lnTo>
                  <a:pt x="17971" y="3798"/>
                </a:lnTo>
                <a:close/>
                <a:moveTo>
                  <a:pt x="2985" y="4203"/>
                </a:moveTo>
                <a:lnTo>
                  <a:pt x="4092" y="4203"/>
                </a:lnTo>
                <a:lnTo>
                  <a:pt x="6637" y="7165"/>
                </a:lnTo>
                <a:lnTo>
                  <a:pt x="7359" y="6320"/>
                </a:lnTo>
                <a:lnTo>
                  <a:pt x="5543" y="4207"/>
                </a:lnTo>
                <a:lnTo>
                  <a:pt x="7109" y="4207"/>
                </a:lnTo>
                <a:lnTo>
                  <a:pt x="7080" y="4237"/>
                </a:lnTo>
                <a:lnTo>
                  <a:pt x="8007" y="5317"/>
                </a:lnTo>
                <a:lnTo>
                  <a:pt x="8928" y="4237"/>
                </a:lnTo>
                <a:lnTo>
                  <a:pt x="8902" y="4207"/>
                </a:lnTo>
                <a:lnTo>
                  <a:pt x="10351" y="4211"/>
                </a:lnTo>
                <a:lnTo>
                  <a:pt x="11249" y="5256"/>
                </a:lnTo>
                <a:lnTo>
                  <a:pt x="12151" y="4211"/>
                </a:lnTo>
                <a:lnTo>
                  <a:pt x="13332" y="4211"/>
                </a:lnTo>
                <a:lnTo>
                  <a:pt x="16197" y="7547"/>
                </a:lnTo>
                <a:lnTo>
                  <a:pt x="16200" y="7543"/>
                </a:lnTo>
                <a:lnTo>
                  <a:pt x="16041" y="8926"/>
                </a:lnTo>
                <a:lnTo>
                  <a:pt x="14218" y="6809"/>
                </a:lnTo>
                <a:lnTo>
                  <a:pt x="13492" y="7649"/>
                </a:lnTo>
                <a:lnTo>
                  <a:pt x="15868" y="10414"/>
                </a:lnTo>
                <a:lnTo>
                  <a:pt x="15643" y="12303"/>
                </a:lnTo>
                <a:lnTo>
                  <a:pt x="15624" y="12383"/>
                </a:lnTo>
                <a:lnTo>
                  <a:pt x="14136" y="10652"/>
                </a:lnTo>
                <a:lnTo>
                  <a:pt x="13414" y="11493"/>
                </a:lnTo>
                <a:lnTo>
                  <a:pt x="14188" y="12394"/>
                </a:lnTo>
                <a:lnTo>
                  <a:pt x="11718" y="12394"/>
                </a:lnTo>
                <a:lnTo>
                  <a:pt x="11471" y="12394"/>
                </a:lnTo>
                <a:lnTo>
                  <a:pt x="11978" y="11807"/>
                </a:lnTo>
                <a:lnTo>
                  <a:pt x="9521" y="8952"/>
                </a:lnTo>
                <a:lnTo>
                  <a:pt x="8795" y="9793"/>
                </a:lnTo>
                <a:lnTo>
                  <a:pt x="11031" y="12394"/>
                </a:lnTo>
                <a:lnTo>
                  <a:pt x="10787" y="12394"/>
                </a:lnTo>
                <a:lnTo>
                  <a:pt x="9846" y="12394"/>
                </a:lnTo>
                <a:lnTo>
                  <a:pt x="9472" y="11959"/>
                </a:lnTo>
                <a:lnTo>
                  <a:pt x="9098" y="12394"/>
                </a:lnTo>
                <a:lnTo>
                  <a:pt x="8723" y="12394"/>
                </a:lnTo>
                <a:lnTo>
                  <a:pt x="7636" y="12394"/>
                </a:lnTo>
                <a:lnTo>
                  <a:pt x="6643" y="12394"/>
                </a:lnTo>
                <a:lnTo>
                  <a:pt x="6403" y="12394"/>
                </a:lnTo>
                <a:lnTo>
                  <a:pt x="4905" y="10652"/>
                </a:lnTo>
                <a:lnTo>
                  <a:pt x="4183" y="11493"/>
                </a:lnTo>
                <a:lnTo>
                  <a:pt x="4957" y="12394"/>
                </a:lnTo>
                <a:lnTo>
                  <a:pt x="2637" y="12394"/>
                </a:lnTo>
                <a:lnTo>
                  <a:pt x="3151" y="11796"/>
                </a:lnTo>
                <a:lnTo>
                  <a:pt x="2357" y="10872"/>
                </a:lnTo>
                <a:lnTo>
                  <a:pt x="2174" y="8626"/>
                </a:lnTo>
                <a:lnTo>
                  <a:pt x="2763" y="7941"/>
                </a:lnTo>
                <a:lnTo>
                  <a:pt x="2054" y="7112"/>
                </a:lnTo>
                <a:lnTo>
                  <a:pt x="1920" y="5442"/>
                </a:lnTo>
                <a:lnTo>
                  <a:pt x="2985" y="4203"/>
                </a:lnTo>
                <a:close/>
                <a:moveTo>
                  <a:pt x="14784" y="4215"/>
                </a:moveTo>
                <a:lnTo>
                  <a:pt x="16587" y="4215"/>
                </a:lnTo>
                <a:lnTo>
                  <a:pt x="16373" y="6063"/>
                </a:lnTo>
                <a:lnTo>
                  <a:pt x="14784" y="4215"/>
                </a:lnTo>
                <a:close/>
                <a:moveTo>
                  <a:pt x="3349" y="5264"/>
                </a:moveTo>
                <a:lnTo>
                  <a:pt x="2617" y="6119"/>
                </a:lnTo>
                <a:lnTo>
                  <a:pt x="3349" y="6975"/>
                </a:lnTo>
                <a:lnTo>
                  <a:pt x="4085" y="6119"/>
                </a:lnTo>
                <a:lnTo>
                  <a:pt x="3349" y="5264"/>
                </a:lnTo>
                <a:close/>
                <a:moveTo>
                  <a:pt x="12890" y="5264"/>
                </a:moveTo>
                <a:lnTo>
                  <a:pt x="12157" y="6119"/>
                </a:lnTo>
                <a:lnTo>
                  <a:pt x="12890" y="6975"/>
                </a:lnTo>
                <a:lnTo>
                  <a:pt x="13625" y="6119"/>
                </a:lnTo>
                <a:lnTo>
                  <a:pt x="12890" y="5264"/>
                </a:lnTo>
                <a:close/>
                <a:moveTo>
                  <a:pt x="9521" y="5358"/>
                </a:moveTo>
                <a:lnTo>
                  <a:pt x="8795" y="6199"/>
                </a:lnTo>
                <a:lnTo>
                  <a:pt x="11249" y="9058"/>
                </a:lnTo>
                <a:lnTo>
                  <a:pt x="11978" y="8214"/>
                </a:lnTo>
                <a:lnTo>
                  <a:pt x="9521" y="5358"/>
                </a:lnTo>
                <a:close/>
                <a:moveTo>
                  <a:pt x="4905" y="7059"/>
                </a:moveTo>
                <a:lnTo>
                  <a:pt x="4183" y="7899"/>
                </a:lnTo>
                <a:lnTo>
                  <a:pt x="6637" y="10758"/>
                </a:lnTo>
                <a:lnTo>
                  <a:pt x="7359" y="9914"/>
                </a:lnTo>
                <a:lnTo>
                  <a:pt x="4905" y="7059"/>
                </a:lnTo>
                <a:close/>
                <a:moveTo>
                  <a:pt x="8007" y="7085"/>
                </a:moveTo>
                <a:lnTo>
                  <a:pt x="7272" y="7941"/>
                </a:lnTo>
                <a:lnTo>
                  <a:pt x="8007" y="8793"/>
                </a:lnTo>
                <a:lnTo>
                  <a:pt x="8743" y="7941"/>
                </a:lnTo>
                <a:lnTo>
                  <a:pt x="8007" y="7085"/>
                </a:lnTo>
                <a:close/>
                <a:moveTo>
                  <a:pt x="3349" y="8907"/>
                </a:moveTo>
                <a:lnTo>
                  <a:pt x="2617" y="9762"/>
                </a:lnTo>
                <a:lnTo>
                  <a:pt x="3349" y="10614"/>
                </a:lnTo>
                <a:lnTo>
                  <a:pt x="4085" y="9762"/>
                </a:lnTo>
                <a:lnTo>
                  <a:pt x="3349" y="8907"/>
                </a:lnTo>
                <a:close/>
                <a:moveTo>
                  <a:pt x="12799" y="9032"/>
                </a:moveTo>
                <a:lnTo>
                  <a:pt x="12066" y="9887"/>
                </a:lnTo>
                <a:lnTo>
                  <a:pt x="12799" y="10739"/>
                </a:lnTo>
                <a:lnTo>
                  <a:pt x="13537" y="9887"/>
                </a:lnTo>
                <a:lnTo>
                  <a:pt x="12799" y="9032"/>
                </a:lnTo>
                <a:close/>
                <a:moveTo>
                  <a:pt x="8007" y="10611"/>
                </a:moveTo>
                <a:lnTo>
                  <a:pt x="7272" y="11470"/>
                </a:lnTo>
                <a:lnTo>
                  <a:pt x="8007" y="12322"/>
                </a:lnTo>
                <a:lnTo>
                  <a:pt x="8743" y="11470"/>
                </a:lnTo>
                <a:lnTo>
                  <a:pt x="8007" y="10611"/>
                </a:lnTo>
                <a:close/>
                <a:moveTo>
                  <a:pt x="3450" y="13542"/>
                </a:moveTo>
                <a:lnTo>
                  <a:pt x="4511" y="13542"/>
                </a:lnTo>
                <a:lnTo>
                  <a:pt x="4511" y="18021"/>
                </a:lnTo>
                <a:lnTo>
                  <a:pt x="3467" y="15227"/>
                </a:lnTo>
                <a:cubicBezTo>
                  <a:pt x="3465" y="15056"/>
                  <a:pt x="3461" y="14886"/>
                  <a:pt x="3460" y="14716"/>
                </a:cubicBezTo>
                <a:cubicBezTo>
                  <a:pt x="3457" y="14322"/>
                  <a:pt x="3453" y="13935"/>
                  <a:pt x="3450" y="13542"/>
                </a:cubicBezTo>
                <a:close/>
                <a:moveTo>
                  <a:pt x="5504" y="13542"/>
                </a:moveTo>
                <a:lnTo>
                  <a:pt x="6643" y="13542"/>
                </a:lnTo>
                <a:lnTo>
                  <a:pt x="6643" y="20059"/>
                </a:lnTo>
                <a:lnTo>
                  <a:pt x="5576" y="20066"/>
                </a:lnTo>
                <a:lnTo>
                  <a:pt x="5504" y="13542"/>
                </a:lnTo>
                <a:close/>
                <a:moveTo>
                  <a:pt x="7636" y="13542"/>
                </a:moveTo>
                <a:lnTo>
                  <a:pt x="8723" y="13542"/>
                </a:lnTo>
                <a:lnTo>
                  <a:pt x="8723" y="20047"/>
                </a:lnTo>
                <a:lnTo>
                  <a:pt x="7636" y="20059"/>
                </a:lnTo>
                <a:lnTo>
                  <a:pt x="7636" y="13542"/>
                </a:lnTo>
                <a:close/>
                <a:moveTo>
                  <a:pt x="9719" y="13542"/>
                </a:moveTo>
                <a:lnTo>
                  <a:pt x="10787" y="13542"/>
                </a:lnTo>
                <a:lnTo>
                  <a:pt x="10787" y="20040"/>
                </a:lnTo>
                <a:lnTo>
                  <a:pt x="9719" y="20047"/>
                </a:lnTo>
                <a:lnTo>
                  <a:pt x="9719" y="13542"/>
                </a:lnTo>
                <a:close/>
                <a:moveTo>
                  <a:pt x="11718" y="13542"/>
                </a:moveTo>
                <a:lnTo>
                  <a:pt x="12857" y="13542"/>
                </a:lnTo>
                <a:lnTo>
                  <a:pt x="12799" y="20028"/>
                </a:lnTo>
                <a:lnTo>
                  <a:pt x="11718" y="20040"/>
                </a:lnTo>
                <a:lnTo>
                  <a:pt x="11718" y="13542"/>
                </a:lnTo>
                <a:close/>
                <a:moveTo>
                  <a:pt x="13850" y="13542"/>
                </a:moveTo>
                <a:lnTo>
                  <a:pt x="14911" y="13542"/>
                </a:lnTo>
                <a:cubicBezTo>
                  <a:pt x="14908" y="13935"/>
                  <a:pt x="14907" y="14322"/>
                  <a:pt x="14905" y="14716"/>
                </a:cubicBezTo>
                <a:cubicBezTo>
                  <a:pt x="14904" y="14729"/>
                  <a:pt x="14905" y="14744"/>
                  <a:pt x="14905" y="14757"/>
                </a:cubicBezTo>
                <a:lnTo>
                  <a:pt x="13824" y="18317"/>
                </a:lnTo>
                <a:lnTo>
                  <a:pt x="13850" y="13542"/>
                </a:lnTo>
                <a:close/>
              </a:path>
            </a:pathLst>
          </a:custGeom>
          <a:solidFill>
            <a:srgbClr val="d6d6d6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hape"/>
          <p:cNvSpPr/>
          <p:nvPr/>
        </p:nvSpPr>
        <p:spPr>
          <a:xfrm>
            <a:off x="1730160" y="5730480"/>
            <a:ext cx="331920" cy="330840"/>
          </a:xfrm>
          <a:custGeom>
            <a:avLst/>
            <a:gdLst>
              <a:gd name="textAreaLeft" fmla="*/ 0 w 331920"/>
              <a:gd name="textAreaRight" fmla="*/ 332280 w 331920"/>
              <a:gd name="textAreaTop" fmla="*/ 0 h 330840"/>
              <a:gd name="textAreaBottom" fmla="*/ 331200 h 33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59" y="13269"/>
                </a:lnTo>
                <a:lnTo>
                  <a:pt x="4228" y="21600"/>
                </a:lnTo>
                <a:lnTo>
                  <a:pt x="14299" y="21600"/>
                </a:lnTo>
                <a:lnTo>
                  <a:pt x="16844" y="14000"/>
                </a:lnTo>
                <a:lnTo>
                  <a:pt x="19165" y="13629"/>
                </a:lnTo>
                <a:lnTo>
                  <a:pt x="21577" y="10823"/>
                </a:lnTo>
                <a:lnTo>
                  <a:pt x="21600" y="4790"/>
                </a:lnTo>
                <a:lnTo>
                  <a:pt x="19396" y="2227"/>
                </a:lnTo>
                <a:lnTo>
                  <a:pt x="18130" y="2219"/>
                </a:lnTo>
                <a:lnTo>
                  <a:pt x="18355" y="19"/>
                </a:lnTo>
                <a:lnTo>
                  <a:pt x="0" y="0"/>
                </a:lnTo>
                <a:close/>
                <a:moveTo>
                  <a:pt x="17971" y="3798"/>
                </a:moveTo>
                <a:lnTo>
                  <a:pt x="19107" y="3828"/>
                </a:lnTo>
                <a:lnTo>
                  <a:pt x="20477" y="5423"/>
                </a:lnTo>
                <a:lnTo>
                  <a:pt x="20477" y="10190"/>
                </a:lnTo>
                <a:lnTo>
                  <a:pt x="18736" y="12216"/>
                </a:lnTo>
                <a:lnTo>
                  <a:pt x="17082" y="12489"/>
                </a:lnTo>
                <a:lnTo>
                  <a:pt x="17971" y="3798"/>
                </a:lnTo>
                <a:close/>
                <a:moveTo>
                  <a:pt x="2985" y="4203"/>
                </a:moveTo>
                <a:lnTo>
                  <a:pt x="4092" y="4203"/>
                </a:lnTo>
                <a:lnTo>
                  <a:pt x="6637" y="7165"/>
                </a:lnTo>
                <a:lnTo>
                  <a:pt x="7359" y="6320"/>
                </a:lnTo>
                <a:lnTo>
                  <a:pt x="5543" y="4207"/>
                </a:lnTo>
                <a:lnTo>
                  <a:pt x="7109" y="4207"/>
                </a:lnTo>
                <a:lnTo>
                  <a:pt x="7080" y="4237"/>
                </a:lnTo>
                <a:lnTo>
                  <a:pt x="8007" y="5317"/>
                </a:lnTo>
                <a:lnTo>
                  <a:pt x="8928" y="4237"/>
                </a:lnTo>
                <a:lnTo>
                  <a:pt x="8902" y="4207"/>
                </a:lnTo>
                <a:lnTo>
                  <a:pt x="10351" y="4211"/>
                </a:lnTo>
                <a:lnTo>
                  <a:pt x="11249" y="5256"/>
                </a:lnTo>
                <a:lnTo>
                  <a:pt x="12151" y="4211"/>
                </a:lnTo>
                <a:lnTo>
                  <a:pt x="13332" y="4211"/>
                </a:lnTo>
                <a:lnTo>
                  <a:pt x="16197" y="7547"/>
                </a:lnTo>
                <a:lnTo>
                  <a:pt x="16200" y="7543"/>
                </a:lnTo>
                <a:lnTo>
                  <a:pt x="16041" y="8926"/>
                </a:lnTo>
                <a:lnTo>
                  <a:pt x="14218" y="6809"/>
                </a:lnTo>
                <a:lnTo>
                  <a:pt x="13492" y="7649"/>
                </a:lnTo>
                <a:lnTo>
                  <a:pt x="15868" y="10414"/>
                </a:lnTo>
                <a:lnTo>
                  <a:pt x="15643" y="12303"/>
                </a:lnTo>
                <a:lnTo>
                  <a:pt x="15624" y="12383"/>
                </a:lnTo>
                <a:lnTo>
                  <a:pt x="14136" y="10652"/>
                </a:lnTo>
                <a:lnTo>
                  <a:pt x="13414" y="11493"/>
                </a:lnTo>
                <a:lnTo>
                  <a:pt x="14188" y="12394"/>
                </a:lnTo>
                <a:lnTo>
                  <a:pt x="11718" y="12394"/>
                </a:lnTo>
                <a:lnTo>
                  <a:pt x="11471" y="12394"/>
                </a:lnTo>
                <a:lnTo>
                  <a:pt x="11978" y="11807"/>
                </a:lnTo>
                <a:lnTo>
                  <a:pt x="9521" y="8952"/>
                </a:lnTo>
                <a:lnTo>
                  <a:pt x="8795" y="9793"/>
                </a:lnTo>
                <a:lnTo>
                  <a:pt x="11031" y="12394"/>
                </a:lnTo>
                <a:lnTo>
                  <a:pt x="10787" y="12394"/>
                </a:lnTo>
                <a:lnTo>
                  <a:pt x="9846" y="12394"/>
                </a:lnTo>
                <a:lnTo>
                  <a:pt x="9472" y="11959"/>
                </a:lnTo>
                <a:lnTo>
                  <a:pt x="9098" y="12394"/>
                </a:lnTo>
                <a:lnTo>
                  <a:pt x="8723" y="12394"/>
                </a:lnTo>
                <a:lnTo>
                  <a:pt x="7636" y="12394"/>
                </a:lnTo>
                <a:lnTo>
                  <a:pt x="6643" y="12394"/>
                </a:lnTo>
                <a:lnTo>
                  <a:pt x="6403" y="12394"/>
                </a:lnTo>
                <a:lnTo>
                  <a:pt x="4905" y="10652"/>
                </a:lnTo>
                <a:lnTo>
                  <a:pt x="4183" y="11493"/>
                </a:lnTo>
                <a:lnTo>
                  <a:pt x="4957" y="12394"/>
                </a:lnTo>
                <a:lnTo>
                  <a:pt x="2637" y="12394"/>
                </a:lnTo>
                <a:lnTo>
                  <a:pt x="3151" y="11796"/>
                </a:lnTo>
                <a:lnTo>
                  <a:pt x="2357" y="10872"/>
                </a:lnTo>
                <a:lnTo>
                  <a:pt x="2174" y="8626"/>
                </a:lnTo>
                <a:lnTo>
                  <a:pt x="2763" y="7941"/>
                </a:lnTo>
                <a:lnTo>
                  <a:pt x="2054" y="7112"/>
                </a:lnTo>
                <a:lnTo>
                  <a:pt x="1920" y="5442"/>
                </a:lnTo>
                <a:lnTo>
                  <a:pt x="2985" y="4203"/>
                </a:lnTo>
                <a:close/>
                <a:moveTo>
                  <a:pt x="14784" y="4215"/>
                </a:moveTo>
                <a:lnTo>
                  <a:pt x="16587" y="4215"/>
                </a:lnTo>
                <a:lnTo>
                  <a:pt x="16373" y="6063"/>
                </a:lnTo>
                <a:lnTo>
                  <a:pt x="14784" y="4215"/>
                </a:lnTo>
                <a:close/>
                <a:moveTo>
                  <a:pt x="3349" y="5264"/>
                </a:moveTo>
                <a:lnTo>
                  <a:pt x="2617" y="6119"/>
                </a:lnTo>
                <a:lnTo>
                  <a:pt x="3349" y="6975"/>
                </a:lnTo>
                <a:lnTo>
                  <a:pt x="4085" y="6119"/>
                </a:lnTo>
                <a:lnTo>
                  <a:pt x="3349" y="5264"/>
                </a:lnTo>
                <a:close/>
                <a:moveTo>
                  <a:pt x="12890" y="5264"/>
                </a:moveTo>
                <a:lnTo>
                  <a:pt x="12157" y="6119"/>
                </a:lnTo>
                <a:lnTo>
                  <a:pt x="12890" y="6975"/>
                </a:lnTo>
                <a:lnTo>
                  <a:pt x="13625" y="6119"/>
                </a:lnTo>
                <a:lnTo>
                  <a:pt x="12890" y="5264"/>
                </a:lnTo>
                <a:close/>
                <a:moveTo>
                  <a:pt x="9521" y="5358"/>
                </a:moveTo>
                <a:lnTo>
                  <a:pt x="8795" y="6199"/>
                </a:lnTo>
                <a:lnTo>
                  <a:pt x="11249" y="9058"/>
                </a:lnTo>
                <a:lnTo>
                  <a:pt x="11978" y="8214"/>
                </a:lnTo>
                <a:lnTo>
                  <a:pt x="9521" y="5358"/>
                </a:lnTo>
                <a:close/>
                <a:moveTo>
                  <a:pt x="4905" y="7059"/>
                </a:moveTo>
                <a:lnTo>
                  <a:pt x="4183" y="7899"/>
                </a:lnTo>
                <a:lnTo>
                  <a:pt x="6637" y="10758"/>
                </a:lnTo>
                <a:lnTo>
                  <a:pt x="7359" y="9914"/>
                </a:lnTo>
                <a:lnTo>
                  <a:pt x="4905" y="7059"/>
                </a:lnTo>
                <a:close/>
                <a:moveTo>
                  <a:pt x="8007" y="7085"/>
                </a:moveTo>
                <a:lnTo>
                  <a:pt x="7272" y="7941"/>
                </a:lnTo>
                <a:lnTo>
                  <a:pt x="8007" y="8793"/>
                </a:lnTo>
                <a:lnTo>
                  <a:pt x="8743" y="7941"/>
                </a:lnTo>
                <a:lnTo>
                  <a:pt x="8007" y="7085"/>
                </a:lnTo>
                <a:close/>
                <a:moveTo>
                  <a:pt x="3349" y="8907"/>
                </a:moveTo>
                <a:lnTo>
                  <a:pt x="2617" y="9762"/>
                </a:lnTo>
                <a:lnTo>
                  <a:pt x="3349" y="10614"/>
                </a:lnTo>
                <a:lnTo>
                  <a:pt x="4085" y="9762"/>
                </a:lnTo>
                <a:lnTo>
                  <a:pt x="3349" y="8907"/>
                </a:lnTo>
                <a:close/>
                <a:moveTo>
                  <a:pt x="12799" y="9032"/>
                </a:moveTo>
                <a:lnTo>
                  <a:pt x="12066" y="9887"/>
                </a:lnTo>
                <a:lnTo>
                  <a:pt x="12799" y="10739"/>
                </a:lnTo>
                <a:lnTo>
                  <a:pt x="13537" y="9887"/>
                </a:lnTo>
                <a:lnTo>
                  <a:pt x="12799" y="9032"/>
                </a:lnTo>
                <a:close/>
                <a:moveTo>
                  <a:pt x="8007" y="10611"/>
                </a:moveTo>
                <a:lnTo>
                  <a:pt x="7272" y="11470"/>
                </a:lnTo>
                <a:lnTo>
                  <a:pt x="8007" y="12322"/>
                </a:lnTo>
                <a:lnTo>
                  <a:pt x="8743" y="11470"/>
                </a:lnTo>
                <a:lnTo>
                  <a:pt x="8007" y="10611"/>
                </a:lnTo>
                <a:close/>
                <a:moveTo>
                  <a:pt x="3450" y="13542"/>
                </a:moveTo>
                <a:lnTo>
                  <a:pt x="4511" y="13542"/>
                </a:lnTo>
                <a:lnTo>
                  <a:pt x="4511" y="18021"/>
                </a:lnTo>
                <a:lnTo>
                  <a:pt x="3467" y="15227"/>
                </a:lnTo>
                <a:cubicBezTo>
                  <a:pt x="3465" y="15056"/>
                  <a:pt x="3461" y="14886"/>
                  <a:pt x="3460" y="14716"/>
                </a:cubicBezTo>
                <a:cubicBezTo>
                  <a:pt x="3457" y="14322"/>
                  <a:pt x="3453" y="13935"/>
                  <a:pt x="3450" y="13542"/>
                </a:cubicBezTo>
                <a:close/>
                <a:moveTo>
                  <a:pt x="5504" y="13542"/>
                </a:moveTo>
                <a:lnTo>
                  <a:pt x="6643" y="13542"/>
                </a:lnTo>
                <a:lnTo>
                  <a:pt x="6643" y="20059"/>
                </a:lnTo>
                <a:lnTo>
                  <a:pt x="5576" y="20066"/>
                </a:lnTo>
                <a:lnTo>
                  <a:pt x="5504" y="13542"/>
                </a:lnTo>
                <a:close/>
                <a:moveTo>
                  <a:pt x="7636" y="13542"/>
                </a:moveTo>
                <a:lnTo>
                  <a:pt x="8723" y="13542"/>
                </a:lnTo>
                <a:lnTo>
                  <a:pt x="8723" y="20047"/>
                </a:lnTo>
                <a:lnTo>
                  <a:pt x="7636" y="20059"/>
                </a:lnTo>
                <a:lnTo>
                  <a:pt x="7636" y="13542"/>
                </a:lnTo>
                <a:close/>
                <a:moveTo>
                  <a:pt x="9719" y="13542"/>
                </a:moveTo>
                <a:lnTo>
                  <a:pt x="10787" y="13542"/>
                </a:lnTo>
                <a:lnTo>
                  <a:pt x="10787" y="20040"/>
                </a:lnTo>
                <a:lnTo>
                  <a:pt x="9719" y="20047"/>
                </a:lnTo>
                <a:lnTo>
                  <a:pt x="9719" y="13542"/>
                </a:lnTo>
                <a:close/>
                <a:moveTo>
                  <a:pt x="11718" y="13542"/>
                </a:moveTo>
                <a:lnTo>
                  <a:pt x="12857" y="13542"/>
                </a:lnTo>
                <a:lnTo>
                  <a:pt x="12799" y="20028"/>
                </a:lnTo>
                <a:lnTo>
                  <a:pt x="11718" y="20040"/>
                </a:lnTo>
                <a:lnTo>
                  <a:pt x="11718" y="13542"/>
                </a:lnTo>
                <a:close/>
                <a:moveTo>
                  <a:pt x="13850" y="13542"/>
                </a:moveTo>
                <a:lnTo>
                  <a:pt x="14911" y="13542"/>
                </a:lnTo>
                <a:cubicBezTo>
                  <a:pt x="14908" y="13935"/>
                  <a:pt x="14907" y="14322"/>
                  <a:pt x="14905" y="14716"/>
                </a:cubicBezTo>
                <a:cubicBezTo>
                  <a:pt x="14904" y="14729"/>
                  <a:pt x="14905" y="14744"/>
                  <a:pt x="14905" y="14757"/>
                </a:cubicBezTo>
                <a:lnTo>
                  <a:pt x="13824" y="18317"/>
                </a:lnTo>
                <a:lnTo>
                  <a:pt x="13850" y="13542"/>
                </a:lnTo>
                <a:close/>
              </a:path>
            </a:pathLst>
          </a:custGeom>
          <a:solidFill>
            <a:srgbClr val="d6d6d6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hape"/>
          <p:cNvSpPr/>
          <p:nvPr/>
        </p:nvSpPr>
        <p:spPr>
          <a:xfrm>
            <a:off x="2136240" y="5730480"/>
            <a:ext cx="331920" cy="330840"/>
          </a:xfrm>
          <a:custGeom>
            <a:avLst/>
            <a:gdLst>
              <a:gd name="textAreaLeft" fmla="*/ 0 w 331920"/>
              <a:gd name="textAreaRight" fmla="*/ 332280 w 331920"/>
              <a:gd name="textAreaTop" fmla="*/ 0 h 330840"/>
              <a:gd name="textAreaBottom" fmla="*/ 331200 h 33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59" y="13269"/>
                </a:lnTo>
                <a:lnTo>
                  <a:pt x="4228" y="21600"/>
                </a:lnTo>
                <a:lnTo>
                  <a:pt x="14299" y="21600"/>
                </a:lnTo>
                <a:lnTo>
                  <a:pt x="16844" y="14000"/>
                </a:lnTo>
                <a:lnTo>
                  <a:pt x="19165" y="13629"/>
                </a:lnTo>
                <a:lnTo>
                  <a:pt x="21577" y="10823"/>
                </a:lnTo>
                <a:lnTo>
                  <a:pt x="21600" y="4790"/>
                </a:lnTo>
                <a:lnTo>
                  <a:pt x="19396" y="2227"/>
                </a:lnTo>
                <a:lnTo>
                  <a:pt x="18130" y="2219"/>
                </a:lnTo>
                <a:lnTo>
                  <a:pt x="18355" y="19"/>
                </a:lnTo>
                <a:lnTo>
                  <a:pt x="0" y="0"/>
                </a:lnTo>
                <a:close/>
                <a:moveTo>
                  <a:pt x="17971" y="3798"/>
                </a:moveTo>
                <a:lnTo>
                  <a:pt x="19107" y="3828"/>
                </a:lnTo>
                <a:lnTo>
                  <a:pt x="20477" y="5423"/>
                </a:lnTo>
                <a:lnTo>
                  <a:pt x="20477" y="10190"/>
                </a:lnTo>
                <a:lnTo>
                  <a:pt x="18736" y="12216"/>
                </a:lnTo>
                <a:lnTo>
                  <a:pt x="17082" y="12489"/>
                </a:lnTo>
                <a:lnTo>
                  <a:pt x="17971" y="3798"/>
                </a:lnTo>
                <a:close/>
                <a:moveTo>
                  <a:pt x="2985" y="4203"/>
                </a:moveTo>
                <a:lnTo>
                  <a:pt x="4092" y="4203"/>
                </a:lnTo>
                <a:lnTo>
                  <a:pt x="6637" y="7165"/>
                </a:lnTo>
                <a:lnTo>
                  <a:pt x="7359" y="6320"/>
                </a:lnTo>
                <a:lnTo>
                  <a:pt x="5543" y="4207"/>
                </a:lnTo>
                <a:lnTo>
                  <a:pt x="7109" y="4207"/>
                </a:lnTo>
                <a:lnTo>
                  <a:pt x="7080" y="4237"/>
                </a:lnTo>
                <a:lnTo>
                  <a:pt x="8007" y="5317"/>
                </a:lnTo>
                <a:lnTo>
                  <a:pt x="8928" y="4237"/>
                </a:lnTo>
                <a:lnTo>
                  <a:pt x="8902" y="4207"/>
                </a:lnTo>
                <a:lnTo>
                  <a:pt x="10351" y="4211"/>
                </a:lnTo>
                <a:lnTo>
                  <a:pt x="11249" y="5256"/>
                </a:lnTo>
                <a:lnTo>
                  <a:pt x="12151" y="4211"/>
                </a:lnTo>
                <a:lnTo>
                  <a:pt x="13332" y="4211"/>
                </a:lnTo>
                <a:lnTo>
                  <a:pt x="16197" y="7547"/>
                </a:lnTo>
                <a:lnTo>
                  <a:pt x="16200" y="7543"/>
                </a:lnTo>
                <a:lnTo>
                  <a:pt x="16041" y="8926"/>
                </a:lnTo>
                <a:lnTo>
                  <a:pt x="14218" y="6809"/>
                </a:lnTo>
                <a:lnTo>
                  <a:pt x="13492" y="7649"/>
                </a:lnTo>
                <a:lnTo>
                  <a:pt x="15868" y="10414"/>
                </a:lnTo>
                <a:lnTo>
                  <a:pt x="15643" y="12303"/>
                </a:lnTo>
                <a:lnTo>
                  <a:pt x="15624" y="12383"/>
                </a:lnTo>
                <a:lnTo>
                  <a:pt x="14136" y="10652"/>
                </a:lnTo>
                <a:lnTo>
                  <a:pt x="13414" y="11493"/>
                </a:lnTo>
                <a:lnTo>
                  <a:pt x="14188" y="12394"/>
                </a:lnTo>
                <a:lnTo>
                  <a:pt x="11718" y="12394"/>
                </a:lnTo>
                <a:lnTo>
                  <a:pt x="11471" y="12394"/>
                </a:lnTo>
                <a:lnTo>
                  <a:pt x="11978" y="11807"/>
                </a:lnTo>
                <a:lnTo>
                  <a:pt x="9521" y="8952"/>
                </a:lnTo>
                <a:lnTo>
                  <a:pt x="8795" y="9793"/>
                </a:lnTo>
                <a:lnTo>
                  <a:pt x="11031" y="12394"/>
                </a:lnTo>
                <a:lnTo>
                  <a:pt x="10787" y="12394"/>
                </a:lnTo>
                <a:lnTo>
                  <a:pt x="9846" y="12394"/>
                </a:lnTo>
                <a:lnTo>
                  <a:pt x="9472" y="11959"/>
                </a:lnTo>
                <a:lnTo>
                  <a:pt x="9098" y="12394"/>
                </a:lnTo>
                <a:lnTo>
                  <a:pt x="8723" y="12394"/>
                </a:lnTo>
                <a:lnTo>
                  <a:pt x="7636" y="12394"/>
                </a:lnTo>
                <a:lnTo>
                  <a:pt x="6643" y="12394"/>
                </a:lnTo>
                <a:lnTo>
                  <a:pt x="6403" y="12394"/>
                </a:lnTo>
                <a:lnTo>
                  <a:pt x="4905" y="10652"/>
                </a:lnTo>
                <a:lnTo>
                  <a:pt x="4183" y="11493"/>
                </a:lnTo>
                <a:lnTo>
                  <a:pt x="4957" y="12394"/>
                </a:lnTo>
                <a:lnTo>
                  <a:pt x="2637" y="12394"/>
                </a:lnTo>
                <a:lnTo>
                  <a:pt x="3151" y="11796"/>
                </a:lnTo>
                <a:lnTo>
                  <a:pt x="2357" y="10872"/>
                </a:lnTo>
                <a:lnTo>
                  <a:pt x="2174" y="8626"/>
                </a:lnTo>
                <a:lnTo>
                  <a:pt x="2763" y="7941"/>
                </a:lnTo>
                <a:lnTo>
                  <a:pt x="2054" y="7112"/>
                </a:lnTo>
                <a:lnTo>
                  <a:pt x="1920" y="5442"/>
                </a:lnTo>
                <a:lnTo>
                  <a:pt x="2985" y="4203"/>
                </a:lnTo>
                <a:close/>
                <a:moveTo>
                  <a:pt x="14784" y="4215"/>
                </a:moveTo>
                <a:lnTo>
                  <a:pt x="16587" y="4215"/>
                </a:lnTo>
                <a:lnTo>
                  <a:pt x="16373" y="6063"/>
                </a:lnTo>
                <a:lnTo>
                  <a:pt x="14784" y="4215"/>
                </a:lnTo>
                <a:close/>
                <a:moveTo>
                  <a:pt x="3349" y="5264"/>
                </a:moveTo>
                <a:lnTo>
                  <a:pt x="2617" y="6119"/>
                </a:lnTo>
                <a:lnTo>
                  <a:pt x="3349" y="6975"/>
                </a:lnTo>
                <a:lnTo>
                  <a:pt x="4085" y="6119"/>
                </a:lnTo>
                <a:lnTo>
                  <a:pt x="3349" y="5264"/>
                </a:lnTo>
                <a:close/>
                <a:moveTo>
                  <a:pt x="12890" y="5264"/>
                </a:moveTo>
                <a:lnTo>
                  <a:pt x="12157" y="6119"/>
                </a:lnTo>
                <a:lnTo>
                  <a:pt x="12890" y="6975"/>
                </a:lnTo>
                <a:lnTo>
                  <a:pt x="13625" y="6119"/>
                </a:lnTo>
                <a:lnTo>
                  <a:pt x="12890" y="5264"/>
                </a:lnTo>
                <a:close/>
                <a:moveTo>
                  <a:pt x="9521" y="5358"/>
                </a:moveTo>
                <a:lnTo>
                  <a:pt x="8795" y="6199"/>
                </a:lnTo>
                <a:lnTo>
                  <a:pt x="11249" y="9058"/>
                </a:lnTo>
                <a:lnTo>
                  <a:pt x="11978" y="8214"/>
                </a:lnTo>
                <a:lnTo>
                  <a:pt x="9521" y="5358"/>
                </a:lnTo>
                <a:close/>
                <a:moveTo>
                  <a:pt x="4905" y="7059"/>
                </a:moveTo>
                <a:lnTo>
                  <a:pt x="4183" y="7899"/>
                </a:lnTo>
                <a:lnTo>
                  <a:pt x="6637" y="10758"/>
                </a:lnTo>
                <a:lnTo>
                  <a:pt x="7359" y="9914"/>
                </a:lnTo>
                <a:lnTo>
                  <a:pt x="4905" y="7059"/>
                </a:lnTo>
                <a:close/>
                <a:moveTo>
                  <a:pt x="8007" y="7085"/>
                </a:moveTo>
                <a:lnTo>
                  <a:pt x="7272" y="7941"/>
                </a:lnTo>
                <a:lnTo>
                  <a:pt x="8007" y="8793"/>
                </a:lnTo>
                <a:lnTo>
                  <a:pt x="8743" y="7941"/>
                </a:lnTo>
                <a:lnTo>
                  <a:pt x="8007" y="7085"/>
                </a:lnTo>
                <a:close/>
                <a:moveTo>
                  <a:pt x="3349" y="8907"/>
                </a:moveTo>
                <a:lnTo>
                  <a:pt x="2617" y="9762"/>
                </a:lnTo>
                <a:lnTo>
                  <a:pt x="3349" y="10614"/>
                </a:lnTo>
                <a:lnTo>
                  <a:pt x="4085" y="9762"/>
                </a:lnTo>
                <a:lnTo>
                  <a:pt x="3349" y="8907"/>
                </a:lnTo>
                <a:close/>
                <a:moveTo>
                  <a:pt x="12799" y="9032"/>
                </a:moveTo>
                <a:lnTo>
                  <a:pt x="12066" y="9887"/>
                </a:lnTo>
                <a:lnTo>
                  <a:pt x="12799" y="10739"/>
                </a:lnTo>
                <a:lnTo>
                  <a:pt x="13537" y="9887"/>
                </a:lnTo>
                <a:lnTo>
                  <a:pt x="12799" y="9032"/>
                </a:lnTo>
                <a:close/>
                <a:moveTo>
                  <a:pt x="8007" y="10611"/>
                </a:moveTo>
                <a:lnTo>
                  <a:pt x="7272" y="11470"/>
                </a:lnTo>
                <a:lnTo>
                  <a:pt x="8007" y="12322"/>
                </a:lnTo>
                <a:lnTo>
                  <a:pt x="8743" y="11470"/>
                </a:lnTo>
                <a:lnTo>
                  <a:pt x="8007" y="10611"/>
                </a:lnTo>
                <a:close/>
                <a:moveTo>
                  <a:pt x="3450" y="13542"/>
                </a:moveTo>
                <a:lnTo>
                  <a:pt x="4511" y="13542"/>
                </a:lnTo>
                <a:lnTo>
                  <a:pt x="4511" y="18021"/>
                </a:lnTo>
                <a:lnTo>
                  <a:pt x="3467" y="15227"/>
                </a:lnTo>
                <a:cubicBezTo>
                  <a:pt x="3465" y="15056"/>
                  <a:pt x="3461" y="14886"/>
                  <a:pt x="3460" y="14716"/>
                </a:cubicBezTo>
                <a:cubicBezTo>
                  <a:pt x="3457" y="14322"/>
                  <a:pt x="3453" y="13935"/>
                  <a:pt x="3450" y="13542"/>
                </a:cubicBezTo>
                <a:close/>
                <a:moveTo>
                  <a:pt x="5504" y="13542"/>
                </a:moveTo>
                <a:lnTo>
                  <a:pt x="6643" y="13542"/>
                </a:lnTo>
                <a:lnTo>
                  <a:pt x="6643" y="20059"/>
                </a:lnTo>
                <a:lnTo>
                  <a:pt x="5576" y="20066"/>
                </a:lnTo>
                <a:lnTo>
                  <a:pt x="5504" y="13542"/>
                </a:lnTo>
                <a:close/>
                <a:moveTo>
                  <a:pt x="7636" y="13542"/>
                </a:moveTo>
                <a:lnTo>
                  <a:pt x="8723" y="13542"/>
                </a:lnTo>
                <a:lnTo>
                  <a:pt x="8723" y="20047"/>
                </a:lnTo>
                <a:lnTo>
                  <a:pt x="7636" y="20059"/>
                </a:lnTo>
                <a:lnTo>
                  <a:pt x="7636" y="13542"/>
                </a:lnTo>
                <a:close/>
                <a:moveTo>
                  <a:pt x="9719" y="13542"/>
                </a:moveTo>
                <a:lnTo>
                  <a:pt x="10787" y="13542"/>
                </a:lnTo>
                <a:lnTo>
                  <a:pt x="10787" y="20040"/>
                </a:lnTo>
                <a:lnTo>
                  <a:pt x="9719" y="20047"/>
                </a:lnTo>
                <a:lnTo>
                  <a:pt x="9719" y="13542"/>
                </a:lnTo>
                <a:close/>
                <a:moveTo>
                  <a:pt x="11718" y="13542"/>
                </a:moveTo>
                <a:lnTo>
                  <a:pt x="12857" y="13542"/>
                </a:lnTo>
                <a:lnTo>
                  <a:pt x="12799" y="20028"/>
                </a:lnTo>
                <a:lnTo>
                  <a:pt x="11718" y="20040"/>
                </a:lnTo>
                <a:lnTo>
                  <a:pt x="11718" y="13542"/>
                </a:lnTo>
                <a:close/>
                <a:moveTo>
                  <a:pt x="13850" y="13542"/>
                </a:moveTo>
                <a:lnTo>
                  <a:pt x="14911" y="13542"/>
                </a:lnTo>
                <a:cubicBezTo>
                  <a:pt x="14908" y="13935"/>
                  <a:pt x="14907" y="14322"/>
                  <a:pt x="14905" y="14716"/>
                </a:cubicBezTo>
                <a:cubicBezTo>
                  <a:pt x="14904" y="14729"/>
                  <a:pt x="14905" y="14744"/>
                  <a:pt x="14905" y="14757"/>
                </a:cubicBezTo>
                <a:lnTo>
                  <a:pt x="13824" y="18317"/>
                </a:lnTo>
                <a:lnTo>
                  <a:pt x="13850" y="13542"/>
                </a:lnTo>
                <a:close/>
              </a:path>
            </a:pathLst>
          </a:custGeom>
          <a:solidFill>
            <a:srgbClr val="d6d6d6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hape"/>
          <p:cNvSpPr/>
          <p:nvPr/>
        </p:nvSpPr>
        <p:spPr>
          <a:xfrm>
            <a:off x="2542320" y="5740200"/>
            <a:ext cx="331920" cy="330840"/>
          </a:xfrm>
          <a:custGeom>
            <a:avLst/>
            <a:gdLst>
              <a:gd name="textAreaLeft" fmla="*/ 0 w 331920"/>
              <a:gd name="textAreaRight" fmla="*/ 332280 w 331920"/>
              <a:gd name="textAreaTop" fmla="*/ 0 h 330840"/>
              <a:gd name="textAreaBottom" fmla="*/ 331200 h 33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59" y="13269"/>
                </a:lnTo>
                <a:lnTo>
                  <a:pt x="4228" y="21600"/>
                </a:lnTo>
                <a:lnTo>
                  <a:pt x="14299" y="21600"/>
                </a:lnTo>
                <a:lnTo>
                  <a:pt x="16844" y="14000"/>
                </a:lnTo>
                <a:lnTo>
                  <a:pt x="19165" y="13629"/>
                </a:lnTo>
                <a:lnTo>
                  <a:pt x="21577" y="10823"/>
                </a:lnTo>
                <a:lnTo>
                  <a:pt x="21600" y="4790"/>
                </a:lnTo>
                <a:lnTo>
                  <a:pt x="19396" y="2227"/>
                </a:lnTo>
                <a:lnTo>
                  <a:pt x="18130" y="2219"/>
                </a:lnTo>
                <a:lnTo>
                  <a:pt x="18355" y="19"/>
                </a:lnTo>
                <a:lnTo>
                  <a:pt x="0" y="0"/>
                </a:lnTo>
                <a:close/>
                <a:moveTo>
                  <a:pt x="17971" y="3798"/>
                </a:moveTo>
                <a:lnTo>
                  <a:pt x="19107" y="3828"/>
                </a:lnTo>
                <a:lnTo>
                  <a:pt x="20477" y="5423"/>
                </a:lnTo>
                <a:lnTo>
                  <a:pt x="20477" y="10190"/>
                </a:lnTo>
                <a:lnTo>
                  <a:pt x="18736" y="12216"/>
                </a:lnTo>
                <a:lnTo>
                  <a:pt x="17082" y="12489"/>
                </a:lnTo>
                <a:lnTo>
                  <a:pt x="17971" y="3798"/>
                </a:lnTo>
                <a:close/>
                <a:moveTo>
                  <a:pt x="2985" y="4203"/>
                </a:moveTo>
                <a:lnTo>
                  <a:pt x="4092" y="4203"/>
                </a:lnTo>
                <a:lnTo>
                  <a:pt x="6637" y="7165"/>
                </a:lnTo>
                <a:lnTo>
                  <a:pt x="7359" y="6320"/>
                </a:lnTo>
                <a:lnTo>
                  <a:pt x="5543" y="4207"/>
                </a:lnTo>
                <a:lnTo>
                  <a:pt x="7109" y="4207"/>
                </a:lnTo>
                <a:lnTo>
                  <a:pt x="7080" y="4237"/>
                </a:lnTo>
                <a:lnTo>
                  <a:pt x="8007" y="5317"/>
                </a:lnTo>
                <a:lnTo>
                  <a:pt x="8928" y="4237"/>
                </a:lnTo>
                <a:lnTo>
                  <a:pt x="8902" y="4207"/>
                </a:lnTo>
                <a:lnTo>
                  <a:pt x="10351" y="4211"/>
                </a:lnTo>
                <a:lnTo>
                  <a:pt x="11249" y="5256"/>
                </a:lnTo>
                <a:lnTo>
                  <a:pt x="12151" y="4211"/>
                </a:lnTo>
                <a:lnTo>
                  <a:pt x="13332" y="4211"/>
                </a:lnTo>
                <a:lnTo>
                  <a:pt x="16197" y="7547"/>
                </a:lnTo>
                <a:lnTo>
                  <a:pt x="16200" y="7543"/>
                </a:lnTo>
                <a:lnTo>
                  <a:pt x="16041" y="8926"/>
                </a:lnTo>
                <a:lnTo>
                  <a:pt x="14218" y="6809"/>
                </a:lnTo>
                <a:lnTo>
                  <a:pt x="13492" y="7649"/>
                </a:lnTo>
                <a:lnTo>
                  <a:pt x="15868" y="10414"/>
                </a:lnTo>
                <a:lnTo>
                  <a:pt x="15643" y="12303"/>
                </a:lnTo>
                <a:lnTo>
                  <a:pt x="15624" y="12383"/>
                </a:lnTo>
                <a:lnTo>
                  <a:pt x="14136" y="10652"/>
                </a:lnTo>
                <a:lnTo>
                  <a:pt x="13414" y="11493"/>
                </a:lnTo>
                <a:lnTo>
                  <a:pt x="14188" y="12394"/>
                </a:lnTo>
                <a:lnTo>
                  <a:pt x="11718" y="12394"/>
                </a:lnTo>
                <a:lnTo>
                  <a:pt x="11471" y="12394"/>
                </a:lnTo>
                <a:lnTo>
                  <a:pt x="11978" y="11807"/>
                </a:lnTo>
                <a:lnTo>
                  <a:pt x="9521" y="8952"/>
                </a:lnTo>
                <a:lnTo>
                  <a:pt x="8795" y="9793"/>
                </a:lnTo>
                <a:lnTo>
                  <a:pt x="11031" y="12394"/>
                </a:lnTo>
                <a:lnTo>
                  <a:pt x="10787" y="12394"/>
                </a:lnTo>
                <a:lnTo>
                  <a:pt x="9846" y="12394"/>
                </a:lnTo>
                <a:lnTo>
                  <a:pt x="9472" y="11959"/>
                </a:lnTo>
                <a:lnTo>
                  <a:pt x="9098" y="12394"/>
                </a:lnTo>
                <a:lnTo>
                  <a:pt x="8723" y="12394"/>
                </a:lnTo>
                <a:lnTo>
                  <a:pt x="7636" y="12394"/>
                </a:lnTo>
                <a:lnTo>
                  <a:pt x="6643" y="12394"/>
                </a:lnTo>
                <a:lnTo>
                  <a:pt x="6403" y="12394"/>
                </a:lnTo>
                <a:lnTo>
                  <a:pt x="4905" y="10652"/>
                </a:lnTo>
                <a:lnTo>
                  <a:pt x="4183" y="11493"/>
                </a:lnTo>
                <a:lnTo>
                  <a:pt x="4957" y="12394"/>
                </a:lnTo>
                <a:lnTo>
                  <a:pt x="2637" y="12394"/>
                </a:lnTo>
                <a:lnTo>
                  <a:pt x="3151" y="11796"/>
                </a:lnTo>
                <a:lnTo>
                  <a:pt x="2357" y="10872"/>
                </a:lnTo>
                <a:lnTo>
                  <a:pt x="2174" y="8626"/>
                </a:lnTo>
                <a:lnTo>
                  <a:pt x="2763" y="7941"/>
                </a:lnTo>
                <a:lnTo>
                  <a:pt x="2054" y="7112"/>
                </a:lnTo>
                <a:lnTo>
                  <a:pt x="1920" y="5442"/>
                </a:lnTo>
                <a:lnTo>
                  <a:pt x="2985" y="4203"/>
                </a:lnTo>
                <a:close/>
                <a:moveTo>
                  <a:pt x="14784" y="4215"/>
                </a:moveTo>
                <a:lnTo>
                  <a:pt x="16587" y="4215"/>
                </a:lnTo>
                <a:lnTo>
                  <a:pt x="16373" y="6063"/>
                </a:lnTo>
                <a:lnTo>
                  <a:pt x="14784" y="4215"/>
                </a:lnTo>
                <a:close/>
                <a:moveTo>
                  <a:pt x="3349" y="5264"/>
                </a:moveTo>
                <a:lnTo>
                  <a:pt x="2617" y="6119"/>
                </a:lnTo>
                <a:lnTo>
                  <a:pt x="3349" y="6975"/>
                </a:lnTo>
                <a:lnTo>
                  <a:pt x="4085" y="6119"/>
                </a:lnTo>
                <a:lnTo>
                  <a:pt x="3349" y="5264"/>
                </a:lnTo>
                <a:close/>
                <a:moveTo>
                  <a:pt x="12890" y="5264"/>
                </a:moveTo>
                <a:lnTo>
                  <a:pt x="12157" y="6119"/>
                </a:lnTo>
                <a:lnTo>
                  <a:pt x="12890" y="6975"/>
                </a:lnTo>
                <a:lnTo>
                  <a:pt x="13625" y="6119"/>
                </a:lnTo>
                <a:lnTo>
                  <a:pt x="12890" y="5264"/>
                </a:lnTo>
                <a:close/>
                <a:moveTo>
                  <a:pt x="9521" y="5358"/>
                </a:moveTo>
                <a:lnTo>
                  <a:pt x="8795" y="6199"/>
                </a:lnTo>
                <a:lnTo>
                  <a:pt x="11249" y="9058"/>
                </a:lnTo>
                <a:lnTo>
                  <a:pt x="11978" y="8214"/>
                </a:lnTo>
                <a:lnTo>
                  <a:pt x="9521" y="5358"/>
                </a:lnTo>
                <a:close/>
                <a:moveTo>
                  <a:pt x="4905" y="7059"/>
                </a:moveTo>
                <a:lnTo>
                  <a:pt x="4183" y="7899"/>
                </a:lnTo>
                <a:lnTo>
                  <a:pt x="6637" y="10758"/>
                </a:lnTo>
                <a:lnTo>
                  <a:pt x="7359" y="9914"/>
                </a:lnTo>
                <a:lnTo>
                  <a:pt x="4905" y="7059"/>
                </a:lnTo>
                <a:close/>
                <a:moveTo>
                  <a:pt x="8007" y="7085"/>
                </a:moveTo>
                <a:lnTo>
                  <a:pt x="7272" y="7941"/>
                </a:lnTo>
                <a:lnTo>
                  <a:pt x="8007" y="8793"/>
                </a:lnTo>
                <a:lnTo>
                  <a:pt x="8743" y="7941"/>
                </a:lnTo>
                <a:lnTo>
                  <a:pt x="8007" y="7085"/>
                </a:lnTo>
                <a:close/>
                <a:moveTo>
                  <a:pt x="3349" y="8907"/>
                </a:moveTo>
                <a:lnTo>
                  <a:pt x="2617" y="9762"/>
                </a:lnTo>
                <a:lnTo>
                  <a:pt x="3349" y="10614"/>
                </a:lnTo>
                <a:lnTo>
                  <a:pt x="4085" y="9762"/>
                </a:lnTo>
                <a:lnTo>
                  <a:pt x="3349" y="8907"/>
                </a:lnTo>
                <a:close/>
                <a:moveTo>
                  <a:pt x="12799" y="9032"/>
                </a:moveTo>
                <a:lnTo>
                  <a:pt x="12066" y="9887"/>
                </a:lnTo>
                <a:lnTo>
                  <a:pt x="12799" y="10739"/>
                </a:lnTo>
                <a:lnTo>
                  <a:pt x="13537" y="9887"/>
                </a:lnTo>
                <a:lnTo>
                  <a:pt x="12799" y="9032"/>
                </a:lnTo>
                <a:close/>
                <a:moveTo>
                  <a:pt x="8007" y="10611"/>
                </a:moveTo>
                <a:lnTo>
                  <a:pt x="7272" y="11470"/>
                </a:lnTo>
                <a:lnTo>
                  <a:pt x="8007" y="12322"/>
                </a:lnTo>
                <a:lnTo>
                  <a:pt x="8743" y="11470"/>
                </a:lnTo>
                <a:lnTo>
                  <a:pt x="8007" y="10611"/>
                </a:lnTo>
                <a:close/>
                <a:moveTo>
                  <a:pt x="3450" y="13542"/>
                </a:moveTo>
                <a:lnTo>
                  <a:pt x="4511" y="13542"/>
                </a:lnTo>
                <a:lnTo>
                  <a:pt x="4511" y="18021"/>
                </a:lnTo>
                <a:lnTo>
                  <a:pt x="3467" y="15227"/>
                </a:lnTo>
                <a:cubicBezTo>
                  <a:pt x="3465" y="15056"/>
                  <a:pt x="3461" y="14886"/>
                  <a:pt x="3460" y="14716"/>
                </a:cubicBezTo>
                <a:cubicBezTo>
                  <a:pt x="3457" y="14322"/>
                  <a:pt x="3453" y="13935"/>
                  <a:pt x="3450" y="13542"/>
                </a:cubicBezTo>
                <a:close/>
                <a:moveTo>
                  <a:pt x="5504" y="13542"/>
                </a:moveTo>
                <a:lnTo>
                  <a:pt x="6643" y="13542"/>
                </a:lnTo>
                <a:lnTo>
                  <a:pt x="6643" y="20059"/>
                </a:lnTo>
                <a:lnTo>
                  <a:pt x="5576" y="20066"/>
                </a:lnTo>
                <a:lnTo>
                  <a:pt x="5504" y="13542"/>
                </a:lnTo>
                <a:close/>
                <a:moveTo>
                  <a:pt x="7636" y="13542"/>
                </a:moveTo>
                <a:lnTo>
                  <a:pt x="8723" y="13542"/>
                </a:lnTo>
                <a:lnTo>
                  <a:pt x="8723" y="20047"/>
                </a:lnTo>
                <a:lnTo>
                  <a:pt x="7636" y="20059"/>
                </a:lnTo>
                <a:lnTo>
                  <a:pt x="7636" y="13542"/>
                </a:lnTo>
                <a:close/>
                <a:moveTo>
                  <a:pt x="9719" y="13542"/>
                </a:moveTo>
                <a:lnTo>
                  <a:pt x="10787" y="13542"/>
                </a:lnTo>
                <a:lnTo>
                  <a:pt x="10787" y="20040"/>
                </a:lnTo>
                <a:lnTo>
                  <a:pt x="9719" y="20047"/>
                </a:lnTo>
                <a:lnTo>
                  <a:pt x="9719" y="13542"/>
                </a:lnTo>
                <a:close/>
                <a:moveTo>
                  <a:pt x="11718" y="13542"/>
                </a:moveTo>
                <a:lnTo>
                  <a:pt x="12857" y="13542"/>
                </a:lnTo>
                <a:lnTo>
                  <a:pt x="12799" y="20028"/>
                </a:lnTo>
                <a:lnTo>
                  <a:pt x="11718" y="20040"/>
                </a:lnTo>
                <a:lnTo>
                  <a:pt x="11718" y="13542"/>
                </a:lnTo>
                <a:close/>
                <a:moveTo>
                  <a:pt x="13850" y="13542"/>
                </a:moveTo>
                <a:lnTo>
                  <a:pt x="14911" y="13542"/>
                </a:lnTo>
                <a:cubicBezTo>
                  <a:pt x="14908" y="13935"/>
                  <a:pt x="14907" y="14322"/>
                  <a:pt x="14905" y="14716"/>
                </a:cubicBezTo>
                <a:cubicBezTo>
                  <a:pt x="14904" y="14729"/>
                  <a:pt x="14905" y="14744"/>
                  <a:pt x="14905" y="14757"/>
                </a:cubicBezTo>
                <a:lnTo>
                  <a:pt x="13824" y="18317"/>
                </a:lnTo>
                <a:lnTo>
                  <a:pt x="13850" y="13542"/>
                </a:lnTo>
                <a:close/>
              </a:path>
            </a:pathLst>
          </a:custGeom>
          <a:solidFill>
            <a:srgbClr val="d6d6d6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hape"/>
          <p:cNvSpPr/>
          <p:nvPr/>
        </p:nvSpPr>
        <p:spPr>
          <a:xfrm>
            <a:off x="511920" y="6192360"/>
            <a:ext cx="331920" cy="330840"/>
          </a:xfrm>
          <a:custGeom>
            <a:avLst/>
            <a:gdLst>
              <a:gd name="textAreaLeft" fmla="*/ 0 w 331920"/>
              <a:gd name="textAreaRight" fmla="*/ 332280 w 331920"/>
              <a:gd name="textAreaTop" fmla="*/ 0 h 330840"/>
              <a:gd name="textAreaBottom" fmla="*/ 331200 h 33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59" y="13269"/>
                </a:lnTo>
                <a:lnTo>
                  <a:pt x="4228" y="21600"/>
                </a:lnTo>
                <a:lnTo>
                  <a:pt x="14299" y="21600"/>
                </a:lnTo>
                <a:lnTo>
                  <a:pt x="16844" y="14000"/>
                </a:lnTo>
                <a:lnTo>
                  <a:pt x="19165" y="13629"/>
                </a:lnTo>
                <a:lnTo>
                  <a:pt x="21577" y="10823"/>
                </a:lnTo>
                <a:lnTo>
                  <a:pt x="21600" y="4790"/>
                </a:lnTo>
                <a:lnTo>
                  <a:pt x="19396" y="2227"/>
                </a:lnTo>
                <a:lnTo>
                  <a:pt x="18130" y="2219"/>
                </a:lnTo>
                <a:lnTo>
                  <a:pt x="18355" y="19"/>
                </a:lnTo>
                <a:lnTo>
                  <a:pt x="0" y="0"/>
                </a:lnTo>
                <a:close/>
                <a:moveTo>
                  <a:pt x="17971" y="3798"/>
                </a:moveTo>
                <a:lnTo>
                  <a:pt x="19107" y="3828"/>
                </a:lnTo>
                <a:lnTo>
                  <a:pt x="20477" y="5423"/>
                </a:lnTo>
                <a:lnTo>
                  <a:pt x="20477" y="10190"/>
                </a:lnTo>
                <a:lnTo>
                  <a:pt x="18736" y="12216"/>
                </a:lnTo>
                <a:lnTo>
                  <a:pt x="17082" y="12489"/>
                </a:lnTo>
                <a:lnTo>
                  <a:pt x="17971" y="3798"/>
                </a:lnTo>
                <a:close/>
                <a:moveTo>
                  <a:pt x="2985" y="4203"/>
                </a:moveTo>
                <a:lnTo>
                  <a:pt x="4092" y="4203"/>
                </a:lnTo>
                <a:lnTo>
                  <a:pt x="6637" y="7165"/>
                </a:lnTo>
                <a:lnTo>
                  <a:pt x="7359" y="6320"/>
                </a:lnTo>
                <a:lnTo>
                  <a:pt x="5543" y="4207"/>
                </a:lnTo>
                <a:lnTo>
                  <a:pt x="7109" y="4207"/>
                </a:lnTo>
                <a:lnTo>
                  <a:pt x="7080" y="4237"/>
                </a:lnTo>
                <a:lnTo>
                  <a:pt x="8007" y="5317"/>
                </a:lnTo>
                <a:lnTo>
                  <a:pt x="8928" y="4237"/>
                </a:lnTo>
                <a:lnTo>
                  <a:pt x="8902" y="4207"/>
                </a:lnTo>
                <a:lnTo>
                  <a:pt x="10351" y="4211"/>
                </a:lnTo>
                <a:lnTo>
                  <a:pt x="11249" y="5256"/>
                </a:lnTo>
                <a:lnTo>
                  <a:pt x="12151" y="4211"/>
                </a:lnTo>
                <a:lnTo>
                  <a:pt x="13332" y="4211"/>
                </a:lnTo>
                <a:lnTo>
                  <a:pt x="16197" y="7547"/>
                </a:lnTo>
                <a:lnTo>
                  <a:pt x="16200" y="7543"/>
                </a:lnTo>
                <a:lnTo>
                  <a:pt x="16041" y="8926"/>
                </a:lnTo>
                <a:lnTo>
                  <a:pt x="14218" y="6809"/>
                </a:lnTo>
                <a:lnTo>
                  <a:pt x="13492" y="7649"/>
                </a:lnTo>
                <a:lnTo>
                  <a:pt x="15868" y="10414"/>
                </a:lnTo>
                <a:lnTo>
                  <a:pt x="15643" y="12303"/>
                </a:lnTo>
                <a:lnTo>
                  <a:pt x="15624" y="12383"/>
                </a:lnTo>
                <a:lnTo>
                  <a:pt x="14136" y="10652"/>
                </a:lnTo>
                <a:lnTo>
                  <a:pt x="13414" y="11493"/>
                </a:lnTo>
                <a:lnTo>
                  <a:pt x="14188" y="12394"/>
                </a:lnTo>
                <a:lnTo>
                  <a:pt x="11718" y="12394"/>
                </a:lnTo>
                <a:lnTo>
                  <a:pt x="11471" y="12394"/>
                </a:lnTo>
                <a:lnTo>
                  <a:pt x="11978" y="11807"/>
                </a:lnTo>
                <a:lnTo>
                  <a:pt x="9521" y="8952"/>
                </a:lnTo>
                <a:lnTo>
                  <a:pt x="8795" y="9793"/>
                </a:lnTo>
                <a:lnTo>
                  <a:pt x="11031" y="12394"/>
                </a:lnTo>
                <a:lnTo>
                  <a:pt x="10787" y="12394"/>
                </a:lnTo>
                <a:lnTo>
                  <a:pt x="9846" y="12394"/>
                </a:lnTo>
                <a:lnTo>
                  <a:pt x="9472" y="11959"/>
                </a:lnTo>
                <a:lnTo>
                  <a:pt x="9098" y="12394"/>
                </a:lnTo>
                <a:lnTo>
                  <a:pt x="8723" y="12394"/>
                </a:lnTo>
                <a:lnTo>
                  <a:pt x="7636" y="12394"/>
                </a:lnTo>
                <a:lnTo>
                  <a:pt x="6643" y="12394"/>
                </a:lnTo>
                <a:lnTo>
                  <a:pt x="6403" y="12394"/>
                </a:lnTo>
                <a:lnTo>
                  <a:pt x="4905" y="10652"/>
                </a:lnTo>
                <a:lnTo>
                  <a:pt x="4183" y="11493"/>
                </a:lnTo>
                <a:lnTo>
                  <a:pt x="4957" y="12394"/>
                </a:lnTo>
                <a:lnTo>
                  <a:pt x="2637" y="12394"/>
                </a:lnTo>
                <a:lnTo>
                  <a:pt x="3151" y="11796"/>
                </a:lnTo>
                <a:lnTo>
                  <a:pt x="2357" y="10872"/>
                </a:lnTo>
                <a:lnTo>
                  <a:pt x="2174" y="8626"/>
                </a:lnTo>
                <a:lnTo>
                  <a:pt x="2763" y="7941"/>
                </a:lnTo>
                <a:lnTo>
                  <a:pt x="2054" y="7112"/>
                </a:lnTo>
                <a:lnTo>
                  <a:pt x="1920" y="5442"/>
                </a:lnTo>
                <a:lnTo>
                  <a:pt x="2985" y="4203"/>
                </a:lnTo>
                <a:close/>
                <a:moveTo>
                  <a:pt x="14784" y="4215"/>
                </a:moveTo>
                <a:lnTo>
                  <a:pt x="16587" y="4215"/>
                </a:lnTo>
                <a:lnTo>
                  <a:pt x="16373" y="6063"/>
                </a:lnTo>
                <a:lnTo>
                  <a:pt x="14784" y="4215"/>
                </a:lnTo>
                <a:close/>
                <a:moveTo>
                  <a:pt x="3349" y="5264"/>
                </a:moveTo>
                <a:lnTo>
                  <a:pt x="2617" y="6119"/>
                </a:lnTo>
                <a:lnTo>
                  <a:pt x="3349" y="6975"/>
                </a:lnTo>
                <a:lnTo>
                  <a:pt x="4085" y="6119"/>
                </a:lnTo>
                <a:lnTo>
                  <a:pt x="3349" y="5264"/>
                </a:lnTo>
                <a:close/>
                <a:moveTo>
                  <a:pt x="12890" y="5264"/>
                </a:moveTo>
                <a:lnTo>
                  <a:pt x="12157" y="6119"/>
                </a:lnTo>
                <a:lnTo>
                  <a:pt x="12890" y="6975"/>
                </a:lnTo>
                <a:lnTo>
                  <a:pt x="13625" y="6119"/>
                </a:lnTo>
                <a:lnTo>
                  <a:pt x="12890" y="5264"/>
                </a:lnTo>
                <a:close/>
                <a:moveTo>
                  <a:pt x="9521" y="5358"/>
                </a:moveTo>
                <a:lnTo>
                  <a:pt x="8795" y="6199"/>
                </a:lnTo>
                <a:lnTo>
                  <a:pt x="11249" y="9058"/>
                </a:lnTo>
                <a:lnTo>
                  <a:pt x="11978" y="8214"/>
                </a:lnTo>
                <a:lnTo>
                  <a:pt x="9521" y="5358"/>
                </a:lnTo>
                <a:close/>
                <a:moveTo>
                  <a:pt x="4905" y="7059"/>
                </a:moveTo>
                <a:lnTo>
                  <a:pt x="4183" y="7899"/>
                </a:lnTo>
                <a:lnTo>
                  <a:pt x="6637" y="10758"/>
                </a:lnTo>
                <a:lnTo>
                  <a:pt x="7359" y="9914"/>
                </a:lnTo>
                <a:lnTo>
                  <a:pt x="4905" y="7059"/>
                </a:lnTo>
                <a:close/>
                <a:moveTo>
                  <a:pt x="8007" y="7085"/>
                </a:moveTo>
                <a:lnTo>
                  <a:pt x="7272" y="7941"/>
                </a:lnTo>
                <a:lnTo>
                  <a:pt x="8007" y="8793"/>
                </a:lnTo>
                <a:lnTo>
                  <a:pt x="8743" y="7941"/>
                </a:lnTo>
                <a:lnTo>
                  <a:pt x="8007" y="7085"/>
                </a:lnTo>
                <a:close/>
                <a:moveTo>
                  <a:pt x="3349" y="8907"/>
                </a:moveTo>
                <a:lnTo>
                  <a:pt x="2617" y="9762"/>
                </a:lnTo>
                <a:lnTo>
                  <a:pt x="3349" y="10614"/>
                </a:lnTo>
                <a:lnTo>
                  <a:pt x="4085" y="9762"/>
                </a:lnTo>
                <a:lnTo>
                  <a:pt x="3349" y="8907"/>
                </a:lnTo>
                <a:close/>
                <a:moveTo>
                  <a:pt x="12799" y="9032"/>
                </a:moveTo>
                <a:lnTo>
                  <a:pt x="12066" y="9887"/>
                </a:lnTo>
                <a:lnTo>
                  <a:pt x="12799" y="10739"/>
                </a:lnTo>
                <a:lnTo>
                  <a:pt x="13537" y="9887"/>
                </a:lnTo>
                <a:lnTo>
                  <a:pt x="12799" y="9032"/>
                </a:lnTo>
                <a:close/>
                <a:moveTo>
                  <a:pt x="8007" y="10611"/>
                </a:moveTo>
                <a:lnTo>
                  <a:pt x="7272" y="11470"/>
                </a:lnTo>
                <a:lnTo>
                  <a:pt x="8007" y="12322"/>
                </a:lnTo>
                <a:lnTo>
                  <a:pt x="8743" y="11470"/>
                </a:lnTo>
                <a:lnTo>
                  <a:pt x="8007" y="10611"/>
                </a:lnTo>
                <a:close/>
                <a:moveTo>
                  <a:pt x="3450" y="13542"/>
                </a:moveTo>
                <a:lnTo>
                  <a:pt x="4511" y="13542"/>
                </a:lnTo>
                <a:lnTo>
                  <a:pt x="4511" y="18021"/>
                </a:lnTo>
                <a:lnTo>
                  <a:pt x="3467" y="15227"/>
                </a:lnTo>
                <a:cubicBezTo>
                  <a:pt x="3465" y="15056"/>
                  <a:pt x="3461" y="14886"/>
                  <a:pt x="3460" y="14716"/>
                </a:cubicBezTo>
                <a:cubicBezTo>
                  <a:pt x="3457" y="14322"/>
                  <a:pt x="3453" y="13935"/>
                  <a:pt x="3450" y="13542"/>
                </a:cubicBezTo>
                <a:close/>
                <a:moveTo>
                  <a:pt x="5504" y="13542"/>
                </a:moveTo>
                <a:lnTo>
                  <a:pt x="6643" y="13542"/>
                </a:lnTo>
                <a:lnTo>
                  <a:pt x="6643" y="20059"/>
                </a:lnTo>
                <a:lnTo>
                  <a:pt x="5576" y="20066"/>
                </a:lnTo>
                <a:lnTo>
                  <a:pt x="5504" y="13542"/>
                </a:lnTo>
                <a:close/>
                <a:moveTo>
                  <a:pt x="7636" y="13542"/>
                </a:moveTo>
                <a:lnTo>
                  <a:pt x="8723" y="13542"/>
                </a:lnTo>
                <a:lnTo>
                  <a:pt x="8723" y="20047"/>
                </a:lnTo>
                <a:lnTo>
                  <a:pt x="7636" y="20059"/>
                </a:lnTo>
                <a:lnTo>
                  <a:pt x="7636" y="13542"/>
                </a:lnTo>
                <a:close/>
                <a:moveTo>
                  <a:pt x="9719" y="13542"/>
                </a:moveTo>
                <a:lnTo>
                  <a:pt x="10787" y="13542"/>
                </a:lnTo>
                <a:lnTo>
                  <a:pt x="10787" y="20040"/>
                </a:lnTo>
                <a:lnTo>
                  <a:pt x="9719" y="20047"/>
                </a:lnTo>
                <a:lnTo>
                  <a:pt x="9719" y="13542"/>
                </a:lnTo>
                <a:close/>
                <a:moveTo>
                  <a:pt x="11718" y="13542"/>
                </a:moveTo>
                <a:lnTo>
                  <a:pt x="12857" y="13542"/>
                </a:lnTo>
                <a:lnTo>
                  <a:pt x="12799" y="20028"/>
                </a:lnTo>
                <a:lnTo>
                  <a:pt x="11718" y="20040"/>
                </a:lnTo>
                <a:lnTo>
                  <a:pt x="11718" y="13542"/>
                </a:lnTo>
                <a:close/>
                <a:moveTo>
                  <a:pt x="13850" y="13542"/>
                </a:moveTo>
                <a:lnTo>
                  <a:pt x="14911" y="13542"/>
                </a:lnTo>
                <a:cubicBezTo>
                  <a:pt x="14908" y="13935"/>
                  <a:pt x="14907" y="14322"/>
                  <a:pt x="14905" y="14716"/>
                </a:cubicBezTo>
                <a:cubicBezTo>
                  <a:pt x="14904" y="14729"/>
                  <a:pt x="14905" y="14744"/>
                  <a:pt x="14905" y="14757"/>
                </a:cubicBezTo>
                <a:lnTo>
                  <a:pt x="13824" y="18317"/>
                </a:lnTo>
                <a:lnTo>
                  <a:pt x="13850" y="13542"/>
                </a:lnTo>
                <a:close/>
              </a:path>
            </a:pathLst>
          </a:custGeom>
          <a:solidFill>
            <a:srgbClr val="d6d6d6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hape"/>
          <p:cNvSpPr/>
          <p:nvPr/>
        </p:nvSpPr>
        <p:spPr>
          <a:xfrm>
            <a:off x="918000" y="6192360"/>
            <a:ext cx="331920" cy="330840"/>
          </a:xfrm>
          <a:custGeom>
            <a:avLst/>
            <a:gdLst>
              <a:gd name="textAreaLeft" fmla="*/ 0 w 331920"/>
              <a:gd name="textAreaRight" fmla="*/ 332280 w 331920"/>
              <a:gd name="textAreaTop" fmla="*/ 0 h 330840"/>
              <a:gd name="textAreaBottom" fmla="*/ 331200 h 33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59" y="13269"/>
                </a:lnTo>
                <a:lnTo>
                  <a:pt x="4228" y="21600"/>
                </a:lnTo>
                <a:lnTo>
                  <a:pt x="14299" y="21600"/>
                </a:lnTo>
                <a:lnTo>
                  <a:pt x="16844" y="14000"/>
                </a:lnTo>
                <a:lnTo>
                  <a:pt x="19165" y="13629"/>
                </a:lnTo>
                <a:lnTo>
                  <a:pt x="21577" y="10823"/>
                </a:lnTo>
                <a:lnTo>
                  <a:pt x="21600" y="4790"/>
                </a:lnTo>
                <a:lnTo>
                  <a:pt x="19396" y="2227"/>
                </a:lnTo>
                <a:lnTo>
                  <a:pt x="18130" y="2219"/>
                </a:lnTo>
                <a:lnTo>
                  <a:pt x="18355" y="19"/>
                </a:lnTo>
                <a:lnTo>
                  <a:pt x="0" y="0"/>
                </a:lnTo>
                <a:close/>
                <a:moveTo>
                  <a:pt x="17971" y="3798"/>
                </a:moveTo>
                <a:lnTo>
                  <a:pt x="19107" y="3828"/>
                </a:lnTo>
                <a:lnTo>
                  <a:pt x="20477" y="5423"/>
                </a:lnTo>
                <a:lnTo>
                  <a:pt x="20477" y="10190"/>
                </a:lnTo>
                <a:lnTo>
                  <a:pt x="18736" y="12216"/>
                </a:lnTo>
                <a:lnTo>
                  <a:pt x="17082" y="12489"/>
                </a:lnTo>
                <a:lnTo>
                  <a:pt x="17971" y="3798"/>
                </a:lnTo>
                <a:close/>
                <a:moveTo>
                  <a:pt x="2985" y="4203"/>
                </a:moveTo>
                <a:lnTo>
                  <a:pt x="4092" y="4203"/>
                </a:lnTo>
                <a:lnTo>
                  <a:pt x="6637" y="7165"/>
                </a:lnTo>
                <a:lnTo>
                  <a:pt x="7359" y="6320"/>
                </a:lnTo>
                <a:lnTo>
                  <a:pt x="5543" y="4207"/>
                </a:lnTo>
                <a:lnTo>
                  <a:pt x="7109" y="4207"/>
                </a:lnTo>
                <a:lnTo>
                  <a:pt x="7080" y="4237"/>
                </a:lnTo>
                <a:lnTo>
                  <a:pt x="8007" y="5317"/>
                </a:lnTo>
                <a:lnTo>
                  <a:pt x="8928" y="4237"/>
                </a:lnTo>
                <a:lnTo>
                  <a:pt x="8902" y="4207"/>
                </a:lnTo>
                <a:lnTo>
                  <a:pt x="10351" y="4211"/>
                </a:lnTo>
                <a:lnTo>
                  <a:pt x="11249" y="5256"/>
                </a:lnTo>
                <a:lnTo>
                  <a:pt x="12151" y="4211"/>
                </a:lnTo>
                <a:lnTo>
                  <a:pt x="13332" y="4211"/>
                </a:lnTo>
                <a:lnTo>
                  <a:pt x="16197" y="7547"/>
                </a:lnTo>
                <a:lnTo>
                  <a:pt x="16200" y="7543"/>
                </a:lnTo>
                <a:lnTo>
                  <a:pt x="16041" y="8926"/>
                </a:lnTo>
                <a:lnTo>
                  <a:pt x="14218" y="6809"/>
                </a:lnTo>
                <a:lnTo>
                  <a:pt x="13492" y="7649"/>
                </a:lnTo>
                <a:lnTo>
                  <a:pt x="15868" y="10414"/>
                </a:lnTo>
                <a:lnTo>
                  <a:pt x="15643" y="12303"/>
                </a:lnTo>
                <a:lnTo>
                  <a:pt x="15624" y="12383"/>
                </a:lnTo>
                <a:lnTo>
                  <a:pt x="14136" y="10652"/>
                </a:lnTo>
                <a:lnTo>
                  <a:pt x="13414" y="11493"/>
                </a:lnTo>
                <a:lnTo>
                  <a:pt x="14188" y="12394"/>
                </a:lnTo>
                <a:lnTo>
                  <a:pt x="11718" y="12394"/>
                </a:lnTo>
                <a:lnTo>
                  <a:pt x="11471" y="12394"/>
                </a:lnTo>
                <a:lnTo>
                  <a:pt x="11978" y="11807"/>
                </a:lnTo>
                <a:lnTo>
                  <a:pt x="9521" y="8952"/>
                </a:lnTo>
                <a:lnTo>
                  <a:pt x="8795" y="9793"/>
                </a:lnTo>
                <a:lnTo>
                  <a:pt x="11031" y="12394"/>
                </a:lnTo>
                <a:lnTo>
                  <a:pt x="10787" y="12394"/>
                </a:lnTo>
                <a:lnTo>
                  <a:pt x="9846" y="12394"/>
                </a:lnTo>
                <a:lnTo>
                  <a:pt x="9472" y="11959"/>
                </a:lnTo>
                <a:lnTo>
                  <a:pt x="9098" y="12394"/>
                </a:lnTo>
                <a:lnTo>
                  <a:pt x="8723" y="12394"/>
                </a:lnTo>
                <a:lnTo>
                  <a:pt x="7636" y="12394"/>
                </a:lnTo>
                <a:lnTo>
                  <a:pt x="6643" y="12394"/>
                </a:lnTo>
                <a:lnTo>
                  <a:pt x="6403" y="12394"/>
                </a:lnTo>
                <a:lnTo>
                  <a:pt x="4905" y="10652"/>
                </a:lnTo>
                <a:lnTo>
                  <a:pt x="4183" y="11493"/>
                </a:lnTo>
                <a:lnTo>
                  <a:pt x="4957" y="12394"/>
                </a:lnTo>
                <a:lnTo>
                  <a:pt x="2637" y="12394"/>
                </a:lnTo>
                <a:lnTo>
                  <a:pt x="3151" y="11796"/>
                </a:lnTo>
                <a:lnTo>
                  <a:pt x="2357" y="10872"/>
                </a:lnTo>
                <a:lnTo>
                  <a:pt x="2174" y="8626"/>
                </a:lnTo>
                <a:lnTo>
                  <a:pt x="2763" y="7941"/>
                </a:lnTo>
                <a:lnTo>
                  <a:pt x="2054" y="7112"/>
                </a:lnTo>
                <a:lnTo>
                  <a:pt x="1920" y="5442"/>
                </a:lnTo>
                <a:lnTo>
                  <a:pt x="2985" y="4203"/>
                </a:lnTo>
                <a:close/>
                <a:moveTo>
                  <a:pt x="14784" y="4215"/>
                </a:moveTo>
                <a:lnTo>
                  <a:pt x="16587" y="4215"/>
                </a:lnTo>
                <a:lnTo>
                  <a:pt x="16373" y="6063"/>
                </a:lnTo>
                <a:lnTo>
                  <a:pt x="14784" y="4215"/>
                </a:lnTo>
                <a:close/>
                <a:moveTo>
                  <a:pt x="3349" y="5264"/>
                </a:moveTo>
                <a:lnTo>
                  <a:pt x="2617" y="6119"/>
                </a:lnTo>
                <a:lnTo>
                  <a:pt x="3349" y="6975"/>
                </a:lnTo>
                <a:lnTo>
                  <a:pt x="4085" y="6119"/>
                </a:lnTo>
                <a:lnTo>
                  <a:pt x="3349" y="5264"/>
                </a:lnTo>
                <a:close/>
                <a:moveTo>
                  <a:pt x="12890" y="5264"/>
                </a:moveTo>
                <a:lnTo>
                  <a:pt x="12157" y="6119"/>
                </a:lnTo>
                <a:lnTo>
                  <a:pt x="12890" y="6975"/>
                </a:lnTo>
                <a:lnTo>
                  <a:pt x="13625" y="6119"/>
                </a:lnTo>
                <a:lnTo>
                  <a:pt x="12890" y="5264"/>
                </a:lnTo>
                <a:close/>
                <a:moveTo>
                  <a:pt x="9521" y="5358"/>
                </a:moveTo>
                <a:lnTo>
                  <a:pt x="8795" y="6199"/>
                </a:lnTo>
                <a:lnTo>
                  <a:pt x="11249" y="9058"/>
                </a:lnTo>
                <a:lnTo>
                  <a:pt x="11978" y="8214"/>
                </a:lnTo>
                <a:lnTo>
                  <a:pt x="9521" y="5358"/>
                </a:lnTo>
                <a:close/>
                <a:moveTo>
                  <a:pt x="4905" y="7059"/>
                </a:moveTo>
                <a:lnTo>
                  <a:pt x="4183" y="7899"/>
                </a:lnTo>
                <a:lnTo>
                  <a:pt x="6637" y="10758"/>
                </a:lnTo>
                <a:lnTo>
                  <a:pt x="7359" y="9914"/>
                </a:lnTo>
                <a:lnTo>
                  <a:pt x="4905" y="7059"/>
                </a:lnTo>
                <a:close/>
                <a:moveTo>
                  <a:pt x="8007" y="7085"/>
                </a:moveTo>
                <a:lnTo>
                  <a:pt x="7272" y="7941"/>
                </a:lnTo>
                <a:lnTo>
                  <a:pt x="8007" y="8793"/>
                </a:lnTo>
                <a:lnTo>
                  <a:pt x="8743" y="7941"/>
                </a:lnTo>
                <a:lnTo>
                  <a:pt x="8007" y="7085"/>
                </a:lnTo>
                <a:close/>
                <a:moveTo>
                  <a:pt x="3349" y="8907"/>
                </a:moveTo>
                <a:lnTo>
                  <a:pt x="2617" y="9762"/>
                </a:lnTo>
                <a:lnTo>
                  <a:pt x="3349" y="10614"/>
                </a:lnTo>
                <a:lnTo>
                  <a:pt x="4085" y="9762"/>
                </a:lnTo>
                <a:lnTo>
                  <a:pt x="3349" y="8907"/>
                </a:lnTo>
                <a:close/>
                <a:moveTo>
                  <a:pt x="12799" y="9032"/>
                </a:moveTo>
                <a:lnTo>
                  <a:pt x="12066" y="9887"/>
                </a:lnTo>
                <a:lnTo>
                  <a:pt x="12799" y="10739"/>
                </a:lnTo>
                <a:lnTo>
                  <a:pt x="13537" y="9887"/>
                </a:lnTo>
                <a:lnTo>
                  <a:pt x="12799" y="9032"/>
                </a:lnTo>
                <a:close/>
                <a:moveTo>
                  <a:pt x="8007" y="10611"/>
                </a:moveTo>
                <a:lnTo>
                  <a:pt x="7272" y="11470"/>
                </a:lnTo>
                <a:lnTo>
                  <a:pt x="8007" y="12322"/>
                </a:lnTo>
                <a:lnTo>
                  <a:pt x="8743" y="11470"/>
                </a:lnTo>
                <a:lnTo>
                  <a:pt x="8007" y="10611"/>
                </a:lnTo>
                <a:close/>
                <a:moveTo>
                  <a:pt x="3450" y="13542"/>
                </a:moveTo>
                <a:lnTo>
                  <a:pt x="4511" y="13542"/>
                </a:lnTo>
                <a:lnTo>
                  <a:pt x="4511" y="18021"/>
                </a:lnTo>
                <a:lnTo>
                  <a:pt x="3467" y="15227"/>
                </a:lnTo>
                <a:cubicBezTo>
                  <a:pt x="3465" y="15056"/>
                  <a:pt x="3461" y="14886"/>
                  <a:pt x="3460" y="14716"/>
                </a:cubicBezTo>
                <a:cubicBezTo>
                  <a:pt x="3457" y="14322"/>
                  <a:pt x="3453" y="13935"/>
                  <a:pt x="3450" y="13542"/>
                </a:cubicBezTo>
                <a:close/>
                <a:moveTo>
                  <a:pt x="5504" y="13542"/>
                </a:moveTo>
                <a:lnTo>
                  <a:pt x="6643" y="13542"/>
                </a:lnTo>
                <a:lnTo>
                  <a:pt x="6643" y="20059"/>
                </a:lnTo>
                <a:lnTo>
                  <a:pt x="5576" y="20066"/>
                </a:lnTo>
                <a:lnTo>
                  <a:pt x="5504" y="13542"/>
                </a:lnTo>
                <a:close/>
                <a:moveTo>
                  <a:pt x="7636" y="13542"/>
                </a:moveTo>
                <a:lnTo>
                  <a:pt x="8723" y="13542"/>
                </a:lnTo>
                <a:lnTo>
                  <a:pt x="8723" y="20047"/>
                </a:lnTo>
                <a:lnTo>
                  <a:pt x="7636" y="20059"/>
                </a:lnTo>
                <a:lnTo>
                  <a:pt x="7636" y="13542"/>
                </a:lnTo>
                <a:close/>
                <a:moveTo>
                  <a:pt x="9719" y="13542"/>
                </a:moveTo>
                <a:lnTo>
                  <a:pt x="10787" y="13542"/>
                </a:lnTo>
                <a:lnTo>
                  <a:pt x="10787" y="20040"/>
                </a:lnTo>
                <a:lnTo>
                  <a:pt x="9719" y="20047"/>
                </a:lnTo>
                <a:lnTo>
                  <a:pt x="9719" y="13542"/>
                </a:lnTo>
                <a:close/>
                <a:moveTo>
                  <a:pt x="11718" y="13542"/>
                </a:moveTo>
                <a:lnTo>
                  <a:pt x="12857" y="13542"/>
                </a:lnTo>
                <a:lnTo>
                  <a:pt x="12799" y="20028"/>
                </a:lnTo>
                <a:lnTo>
                  <a:pt x="11718" y="20040"/>
                </a:lnTo>
                <a:lnTo>
                  <a:pt x="11718" y="13542"/>
                </a:lnTo>
                <a:close/>
                <a:moveTo>
                  <a:pt x="13850" y="13542"/>
                </a:moveTo>
                <a:lnTo>
                  <a:pt x="14911" y="13542"/>
                </a:lnTo>
                <a:cubicBezTo>
                  <a:pt x="14908" y="13935"/>
                  <a:pt x="14907" y="14322"/>
                  <a:pt x="14905" y="14716"/>
                </a:cubicBezTo>
                <a:cubicBezTo>
                  <a:pt x="14904" y="14729"/>
                  <a:pt x="14905" y="14744"/>
                  <a:pt x="14905" y="14757"/>
                </a:cubicBezTo>
                <a:lnTo>
                  <a:pt x="13824" y="18317"/>
                </a:lnTo>
                <a:lnTo>
                  <a:pt x="13850" y="13542"/>
                </a:lnTo>
                <a:close/>
              </a:path>
            </a:pathLst>
          </a:custGeom>
          <a:solidFill>
            <a:srgbClr val="d6d6d6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hape"/>
          <p:cNvSpPr/>
          <p:nvPr/>
        </p:nvSpPr>
        <p:spPr>
          <a:xfrm>
            <a:off x="1324080" y="6180480"/>
            <a:ext cx="331920" cy="330840"/>
          </a:xfrm>
          <a:custGeom>
            <a:avLst/>
            <a:gdLst>
              <a:gd name="textAreaLeft" fmla="*/ 0 w 331920"/>
              <a:gd name="textAreaRight" fmla="*/ 332280 w 331920"/>
              <a:gd name="textAreaTop" fmla="*/ 0 h 330840"/>
              <a:gd name="textAreaBottom" fmla="*/ 331200 h 33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59" y="13269"/>
                </a:lnTo>
                <a:lnTo>
                  <a:pt x="4228" y="21600"/>
                </a:lnTo>
                <a:lnTo>
                  <a:pt x="14299" y="21600"/>
                </a:lnTo>
                <a:lnTo>
                  <a:pt x="16844" y="14000"/>
                </a:lnTo>
                <a:lnTo>
                  <a:pt x="19165" y="13629"/>
                </a:lnTo>
                <a:lnTo>
                  <a:pt x="21577" y="10823"/>
                </a:lnTo>
                <a:lnTo>
                  <a:pt x="21600" y="4790"/>
                </a:lnTo>
                <a:lnTo>
                  <a:pt x="19396" y="2227"/>
                </a:lnTo>
                <a:lnTo>
                  <a:pt x="18130" y="2219"/>
                </a:lnTo>
                <a:lnTo>
                  <a:pt x="18355" y="19"/>
                </a:lnTo>
                <a:lnTo>
                  <a:pt x="0" y="0"/>
                </a:lnTo>
                <a:close/>
                <a:moveTo>
                  <a:pt x="17971" y="3798"/>
                </a:moveTo>
                <a:lnTo>
                  <a:pt x="19107" y="3828"/>
                </a:lnTo>
                <a:lnTo>
                  <a:pt x="20477" y="5423"/>
                </a:lnTo>
                <a:lnTo>
                  <a:pt x="20477" y="10190"/>
                </a:lnTo>
                <a:lnTo>
                  <a:pt x="18736" y="12216"/>
                </a:lnTo>
                <a:lnTo>
                  <a:pt x="17082" y="12489"/>
                </a:lnTo>
                <a:lnTo>
                  <a:pt x="17971" y="3798"/>
                </a:lnTo>
                <a:close/>
                <a:moveTo>
                  <a:pt x="2985" y="4203"/>
                </a:moveTo>
                <a:lnTo>
                  <a:pt x="4092" y="4203"/>
                </a:lnTo>
                <a:lnTo>
                  <a:pt x="6637" y="7165"/>
                </a:lnTo>
                <a:lnTo>
                  <a:pt x="7359" y="6320"/>
                </a:lnTo>
                <a:lnTo>
                  <a:pt x="5543" y="4207"/>
                </a:lnTo>
                <a:lnTo>
                  <a:pt x="7109" y="4207"/>
                </a:lnTo>
                <a:lnTo>
                  <a:pt x="7080" y="4237"/>
                </a:lnTo>
                <a:lnTo>
                  <a:pt x="8007" y="5317"/>
                </a:lnTo>
                <a:lnTo>
                  <a:pt x="8928" y="4237"/>
                </a:lnTo>
                <a:lnTo>
                  <a:pt x="8902" y="4207"/>
                </a:lnTo>
                <a:lnTo>
                  <a:pt x="10351" y="4211"/>
                </a:lnTo>
                <a:lnTo>
                  <a:pt x="11249" y="5256"/>
                </a:lnTo>
                <a:lnTo>
                  <a:pt x="12151" y="4211"/>
                </a:lnTo>
                <a:lnTo>
                  <a:pt x="13332" y="4211"/>
                </a:lnTo>
                <a:lnTo>
                  <a:pt x="16197" y="7547"/>
                </a:lnTo>
                <a:lnTo>
                  <a:pt x="16200" y="7543"/>
                </a:lnTo>
                <a:lnTo>
                  <a:pt x="16041" y="8926"/>
                </a:lnTo>
                <a:lnTo>
                  <a:pt x="14218" y="6809"/>
                </a:lnTo>
                <a:lnTo>
                  <a:pt x="13492" y="7649"/>
                </a:lnTo>
                <a:lnTo>
                  <a:pt x="15868" y="10414"/>
                </a:lnTo>
                <a:lnTo>
                  <a:pt x="15643" y="12303"/>
                </a:lnTo>
                <a:lnTo>
                  <a:pt x="15624" y="12383"/>
                </a:lnTo>
                <a:lnTo>
                  <a:pt x="14136" y="10652"/>
                </a:lnTo>
                <a:lnTo>
                  <a:pt x="13414" y="11493"/>
                </a:lnTo>
                <a:lnTo>
                  <a:pt x="14188" y="12394"/>
                </a:lnTo>
                <a:lnTo>
                  <a:pt x="11718" y="12394"/>
                </a:lnTo>
                <a:lnTo>
                  <a:pt x="11471" y="12394"/>
                </a:lnTo>
                <a:lnTo>
                  <a:pt x="11978" y="11807"/>
                </a:lnTo>
                <a:lnTo>
                  <a:pt x="9521" y="8952"/>
                </a:lnTo>
                <a:lnTo>
                  <a:pt x="8795" y="9793"/>
                </a:lnTo>
                <a:lnTo>
                  <a:pt x="11031" y="12394"/>
                </a:lnTo>
                <a:lnTo>
                  <a:pt x="10787" y="12394"/>
                </a:lnTo>
                <a:lnTo>
                  <a:pt x="9846" y="12394"/>
                </a:lnTo>
                <a:lnTo>
                  <a:pt x="9472" y="11959"/>
                </a:lnTo>
                <a:lnTo>
                  <a:pt x="9098" y="12394"/>
                </a:lnTo>
                <a:lnTo>
                  <a:pt x="8723" y="12394"/>
                </a:lnTo>
                <a:lnTo>
                  <a:pt x="7636" y="12394"/>
                </a:lnTo>
                <a:lnTo>
                  <a:pt x="6643" y="12394"/>
                </a:lnTo>
                <a:lnTo>
                  <a:pt x="6403" y="12394"/>
                </a:lnTo>
                <a:lnTo>
                  <a:pt x="4905" y="10652"/>
                </a:lnTo>
                <a:lnTo>
                  <a:pt x="4183" y="11493"/>
                </a:lnTo>
                <a:lnTo>
                  <a:pt x="4957" y="12394"/>
                </a:lnTo>
                <a:lnTo>
                  <a:pt x="2637" y="12394"/>
                </a:lnTo>
                <a:lnTo>
                  <a:pt x="3151" y="11796"/>
                </a:lnTo>
                <a:lnTo>
                  <a:pt x="2357" y="10872"/>
                </a:lnTo>
                <a:lnTo>
                  <a:pt x="2174" y="8626"/>
                </a:lnTo>
                <a:lnTo>
                  <a:pt x="2763" y="7941"/>
                </a:lnTo>
                <a:lnTo>
                  <a:pt x="2054" y="7112"/>
                </a:lnTo>
                <a:lnTo>
                  <a:pt x="1920" y="5442"/>
                </a:lnTo>
                <a:lnTo>
                  <a:pt x="2985" y="4203"/>
                </a:lnTo>
                <a:close/>
                <a:moveTo>
                  <a:pt x="14784" y="4215"/>
                </a:moveTo>
                <a:lnTo>
                  <a:pt x="16587" y="4215"/>
                </a:lnTo>
                <a:lnTo>
                  <a:pt x="16373" y="6063"/>
                </a:lnTo>
                <a:lnTo>
                  <a:pt x="14784" y="4215"/>
                </a:lnTo>
                <a:close/>
                <a:moveTo>
                  <a:pt x="3349" y="5264"/>
                </a:moveTo>
                <a:lnTo>
                  <a:pt x="2617" y="6119"/>
                </a:lnTo>
                <a:lnTo>
                  <a:pt x="3349" y="6975"/>
                </a:lnTo>
                <a:lnTo>
                  <a:pt x="4085" y="6119"/>
                </a:lnTo>
                <a:lnTo>
                  <a:pt x="3349" y="5264"/>
                </a:lnTo>
                <a:close/>
                <a:moveTo>
                  <a:pt x="12890" y="5264"/>
                </a:moveTo>
                <a:lnTo>
                  <a:pt x="12157" y="6119"/>
                </a:lnTo>
                <a:lnTo>
                  <a:pt x="12890" y="6975"/>
                </a:lnTo>
                <a:lnTo>
                  <a:pt x="13625" y="6119"/>
                </a:lnTo>
                <a:lnTo>
                  <a:pt x="12890" y="5264"/>
                </a:lnTo>
                <a:close/>
                <a:moveTo>
                  <a:pt x="9521" y="5358"/>
                </a:moveTo>
                <a:lnTo>
                  <a:pt x="8795" y="6199"/>
                </a:lnTo>
                <a:lnTo>
                  <a:pt x="11249" y="9058"/>
                </a:lnTo>
                <a:lnTo>
                  <a:pt x="11978" y="8214"/>
                </a:lnTo>
                <a:lnTo>
                  <a:pt x="9521" y="5358"/>
                </a:lnTo>
                <a:close/>
                <a:moveTo>
                  <a:pt x="4905" y="7059"/>
                </a:moveTo>
                <a:lnTo>
                  <a:pt x="4183" y="7899"/>
                </a:lnTo>
                <a:lnTo>
                  <a:pt x="6637" y="10758"/>
                </a:lnTo>
                <a:lnTo>
                  <a:pt x="7359" y="9914"/>
                </a:lnTo>
                <a:lnTo>
                  <a:pt x="4905" y="7059"/>
                </a:lnTo>
                <a:close/>
                <a:moveTo>
                  <a:pt x="8007" y="7085"/>
                </a:moveTo>
                <a:lnTo>
                  <a:pt x="7272" y="7941"/>
                </a:lnTo>
                <a:lnTo>
                  <a:pt x="8007" y="8793"/>
                </a:lnTo>
                <a:lnTo>
                  <a:pt x="8743" y="7941"/>
                </a:lnTo>
                <a:lnTo>
                  <a:pt x="8007" y="7085"/>
                </a:lnTo>
                <a:close/>
                <a:moveTo>
                  <a:pt x="3349" y="8907"/>
                </a:moveTo>
                <a:lnTo>
                  <a:pt x="2617" y="9762"/>
                </a:lnTo>
                <a:lnTo>
                  <a:pt x="3349" y="10614"/>
                </a:lnTo>
                <a:lnTo>
                  <a:pt x="4085" y="9762"/>
                </a:lnTo>
                <a:lnTo>
                  <a:pt x="3349" y="8907"/>
                </a:lnTo>
                <a:close/>
                <a:moveTo>
                  <a:pt x="12799" y="9032"/>
                </a:moveTo>
                <a:lnTo>
                  <a:pt x="12066" y="9887"/>
                </a:lnTo>
                <a:lnTo>
                  <a:pt x="12799" y="10739"/>
                </a:lnTo>
                <a:lnTo>
                  <a:pt x="13537" y="9887"/>
                </a:lnTo>
                <a:lnTo>
                  <a:pt x="12799" y="9032"/>
                </a:lnTo>
                <a:close/>
                <a:moveTo>
                  <a:pt x="8007" y="10611"/>
                </a:moveTo>
                <a:lnTo>
                  <a:pt x="7272" y="11470"/>
                </a:lnTo>
                <a:lnTo>
                  <a:pt x="8007" y="12322"/>
                </a:lnTo>
                <a:lnTo>
                  <a:pt x="8743" y="11470"/>
                </a:lnTo>
                <a:lnTo>
                  <a:pt x="8007" y="10611"/>
                </a:lnTo>
                <a:close/>
                <a:moveTo>
                  <a:pt x="3450" y="13542"/>
                </a:moveTo>
                <a:lnTo>
                  <a:pt x="4511" y="13542"/>
                </a:lnTo>
                <a:lnTo>
                  <a:pt x="4511" y="18021"/>
                </a:lnTo>
                <a:lnTo>
                  <a:pt x="3467" y="15227"/>
                </a:lnTo>
                <a:cubicBezTo>
                  <a:pt x="3465" y="15056"/>
                  <a:pt x="3461" y="14886"/>
                  <a:pt x="3460" y="14716"/>
                </a:cubicBezTo>
                <a:cubicBezTo>
                  <a:pt x="3457" y="14322"/>
                  <a:pt x="3453" y="13935"/>
                  <a:pt x="3450" y="13542"/>
                </a:cubicBezTo>
                <a:close/>
                <a:moveTo>
                  <a:pt x="5504" y="13542"/>
                </a:moveTo>
                <a:lnTo>
                  <a:pt x="6643" y="13542"/>
                </a:lnTo>
                <a:lnTo>
                  <a:pt x="6643" y="20059"/>
                </a:lnTo>
                <a:lnTo>
                  <a:pt x="5576" y="20066"/>
                </a:lnTo>
                <a:lnTo>
                  <a:pt x="5504" y="13542"/>
                </a:lnTo>
                <a:close/>
                <a:moveTo>
                  <a:pt x="7636" y="13542"/>
                </a:moveTo>
                <a:lnTo>
                  <a:pt x="8723" y="13542"/>
                </a:lnTo>
                <a:lnTo>
                  <a:pt x="8723" y="20047"/>
                </a:lnTo>
                <a:lnTo>
                  <a:pt x="7636" y="20059"/>
                </a:lnTo>
                <a:lnTo>
                  <a:pt x="7636" y="13542"/>
                </a:lnTo>
                <a:close/>
                <a:moveTo>
                  <a:pt x="9719" y="13542"/>
                </a:moveTo>
                <a:lnTo>
                  <a:pt x="10787" y="13542"/>
                </a:lnTo>
                <a:lnTo>
                  <a:pt x="10787" y="20040"/>
                </a:lnTo>
                <a:lnTo>
                  <a:pt x="9719" y="20047"/>
                </a:lnTo>
                <a:lnTo>
                  <a:pt x="9719" y="13542"/>
                </a:lnTo>
                <a:close/>
                <a:moveTo>
                  <a:pt x="11718" y="13542"/>
                </a:moveTo>
                <a:lnTo>
                  <a:pt x="12857" y="13542"/>
                </a:lnTo>
                <a:lnTo>
                  <a:pt x="12799" y="20028"/>
                </a:lnTo>
                <a:lnTo>
                  <a:pt x="11718" y="20040"/>
                </a:lnTo>
                <a:lnTo>
                  <a:pt x="11718" y="13542"/>
                </a:lnTo>
                <a:close/>
                <a:moveTo>
                  <a:pt x="13850" y="13542"/>
                </a:moveTo>
                <a:lnTo>
                  <a:pt x="14911" y="13542"/>
                </a:lnTo>
                <a:cubicBezTo>
                  <a:pt x="14908" y="13935"/>
                  <a:pt x="14907" y="14322"/>
                  <a:pt x="14905" y="14716"/>
                </a:cubicBezTo>
                <a:cubicBezTo>
                  <a:pt x="14904" y="14729"/>
                  <a:pt x="14905" y="14744"/>
                  <a:pt x="14905" y="14757"/>
                </a:cubicBezTo>
                <a:lnTo>
                  <a:pt x="13824" y="18317"/>
                </a:lnTo>
                <a:lnTo>
                  <a:pt x="13850" y="13542"/>
                </a:lnTo>
                <a:close/>
              </a:path>
            </a:pathLst>
          </a:custGeom>
          <a:solidFill>
            <a:srgbClr val="d6d6d6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hape"/>
          <p:cNvSpPr/>
          <p:nvPr/>
        </p:nvSpPr>
        <p:spPr>
          <a:xfrm>
            <a:off x="1730160" y="6182640"/>
            <a:ext cx="331920" cy="330840"/>
          </a:xfrm>
          <a:custGeom>
            <a:avLst/>
            <a:gdLst>
              <a:gd name="textAreaLeft" fmla="*/ 0 w 331920"/>
              <a:gd name="textAreaRight" fmla="*/ 332280 w 331920"/>
              <a:gd name="textAreaTop" fmla="*/ 0 h 330840"/>
              <a:gd name="textAreaBottom" fmla="*/ 331200 h 33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59" y="13269"/>
                </a:lnTo>
                <a:lnTo>
                  <a:pt x="4228" y="21600"/>
                </a:lnTo>
                <a:lnTo>
                  <a:pt x="14299" y="21600"/>
                </a:lnTo>
                <a:lnTo>
                  <a:pt x="16844" y="14000"/>
                </a:lnTo>
                <a:lnTo>
                  <a:pt x="19165" y="13629"/>
                </a:lnTo>
                <a:lnTo>
                  <a:pt x="21577" y="10823"/>
                </a:lnTo>
                <a:lnTo>
                  <a:pt x="21600" y="4790"/>
                </a:lnTo>
                <a:lnTo>
                  <a:pt x="19396" y="2227"/>
                </a:lnTo>
                <a:lnTo>
                  <a:pt x="18130" y="2219"/>
                </a:lnTo>
                <a:lnTo>
                  <a:pt x="18355" y="19"/>
                </a:lnTo>
                <a:lnTo>
                  <a:pt x="0" y="0"/>
                </a:lnTo>
                <a:close/>
                <a:moveTo>
                  <a:pt x="17971" y="3798"/>
                </a:moveTo>
                <a:lnTo>
                  <a:pt x="19107" y="3828"/>
                </a:lnTo>
                <a:lnTo>
                  <a:pt x="20477" y="5423"/>
                </a:lnTo>
                <a:lnTo>
                  <a:pt x="20477" y="10190"/>
                </a:lnTo>
                <a:lnTo>
                  <a:pt x="18736" y="12216"/>
                </a:lnTo>
                <a:lnTo>
                  <a:pt x="17082" y="12489"/>
                </a:lnTo>
                <a:lnTo>
                  <a:pt x="17971" y="3798"/>
                </a:lnTo>
                <a:close/>
                <a:moveTo>
                  <a:pt x="2985" y="4203"/>
                </a:moveTo>
                <a:lnTo>
                  <a:pt x="4092" y="4203"/>
                </a:lnTo>
                <a:lnTo>
                  <a:pt x="6637" y="7165"/>
                </a:lnTo>
                <a:lnTo>
                  <a:pt x="7359" y="6320"/>
                </a:lnTo>
                <a:lnTo>
                  <a:pt x="5543" y="4207"/>
                </a:lnTo>
                <a:lnTo>
                  <a:pt x="7109" y="4207"/>
                </a:lnTo>
                <a:lnTo>
                  <a:pt x="7080" y="4237"/>
                </a:lnTo>
                <a:lnTo>
                  <a:pt x="8007" y="5317"/>
                </a:lnTo>
                <a:lnTo>
                  <a:pt x="8928" y="4237"/>
                </a:lnTo>
                <a:lnTo>
                  <a:pt x="8902" y="4207"/>
                </a:lnTo>
                <a:lnTo>
                  <a:pt x="10351" y="4211"/>
                </a:lnTo>
                <a:lnTo>
                  <a:pt x="11249" y="5256"/>
                </a:lnTo>
                <a:lnTo>
                  <a:pt x="12151" y="4211"/>
                </a:lnTo>
                <a:lnTo>
                  <a:pt x="13332" y="4211"/>
                </a:lnTo>
                <a:lnTo>
                  <a:pt x="16197" y="7547"/>
                </a:lnTo>
                <a:lnTo>
                  <a:pt x="16200" y="7543"/>
                </a:lnTo>
                <a:lnTo>
                  <a:pt x="16041" y="8926"/>
                </a:lnTo>
                <a:lnTo>
                  <a:pt x="14218" y="6809"/>
                </a:lnTo>
                <a:lnTo>
                  <a:pt x="13492" y="7649"/>
                </a:lnTo>
                <a:lnTo>
                  <a:pt x="15868" y="10414"/>
                </a:lnTo>
                <a:lnTo>
                  <a:pt x="15643" y="12303"/>
                </a:lnTo>
                <a:lnTo>
                  <a:pt x="15624" y="12383"/>
                </a:lnTo>
                <a:lnTo>
                  <a:pt x="14136" y="10652"/>
                </a:lnTo>
                <a:lnTo>
                  <a:pt x="13414" y="11493"/>
                </a:lnTo>
                <a:lnTo>
                  <a:pt x="14188" y="12394"/>
                </a:lnTo>
                <a:lnTo>
                  <a:pt x="11718" y="12394"/>
                </a:lnTo>
                <a:lnTo>
                  <a:pt x="11471" y="12394"/>
                </a:lnTo>
                <a:lnTo>
                  <a:pt x="11978" y="11807"/>
                </a:lnTo>
                <a:lnTo>
                  <a:pt x="9521" y="8952"/>
                </a:lnTo>
                <a:lnTo>
                  <a:pt x="8795" y="9793"/>
                </a:lnTo>
                <a:lnTo>
                  <a:pt x="11031" y="12394"/>
                </a:lnTo>
                <a:lnTo>
                  <a:pt x="10787" y="12394"/>
                </a:lnTo>
                <a:lnTo>
                  <a:pt x="9846" y="12394"/>
                </a:lnTo>
                <a:lnTo>
                  <a:pt x="9472" y="11959"/>
                </a:lnTo>
                <a:lnTo>
                  <a:pt x="9098" y="12394"/>
                </a:lnTo>
                <a:lnTo>
                  <a:pt x="8723" y="12394"/>
                </a:lnTo>
                <a:lnTo>
                  <a:pt x="7636" y="12394"/>
                </a:lnTo>
                <a:lnTo>
                  <a:pt x="6643" y="12394"/>
                </a:lnTo>
                <a:lnTo>
                  <a:pt x="6403" y="12394"/>
                </a:lnTo>
                <a:lnTo>
                  <a:pt x="4905" y="10652"/>
                </a:lnTo>
                <a:lnTo>
                  <a:pt x="4183" y="11493"/>
                </a:lnTo>
                <a:lnTo>
                  <a:pt x="4957" y="12394"/>
                </a:lnTo>
                <a:lnTo>
                  <a:pt x="2637" y="12394"/>
                </a:lnTo>
                <a:lnTo>
                  <a:pt x="3151" y="11796"/>
                </a:lnTo>
                <a:lnTo>
                  <a:pt x="2357" y="10872"/>
                </a:lnTo>
                <a:lnTo>
                  <a:pt x="2174" y="8626"/>
                </a:lnTo>
                <a:lnTo>
                  <a:pt x="2763" y="7941"/>
                </a:lnTo>
                <a:lnTo>
                  <a:pt x="2054" y="7112"/>
                </a:lnTo>
                <a:lnTo>
                  <a:pt x="1920" y="5442"/>
                </a:lnTo>
                <a:lnTo>
                  <a:pt x="2985" y="4203"/>
                </a:lnTo>
                <a:close/>
                <a:moveTo>
                  <a:pt x="14784" y="4215"/>
                </a:moveTo>
                <a:lnTo>
                  <a:pt x="16587" y="4215"/>
                </a:lnTo>
                <a:lnTo>
                  <a:pt x="16373" y="6063"/>
                </a:lnTo>
                <a:lnTo>
                  <a:pt x="14784" y="4215"/>
                </a:lnTo>
                <a:close/>
                <a:moveTo>
                  <a:pt x="3349" y="5264"/>
                </a:moveTo>
                <a:lnTo>
                  <a:pt x="2617" y="6119"/>
                </a:lnTo>
                <a:lnTo>
                  <a:pt x="3349" y="6975"/>
                </a:lnTo>
                <a:lnTo>
                  <a:pt x="4085" y="6119"/>
                </a:lnTo>
                <a:lnTo>
                  <a:pt x="3349" y="5264"/>
                </a:lnTo>
                <a:close/>
                <a:moveTo>
                  <a:pt x="12890" y="5264"/>
                </a:moveTo>
                <a:lnTo>
                  <a:pt x="12157" y="6119"/>
                </a:lnTo>
                <a:lnTo>
                  <a:pt x="12890" y="6975"/>
                </a:lnTo>
                <a:lnTo>
                  <a:pt x="13625" y="6119"/>
                </a:lnTo>
                <a:lnTo>
                  <a:pt x="12890" y="5264"/>
                </a:lnTo>
                <a:close/>
                <a:moveTo>
                  <a:pt x="9521" y="5358"/>
                </a:moveTo>
                <a:lnTo>
                  <a:pt x="8795" y="6199"/>
                </a:lnTo>
                <a:lnTo>
                  <a:pt x="11249" y="9058"/>
                </a:lnTo>
                <a:lnTo>
                  <a:pt x="11978" y="8214"/>
                </a:lnTo>
                <a:lnTo>
                  <a:pt x="9521" y="5358"/>
                </a:lnTo>
                <a:close/>
                <a:moveTo>
                  <a:pt x="4905" y="7059"/>
                </a:moveTo>
                <a:lnTo>
                  <a:pt x="4183" y="7899"/>
                </a:lnTo>
                <a:lnTo>
                  <a:pt x="6637" y="10758"/>
                </a:lnTo>
                <a:lnTo>
                  <a:pt x="7359" y="9914"/>
                </a:lnTo>
                <a:lnTo>
                  <a:pt x="4905" y="7059"/>
                </a:lnTo>
                <a:close/>
                <a:moveTo>
                  <a:pt x="8007" y="7085"/>
                </a:moveTo>
                <a:lnTo>
                  <a:pt x="7272" y="7941"/>
                </a:lnTo>
                <a:lnTo>
                  <a:pt x="8007" y="8793"/>
                </a:lnTo>
                <a:lnTo>
                  <a:pt x="8743" y="7941"/>
                </a:lnTo>
                <a:lnTo>
                  <a:pt x="8007" y="7085"/>
                </a:lnTo>
                <a:close/>
                <a:moveTo>
                  <a:pt x="3349" y="8907"/>
                </a:moveTo>
                <a:lnTo>
                  <a:pt x="2617" y="9762"/>
                </a:lnTo>
                <a:lnTo>
                  <a:pt x="3349" y="10614"/>
                </a:lnTo>
                <a:lnTo>
                  <a:pt x="4085" y="9762"/>
                </a:lnTo>
                <a:lnTo>
                  <a:pt x="3349" y="8907"/>
                </a:lnTo>
                <a:close/>
                <a:moveTo>
                  <a:pt x="12799" y="9032"/>
                </a:moveTo>
                <a:lnTo>
                  <a:pt x="12066" y="9887"/>
                </a:lnTo>
                <a:lnTo>
                  <a:pt x="12799" y="10739"/>
                </a:lnTo>
                <a:lnTo>
                  <a:pt x="13537" y="9887"/>
                </a:lnTo>
                <a:lnTo>
                  <a:pt x="12799" y="9032"/>
                </a:lnTo>
                <a:close/>
                <a:moveTo>
                  <a:pt x="8007" y="10611"/>
                </a:moveTo>
                <a:lnTo>
                  <a:pt x="7272" y="11470"/>
                </a:lnTo>
                <a:lnTo>
                  <a:pt x="8007" y="12322"/>
                </a:lnTo>
                <a:lnTo>
                  <a:pt x="8743" y="11470"/>
                </a:lnTo>
                <a:lnTo>
                  <a:pt x="8007" y="10611"/>
                </a:lnTo>
                <a:close/>
                <a:moveTo>
                  <a:pt x="3450" y="13542"/>
                </a:moveTo>
                <a:lnTo>
                  <a:pt x="4511" y="13542"/>
                </a:lnTo>
                <a:lnTo>
                  <a:pt x="4511" y="18021"/>
                </a:lnTo>
                <a:lnTo>
                  <a:pt x="3467" y="15227"/>
                </a:lnTo>
                <a:cubicBezTo>
                  <a:pt x="3465" y="15056"/>
                  <a:pt x="3461" y="14886"/>
                  <a:pt x="3460" y="14716"/>
                </a:cubicBezTo>
                <a:cubicBezTo>
                  <a:pt x="3457" y="14322"/>
                  <a:pt x="3453" y="13935"/>
                  <a:pt x="3450" y="13542"/>
                </a:cubicBezTo>
                <a:close/>
                <a:moveTo>
                  <a:pt x="5504" y="13542"/>
                </a:moveTo>
                <a:lnTo>
                  <a:pt x="6643" y="13542"/>
                </a:lnTo>
                <a:lnTo>
                  <a:pt x="6643" y="20059"/>
                </a:lnTo>
                <a:lnTo>
                  <a:pt x="5576" y="20066"/>
                </a:lnTo>
                <a:lnTo>
                  <a:pt x="5504" y="13542"/>
                </a:lnTo>
                <a:close/>
                <a:moveTo>
                  <a:pt x="7636" y="13542"/>
                </a:moveTo>
                <a:lnTo>
                  <a:pt x="8723" y="13542"/>
                </a:lnTo>
                <a:lnTo>
                  <a:pt x="8723" y="20047"/>
                </a:lnTo>
                <a:lnTo>
                  <a:pt x="7636" y="20059"/>
                </a:lnTo>
                <a:lnTo>
                  <a:pt x="7636" y="13542"/>
                </a:lnTo>
                <a:close/>
                <a:moveTo>
                  <a:pt x="9719" y="13542"/>
                </a:moveTo>
                <a:lnTo>
                  <a:pt x="10787" y="13542"/>
                </a:lnTo>
                <a:lnTo>
                  <a:pt x="10787" y="20040"/>
                </a:lnTo>
                <a:lnTo>
                  <a:pt x="9719" y="20047"/>
                </a:lnTo>
                <a:lnTo>
                  <a:pt x="9719" y="13542"/>
                </a:lnTo>
                <a:close/>
                <a:moveTo>
                  <a:pt x="11718" y="13542"/>
                </a:moveTo>
                <a:lnTo>
                  <a:pt x="12857" y="13542"/>
                </a:lnTo>
                <a:lnTo>
                  <a:pt x="12799" y="20028"/>
                </a:lnTo>
                <a:lnTo>
                  <a:pt x="11718" y="20040"/>
                </a:lnTo>
                <a:lnTo>
                  <a:pt x="11718" y="13542"/>
                </a:lnTo>
                <a:close/>
                <a:moveTo>
                  <a:pt x="13850" y="13542"/>
                </a:moveTo>
                <a:lnTo>
                  <a:pt x="14911" y="13542"/>
                </a:lnTo>
                <a:cubicBezTo>
                  <a:pt x="14908" y="13935"/>
                  <a:pt x="14907" y="14322"/>
                  <a:pt x="14905" y="14716"/>
                </a:cubicBezTo>
                <a:cubicBezTo>
                  <a:pt x="14904" y="14729"/>
                  <a:pt x="14905" y="14744"/>
                  <a:pt x="14905" y="14757"/>
                </a:cubicBezTo>
                <a:lnTo>
                  <a:pt x="13824" y="18317"/>
                </a:lnTo>
                <a:lnTo>
                  <a:pt x="13850" y="13542"/>
                </a:lnTo>
                <a:close/>
              </a:path>
            </a:pathLst>
          </a:custGeom>
          <a:solidFill>
            <a:srgbClr val="d6d6d6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hape"/>
          <p:cNvSpPr/>
          <p:nvPr/>
        </p:nvSpPr>
        <p:spPr>
          <a:xfrm>
            <a:off x="2136240" y="6182640"/>
            <a:ext cx="331920" cy="330840"/>
          </a:xfrm>
          <a:custGeom>
            <a:avLst/>
            <a:gdLst>
              <a:gd name="textAreaLeft" fmla="*/ 0 w 331920"/>
              <a:gd name="textAreaRight" fmla="*/ 332280 w 331920"/>
              <a:gd name="textAreaTop" fmla="*/ 0 h 330840"/>
              <a:gd name="textAreaBottom" fmla="*/ 331200 h 33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59" y="13269"/>
                </a:lnTo>
                <a:lnTo>
                  <a:pt x="4228" y="21600"/>
                </a:lnTo>
                <a:lnTo>
                  <a:pt x="14299" y="21600"/>
                </a:lnTo>
                <a:lnTo>
                  <a:pt x="16844" y="14000"/>
                </a:lnTo>
                <a:lnTo>
                  <a:pt x="19165" y="13629"/>
                </a:lnTo>
                <a:lnTo>
                  <a:pt x="21577" y="10823"/>
                </a:lnTo>
                <a:lnTo>
                  <a:pt x="21600" y="4790"/>
                </a:lnTo>
                <a:lnTo>
                  <a:pt x="19396" y="2227"/>
                </a:lnTo>
                <a:lnTo>
                  <a:pt x="18130" y="2219"/>
                </a:lnTo>
                <a:lnTo>
                  <a:pt x="18355" y="19"/>
                </a:lnTo>
                <a:lnTo>
                  <a:pt x="0" y="0"/>
                </a:lnTo>
                <a:close/>
                <a:moveTo>
                  <a:pt x="17971" y="3798"/>
                </a:moveTo>
                <a:lnTo>
                  <a:pt x="19107" y="3828"/>
                </a:lnTo>
                <a:lnTo>
                  <a:pt x="20477" y="5423"/>
                </a:lnTo>
                <a:lnTo>
                  <a:pt x="20477" y="10190"/>
                </a:lnTo>
                <a:lnTo>
                  <a:pt x="18736" y="12216"/>
                </a:lnTo>
                <a:lnTo>
                  <a:pt x="17082" y="12489"/>
                </a:lnTo>
                <a:lnTo>
                  <a:pt x="17971" y="3798"/>
                </a:lnTo>
                <a:close/>
                <a:moveTo>
                  <a:pt x="2985" y="4203"/>
                </a:moveTo>
                <a:lnTo>
                  <a:pt x="4092" y="4203"/>
                </a:lnTo>
                <a:lnTo>
                  <a:pt x="6637" y="7165"/>
                </a:lnTo>
                <a:lnTo>
                  <a:pt x="7359" y="6320"/>
                </a:lnTo>
                <a:lnTo>
                  <a:pt x="5543" y="4207"/>
                </a:lnTo>
                <a:lnTo>
                  <a:pt x="7109" y="4207"/>
                </a:lnTo>
                <a:lnTo>
                  <a:pt x="7080" y="4237"/>
                </a:lnTo>
                <a:lnTo>
                  <a:pt x="8007" y="5317"/>
                </a:lnTo>
                <a:lnTo>
                  <a:pt x="8928" y="4237"/>
                </a:lnTo>
                <a:lnTo>
                  <a:pt x="8902" y="4207"/>
                </a:lnTo>
                <a:lnTo>
                  <a:pt x="10351" y="4211"/>
                </a:lnTo>
                <a:lnTo>
                  <a:pt x="11249" y="5256"/>
                </a:lnTo>
                <a:lnTo>
                  <a:pt x="12151" y="4211"/>
                </a:lnTo>
                <a:lnTo>
                  <a:pt x="13332" y="4211"/>
                </a:lnTo>
                <a:lnTo>
                  <a:pt x="16197" y="7547"/>
                </a:lnTo>
                <a:lnTo>
                  <a:pt x="16200" y="7543"/>
                </a:lnTo>
                <a:lnTo>
                  <a:pt x="16041" y="8926"/>
                </a:lnTo>
                <a:lnTo>
                  <a:pt x="14218" y="6809"/>
                </a:lnTo>
                <a:lnTo>
                  <a:pt x="13492" y="7649"/>
                </a:lnTo>
                <a:lnTo>
                  <a:pt x="15868" y="10414"/>
                </a:lnTo>
                <a:lnTo>
                  <a:pt x="15643" y="12303"/>
                </a:lnTo>
                <a:lnTo>
                  <a:pt x="15624" y="12383"/>
                </a:lnTo>
                <a:lnTo>
                  <a:pt x="14136" y="10652"/>
                </a:lnTo>
                <a:lnTo>
                  <a:pt x="13414" y="11493"/>
                </a:lnTo>
                <a:lnTo>
                  <a:pt x="14188" y="12394"/>
                </a:lnTo>
                <a:lnTo>
                  <a:pt x="11718" y="12394"/>
                </a:lnTo>
                <a:lnTo>
                  <a:pt x="11471" y="12394"/>
                </a:lnTo>
                <a:lnTo>
                  <a:pt x="11978" y="11807"/>
                </a:lnTo>
                <a:lnTo>
                  <a:pt x="9521" y="8952"/>
                </a:lnTo>
                <a:lnTo>
                  <a:pt x="8795" y="9793"/>
                </a:lnTo>
                <a:lnTo>
                  <a:pt x="11031" y="12394"/>
                </a:lnTo>
                <a:lnTo>
                  <a:pt x="10787" y="12394"/>
                </a:lnTo>
                <a:lnTo>
                  <a:pt x="9846" y="12394"/>
                </a:lnTo>
                <a:lnTo>
                  <a:pt x="9472" y="11959"/>
                </a:lnTo>
                <a:lnTo>
                  <a:pt x="9098" y="12394"/>
                </a:lnTo>
                <a:lnTo>
                  <a:pt x="8723" y="12394"/>
                </a:lnTo>
                <a:lnTo>
                  <a:pt x="7636" y="12394"/>
                </a:lnTo>
                <a:lnTo>
                  <a:pt x="6643" y="12394"/>
                </a:lnTo>
                <a:lnTo>
                  <a:pt x="6403" y="12394"/>
                </a:lnTo>
                <a:lnTo>
                  <a:pt x="4905" y="10652"/>
                </a:lnTo>
                <a:lnTo>
                  <a:pt x="4183" y="11493"/>
                </a:lnTo>
                <a:lnTo>
                  <a:pt x="4957" y="12394"/>
                </a:lnTo>
                <a:lnTo>
                  <a:pt x="2637" y="12394"/>
                </a:lnTo>
                <a:lnTo>
                  <a:pt x="3151" y="11796"/>
                </a:lnTo>
                <a:lnTo>
                  <a:pt x="2357" y="10872"/>
                </a:lnTo>
                <a:lnTo>
                  <a:pt x="2174" y="8626"/>
                </a:lnTo>
                <a:lnTo>
                  <a:pt x="2763" y="7941"/>
                </a:lnTo>
                <a:lnTo>
                  <a:pt x="2054" y="7112"/>
                </a:lnTo>
                <a:lnTo>
                  <a:pt x="1920" y="5442"/>
                </a:lnTo>
                <a:lnTo>
                  <a:pt x="2985" y="4203"/>
                </a:lnTo>
                <a:close/>
                <a:moveTo>
                  <a:pt x="14784" y="4215"/>
                </a:moveTo>
                <a:lnTo>
                  <a:pt x="16587" y="4215"/>
                </a:lnTo>
                <a:lnTo>
                  <a:pt x="16373" y="6063"/>
                </a:lnTo>
                <a:lnTo>
                  <a:pt x="14784" y="4215"/>
                </a:lnTo>
                <a:close/>
                <a:moveTo>
                  <a:pt x="3349" y="5264"/>
                </a:moveTo>
                <a:lnTo>
                  <a:pt x="2617" y="6119"/>
                </a:lnTo>
                <a:lnTo>
                  <a:pt x="3349" y="6975"/>
                </a:lnTo>
                <a:lnTo>
                  <a:pt x="4085" y="6119"/>
                </a:lnTo>
                <a:lnTo>
                  <a:pt x="3349" y="5264"/>
                </a:lnTo>
                <a:close/>
                <a:moveTo>
                  <a:pt x="12890" y="5264"/>
                </a:moveTo>
                <a:lnTo>
                  <a:pt x="12157" y="6119"/>
                </a:lnTo>
                <a:lnTo>
                  <a:pt x="12890" y="6975"/>
                </a:lnTo>
                <a:lnTo>
                  <a:pt x="13625" y="6119"/>
                </a:lnTo>
                <a:lnTo>
                  <a:pt x="12890" y="5264"/>
                </a:lnTo>
                <a:close/>
                <a:moveTo>
                  <a:pt x="9521" y="5358"/>
                </a:moveTo>
                <a:lnTo>
                  <a:pt x="8795" y="6199"/>
                </a:lnTo>
                <a:lnTo>
                  <a:pt x="11249" y="9058"/>
                </a:lnTo>
                <a:lnTo>
                  <a:pt x="11978" y="8214"/>
                </a:lnTo>
                <a:lnTo>
                  <a:pt x="9521" y="5358"/>
                </a:lnTo>
                <a:close/>
                <a:moveTo>
                  <a:pt x="4905" y="7059"/>
                </a:moveTo>
                <a:lnTo>
                  <a:pt x="4183" y="7899"/>
                </a:lnTo>
                <a:lnTo>
                  <a:pt x="6637" y="10758"/>
                </a:lnTo>
                <a:lnTo>
                  <a:pt x="7359" y="9914"/>
                </a:lnTo>
                <a:lnTo>
                  <a:pt x="4905" y="7059"/>
                </a:lnTo>
                <a:close/>
                <a:moveTo>
                  <a:pt x="8007" y="7085"/>
                </a:moveTo>
                <a:lnTo>
                  <a:pt x="7272" y="7941"/>
                </a:lnTo>
                <a:lnTo>
                  <a:pt x="8007" y="8793"/>
                </a:lnTo>
                <a:lnTo>
                  <a:pt x="8743" y="7941"/>
                </a:lnTo>
                <a:lnTo>
                  <a:pt x="8007" y="7085"/>
                </a:lnTo>
                <a:close/>
                <a:moveTo>
                  <a:pt x="3349" y="8907"/>
                </a:moveTo>
                <a:lnTo>
                  <a:pt x="2617" y="9762"/>
                </a:lnTo>
                <a:lnTo>
                  <a:pt x="3349" y="10614"/>
                </a:lnTo>
                <a:lnTo>
                  <a:pt x="4085" y="9762"/>
                </a:lnTo>
                <a:lnTo>
                  <a:pt x="3349" y="8907"/>
                </a:lnTo>
                <a:close/>
                <a:moveTo>
                  <a:pt x="12799" y="9032"/>
                </a:moveTo>
                <a:lnTo>
                  <a:pt x="12066" y="9887"/>
                </a:lnTo>
                <a:lnTo>
                  <a:pt x="12799" y="10739"/>
                </a:lnTo>
                <a:lnTo>
                  <a:pt x="13537" y="9887"/>
                </a:lnTo>
                <a:lnTo>
                  <a:pt x="12799" y="9032"/>
                </a:lnTo>
                <a:close/>
                <a:moveTo>
                  <a:pt x="8007" y="10611"/>
                </a:moveTo>
                <a:lnTo>
                  <a:pt x="7272" y="11470"/>
                </a:lnTo>
                <a:lnTo>
                  <a:pt x="8007" y="12322"/>
                </a:lnTo>
                <a:lnTo>
                  <a:pt x="8743" y="11470"/>
                </a:lnTo>
                <a:lnTo>
                  <a:pt x="8007" y="10611"/>
                </a:lnTo>
                <a:close/>
                <a:moveTo>
                  <a:pt x="3450" y="13542"/>
                </a:moveTo>
                <a:lnTo>
                  <a:pt x="4511" y="13542"/>
                </a:lnTo>
                <a:lnTo>
                  <a:pt x="4511" y="18021"/>
                </a:lnTo>
                <a:lnTo>
                  <a:pt x="3467" y="15227"/>
                </a:lnTo>
                <a:cubicBezTo>
                  <a:pt x="3465" y="15056"/>
                  <a:pt x="3461" y="14886"/>
                  <a:pt x="3460" y="14716"/>
                </a:cubicBezTo>
                <a:cubicBezTo>
                  <a:pt x="3457" y="14322"/>
                  <a:pt x="3453" y="13935"/>
                  <a:pt x="3450" y="13542"/>
                </a:cubicBezTo>
                <a:close/>
                <a:moveTo>
                  <a:pt x="5504" y="13542"/>
                </a:moveTo>
                <a:lnTo>
                  <a:pt x="6643" y="13542"/>
                </a:lnTo>
                <a:lnTo>
                  <a:pt x="6643" y="20059"/>
                </a:lnTo>
                <a:lnTo>
                  <a:pt x="5576" y="20066"/>
                </a:lnTo>
                <a:lnTo>
                  <a:pt x="5504" y="13542"/>
                </a:lnTo>
                <a:close/>
                <a:moveTo>
                  <a:pt x="7636" y="13542"/>
                </a:moveTo>
                <a:lnTo>
                  <a:pt x="8723" y="13542"/>
                </a:lnTo>
                <a:lnTo>
                  <a:pt x="8723" y="20047"/>
                </a:lnTo>
                <a:lnTo>
                  <a:pt x="7636" y="20059"/>
                </a:lnTo>
                <a:lnTo>
                  <a:pt x="7636" y="13542"/>
                </a:lnTo>
                <a:close/>
                <a:moveTo>
                  <a:pt x="9719" y="13542"/>
                </a:moveTo>
                <a:lnTo>
                  <a:pt x="10787" y="13542"/>
                </a:lnTo>
                <a:lnTo>
                  <a:pt x="10787" y="20040"/>
                </a:lnTo>
                <a:lnTo>
                  <a:pt x="9719" y="20047"/>
                </a:lnTo>
                <a:lnTo>
                  <a:pt x="9719" y="13542"/>
                </a:lnTo>
                <a:close/>
                <a:moveTo>
                  <a:pt x="11718" y="13542"/>
                </a:moveTo>
                <a:lnTo>
                  <a:pt x="12857" y="13542"/>
                </a:lnTo>
                <a:lnTo>
                  <a:pt x="12799" y="20028"/>
                </a:lnTo>
                <a:lnTo>
                  <a:pt x="11718" y="20040"/>
                </a:lnTo>
                <a:lnTo>
                  <a:pt x="11718" y="13542"/>
                </a:lnTo>
                <a:close/>
                <a:moveTo>
                  <a:pt x="13850" y="13542"/>
                </a:moveTo>
                <a:lnTo>
                  <a:pt x="14911" y="13542"/>
                </a:lnTo>
                <a:cubicBezTo>
                  <a:pt x="14908" y="13935"/>
                  <a:pt x="14907" y="14322"/>
                  <a:pt x="14905" y="14716"/>
                </a:cubicBezTo>
                <a:cubicBezTo>
                  <a:pt x="14904" y="14729"/>
                  <a:pt x="14905" y="14744"/>
                  <a:pt x="14905" y="14757"/>
                </a:cubicBezTo>
                <a:lnTo>
                  <a:pt x="13824" y="18317"/>
                </a:lnTo>
                <a:lnTo>
                  <a:pt x="13850" y="13542"/>
                </a:lnTo>
                <a:close/>
              </a:path>
            </a:pathLst>
          </a:custGeom>
          <a:solidFill>
            <a:srgbClr val="d6d6d6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hape"/>
          <p:cNvSpPr/>
          <p:nvPr/>
        </p:nvSpPr>
        <p:spPr>
          <a:xfrm>
            <a:off x="2542320" y="6192360"/>
            <a:ext cx="331920" cy="330840"/>
          </a:xfrm>
          <a:custGeom>
            <a:avLst/>
            <a:gdLst>
              <a:gd name="textAreaLeft" fmla="*/ 0 w 331920"/>
              <a:gd name="textAreaRight" fmla="*/ 332280 w 331920"/>
              <a:gd name="textAreaTop" fmla="*/ 0 h 330840"/>
              <a:gd name="textAreaBottom" fmla="*/ 331200 h 33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59" y="13269"/>
                </a:lnTo>
                <a:lnTo>
                  <a:pt x="4228" y="21600"/>
                </a:lnTo>
                <a:lnTo>
                  <a:pt x="14299" y="21600"/>
                </a:lnTo>
                <a:lnTo>
                  <a:pt x="16844" y="14000"/>
                </a:lnTo>
                <a:lnTo>
                  <a:pt x="19165" y="13629"/>
                </a:lnTo>
                <a:lnTo>
                  <a:pt x="21577" y="10823"/>
                </a:lnTo>
                <a:lnTo>
                  <a:pt x="21600" y="4790"/>
                </a:lnTo>
                <a:lnTo>
                  <a:pt x="19396" y="2227"/>
                </a:lnTo>
                <a:lnTo>
                  <a:pt x="18130" y="2219"/>
                </a:lnTo>
                <a:lnTo>
                  <a:pt x="18355" y="19"/>
                </a:lnTo>
                <a:lnTo>
                  <a:pt x="0" y="0"/>
                </a:lnTo>
                <a:close/>
                <a:moveTo>
                  <a:pt x="17971" y="3798"/>
                </a:moveTo>
                <a:lnTo>
                  <a:pt x="19107" y="3828"/>
                </a:lnTo>
                <a:lnTo>
                  <a:pt x="20477" y="5423"/>
                </a:lnTo>
                <a:lnTo>
                  <a:pt x="20477" y="10190"/>
                </a:lnTo>
                <a:lnTo>
                  <a:pt x="18736" y="12216"/>
                </a:lnTo>
                <a:lnTo>
                  <a:pt x="17082" y="12489"/>
                </a:lnTo>
                <a:lnTo>
                  <a:pt x="17971" y="3798"/>
                </a:lnTo>
                <a:close/>
                <a:moveTo>
                  <a:pt x="2985" y="4203"/>
                </a:moveTo>
                <a:lnTo>
                  <a:pt x="4092" y="4203"/>
                </a:lnTo>
                <a:lnTo>
                  <a:pt x="6637" y="7165"/>
                </a:lnTo>
                <a:lnTo>
                  <a:pt x="7359" y="6320"/>
                </a:lnTo>
                <a:lnTo>
                  <a:pt x="5543" y="4207"/>
                </a:lnTo>
                <a:lnTo>
                  <a:pt x="7109" y="4207"/>
                </a:lnTo>
                <a:lnTo>
                  <a:pt x="7080" y="4237"/>
                </a:lnTo>
                <a:lnTo>
                  <a:pt x="8007" y="5317"/>
                </a:lnTo>
                <a:lnTo>
                  <a:pt x="8928" y="4237"/>
                </a:lnTo>
                <a:lnTo>
                  <a:pt x="8902" y="4207"/>
                </a:lnTo>
                <a:lnTo>
                  <a:pt x="10351" y="4211"/>
                </a:lnTo>
                <a:lnTo>
                  <a:pt x="11249" y="5256"/>
                </a:lnTo>
                <a:lnTo>
                  <a:pt x="12151" y="4211"/>
                </a:lnTo>
                <a:lnTo>
                  <a:pt x="13332" y="4211"/>
                </a:lnTo>
                <a:lnTo>
                  <a:pt x="16197" y="7547"/>
                </a:lnTo>
                <a:lnTo>
                  <a:pt x="16200" y="7543"/>
                </a:lnTo>
                <a:lnTo>
                  <a:pt x="16041" y="8926"/>
                </a:lnTo>
                <a:lnTo>
                  <a:pt x="14218" y="6809"/>
                </a:lnTo>
                <a:lnTo>
                  <a:pt x="13492" y="7649"/>
                </a:lnTo>
                <a:lnTo>
                  <a:pt x="15868" y="10414"/>
                </a:lnTo>
                <a:lnTo>
                  <a:pt x="15643" y="12303"/>
                </a:lnTo>
                <a:lnTo>
                  <a:pt x="15624" y="12383"/>
                </a:lnTo>
                <a:lnTo>
                  <a:pt x="14136" y="10652"/>
                </a:lnTo>
                <a:lnTo>
                  <a:pt x="13414" y="11493"/>
                </a:lnTo>
                <a:lnTo>
                  <a:pt x="14188" y="12394"/>
                </a:lnTo>
                <a:lnTo>
                  <a:pt x="11718" y="12394"/>
                </a:lnTo>
                <a:lnTo>
                  <a:pt x="11471" y="12394"/>
                </a:lnTo>
                <a:lnTo>
                  <a:pt x="11978" y="11807"/>
                </a:lnTo>
                <a:lnTo>
                  <a:pt x="9521" y="8952"/>
                </a:lnTo>
                <a:lnTo>
                  <a:pt x="8795" y="9793"/>
                </a:lnTo>
                <a:lnTo>
                  <a:pt x="11031" y="12394"/>
                </a:lnTo>
                <a:lnTo>
                  <a:pt x="10787" y="12394"/>
                </a:lnTo>
                <a:lnTo>
                  <a:pt x="9846" y="12394"/>
                </a:lnTo>
                <a:lnTo>
                  <a:pt x="9472" y="11959"/>
                </a:lnTo>
                <a:lnTo>
                  <a:pt x="9098" y="12394"/>
                </a:lnTo>
                <a:lnTo>
                  <a:pt x="8723" y="12394"/>
                </a:lnTo>
                <a:lnTo>
                  <a:pt x="7636" y="12394"/>
                </a:lnTo>
                <a:lnTo>
                  <a:pt x="6643" y="12394"/>
                </a:lnTo>
                <a:lnTo>
                  <a:pt x="6403" y="12394"/>
                </a:lnTo>
                <a:lnTo>
                  <a:pt x="4905" y="10652"/>
                </a:lnTo>
                <a:lnTo>
                  <a:pt x="4183" y="11493"/>
                </a:lnTo>
                <a:lnTo>
                  <a:pt x="4957" y="12394"/>
                </a:lnTo>
                <a:lnTo>
                  <a:pt x="2637" y="12394"/>
                </a:lnTo>
                <a:lnTo>
                  <a:pt x="3151" y="11796"/>
                </a:lnTo>
                <a:lnTo>
                  <a:pt x="2357" y="10872"/>
                </a:lnTo>
                <a:lnTo>
                  <a:pt x="2174" y="8626"/>
                </a:lnTo>
                <a:lnTo>
                  <a:pt x="2763" y="7941"/>
                </a:lnTo>
                <a:lnTo>
                  <a:pt x="2054" y="7112"/>
                </a:lnTo>
                <a:lnTo>
                  <a:pt x="1920" y="5442"/>
                </a:lnTo>
                <a:lnTo>
                  <a:pt x="2985" y="4203"/>
                </a:lnTo>
                <a:close/>
                <a:moveTo>
                  <a:pt x="14784" y="4215"/>
                </a:moveTo>
                <a:lnTo>
                  <a:pt x="16587" y="4215"/>
                </a:lnTo>
                <a:lnTo>
                  <a:pt x="16373" y="6063"/>
                </a:lnTo>
                <a:lnTo>
                  <a:pt x="14784" y="4215"/>
                </a:lnTo>
                <a:close/>
                <a:moveTo>
                  <a:pt x="3349" y="5264"/>
                </a:moveTo>
                <a:lnTo>
                  <a:pt x="2617" y="6119"/>
                </a:lnTo>
                <a:lnTo>
                  <a:pt x="3349" y="6975"/>
                </a:lnTo>
                <a:lnTo>
                  <a:pt x="4085" y="6119"/>
                </a:lnTo>
                <a:lnTo>
                  <a:pt x="3349" y="5264"/>
                </a:lnTo>
                <a:close/>
                <a:moveTo>
                  <a:pt x="12890" y="5264"/>
                </a:moveTo>
                <a:lnTo>
                  <a:pt x="12157" y="6119"/>
                </a:lnTo>
                <a:lnTo>
                  <a:pt x="12890" y="6975"/>
                </a:lnTo>
                <a:lnTo>
                  <a:pt x="13625" y="6119"/>
                </a:lnTo>
                <a:lnTo>
                  <a:pt x="12890" y="5264"/>
                </a:lnTo>
                <a:close/>
                <a:moveTo>
                  <a:pt x="9521" y="5358"/>
                </a:moveTo>
                <a:lnTo>
                  <a:pt x="8795" y="6199"/>
                </a:lnTo>
                <a:lnTo>
                  <a:pt x="11249" y="9058"/>
                </a:lnTo>
                <a:lnTo>
                  <a:pt x="11978" y="8214"/>
                </a:lnTo>
                <a:lnTo>
                  <a:pt x="9521" y="5358"/>
                </a:lnTo>
                <a:close/>
                <a:moveTo>
                  <a:pt x="4905" y="7059"/>
                </a:moveTo>
                <a:lnTo>
                  <a:pt x="4183" y="7899"/>
                </a:lnTo>
                <a:lnTo>
                  <a:pt x="6637" y="10758"/>
                </a:lnTo>
                <a:lnTo>
                  <a:pt x="7359" y="9914"/>
                </a:lnTo>
                <a:lnTo>
                  <a:pt x="4905" y="7059"/>
                </a:lnTo>
                <a:close/>
                <a:moveTo>
                  <a:pt x="8007" y="7085"/>
                </a:moveTo>
                <a:lnTo>
                  <a:pt x="7272" y="7941"/>
                </a:lnTo>
                <a:lnTo>
                  <a:pt x="8007" y="8793"/>
                </a:lnTo>
                <a:lnTo>
                  <a:pt x="8743" y="7941"/>
                </a:lnTo>
                <a:lnTo>
                  <a:pt x="8007" y="7085"/>
                </a:lnTo>
                <a:close/>
                <a:moveTo>
                  <a:pt x="3349" y="8907"/>
                </a:moveTo>
                <a:lnTo>
                  <a:pt x="2617" y="9762"/>
                </a:lnTo>
                <a:lnTo>
                  <a:pt x="3349" y="10614"/>
                </a:lnTo>
                <a:lnTo>
                  <a:pt x="4085" y="9762"/>
                </a:lnTo>
                <a:lnTo>
                  <a:pt x="3349" y="8907"/>
                </a:lnTo>
                <a:close/>
                <a:moveTo>
                  <a:pt x="12799" y="9032"/>
                </a:moveTo>
                <a:lnTo>
                  <a:pt x="12066" y="9887"/>
                </a:lnTo>
                <a:lnTo>
                  <a:pt x="12799" y="10739"/>
                </a:lnTo>
                <a:lnTo>
                  <a:pt x="13537" y="9887"/>
                </a:lnTo>
                <a:lnTo>
                  <a:pt x="12799" y="9032"/>
                </a:lnTo>
                <a:close/>
                <a:moveTo>
                  <a:pt x="8007" y="10611"/>
                </a:moveTo>
                <a:lnTo>
                  <a:pt x="7272" y="11470"/>
                </a:lnTo>
                <a:lnTo>
                  <a:pt x="8007" y="12322"/>
                </a:lnTo>
                <a:lnTo>
                  <a:pt x="8743" y="11470"/>
                </a:lnTo>
                <a:lnTo>
                  <a:pt x="8007" y="10611"/>
                </a:lnTo>
                <a:close/>
                <a:moveTo>
                  <a:pt x="3450" y="13542"/>
                </a:moveTo>
                <a:lnTo>
                  <a:pt x="4511" y="13542"/>
                </a:lnTo>
                <a:lnTo>
                  <a:pt x="4511" y="18021"/>
                </a:lnTo>
                <a:lnTo>
                  <a:pt x="3467" y="15227"/>
                </a:lnTo>
                <a:cubicBezTo>
                  <a:pt x="3465" y="15056"/>
                  <a:pt x="3461" y="14886"/>
                  <a:pt x="3460" y="14716"/>
                </a:cubicBezTo>
                <a:cubicBezTo>
                  <a:pt x="3457" y="14322"/>
                  <a:pt x="3453" y="13935"/>
                  <a:pt x="3450" y="13542"/>
                </a:cubicBezTo>
                <a:close/>
                <a:moveTo>
                  <a:pt x="5504" y="13542"/>
                </a:moveTo>
                <a:lnTo>
                  <a:pt x="6643" y="13542"/>
                </a:lnTo>
                <a:lnTo>
                  <a:pt x="6643" y="20059"/>
                </a:lnTo>
                <a:lnTo>
                  <a:pt x="5576" y="20066"/>
                </a:lnTo>
                <a:lnTo>
                  <a:pt x="5504" y="13542"/>
                </a:lnTo>
                <a:close/>
                <a:moveTo>
                  <a:pt x="7636" y="13542"/>
                </a:moveTo>
                <a:lnTo>
                  <a:pt x="8723" y="13542"/>
                </a:lnTo>
                <a:lnTo>
                  <a:pt x="8723" y="20047"/>
                </a:lnTo>
                <a:lnTo>
                  <a:pt x="7636" y="20059"/>
                </a:lnTo>
                <a:lnTo>
                  <a:pt x="7636" y="13542"/>
                </a:lnTo>
                <a:close/>
                <a:moveTo>
                  <a:pt x="9719" y="13542"/>
                </a:moveTo>
                <a:lnTo>
                  <a:pt x="10787" y="13542"/>
                </a:lnTo>
                <a:lnTo>
                  <a:pt x="10787" y="20040"/>
                </a:lnTo>
                <a:lnTo>
                  <a:pt x="9719" y="20047"/>
                </a:lnTo>
                <a:lnTo>
                  <a:pt x="9719" y="13542"/>
                </a:lnTo>
                <a:close/>
                <a:moveTo>
                  <a:pt x="11718" y="13542"/>
                </a:moveTo>
                <a:lnTo>
                  <a:pt x="12857" y="13542"/>
                </a:lnTo>
                <a:lnTo>
                  <a:pt x="12799" y="20028"/>
                </a:lnTo>
                <a:lnTo>
                  <a:pt x="11718" y="20040"/>
                </a:lnTo>
                <a:lnTo>
                  <a:pt x="11718" y="13542"/>
                </a:lnTo>
                <a:close/>
                <a:moveTo>
                  <a:pt x="13850" y="13542"/>
                </a:moveTo>
                <a:lnTo>
                  <a:pt x="14911" y="13542"/>
                </a:lnTo>
                <a:cubicBezTo>
                  <a:pt x="14908" y="13935"/>
                  <a:pt x="14907" y="14322"/>
                  <a:pt x="14905" y="14716"/>
                </a:cubicBezTo>
                <a:cubicBezTo>
                  <a:pt x="14904" y="14729"/>
                  <a:pt x="14905" y="14744"/>
                  <a:pt x="14905" y="14757"/>
                </a:cubicBezTo>
                <a:lnTo>
                  <a:pt x="13824" y="18317"/>
                </a:lnTo>
                <a:lnTo>
                  <a:pt x="13850" y="13542"/>
                </a:lnTo>
                <a:close/>
              </a:path>
            </a:pathLst>
          </a:custGeom>
          <a:solidFill>
            <a:srgbClr val="d6d6d6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  <Words>269</Words>
  <Paragraphs>6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04T10:58:04Z</dcterms:created>
  <dc:creator>Igor Filippov</dc:creator>
  <dc:description/>
  <dc:language>en-US</dc:language>
  <cp:lastModifiedBy>Igor Filippov</cp:lastModifiedBy>
  <dcterms:modified xsi:type="dcterms:W3CDTF">2020-12-04T10:59:3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2</vt:r8>
  </property>
</Properties>
</file>