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29CA-7101-43AB-A1E7-1AEDC09F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E3E2-F390-4619-AC95-7DD1CD46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2B34-B150-4055-A238-7A888F7C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F448-36AB-4455-AAE2-67F381661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3422-73FD-4F2C-86D9-5F2E01A5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BA7C-FC6A-43AA-9C00-810D77F8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9885-76E6-4D20-BB25-23A8D099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B8EB-522C-40BF-B0D3-40CF2784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6D5D-C46B-41FF-A0B4-73A182CB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E6CD-0EF2-4E9C-A7AC-A2D368B5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5AA1-6F37-4313-9390-2D3B59D2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9001-0CA8-434D-A5DE-31422FF4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5954-FD6E-4280-9181-F7887869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12C7-A234-4D90-B71C-5649EE59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1919-5254-4286-962E-B31EFB36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9789-748C-4891-BA96-CC81B2B56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392E-A5BC-4502-9518-8A22DC1D6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691B-C11E-4181-A388-3BFFA0A5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FC23-EC99-4343-AE20-C34774A1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AE72-04C7-46E3-A5D2-03545840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23E9-3361-4A2C-8540-9518ED7C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47FD-BCE8-4B1E-ACD0-B97E59B4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B046-F9CD-49CD-B893-6D5009E9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7D96-44F3-42A6-A392-A9CAEB26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AFF46A-9BAA-4580-BF4B-52F0F181E07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2437C3E-5C45-4C58-BFB3-066F9A66F81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санка человека- залог здоровья и красоты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322400" y="3602160"/>
            <a:ext cx="4696560" cy="30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полнила: Яньшина Маргар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1-З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полователь: Ю.А. Шалаги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ервое упражнени для осанк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,,Кошачьи подтягивания''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79360" y="1852200"/>
            <a:ext cx="75373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222222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222222"/>
                </a:solidFill>
                <a:latin typeface="Kazimir"/>
              </a:rPr>
              <a:t>Встаньте на четвереньки. Ваши ладони должны находиться строго под плечами, а локти оставаться прямыми на протяжении всего упражнения. На вдохе расслабьте живот, поднимите взгляд вверх и аккуратно прогните позвоночник. Представьте, будто пытаетесь дотянуться копчиком до затылка. На выдохе наклоните подбородок к груди, напрягите пресс и максимально округлите спину. Со стороны эти движения напоминают кошачьи потягивания после сна. Выполните 6–10 повторений. 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4" descr=""/>
          <p:cNvPicPr/>
          <p:nvPr/>
        </p:nvPicPr>
        <p:blipFill>
          <a:blip r:embed="rId1"/>
          <a:stretch/>
        </p:blipFill>
        <p:spPr>
          <a:xfrm>
            <a:off x="8143920" y="1278000"/>
            <a:ext cx="40478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,,Глубокий выпад вперёд‘’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851868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12040" indent="-212040">
              <a:lnSpc>
                <a:spcPct val="90000"/>
              </a:lnSpc>
              <a:spcBef>
                <a:spcPts val="1001"/>
              </a:spcBef>
              <a:buClr>
                <a:srgbClr val="222222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222222"/>
                </a:solidFill>
                <a:latin typeface="Kazimir"/>
              </a:rPr>
              <a:t>Встаньте на колени и сделайте глубокий выпад вперед правой ногой. Переднее колено должно быть согнуто под прямым углом. Дышите расслабленно и спокойно. Теперь поднимите руки над головой и сцепите их в замок. Следите, чтобы спина при этом оставалась ровной, а плечи находились строго над бедрами. Тяните руки вверх до тех пор, пока не почувствуете напряжение в плечевых мышцах. Задержитесь в этом положении, мысленно сосчитав до десяти, после чего вернитесь на колени и повторите упражнение с выпадом на правую ногу. Выполните упражнение 5–10 раз на каждую сторону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4" descr=""/>
          <p:cNvPicPr/>
          <p:nvPr/>
        </p:nvPicPr>
        <p:blipFill>
          <a:blip r:embed="rId1"/>
          <a:stretch/>
        </p:blipFill>
        <p:spPr>
          <a:xfrm>
            <a:off x="8340840" y="914400"/>
            <a:ext cx="3850560" cy="50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,,Карандаш между лопаток''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67874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22222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222222"/>
                </a:solidFill>
                <a:latin typeface="Kazimir"/>
              </a:rPr>
              <a:t>Встаньте ровно, поставьте ноги немного шире плеч и вытяните руки в стороны. Затем согните руки в локтях под прямым углом ладонями вперед, как можно сильнее отведите плечи назад и соедините лопатки. Представьте, что между ними зажат карандаш, который не должен упасть. Теперь добавьте плавные наклоны из стороны в сторону. Продолжайте выполнять упражнение 20–30 секунд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4" descr=""/>
          <p:cNvPicPr/>
          <p:nvPr/>
        </p:nvPicPr>
        <p:blipFill>
          <a:blip r:embed="rId1"/>
          <a:stretch/>
        </p:blipFill>
        <p:spPr>
          <a:xfrm>
            <a:off x="8673840" y="1027800"/>
            <a:ext cx="2863080" cy="509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,,Сундук с полотенцем''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09680" y="1690560"/>
            <a:ext cx="7948080" cy="444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212400">
              <a:lnSpc>
                <a:spcPct val="90000"/>
              </a:lnSpc>
              <a:spcBef>
                <a:spcPts val="1001"/>
              </a:spcBef>
              <a:buClr>
                <a:srgbClr val="222222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222222"/>
                </a:solidFill>
                <a:latin typeface="Kazimir"/>
              </a:rPr>
              <a:t>Опустите плечи вниз и назад. Глядя перед собой, положите средний и указательный пальцы на подбородок. Теперь слегка надавите на него и отведите голову назад в горизонтальной плоскости. Запрокидывать голову наверх не нужно. При этом получится эффект «второго подбородка». Чем больше складок на коже образуется — тем лучше будет результат. Задержитесь в этом положении на 3–5 секунд, после чего вернитесь в исходное положение. Повторите упражнение 10–15 раз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,,Классическая планка‘’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200" y="1343520"/>
            <a:ext cx="11907000" cy="351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222222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222222"/>
                </a:solidFill>
                <a:latin typeface="Kazimir"/>
              </a:rPr>
              <a:t>Укрепить мышечный корсет и скорректировать осанку хорошо помогает планка на локтях. Согните локти под прямым углом и перенесите вес тела на предплечья. Ноги при этом опираются на носки, а корпус находится на весу. Дышите ровно и следите за тем, чтобы спина оставалась ровной, живот и колени были напряжены, а таз не «уходил» вверх или вниз. Все тело должно образовывать одну прямую линию, параллельную полу. Новичкам рекомендуется начать с 20 секунд утренней планки. В дальнейшем время выполнения можно увеличить до 5 минут. Кроме классической, для осанки полезна боковая планка на прямых руках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4" descr=""/>
          <p:cNvPicPr/>
          <p:nvPr/>
        </p:nvPicPr>
        <p:blipFill>
          <a:blip r:embed="rId1"/>
          <a:stretch/>
        </p:blipFill>
        <p:spPr>
          <a:xfrm>
            <a:off x="3099960" y="4764600"/>
            <a:ext cx="5457600" cy="209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,,Наклон с руками за спиной‘’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0400" y="1690560"/>
            <a:ext cx="81626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161617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161617"/>
                </a:solidFill>
                <a:latin typeface="Roboto"/>
              </a:rPr>
              <a:t>Встаньте прямо и отведите руки назад за спину. Сомкните ладони вместе, скрещивая пальцы между собой. Наклоните корпус и поднимите руки вверх, отводя их как можно дальше вперед. Выполняйте это упражнение для осанки, раскрывая плечи и грудной отдел. Спина не должна округляться, поэтому можно не опускать корпус слишком низко, достаточно до параллели с полом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161617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161617"/>
                </a:solidFill>
                <a:latin typeface="Roboto"/>
              </a:rPr>
              <a:t>Сколько выполнять:</a:t>
            </a:r>
            <a:r>
              <a:rPr b="0" lang="ru-RU" sz="2800" spc="-1" strike="noStrike">
                <a:solidFill>
                  <a:srgbClr val="161617"/>
                </a:solidFill>
                <a:latin typeface="Roboto"/>
              </a:rPr>
              <a:t> </a:t>
            </a:r>
            <a:r>
              <a:rPr b="0" lang="ru-RU" sz="2800" spc="-1" strike="noStrike">
                <a:solidFill>
                  <a:srgbClr val="999999"/>
                </a:solidFill>
                <a:latin typeface="Roboto"/>
              </a:rPr>
              <a:t>2 подхода по 30-60 секунд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4" descr=""/>
          <p:cNvPicPr/>
          <p:nvPr/>
        </p:nvPicPr>
        <p:blipFill>
          <a:blip r:embed="rId1"/>
          <a:stretch/>
        </p:blipFill>
        <p:spPr>
          <a:xfrm>
            <a:off x="8517600" y="816120"/>
            <a:ext cx="3673800" cy="49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,,Пловец''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98240" y="1432800"/>
            <a:ext cx="93949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161617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161617"/>
                </a:solidFill>
                <a:latin typeface="Roboto"/>
              </a:rPr>
              <a:t>Лежа на спине поднимите противоположную руку и ногу максимально вверх, задерживаясь в верхнем положении на несколько секунд. Следите за тем, чтобы грудь, живот и таз оставались на полу. Не напрягайте шею во время подъема рук, она должна оставаться расслабленной и свободной. Отрывайте колени от пола, ноги остаются прямыми. Если вам тяжело выполнять это упражнение в динамике, то поднимайте разноименные руки и ноги, возвращаясь в исходное положение. 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161617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161617"/>
                </a:solidFill>
                <a:latin typeface="Roboto"/>
              </a:rPr>
              <a:t>Сколько выполнять:</a:t>
            </a:r>
            <a:r>
              <a:rPr b="0" lang="ru-RU" sz="2800" spc="-1" strike="noStrike">
                <a:solidFill>
                  <a:srgbClr val="161617"/>
                </a:solidFill>
                <a:latin typeface="Roboto"/>
              </a:rPr>
              <a:t> </a:t>
            </a:r>
            <a:r>
              <a:rPr b="0" lang="ru-RU" sz="2800" spc="-1" strike="noStrike">
                <a:solidFill>
                  <a:srgbClr val="999999"/>
                </a:solidFill>
                <a:latin typeface="Roboto"/>
              </a:rPr>
              <a:t>15 повторений на каждую сторону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374200" y="256176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пасибо за внимание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7T06:19:57Z</dcterms:created>
  <dc:creator>79040899174</dc:creator>
  <dc:description/>
  <dc:language>en-US</dc:language>
  <cp:lastModifiedBy>79040899174</cp:lastModifiedBy>
  <dcterms:modified xsi:type="dcterms:W3CDTF">2020-06-17T07:17:59Z</dcterms:modified>
  <cp:revision>4</cp:revision>
  <dc:subject/>
  <dc:title>Осанка человека- залог здоровья и красо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9</vt:r8>
  </property>
</Properties>
</file>