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76EB-2AF8-49E8-A229-0844F7AD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EFD-C51C-4EBE-B0E3-A64478BB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E11A-B7CA-453B-B511-97A97FF5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5EA-447C-4565-B6F2-C1E8CF0D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10AF-A549-4FF3-9C71-0C21C13A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3538-8479-4696-BF16-AB240F43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AADE-DCC8-4880-933E-0DB8401C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1387-5643-433D-A513-B64E1B04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B549-8BA9-4E37-9DFB-28933ED8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6E44-F242-4975-AC96-23AEBC92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3007-728A-4A31-B048-CE8DD84B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CC57-7F2D-43E4-98AC-D4188E29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CAEA-ED2C-40AA-8FDA-4F6147E4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8D87-4787-4617-A95D-89767117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EC84-A88C-4F9D-97F8-B0D774AD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D847-0CD4-4C13-A9D8-E905D24E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BD94-752D-45CA-B792-B34B6758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D2A-1728-4974-BA78-3B832DD0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760-56B0-4397-A3D8-91EA165A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955-6925-4936-AF38-02AC7C77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7A1-F3D7-426C-9BE7-DA7C5373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728E-5191-4C4D-A464-DE4710EE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8BE-0E54-4AC4-B92C-2C9989FD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0D39-E592-4351-96DA-7A713F88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9D7A29-82F2-4449-A501-EA8E7D812BD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258BE9-848D-4A77-929D-2DA077B399A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санка человека- залог здоровья и красоты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322400" y="3602160"/>
            <a:ext cx="4696560" cy="30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ила: Яньшина Маргар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-З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лователь: Ю.А. Шалаг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ервое упражнени для осанк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,,Кошачьи подтягивания''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9360" y="1852200"/>
            <a:ext cx="75373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22222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222222"/>
                </a:solidFill>
                <a:latin typeface="Kazimir"/>
              </a:rPr>
              <a:t>Встаньте на четвереньки. Ваши ладони должны находиться строго под плечами, а локти оставаться прямыми на протяжении всего упражнения. На вдохе расслабьте живот, поднимите взгляд вверх и аккуратно прогните позвоночник. Представьте, будто пытаетесь дотянуться копчиком до затылка. На выдохе наклоните подбородок к груди, напрягите пресс и максимально округлите спину. Со стороны эти движения напоминают кошачьи потягивания после сна. Выполните 6–10 повторений. 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4" descr=""/>
          <p:cNvPicPr/>
          <p:nvPr/>
        </p:nvPicPr>
        <p:blipFill>
          <a:blip r:embed="rId1"/>
          <a:stretch/>
        </p:blipFill>
        <p:spPr>
          <a:xfrm>
            <a:off x="8143920" y="1278000"/>
            <a:ext cx="40478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,,Глубокий выпад вперёд‘’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851868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12040" indent="-212040">
              <a:lnSpc>
                <a:spcPct val="90000"/>
              </a:lnSpc>
              <a:spcBef>
                <a:spcPts val="1001"/>
              </a:spcBef>
              <a:buClr>
                <a:srgbClr val="22222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222222"/>
                </a:solidFill>
                <a:latin typeface="Kazimir"/>
              </a:rPr>
              <a:t>Встаньте на колени и сделайте глубокий выпад вперед правой ногой. Переднее колено должно быть согнуто под прямым углом. Дышите расслабленно и спокойно. Теперь поднимите руки над головой и сцепите их в замок. Следите, чтобы спина при этом оставалась ровной, а плечи находились строго над бедрами. Тяните руки вверх до тех пор, пока не почувствуете напряжение в плечевых мышцах. Задержитесь в этом положении, мысленно сосчитав до десяти, после чего вернитесь на колени и повторите упражнение с выпадом на правую ногу. Выполните упражнение 5–10 раз на каждую сторону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4" descr=""/>
          <p:cNvPicPr/>
          <p:nvPr/>
        </p:nvPicPr>
        <p:blipFill>
          <a:blip r:embed="rId1"/>
          <a:stretch/>
        </p:blipFill>
        <p:spPr>
          <a:xfrm>
            <a:off x="8340840" y="914400"/>
            <a:ext cx="3850560" cy="50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,,Карандаш между лопаток''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67874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2222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222222"/>
                </a:solidFill>
                <a:latin typeface="Kazimir"/>
              </a:rPr>
              <a:t>Встаньте ровно, поставьте ноги немного шире плеч и вытяните руки в стороны. Затем согните руки в локтях под прямым углом ладонями вперед, как можно сильнее отведите плечи назад и соедините лопатки. Представьте, что между ними зажат карандаш, который не должен упасть. Теперь добавьте плавные наклоны из стороны в сторону. Продолжайте выполнять упражнение 20–30 секунд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4" descr=""/>
          <p:cNvPicPr/>
          <p:nvPr/>
        </p:nvPicPr>
        <p:blipFill>
          <a:blip r:embed="rId1"/>
          <a:stretch/>
        </p:blipFill>
        <p:spPr>
          <a:xfrm>
            <a:off x="8673840" y="1027800"/>
            <a:ext cx="2863080" cy="509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,,Сундук с полотенцем''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9680" y="1690560"/>
            <a:ext cx="7948080" cy="444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22222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222222"/>
                </a:solidFill>
                <a:latin typeface="Kazimir"/>
              </a:rPr>
              <a:t>Опустите плечи вниз и назад. Глядя перед собой, положите средний и указательный пальцы на подбородок. Теперь слегка надавите на него и отведите голову назад в горизонтальной плоскости. Запрокидывать голову наверх не нужно. При этом получится эффект «второго подбородка». Чем больше складок на коже образуется — тем лучше будет результат. Задержитесь в этом положении на 3–5 секунд, после чего вернитесь в исходное положение. Повторите упражнение 10–15 раз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,,Классическая планка‘’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200" y="1343520"/>
            <a:ext cx="11907000" cy="351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22222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222222"/>
                </a:solidFill>
                <a:latin typeface="Kazimir"/>
              </a:rPr>
              <a:t>Укрепить мышечный корсет и скорректировать осанку хорошо помогает планка на локтях. Согните локти под прямым углом и перенесите вес тела на предплечья. Ноги при этом опираются на носки, а корпус находится на весу. Дышите ровно и следите за тем, чтобы спина оставалась ровной, живот и колени были напряжены, а таз не «уходил» вверх или вниз. Все тело должно образовывать одну прямую линию, параллельную полу. Новичкам рекомендуется начать с 20 секунд утренней планки. В дальнейшем время выполнения можно увеличить до 5 минут. Кроме классической, для осанки полезна боковая планка на прямых руках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4" descr=""/>
          <p:cNvPicPr/>
          <p:nvPr/>
        </p:nvPicPr>
        <p:blipFill>
          <a:blip r:embed="rId1"/>
          <a:stretch/>
        </p:blipFill>
        <p:spPr>
          <a:xfrm>
            <a:off x="3099960" y="4764600"/>
            <a:ext cx="5457600" cy="20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,,Наклон с руками за спиной‘’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0400" y="1690560"/>
            <a:ext cx="81626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161617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161617"/>
                </a:solidFill>
                <a:latin typeface="Roboto"/>
              </a:rPr>
              <a:t>Встаньте прямо и отведите руки назад за спину. Сомкните ладони вместе, скрещивая пальцы между собой. Наклоните корпус и поднимите руки вверх, отводя их как можно дальше вперед. Выполняйте это упражнение для осанки, раскрывая плечи и грудной отдел. Спина не должна округляться, поэтому можно не опускать корпус слишком низко, достаточно до параллели с полом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161617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161617"/>
                </a:solidFill>
                <a:latin typeface="Roboto"/>
              </a:rPr>
              <a:t>Сколько выполнять:</a:t>
            </a:r>
            <a:r>
              <a:rPr b="0" lang="ru-RU" sz="2800" spc="-1" strike="noStrike">
                <a:solidFill>
                  <a:srgbClr val="161617"/>
                </a:solidFill>
                <a:latin typeface="Roboto"/>
              </a:rPr>
              <a:t> </a:t>
            </a:r>
            <a:r>
              <a:rPr b="0" lang="ru-RU" sz="2800" spc="-1" strike="noStrike">
                <a:solidFill>
                  <a:srgbClr val="999999"/>
                </a:solidFill>
                <a:latin typeface="Roboto"/>
              </a:rPr>
              <a:t>2 подхода по 30-60 секунд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4" descr=""/>
          <p:cNvPicPr/>
          <p:nvPr/>
        </p:nvPicPr>
        <p:blipFill>
          <a:blip r:embed="rId1"/>
          <a:stretch/>
        </p:blipFill>
        <p:spPr>
          <a:xfrm>
            <a:off x="8517600" y="816120"/>
            <a:ext cx="3673800" cy="49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,,Пловец''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98240" y="1432800"/>
            <a:ext cx="93949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161617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161617"/>
                </a:solidFill>
                <a:latin typeface="Roboto"/>
              </a:rPr>
              <a:t>Лежа на спине поднимите противоположную руку и ногу максимально вверх, задерживаясь в верхнем положении на несколько секунд. Следите за тем, чтобы грудь, живот и таз оставались на полу. Не напрягайте шею во время подъема рук, она должна оставаться расслабленной и свободной. Отрывайте колени от пола, ноги остаются прямыми. Если вам тяжело выполнять это упражнение в динамике, то поднимайте разноименные руки и ноги, возвращаясь в исходное положение. 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161617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161617"/>
                </a:solidFill>
                <a:latin typeface="Roboto"/>
              </a:rPr>
              <a:t>Сколько выполнять:</a:t>
            </a:r>
            <a:r>
              <a:rPr b="0" lang="ru-RU" sz="2800" spc="-1" strike="noStrike">
                <a:solidFill>
                  <a:srgbClr val="161617"/>
                </a:solidFill>
                <a:latin typeface="Roboto"/>
              </a:rPr>
              <a:t> </a:t>
            </a:r>
            <a:r>
              <a:rPr b="0" lang="ru-RU" sz="2800" spc="-1" strike="noStrike">
                <a:solidFill>
                  <a:srgbClr val="999999"/>
                </a:solidFill>
                <a:latin typeface="Roboto"/>
              </a:rPr>
              <a:t>15 повторений на каждую сторону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74200" y="256176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пасибо за внима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7T06:19:57Z</dcterms:created>
  <dc:creator>79040899174</dc:creator>
  <dc:description/>
  <dc:language>en-US</dc:language>
  <cp:lastModifiedBy>79040899174</cp:lastModifiedBy>
  <dcterms:modified xsi:type="dcterms:W3CDTF">2020-06-17T07:17:59Z</dcterms:modified>
  <cp:revision>4</cp:revision>
  <dc:subject/>
  <dc:title>Осанка человека- залог здоровья и крас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9</vt:r8>
  </property>
</Properties>
</file>