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89B-8CD3-4FCF-951E-64F34769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53C-AE09-44DF-8345-99C24E01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71E4-7153-4F90-8228-1AA2CC92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747-A0CC-480A-A894-894629DA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B2A3-6316-4399-94DB-AF8EA4C4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B3B7-3F91-4764-8AA2-2F78FA15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C303-11CC-4F97-88FB-551AC8A8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216B-FA9F-4A5B-AAF2-6A594714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10E4-1CD6-48C3-8560-9232F356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069F-1B53-48B5-9169-B9392D4B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3DC8-7A1F-494A-B101-6865C47B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0CF7-CE73-428F-9042-592BB873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C72A-5B6F-4410-A9D1-5CDBFB79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E17F-A67E-43D4-BE4E-B9C0627C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CDAE-EFC4-43FA-B1EA-433CC698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2C7F-324A-4FF7-A5EE-219E7004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18AD-56CC-4EE1-9C50-CA5F9496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FAA-D7C6-4B02-9EB8-FB4029F5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30F-952C-4364-8AC3-79E77FEE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929C-A675-43A7-AE38-8D921C82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37E6-A2ED-49BF-A37E-4F691951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8D5-9239-49CF-B45F-9FDEA32B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E43-DBDE-4F92-87D8-DCAFA22C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57CF-9D46-4C2C-B24E-F466583A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EF8BAC-1DE4-444C-BC1E-B98C2A504E0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F0A894-AEEA-4169-AE91-D28FE234338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санка человека- залог здоровья и красоты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322400" y="3602160"/>
            <a:ext cx="4696560" cy="30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ила: Яньшина Маргар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-З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лователь: Ю.А. Шалаг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ервое упражнени для осанк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,,Кошачьи подтягивания''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9360" y="1852200"/>
            <a:ext cx="75373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22222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222222"/>
                </a:solidFill>
                <a:latin typeface="Kazimir"/>
              </a:rPr>
              <a:t>Встаньте на четвереньки. Ваши ладони должны находиться строго под плечами, а локти оставаться прямыми на протяжении всего упражнения. На вдохе расслабьте живот, поднимите взгляд вверх и аккуратно прогните позвоночник. Представьте, будто пытаетесь дотянуться копчиком до затылка. На выдохе наклоните подбородок к груди, напрягите пресс и максимально округлите спину. Со стороны эти движения напоминают кошачьи потягивания после сна. Выполните 6–10 повторений. 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4" descr=""/>
          <p:cNvPicPr/>
          <p:nvPr/>
        </p:nvPicPr>
        <p:blipFill>
          <a:blip r:embed="rId1"/>
          <a:stretch/>
        </p:blipFill>
        <p:spPr>
          <a:xfrm>
            <a:off x="8143920" y="1278000"/>
            <a:ext cx="40478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,,Глубокий выпад вперёд‘’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851868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12040" indent="-212040">
              <a:lnSpc>
                <a:spcPct val="90000"/>
              </a:lnSpc>
              <a:spcBef>
                <a:spcPts val="1001"/>
              </a:spcBef>
              <a:buClr>
                <a:srgbClr val="22222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222222"/>
                </a:solidFill>
                <a:latin typeface="Kazimir"/>
              </a:rPr>
              <a:t>Встаньте на колени и сделайте глубокий выпад вперед правой ногой. Переднее колено должно быть согнуто под прямым углом. Дышите расслабленно и спокойно. Теперь поднимите руки над головой и сцепите их в замок. Следите, чтобы спина при этом оставалась ровной, а плечи находились строго над бедрами. Тяните руки вверх до тех пор, пока не почувствуете напряжение в плечевых мышцах. Задержитесь в этом положении, мысленно сосчитав до десяти, после чего вернитесь на колени и повторите упражнение с выпадом на правую ногу. Выполните упражнение 5–10 раз на каждую сторону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4" descr=""/>
          <p:cNvPicPr/>
          <p:nvPr/>
        </p:nvPicPr>
        <p:blipFill>
          <a:blip r:embed="rId1"/>
          <a:stretch/>
        </p:blipFill>
        <p:spPr>
          <a:xfrm>
            <a:off x="8340840" y="914400"/>
            <a:ext cx="3850560" cy="50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,,Карандаш между лопаток''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67874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2222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222222"/>
                </a:solidFill>
                <a:latin typeface="Kazimir"/>
              </a:rPr>
              <a:t>Встаньте ровно, поставьте ноги немного шире плеч и вытяните руки в стороны. Затем согните руки в локтях под прямым углом ладонями вперед, как можно сильнее отведите плечи назад и соедините лопатки. Представьте, что между ними зажат карандаш, который не должен упасть. Теперь добавьте плавные наклоны из стороны в сторону. Продолжайте выполнять упражнение 20–30 секунд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4" descr=""/>
          <p:cNvPicPr/>
          <p:nvPr/>
        </p:nvPicPr>
        <p:blipFill>
          <a:blip r:embed="rId1"/>
          <a:stretch/>
        </p:blipFill>
        <p:spPr>
          <a:xfrm>
            <a:off x="8673840" y="1027800"/>
            <a:ext cx="2863080" cy="509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,,Сундук с полотенцем''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9680" y="1690560"/>
            <a:ext cx="7948080" cy="444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22222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222222"/>
                </a:solidFill>
                <a:latin typeface="Kazimir"/>
              </a:rPr>
              <a:t>Опустите плечи вниз и назад. Глядя перед собой, положите средний и указательный пальцы на подбородок. Теперь слегка надавите на него и отведите голову назад в горизонтальной плоскости. Запрокидывать голову наверх не нужно. При этом получится эффект «второго подбородка». Чем больше складок на коже образуется — тем лучше будет результат. Задержитесь в этом положении на 3–5 секунд, после чего вернитесь в исходное положение. Повторите упражнение 10–15 раз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,,Классическая планка‘’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200" y="1343520"/>
            <a:ext cx="11907000" cy="351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22222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222222"/>
                </a:solidFill>
                <a:latin typeface="Kazimir"/>
              </a:rPr>
              <a:t>Укрепить мышечный корсет и скорректировать осанку хорошо помогает планка на локтях. Согните локти под прямым углом и перенесите вес тела на предплечья. Ноги при этом опираются на носки, а корпус находится на весу. Дышите ровно и следите за тем, чтобы спина оставалась ровной, живот и колени были напряжены, а таз не «уходил» вверх или вниз. Все тело должно образовывать одну прямую линию, параллельную полу. Новичкам рекомендуется начать с 20 секунд утренней планки. В дальнейшем время выполнения можно увеличить до 5 минут. Кроме классической, для осанки полезна боковая планка на прямых руках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4" descr=""/>
          <p:cNvPicPr/>
          <p:nvPr/>
        </p:nvPicPr>
        <p:blipFill>
          <a:blip r:embed="rId1"/>
          <a:stretch/>
        </p:blipFill>
        <p:spPr>
          <a:xfrm>
            <a:off x="3099960" y="4764600"/>
            <a:ext cx="5457600" cy="20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,,Наклон с руками за спиной‘’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0400" y="1690560"/>
            <a:ext cx="81626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161617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161617"/>
                </a:solidFill>
                <a:latin typeface="Roboto"/>
              </a:rPr>
              <a:t>Встаньте прямо и отведите руки назад за спину. Сомкните ладони вместе, скрещивая пальцы между собой. Наклоните корпус и поднимите руки вверх, отводя их как можно дальше вперед. Выполняйте это упражнение для осанки, раскрывая плечи и грудной отдел. Спина не должна округляться, поэтому можно не опускать корпус слишком низко, достаточно до параллели с полом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161617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161617"/>
                </a:solidFill>
                <a:latin typeface="Roboto"/>
              </a:rPr>
              <a:t>Сколько выполнять:</a:t>
            </a:r>
            <a:r>
              <a:rPr b="0" lang="ru-RU" sz="2800" spc="-1" strike="noStrike">
                <a:solidFill>
                  <a:srgbClr val="161617"/>
                </a:solidFill>
                <a:latin typeface="Roboto"/>
              </a:rPr>
              <a:t> </a:t>
            </a:r>
            <a:r>
              <a:rPr b="0" lang="ru-RU" sz="2800" spc="-1" strike="noStrike">
                <a:solidFill>
                  <a:srgbClr val="999999"/>
                </a:solidFill>
                <a:latin typeface="Roboto"/>
              </a:rPr>
              <a:t>2 подхода по 30-60 секунд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4" descr=""/>
          <p:cNvPicPr/>
          <p:nvPr/>
        </p:nvPicPr>
        <p:blipFill>
          <a:blip r:embed="rId1"/>
          <a:stretch/>
        </p:blipFill>
        <p:spPr>
          <a:xfrm>
            <a:off x="8517600" y="816120"/>
            <a:ext cx="3673800" cy="49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,,Пловец''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98240" y="1432800"/>
            <a:ext cx="93949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161617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161617"/>
                </a:solidFill>
                <a:latin typeface="Roboto"/>
              </a:rPr>
              <a:t>Лежа на спине поднимите противоположную руку и ногу максимально вверх, задерживаясь в верхнем положении на несколько секунд. Следите за тем, чтобы грудь, живот и таз оставались на полу. Не напрягайте шею во время подъема рук, она должна оставаться расслабленной и свободной. Отрывайте колени от пола, ноги остаются прямыми. Если вам тяжело выполнять это упражнение в динамике, то поднимайте разноименные руки и ноги, возвращаясь в исходное положение. 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161617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161617"/>
                </a:solidFill>
                <a:latin typeface="Roboto"/>
              </a:rPr>
              <a:t>Сколько выполнять:</a:t>
            </a:r>
            <a:r>
              <a:rPr b="0" lang="ru-RU" sz="2800" spc="-1" strike="noStrike">
                <a:solidFill>
                  <a:srgbClr val="161617"/>
                </a:solidFill>
                <a:latin typeface="Roboto"/>
              </a:rPr>
              <a:t> </a:t>
            </a:r>
            <a:r>
              <a:rPr b="0" lang="ru-RU" sz="2800" spc="-1" strike="noStrike">
                <a:solidFill>
                  <a:srgbClr val="999999"/>
                </a:solidFill>
                <a:latin typeface="Roboto"/>
              </a:rPr>
              <a:t>15 повторений на каждую сторону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74200" y="256176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пасибо за внима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7T06:19:57Z</dcterms:created>
  <dc:creator>79040899174</dc:creator>
  <dc:description/>
  <dc:language>en-US</dc:language>
  <cp:lastModifiedBy>79040899174</cp:lastModifiedBy>
  <dcterms:modified xsi:type="dcterms:W3CDTF">2020-06-17T07:17:59Z</dcterms:modified>
  <cp:revision>4</cp:revision>
  <dc:subject/>
  <dc:title>Осанка человека- залог здоровья и крас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9</vt:r8>
  </property>
</Properties>
</file>