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33A-75C0-47AE-BAD4-4CC26E00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0C4-A8C5-419E-A7DE-A4E3D30B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34F-F9F7-4FA6-9CE3-15B1C1FD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DD7-FDFA-44EA-BCD7-169CBFF6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41BC-DC94-43CA-937E-A8AF5B9F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7399-96F8-45F3-B145-A6FA6619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B9FC-029F-4954-ACF7-A5FD420E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0ECC-F1C1-48DE-9DD2-942225DD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2F50-AA71-46EF-AB27-05F76EE8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2595-BF06-4456-98C5-631FF6A4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19C2-9AA5-4906-8888-7834FD54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7A0-79F0-4F24-8A73-FE64100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C068-85E8-45CA-B883-65B04BC6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618B-8777-4424-8611-17C324E6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2AF7-6DB1-4B1F-B36D-00D2F3EC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FFB6-E90C-48B5-84F6-5D4217EA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D231-DC4A-458B-8C8B-9E2880A7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9BC7-79E2-4437-B749-39FF088E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79E1-3EC4-4687-972F-6EF43C5E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770D-B78C-43F3-9137-84D9250B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A5C1-3922-4B43-B73E-8C2A7EDB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7D6A-EF9C-4952-82AF-4B99B756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E44-FF89-483C-8C7A-213A257B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99F2-E59E-43BA-94FB-A2F263F0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9445-6790-48AD-9186-ACCA7A57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C548-E99C-4BFE-9DAE-3252BBFB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5CC45-CA80-4C48-9E97-3429E06C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CB7C-4991-4FD0-9320-BFD8EF8B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0E59F-C1DF-4E27-9A00-9603F5EE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7D31-DF18-4223-AC36-51687697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B3567-C991-4305-8C08-6FFEA311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17ECB-243F-4C6F-AE55-254460AE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F7247-B361-4A2E-9A47-47D42AE0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C06-BD59-4AA2-B8B2-8AEFFE9F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84B3-D111-4290-9244-12D47A37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69FF-6999-4A00-9F72-8A2BC571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FC45-FB74-4164-862B-F8793312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6095-A425-4BFD-982F-A5DCB6FD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52C7D-CD56-4E66-8778-106D0AA7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59C76-9F2A-46FE-98EF-BAF57A8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E504-9082-4723-8D2D-DD3720CF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6D4AB-EA71-46FE-B843-77DB3D5F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5651E-FDBB-4541-B412-E1B5121C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81A-A6E7-429E-9131-35A53630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05B-AF0F-46F7-8BA2-BE1A567C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692-29CC-4A3D-93D2-4C89EAD8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F0A-FE32-4272-B8A4-D5DEF97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2FA-62CF-40D1-AB80-66C6BED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3" name="Freeform 9" hidden="1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Rectangle 10" hidden="1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" name="Rectangle 11" hidden="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9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0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11" name="Freeform 9"/>
          <p:cNvSpPr/>
          <p:nvPr/>
        </p:nvSpPr>
        <p:spPr>
          <a:xfrm rot="10800000">
            <a:off x="892080" y="5617800"/>
            <a:ext cx="7382520" cy="536760"/>
          </a:xfrm>
          <a:custGeom>
            <a:avLst/>
            <a:gdLst>
              <a:gd name="textAreaLeft" fmla="*/ 0 w 7382520"/>
              <a:gd name="textAreaRight" fmla="*/ 7382880 w 73825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" name="Rectangle 10"/>
          <p:cNvSpPr/>
          <p:nvPr/>
        </p:nvSpPr>
        <p:spPr>
          <a:xfrm>
            <a:off x="990000" y="1017000"/>
            <a:ext cx="7179480" cy="483120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990720" y="1009800"/>
            <a:ext cx="7179480" cy="48312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14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800">
            <a:off x="769320" y="70164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6200">
            <a:off x="7855560" y="74952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27280" y="1794960"/>
            <a:ext cx="5723280" cy="182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6770520" y="53575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1173960" y="5357520"/>
            <a:ext cx="5034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213960" y="53575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31C1D6C-21E6-4B53-901A-FF6FAA37D95A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8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60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3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5920" indent="-228600">
              <a:lnSpc>
                <a:spcPct val="100000"/>
              </a:lnSpc>
              <a:spcBef>
                <a:spcPts val="32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9EB954-83D9-4E7B-9CDF-815813B1BCB2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F69CD4-75CF-41B8-A817-7583AFC5BA3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48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50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153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5920" indent="-228600">
              <a:lnSpc>
                <a:spcPct val="100000"/>
              </a:lnSpc>
              <a:spcBef>
                <a:spcPts val="32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F7122D-C2DC-474C-B628-CC10548E532F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medlink.ucoz.ru/dir/0-0-0-1113-20" TargetMode="External"/><Relationship Id="rId2" Type="http://schemas.openxmlformats.org/officeDocument/2006/relationships/hyperlink" Target="http://medlink.ucoz.ru/dir/0-0-0-1113-20" TargetMode="External"/><Relationship Id="rId3" Type="http://schemas.openxmlformats.org/officeDocument/2006/relationships/hyperlink" Target="http://medlink.ucoz.ru/dir/0-0-0-1113-20" TargetMode="External"/><Relationship Id="rId4" Type="http://schemas.openxmlformats.org/officeDocument/2006/relationships/hyperlink" Target="http://medlink.ucoz.ru/dir/0-0-0-1113-20" TargetMode="External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5640" y="1989000"/>
            <a:ext cx="6840360" cy="264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4800"/>
            </a:br>
            <a:br>
              <a:rPr sz="13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«Допинг и антидопинговый контроль в спорте»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27640" y="908640"/>
            <a:ext cx="7416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 допинговым средствам относят препараты следующих 5 груп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яторы (стимуляторы ЦНС, симпатомиметики, анальгетики)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 (наркотические анальгетики)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болические стероиды и другие гормональные анаболизирующие средства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-блокаторы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Font typeface="Brush Script MT"/>
              <a:buChar char="O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ки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331640" y="908640"/>
            <a:ext cx="655236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 допинговым методам относя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яной допинг;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ческие, химические и механические манипуляции с биологическими жидкостями (маскирующие средства, добавление ароматических соединений в пробы мочи, катетеризация, подмена проб, подавление выделения мочи почками)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3640" y="1052640"/>
            <a:ext cx="720036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 класса соединений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их ограничениям, даже при их приеме с лечебными целями: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(настойки на основе этилового спирта)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хуана;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естной анестезии;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икостероиды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27640" y="548640"/>
            <a:ext cx="7488360" cy="57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ТИМУЛЯТОРЫ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етамины, эфедрин, кокаин, экстази, сальбутамол, кофеин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, которые искусственно активируют центральную нервную систему и/или регулируют выработку организмом адриналина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опинг-эффект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общий тонус организма, снимают усталость, поднимают соревновательный дух и агрессивность, помогают в потере веса (подавляют аппетит). Эффективны в видах спорта, требующих выносливости: велоспорте, беге на длинные дистанции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бочный эффект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давление, вызывают привыкание, обезвожывание, проблемы с терморегуляцией, аритмию, повышают риск инсульта и сердечного приступа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Легко ли выявить в организме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, если допинг принят недавно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43640" y="692640"/>
            <a:ext cx="7200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 algn="ctr">
              <a:lnSpc>
                <a:spcPct val="115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АРКОТИЧЕСКИЕ АНАЛЬГЕТИКИ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ин, метадон, героин, петидин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сильнодействующая разновидность болеутоляющих средств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инг-эффект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болевой порог и позволяют тренироваться дольше и более интенсивно. Снижают или полностью устраняют боль, и спортсмены могут продолжать тренировку или состязание, несмотря на травмы и болезни. Применяются в плавании, беге на длинные дистанции, многоборье, лыжном спорте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очный эффект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258480" indent="-25848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усугубить травму, вызывают привыкание, потерю концентрации и координации, сонливость, тошноту, обмороки, кому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ко ли выявить в организме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1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, в течение трёх месяцев после принятия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43640" y="908640"/>
            <a:ext cx="712836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lnSpc>
                <a:spcPct val="115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НАБОЛИК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дролон, тетрагидрогестринлн, станозолол, андростенедион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ы, действие которых аналогично мужскому гормону тестостерону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инг-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ют мускульную массу, силу и выносливость. Повышают агрессивность и чувство соперничества. Позволяют тренироваться дольше и интенсивнее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очный 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ужчин: повреждение почек, бесплодие и импотенц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женщин: развитие мужских черт, бесплодие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гко ли выявить в организме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, в течение полугода после принят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971640" y="620640"/>
            <a:ext cx="720036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indent="0" algn="ctr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72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ДИУРЕТИКИ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Ацетазоламид, хлорталидон, триамтерин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параты, позволяющие выводить из тела жидкость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быстро потерять вес (в видах спорта, где существуют весовые категории) и замаскировать применение других запрещенных препаратов: благодаря мочегонному эффекту, химические препараты быстрее выводятся из организма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ются в борьбе, плавании, гимнастике, велоспорте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звоживание, нарушение обмена веществ, головокружение, судороги, головные боли, тошнота, пониженное давление, повреждение почек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Легко ли выявить в организме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Calibri"/>
              </a:rPr>
              <a:t>: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144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егко, если провести соответствующий тест.</a:t>
            </a:r>
            <a:endParaRPr b="0" lang="ru-RU" sz="7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187640" y="692640"/>
            <a:ext cx="698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17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ПЕПТИДНЫЕ ГОРМОНЫ И ИХ АНАЛОГИ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моны роста, эритропоэтин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а, производимые организмом для контроля таких функций, как рост, выработка красных кровяных телец и чувство боли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мон роста вызывает рост мышечной массы и силы, упрочнение сухожилий и связок, помогает быстро восстановиться после травм и тренировок. Эритропоэтин вызввает увеличение выработки эритроцитов, повышает выносливость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ется в гребле, лёгкой атлетике, велоспорте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моны роста: акромегалия, сердечная недостаточность, диабет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Эритропоэтин: сгущение крови, тромбы, инфаркт, инсульт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Легко ли выявить в организме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  <a:ea typeface="Calibri"/>
              </a:rPr>
              <a:t>: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трудно выявляемый вид допинга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187640" y="764640"/>
            <a:ext cx="7056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ДОПИНГ КРОВ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едение донорских эритроцитов или собственной крови, законсервированной за два-три месяца до соревнований - кровь вливают обратно, когда организм уже компенсировал недостаток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м выше способность крови усваивать кислород, тем спортсмен выносливее. Подобный способ особенно эффективен для бегунов на длинные дистанции, велосипедистов и пловцов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гущение крови, перегрузка системы кровообращен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Легко ли выявить в организм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Aft>
                <a:spcPts val="6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ведена собственная кровь, выявить это практически невозможно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43640" y="764640"/>
            <a:ext cx="712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БЕТА-БЛОКАТОРЫ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цебутолол, алпренолол, атенолол и др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а, понижающие частоту сердцебиения. Действие этих препаратов особенно выражено во время болезней, стрессов и тренировок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ртсмены могут использовать бета-блокаторы для уменьшения частоты сердцебиения и дрожания рук в тех видах спорта, где решающими факторами являются точность и твердость рук (например, стрельба, в том числе из лука, прыжки в воду)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очный эффект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7920" indent="-2779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иженное давление и уровень сердцебиения, чувство усталости и снижение выносливости, сужение кровеносных сосудов в руках и ногах, сердечная недостаточность, депрессия, нарушение сна, половая дисфункц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допинг». Исторические данные о применении допингов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допинговых средств и методов, их краткая характеристика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"/>
              <a:tabLst>
                <a:tab algn="l" pos="457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антидопингового контрол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45720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Объект 3" descr="http://www.studfiles.ru/html/2706/1245/html_TR4c3fQIqd.cgN_/htmlconvd-PwIT_E_html_73d546ec.png"/>
          <p:cNvPicPr/>
          <p:nvPr/>
        </p:nvPicPr>
        <p:blipFill>
          <a:blip r:embed="rId1"/>
          <a:srcRect l="1331" t="18747" r="1902" b="1122"/>
          <a:stretch/>
        </p:blipFill>
        <p:spPr>
          <a:xfrm>
            <a:off x="467640" y="0"/>
            <a:ext cx="8280720" cy="674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99640" y="764640"/>
            <a:ext cx="7416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ADA разрабатывает новые лабораторные методы, позволяющие обнаруживать в крови спортсменов все больше лекарственных препаратов. В принципе все эти новости можно узнать и на сайте WADA и в национальных антидопинговых службах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ланировании выступлений спортивные врачи должны не только тщательно следить за состоянием спортсмена, но и проверять все принимаемые им лекарства. Беда заключается в том, что запрещенное вещество может быть в лекарственном препарате не основным, может быть указано мелкими буквами, или вообще упущено. Очень внимательно следует относиться к различным БАДам. Известно, что их производители далеко не всегда указывают на этикетке весь состав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любом случае ответственность за применение допинга всегда лежит на самом спортсмене. Прежде всего, потому, что это именно его здоровье, его доброе имя и его результаты. При дисквалификации аннулируются его достижения, ставится под сомнение не только последние результаты, но и все предыдущие победы. Страдает и престиж команды, страны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640" y="620640"/>
            <a:ext cx="669636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Организация и проведение антидопингового контроля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3640" y="1772640"/>
            <a:ext cx="691236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дура допинг-контроля состоит из следующих этапов: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бор биологических проб для анализа,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о-химическое исследование отобранных проб и оформление заключения,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ложение санкций на нарушителей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41636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о время соревнов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ортсм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лучает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ведом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 том, что согласно правилам, он должен пройти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допинг-контро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В обязательном порядке допинг-контроль проходят: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бедители, занявшие 1-е, 2-е и 3-е места,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ин из несколько спортсменов, не занявший призовых мест   (он выбираются по жребию).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выступления, указанные спортсмены направляются в комнату допинг-контроля. Здесь спортсмен сам выбирает емкость для сбора пробы мочи на анализ.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тем, в присутствии наблюдателя происходит сдача пробы мочи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блюдатель следит за тем, чтобы не было фальсификации пробы).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сдачи пробы, на сосуд наклеивается номер, который также выбирает сам спортсмен. После этого, полученная биологическая проба делится на две равные части – пробы А и В, которые опечатываются и им присваивается определенный код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27640" y="764640"/>
            <a:ext cx="748836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фамилия спортсмена, не упоминается ни на каком из рабочих этап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для соблюдения полной анонимности)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пии кодов наклеивают на протокол допинг-контро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Затем пробы упаковывают в контейнеры для перевозки и отвозят в лабораторию допинг-контрол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д подписанием протокола допинг-контроля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ортсмен обязан сообщить комиссии названия всех лекарств, которые он принимал перед соревнованием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подписания протокола допинг-контроля спортсмену остается только ожидать результатов анализа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о регламенту проведения допинг-контрол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анализу подвергаетс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проба 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ичем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не позднее, чем через 3 суто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взятия биологической пробы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971640" y="620640"/>
            <a:ext cx="73443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лучае 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обнаружения в </a:t>
            </a:r>
            <a:r>
              <a:rPr b="1" lang="ru-RU" sz="21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пробе А</a:t>
            </a:r>
            <a:r>
              <a:rPr b="0" lang="ru-RU" sz="21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 запрещенных препарато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вскрывается и анализируется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а В.</a:t>
            </a:r>
            <a:r>
              <a:rPr b="0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вскрытии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ы 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жет присутствовать либо сам спортсмен, либо его доверенное лицо.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е 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кже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наруживаются запрещенные сред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портсмен подвергаетс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ответствующим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анкциям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же в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е 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е обнаруживают запрещенного препарат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ключение по анализу биопробы А признается недостоверным и санкции к спортсмену не применяются. 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аз спортсмена от прохождения допинг-контроля или попытка фальсифицировать его результат рассматриваются как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знание им факта применения допинго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 всеми вытекающими отсюда последствиями.</a:t>
            </a:r>
            <a:endParaRPr b="0" lang="ru-RU" sz="2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27640" y="620640"/>
            <a:ext cx="741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альсификация результатов допингового контроля заключается в </a:t>
            </a:r>
            <a:r>
              <a:rPr b="1" lang="ru-RU" sz="17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различного рода манипуляция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правленных на искажение его результатов. Возможны попытки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дмены моч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етеризация и введение в мочевой пузырь чужеродной, заведомо свободной от запрещенных препаратов мочи, или имитирующей мочу жидкости;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микроконтейнеров;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ышленное загрязнение мочи ароматическими соединениями, затрудняющими идентификацию допингов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запрещенным манипуляциям относят также специальные хирургические операции.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емые для определения допинга физико-химические методы анализа биологических проб мочи (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хроматографические, массоспектрометрические, радиоимунные, иммуноферментные и др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) весьма чувствительны и включают компьютерную идентификацию допинговых препаратов и их производных. Они позволяют с высокой точностью определять, все применявшиеся спортсменом, препараты, в том числе использованные в течение последних недель и даже месяцев. 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ме того, отработаны методики, определяющие так называемый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ровяной допинг»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переливание спортсмену собственной или чужой крови перед стартом.</a:t>
            </a:r>
            <a:endParaRPr b="0" lang="ru-RU" sz="1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1268640"/>
            <a:ext cx="712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и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Calibri"/>
              </a:rPr>
              <a:t>раньш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допинг-контроль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ходили только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валифицированные спортсмен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ольк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о время ответственных международных и внутренних соревновани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то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Calibri"/>
              </a:rPr>
              <a:t>сейча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кой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нтроль проводится не только в соревновательном периоде, но и во время тренировочных заняти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ичем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ированию на допинг подлежат все занимающиеся спортом лица, независимо от их спортивной принадлежности.</a:t>
            </a:r>
            <a:endParaRPr b="0" lang="ru-RU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200360" cy="59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анкции к спортсменам, уличенным в применении допинг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640" y="1268640"/>
            <a:ext cx="7272360" cy="48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наружение допинга грозит спортсмену суровыми наказаниями, вплоть до полного отлучения от спорта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ервом выявлении запрещенных средств (за исключением симпатомиметических препаратов, таких как эфедрин и его производные) он дисквалифицируется на 2 года, при повторном – пожизненно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лучае приема симпатомиметиков в первый раз – дисквалификация на 6 месяцев, во второй на 2 года, в третий – пожизненно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этом наказанию подвергается также тренер и врач, наблюдавший за спортсменом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ение в качестве допинга каких-либо средств, официально отнесенных к наркотическим, влечет соответствующие административные и уголовные наказания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4520" indent="-25452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стоящее время в законодательные органы страны внесены предложения о введени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ловного наказания за прием анаболических стероид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 медицинских показаний, или склонение к их приему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43640" y="764640"/>
            <a:ext cx="698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ие десятилет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пехи в изучении физиологии челов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звол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илить работоспособность спортсмен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о в то же время способствовали разработке нового и более сложного допинга. Учитывая все сенсационные заголовки о признаниях, расследованиях и обвинениях в употреблении допинга, любители спорта думают, что борьба с ним безнадежна. Однако в настоящее время наблюдается большой прогресс в том, чтобы сдел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уренцию че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послед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0 лет список антидопинговых правил значительно возро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анкции за употребление допинга ужесточились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31640" y="908640"/>
            <a:ext cx="6408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indent="0" algn="just">
              <a:lnSpc>
                <a:spcPct val="115000"/>
              </a:lnSpc>
              <a:spcBef>
                <a:spcPts val="83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нг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гл. doping, от англ. dope — «дурь», «дурманящее средство») — спортивный термин, обозначающий принятие любых веществ природного или синтетического происхождения с целью добиться улучшения спортивных результатов. </a:t>
            </a:r>
            <a:endParaRPr b="0" lang="ru-RU" sz="4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83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нг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введение в организм человека любым путем вещества, чуждого этому организму, или какой-либо физиологической субстанции в ненормальном количестве, или введение какого-либо вещества неестественным путем, для того чтобы искусственно и нечестным путем повысить результат спортсмена во время выступления в соревнованиях.</a:t>
            </a:r>
            <a:endParaRPr b="0" lang="ru-RU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3800" indent="-25380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вещества могут резко поднимать на короткое время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ость нервной и эндокринной систем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ышечную силу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аже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имулировать синтез мышечных белков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воздействия нагрузок на мышцы (например, стероиды).</a:t>
            </a:r>
            <a:endParaRPr b="0" lang="ru-RU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619640" y="1268640"/>
            <a:ext cx="6192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се же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борьбу с допингом надо начинать с социума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м необходимо перестать стремиться к славе и богатству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жалуй, самым мощным противоядием против допинга является уважение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47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век может уважать себя, если живе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ч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Это приводит к внутренней гармонии, которая, являясь истинной формой счастья, и делает нас всех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бедител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Объект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432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темы реферат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распространения допинга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, принцип действия допингов и последствия их приё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допинговых веществ WADA (2013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и организация фармакологического обеспечения подготовки спортсмен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допинг-контроля. Соревновательное и внесоревновательное тестировани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ции к спортсменам, уличенным в применении допинг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ое действие препаратов  на организм и последствия их приём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инговые технологии фармобеспечения спорта высоких достиже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опинговый контроль в Росс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опингов в различных видах спор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опингов в игровых и не игровых  видах спорта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ческие препараты и спор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а и спортсмен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ительные средства и препараты, повышающие работоспособность спортсмен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препараты в различные периоды спортивной работоспособно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, спортивные витамины и поливитамин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ьные вещества для организма спортсме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ищевые добавки и препараты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 коктейли и со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ые лекарственные средства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 и спор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действия анаболических стероидов и других гормональных анаболизирующие средства, применяемые в спорте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, никотин и их вред для организма спортсме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ые аспекты применения допинга. Основы законодательства применения допин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й кодекс МОК. Фармакологический аспек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чные действия лекарственных вещест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инг-контроль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е лекарственные средства (фитопрепараты), применяемые в спорт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ческая коррекция стрессовых ситуаций и состояни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препараты, применяемые в избранных видах спор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опинговые програм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мани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0504d"/>
              </a:buClr>
              <a:buSzPct val="85000"/>
              <a:buFont typeface="Calibri"/>
              <a:buAutoNum type="arabicPeriod"/>
              <a:tabLst>
                <a:tab algn="l" pos="4572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яной допинг. Варианты применения кровяного допинг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34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реферату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ъем от 10 до 20страниц;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язательные разделы: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;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раздел (Глав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(Выводы);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 (минимум 7 источников)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41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ОССИЙСКОЙ ФЕДЕРАЦИИ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Е ВЫСШЕГО ПРОФЕССИОНАЛЬНОГО ОБРАЗОВАНИЯ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УРСКИЙ ГОСУДАРСТВЕННЫЙ УНИВЕРСИТЕТ»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ьтет: физической культуры и спорта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: медико-биологических дисциплин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на тему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пинг-контроль в спорте»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ФФКиС 1 курса,  ЗО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подготовки: 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ла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15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истент  кафедры МБД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583360" indent="0" algn="ctr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ерова Е.Ю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к 2016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55640" y="260640"/>
            <a:ext cx="756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А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нёва Н.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пинг-конто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етодическое пособие /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В.Лунёв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.Яцун, Н.И.Тригуб, Н.А.Клеева, Ю.П.Клявс, Е.Ю.Алферова. – Курск: КГУ, 2014. – 121 с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ирный антидопинговый кодекс: версия 3.0, 20 февраля 2003 г. / Федеральное агентство по культуре и спорту. – М.: Советский Спорт, 2005. – 82с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учанский Н.И. Терапевтическая фармаколог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учанский Н.И., Савченко В.Н., Абдуева Ф.М., Бычкова О.Ю., Бондаренко И.А. /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пособ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. – Х.: ХНУ имени В. Н. Каразина, 2011. – 483 с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исов Е.Д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тидопинговый симпозиум ИААФ / Евгений Денисов // Легкая атлетика. – 2006. – № 10-11. – С. 19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 Г.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восстановления и повышения физической работоспособности в спорте высших достижений: метод. пособие / Г.И. Марков, В.И. Романов, В.Н. Гладков. –М.: Советский спорт, 2006. – 51с. 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полнительная: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аров М.А. Допинг в спорте как социально-психологический феномен / Захаров М. А., Солдатенков Ф. Н. // Социология. – 2008 . – № 1 . – С. 115-130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1"/>
              </a:rPr>
              <a:t>Кукес</a:t>
            </a: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2"/>
              </a:rPr>
              <a:t> В.Г. Клиническая фармакология учебник (архив, *.</a:t>
            </a: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3"/>
              </a:rPr>
              <a:t>djvu</a:t>
            </a:r>
            <a:r>
              <a:rPr b="0" lang="ru-RU" sz="1400" spc="-1" strike="noStrike" u="sng">
                <a:solidFill>
                  <a:srgbClr val="d83e2c"/>
                </a:solidFill>
                <a:uFillTx/>
                <a:latin typeface="Times New Roman"/>
                <a:ea typeface="Times New Roman"/>
                <a:hlinkClick r:id="rId4"/>
              </a:rPr>
              <a:t>, 6.93Mb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medlink.ucoz.ru/dir/0-0-0-1113-20  3-е изд., перераб. и доп. – М.: ГЭОТАР-Медиа, 2006. — 944 с.: ил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ченков Г.И.  От Афин и до Пекина. Борьба с допингом в спорте / Григорий Родченков // Легкая атлетика. – 2008 . – № 10 . – С. 19-21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just">
              <a:lnSpc>
                <a:spcPct val="10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457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лков Е.М. Направления деятельности в системе предотвращения допинга в спорте / Шелков О.М., Бадрак К.А. // Адаптивная физическая культура .— СПб., 2010 .— № 3 (43) . – С. 51-53.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71640" y="980640"/>
            <a:ext cx="72723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концепция в области борьбы с допингом в спорте высших достижений приведена во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семирном антидопинговом кодексе ВАДА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семирное антидопинговое агентство, учреждённое по инициативе Международного олимпийского комитета - МОК). 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56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ВАДА издает обновленный список запрещенных препаратов для спортсменов и новые версии следующих стандартов: 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71960" indent="-471960" algn="just">
              <a:lnSpc>
                <a:spcPct val="115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народный стандарт для лабораторий»,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71960" indent="-471960" algn="just">
              <a:lnSpc>
                <a:spcPct val="115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народный стандарт для тестирований»,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71960" indent="-471960" algn="just">
              <a:lnSpc>
                <a:spcPct val="115000"/>
              </a:lnSpc>
              <a:buClr>
                <a:srgbClr val="aa2b1e"/>
              </a:buClr>
              <a:buSzPct val="85000"/>
              <a:buFont typeface="Constantia"/>
              <a:buAutoNum type="arabicPeriod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дународный стандарт для оформления терапевтических исключений»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476640"/>
            <a:ext cx="705636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применения допинга в спорте 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7640" y="908640"/>
            <a:ext cx="734436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III в. до н. э. в Греции спортсмены-олимпийцы использовали вещества, улучшающие их результаты. 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древнегреческих Олимпийских игр считали, что семена кунжута повышают выносливость в беге, а борцу перед схваткой необходимо съесть десять фунтов ягнятины, запив ее вином. Использовались также некоторые лекарственные растения, употреблявшиеся в пищу, всякие методы заговоров и другие приемы.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и стимулирующие вещества и Вавилон, и Древний Египет, которые вели активные военные действия со своими соседями и нуждались в повышении боеспособности воинов  и спортсменов. 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нейшем и Европа стала применять стимулирующие средства в связи с завоеваниями Александра Македонского и впоследствии — Римской империи. 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371"/>
              </a:spcBef>
              <a:buClr>
                <a:srgbClr val="aa2b1e"/>
              </a:buClr>
              <a:buSzPct val="85000"/>
              <a:buFont typeface="Arial"/>
              <a:buChar char="•"/>
            </a:pPr>
            <a:r>
              <a:rPr b="0" lang="ru-RU" sz="185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йцы Северной и Южной Америки также издавна использовали различные стимуляторы, преимущественно растительного происхождения (кока, сарсапарилла).</a:t>
            </a:r>
            <a:endParaRPr b="0" lang="ru-RU" sz="185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416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"/>
            </a:pP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о "допинг"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воначально использовавшееся для обозначения напитка, который южноафриканские племена принимали во время религиозных ритуалов, в спорте стало применяться с 1865 г.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"/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ин "допинг"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ли по отношению к спортсменам, принимавшим стимуляторы во время соревнований по плаванию, проводившихся в Амстердаме. 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Clr>
                <a:srgbClr val="aa2b1e"/>
              </a:buClr>
              <a:buSzPct val="85000"/>
              <a:buFont typeface="Wingdings" charset="2"/>
              <a:buChar char=""/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имеются данные, согласно которым, </a:t>
            </a:r>
            <a:r>
              <a:rPr b="1" lang="ru-RU" sz="1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ом "допинг"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в первой половине XIX в. называли наркотические средства, которые давали лошадям, участвующим в конных скачках, проводившихся в Англии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38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86 г. на соревнованиях по велосипедному спорту была зафиксирована первая смерть одного из участников — англичанина Линтона, последовавшая из-за применения им допинга во время гонки по маршруту Париж — Бордо.</a:t>
            </a:r>
            <a:endParaRPr b="0" lang="ru-RU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7640" y="692640"/>
            <a:ext cx="7560360" cy="55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международной федерацией, которая стала активно бороться с использованием допинга, оказалась </a:t>
            </a:r>
            <a:r>
              <a:rPr b="1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ждународная федерация легкой атлетики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ще в 1928 г. она запретила использование стимуляторов. Другие федерации последовали ее примеру. Однако серьезного результата это не давало, поскольку отсутствовала система контроля за применением допинга.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распространение получило применение спортсменами различных стимулирующих препаратов на Олимпийских играх в начале XX в. и позднее, став более частым в 1950—1960-е и последующие годы. 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ые пробы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званные проверить, не применяли ли спортсмены запрещенные стимуляторы, были взяты </a:t>
            </a: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Токио в 1964 г. на Играх XVIII Олимпиады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60 г.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блема применения допинга привлекла внимание Совета Европы: </a:t>
            </a:r>
            <a:r>
              <a:rPr b="0" lang="ru-RU" sz="8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1 западноевропейская страна приняла резолюцию против использования в спорте допинговых субстанций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ru-RU" sz="8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331640" y="908640"/>
            <a:ext cx="655236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громкая и печальная история, связанная с допингом, произошла с канадским легкоатлетом Беном Джонсоном, который два года подряд на чемпионате мира - 1987 и Олимпиаде - 1988 в Сеуле удивлял мир суперрезультатами на дистанции 100 метров. Скорость атлета приближалась к космической - 10,2145 м/сек или 36,772 км/час, но чествовали Джонсона недолго. 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несколько дней стало известно, что в допинг-пробе триумфатора обнаружена значительная концентрация анаболического стероида станозолола. Канадец был дисквалифицирован на два года, его рекорды аннулированы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7640" y="620640"/>
            <a:ext cx="669636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допинговых средств и методов,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х краткая характеристика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7640" y="1268640"/>
            <a:ext cx="756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3 году Медицинская комиссия МОК запретила применение следующих фармакологических препаратов: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буждающих средств (стимуляторов) разных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и классо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о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болико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оливающих средст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чегонных средств,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just">
              <a:lnSpc>
                <a:spcPct val="100000"/>
              </a:lnSpc>
              <a:spcBef>
                <a:spcPts val="45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ных гормонов и их производных. 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ы также ограничения на употребление алкоголя, кофе, местноанестезирующих средств и бета-блокаторов.</a:t>
            </a:r>
            <a:endParaRPr b="0" lang="ru-RU" sz="23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  <Words>2643</Words>
  <Paragraphs>235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4T06:01:56Z</dcterms:created>
  <dc:creator>User</dc:creator>
  <dc:description/>
  <dc:language>en-US</dc:language>
  <cp:lastModifiedBy>Пользователь</cp:lastModifiedBy>
  <dcterms:modified xsi:type="dcterms:W3CDTF">2020-06-18T05:55:58Z</dcterms:modified>
  <cp:revision>26</cp:revision>
  <dc:subject/>
  <dc:title>Лекция   «Допинг и антидопинговый контроль в спорт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4</vt:r8>
  </property>
</Properties>
</file>