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4E69-40CE-4561-99ED-FB7DB0FB5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46304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17D6-FB0E-48AF-84BF-B08846BCF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4630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3788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835B-AA7B-41AD-9829-765FB40C4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578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65272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4630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578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65272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A96D-48A9-483E-821B-44611F4BD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1FEB5-6CFA-4E49-9A23-AB02556B9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46304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D24D6-164A-4CE7-A762-6AE6525C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407FA-B597-49BB-AE8F-23952956C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28F89-00E6-4E0E-A252-F99775542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C6902-134C-4DBF-BD88-08AF4549B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920" cy="55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C4E1E-54CE-4E43-8997-3F20ACC7F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4630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4AB57-77A3-4019-9C3B-676AF572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46304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7EF8-5C71-4E9E-8DA5-E809F9C26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3788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48BC2-A8E2-4C5E-B7EA-4794F039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46304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6B4F9-B869-43CD-AECF-14BC0C36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46304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D0373-BD34-4925-8FAE-C80D7469D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4630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3788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BE5FB-85DA-4BBB-8697-F9A571283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578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5272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4630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578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5272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A8E66-57F5-4908-A7B7-4AE83CD45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48530-C806-4B87-BEC4-9AFF5BB5F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6304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72FF9-080F-4711-8D61-6CE995001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72A83-3487-4CFD-A175-01C13B6AD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18C3C-FFC8-4F2C-8ADD-CF94516C4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97BBA-331D-4B33-B9E3-05D54D072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4CFC-31CB-4D83-A524-A66D47F65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920" cy="55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5C341-A1CE-4B11-AC69-FFE1EBA90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630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67043-A7AE-4A9E-BEAC-D1783A9C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3788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EA2A3-ED44-47B2-BABF-342A5375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6304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DB540-B35B-4BB8-88E5-E713590D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6304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8E4B7-9A32-4095-AFC1-35308FC25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630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3788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D5A9C-02CF-43AA-8D92-1B392B006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5578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65272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630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5578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65272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4F720-F4A9-44C9-A12D-56D44EDC6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A135E-8A52-48B6-8CB2-80B85527D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46304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40205-75E8-4E03-A867-4EA2A9218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74E99-9C60-435D-874C-3E83B67DC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D046-7888-4E6A-A776-BFC26426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A0BAD-09BA-469E-B9C5-B155D3738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07FC5-CA3F-4A56-8696-3A72668EE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920" cy="55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60154-90BF-476E-AE4D-A046B3528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630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D018D-7679-45A7-AC71-A29EC884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3788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AB2F4-D6DF-446F-9A57-CB5E8227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46304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31ECB-52FD-477E-93D6-EB53EE72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146304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07FB0-3A82-407B-BD1D-9A4792DE8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4630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3788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9584C-0DA2-488E-9866-32B0D2722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5578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65272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14630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5578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565272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EED67-BD0A-452D-B829-2FAF9DC7D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0E80-AFB4-4D1A-A533-53EFBDCE1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920" cy="55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468F-72A2-490A-83FA-29E70E059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630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5388-FE6C-4732-91D9-15B665F1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3788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F2CD-69F1-4DA5-8E74-AE0C7638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46304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45D1-1D3A-4B4F-AD92-924C0D2C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1" name="Rectangle 7"/>
            <p:cNvSpPr/>
            <p:nvPr/>
          </p:nvSpPr>
          <p:spPr>
            <a:xfrm>
              <a:off x="0" y="0"/>
              <a:ext cx="7162560" cy="685764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10101">
                    <a:alpha val="52156"/>
                  </a:srgbClr>
                </a:gs>
              </a:gsLst>
              <a:lin ang="81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Book"/>
              </a:endParaRPr>
            </a:p>
          </p:txBody>
        </p:sp>
        <p:sp>
          <p:nvSpPr>
            <p:cNvPr id="2" name="Rectangle 8"/>
            <p:cNvSpPr/>
            <p:nvPr/>
          </p:nvSpPr>
          <p:spPr>
            <a:xfrm>
              <a:off x="1143000" y="0"/>
              <a:ext cx="8000640" cy="685764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10101">
                    <a:alpha val="56078"/>
                  </a:srgbClr>
                </a:gs>
              </a:gsLst>
              <a:lin ang="27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Book"/>
              </a:endParaRPr>
            </a:p>
          </p:txBody>
        </p:sp>
      </p:grpSp>
      <p:sp>
        <p:nvSpPr>
          <p:cNvPr id="3" name="Freeform 9" hidden="1"/>
          <p:cNvSpPr/>
          <p:nvPr/>
        </p:nvSpPr>
        <p:spPr>
          <a:xfrm rot="10800000">
            <a:off x="628920" y="6069960"/>
            <a:ext cx="7920720" cy="536760"/>
          </a:xfrm>
          <a:custGeom>
            <a:avLst/>
            <a:gdLst>
              <a:gd name="textAreaLeft" fmla="*/ 0 w 7920720"/>
              <a:gd name="textAreaRight" fmla="*/ 7921080 w 7920720"/>
              <a:gd name="textAreaTop" fmla="*/ 0 h 536760"/>
              <a:gd name="textAreaBottom" fmla="*/ 537120 h 536760"/>
            </a:gdLst>
            <a:ahLst/>
            <a:rect l="textAreaLeft" t="textAreaTop" r="textAreaRight" b="textAreaBottom"/>
            <a:pathLst>
              <a:path w="7955280" h="495300">
                <a:moveTo>
                  <a:pt x="0" y="495300"/>
                </a:moveTo>
                <a:lnTo>
                  <a:pt x="169546" y="0"/>
                </a:lnTo>
                <a:lnTo>
                  <a:pt x="3966210" y="95250"/>
                </a:lnTo>
                <a:lnTo>
                  <a:pt x="7785734" y="0"/>
                </a:lnTo>
                <a:lnTo>
                  <a:pt x="7955280" y="495300"/>
                </a:lnTo>
                <a:lnTo>
                  <a:pt x="0" y="495300"/>
                </a:lnTo>
                <a:close/>
              </a:path>
            </a:pathLst>
          </a:custGeom>
          <a:gradFill rotWithShape="0">
            <a:gsLst>
              <a:gs pos="0">
                <a:srgbClr val="010101">
                  <a:alpha val="34117"/>
                </a:srgbClr>
              </a:gs>
              <a:gs pos="100000">
                <a:srgbClr val="010101">
                  <a:alpha val="26274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softEdge rad="12708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4" name="Rectangle 10" hidden="1"/>
          <p:cNvSpPr/>
          <p:nvPr/>
        </p:nvSpPr>
        <p:spPr>
          <a:xfrm>
            <a:off x="731520" y="575280"/>
            <a:ext cx="7695720" cy="5714640"/>
          </a:xfrm>
          <a:prstGeom prst="rect">
            <a:avLst/>
          </a:prstGeom>
          <a:solidFill>
            <a:schemeClr val="bg1">
              <a:lumMod val="75000"/>
              <a:lumOff val="25000"/>
            </a:schemeClr>
          </a:solidFill>
          <a:ln w="6350">
            <a:noFill/>
          </a:ln>
          <a:effectLst>
            <a:outerShdw algn="t" blurRad="101520" dir="5400000" dist="50760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5" name="Rectangle 11" hidden="1"/>
          <p:cNvSpPr/>
          <p:nvPr/>
        </p:nvSpPr>
        <p:spPr>
          <a:xfrm>
            <a:off x="731520" y="576000"/>
            <a:ext cx="7695720" cy="5714640"/>
          </a:xfrm>
          <a:prstGeom prst="rect">
            <a:avLst/>
          </a:prstGeom>
          <a:blipFill rotWithShape="0">
            <a:blip r:embed="rId3">
              <a:alphaModFix amt="20000"/>
            </a:blip>
            <a:srcRect/>
            <a:tile tx="0" ty="0" sx="100000" sy="100000" algn="tl"/>
          </a:blipFill>
          <a:ln w="6350">
            <a:noFill/>
          </a:ln>
          <a:effectLst>
            <a:outerShdw algn="t" blurRad="101520" dir="5400000" dist="50760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pic>
        <p:nvPicPr>
          <p:cNvPr id="6" name="Picture 2" descr="C:\Users\Administrator\Desktop\Pushpin Dev\Assets\pushpinLeft.png"/>
          <p:cNvPicPr/>
          <p:nvPr/>
        </p:nvPicPr>
        <p:blipFill>
          <a:blip r:embed="rId4"/>
          <a:stretch/>
        </p:blipFill>
        <p:spPr>
          <a:xfrm rot="1435800">
            <a:off x="543600" y="272520"/>
            <a:ext cx="567360" cy="56736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" descr="C:\Users\Administrator\Desktop\Pushpin Dev\Assets\pushpinLeft.png"/>
          <p:cNvPicPr/>
          <p:nvPr/>
        </p:nvPicPr>
        <p:blipFill>
          <a:blip r:embed="rId5"/>
          <a:stretch/>
        </p:blipFill>
        <p:spPr>
          <a:xfrm rot="4096200">
            <a:off x="8115120" y="298080"/>
            <a:ext cx="566640" cy="566640"/>
          </a:xfrm>
          <a:prstGeom prst="rect">
            <a:avLst/>
          </a:prstGeom>
          <a:ln w="0">
            <a:noFill/>
          </a:ln>
        </p:spPr>
      </p:pic>
      <p:grpSp>
        <p:nvGrpSpPr>
          <p:cNvPr id="8" name="Group 15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9" name="Rectangle 7"/>
            <p:cNvSpPr/>
            <p:nvPr/>
          </p:nvSpPr>
          <p:spPr>
            <a:xfrm>
              <a:off x="0" y="0"/>
              <a:ext cx="7162560" cy="685764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10101">
                    <a:alpha val="52156"/>
                  </a:srgbClr>
                </a:gs>
              </a:gsLst>
              <a:lin ang="81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Book"/>
              </a:endParaRPr>
            </a:p>
          </p:txBody>
        </p:sp>
        <p:sp>
          <p:nvSpPr>
            <p:cNvPr id="10" name="Rectangle 8"/>
            <p:cNvSpPr/>
            <p:nvPr/>
          </p:nvSpPr>
          <p:spPr>
            <a:xfrm>
              <a:off x="1143000" y="0"/>
              <a:ext cx="8000640" cy="685764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10101">
                    <a:alpha val="56078"/>
                  </a:srgbClr>
                </a:gs>
              </a:gsLst>
              <a:lin ang="27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Book"/>
              </a:endParaRPr>
            </a:p>
          </p:txBody>
        </p:sp>
      </p:grpSp>
      <p:sp>
        <p:nvSpPr>
          <p:cNvPr id="11" name="Freeform 9"/>
          <p:cNvSpPr/>
          <p:nvPr/>
        </p:nvSpPr>
        <p:spPr>
          <a:xfrm rot="10800000">
            <a:off x="892080" y="5617800"/>
            <a:ext cx="7382520" cy="536760"/>
          </a:xfrm>
          <a:custGeom>
            <a:avLst/>
            <a:gdLst>
              <a:gd name="textAreaLeft" fmla="*/ 0 w 7382520"/>
              <a:gd name="textAreaRight" fmla="*/ 7382880 w 7382520"/>
              <a:gd name="textAreaTop" fmla="*/ 0 h 536760"/>
              <a:gd name="textAreaBottom" fmla="*/ 537120 h 536760"/>
            </a:gdLst>
            <a:ahLst/>
            <a:rect l="textAreaLeft" t="textAreaTop" r="textAreaRight" b="textAreaBottom"/>
            <a:pathLst>
              <a:path w="7955280" h="495300">
                <a:moveTo>
                  <a:pt x="0" y="495300"/>
                </a:moveTo>
                <a:lnTo>
                  <a:pt x="169546" y="0"/>
                </a:lnTo>
                <a:lnTo>
                  <a:pt x="3966210" y="95250"/>
                </a:lnTo>
                <a:lnTo>
                  <a:pt x="7785734" y="0"/>
                </a:lnTo>
                <a:lnTo>
                  <a:pt x="7955280" y="495300"/>
                </a:lnTo>
                <a:lnTo>
                  <a:pt x="0" y="495300"/>
                </a:lnTo>
                <a:close/>
              </a:path>
            </a:pathLst>
          </a:custGeom>
          <a:gradFill rotWithShape="0">
            <a:gsLst>
              <a:gs pos="0">
                <a:srgbClr val="010101">
                  <a:alpha val="34117"/>
                </a:srgbClr>
              </a:gs>
              <a:gs pos="100000">
                <a:srgbClr val="010101">
                  <a:alpha val="26274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softEdge rad="12708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12" name="Rectangle 10"/>
          <p:cNvSpPr/>
          <p:nvPr/>
        </p:nvSpPr>
        <p:spPr>
          <a:xfrm>
            <a:off x="990000" y="1017000"/>
            <a:ext cx="7179480" cy="4831200"/>
          </a:xfrm>
          <a:prstGeom prst="rect">
            <a:avLst/>
          </a:prstGeom>
          <a:solidFill>
            <a:schemeClr val="bg1">
              <a:lumMod val="75000"/>
              <a:lumOff val="25000"/>
            </a:schemeClr>
          </a:solidFill>
          <a:ln w="6350">
            <a:noFill/>
          </a:ln>
          <a:effectLst>
            <a:outerShdw algn="t" blurRad="101520" dir="5400000" dist="50760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13" name="Rectangle 11"/>
          <p:cNvSpPr/>
          <p:nvPr/>
        </p:nvSpPr>
        <p:spPr>
          <a:xfrm>
            <a:off x="990720" y="1009800"/>
            <a:ext cx="7179480" cy="48312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tl"/>
          </a:blipFill>
          <a:ln w="6350">
            <a:noFill/>
          </a:ln>
          <a:effectLst>
            <a:outerShdw algn="t" blurRad="101520" dir="5400000" dist="50760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pic>
        <p:nvPicPr>
          <p:cNvPr id="14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800">
            <a:off x="769320" y="701640"/>
            <a:ext cx="567360" cy="567360"/>
          </a:xfrm>
          <a:prstGeom prst="rect">
            <a:avLst/>
          </a:prstGeom>
          <a:ln w="0">
            <a:noFill/>
          </a:ln>
        </p:spPr>
      </p:pic>
      <p:pic>
        <p:nvPicPr>
          <p:cNvPr id="15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6200">
            <a:off x="7855560" y="74952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27280" y="1794960"/>
            <a:ext cx="5723280" cy="182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Образец заголовка</a:t>
            </a:r>
            <a:endParaRPr b="0" lang="ru-RU" sz="4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6770520" y="5357520"/>
            <a:ext cx="12135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1173960" y="5357520"/>
            <a:ext cx="50346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213960" y="5357520"/>
            <a:ext cx="5536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4460305-B6E1-4EEA-8700-3DFD8C6735FC}" type="slidenum">
              <a:rPr b="0" lang="ru-RU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15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58" name="Rectangle 7"/>
            <p:cNvSpPr/>
            <p:nvPr/>
          </p:nvSpPr>
          <p:spPr>
            <a:xfrm>
              <a:off x="0" y="0"/>
              <a:ext cx="7162560" cy="685764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10101">
                    <a:alpha val="52156"/>
                  </a:srgbClr>
                </a:gs>
              </a:gsLst>
              <a:lin ang="81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Book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1143000" y="0"/>
              <a:ext cx="8000640" cy="685764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10101">
                    <a:alpha val="56078"/>
                  </a:srgbClr>
                </a:gs>
              </a:gsLst>
              <a:lin ang="27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Book"/>
              </a:endParaRPr>
            </a:p>
          </p:txBody>
        </p:sp>
      </p:grpSp>
      <p:sp>
        <p:nvSpPr>
          <p:cNvPr id="60" name="Freeform 9"/>
          <p:cNvSpPr/>
          <p:nvPr/>
        </p:nvSpPr>
        <p:spPr>
          <a:xfrm rot="10800000">
            <a:off x="628920" y="6069960"/>
            <a:ext cx="7920720" cy="536760"/>
          </a:xfrm>
          <a:custGeom>
            <a:avLst/>
            <a:gdLst>
              <a:gd name="textAreaLeft" fmla="*/ 0 w 7920720"/>
              <a:gd name="textAreaRight" fmla="*/ 7921080 w 7920720"/>
              <a:gd name="textAreaTop" fmla="*/ 0 h 536760"/>
              <a:gd name="textAreaBottom" fmla="*/ 537120 h 536760"/>
            </a:gdLst>
            <a:ahLst/>
            <a:rect l="textAreaLeft" t="textAreaTop" r="textAreaRight" b="textAreaBottom"/>
            <a:pathLst>
              <a:path w="7955280" h="495300">
                <a:moveTo>
                  <a:pt x="0" y="495300"/>
                </a:moveTo>
                <a:lnTo>
                  <a:pt x="169546" y="0"/>
                </a:lnTo>
                <a:lnTo>
                  <a:pt x="3966210" y="95250"/>
                </a:lnTo>
                <a:lnTo>
                  <a:pt x="7785734" y="0"/>
                </a:lnTo>
                <a:lnTo>
                  <a:pt x="7955280" y="495300"/>
                </a:lnTo>
                <a:lnTo>
                  <a:pt x="0" y="495300"/>
                </a:lnTo>
                <a:close/>
              </a:path>
            </a:pathLst>
          </a:custGeom>
          <a:gradFill rotWithShape="0">
            <a:gsLst>
              <a:gs pos="0">
                <a:srgbClr val="010101">
                  <a:alpha val="34117"/>
                </a:srgbClr>
              </a:gs>
              <a:gs pos="100000">
                <a:srgbClr val="010101">
                  <a:alpha val="26274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softEdge rad="12708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731520" y="575280"/>
            <a:ext cx="7695720" cy="5714640"/>
          </a:xfrm>
          <a:prstGeom prst="rect">
            <a:avLst/>
          </a:prstGeom>
          <a:solidFill>
            <a:schemeClr val="bg1">
              <a:lumMod val="75000"/>
              <a:lumOff val="25000"/>
            </a:schemeClr>
          </a:solidFill>
          <a:ln w="6350">
            <a:noFill/>
          </a:ln>
          <a:effectLst>
            <a:outerShdw algn="t" blurRad="101520" dir="5400000" dist="50760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62" name="Rectangle 11"/>
          <p:cNvSpPr/>
          <p:nvPr/>
        </p:nvSpPr>
        <p:spPr>
          <a:xfrm>
            <a:off x="731520" y="576000"/>
            <a:ext cx="7695720" cy="5714640"/>
          </a:xfrm>
          <a:prstGeom prst="rect">
            <a:avLst/>
          </a:prstGeom>
          <a:blipFill rotWithShape="0">
            <a:blip r:embed="rId3">
              <a:alphaModFix amt="20000"/>
            </a:blip>
            <a:srcRect/>
            <a:tile tx="0" ty="0" sx="100000" sy="100000" algn="tl"/>
          </a:blipFill>
          <a:ln w="6350">
            <a:noFill/>
          </a:ln>
          <a:effectLst>
            <a:outerShdw algn="t" blurRad="101520" dir="5400000" dist="50760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pic>
        <p:nvPicPr>
          <p:cNvPr id="63" name="Picture 2" descr="C:\Users\Administrator\Desktop\Pushpin Dev\Assets\pushpinLeft.png"/>
          <p:cNvPicPr/>
          <p:nvPr/>
        </p:nvPicPr>
        <p:blipFill>
          <a:blip r:embed="rId4"/>
          <a:stretch/>
        </p:blipFill>
        <p:spPr>
          <a:xfrm rot="1435800">
            <a:off x="543600" y="272520"/>
            <a:ext cx="567360" cy="567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Administrator\Desktop\Pushpin Dev\Assets\pushpinLeft.png"/>
          <p:cNvPicPr/>
          <p:nvPr/>
        </p:nvPicPr>
        <p:blipFill>
          <a:blip r:embed="rId5"/>
          <a:stretch/>
        </p:blipFill>
        <p:spPr>
          <a:xfrm rot="4096200">
            <a:off x="8115120" y="29808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146304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40080" indent="-274320">
              <a:lnSpc>
                <a:spcPct val="100000"/>
              </a:lnSpc>
              <a:spcBef>
                <a:spcPts val="439"/>
              </a:spcBef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ru-RU" sz="2200" spc="-1" strike="noStrike">
                <a:solidFill>
                  <a:srgbClr val="000000"/>
                </a:solidFill>
                <a:latin typeface="Franklin Gothic Book"/>
              </a:rPr>
              <a:t>Второй уровень</a:t>
            </a:r>
            <a:endParaRPr b="0" lang="ru-RU" sz="2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lnSpc>
                <a:spcPct val="100000"/>
              </a:lnSpc>
              <a:spcBef>
                <a:spcPts val="400"/>
              </a:spcBef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80160" indent="-228600">
              <a:lnSpc>
                <a:spcPct val="100000"/>
              </a:lnSpc>
              <a:spcBef>
                <a:spcPts val="360"/>
              </a:spcBef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5920" indent="-228600">
              <a:lnSpc>
                <a:spcPct val="100000"/>
              </a:lnSpc>
              <a:spcBef>
                <a:spcPts val="320"/>
              </a:spcBef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454440" y="5809320"/>
            <a:ext cx="12135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914400" y="5809320"/>
            <a:ext cx="55396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7670160" y="5809320"/>
            <a:ext cx="5536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EF4B744-B426-411A-8322-EC04E3E12101}" type="slidenum">
              <a:rPr b="0" lang="ru-RU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887419D-0B36-47E6-947B-97121A17C27A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15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148" name="Rectangle 7"/>
            <p:cNvSpPr/>
            <p:nvPr/>
          </p:nvSpPr>
          <p:spPr>
            <a:xfrm>
              <a:off x="0" y="0"/>
              <a:ext cx="7162560" cy="685764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10101">
                    <a:alpha val="52156"/>
                  </a:srgbClr>
                </a:gs>
              </a:gsLst>
              <a:lin ang="81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49" name="Rectangle 8"/>
            <p:cNvSpPr/>
            <p:nvPr/>
          </p:nvSpPr>
          <p:spPr>
            <a:xfrm>
              <a:off x="1143000" y="0"/>
              <a:ext cx="8000640" cy="685764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10101">
                    <a:alpha val="56078"/>
                  </a:srgbClr>
                </a:gs>
              </a:gsLst>
              <a:lin ang="27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sp>
        <p:nvSpPr>
          <p:cNvPr id="150" name="Freeform 9"/>
          <p:cNvSpPr/>
          <p:nvPr/>
        </p:nvSpPr>
        <p:spPr>
          <a:xfrm rot="10800000">
            <a:off x="628920" y="6069960"/>
            <a:ext cx="7920720" cy="536760"/>
          </a:xfrm>
          <a:custGeom>
            <a:avLst/>
            <a:gdLst>
              <a:gd name="textAreaLeft" fmla="*/ 0 w 7920720"/>
              <a:gd name="textAreaRight" fmla="*/ 7921080 w 7920720"/>
              <a:gd name="textAreaTop" fmla="*/ 0 h 536760"/>
              <a:gd name="textAreaBottom" fmla="*/ 537120 h 536760"/>
            </a:gdLst>
            <a:ahLst/>
            <a:rect l="textAreaLeft" t="textAreaTop" r="textAreaRight" b="textAreaBottom"/>
            <a:pathLst>
              <a:path w="7955280" h="495300">
                <a:moveTo>
                  <a:pt x="0" y="495300"/>
                </a:moveTo>
                <a:lnTo>
                  <a:pt x="169546" y="0"/>
                </a:lnTo>
                <a:lnTo>
                  <a:pt x="3966210" y="95250"/>
                </a:lnTo>
                <a:lnTo>
                  <a:pt x="7785734" y="0"/>
                </a:lnTo>
                <a:lnTo>
                  <a:pt x="7955280" y="495300"/>
                </a:lnTo>
                <a:lnTo>
                  <a:pt x="0" y="495300"/>
                </a:lnTo>
                <a:close/>
              </a:path>
            </a:pathLst>
          </a:custGeom>
          <a:gradFill rotWithShape="0">
            <a:gsLst>
              <a:gs pos="0">
                <a:srgbClr val="010101">
                  <a:alpha val="34117"/>
                </a:srgbClr>
              </a:gs>
              <a:gs pos="100000">
                <a:srgbClr val="010101">
                  <a:alpha val="26274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softEdge rad="12708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1" name="Rectangle 10"/>
          <p:cNvSpPr/>
          <p:nvPr/>
        </p:nvSpPr>
        <p:spPr>
          <a:xfrm>
            <a:off x="731520" y="575280"/>
            <a:ext cx="7695720" cy="5714640"/>
          </a:xfrm>
          <a:prstGeom prst="rect">
            <a:avLst/>
          </a:prstGeom>
          <a:solidFill>
            <a:schemeClr val="bg1">
              <a:lumMod val="75000"/>
              <a:lumOff val="25000"/>
            </a:schemeClr>
          </a:solidFill>
          <a:ln w="6350">
            <a:noFill/>
          </a:ln>
          <a:effectLst>
            <a:outerShdw algn="t" blurRad="101520" dir="5400000" dist="50760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Rectangle 11"/>
          <p:cNvSpPr/>
          <p:nvPr/>
        </p:nvSpPr>
        <p:spPr>
          <a:xfrm>
            <a:off x="731520" y="576000"/>
            <a:ext cx="7695720" cy="5714640"/>
          </a:xfrm>
          <a:prstGeom prst="rect">
            <a:avLst/>
          </a:prstGeom>
          <a:blipFill rotWithShape="0">
            <a:blip r:embed="rId3">
              <a:alphaModFix amt="20000"/>
            </a:blip>
            <a:srcRect/>
            <a:tile tx="0" ty="0" sx="100000" sy="100000" algn="tl"/>
          </a:blipFill>
          <a:ln w="6350">
            <a:noFill/>
          </a:ln>
          <a:effectLst>
            <a:outerShdw algn="t" blurRad="101520" dir="5400000" dist="50760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153" name="Picture 2" descr="C:\Users\Administrator\Desktop\Pushpin Dev\Assets\pushpinLeft.png"/>
          <p:cNvPicPr/>
          <p:nvPr/>
        </p:nvPicPr>
        <p:blipFill>
          <a:blip r:embed="rId4"/>
          <a:stretch/>
        </p:blipFill>
        <p:spPr>
          <a:xfrm rot="1435800">
            <a:off x="543600" y="272520"/>
            <a:ext cx="567360" cy="567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C:\Users\Administrator\Desktop\Pushpin Dev\Assets\pushpinLeft.png"/>
          <p:cNvPicPr/>
          <p:nvPr/>
        </p:nvPicPr>
        <p:blipFill>
          <a:blip r:embed="rId5"/>
          <a:stretch/>
        </p:blipFill>
        <p:spPr>
          <a:xfrm rot="4096200">
            <a:off x="8115120" y="29808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146304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40080" indent="-274320">
              <a:lnSpc>
                <a:spcPct val="100000"/>
              </a:lnSpc>
              <a:spcBef>
                <a:spcPts val="439"/>
              </a:spcBef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ru-RU" sz="2200" spc="-1" strike="noStrike">
                <a:solidFill>
                  <a:srgbClr val="000000"/>
                </a:solidFill>
                <a:latin typeface="Franklin Gothic Book"/>
              </a:rPr>
              <a:t>Второй уровень</a:t>
            </a:r>
            <a:endParaRPr b="0" lang="ru-RU" sz="2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lnSpc>
                <a:spcPct val="100000"/>
              </a:lnSpc>
              <a:spcBef>
                <a:spcPts val="400"/>
              </a:spcBef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80160" indent="-228600">
              <a:lnSpc>
                <a:spcPct val="100000"/>
              </a:lnSpc>
              <a:spcBef>
                <a:spcPts val="360"/>
              </a:spcBef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5920" indent="-228600">
              <a:lnSpc>
                <a:spcPct val="100000"/>
              </a:lnSpc>
              <a:spcBef>
                <a:spcPts val="320"/>
              </a:spcBef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10"/>
          </p:nvPr>
        </p:nvSpPr>
        <p:spPr>
          <a:xfrm>
            <a:off x="6454440" y="5809320"/>
            <a:ext cx="12135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11"/>
          </p:nvPr>
        </p:nvSpPr>
        <p:spPr>
          <a:xfrm>
            <a:off x="914400" y="5809320"/>
            <a:ext cx="55396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12"/>
          </p:nvPr>
        </p:nvSpPr>
        <p:spPr>
          <a:xfrm>
            <a:off x="7670160" y="5809320"/>
            <a:ext cx="5536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2C9A12B-F216-4EA1-91E8-8D5076956BB3}" type="slidenum">
              <a:rPr b="0" lang="ru-RU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medlink.ucoz.ru/dir/0-0-0-1113-20" TargetMode="External"/><Relationship Id="rId2" Type="http://schemas.openxmlformats.org/officeDocument/2006/relationships/hyperlink" Target="http://medlink.ucoz.ru/dir/0-0-0-1113-20" TargetMode="External"/><Relationship Id="rId3" Type="http://schemas.openxmlformats.org/officeDocument/2006/relationships/hyperlink" Target="http://medlink.ucoz.ru/dir/0-0-0-1113-20" TargetMode="External"/><Relationship Id="rId4" Type="http://schemas.openxmlformats.org/officeDocument/2006/relationships/hyperlink" Target="http://medlink.ucoz.ru/dir/0-0-0-1113-20" TargetMode="External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15640" y="1989000"/>
            <a:ext cx="6840360" cy="264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9000"/>
          </a:bodyPr>
          <a:p>
            <a:pPr indent="0" algn="ctr">
              <a:lnSpc>
                <a:spcPct val="100000"/>
              </a:lnSpc>
              <a:buNone/>
            </a:pP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 </a:t>
            </a:r>
            <a:br>
              <a:rPr sz="4800"/>
            </a:br>
            <a:br>
              <a:rPr sz="1300"/>
            </a:b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«Допинг и антидопинговый контроль в спорте»</a:t>
            </a:r>
            <a:endParaRPr b="0" lang="ru-RU" sz="4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827640" y="908640"/>
            <a:ext cx="7416360" cy="51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е время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к допинговым средствам относят препараты следующих 5 груп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Clr>
                <a:srgbClr val="aa2b1e"/>
              </a:buClr>
              <a:buFont typeface="Brush Script MT"/>
              <a:buChar char="O"/>
              <a:tabLst>
                <a:tab algn="l" pos="4572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яторы (стимуляторы ЦНС, симпатомиметики, анальгетики);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Clr>
                <a:srgbClr val="aa2b1e"/>
              </a:buClr>
              <a:buFont typeface="Brush Script MT"/>
              <a:buChar char="O"/>
              <a:tabLst>
                <a:tab algn="l" pos="4572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котики (наркотические анальгетики);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Clr>
                <a:srgbClr val="aa2b1e"/>
              </a:buClr>
              <a:buFont typeface="Brush Script MT"/>
              <a:buChar char="O"/>
              <a:tabLst>
                <a:tab algn="l" pos="4572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болические стероиды и другие гормональные анаболизирующие средства;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Clr>
                <a:srgbClr val="aa2b1e"/>
              </a:buClr>
              <a:buFont typeface="Brush Script MT"/>
              <a:buChar char="O"/>
              <a:tabLst>
                <a:tab algn="l" pos="4572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та-блокаторы;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Clr>
                <a:srgbClr val="aa2b1e"/>
              </a:buClr>
              <a:buFont typeface="Brush Script MT"/>
              <a:buChar char="O"/>
              <a:tabLst>
                <a:tab algn="l" pos="4572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уретики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1331640" y="908640"/>
            <a:ext cx="6552360" cy="49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К допинговым методам относятс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15000"/>
              </a:lnSpc>
              <a:spcBef>
                <a:spcPts val="561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вяной допинг;</a:t>
            </a:r>
            <a:endParaRPr b="0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lnSpc>
                <a:spcPct val="115000"/>
              </a:lnSpc>
              <a:spcBef>
                <a:spcPts val="561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логические, химические и механические манипуляции с биологическими жидкостями (маскирующие средства, добавление ароматических соединений в пробы мочи, катетеризация, подмена проб, подавление выделения мочи почками).</a:t>
            </a:r>
            <a:endParaRPr b="0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043640" y="1052640"/>
            <a:ext cx="7200360" cy="49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5000"/>
              </a:lnSpc>
              <a:spcBef>
                <a:spcPts val="561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4 класса соединений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лежащих ограничениям, даже при их приеме с лечебными целями:</a:t>
            </a:r>
            <a:endParaRPr b="0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15000"/>
              </a:lnSpc>
              <a:spcBef>
                <a:spcPts val="561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оголь (настойки на основе этилового спирта).</a:t>
            </a:r>
            <a:endParaRPr b="0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15000"/>
              </a:lnSpc>
              <a:spcBef>
                <a:spcPts val="561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ихуана;</a:t>
            </a:r>
            <a:endParaRPr b="0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15000"/>
              </a:lnSpc>
              <a:spcBef>
                <a:spcPts val="561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местной анестезии;</a:t>
            </a:r>
            <a:endParaRPr b="0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15000"/>
              </a:lnSpc>
              <a:spcBef>
                <a:spcPts val="561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тикостероиды.</a:t>
            </a:r>
            <a:endParaRPr b="0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27640" y="548640"/>
            <a:ext cx="7488360" cy="57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</a:tabLst>
            </a:pPr>
            <a:r>
              <a:rPr b="1" lang="ru-RU" sz="19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СТИМУЛЯТОРЫ</a:t>
            </a:r>
            <a:endParaRPr b="0" lang="ru-RU" sz="19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15000"/>
              </a:lnSpc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фетамины, эфедрин, кокаин, экстази, сальбутамол, кофеин</a:t>
            </a:r>
            <a:endParaRPr b="0" lang="ru-RU" sz="19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15000"/>
              </a:lnSpc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щества, которые искусственно активируют центральную нервную систему и/или регулируют выработку организмом адриналина</a:t>
            </a:r>
            <a:endParaRPr b="0" lang="ru-RU" sz="19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buNone/>
              <a:tabLst>
                <a:tab algn="l" pos="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1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9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Допинг-эффект</a:t>
            </a:r>
            <a:endParaRPr b="0" lang="ru-RU" sz="19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15000"/>
              </a:lnSpc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ают общий тонус организма, снимают усталость, поднимают соревновательный дух и агрессивность, помогают в потере веса (подавляют аппетит). Эффективны в видах спорта, требующих выносливости: велоспорте, беге на длинные дистанции.</a:t>
            </a:r>
            <a:endParaRPr b="0" lang="ru-RU" sz="19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buNone/>
              <a:tabLst>
                <a:tab algn="l" pos="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19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Побочный эффект</a:t>
            </a:r>
            <a:endParaRPr b="0" lang="ru-RU" sz="19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15000"/>
              </a:lnSpc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ают давление, вызывают привыкание, обезвожывание, проблемы с терморегуляцией, аритмию, повышают риск инсульта и сердечного приступа.</a:t>
            </a:r>
            <a:endParaRPr b="0" lang="ru-RU" sz="19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buNone/>
              <a:tabLst>
                <a:tab algn="l" pos="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19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Легко ли выявить в организме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ru-RU" sz="19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15000"/>
              </a:lnSpc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ко, если допинг принят недавно.</a:t>
            </a:r>
            <a:endParaRPr b="0" lang="ru-RU" sz="19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043640" y="692640"/>
            <a:ext cx="7200360" cy="532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indent="0" algn="ctr">
              <a:lnSpc>
                <a:spcPct val="115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НАРКОТИЧЕСКИЕ АНАЛЬГЕТИКИ</a:t>
            </a:r>
            <a:endParaRPr b="0" lang="ru-RU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258480" indent="-258480" algn="just">
              <a:lnSpc>
                <a:spcPct val="115000"/>
              </a:lnSpc>
              <a:spcBef>
                <a:spcPts val="519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фин, метадон, героин, петидин</a:t>
            </a:r>
            <a:endParaRPr b="0" lang="ru-RU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258480" indent="-258480" algn="just">
              <a:lnSpc>
                <a:spcPct val="115000"/>
              </a:lnSpc>
              <a:spcBef>
                <a:spcPts val="519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ая сильнодействующая разновидность болеутоляющих средств.</a:t>
            </a:r>
            <a:endParaRPr b="0" lang="ru-RU" sz="26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Bef>
                <a:spcPts val="51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пинг-эффект</a:t>
            </a:r>
            <a:endParaRPr b="0" lang="ru-RU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258480" indent="-258480" algn="just">
              <a:lnSpc>
                <a:spcPct val="115000"/>
              </a:lnSpc>
              <a:spcBef>
                <a:spcPts val="519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ают болевой порог и позволяют тренироваться дольше и более интенсивно. Снижают или полностью устраняют боль, и спортсмены могут продолжать тренировку или состязание, несмотря на травмы и болезни. Применяются в плавании, беге на длинные дистанции, многоборье, лыжном спорте.</a:t>
            </a:r>
            <a:endParaRPr b="0" lang="ru-RU" sz="26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Bef>
                <a:spcPts val="51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бочный эффект</a:t>
            </a:r>
            <a:endParaRPr b="0" lang="ru-RU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258480" indent="-258480" algn="just">
              <a:lnSpc>
                <a:spcPct val="115000"/>
              </a:lnSpc>
              <a:spcBef>
                <a:spcPts val="519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ают риск усугубить травму, вызывают привыкание, потерю концентрации и координации, сонливость, тошноту, обмороки, кому.</a:t>
            </a:r>
            <a:endParaRPr b="0" lang="ru-RU" sz="26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Bef>
                <a:spcPts val="51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егко ли выявить в организме</a:t>
            </a: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 </a:t>
            </a:r>
            <a:endParaRPr b="0" lang="ru-RU" sz="26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Bef>
                <a:spcPts val="51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ко, в течение трёх месяцев после принятия.</a:t>
            </a:r>
            <a:endParaRPr b="0" lang="ru-RU" sz="2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043640" y="908640"/>
            <a:ext cx="7128360" cy="511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indent="0" algn="ctr">
              <a:lnSpc>
                <a:spcPct val="115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АНАБОЛИКИ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7920" indent="-27792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ндролон, тетрагидрогестринлн, станозолол, андростенедион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7920" indent="-27792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ы, действие которых аналогично мужскому гормону тестостерону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пинг-эффект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7920" indent="-27792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вают мускульную массу, силу и выносливость. Повышают агрессивность и чувство соперничества. Позволяют тренироваться дольше и интенсивнее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бочный эффект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7920" indent="-27792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мужчин: повреждение почек, бесплодие и импотенция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7920" indent="-27792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женщин: развитие мужских черт, бесплодие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егко ли выявить в организме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 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ко, в течение полугода после принятия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971640" y="620640"/>
            <a:ext cx="7200360" cy="554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5000"/>
          </a:bodyPr>
          <a:p>
            <a:pPr indent="0" algn="ctr">
              <a:lnSpc>
                <a:spcPct val="115000"/>
              </a:lnSpc>
              <a:spcBef>
                <a:spcPts val="1440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1" lang="ru-RU" sz="7200" spc="-1" strike="noStrike" u="sng">
                <a:solidFill>
                  <a:srgbClr val="c00000"/>
                </a:solidFill>
                <a:uFillTx/>
                <a:latin typeface="Times New Roman"/>
                <a:ea typeface="Calibri"/>
              </a:rPr>
              <a:t>ДИУРЕТИКИ</a:t>
            </a:r>
            <a:endParaRPr b="0" lang="ru-RU" sz="72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15000"/>
              </a:lnSpc>
              <a:spcBef>
                <a:spcPts val="1440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Calibri"/>
              </a:rPr>
              <a:t>Ацетазоламид, хлорталидон, триамтерин</a:t>
            </a:r>
            <a:endParaRPr b="0" lang="ru-RU" sz="72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15000"/>
              </a:lnSpc>
              <a:spcBef>
                <a:spcPts val="1440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параты, позволяющие выводить из тела жидкость.</a:t>
            </a:r>
            <a:endParaRPr b="0" lang="ru-RU" sz="72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Bef>
                <a:spcPts val="1440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i="1" lang="ru-RU" sz="7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</a:t>
            </a:r>
            <a:r>
              <a:rPr b="1" i="1" lang="ru-RU" sz="7200" spc="-1" strike="noStrike">
                <a:solidFill>
                  <a:srgbClr val="c00000"/>
                </a:solidFill>
                <a:latin typeface="Times New Roman"/>
                <a:ea typeface="Calibri"/>
              </a:rPr>
              <a:t>Допинг-эффект</a:t>
            </a:r>
            <a:endParaRPr b="0" lang="ru-RU" sz="72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15000"/>
              </a:lnSpc>
              <a:spcBef>
                <a:spcPts val="1440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Calibri"/>
              </a:rPr>
              <a:t>Чтобы быстро потерять вес (в видах спорта, где существуют весовые категории) и замаскировать применение других запрещенных препаратов: благодаря мочегонному эффекту, химические препараты быстрее выводятся из организма.</a:t>
            </a:r>
            <a:endParaRPr b="0" lang="ru-RU" sz="72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15000"/>
              </a:lnSpc>
              <a:spcBef>
                <a:spcPts val="1440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меняются в борьбе, плавании, гимнастике, велоспорте.</a:t>
            </a:r>
            <a:endParaRPr b="0" lang="ru-RU" sz="72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Bef>
                <a:spcPts val="1440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i="1" lang="ru-RU" sz="7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</a:t>
            </a:r>
            <a:r>
              <a:rPr b="1" i="1" lang="ru-RU" sz="7200" spc="-1" strike="noStrike">
                <a:solidFill>
                  <a:srgbClr val="c00000"/>
                </a:solidFill>
                <a:latin typeface="Times New Roman"/>
                <a:ea typeface="Calibri"/>
              </a:rPr>
              <a:t>Побочный эффект</a:t>
            </a:r>
            <a:endParaRPr b="0" lang="ru-RU" sz="72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15000"/>
              </a:lnSpc>
              <a:spcBef>
                <a:spcPts val="1440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езвоживание, нарушение обмена веществ, головокружение, судороги, головные боли, тошнота, пониженное давление, повреждение почек.</a:t>
            </a:r>
            <a:endParaRPr b="0" lang="ru-RU" sz="72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Bef>
                <a:spcPts val="1440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i="1" lang="ru-RU" sz="7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</a:t>
            </a:r>
            <a:r>
              <a:rPr b="1" i="1" lang="ru-RU" sz="7200" spc="-1" strike="noStrike">
                <a:solidFill>
                  <a:srgbClr val="c00000"/>
                </a:solidFill>
                <a:latin typeface="Times New Roman"/>
                <a:ea typeface="Calibri"/>
              </a:rPr>
              <a:t>Легко ли выявить в организме</a:t>
            </a:r>
            <a:r>
              <a:rPr b="1" lang="ru-RU" sz="7200" spc="-1" strike="noStrike">
                <a:solidFill>
                  <a:srgbClr val="c00000"/>
                </a:solidFill>
                <a:latin typeface="Times New Roman"/>
                <a:ea typeface="Calibri"/>
              </a:rPr>
              <a:t>:</a:t>
            </a: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ru-RU" sz="72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15000"/>
              </a:lnSpc>
              <a:spcBef>
                <a:spcPts val="1440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Calibri"/>
              </a:rPr>
              <a:t>Легко, если провести соответствующий тест.</a:t>
            </a:r>
            <a:endParaRPr b="0" lang="ru-RU" sz="7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1187640" y="692640"/>
            <a:ext cx="69843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5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1700" spc="-1" strike="noStrike" u="sng">
                <a:solidFill>
                  <a:srgbClr val="c00000"/>
                </a:solidFill>
                <a:uFillTx/>
                <a:latin typeface="Times New Roman"/>
                <a:ea typeface="Calibri"/>
              </a:rPr>
              <a:t>ПЕПТИДНЫЕ ГОРМОНЫ И ИХ АНАЛОГИ</a:t>
            </a:r>
            <a:endParaRPr b="0" lang="ru-RU" sz="17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15000"/>
              </a:lnSpc>
              <a:spcAft>
                <a:spcPts val="6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рмоны роста, эритропоэтин</a:t>
            </a:r>
            <a:endParaRPr b="0" lang="ru-RU" sz="17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15000"/>
              </a:lnSpc>
              <a:spcAft>
                <a:spcPts val="6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Вещества, производимые организмом для контроля таких функций, как рост, выработка красных кровяных телец и чувство боли.</a:t>
            </a:r>
            <a:endParaRPr b="0" lang="ru-RU" sz="17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</a:t>
            </a: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Calibri"/>
              </a:rPr>
              <a:t>Допинг-эффект</a:t>
            </a:r>
            <a:endParaRPr b="0" lang="ru-RU" sz="17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15000"/>
              </a:lnSpc>
              <a:spcAft>
                <a:spcPts val="6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рмон роста вызывает рост мышечной массы и силы, упрочнение сухожилий и связок, помогает быстро восстановиться после травм и тренировок. Эритропоэтин вызввает увеличение выработки эритроцитов, повышает выносливость.</a:t>
            </a:r>
            <a:endParaRPr b="0" lang="ru-RU" sz="17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15000"/>
              </a:lnSpc>
              <a:spcAft>
                <a:spcPts val="6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меняется в гребле, лёгкой атлетике, велоспорте.</a:t>
            </a:r>
            <a:endParaRPr b="0" lang="ru-RU" sz="17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</a:t>
            </a: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Calibri"/>
              </a:rPr>
              <a:t>Побочный эффект</a:t>
            </a:r>
            <a:endParaRPr b="0" lang="ru-RU" sz="17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15000"/>
              </a:lnSpc>
              <a:spcAft>
                <a:spcPts val="6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рмоны роста: акромегалия, сердечная недостаточность, диабет.</a:t>
            </a:r>
            <a:endParaRPr b="0" lang="ru-RU" sz="17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15000"/>
              </a:lnSpc>
              <a:spcAft>
                <a:spcPts val="6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Эритропоэтин: сгущение крови, тромбы, инфаркт, инсульт.</a:t>
            </a:r>
            <a:endParaRPr b="0" lang="ru-RU" sz="17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</a:t>
            </a: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Calibri"/>
              </a:rPr>
              <a:t>Легко ли выявить в организме</a:t>
            </a:r>
            <a:r>
              <a:rPr b="1" lang="ru-RU" sz="1700" spc="-1" strike="noStrike">
                <a:solidFill>
                  <a:srgbClr val="c00000"/>
                </a:solidFill>
                <a:latin typeface="Times New Roman"/>
                <a:ea typeface="Calibri"/>
              </a:rPr>
              <a:t>: </a:t>
            </a:r>
            <a:endParaRPr b="0" lang="ru-RU" sz="17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15000"/>
              </a:lnSpc>
              <a:spcAft>
                <a:spcPts val="6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мый трудно выявляемый вид допинга.</a:t>
            </a:r>
            <a:endParaRPr b="0" lang="ru-RU" sz="17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1187640" y="764640"/>
            <a:ext cx="7056360" cy="532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indent="0" algn="ctr">
              <a:lnSpc>
                <a:spcPct val="115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Calibri"/>
              </a:rPr>
              <a:t>ДОПИНГ КРОВИ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4520" indent="-254520" algn="just">
              <a:lnSpc>
                <a:spcPct val="115000"/>
              </a:lnSpc>
              <a:spcAft>
                <a:spcPts val="6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ведение донорских эритроцитов или собственной крови, законсервированной за два-три месяца до соревнований - кровь вливают обратно, когда организм уже компенсировал недостаток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Допинг-эффект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4520" indent="-254520" algn="just">
              <a:lnSpc>
                <a:spcPct val="115000"/>
              </a:lnSpc>
              <a:spcAft>
                <a:spcPts val="6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Чем выше способность крови усваивать кислород, тем спортсмен выносливее. Подобный способ особенно эффективен для бегунов на длинные дистанции, велосипедистов и пловцов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Побочный эффект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4520" indent="-254520" algn="just">
              <a:lnSpc>
                <a:spcPct val="115000"/>
              </a:lnSpc>
              <a:spcAft>
                <a:spcPts val="6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гущение крови, перегрузка системы кровообращения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Легко ли выявить в организме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4520" indent="-254520" algn="just">
              <a:lnSpc>
                <a:spcPct val="115000"/>
              </a:lnSpc>
              <a:spcAft>
                <a:spcPts val="6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Если введена собственная кровь, выявить это практически невозможно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1043640" y="764640"/>
            <a:ext cx="7128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indent="0" algn="ctr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Calibri"/>
              </a:rPr>
              <a:t>БЕТА-БЛОКАТОРЫ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7920" indent="-27792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Ацебутолол, алпренолол, атенолол и др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7920" indent="-27792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ещества, понижающие частоту сердцебиения. Действие этих препаратов особенно выражено во время болезней, стрессов и тренировок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Допинг-эффект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7920" indent="-27792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портсмены могут использовать бета-блокаторы для уменьшения частоты сердцебиения и дрожания рук в тех видах спорта, где решающими факторами являются точность и твердость рук (например, стрельба, в том числе из лука, прыжки в воду). 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Побочный эффект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7920" indent="-277920">
              <a:lnSpc>
                <a:spcPct val="100000"/>
              </a:lnSpc>
              <a:spcBef>
                <a:spcPts val="47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ниженное давление и уровень сердцебиения, чувство усталости и снижение выносливости, сужение кровеносных сосудов в руках и ногах, сердечная недостаточность, депрессия, нарушение сна, половая дисфункция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320" indent="-274320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Wingdings" charset="2"/>
              <a:buChar char=""/>
              <a:tabLst>
                <a:tab algn="l" pos="4572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ие «допинг». Исторические данные о применении допингов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Wingdings" charset="2"/>
              <a:buChar char=""/>
              <a:tabLst>
                <a:tab algn="l" pos="4572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допинговых средств и методов, их краткая характеристика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Wingdings" charset="2"/>
              <a:buChar char=""/>
              <a:tabLst>
                <a:tab algn="l" pos="4572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и проведение антидопингового контроля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457200"/>
              </a:tabLst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Объект 3" descr="http://www.studfiles.ru/html/2706/1245/html_TR4c3fQIqd.cgN_/htmlconvd-PwIT_E_html_73d546ec.png"/>
          <p:cNvPicPr/>
          <p:nvPr/>
        </p:nvPicPr>
        <p:blipFill>
          <a:blip r:embed="rId1"/>
          <a:srcRect l="1331" t="18747" r="1902" b="1122"/>
          <a:stretch/>
        </p:blipFill>
        <p:spPr>
          <a:xfrm>
            <a:off x="467640" y="0"/>
            <a:ext cx="8280720" cy="674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899640" y="764640"/>
            <a:ext cx="74163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54520" indent="-25452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WADA разрабатывает новые лабораторные методы, позволяющие обнаруживать в крови спортсменов все больше лекарственных препаратов. В принципе все эти новости можно узнать и на сайте WADA и в национальных антидопинговых службах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4520" indent="-25452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 планировании выступлений спортивные врачи должны не только тщательно следить за состоянием спортсмена, но и проверять все принимаемые им лекарства. Беда заключается в том, что запрещенное вещество может быть в лекарственном препарате не основным, может быть указано мелкими буквами, или вообще упущено. Очень внимательно следует относиться к различным БАДам. Известно, что их производители далеко не всегда указывают на этикетке весь состав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4520" indent="-25452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любом случае ответственность за применение допинга всегда лежит на самом спортсмене. Прежде всего, потому, что это именно его здоровье, его доброе имя и его результаты. При дисквалификации аннулируются его достижения, ставится под сомнение не только последние результаты, но и все предыдущие победы. Страдает и престиж команды, страны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87640" y="620640"/>
            <a:ext cx="6696360" cy="100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Организация и проведение антидопингового контроля</a:t>
            </a:r>
            <a:endParaRPr b="0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43640" y="1772640"/>
            <a:ext cx="6912360" cy="39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цедура допинг-контроля состоит из следующих этапов: 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бор биологических проб для анализа, 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физико-химическое исследование отобранных проб и оформление заключения, 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ложение санкций на нарушителей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899640" y="620640"/>
            <a:ext cx="7416360" cy="554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Во время соревнован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спортсме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получает </a:t>
            </a:r>
            <a:r>
              <a:rPr b="0" i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уведомле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о том, что согласно правилам, он должен пройти </a:t>
            </a: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допинг-контрол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8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2000" spc="-1" strike="noStrike" u="sng">
                <a:solidFill>
                  <a:srgbClr val="c00000"/>
                </a:solidFill>
                <a:uFillTx/>
                <a:latin typeface="Times New Roman"/>
                <a:ea typeface="Calibri"/>
              </a:rPr>
              <a:t>В обязательном порядке допинг-контроль проходят: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just">
              <a:lnSpc>
                <a:spcPct val="100000"/>
              </a:lnSpc>
              <a:buClr>
                <a:srgbClr val="aa2b1e"/>
              </a:buClr>
              <a:buSzPct val="85000"/>
              <a:buFont typeface="Constantia"/>
              <a:buAutoNum type="arabicPeriod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бедители, занявшие 1-е, 2-е и 3-е места, 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just">
              <a:lnSpc>
                <a:spcPct val="100000"/>
              </a:lnSpc>
              <a:buClr>
                <a:srgbClr val="aa2b1e"/>
              </a:buClr>
              <a:buSzPct val="85000"/>
              <a:buFont typeface="Constantia"/>
              <a:buAutoNum type="arabicPeriod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дин из несколько спортсменов, не занявший призовых мест   (он выбираются по жребию). 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Aft>
                <a:spcPts val="601"/>
              </a:spcAft>
              <a:buNone/>
              <a:tabLst>
                <a:tab algn="l" pos="0"/>
              </a:tabLst>
            </a:pPr>
            <a:endParaRPr b="0" lang="ru-RU" sz="8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сле выступления, указанные спортсмены направляются в комнату допинг-контроля. Здесь спортсмен сам выбирает емкость для сбора пробы мочи на анализ. 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тем, в присутствии наблюдателя происходит сдача пробы мочи.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(Наблюдатель следит за тем, чтобы не было фальсификации пробы). </a:t>
            </a:r>
            <a:endParaRPr b="0" lang="ru-RU" sz="19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сле сдачи пробы, на сосуд наклеивается номер, который также выбирает сам спортсмен. После этого, полученная биологическая проба делится на две равные части – пробы А и В, которые опечатываются и им присваивается определенный код.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827640" y="764640"/>
            <a:ext cx="7488360" cy="54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ким образом,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фамилия спортсмена, не упоминается ни на каком из рабочих этапо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(для соблюдения полной анонимности). 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Копии кодов наклеивают на протокол допинг-контрол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 Затем пробы упаковывают в контейнеры для перевозки и отвозят в лабораторию допинг-контроля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ед подписанием протокола допинг-контроля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спортсмен обязан сообщить комиссии названия всех лекарств, которые он принимал перед соревнованием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сле подписания протокола допинг-контроля спортсмену остается только ожидать результатов анализа. 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гласно регламенту проведения допинг-контроля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анализу подвергается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Calibri"/>
              </a:rPr>
              <a:t>проба 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, причем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Calibri"/>
              </a:rPr>
              <a:t>не позднее, чем через 3 суток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сле взятия биологической пробы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971640" y="620640"/>
            <a:ext cx="734436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15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случае </a:t>
            </a:r>
            <a:r>
              <a:rPr b="0" lang="ru-RU" sz="2100" spc="-1" strike="noStrike" u="sng">
                <a:solidFill>
                  <a:srgbClr val="c00000"/>
                </a:solidFill>
                <a:uFillTx/>
                <a:latin typeface="Times New Roman"/>
                <a:ea typeface="Calibri"/>
              </a:rPr>
              <a:t>обнаружения в </a:t>
            </a:r>
            <a:r>
              <a:rPr b="1" lang="ru-RU" sz="2100" spc="-1" strike="noStrike" u="sng">
                <a:solidFill>
                  <a:srgbClr val="c00000"/>
                </a:solidFill>
                <a:uFillTx/>
                <a:latin typeface="Times New Roman"/>
                <a:ea typeface="Calibri"/>
              </a:rPr>
              <a:t>пробе А</a:t>
            </a:r>
            <a:r>
              <a:rPr b="0" lang="ru-RU" sz="2100" spc="-1" strike="noStrike" u="sng">
                <a:solidFill>
                  <a:srgbClr val="c00000"/>
                </a:solidFill>
                <a:uFillTx/>
                <a:latin typeface="Times New Roman"/>
                <a:ea typeface="Calibri"/>
              </a:rPr>
              <a:t> запрещенных препаратов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0" lang="ru-RU" sz="2100" spc="-1" strike="noStrike">
                <a:solidFill>
                  <a:srgbClr val="c00000"/>
                </a:solidFill>
                <a:latin typeface="Times New Roman"/>
                <a:ea typeface="Calibri"/>
              </a:rPr>
              <a:t>вскрывается и анализируется </a:t>
            </a:r>
            <a:r>
              <a:rPr b="1" lang="ru-RU" sz="2100" spc="-1" strike="noStrike">
                <a:solidFill>
                  <a:srgbClr val="c00000"/>
                </a:solidFill>
                <a:latin typeface="Times New Roman"/>
                <a:ea typeface="Calibri"/>
              </a:rPr>
              <a:t>проба В.</a:t>
            </a:r>
            <a:r>
              <a:rPr b="0" lang="ru-RU" sz="21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endParaRPr b="0" lang="ru-RU" sz="21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 вскрытии </a:t>
            </a:r>
            <a:r>
              <a:rPr b="1" lang="ru-RU" sz="2100" spc="-1" strike="noStrike">
                <a:solidFill>
                  <a:srgbClr val="c00000"/>
                </a:solidFill>
                <a:latin typeface="Times New Roman"/>
                <a:ea typeface="Calibri"/>
              </a:rPr>
              <a:t>пробы В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 может присутствовать либо сам спортсмен, либо его доверенное лицо. </a:t>
            </a:r>
            <a:endParaRPr b="0" lang="ru-RU" sz="21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Если в </a:t>
            </a:r>
            <a:r>
              <a:rPr b="1" lang="ru-RU" sz="2100" spc="-1" strike="noStrike">
                <a:solidFill>
                  <a:srgbClr val="c00000"/>
                </a:solidFill>
                <a:latin typeface="Times New Roman"/>
                <a:ea typeface="Calibri"/>
              </a:rPr>
              <a:t>пробе В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 также </a:t>
            </a:r>
            <a:r>
              <a:rPr b="0" lang="ru-RU" sz="21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обнаруживаются запрещенные средства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, то </a:t>
            </a:r>
            <a:r>
              <a:rPr b="0" lang="ru-RU" sz="21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спортсмен подвергается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 соответствующим </a:t>
            </a:r>
            <a:r>
              <a:rPr b="0" lang="ru-RU" sz="21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санкциям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endParaRPr b="0" lang="ru-RU" sz="21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Если же в </a:t>
            </a:r>
            <a:r>
              <a:rPr b="1" lang="ru-RU" sz="2100" spc="-1" strike="noStrike">
                <a:solidFill>
                  <a:srgbClr val="c00000"/>
                </a:solidFill>
                <a:latin typeface="Times New Roman"/>
                <a:ea typeface="Calibri"/>
              </a:rPr>
              <a:t>пробе В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1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не обнаруживают запрещенного препарата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, то </a:t>
            </a:r>
            <a:r>
              <a:rPr b="0" lang="ru-RU" sz="21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заключение по анализу биопробы А признается недостоверным и санкции к спортсмену не применяются. </a:t>
            </a:r>
            <a:endParaRPr b="0" lang="ru-RU" sz="21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каз спортсмена от прохождения допинг-контроля или попытка фальсифицировать его результат рассматриваются как </a:t>
            </a:r>
            <a:r>
              <a:rPr b="1" lang="ru-RU" sz="2100" spc="-1" strike="noStrike">
                <a:solidFill>
                  <a:srgbClr val="c00000"/>
                </a:solidFill>
                <a:latin typeface="Times New Roman"/>
                <a:ea typeface="Calibri"/>
              </a:rPr>
              <a:t>признание им факта применения допингов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 со всеми вытекающими отсюда последствиями.</a:t>
            </a:r>
            <a:endParaRPr b="0" lang="ru-RU" sz="21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827640" y="620640"/>
            <a:ext cx="741636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7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Фальсификация результатов допингового контроля заключается в </a:t>
            </a:r>
            <a:r>
              <a:rPr b="1" lang="ru-RU" sz="1700" spc="-1" strike="noStrike" u="sng">
                <a:solidFill>
                  <a:srgbClr val="c00000"/>
                </a:solidFill>
                <a:uFillTx/>
                <a:latin typeface="Times New Roman"/>
                <a:ea typeface="Calibri"/>
              </a:rPr>
              <a:t>различного рода манипуляциях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, направленных на искажение его результатов. Возможны попытки 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подмены мочи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:</a:t>
            </a:r>
            <a:endParaRPr b="0" lang="ru-RU" sz="17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00000"/>
              </a:lnSpc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тетеризация и введение в мочевой пузырь чужеродной, заведомо свободной от запрещенных препаратов мочи, или имитирующей мочу жидкости; </a:t>
            </a:r>
            <a:endParaRPr b="0" lang="ru-RU" sz="17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00000"/>
              </a:lnSpc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использование микроконтейнеров; </a:t>
            </a:r>
            <a:endParaRPr b="0" lang="ru-RU" sz="17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00000"/>
              </a:lnSpc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умышленное загрязнение мочи ароматическими соединениями, затрудняющими идентификацию допингов.</a:t>
            </a:r>
            <a:endParaRPr b="0" lang="ru-RU" sz="17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К запрещенным манипуляциям относят также специальные хирургические операции. </a:t>
            </a:r>
            <a:endParaRPr b="0" lang="ru-RU" sz="17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меняемые для определения допинга физико-химические методы анализа биологических проб мочи (</a:t>
            </a:r>
            <a:r>
              <a:rPr b="1" i="1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хроматографические, массоспектрометрические, радиоимунные, иммуноферментные и др.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) весьма чувствительны и включают компьютерную идентификацию допинговых препаратов и их производных. Они позволяют с высокой точностью определять, все применявшиеся спортсменом, препараты, в том числе использованные в течение последних недель и даже месяцев. </a:t>
            </a:r>
            <a:endParaRPr b="0" lang="ru-RU" sz="17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Кроме того, отработаны методики, определяющие так называемый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«кровяной допинг»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, т.е. переливание спортсмену собственной или чужой крови перед стартом.</a:t>
            </a:r>
            <a:endParaRPr b="0" lang="ru-RU" sz="17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971640" y="1268640"/>
            <a:ext cx="71283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Calibri"/>
              </a:rPr>
              <a:t>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ли </a:t>
            </a:r>
            <a:r>
              <a:rPr b="1" lang="ru-RU" sz="2600" spc="-1" strike="noStrike">
                <a:solidFill>
                  <a:srgbClr val="ffc000"/>
                </a:solidFill>
                <a:latin typeface="Times New Roman"/>
                <a:ea typeface="Calibri"/>
              </a:rPr>
              <a:t>раньш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600" spc="-1" strike="noStrike" u="sng">
                <a:solidFill>
                  <a:srgbClr val="c00000"/>
                </a:solidFill>
                <a:uFillTx/>
                <a:latin typeface="Times New Roman"/>
                <a:ea typeface="Calibri"/>
              </a:rPr>
              <a:t>допинг-контроль</a:t>
            </a: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ходили только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сококвалифицированные спортсмены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и только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во время ответственных международных и внутренних соревнований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то </a:t>
            </a:r>
            <a:r>
              <a:rPr b="1" lang="ru-RU" sz="2600" spc="-1" strike="noStrike">
                <a:solidFill>
                  <a:srgbClr val="ffc000"/>
                </a:solidFill>
                <a:latin typeface="Times New Roman"/>
                <a:ea typeface="Calibri"/>
              </a:rPr>
              <a:t>сейчас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 такой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контроль проводится не только в соревновательном периоде, но и во время тренировочных занятий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, причем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стированию на допинг подлежат все занимающиеся спортом лица, независимо от их спортивной принадлежности.</a:t>
            </a:r>
            <a:endParaRPr b="0" lang="ru-RU" sz="2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99640" y="620640"/>
            <a:ext cx="7200360" cy="59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2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Санкции к спортсменам, уличенным в применении допинга</a:t>
            </a:r>
            <a:endParaRPr b="0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71640" y="1268640"/>
            <a:ext cx="7272360" cy="48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54520" indent="-25452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наружение допинга грозит спортсмену суровыми наказаниями, вплоть до полного отлучения от спорта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4520" indent="-25452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 первом выявлении запрещенных средств (за исключением симпатомиметических препаратов, таких как эфедрин и его производные) он дисквалифицируется на 2 года, при повторном – пожизненно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4520" indent="-25452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случае приема симпатомиметиков в первый раз – дисквалификация на 6 месяцев, во второй на 2 года, в третий – пожизненно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4520" indent="-25452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 этом наказанию подвергается также тренер и врач, наблюдавший за спортсменом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4520" indent="-25452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менение в качестве допинга каких-либо средств, официально отнесенных к наркотическим, влечет соответствующие административные и уголовные наказания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4520" indent="-25452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настоящее время в законодательные органы страны внесены предложения о введении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головного наказания за прием анаболических стероидо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без медицинских показаний, или склонение к их приему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1043640" y="764640"/>
            <a:ext cx="6984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последние десятилети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спехи в изучении физиологии челове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позволил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силить работоспособность спортсмен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, но в то же время способствовали разработке нового и более сложного допинга. Учитывая все сенсационные заголовки о признаниях, расследованиях и обвинениях в употреблении допинга, любители спорта думают, что борьба с ним безнадежна. Однако в настоящее время наблюдается большой прогресс в том, чтобы сделать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куренцию честн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 последни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20 лет список антидопинговых правил значительно возро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санкции за употребление допинга ужесточились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331640" y="908640"/>
            <a:ext cx="6408360" cy="532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4000"/>
          </a:bodyPr>
          <a:p>
            <a:pPr indent="0" algn="just">
              <a:lnSpc>
                <a:spcPct val="115000"/>
              </a:lnSpc>
              <a:spcBef>
                <a:spcPts val="83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инг 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нгл. doping, от англ. dope — «дурь», «дурманящее средство») — спортивный термин, обозначающий принятие любых веществ природного или синтетического происхождения с целью добиться улучшения спортивных результатов. </a:t>
            </a:r>
            <a:endParaRPr b="0" lang="ru-RU" sz="42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Bef>
                <a:spcPts val="83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инг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это введение в организм человека любым путем вещества, чуждого этому организму, или какой-либо физиологической субстанции в ненормальном количестве, или введение какого-либо вещества неестественным путем, для того чтобы искусственно и нечестным путем повысить результат спортсмена во время выступления в соревнованиях.</a:t>
            </a:r>
            <a:endParaRPr b="0" lang="ru-RU" sz="4200" spc="-1" strike="noStrike">
              <a:solidFill>
                <a:srgbClr val="000000"/>
              </a:solidFill>
              <a:latin typeface="Franklin Gothic Book"/>
            </a:endParaRPr>
          </a:p>
          <a:p>
            <a:pPr marL="253800" indent="-253800" algn="just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е вещества могут резко поднимать на короткое время </a:t>
            </a: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ктивность нервной и эндокринной систем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ышечную силу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даже </a:t>
            </a: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имулировать синтез мышечных белков 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воздействия нагрузок на мышцы (например, стероиды).</a:t>
            </a:r>
            <a:endParaRPr b="0" lang="ru-RU" sz="4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619640" y="1268640"/>
            <a:ext cx="619236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все же 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борьбу с допингом надо начинать с социума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м необходимо перестать стремиться к славе и богатству. 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жалуй, самым мощным противоядием против допинга является уважение. 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Человек может уважать себя, если живет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чест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 Это приводит к внутренней гармонии, которая, являясь истинной формой счастья, и делает нас всех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победителя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Объект 2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4320"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ные темы рефератов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504d"/>
              </a:buClr>
              <a:buSzPct val="85000"/>
              <a:buFont typeface="Calibri"/>
              <a:buAutoNum type="arabicPeriod"/>
              <a:tabLst>
                <a:tab algn="l" pos="457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я распространения допинга в спорте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504d"/>
              </a:buClr>
              <a:buSzPct val="85000"/>
              <a:buFont typeface="Calibri"/>
              <a:buAutoNum type="arabicPeriod"/>
              <a:tabLst>
                <a:tab algn="l" pos="457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, принцип действия допингов и последствия их приём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504d"/>
              </a:buClr>
              <a:buSzPct val="85000"/>
              <a:buFont typeface="Calibri"/>
              <a:buAutoNum type="arabicPeriod"/>
              <a:tabLst>
                <a:tab algn="l" pos="457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допинговых веществ WADA (2013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504d"/>
              </a:buClr>
              <a:buSzPct val="85000"/>
              <a:buFont typeface="Calibri"/>
              <a:buAutoNum type="arabicPeriod"/>
              <a:tabLst>
                <a:tab algn="l" pos="457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и организация фармакологического обеспечения подготовки спортсменов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504d"/>
              </a:buClr>
              <a:buSzPct val="85000"/>
              <a:buFont typeface="Calibri"/>
              <a:buAutoNum type="arabicPeriod"/>
              <a:tabLst>
                <a:tab algn="l" pos="457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ы допинг-контроля. Соревновательное и внесоревновательное тестирование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504d"/>
              </a:buClr>
              <a:buSzPct val="85000"/>
              <a:buFont typeface="Calibri"/>
              <a:buAutoNum type="arabicPeriod"/>
              <a:tabLst>
                <a:tab algn="l" pos="457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кции к спортсменам, уличенным в применении допинг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504d"/>
              </a:buClr>
              <a:buSzPct val="85000"/>
              <a:buFont typeface="Calibri"/>
              <a:buAutoNum type="arabicPeriod"/>
              <a:tabLst>
                <a:tab algn="l" pos="457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ологическое действие препаратов  на организм и последствия их приём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504d"/>
              </a:buClr>
              <a:buSzPct val="85000"/>
              <a:buFont typeface="Calibri"/>
              <a:buAutoNum type="arabicPeriod"/>
              <a:tabLst>
                <a:tab algn="l" pos="457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пинговые технологии фармобеспечения спорта высоких достижений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504d"/>
              </a:buClr>
              <a:buSzPct val="85000"/>
              <a:buFont typeface="Calibri"/>
              <a:buAutoNum type="arabicPeriod"/>
              <a:tabLst>
                <a:tab algn="l" pos="457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допинговый контроль в Росси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504d"/>
              </a:buClr>
              <a:buSzPct val="85000"/>
              <a:buFont typeface="Calibri"/>
              <a:buAutoNum type="arabicPeriod"/>
              <a:tabLst>
                <a:tab algn="l" pos="457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допингов в различных видах спорт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504d"/>
              </a:buClr>
              <a:buSzPct val="85000"/>
              <a:buFont typeface="Calibri"/>
              <a:buAutoNum type="arabicPeriod"/>
              <a:tabLst>
                <a:tab algn="l" pos="457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допингов в игровых и не игровых  видах спорта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504d"/>
              </a:buClr>
              <a:buSzPct val="85000"/>
              <a:buFont typeface="Calibri"/>
              <a:buAutoNum type="arabicPeriod"/>
              <a:tabLst>
                <a:tab algn="l" pos="457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логические препараты и спорт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504d"/>
              </a:buClr>
              <a:buSzPct val="85000"/>
              <a:buFont typeface="Calibri"/>
              <a:buAutoNum type="arabicPeriod"/>
              <a:tabLst>
                <a:tab algn="l" pos="457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арства и спортсмены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504d"/>
              </a:buClr>
              <a:buSzPct val="85000"/>
              <a:buFont typeface="Calibri"/>
              <a:buAutoNum type="arabicPeriod"/>
              <a:tabLst>
                <a:tab algn="l" pos="457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становительные средства и препараты, повышающие работоспособность спортсменов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504d"/>
              </a:buClr>
              <a:buSzPct val="85000"/>
              <a:buFont typeface="Calibri"/>
              <a:buAutoNum type="arabicPeriod"/>
              <a:tabLst>
                <a:tab algn="l" pos="457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препараты в различные периоды спортивной работоспособности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504d"/>
              </a:buClr>
              <a:buSzPct val="85000"/>
              <a:buFont typeface="Calibri"/>
              <a:buAutoNum type="arabicPeriod"/>
              <a:tabLst>
                <a:tab algn="l" pos="457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амины, спортивные витамины и поливитамины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504d"/>
              </a:buClr>
              <a:buSzPct val="85000"/>
              <a:buFont typeface="Calibri"/>
              <a:buAutoNum type="arabicPeriod"/>
              <a:tabLst>
                <a:tab algn="l" pos="457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еральные вещества для организма спортсмен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504d"/>
              </a:buClr>
              <a:buSzPct val="85000"/>
              <a:buFont typeface="Calibri"/>
              <a:buAutoNum type="arabicPeriod"/>
              <a:tabLst>
                <a:tab algn="l" pos="457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ые пищевые добавки и препараты в спорте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504d"/>
              </a:buClr>
              <a:buSzPct val="85000"/>
              <a:buFont typeface="Calibri"/>
              <a:buAutoNum type="arabicPeriod"/>
              <a:tabLst>
                <a:tab algn="l" pos="457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ивные коктейли и соки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504d"/>
              </a:buClr>
              <a:buSzPct val="85000"/>
              <a:buFont typeface="Calibri"/>
              <a:buAutoNum type="arabicPeriod"/>
              <a:tabLst>
                <a:tab algn="l" pos="457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ещенные лекарственные средства в спорте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504d"/>
              </a:buClr>
              <a:buSzPct val="85000"/>
              <a:buFont typeface="Calibri"/>
              <a:buAutoNum type="arabicPeriod"/>
              <a:tabLst>
                <a:tab algn="l" pos="457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котики и спорт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504d"/>
              </a:buClr>
              <a:buSzPct val="85000"/>
              <a:buFont typeface="Calibri"/>
              <a:buAutoNum type="arabicPeriod"/>
              <a:tabLst>
                <a:tab algn="l" pos="457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5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зм действия анаболических стероидов и других гормональных анаболизирующие средства, применяемые в спорте.</a:t>
            </a:r>
            <a:endParaRPr b="0" lang="en-US" sz="125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504d"/>
              </a:buClr>
              <a:buSzPct val="85000"/>
              <a:buFont typeface="Calibri"/>
              <a:buAutoNum type="arabicPeriod"/>
              <a:tabLst>
                <a:tab algn="l" pos="457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оголь, никотин и их вред для организма спортсмен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504d"/>
              </a:buClr>
              <a:buSzPct val="85000"/>
              <a:buFont typeface="Calibri"/>
              <a:buAutoNum type="arabicPeriod"/>
              <a:tabLst>
                <a:tab algn="l" pos="457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вые аспекты применения допинга. Основы законодательства применения допинг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504d"/>
              </a:buClr>
              <a:buSzPct val="85000"/>
              <a:buFont typeface="Calibri"/>
              <a:buAutoNum type="arabicPeriod"/>
              <a:tabLst>
                <a:tab algn="l" pos="457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ий кодекс МОК. Фармакологический аспект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504d"/>
              </a:buClr>
              <a:buSzPct val="85000"/>
              <a:buFont typeface="Calibri"/>
              <a:buAutoNum type="arabicPeriod"/>
              <a:tabLst>
                <a:tab algn="l" pos="457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очные действия лекарственных веществ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504d"/>
              </a:buClr>
              <a:buSzPct val="85000"/>
              <a:buFont typeface="Calibri"/>
              <a:buAutoNum type="arabicPeriod"/>
              <a:tabLst>
                <a:tab algn="l" pos="457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инг-контроль в спорте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504d"/>
              </a:buClr>
              <a:buSzPct val="85000"/>
              <a:buFont typeface="Calibri"/>
              <a:buAutoNum type="arabicPeriod"/>
              <a:tabLst>
                <a:tab algn="l" pos="457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ительные лекарственные средства (фитопрепараты), применяемые в спорте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504d"/>
              </a:buClr>
              <a:buSzPct val="85000"/>
              <a:buFont typeface="Calibri"/>
              <a:buAutoNum type="arabicPeriod"/>
              <a:tabLst>
                <a:tab algn="l" pos="457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логическая коррекция стрессовых ситуаций и состояний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504d"/>
              </a:buClr>
              <a:buSzPct val="85000"/>
              <a:buFont typeface="Calibri"/>
              <a:buAutoNum type="arabicPeriod"/>
              <a:tabLst>
                <a:tab algn="l" pos="457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препараты, применяемые в избранных видах спорт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504d"/>
              </a:buClr>
              <a:buSzPct val="85000"/>
              <a:buFont typeface="Calibri"/>
              <a:buAutoNum type="arabicPeriod"/>
              <a:tabLst>
                <a:tab algn="l" pos="457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допинговые программы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504d"/>
              </a:buClr>
              <a:buSzPct val="85000"/>
              <a:buFont typeface="Calibri"/>
              <a:buAutoNum type="arabicPeriod"/>
              <a:tabLst>
                <a:tab algn="l" pos="457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комания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504d"/>
              </a:buClr>
              <a:buSzPct val="85000"/>
              <a:buFont typeface="Calibri"/>
              <a:buAutoNum type="arabicPeriod"/>
              <a:tabLst>
                <a:tab algn="l" pos="457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вяной допинг. Варианты применения кровяного допинг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971640" y="764640"/>
            <a:ext cx="73443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32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я к реферату: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бъем от 10 до 20страниц;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бязательные разделы: 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ение; 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й раздел (Главы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 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ение (Выводы); 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 литературы (минимум 7 источников). 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99640" y="620640"/>
            <a:ext cx="741636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СТЕРСТВО ОБРАЗОВАНИЯ И НАУКИ РОССИЙСКОЙ ФЕДЕРАЦИИ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115000"/>
              </a:lnSpc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ОЕ ГОСУДАРСТВЕННОЕ БЮДЖЕТНОЕ ОБРАЗОВАТЕЛЬНОЕ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115000"/>
              </a:lnSpc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РЕЖДЕНИЕ ВЫСШЕГО ПРОФЕССИОНАЛЬНОГО ОБРАЗОВАНИЯ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115000"/>
              </a:lnSpc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УРСКИЙ ГОСУДАРСТВЕННЫЙ УНИВЕРСИТЕТ»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15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ультет: физической культуры и спорта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15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федра: медико-биологических дисциплин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15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115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ерат на тему: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опинг-контроль в спорте»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15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2583360" indent="0" algn="ctr">
              <a:lnSpc>
                <a:spcPct val="115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2583360" indent="0" algn="ctr">
              <a:lnSpc>
                <a:spcPct val="115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ент ФФКиС 1 курса,  ЗО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2583360" indent="0" algn="ctr">
              <a:lnSpc>
                <a:spcPct val="115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е подготовки: 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2583360" indent="0" algn="ctr">
              <a:lnSpc>
                <a:spcPct val="115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О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2583360" indent="0" algn="ctr">
              <a:lnSpc>
                <a:spcPct val="115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ила: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2583360" indent="0" algn="ctr">
              <a:lnSpc>
                <a:spcPct val="115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систент  кафедры МБД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2583360" indent="0" algn="ctr">
              <a:lnSpc>
                <a:spcPct val="15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ферова Е.Ю.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ск 2016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755640" y="260640"/>
            <a:ext cx="756036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ТЕРАТУРА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новная: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just">
              <a:lnSpc>
                <a:spcPct val="100000"/>
              </a:lnSpc>
              <a:spcBef>
                <a:spcPts val="281"/>
              </a:spcBef>
              <a:buClr>
                <a:srgbClr val="aa2b1e"/>
              </a:buClr>
              <a:buSzPct val="85000"/>
              <a:buFont typeface="Constantia"/>
              <a:buAutoNum type="arabicPeriod"/>
              <a:tabLst>
                <a:tab algn="l" pos="4572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нёва Н.В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пинг-контоль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о-методическое пособие /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.В.Лунёв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М.Яцун, Н.И.Тригуб, Н.А.Клеева, Ю.П.Клявс, Е.Ю.Алферова. – Курск: КГУ, 2014. – 121 с.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just">
              <a:lnSpc>
                <a:spcPct val="100000"/>
              </a:lnSpc>
              <a:spcBef>
                <a:spcPts val="281"/>
              </a:spcBef>
              <a:buClr>
                <a:srgbClr val="aa2b1e"/>
              </a:buClr>
              <a:buSzPct val="85000"/>
              <a:buFont typeface="Constantia"/>
              <a:buAutoNum type="arabicPeriod"/>
              <a:tabLst>
                <a:tab algn="l" pos="4572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мирный антидопинговый кодекс: версия 3.0, 20 февраля 2003 г. / Федеральное агентство по культуре и спорту. – М.: Советский Спорт, 2005. – 82с.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just">
              <a:lnSpc>
                <a:spcPct val="100000"/>
              </a:lnSpc>
              <a:spcBef>
                <a:spcPts val="281"/>
              </a:spcBef>
              <a:buClr>
                <a:srgbClr val="aa2b1e"/>
              </a:buClr>
              <a:buSzPct val="85000"/>
              <a:buFont typeface="Constantia"/>
              <a:buAutoNum type="arabicPeriod"/>
              <a:tabLst>
                <a:tab algn="l" pos="4572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блучанский Н.И. Терапевтическая фармакология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блучанский Н.И., Савченко В.Н., Абдуева Ф.М., Бычкова О.Ю., Бондаренко И.А. //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ое пособие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. – Х.: ХНУ имени В. Н. Каразина, 2011. – 483 с.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just">
              <a:lnSpc>
                <a:spcPct val="100000"/>
              </a:lnSpc>
              <a:spcBef>
                <a:spcPts val="281"/>
              </a:spcBef>
              <a:buClr>
                <a:srgbClr val="aa2b1e"/>
              </a:buClr>
              <a:buSzPct val="85000"/>
              <a:buFont typeface="Constantia"/>
              <a:buAutoNum type="arabicPeriod"/>
              <a:tabLst>
                <a:tab algn="l" pos="4572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исов Е.Д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нтидопинговый симпозиум ИААФ / Евгений Денисов // Легкая атлетика. – 2006. – № 10-11. – С. 19.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just">
              <a:lnSpc>
                <a:spcPct val="100000"/>
              </a:lnSpc>
              <a:spcBef>
                <a:spcPts val="281"/>
              </a:spcBef>
              <a:buClr>
                <a:srgbClr val="aa2b1e"/>
              </a:buClr>
              <a:buSzPct val="85000"/>
              <a:buFont typeface="Constantia"/>
              <a:buAutoNum type="arabicPeriod"/>
              <a:tabLst>
                <a:tab algn="l" pos="4572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ков Г.В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восстановления и повышения физической работоспособности в спорте высших достижений: метод. пособие / Г.И. Марков, В.И. Романов, В.Н. Гладков. –М.: Советский спорт, 2006. – 51с. 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полнительная: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just">
              <a:lnSpc>
                <a:spcPct val="100000"/>
              </a:lnSpc>
              <a:spcBef>
                <a:spcPts val="281"/>
              </a:spcBef>
              <a:buClr>
                <a:srgbClr val="aa2b1e"/>
              </a:buClr>
              <a:buSzPct val="85000"/>
              <a:buFont typeface="Constantia"/>
              <a:buAutoNum type="arabicPeriod"/>
              <a:tabLst>
                <a:tab algn="l" pos="4572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аров М.А. Допинг в спорте как социально-психологический феномен / Захаров М. А., Солдатенков Ф. Н. // Социология. – 2008 . – № 1 . – С. 115-130.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just">
              <a:lnSpc>
                <a:spcPct val="100000"/>
              </a:lnSpc>
              <a:spcBef>
                <a:spcPts val="281"/>
              </a:spcBef>
              <a:buClr>
                <a:srgbClr val="aa2b1e"/>
              </a:buClr>
              <a:buSzPct val="85000"/>
              <a:buFont typeface="Constantia"/>
              <a:buAutoNum type="arabicPeriod"/>
              <a:tabLst>
                <a:tab algn="l" pos="457200"/>
              </a:tabLst>
            </a:pPr>
            <a:r>
              <a:rPr b="0" lang="ru-RU" sz="1400" spc="-1" strike="noStrike" u="sng">
                <a:solidFill>
                  <a:srgbClr val="d83e2c"/>
                </a:solidFill>
                <a:uFillTx/>
                <a:latin typeface="Times New Roman"/>
                <a:ea typeface="Times New Roman"/>
                <a:hlinkClick r:id="rId1"/>
              </a:rPr>
              <a:t>Кукес</a:t>
            </a:r>
            <a:r>
              <a:rPr b="0" lang="ru-RU" sz="1400" spc="-1" strike="noStrike" u="sng">
                <a:solidFill>
                  <a:srgbClr val="d83e2c"/>
                </a:solidFill>
                <a:uFillTx/>
                <a:latin typeface="Times New Roman"/>
                <a:ea typeface="Times New Roman"/>
                <a:hlinkClick r:id="rId2"/>
              </a:rPr>
              <a:t> В.Г. Клиническая фармакология учебник (архив, *.</a:t>
            </a:r>
            <a:r>
              <a:rPr b="0" lang="ru-RU" sz="1400" spc="-1" strike="noStrike" u="sng">
                <a:solidFill>
                  <a:srgbClr val="d83e2c"/>
                </a:solidFill>
                <a:uFillTx/>
                <a:latin typeface="Times New Roman"/>
                <a:ea typeface="Times New Roman"/>
                <a:hlinkClick r:id="rId3"/>
              </a:rPr>
              <a:t>djvu</a:t>
            </a:r>
            <a:r>
              <a:rPr b="0" lang="ru-RU" sz="1400" spc="-1" strike="noStrike" u="sng">
                <a:solidFill>
                  <a:srgbClr val="d83e2c"/>
                </a:solidFill>
                <a:uFillTx/>
                <a:latin typeface="Times New Roman"/>
                <a:ea typeface="Times New Roman"/>
                <a:hlinkClick r:id="rId4"/>
              </a:rPr>
              <a:t>, 6.93Mb)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ttp://medlink.ucoz.ru/dir/0-0-0-1113-20  3-е изд., перераб. и доп. – М.: ГЭОТАР-Медиа, 2006. — 944 с.: ил.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just">
              <a:lnSpc>
                <a:spcPct val="100000"/>
              </a:lnSpc>
              <a:spcBef>
                <a:spcPts val="281"/>
              </a:spcBef>
              <a:buClr>
                <a:srgbClr val="aa2b1e"/>
              </a:buClr>
              <a:buSzPct val="85000"/>
              <a:buFont typeface="Constantia"/>
              <a:buAutoNum type="arabicPeriod"/>
              <a:tabLst>
                <a:tab algn="l" pos="4572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ченков Г.И.  От Афин и до Пекина. Борьба с допингом в спорте / Григорий Родченков // Легкая атлетика. – 2008 . – № 10 . – С. 19-21.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just">
              <a:lnSpc>
                <a:spcPct val="100000"/>
              </a:lnSpc>
              <a:spcBef>
                <a:spcPts val="281"/>
              </a:spcBef>
              <a:buClr>
                <a:srgbClr val="aa2b1e"/>
              </a:buClr>
              <a:buSzPct val="85000"/>
              <a:buFont typeface="Constantia"/>
              <a:buAutoNum type="arabicPeriod"/>
              <a:tabLst>
                <a:tab algn="l" pos="4572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лков Е.М. Направления деятельности в системе предотвращения допинга в спорте / Шелков О.М., Бадрак К.А. // Адаптивная физическая культура .— СПб., 2010 .— № 3 (43) . – С. 51-53.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971640" y="980640"/>
            <a:ext cx="7272360" cy="51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 algn="just">
              <a:lnSpc>
                <a:spcPct val="115000"/>
              </a:lnSpc>
              <a:spcBef>
                <a:spcPts val="561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ая концепция в области борьбы с допингом в спорте высших достижений приведена во 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Всемирном антидопинговом кодексе ВАДА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Всемирное антидопинговое агентство, учреждённое по инициативе Международного олимпийского комитета - МОК). </a:t>
            </a:r>
            <a:endParaRPr b="0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Bef>
                <a:spcPts val="561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год ВАДА издает обновленный список запрещенных препаратов для спортсменов и новые версии следующих стандартов: </a:t>
            </a:r>
            <a:endParaRPr b="0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471960" indent="-471960" algn="just">
              <a:lnSpc>
                <a:spcPct val="115000"/>
              </a:lnSpc>
              <a:buClr>
                <a:srgbClr val="aa2b1e"/>
              </a:buClr>
              <a:buSzPct val="85000"/>
              <a:buFont typeface="Constantia"/>
              <a:buAutoNum type="arabicPeriod"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еждународный стандарт для лабораторий»,</a:t>
            </a:r>
            <a:endParaRPr b="0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471960" indent="-471960" algn="just">
              <a:lnSpc>
                <a:spcPct val="115000"/>
              </a:lnSpc>
              <a:buClr>
                <a:srgbClr val="aa2b1e"/>
              </a:buClr>
              <a:buSzPct val="85000"/>
              <a:buFont typeface="Constantia"/>
              <a:buAutoNum type="arabicPeriod"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еждународный стандарт для тестирований»,</a:t>
            </a:r>
            <a:endParaRPr b="0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471960" indent="-471960" algn="just">
              <a:lnSpc>
                <a:spcPct val="115000"/>
              </a:lnSpc>
              <a:buClr>
                <a:srgbClr val="aa2b1e"/>
              </a:buClr>
              <a:buSzPct val="85000"/>
              <a:buFont typeface="Constantia"/>
              <a:buAutoNum type="arabicPeriod"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еждународный стандарт для оформления терапевтических исключений».</a:t>
            </a:r>
            <a:endParaRPr b="0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71640" y="476640"/>
            <a:ext cx="7056360" cy="57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тория применения допинга в спорте </a:t>
            </a:r>
            <a:endParaRPr b="0" lang="ru-RU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27640" y="908640"/>
            <a:ext cx="7344360" cy="489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74320" algn="just">
              <a:lnSpc>
                <a:spcPct val="100000"/>
              </a:lnSpc>
              <a:spcBef>
                <a:spcPts val="371"/>
              </a:spcBef>
              <a:buClr>
                <a:srgbClr val="aa2b1e"/>
              </a:buClr>
              <a:buSzPct val="85000"/>
              <a:buFont typeface="Arial"/>
              <a:buChar char="•"/>
            </a:pPr>
            <a:r>
              <a:rPr b="0" lang="ru-RU" sz="185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III в. до н. э. в Греции спортсмены-олимпийцы использовали вещества, улучшающие их результаты. </a:t>
            </a:r>
            <a:endParaRPr b="0" lang="ru-RU" sz="185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00000"/>
              </a:lnSpc>
              <a:spcBef>
                <a:spcPts val="371"/>
              </a:spcBef>
              <a:buClr>
                <a:srgbClr val="aa2b1e"/>
              </a:buClr>
              <a:buSzPct val="85000"/>
              <a:buFont typeface="Arial"/>
              <a:buChar char="•"/>
            </a:pPr>
            <a:r>
              <a:rPr b="0" lang="ru-RU" sz="185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 древнегреческих Олимпийских игр считали, что семена кунжута повышают выносливость в беге, а борцу перед схваткой необходимо съесть десять фунтов ягнятины, запив ее вином. Использовались также некоторые лекарственные растения, употреблявшиеся в пищу, всякие методы заговоров и другие приемы.</a:t>
            </a:r>
            <a:endParaRPr b="0" lang="ru-RU" sz="185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00000"/>
              </a:lnSpc>
              <a:spcBef>
                <a:spcPts val="371"/>
              </a:spcBef>
              <a:buClr>
                <a:srgbClr val="aa2b1e"/>
              </a:buClr>
              <a:buSzPct val="85000"/>
              <a:buFont typeface="Arial"/>
              <a:buChar char="•"/>
            </a:pPr>
            <a:r>
              <a:rPr b="0" lang="ru-RU" sz="185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ли стимулирующие вещества и Вавилон, и Древний Египет, которые вели активные военные действия со своими соседями и нуждались в повышении боеспособности воинов  и спортсменов. </a:t>
            </a:r>
            <a:endParaRPr b="0" lang="ru-RU" sz="185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00000"/>
              </a:lnSpc>
              <a:spcBef>
                <a:spcPts val="371"/>
              </a:spcBef>
              <a:buClr>
                <a:srgbClr val="aa2b1e"/>
              </a:buClr>
              <a:buSzPct val="85000"/>
              <a:buFont typeface="Arial"/>
              <a:buChar char="•"/>
            </a:pPr>
            <a:r>
              <a:rPr b="0" lang="ru-RU" sz="185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альнейшем и Европа стала применять стимулирующие средства в связи с завоеваниями Александра Македонского и впоследствии — Римской империи. </a:t>
            </a:r>
            <a:endParaRPr b="0" lang="ru-RU" sz="185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00000"/>
              </a:lnSpc>
              <a:spcBef>
                <a:spcPts val="371"/>
              </a:spcBef>
              <a:buClr>
                <a:srgbClr val="aa2b1e"/>
              </a:buClr>
              <a:buSzPct val="85000"/>
              <a:buFont typeface="Arial"/>
              <a:buChar char="•"/>
            </a:pPr>
            <a:r>
              <a:rPr b="0" lang="ru-RU" sz="185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ейцы Северной и Южной Америки также издавна использовали различные стимуляторы, преимущественно растительного происхождения (кока, сарсапарилла).</a:t>
            </a:r>
            <a:endParaRPr b="0" lang="ru-RU" sz="185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899640" y="620640"/>
            <a:ext cx="741636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74320" algn="just">
              <a:lnSpc>
                <a:spcPct val="115000"/>
              </a:lnSpc>
              <a:spcBef>
                <a:spcPts val="380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Wingdings" charset="2"/>
              <a:buChar char=""/>
            </a:pPr>
            <a:r>
              <a:rPr b="1" lang="ru-RU" sz="1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лово "допинг"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ервоначально использовавшееся для обозначения напитка, который южноафриканские племена принимали во время религиозных ритуалов, в спорте стало применяться с 1865 г. </a:t>
            </a:r>
            <a:endParaRPr b="0" lang="ru-RU" sz="19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15000"/>
              </a:lnSpc>
              <a:spcBef>
                <a:spcPts val="380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Wingdings" charset="2"/>
              <a:buChar char=""/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ервые </a:t>
            </a:r>
            <a:r>
              <a:rPr b="1" lang="ru-RU" sz="1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рмин "допинг"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или по отношению к спортсменам, принимавшим стимуляторы во время соревнований по плаванию, проводившихся в Амстердаме. </a:t>
            </a:r>
            <a:endParaRPr b="0" lang="ru-RU" sz="19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15000"/>
              </a:lnSpc>
              <a:spcBef>
                <a:spcPts val="380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Wingdings" charset="2"/>
              <a:buChar char=""/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ко имеются данные, согласно которым, </a:t>
            </a:r>
            <a:r>
              <a:rPr b="1" lang="ru-RU" sz="1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ловом "допинг"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же в первой половине XIX в. называли наркотические средства, которые давали лошадям, участвующим в конных скачках, проводившихся в Англии.</a:t>
            </a:r>
            <a:endParaRPr b="0" lang="ru-RU" sz="19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Bef>
                <a:spcPts val="380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886 г. на соревнованиях по велосипедному спорту была зафиксирована первая смерть одного из участников — англичанина Линтона, последовавшая из-за применения им допинга во время гонки по маршруту Париж — Бордо.</a:t>
            </a:r>
            <a:endParaRPr b="0" lang="ru-RU" sz="19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827640" y="692640"/>
            <a:ext cx="7560360" cy="554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3000"/>
          </a:bodyPr>
          <a:p>
            <a:pPr indent="0" algn="just">
              <a:lnSpc>
                <a:spcPct val="115000"/>
              </a:lnSpc>
              <a:spcBef>
                <a:spcPts val="159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й международной федерацией, которая стала активно бороться с использованием допинга, оказалась </a:t>
            </a:r>
            <a:r>
              <a:rPr b="1" lang="ru-RU" sz="8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еждународная федерация легкой атлетики</a:t>
            </a:r>
            <a:r>
              <a:rPr b="0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Еще в 1928 г. она запретила использование стимуляторов. Другие федерации последовали ее примеру. Однако серьезного результата это не давало, поскольку отсутствовала система контроля за применением допинга.</a:t>
            </a:r>
            <a:endParaRPr b="0" lang="ru-RU" sz="80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Bef>
                <a:spcPts val="159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ое распространение получило применение спортсменами различных стимулирующих препаратов на Олимпийских играх в начале XX в. и позднее, став более частым в 1950—1960-е и последующие годы. </a:t>
            </a:r>
            <a:endParaRPr b="0" lang="ru-RU" sz="80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Bef>
                <a:spcPts val="159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ru-RU" sz="8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ервые пробы</a:t>
            </a:r>
            <a:r>
              <a:rPr b="0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изванные проверить, не применяли ли спортсмены запрещенные стимуляторы, были взяты </a:t>
            </a:r>
            <a:r>
              <a:rPr b="0" lang="ru-RU" sz="8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Токио в 1964 г. на Играх XVIII Олимпиады</a:t>
            </a:r>
            <a:r>
              <a:rPr b="0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ru-RU" sz="80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Bef>
                <a:spcPts val="159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8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960 г.</a:t>
            </a:r>
            <a:r>
              <a:rPr b="0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блема применения допинга привлекла внимание Совета Европы: </a:t>
            </a:r>
            <a:r>
              <a:rPr b="0" lang="ru-RU" sz="8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1 западноевропейская страна приняла резолюцию против использования в спорте допинговых субстанций</a:t>
            </a:r>
            <a:r>
              <a:rPr b="0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ru-RU" sz="8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1331640" y="908640"/>
            <a:ext cx="6552360" cy="49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ая громкая и печальная история, связанная с допингом, произошла с канадским легкоатлетом Беном Джонсоном, который два года подряд на чемпионате мира - 1987 и Олимпиаде - 1988 в Сеуле удивлял мир суперрезультатами на дистанции 100 метров. Скорость атлета приближалась к космической - 10,2145 м/сек или 36,772 км/час, но чествовали Джонсона недолго. 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несколько дней стало известно, что в допинг-пробе триумфатора обнаружена значительная концентрация анаболического стероида станозолола. Канадец был дисквалифицирован на два года, его рекорды аннулированы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87640" y="620640"/>
            <a:ext cx="6696360" cy="57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лассификация допинговых средств и методов, 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х краткая характеристика</a:t>
            </a:r>
            <a:endParaRPr b="0" lang="ru-RU" sz="2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7640" y="1268640"/>
            <a:ext cx="7560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9"/>
              </a:spcBef>
              <a:buNone/>
              <a:tabLst>
                <a:tab algn="l" pos="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93 году Медицинская комиссия МОК запретила применение следующих фармакологических препаратов: </a:t>
            </a:r>
            <a:endParaRPr b="0" lang="ru-RU" sz="23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00000"/>
              </a:lnSpc>
              <a:spcBef>
                <a:spcPts val="45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буждающих средств (стимуляторов) разных </a:t>
            </a:r>
            <a:endParaRPr b="0" lang="ru-RU" sz="23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spcBef>
                <a:spcPts val="459"/>
              </a:spcBef>
              <a:buNone/>
              <a:tabLst>
                <a:tab algn="l" pos="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 и классов, </a:t>
            </a:r>
            <a:endParaRPr b="0" lang="ru-RU" sz="23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00000"/>
              </a:lnSpc>
              <a:spcBef>
                <a:spcPts val="45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котиков, </a:t>
            </a:r>
            <a:endParaRPr b="0" lang="ru-RU" sz="23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00000"/>
              </a:lnSpc>
              <a:spcBef>
                <a:spcPts val="45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боликов, </a:t>
            </a:r>
            <a:endParaRPr b="0" lang="ru-RU" sz="23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00000"/>
              </a:lnSpc>
              <a:spcBef>
                <a:spcPts val="45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зболивающих средств, </a:t>
            </a:r>
            <a:endParaRPr b="0" lang="ru-RU" sz="23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00000"/>
              </a:lnSpc>
              <a:spcBef>
                <a:spcPts val="45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чегонных средств, </a:t>
            </a:r>
            <a:endParaRPr b="0" lang="ru-RU" sz="23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00000"/>
              </a:lnSpc>
              <a:spcBef>
                <a:spcPts val="45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птидных гормонов и их производных. </a:t>
            </a:r>
            <a:endParaRPr b="0" lang="ru-RU" sz="23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spcBef>
                <a:spcPts val="459"/>
              </a:spcBef>
              <a:buNone/>
              <a:tabLst>
                <a:tab algn="l" pos="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ены также ограничения на употребление алкоголя, кофе, местноанестезирующих средств и бета-блокаторов.</a:t>
            </a:r>
            <a:endParaRPr b="0" lang="ru-RU" sz="23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Кнопка">
  <a:themeElements>
    <a:clrScheme name="Кнопка">
      <a:dk1>
        <a:srgbClr val="000000"/>
      </a:dk1>
      <a:lt1>
        <a:srgbClr val="ffffff"/>
      </a:lt1>
      <a:dk2>
        <a:srgbClr val="465e9c"/>
      </a:dk2>
      <a:lt2>
        <a:srgbClr val="ccddea"/>
      </a:lt2>
      <a:accent1>
        <a:srgbClr val="fda023"/>
      </a:accent1>
      <a:accent2>
        <a:srgbClr val="aa2b1e"/>
      </a:accent2>
      <a:accent3>
        <a:srgbClr val="71685c"/>
      </a:accent3>
      <a:accent4>
        <a:srgbClr val="64a73b"/>
      </a:accent4>
      <a:accent5>
        <a:srgbClr val="eb5605"/>
      </a:accent5>
      <a:accent6>
        <a:srgbClr val="b9ca1a"/>
      </a:accent6>
      <a:hlink>
        <a:srgbClr val="d83e2c"/>
      </a:hlink>
      <a:folHlink>
        <a:srgbClr val="ed7d2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Кнопка">
  <a:themeElements>
    <a:clrScheme name="Кнопка">
      <a:dk1>
        <a:srgbClr val="000000"/>
      </a:dk1>
      <a:lt1>
        <a:srgbClr val="ffffff"/>
      </a:lt1>
      <a:dk2>
        <a:srgbClr val="465e9c"/>
      </a:dk2>
      <a:lt2>
        <a:srgbClr val="ccddea"/>
      </a:lt2>
      <a:accent1>
        <a:srgbClr val="fda023"/>
      </a:accent1>
      <a:accent2>
        <a:srgbClr val="aa2b1e"/>
      </a:accent2>
      <a:accent3>
        <a:srgbClr val="71685c"/>
      </a:accent3>
      <a:accent4>
        <a:srgbClr val="64a73b"/>
      </a:accent4>
      <a:accent5>
        <a:srgbClr val="eb5605"/>
      </a:accent5>
      <a:accent6>
        <a:srgbClr val="b9ca1a"/>
      </a:accent6>
      <a:hlink>
        <a:srgbClr val="d83e2c"/>
      </a:hlink>
      <a:folHlink>
        <a:srgbClr val="ed7d2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1_Кнопка">
  <a:themeElements>
    <a:clrScheme name="Кнопка">
      <a:dk1>
        <a:srgbClr val="000000"/>
      </a:dk1>
      <a:lt1>
        <a:srgbClr val="ffffff"/>
      </a:lt1>
      <a:dk2>
        <a:srgbClr val="465e9c"/>
      </a:dk2>
      <a:lt2>
        <a:srgbClr val="ccddea"/>
      </a:lt2>
      <a:accent1>
        <a:srgbClr val="fda023"/>
      </a:accent1>
      <a:accent2>
        <a:srgbClr val="aa2b1e"/>
      </a:accent2>
      <a:accent3>
        <a:srgbClr val="71685c"/>
      </a:accent3>
      <a:accent4>
        <a:srgbClr val="64a73b"/>
      </a:accent4>
      <a:accent5>
        <a:srgbClr val="eb5605"/>
      </a:accent5>
      <a:accent6>
        <a:srgbClr val="b9ca1a"/>
      </a:accent6>
      <a:hlink>
        <a:srgbClr val="d83e2c"/>
      </a:hlink>
      <a:folHlink>
        <a:srgbClr val="ed7d2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  <Words>2643</Words>
  <Paragraphs>235</Paragraphs>
  <Company>SPecialiST RePack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24T06:01:56Z</dcterms:created>
  <dc:creator>User</dc:creator>
  <dc:description/>
  <dc:language>en-US</dc:language>
  <cp:lastModifiedBy>Пользователь</cp:lastModifiedBy>
  <dcterms:modified xsi:type="dcterms:W3CDTF">2020-06-18T05:55:58Z</dcterms:modified>
  <cp:revision>26</cp:revision>
  <dc:subject/>
  <dc:title>Лекция   «Допинг и антидопинговый контроль в спорте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34</vt:r8>
  </property>
</Properties>
</file>