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8E0-6524-4821-ACBE-E09CC0FA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CFE-27F5-4468-A658-B32D596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FB0-38BE-4A49-8768-F6C342C8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98F-C3A9-4E27-884D-700EA650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E305-6ECE-42DE-A25B-E768562C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8F75-4CC7-4A60-ACE6-DBFB700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CF20-5064-4636-A367-B3775EE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EDA-69A8-41E1-9A56-6C39809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A27-2C07-407E-9CDA-307D1509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B354-45C3-41AC-A343-2BC5D0A2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D641-61FA-4F28-9DC4-6EA7D38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ADFF-B3F7-419D-9D76-1E087B12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C1C1-74C5-4200-BF87-2328C14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A36-CC78-4E3C-861D-510B2137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46F-2295-4C23-A24E-7FFD5DE1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5A6C-F239-4A3F-B579-79CED82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C2B6-97D1-4A8F-8A86-E3A45132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EC3-F05C-45D5-9EE7-854C74B1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6C1-9894-4721-A522-B1F6288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619-5DF6-4F0D-9DD8-759B4B1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0AE-005C-4C17-AD85-8A0FD3EC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524-1A40-4710-9C0C-0311347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B28-FE96-4545-AC38-8E77274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DFA-8D39-41BE-B9B1-E7FA8F10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1A0B0-C2A2-4D02-87BF-DDE12C2CF20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2EEC45-79CF-4F7C-A879-21AE164E6D6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85FD2F4B2CA409B4CD73127147FD85ABE29B4ACADDD28B22067B2906E07B1D224305F9BD7EF7N3r3L" TargetMode="External"/><Relationship Id="rId2" Type="http://schemas.openxmlformats.org/officeDocument/2006/relationships/hyperlink" Target="consultantplus://offline/ref=85FD2F4B2CA409B4CD73127147FD85ABE29B4DCFDDD68B22067B2906E07B1D224305F9BF79F2364ANFrEL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6D3E6E1F8E246201E682DC894BEC2C4B957858A9ABC6C94EC50E0bBn0G" TargetMode="External"/><Relationship Id="rId2" Type="http://schemas.openxmlformats.org/officeDocument/2006/relationships/hyperlink" Target="consultantplus://offline/ref=06D3E6E1F8E246201E682DC894BEC2C4B956818F90E1669CB55CE2B7b3n8G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2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880" y="429480"/>
            <a:ext cx="11623680" cy="308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БЩИЕ ПОЛОЖЕНИЯ О БЮДЖЕТНЫХ НАРУШЕНИЯХ И ПРИМЕНЕНИИ БЮДЖЕТНЫХ МЕР ПРИНУЖДЕНИЯ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997560" y="3602160"/>
            <a:ext cx="10528920" cy="300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7560" y="3602160"/>
            <a:ext cx="10528920" cy="30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185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бзор судебной практики Верховного Суда Российской Федерации (утв. Президиумом Верховного Суда РФ 04.07.2018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5760" y="1856880"/>
            <a:ext cx="105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силу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06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БК РФ такие лица несут ответственность в соответствии с законодательством Российской Федерац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6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ОТНОШЕНИЕ БК РФ И КоАП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18480"/>
            <a:ext cx="12191760" cy="623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96840" y="618480"/>
            <a:ext cx="606780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Статья 306.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469920" y="618480"/>
            <a:ext cx="5610600" cy="1371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атья 15.1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96840" y="2189160"/>
            <a:ext cx="6067800" cy="466848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Нецелевым использованием бюджетных средств 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6511680" y="2089440"/>
            <a:ext cx="5680080" cy="4668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Нецелевое использование бюджетных средств, выразившееся в направлении средств бюджета бюджетной системы Российской Федерации и оплате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</a:t>
            </a: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8600" y="0"/>
            <a:ext cx="12053160" cy="47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РАЗЛИЧИЯ В СУБЪЕКТЕ ПРАВО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87960"/>
            <a:ext cx="12191760" cy="61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48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РАЗЛИЧИЯ В ХАРАКТЕРЕ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Прямая соединительная линия 10"/>
          <p:cNvCxnSpPr/>
          <p:nvPr/>
        </p:nvCxnSpPr>
        <p:spPr>
          <a:xfrm>
            <a:off x="5998680" y="5084280"/>
            <a:ext cx="360" cy="360"/>
          </a:xfrm>
          <a:prstGeom prst="straightConnector1">
            <a:avLst/>
          </a:prstGeom>
          <a:ln w="76200">
            <a:solidFill>
              <a:srgbClr val="5b9bd5"/>
            </a:solidFill>
          </a:ln>
        </p:spPr>
      </p:cxn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35320"/>
            <a:ext cx="235080" cy="63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. РАЗЛИЧИЯ В ПОСЛЕДСТВ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5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. РАЗЛИЧИЯ В МЕРАХ ВОЗ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0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РАЗЛИЧИЯ В СПЕЦИАЛЬНЫХ ОРГАН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4800"/>
            <a:ext cx="12191760" cy="62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74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. РАЗЛИЧИЯ В ПРОЦЕССУАЛЬНЫХ СРОК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РЫ ВОЗДЕЙСТВИЯ в БК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37200"/>
            <a:ext cx="12191760" cy="62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0" y="2230560"/>
            <a:ext cx="5582880" cy="4571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Исчезло понятие «Ответственность за нарушение бюджетного законодательства Российской Феде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6899400" y="2230560"/>
            <a:ext cx="5292000" cy="4571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едено понятие «Бюджетные нарушения и бюджетные меры принужд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1170720" y="637200"/>
            <a:ext cx="985032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Новации при реализации государственной программы РФ «Управление государственными финансами» (утв. распоряжением Правительства РФ от 04.03.2013 № 293-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Бюджетные меры принужде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57080"/>
            <a:ext cx="1219176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Бесспорное взыскание суммы средств, предоставленных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2. Бесспорное взыскание суммы платы за пользование средствами, предоставленными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3. Бесспорное взыскание пеней за несвоевременный возврат средств бюджет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. Приостановление (сокращение) предоставления межбюджетных трансфертов (за исключением субвенций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ередача уполномоченному по соответствующему бюджету части полномочий главного распорядителя, распорядителя и получателя бюджетных средст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69840" y="0"/>
            <a:ext cx="10515240" cy="7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инансовый характер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0000" y="775800"/>
            <a:ext cx="11845440" cy="59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80000" y="1038960"/>
            <a:ext cx="5680080" cy="56800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нос ответственности за нарушения в сфере бюджетных отношений из сферы личной уголовной ответственности в финансово-правовую плоскость произошел в 90-е годы прошлого столет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6220800" y="1136160"/>
            <a:ext cx="5804640" cy="5361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В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Указ Президента Российской Федерации от 8 декабря 1992 г. "О федеральном казначейст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установил меры принуждения за нецелевое использование бюджетных средств и другие наруш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каз Минфина России от 11.08.2014 N 74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87040"/>
            <a:ext cx="1219176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"Об утверждении Порядка исполнения решения о применении бюджетных мер принуждения на основании уведомлений Счетной палаты Российской Федерации и Федеральной службы финансово-бюджетного надзора (за исключением передачи уполномоченному по соответствующему бюджету части полномочий главного распорядителя, распорядителя и получателя бюджетных средств), о внесении изменений и признании утратившими силу некоторых приказов (отдельных положений приказов) Министерства финансов Российской Федерации"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д уведомлением о применении бюджетных мер принуждения понимаетс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17840"/>
            <a:ext cx="12191760" cy="52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 органа государственного (муниципального) финансового контроля, обязательный к рассмотрению финансовым органом, содержащий основания для применения бюджетных мер принуждения и суммы средств, использованных с нарушением условий предоставления (расходования) межбюджетного трансферта, бюджетного кредита или использованных не по целевому назначению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Решения о применении бюджетных мер принуж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27520" y="1343880"/>
            <a:ext cx="5425200" cy="53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Подлежат исполнению в срок до 1 года со дня принятия указанного ре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39040" y="1343880"/>
            <a:ext cx="5556240" cy="535212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Подлежат принятию в течение 30 календарных дней после получения финансовым органом уведомления о применении бюджетных мер прин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блако 3"/>
          <p:cNvSpPr/>
          <p:nvPr/>
        </p:nvSpPr>
        <p:spPr>
          <a:xfrm>
            <a:off x="-830160" y="732240"/>
            <a:ext cx="14686200" cy="662472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Территориальный орган Федерального казначейства не позднее 3 рабочих дней со дня получения извещения осуществляет перечисление взысканных сумм в федеральный бюджет в пределах сумм поступлений за текущий операционный день, подлежащих зачислению в бюджет наруш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лако 4"/>
          <p:cNvSpPr/>
          <p:nvPr/>
        </p:nvSpPr>
        <p:spPr>
          <a:xfrm>
            <a:off x="-703440" y="732240"/>
            <a:ext cx="13645440" cy="6624720"/>
          </a:xfrm>
          <a:prstGeom prst="cloud">
            <a:avLst/>
          </a:prstGeom>
          <a:solidFill>
            <a:schemeClr val="accent2">
              <a:lumMod val="7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В случае недостаточности сумм поступлений за текущий операционный день, взыскание осуществляется в последующие операционные дни в пределах сумм поступлений, подлежащих зачислению в бюджет нарушителя, до полного исполнения решения о взыск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А)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900" spc="-1" strike="noStrike">
                <a:solidFill>
                  <a:srgbClr val="7030a0"/>
                </a:solidFill>
                <a:latin typeface="Calibri Light"/>
              </a:rPr>
              <a:t>Нецелевое использование бюджетных средств</a:t>
            </a:r>
            <a:br>
              <a:rPr sz="44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63040"/>
            <a:ext cx="1219176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, являющимся правовым основанием предоставления указанных средств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ТВЕТСТВЕННОСТ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58600"/>
            <a:ext cx="1219176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блако 3"/>
          <p:cNvSpPr/>
          <p:nvPr/>
        </p:nvSpPr>
        <p:spPr>
          <a:xfrm>
            <a:off x="0" y="858600"/>
            <a:ext cx="5007600" cy="599904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ФИНАНСОВАЯ ПО БК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лако 4"/>
          <p:cNvSpPr/>
          <p:nvPr/>
        </p:nvSpPr>
        <p:spPr>
          <a:xfrm>
            <a:off x="4825080" y="858600"/>
            <a:ext cx="7366320" cy="599904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АДМИНИСТРАТИВНАЯ ПО КоАП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5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юджетный кодек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60240"/>
            <a:ext cx="12191760" cy="6197400"/>
          </a:xfrm>
          <a:prstGeom prst="rect">
            <a:avLst/>
          </a:prstGeom>
          <a:solidFill>
            <a:srgbClr val="ffff00"/>
          </a:solidFill>
          <a:ln w="12600">
            <a:solidFill>
              <a:srgbClr val="43729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сширил перечень нарушений бюджетного законодательства и мер принуждения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8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Статья 283. Основания применения мер принуждения за нарушение бюджетного законодательства Российской Федерации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(1998 г)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42480"/>
            <a:ext cx="121917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целевое использование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ол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зачисление бюджетных средств на счета получателей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отчетов и других сведений, связанных с исполнением бюджета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бюджетных ассигнованиях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лимитах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бюджетной росписи закону (решению) о бюджете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уведомлений о бюджетных ассигнованиях, уведомлений о лимитах бюджетных обязательств утвержденным расходам и бюджетной роспис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обязательности зачисления доходов бюджетов в бюджетную систему Российской Федерац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исполнение платежных докумен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проектов бюджетов и отчетов об исполнении бюдже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аз подтвердить принятые бюджетные обязательства, кроме оснований, установленных настоящим Кодексо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одтверждение бюджетных обязательств, несвоевременное осуществление платежей по подтвержденным бюджетным обязательства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, не включенных в бюджетную роспись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 в размерах, превышающих размеры, включенные в бюджетную роспись, и утвержденные лимиты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нормативов финансовых затрат на оказание государственных или муниципальных услуг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предельных размеров дефицитов бюджетов, 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рытие счетов бюджета в кредитных организациях при наличии на соответствующей территории отделений Банка Росс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иные основания в соответствии с настоящим Кодексом и федеральными законами.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нятие бюджетного нарушения (ст.306.1 БК РФ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95680"/>
            <a:ext cx="12191760" cy="59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юджетным нарушением признается совершенное в нарушение бюджетного законодательства РФ, иных нормативных правовых актов, регулирующих бюджетные правоотношения, и договоров (соглашений), на основании которых предоставляются средства из бюджета бюджетной системы РФ, действие (бездействие) финансового органа и иных участников бюджетных отношений за совершение которого предусмотрено применение бюджетных мер принуждени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знаки бюджетного 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32520"/>
            <a:ext cx="12191760" cy="62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лако 4"/>
          <p:cNvSpPr/>
          <p:nvPr/>
        </p:nvSpPr>
        <p:spPr>
          <a:xfrm>
            <a:off x="5219280" y="457200"/>
            <a:ext cx="7596360" cy="352368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За нарушения бюджетного законодательства может наступать бюджетная</a:t>
            </a: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или административная 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5"/>
          <p:cNvSpPr/>
          <p:nvPr/>
        </p:nvSpPr>
        <p:spPr>
          <a:xfrm>
            <a:off x="-505800" y="435960"/>
            <a:ext cx="6469560" cy="352368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Наличие противоправного деяния, которое нарушает правила, установленные Б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6"/>
          <p:cNvSpPr/>
          <p:nvPr/>
        </p:nvSpPr>
        <p:spPr>
          <a:xfrm>
            <a:off x="0" y="3588480"/>
            <a:ext cx="6248160" cy="3444480"/>
          </a:xfrm>
          <a:prstGeom prst="cloud">
            <a:avLst/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Лицо должно быть участником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7"/>
          <p:cNvSpPr/>
          <p:nvPr/>
        </p:nvSpPr>
        <p:spPr>
          <a:xfrm>
            <a:off x="5361840" y="3588480"/>
            <a:ext cx="6916680" cy="3523680"/>
          </a:xfrm>
          <a:prstGeom prst="cloud">
            <a:avLst/>
          </a:prstGeom>
          <a:solidFill>
            <a:schemeClr val="bg1">
              <a:lumMod val="5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Предусмотрено применение бюджетных мер прин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408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exclamation GIF."/>
          <p:cNvPicPr/>
          <p:nvPr/>
        </p:nvPicPr>
        <p:blipFill>
          <a:blip r:embed="rId1"/>
          <a:stretch/>
        </p:blipFill>
        <p:spPr>
          <a:xfrm>
            <a:off x="2493720" y="64440"/>
            <a:ext cx="6525000" cy="67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12191760" cy="22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становление Пленума Верховного Суда РФ от 29.11.2007 N 48 (ред. от 09.02.2012) "О практике рассмотрения судами дел об оспаривании нормативных правовых актов полностью или в части"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3172680"/>
            <a:ext cx="1051524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нормативными правовыми актами субъектов Российской Федерации не могут устанавливаться санкции (меры ответственности) за нарушения бюджетного законодатель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7869240" y="533520"/>
            <a:ext cx="4266720" cy="5956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42240" y="533520"/>
            <a:ext cx="4349880" cy="59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00" y="166320"/>
            <a:ext cx="754344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йствие (бездействие), нарушающее бюджетное законодательство РФ, иные нормативные правовые акты, регулирующие бюджетные правоотношения, совершенное лицом,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 являющимся участником бюджет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не влечет ответственность в соответствии с бюджетным законодательством РФ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  <Words>999</Words>
  <Paragraphs>85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06:17:18Z</dcterms:created>
  <dc:creator>malcz</dc:creator>
  <dc:description/>
  <dc:language>en-US</dc:language>
  <cp:lastModifiedBy>User</cp:lastModifiedBy>
  <dcterms:modified xsi:type="dcterms:W3CDTF">2021-07-07T07:57:52Z</dcterms:modified>
  <cp:revision>74</cp:revision>
  <dc:subject/>
  <dc:title>ОБЩИЕ ПОЛОЖЕНИЯ О БЮДЖЕТНЫХ НАРУШЕНИЯХ И ПРИМЕНЕНИИ БЮДЖЕТНЫХ МЕР ПРИНУЖ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6</vt:r8>
  </property>
</Properties>
</file>