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3F6A-DC41-4739-A4E9-C96C7150F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E894-5BA1-43AC-8A3C-0772E269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A01B-4E1B-4563-A3DB-D69F1F6B0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BEE2-7784-433A-A4F1-4E8FFD71E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ABAF-A5B0-459D-87FC-41CA81664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96D10-B131-49F9-8A48-62CB2CF4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5B32-6152-4CDC-A445-9A99FAD2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7BD9-857C-4321-A62A-8921613B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771D-95A6-4E0A-B3A7-75DED087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97F7-AC96-4CF2-A004-3CE8D913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8718-91F2-4007-9091-AE75C638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A4B9-5632-46F5-BD57-8AECFE51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6ABB-0F45-40D3-98DE-2C6754C5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0251-CD03-4611-B1A3-79B6E9B4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628A-2750-4DB8-B9E0-FD6EE7A4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E0043-FA12-4582-B530-9728AD50F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C573C-4AFD-42CB-9E10-D53A8ED12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CC20-3ADF-45EB-898D-2C088F65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6787-987D-4859-A852-9FC39485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8605-054E-4232-8278-E5F47B04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3F74-95D1-477D-AA1D-9CE3A27E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B56C-8E70-4B19-AF8E-13070E32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CADA-0756-4015-804C-072E1BEF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6ABA-80B9-4B66-B2B5-7D6B22B9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3C5231F-1E83-4E9F-8748-16BFC2FABB0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F8F82BE-5175-466E-8491-7A6C51AF1F0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consultantplus://offline/ref=85FD2F4B2CA409B4CD73127147FD85ABE29B4ACADDD28B22067B2906E07B1D224305F9BD7EF7N3r3L" TargetMode="External"/><Relationship Id="rId2" Type="http://schemas.openxmlformats.org/officeDocument/2006/relationships/hyperlink" Target="consultantplus://offline/ref=85FD2F4B2CA409B4CD73127147FD85ABE29B4DCFDDD68B22067B2906E07B1D224305F9BF79F2364ANFrEL" TargetMode="External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consultantplus://offline/ref=06D3E6E1F8E246201E682DC894BEC2C4B957858A9ABC6C94EC50E0bBn0G" TargetMode="External"/><Relationship Id="rId2" Type="http://schemas.openxmlformats.org/officeDocument/2006/relationships/hyperlink" Target="consultantplus://offline/ref=06D3E6E1F8E246201E682DC894BEC2C4B956818F90E1669CB55CE2B7b3n8G" TargetMode="External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consultantplus://offline/ref=4D59C1FAF2720B99F7277A1EB55A1DA7712509F7677BB8D2D1312B6EFD6783689567D6D6E155E859DBAD172DC19065211CD71094656F45A4G" TargetMode="External"/><Relationship Id="rId2" Type="http://schemas.openxmlformats.org/officeDocument/2006/relationships/hyperlink" Target="consultantplus://offline/ref=4D59C1FAF2720B99F7277A1EB55A1DA7712509F7677BB8D2D1312B6EFD6783689567D6D6E155E859DBAD172DC19065211CD71094656F45A4G" TargetMode="External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90880" y="429480"/>
            <a:ext cx="11623680" cy="308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9000"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ОБЩИЕ ПОЛОЖЕНИЯ О БЮДЖЕТНЫХ НАРУШЕНИЯХ И ПРИМЕНЕНИИ БЮДЖЕТНЫХ МЕР ПРИНУЖДЕНИЯ 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3" descr=""/>
          <p:cNvPicPr/>
          <p:nvPr/>
        </p:nvPicPr>
        <p:blipFill>
          <a:blip r:embed="rId1"/>
          <a:stretch/>
        </p:blipFill>
        <p:spPr>
          <a:xfrm>
            <a:off x="997560" y="3602160"/>
            <a:ext cx="10528920" cy="3006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97560" y="3602160"/>
            <a:ext cx="10528920" cy="300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/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191760" cy="185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2000"/>
          </a:bodyPr>
          <a:p>
            <a:pPr indent="0" algn="ctr">
              <a:lnSpc>
                <a:spcPct val="90000"/>
              </a:lnSpc>
              <a:buNone/>
            </a:pP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Calibri Light"/>
              </a:rPr>
              <a:t>Обзор судебной практики Верховного Суда Российской Федерации (утв. Президиумом Верховного Суда РФ 04.07.2018)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5760" y="1856880"/>
            <a:ext cx="105152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В силу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ст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06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БК РФ такие лица несут ответственность в соответствии с законодательством Российской Федерации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191760" cy="61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7000"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СООТНОШЕНИЕ БК РФ И КоАП РФ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618480"/>
            <a:ext cx="12191760" cy="623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Скругленный прямоугольник 4"/>
          <p:cNvSpPr/>
          <p:nvPr/>
        </p:nvSpPr>
        <p:spPr>
          <a:xfrm>
            <a:off x="96840" y="618480"/>
            <a:ext cx="6067800" cy="137124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chemeClr val="lt1"/>
                </a:solidFill>
                <a:latin typeface="Calibri"/>
              </a:rPr>
              <a:t>Статья 306.4. Нецелевое использование бюджетных сред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ый прямоугольник 5"/>
          <p:cNvSpPr/>
          <p:nvPr/>
        </p:nvSpPr>
        <p:spPr>
          <a:xfrm>
            <a:off x="6469920" y="618480"/>
            <a:ext cx="5610600" cy="137124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Статья 15.14. Нецелевое использование бюджетных сред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6"/>
          <p:cNvSpPr/>
          <p:nvPr/>
        </p:nvSpPr>
        <p:spPr>
          <a:xfrm>
            <a:off x="96840" y="2189160"/>
            <a:ext cx="6067800" cy="466848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lt1"/>
                </a:solidFill>
                <a:latin typeface="Calibri"/>
              </a:rPr>
              <a:t>Нецелевым использованием бюджетных средств признаются направление средств бюджета бюджетной системы Российской Федерации и оплата денежных обязательств в целях, не соответствующих полностью или частично целям, определенным законом (решением) о бюджете, сводной бюджетной росписью, бюджетной росписью, бюджетной сметой, договором (соглашением) либо иным документом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7"/>
          <p:cNvSpPr/>
          <p:nvPr/>
        </p:nvSpPr>
        <p:spPr>
          <a:xfrm>
            <a:off x="6511680" y="2089440"/>
            <a:ext cx="5680080" cy="4668480"/>
          </a:xfrm>
          <a:prstGeom prst="rect">
            <a:avLst/>
          </a:prstGeom>
          <a:solidFill>
            <a:schemeClr val="bg1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2400" spc="-1" strike="noStrike" u="sng">
                <a:solidFill>
                  <a:schemeClr val="lt1"/>
                </a:solidFill>
                <a:uFillTx/>
                <a:latin typeface="Calibri"/>
                <a:hlinkClick r:id="rId1"/>
              </a:rPr>
              <a:t>Нецелевое использование бюджетных средств, выразившееся в направлении средств бюджета бюджетной системы Российской Федерации и оплате денежных обязательств в целях, не соответствующих полностью или частично целям, определенным законом (решением) о бюджете, сводной бюджетной росписью, бюджетной росписью, бюджетной сметой, договором (соглашением) либо иным документом</a:t>
            </a:r>
            <a:r>
              <a:rPr b="0" lang="ru-RU" sz="2400" spc="-1" strike="noStrike" u="sng">
                <a:solidFill>
                  <a:schemeClr val="lt1"/>
                </a:solidFill>
                <a:uFillTx/>
                <a:latin typeface="Calibri"/>
                <a:hlinkClick r:id="rId2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8600" y="0"/>
            <a:ext cx="12053160" cy="470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1. РАЗЛИЧИЯ В СУБЪЕКТЕ ПРАВОНАРУШЕ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687960"/>
            <a:ext cx="12191760" cy="616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240" cy="48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2. РАЗЛИЧИЯ В ХАРАКТЕРЕ ОТВЕТСТВЕННОСТ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9" name="Прямая соединительная линия 10"/>
          <p:cNvCxnSpPr/>
          <p:nvPr/>
        </p:nvCxnSpPr>
        <p:spPr>
          <a:xfrm>
            <a:off x="5998680" y="5084280"/>
            <a:ext cx="360" cy="360"/>
          </a:xfrm>
          <a:prstGeom prst="straightConnector1">
            <a:avLst/>
          </a:prstGeom>
          <a:ln w="76200">
            <a:solidFill>
              <a:srgbClr val="5b9bd5"/>
            </a:solidFill>
          </a:ln>
        </p:spPr>
      </p:cxn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535320"/>
            <a:ext cx="235080" cy="63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35280" y="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3. РАЗЛИЧИЯ В ПОСЛЕДСТВИЯХ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35280" y="0"/>
            <a:ext cx="10515240" cy="454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4. РАЗЛИЧИЯ В МЕРАХ ВОЗДЕЙСТВ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646200"/>
            <a:ext cx="12191760" cy="62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240" cy="50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5. РАЗЛИЧИЯ В СПЕЦИАЛЬНЫХ ОРГАНАХ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604800"/>
            <a:ext cx="12191760" cy="62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240" cy="674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6. РАЗЛИЧИЯ В ПРОЦЕССУАЛЬНЫХ СРОКАХ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646200"/>
            <a:ext cx="12191760" cy="62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240" cy="52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1000"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МЕРЫ ВОЗДЕЙСТВИЯ в БК РФ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637200"/>
            <a:ext cx="12191760" cy="622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Скругленный прямоугольник 3"/>
          <p:cNvSpPr/>
          <p:nvPr/>
        </p:nvSpPr>
        <p:spPr>
          <a:xfrm>
            <a:off x="0" y="2230560"/>
            <a:ext cx="5582880" cy="457164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chemeClr val="lt1"/>
                </a:solidFill>
                <a:latin typeface="Calibri"/>
              </a:rPr>
              <a:t>Исчезло понятие «Ответственность за нарушение бюджетного законодательства Российской Федераци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4"/>
          <p:cNvSpPr/>
          <p:nvPr/>
        </p:nvSpPr>
        <p:spPr>
          <a:xfrm>
            <a:off x="6899400" y="2230560"/>
            <a:ext cx="5292000" cy="45716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ведено понятие «Бюджетные нарушения и бюджетные меры принуждения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5"/>
          <p:cNvSpPr/>
          <p:nvPr/>
        </p:nvSpPr>
        <p:spPr>
          <a:xfrm>
            <a:off x="1170720" y="637200"/>
            <a:ext cx="9850320" cy="137124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Calibri"/>
              </a:rPr>
              <a:t>Новации при реализации государственной программы РФ «Управление государственными финансами» (утв. распоряжением Правительства РФ от 04.03.2013 № 293-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240" cy="75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35000"/>
          </a:bodyPr>
          <a:p>
            <a:pPr indent="0" algn="ctr">
              <a:lnSpc>
                <a:spcPct val="90000"/>
              </a:lnSpc>
              <a:buNone/>
            </a:pP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Calibri Light"/>
              </a:rPr>
              <a:t>Бюджетные меры принуждения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757080"/>
            <a:ext cx="12191760" cy="61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Бесспорное взыскание суммы средств, предоставленных из одного бюджета бюджетной системы Российской Федерации другому бюджету бюджетной системы Российской Федерации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chemeClr val="accent2">
                    <a:lumMod val="75000"/>
                  </a:schemeClr>
                </a:solidFill>
                <a:latin typeface="Calibri"/>
              </a:rPr>
              <a:t>2. Бесспорное взыскание суммы платы за пользование средствами, предоставленными из одного бюджета бюджетной системы Российской Федерации другому бюджету бюджетной системы Российской Федерации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3. Бесспорное взыскание пеней за несвоевременный возврат средств бюджета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4. Приостановление (сокращение) предоставления межбюджетных трансфертов (за исключением субвенций)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Передача уполномоченному по соответствующему бюджету части полномочий главного распорядителя, распорядителя и получателя бюджетных средств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1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1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69840" y="0"/>
            <a:ext cx="10515240" cy="77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Финансовый характер ответственност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0000" y="775800"/>
            <a:ext cx="11845440" cy="59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3"/>
          <p:cNvSpPr/>
          <p:nvPr/>
        </p:nvSpPr>
        <p:spPr>
          <a:xfrm>
            <a:off x="180000" y="1038960"/>
            <a:ext cx="5680080" cy="5680080"/>
          </a:xfrm>
          <a:prstGeom prst="rect">
            <a:avLst/>
          </a:prstGeom>
          <a:solidFill>
            <a:schemeClr val="accent2">
              <a:lumMod val="60000"/>
              <a:lumOff val="40000"/>
            </a:schemeClr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еренос ответственности за нарушения в сфере бюджетных отношений из сферы личной уголовной ответственности в финансово-правовую плоскость произошел в 90-е годы прошлого столети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6"/>
          <p:cNvSpPr/>
          <p:nvPr/>
        </p:nvSpPr>
        <p:spPr>
          <a:xfrm>
            <a:off x="6220800" y="1136160"/>
            <a:ext cx="5804640" cy="5361480"/>
          </a:xfrm>
          <a:prstGeom prst="rect">
            <a:avLst/>
          </a:prstGeom>
          <a:solidFill>
            <a:schemeClr val="bg1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В </a:t>
            </a:r>
            <a:r>
              <a:rPr b="0" lang="ru-RU" sz="3200" spc="-1" strike="noStrike" u="sng">
                <a:solidFill>
                  <a:schemeClr val="lt1"/>
                </a:solidFill>
                <a:uFillTx/>
                <a:latin typeface="Calibri"/>
                <a:hlinkClick r:id="rId1"/>
              </a:rPr>
              <a:t>Указ Президента Российской Федерации от 8 декабря 1992 г. "О федеральном казначейств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200" spc="-1" strike="noStrike" u="sng">
                <a:solidFill>
                  <a:schemeClr val="lt1"/>
                </a:solidFill>
                <a:uFillTx/>
                <a:latin typeface="Calibri"/>
                <a:hlinkClick r:id="rId2"/>
              </a:rPr>
              <a:t>установил меры принуждения за нецелевое использование бюджетных средств и другие нарушения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191760" cy="88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7030a0"/>
                </a:solidFill>
                <a:latin typeface="Calibri Light"/>
              </a:rPr>
              <a:t>Приказ Минфина России от 11.08.2014 N 74н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887040"/>
            <a:ext cx="12191760" cy="59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"Об утверждении Порядка исполнения решения о применении бюджетных мер принуждения на основании уведомлений Счетной палаты Российской Федерации и Федеральной службы финансово-бюджетного надзора (за исключением передачи уполномоченному по соответствующему бюджету части полномочий главного распорядителя, распорядителя и получателя бюджетных средств), о внесении изменений и признании утратившими силу некоторых приказов (отдельных положений приказов) Министерства финансов Российской Федерации"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18360"/>
            <a:ext cx="12191760" cy="114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7030a0"/>
                </a:solidFill>
                <a:latin typeface="Calibri Light"/>
              </a:rPr>
              <a:t>Под уведомлением о применении бюджетных мер принуждения понимаетс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617840"/>
            <a:ext cx="12191760" cy="52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кумент органа государственного (муниципального) финансового контроля, обязательный к рассмотрению финансовым органом, содержащий основания для применения бюджетных мер принуждения и суммы средств, использованных с нарушением условий предоставления (расходования) межбюджетного трансферта, бюджетного кредита или использованных не по целевому назначению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8360"/>
            <a:ext cx="1219176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7030a0"/>
                </a:solidFill>
                <a:latin typeface="Calibri Light"/>
              </a:rPr>
              <a:t>Решения о применении бюджетных мер принужде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27520" y="1343880"/>
            <a:ext cx="5425200" cy="53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4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Подлежат исполнению в срок до 1 года со дня принятия указанного реше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3"/>
          <p:cNvSpPr/>
          <p:nvPr/>
        </p:nvSpPr>
        <p:spPr>
          <a:xfrm>
            <a:off x="239040" y="1343880"/>
            <a:ext cx="5556240" cy="535212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Calibri"/>
                <a:hlinkClick r:id="rId2"/>
              </a:rPr>
              <a:t>Подлежат принятию в течение 30 календарных дней после получения финансовым органом уведомления о применении бюджетных мер принуж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1917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34000"/>
          </a:bodyPr>
          <a:p>
            <a:pPr indent="0" algn="ctr">
              <a:lnSpc>
                <a:spcPct val="90000"/>
              </a:lnSpc>
              <a:buNone/>
            </a:pP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Calibri Light"/>
              </a:rPr>
              <a:t>Порядок исполнения решения о бесспорном взыскании 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732240"/>
            <a:ext cx="12191760" cy="61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Облако 3"/>
          <p:cNvSpPr/>
          <p:nvPr/>
        </p:nvSpPr>
        <p:spPr>
          <a:xfrm>
            <a:off x="-830160" y="732240"/>
            <a:ext cx="14686200" cy="6624720"/>
          </a:xfrm>
          <a:prstGeom prst="cloud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chemeClr val="lt1"/>
                </a:solidFill>
                <a:latin typeface="Calibri"/>
              </a:rPr>
              <a:t>Территориальный орган Федерального казначейства не позднее 3 рабочих дней со дня получения извещения осуществляет перечисление взысканных сумм в федеральный бюджет в пределах сумм поступлений за текущий операционный день, подлежащих зачислению в бюджет наруши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1917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34000"/>
          </a:bodyPr>
          <a:p>
            <a:pPr indent="0" algn="ctr">
              <a:lnSpc>
                <a:spcPct val="90000"/>
              </a:lnSpc>
              <a:buNone/>
            </a:pP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Calibri Light"/>
              </a:rPr>
              <a:t>Порядок исполнения решения о бесспорном взыскании 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732240"/>
            <a:ext cx="12191760" cy="61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Облако 4"/>
          <p:cNvSpPr/>
          <p:nvPr/>
        </p:nvSpPr>
        <p:spPr>
          <a:xfrm>
            <a:off x="-703440" y="732240"/>
            <a:ext cx="13645440" cy="6624720"/>
          </a:xfrm>
          <a:prstGeom prst="cloud">
            <a:avLst/>
          </a:prstGeom>
          <a:solidFill>
            <a:schemeClr val="accent2">
              <a:lumMod val="75000"/>
            </a:schemeClr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chemeClr val="lt1"/>
                </a:solidFill>
                <a:latin typeface="Calibri"/>
              </a:rPr>
              <a:t>В случае недостаточности сумм поступлений за текущий операционный день, взыскание осуществляется в последующие операционные дни в пределах сумм поступлений, подлежащих зачислению в бюджет нарушителя, до полного исполнения решения о взыскан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191760" cy="91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42000"/>
          </a:bodyPr>
          <a:p>
            <a:pPr indent="0" algn="ctr">
              <a:lnSpc>
                <a:spcPct val="90000"/>
              </a:lnSpc>
              <a:buNone/>
            </a:pP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Calibri Light"/>
              </a:rPr>
              <a:t>А)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u-RU" sz="4900" spc="-1" strike="noStrike">
                <a:solidFill>
                  <a:srgbClr val="7030a0"/>
                </a:solidFill>
                <a:latin typeface="Calibri Light"/>
              </a:rPr>
              <a:t>Нецелевое использование бюджетных средств</a:t>
            </a:r>
            <a:br>
              <a:rPr sz="4400"/>
            </a:br>
            <a:endParaRPr b="0" lang="ru-RU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463040"/>
            <a:ext cx="12191760" cy="539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знаются направление средств бюджета бюджетной системы Российской Федерации и оплата денежных обязательств в целях, не соответствующих полностью или частично целям, определенным законом (решением) о бюджете, сводной бюджетной росписью, бюджетной росписью, бюджетной сметой, договором (соглашением) либо иным документом, являющимся правовым основанием предоставления указанных средств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240" cy="85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7030a0"/>
                </a:solidFill>
                <a:latin typeface="Calibri Light"/>
              </a:rPr>
              <a:t>ОТВЕТСТВЕННОСТЬ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858600"/>
            <a:ext cx="12191760" cy="59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Облако 3"/>
          <p:cNvSpPr/>
          <p:nvPr/>
        </p:nvSpPr>
        <p:spPr>
          <a:xfrm>
            <a:off x="0" y="858600"/>
            <a:ext cx="5007600" cy="5999040"/>
          </a:xfrm>
          <a:prstGeom prst="cloud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chemeClr val="lt1"/>
                </a:solidFill>
                <a:latin typeface="Calibri"/>
              </a:rPr>
              <a:t>ФИНАНСОВАЯ ПО БК Р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Облако 4"/>
          <p:cNvSpPr/>
          <p:nvPr/>
        </p:nvSpPr>
        <p:spPr>
          <a:xfrm>
            <a:off x="4825080" y="858600"/>
            <a:ext cx="7366320" cy="5999040"/>
          </a:xfrm>
          <a:prstGeom prst="cloud">
            <a:avLst/>
          </a:prstGeom>
          <a:solidFill>
            <a:srgbClr val="00b050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chemeClr val="lt1"/>
                </a:solidFill>
                <a:latin typeface="Calibri"/>
              </a:rPr>
              <a:t>АДМИНИСТРАТИВНАЯ ПО КоАП Р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240" cy="65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Бюджетный кодекс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660240"/>
            <a:ext cx="12191760" cy="6197400"/>
          </a:xfrm>
          <a:prstGeom prst="rect">
            <a:avLst/>
          </a:prstGeom>
          <a:solidFill>
            <a:srgbClr val="ffff00"/>
          </a:solidFill>
          <a:ln w="12600">
            <a:solidFill>
              <a:srgbClr val="43729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Расширил перечень нарушений бюджетного законодательства и мер принуждения</a:t>
            </a: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191760" cy="94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28000"/>
          </a:bodyPr>
          <a:p>
            <a:pPr indent="0" algn="ctr">
              <a:lnSpc>
                <a:spcPct val="90000"/>
              </a:lnSpc>
              <a:buNone/>
            </a:pPr>
            <a:br>
              <a:rPr sz="4400"/>
            </a:br>
            <a:br>
              <a:rPr sz="4400"/>
            </a:br>
            <a:r>
              <a:rPr b="1" lang="ru-RU" sz="3600" spc="-1" strike="noStrike">
                <a:solidFill>
                  <a:srgbClr val="ff0000"/>
                </a:solidFill>
                <a:latin typeface="Calibri Light"/>
              </a:rPr>
              <a:t>Статья 283. Основания применения мер принуждения за нарушение бюджетного законодательства Российской Федерации </a:t>
            </a:r>
            <a:r>
              <a:rPr b="1" lang="ru-RU" sz="3600" spc="-1" strike="noStrike">
                <a:solidFill>
                  <a:srgbClr val="000000"/>
                </a:solidFill>
                <a:latin typeface="Calibri Light"/>
              </a:rPr>
              <a:t>(1998 г)</a:t>
            </a:r>
            <a:br>
              <a:rPr sz="3600"/>
            </a:br>
            <a:br>
              <a:rPr sz="4400"/>
            </a:b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942480"/>
            <a:ext cx="12191760" cy="59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9000"/>
          </a:bodyPr>
          <a:p>
            <a:pPr marL="264960" indent="-26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200" spc="-1" strike="noStrike">
                <a:solidFill>
                  <a:srgbClr val="000000"/>
                </a:solidFill>
                <a:latin typeface="Calibri"/>
              </a:rPr>
              <a:t>нецелевое использование бюджетных средств;</a:t>
            </a:r>
            <a:endParaRPr b="0" lang="ru-RU" sz="5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200" spc="-1" strike="noStrike">
                <a:solidFill>
                  <a:srgbClr val="000000"/>
                </a:solidFill>
                <a:latin typeface="Calibri"/>
              </a:rPr>
              <a:t>неперечисление бюджетных средств получателям бюджетных средств;</a:t>
            </a:r>
            <a:endParaRPr b="0" lang="ru-RU" sz="5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200" spc="-1" strike="noStrike">
                <a:solidFill>
                  <a:srgbClr val="000000"/>
                </a:solidFill>
                <a:latin typeface="Calibri"/>
              </a:rPr>
              <a:t>неполное перечисление бюджетных средств получателям бюджетных средств;</a:t>
            </a:r>
            <a:endParaRPr b="0" lang="ru-RU" sz="5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200" spc="-1" strike="noStrike">
                <a:solidFill>
                  <a:srgbClr val="000000"/>
                </a:solidFill>
                <a:latin typeface="Calibri"/>
              </a:rPr>
              <a:t>несвоевременное перечисление бюджетных средств получателям бюджетных средств;</a:t>
            </a:r>
            <a:endParaRPr b="0" lang="ru-RU" sz="5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200" spc="-1" strike="noStrike">
                <a:solidFill>
                  <a:srgbClr val="000000"/>
                </a:solidFill>
                <a:latin typeface="Calibri"/>
              </a:rPr>
              <a:t>несвоевременное зачисление бюджетных средств на счета получателей бюджетных средств;</a:t>
            </a:r>
            <a:endParaRPr b="0" lang="ru-RU" sz="5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200" spc="-1" strike="noStrike">
                <a:solidFill>
                  <a:srgbClr val="000000"/>
                </a:solidFill>
                <a:latin typeface="Calibri"/>
              </a:rPr>
              <a:t>несвоевременное представление отчетов и других сведений, связанных с исполнением бюджета;</a:t>
            </a:r>
            <a:endParaRPr b="0" lang="ru-RU" sz="5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200" spc="-1" strike="noStrike">
                <a:solidFill>
                  <a:srgbClr val="000000"/>
                </a:solidFill>
                <a:latin typeface="Calibri"/>
              </a:rPr>
              <a:t>несвоевременное доведение до получателей бюджетных средств уведомлений о бюджетных ассигнованиях;</a:t>
            </a:r>
            <a:endParaRPr b="0" lang="ru-RU" sz="5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200" spc="-1" strike="noStrike">
                <a:solidFill>
                  <a:srgbClr val="000000"/>
                </a:solidFill>
                <a:latin typeface="Calibri"/>
              </a:rPr>
              <a:t>несвоевременное доведение до получателей бюджетных средств уведомлений о лимитах бюджетных обязательств;</a:t>
            </a:r>
            <a:endParaRPr b="0" lang="ru-RU" sz="5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200" spc="-1" strike="noStrike">
                <a:solidFill>
                  <a:srgbClr val="000000"/>
                </a:solidFill>
                <a:latin typeface="Calibri"/>
              </a:rPr>
              <a:t>несоответствие бюджетной росписи закону (решению) о бюджете;</a:t>
            </a:r>
            <a:endParaRPr b="0" lang="ru-RU" sz="5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200" spc="-1" strike="noStrike">
                <a:solidFill>
                  <a:srgbClr val="000000"/>
                </a:solidFill>
                <a:latin typeface="Calibri"/>
              </a:rPr>
              <a:t>несоответствие уведомлений о бюджетных ассигнованиях, уведомлений о лимитах бюджетных обязательств утвержденным расходам и бюджетной росписи;</a:t>
            </a:r>
            <a:endParaRPr b="0" lang="ru-RU" sz="5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200" spc="-1" strike="noStrike">
                <a:solidFill>
                  <a:srgbClr val="000000"/>
                </a:solidFill>
                <a:latin typeface="Calibri"/>
              </a:rPr>
              <a:t>несоблюдение обязательности зачисления доходов бюджетов в бюджетную систему Российской Федерации;</a:t>
            </a:r>
            <a:endParaRPr b="0" lang="ru-RU" sz="5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200" spc="-1" strike="noStrike">
                <a:solidFill>
                  <a:srgbClr val="000000"/>
                </a:solidFill>
                <a:latin typeface="Calibri"/>
              </a:rPr>
              <a:t>несвоевременное исполнение платежных документов;</a:t>
            </a:r>
            <a:endParaRPr b="0" lang="ru-RU" sz="5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200" spc="-1" strike="noStrike">
                <a:solidFill>
                  <a:srgbClr val="000000"/>
                </a:solidFill>
                <a:latin typeface="Calibri"/>
              </a:rPr>
              <a:t>несвоевременное представление проектов бюджетов и отчетов об исполнении бюджетов;</a:t>
            </a:r>
            <a:endParaRPr b="0" lang="ru-RU" sz="5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200" spc="-1" strike="noStrike">
                <a:solidFill>
                  <a:srgbClr val="000000"/>
                </a:solidFill>
                <a:latin typeface="Calibri"/>
              </a:rPr>
              <a:t>отказ подтвердить принятые бюджетные обязательства, кроме оснований, установленных настоящим Кодексом;</a:t>
            </a:r>
            <a:endParaRPr b="0" lang="ru-RU" sz="5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200" spc="-1" strike="noStrike">
                <a:solidFill>
                  <a:srgbClr val="000000"/>
                </a:solidFill>
                <a:latin typeface="Calibri"/>
              </a:rPr>
              <a:t>несвоевременное подтверждение бюджетных обязательств, несвоевременное осуществление платежей по подтвержденным бюджетным обязательствам;</a:t>
            </a:r>
            <a:endParaRPr b="0" lang="ru-RU" sz="5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200" spc="-1" strike="noStrike">
                <a:solidFill>
                  <a:srgbClr val="000000"/>
                </a:solidFill>
                <a:latin typeface="Calibri"/>
              </a:rPr>
              <a:t>финансирование расходов, не включенных в бюджетную роспись;</a:t>
            </a:r>
            <a:endParaRPr b="0" lang="ru-RU" sz="5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200" spc="-1" strike="noStrike">
                <a:solidFill>
                  <a:srgbClr val="000000"/>
                </a:solidFill>
                <a:latin typeface="Calibri"/>
              </a:rPr>
              <a:t>финансирование расходов в размерах, превышающих размеры, включенные в бюджетную роспись, и утвержденные лимиты бюджетных обязательств;</a:t>
            </a:r>
            <a:endParaRPr b="0" lang="ru-RU" sz="5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200" spc="-1" strike="noStrike">
                <a:solidFill>
                  <a:srgbClr val="000000"/>
                </a:solidFill>
                <a:latin typeface="Calibri"/>
              </a:rPr>
              <a:t>несоблюдение нормативов финансовых затрат на оказание государственных или муниципальных услуг;</a:t>
            </a:r>
            <a:endParaRPr b="0" lang="ru-RU" sz="5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200" spc="-1" strike="noStrike">
                <a:solidFill>
                  <a:srgbClr val="000000"/>
                </a:solidFill>
                <a:latin typeface="Calibri"/>
              </a:rPr>
              <a:t>несоблюдение предельных размеров дефицитов бюджетов, </a:t>
            </a:r>
            <a:endParaRPr b="0" lang="ru-RU" sz="5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200" spc="-1" strike="noStrike">
                <a:solidFill>
                  <a:srgbClr val="000000"/>
                </a:solidFill>
                <a:latin typeface="Calibri"/>
              </a:rPr>
              <a:t>открытие счетов бюджета в кредитных организациях при наличии на соответствующей территории отделений Банка России;</a:t>
            </a:r>
            <a:endParaRPr b="0" lang="ru-RU" sz="5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5200" spc="-1" strike="noStrike">
                <a:solidFill>
                  <a:srgbClr val="000000"/>
                </a:solidFill>
                <a:latin typeface="Calibri"/>
              </a:rPr>
              <a:t>иные основания в соответствии с настоящим Кодексом и федеральными законами.</a:t>
            </a:r>
            <a:endParaRPr b="0" lang="ru-RU" sz="5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19176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7030a0"/>
                </a:solidFill>
                <a:latin typeface="Calibri Light"/>
              </a:rPr>
              <a:t>Понятие бюджетного нарушения (ст.306.1 БК РФ)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895680"/>
            <a:ext cx="12191760" cy="59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</a:pP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юджетным нарушением признается совершенное в нарушение бюджетного законодательства РФ, иных нормативных правовых актов, регулирующих бюджетные правоотношения, и договоров (соглашений), на основании которых предоставляются средства из бюджета бюджетной системы РФ, действие (бездействие) финансового органа и иных участников бюджетных отношений за совершение которого предусмотрено применение бюджетных мер принуждения.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240" cy="63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7030a0"/>
                </a:solidFill>
                <a:latin typeface="Calibri Light"/>
              </a:rPr>
              <a:t>Признаки бюджетного наруше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632520"/>
            <a:ext cx="12191760" cy="622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Облако 4"/>
          <p:cNvSpPr/>
          <p:nvPr/>
        </p:nvSpPr>
        <p:spPr>
          <a:xfrm>
            <a:off x="5219280" y="457200"/>
            <a:ext cx="7596360" cy="3523680"/>
          </a:xfrm>
          <a:prstGeom prst="cloud">
            <a:avLst/>
          </a:prstGeom>
          <a:solidFill>
            <a:srgbClr val="00b050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chemeClr val="lt1"/>
                </a:solidFill>
                <a:latin typeface="Calibri"/>
              </a:rPr>
              <a:t>За нарушения бюджетного законодательства может наступать бюджетная</a:t>
            </a:r>
            <a:r>
              <a:rPr b="0" lang="en-US" sz="3200" spc="-1" strike="noStrike">
                <a:solidFill>
                  <a:schemeClr val="lt1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chemeClr val="lt1"/>
                </a:solidFill>
                <a:latin typeface="Calibri"/>
              </a:rPr>
              <a:t>или административная  ответств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блако 5"/>
          <p:cNvSpPr/>
          <p:nvPr/>
        </p:nvSpPr>
        <p:spPr>
          <a:xfrm>
            <a:off x="-505800" y="435960"/>
            <a:ext cx="6469560" cy="3523680"/>
          </a:xfrm>
          <a:prstGeom prst="cloud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chemeClr val="lt1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chemeClr val="lt1"/>
                </a:solidFill>
                <a:latin typeface="Calibri"/>
              </a:rPr>
              <a:t>Наличие противоправного деяния, которое нарушает правила, установленные БК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блако 6"/>
          <p:cNvSpPr/>
          <p:nvPr/>
        </p:nvSpPr>
        <p:spPr>
          <a:xfrm>
            <a:off x="0" y="3588480"/>
            <a:ext cx="6248160" cy="3444480"/>
          </a:xfrm>
          <a:prstGeom prst="cloud">
            <a:avLst/>
          </a:prstGeom>
          <a:solidFill>
            <a:srgbClr val="ffc000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rgbClr val="7030a0"/>
                </a:solidFill>
                <a:latin typeface="Calibri"/>
              </a:rPr>
              <a:t>Лицо должно быть участником бюджетного процес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блако 7"/>
          <p:cNvSpPr/>
          <p:nvPr/>
        </p:nvSpPr>
        <p:spPr>
          <a:xfrm>
            <a:off x="5361840" y="3588480"/>
            <a:ext cx="6916680" cy="3523680"/>
          </a:xfrm>
          <a:prstGeom prst="cloud">
            <a:avLst/>
          </a:prstGeom>
          <a:solidFill>
            <a:schemeClr val="bg1">
              <a:lumMod val="50000"/>
            </a:schemeClr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chemeClr val="lt1"/>
                </a:solidFill>
                <a:latin typeface="Calibri"/>
              </a:rPr>
              <a:t>Предусмотрено применение бюджетных мер принуж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240" cy="64080"/>
          </a:xfrm>
          <a:prstGeom prst="rect">
            <a:avLst/>
          </a:prstGeom>
          <a:noFill/>
          <a:ln w="0">
            <a:noFill/>
          </a:ln>
        </p:spPr>
        <p:txBody>
          <a:bodyPr tIns="32040" bIns="32040" anchor="ctr">
            <a:norm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2" name="Picture 2" descr="exclamation GIF."/>
          <p:cNvPicPr/>
          <p:nvPr/>
        </p:nvPicPr>
        <p:blipFill>
          <a:blip r:embed="rId1"/>
          <a:stretch/>
        </p:blipFill>
        <p:spPr>
          <a:xfrm>
            <a:off x="2493720" y="64440"/>
            <a:ext cx="6525000" cy="679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12191760" cy="223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9000"/>
          </a:bodyPr>
          <a:p>
            <a:pPr indent="0" algn="ctr">
              <a:lnSpc>
                <a:spcPct val="90000"/>
              </a:lnSpc>
              <a:buNone/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Постановление Пленума Верховного Суда РФ от 29.11.2007 N 48 (ред. от 09.02.2012) "О практике рассмотрения судами дел об оспаривании нормативных правовых актов полностью или в части"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3172680"/>
            <a:ext cx="10515240" cy="30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нормативными правовыми актами субъектов Российской Федерации не могут устанавливаться санкции (меры ответственности) за нарушения бюджетного законодательств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3" descr=""/>
          <p:cNvPicPr/>
          <p:nvPr/>
        </p:nvPicPr>
        <p:blipFill>
          <a:blip r:embed="rId1"/>
          <a:stretch/>
        </p:blipFill>
        <p:spPr>
          <a:xfrm>
            <a:off x="7869240" y="533520"/>
            <a:ext cx="4266720" cy="5956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842240" y="533520"/>
            <a:ext cx="4349880" cy="595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00" y="166320"/>
            <a:ext cx="7543440" cy="66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ействие (бездействие), нарушающее бюджетное законодательство РФ, иные нормативные правовые акты, регулирующие бюджетные правоотношения, совершенное лицом, </a:t>
            </a: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не являющимся участником бюджетного процесс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, не влечет ответственность в соответствии с бюджетным законодательством РФ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</TotalTime>
  <Application>LibreOffice/7.4.7.2$Linux_X86_64 LibreOffice_project/40$Build-2</Application>
  <AppVersion>15.0000</AppVersion>
  <Words>999</Words>
  <Paragraphs>85</Paragraphs>
  <Company>diakov.ne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8T06:17:18Z</dcterms:created>
  <dc:creator>malcz</dc:creator>
  <dc:description/>
  <dc:language>en-US</dc:language>
  <cp:lastModifiedBy>User</cp:lastModifiedBy>
  <dcterms:modified xsi:type="dcterms:W3CDTF">2021-07-07T07:57:52Z</dcterms:modified>
  <cp:revision>74</cp:revision>
  <dc:subject/>
  <dc:title>ОБЩИЕ ПОЛОЖЕНИЯ О БЮДЖЕТНЫХ НАРУШЕНИЯХ И ПРИМЕНЕНИИ БЮДЖЕТНЫХ МЕР ПРИНУЖД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Произвольный</vt:lpwstr>
  </property>
  <property fmtid="{D5CDD505-2E9C-101B-9397-08002B2CF9AE}" pid="3" name="Slides">
    <vt:r8>26</vt:r8>
  </property>
</Properties>
</file>