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6C9-753C-47C2-BD93-40F03C07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7E5D-5465-4920-81B1-7C62AF07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3EB-F858-4BAF-A53B-7B1D760D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3CE-845C-4274-A828-F0E90DB0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9D8-9935-4BE5-BF07-7CE7D272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02A-AF5B-412D-9923-86962818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4F2D-DDAF-472E-98E7-DB13D413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281-1CB9-4485-9453-318C4178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A59-0337-4F81-A9E3-C1B246B2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4A7F-0486-4924-B43C-681CED11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A33-94F9-49C3-B153-B235F5DB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E90-F55C-442F-81A8-D3D75F37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75033E-6721-4681-AEB6-114338C2DC2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image" Target="../media/image3.jpeg"/><Relationship Id="rId5" Type="http://schemas.openxmlformats.org/officeDocument/2006/relationships/slide" Target="slide9.xml"/><Relationship Id="rId6" Type="http://schemas.openxmlformats.org/officeDocument/2006/relationships/image" Target="../media/image3.jpeg"/><Relationship Id="rId7" Type="http://schemas.openxmlformats.org/officeDocument/2006/relationships/slide" Target="slide6.xml"/><Relationship Id="rId8" Type="http://schemas.openxmlformats.org/officeDocument/2006/relationships/image" Target="../media/image3.jpeg"/><Relationship Id="rId9" Type="http://schemas.openxmlformats.org/officeDocument/2006/relationships/slide" Target="slide7.xml"/><Relationship Id="rId10" Type="http://schemas.openxmlformats.org/officeDocument/2006/relationships/image" Target="../media/image3.jpeg"/><Relationship Id="rId11" Type="http://schemas.openxmlformats.org/officeDocument/2006/relationships/slide" Target="slide8.xml"/><Relationship Id="rId12" Type="http://schemas.openxmlformats.org/officeDocument/2006/relationships/image" Target="../media/image3.jpeg"/><Relationship Id="rId13" Type="http://schemas.openxmlformats.org/officeDocument/2006/relationships/slide" Target="slide4.xml"/><Relationship Id="rId14" Type="http://schemas.openxmlformats.org/officeDocument/2006/relationships/image" Target="../media/image3.jpeg"/><Relationship Id="rId15" Type="http://schemas.openxmlformats.org/officeDocument/2006/relationships/slide" Target="slide5.xml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-99360"/>
            <a:ext cx="9143640" cy="6957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271440" y="5949360"/>
            <a:ext cx="428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are they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4">
            <a:hlinkClick r:id="rId2" action="ppaction://hlinksldjump"/>
          </p:cNvPr>
          <p:cNvSpPr/>
          <p:nvPr/>
        </p:nvSpPr>
        <p:spPr>
          <a:xfrm>
            <a:off x="6300360" y="2205000"/>
            <a:ext cx="287640" cy="431640"/>
          </a:xfrm>
          <a:prstGeom prst="ellips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3650400" y="260640"/>
            <a:ext cx="2683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s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3651480" y="1196640"/>
            <a:ext cx="3076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She is Shaki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3726720" y="1988280"/>
            <a:ext cx="3541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she Brazili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she isn’t. She is Colomb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3697560" y="3573000"/>
            <a:ext cx="4222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s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3636000" y="4509000"/>
            <a:ext cx="5256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She’s from Barranquilla, Colom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646560" y="3556080"/>
            <a:ext cx="1453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ki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azili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55800" y="-28440"/>
            <a:ext cx="3363480" cy="3541320"/>
          </a:xfrm>
          <a:prstGeom prst="rect">
            <a:avLst/>
          </a:prstGeom>
          <a:ln w="0">
            <a:noFill/>
          </a:ln>
        </p:spPr>
      </p:pic>
      <p:sp>
        <p:nvSpPr>
          <p:cNvPr id="123" name="Стрелка вправо 10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5">
            <a:hlinkClick r:id="rId1" action="ppaction://hlinksldjump"/>
          </p:cNvPr>
          <p:cNvSpPr/>
          <p:nvPr/>
        </p:nvSpPr>
        <p:spPr>
          <a:xfrm>
            <a:off x="323640" y="73296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>
            <a:hlinkClick r:id="rId3" action="ppaction://hlinksldjump"/>
          </p:cNvPr>
          <p:cNvSpPr/>
          <p:nvPr/>
        </p:nvSpPr>
        <p:spPr>
          <a:xfrm>
            <a:off x="5702400" y="464040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8">
            <a:hlinkClick r:id="rId5" action="ppaction://hlinksldjump"/>
          </p:cNvPr>
          <p:cNvSpPr/>
          <p:nvPr/>
        </p:nvSpPr>
        <p:spPr>
          <a:xfrm>
            <a:off x="2339640" y="465300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9">
            <a:hlinkClick r:id="rId7" action="ppaction://hlinksldjump"/>
          </p:cNvPr>
          <p:cNvSpPr/>
          <p:nvPr/>
        </p:nvSpPr>
        <p:spPr>
          <a:xfrm>
            <a:off x="1115640" y="266220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10">
            <a:hlinkClick r:id="rId9" action="ppaction://hlinksldjump"/>
          </p:cNvPr>
          <p:cNvSpPr/>
          <p:nvPr/>
        </p:nvSpPr>
        <p:spPr>
          <a:xfrm>
            <a:off x="3996000" y="266220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10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1">
            <a:hlinkClick r:id="rId11" action="ppaction://hlinksldjump"/>
          </p:cNvPr>
          <p:cNvSpPr/>
          <p:nvPr/>
        </p:nvSpPr>
        <p:spPr>
          <a:xfrm>
            <a:off x="6804360" y="268884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12">
            <a:hlinkClick r:id="rId13" action="ppaction://hlinksldjump"/>
          </p:cNvPr>
          <p:cNvSpPr/>
          <p:nvPr/>
        </p:nvSpPr>
        <p:spPr>
          <a:xfrm>
            <a:off x="3636000" y="79596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13">
            <a:hlinkClick r:id="rId15" action="ppaction://hlinksldjump"/>
          </p:cNvPr>
          <p:cNvSpPr/>
          <p:nvPr/>
        </p:nvSpPr>
        <p:spPr>
          <a:xfrm>
            <a:off x="6388200" y="793080"/>
            <a:ext cx="2016000" cy="1439640"/>
          </a:xfrm>
          <a:prstGeom prst="roundRect">
            <a:avLst>
              <a:gd name="adj" fmla="val 16667"/>
            </a:avLst>
          </a:prstGeom>
          <a:blipFill rotWithShape="0">
            <a:blip r:embed="rId16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  <a:effectLst>
            <a:softEdge rad="31680"/>
          </a:effectLst>
          <a:scene3d>
            <a:camera prst="orthographicFront"/>
            <a:lightRig dir="t" rig="threePt"/>
          </a:scene3d>
          <a:sp3d>
            <a:bevelT prst="cross" w="12700" h="88900"/>
            <a:bevelB w="19050" h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delay="0"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delay="0"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delay="0" evt="onClick">
                    <p:tgtEl>
                      <p:spTgt spid="46"/>
                    </p:tgtEl>
                  </p:cond>
                </p:stCondLst>
                <p:childTnLst>
                  <p:par>
                    <p:cTn id="13" fill="hold">
                      <p:stCondLst>
                        <p:cond delay="0"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delay="0" evt="onClick">
                    <p:tgtEl>
                      <p:spTgt spid="47"/>
                    </p:tgtEl>
                  </p:cond>
                </p:stCondLst>
                <p:childTnLst>
                  <p:par>
                    <p:cTn id="18" fill="hold">
                      <p:stCondLst>
                        <p:cond delay="0"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delay="0"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delay="0"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delay="0" evt="onClick">
                    <p:tgtEl>
                      <p:spTgt spid="49"/>
                    </p:tgtEl>
                  </p:cond>
                </p:stCondLst>
                <p:childTnLst>
                  <p:par>
                    <p:cTn id="28" fill="hold">
                      <p:stCondLst>
                        <p:cond delay="0"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delay="0"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delay="0"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delay="0" evt="onClick">
                    <p:tgtEl>
                      <p:spTgt spid="51"/>
                    </p:tgtEl>
                  </p:cond>
                </p:stCondLst>
                <p:childTnLst>
                  <p:par>
                    <p:cTn id="38" fill="hold">
                      <p:stCondLst>
                        <p:cond delay="0"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67640" y="332640"/>
            <a:ext cx="2808000" cy="2333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3661200" y="260640"/>
            <a:ext cx="248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675240" y="1196640"/>
            <a:ext cx="4660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He is Martin Scors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722760" y="1988280"/>
            <a:ext cx="2857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he Itali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3717720" y="2853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he isn’t. He’s Ameri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3696480" y="3573000"/>
            <a:ext cx="402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3636000" y="4509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He’s from New York, the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476640" y="3145320"/>
            <a:ext cx="1758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tin Scorses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ali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право 11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3650400" y="260640"/>
            <a:ext cx="2683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s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657600" y="1196640"/>
            <a:ext cx="4524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She is Nicole Kid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727440" y="1988280"/>
            <a:ext cx="3707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she Americ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she isn’t. She is Austral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697560" y="3573000"/>
            <a:ext cx="4222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s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3636000" y="4509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She’s from Sydney,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50640" y="4509000"/>
            <a:ext cx="1573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icole Kidm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97360" y="613800"/>
            <a:ext cx="2499840" cy="3190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14720" y="6165360"/>
            <a:ext cx="118224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3648960" y="260640"/>
            <a:ext cx="248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657240" y="1196640"/>
            <a:ext cx="4302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He’s Pierce Brosn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3723480" y="1988280"/>
            <a:ext cx="2997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he English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he isn’t. He  is Ir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696480" y="3573000"/>
            <a:ext cx="402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3636000" y="4509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He’s from Navan,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348840" y="4509000"/>
            <a:ext cx="162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erce Brosn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glis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79640" y="225360"/>
            <a:ext cx="2801160" cy="3644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09760" y="6093360"/>
            <a:ext cx="118224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3648960" y="260640"/>
            <a:ext cx="248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3659400" y="1196640"/>
            <a:ext cx="4065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He’s Ricky Martin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3725640" y="1988280"/>
            <a:ext cx="3277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he Mexic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he isn’t. He  is Puerto Ri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3696480" y="3573000"/>
            <a:ext cx="402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2915640" y="4509000"/>
            <a:ext cx="597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He’s from San Juan, Puerto 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619560" y="3160440"/>
            <a:ext cx="1453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cky Mart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xic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40200" y="476640"/>
            <a:ext cx="2732040" cy="2394000"/>
          </a:xfrm>
          <a:prstGeom prst="rect">
            <a:avLst/>
          </a:prstGeom>
          <a:ln w="0">
            <a:noFill/>
          </a:ln>
        </p:spPr>
      </p:pic>
      <p:sp>
        <p:nvSpPr>
          <p:cNvPr id="87" name="Стрелка вправо 10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3650400" y="260640"/>
            <a:ext cx="2683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s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654360" y="1196640"/>
            <a:ext cx="3866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She is Celine D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727440" y="1988280"/>
            <a:ext cx="3707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she Americ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she isn’t. She is Canad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3697560" y="3573000"/>
            <a:ext cx="4222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s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3636000" y="4509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She’s from Quebec,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646560" y="3556080"/>
            <a:ext cx="1453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ine D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06800" y="404640"/>
            <a:ext cx="2643120" cy="2448000"/>
          </a:xfrm>
          <a:prstGeom prst="rect">
            <a:avLst/>
          </a:prstGeom>
          <a:ln w="0">
            <a:noFill/>
          </a:ln>
        </p:spPr>
      </p:pic>
      <p:sp>
        <p:nvSpPr>
          <p:cNvPr id="96" name="Стрелка вправо 10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3650400" y="260640"/>
            <a:ext cx="2683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s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664800" y="1196640"/>
            <a:ext cx="525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She is Christina Aguli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3731760" y="1988280"/>
            <a:ext cx="4192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she Argentinia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she isn’t. She is Ameri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3697560" y="3573000"/>
            <a:ext cx="4222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s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636000" y="4509000"/>
            <a:ext cx="525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She’s from New York,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657000" y="3145320"/>
            <a:ext cx="187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ristina Aguile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gentini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28520" y="510120"/>
            <a:ext cx="2928240" cy="2171520"/>
          </a:xfrm>
          <a:prstGeom prst="rect">
            <a:avLst/>
          </a:prstGeom>
          <a:ln w="0">
            <a:noFill/>
          </a:ln>
        </p:spPr>
      </p:pic>
      <p:sp>
        <p:nvSpPr>
          <p:cNvPr id="105" name="Стрелка вправо 10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3648960" y="260640"/>
            <a:ext cx="248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o is 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3660120" y="1196640"/>
            <a:ext cx="46846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558ed5"/>
                </a:solidFill>
                <a:latin typeface="Calibri"/>
              </a:rPr>
              <a:t>He’s Ewan McGrego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3720600" y="1988280"/>
            <a:ext cx="2404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he Irish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3420000" y="2853000"/>
            <a:ext cx="554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No, he isn’t. He  is Scott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696480" y="3573000"/>
            <a:ext cx="402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Where is he fro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2915640" y="4509000"/>
            <a:ext cx="597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558ed5"/>
                </a:solidFill>
                <a:latin typeface="Calibri"/>
              </a:rPr>
              <a:t>He’s from Crieff, Sco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621000" y="3819240"/>
            <a:ext cx="1702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wan McGreg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ris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/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8400" y="191160"/>
            <a:ext cx="2756880" cy="3210840"/>
          </a:xfrm>
          <a:prstGeom prst="rect">
            <a:avLst/>
          </a:prstGeom>
          <a:ln w="0">
            <a:noFill/>
          </a:ln>
        </p:spPr>
      </p:pic>
      <p:sp>
        <p:nvSpPr>
          <p:cNvPr id="114" name="Стрелка вправо 11">
            <a:hlinkClick r:id="rId2" action="ppaction://hlinksldjump"/>
          </p:cNvPr>
          <p:cNvSpPr/>
          <p:nvPr/>
        </p:nvSpPr>
        <p:spPr>
          <a:xfrm>
            <a:off x="7452360" y="6093360"/>
            <a:ext cx="1151640" cy="503640"/>
          </a:xfrm>
          <a:prstGeom prst="right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  <Words>320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3T05:47:23Z</dcterms:created>
  <dc:creator>Марина</dc:creator>
  <dc:description/>
  <dc:language>en-US</dc:language>
  <cp:lastModifiedBy>Марина</cp:lastModifiedBy>
  <dcterms:modified xsi:type="dcterms:W3CDTF">2020-07-03T10:15:00Z</dcterms:modified>
  <cp:revision>9</cp:revision>
  <dc:subject/>
  <dc:title>Where are they from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