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B9D-32C8-4C31-88D2-990327F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3D0-ACD3-4FC6-AC1C-6256CD74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AB0-FA39-427A-8C60-B75AFFC3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460-0796-49AC-86D9-E54E04E0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D0A-ED6E-4A00-9195-93C13CD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4CB-D7C7-4711-95FB-F099814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16A-C495-476F-ADDF-3268660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119-D1B4-45DA-BF7F-4D6804C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DA8-EDDD-4851-B8C8-ACA12CEA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7C4-26A4-4541-BC8D-C461469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BAA-6A37-45F6-A462-D27D43F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5F6-2EF2-47C4-982B-D6CF456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129D89-CD09-4E05-B7D8-DC6826AC88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.jpeg"/><Relationship Id="rId5" Type="http://schemas.openxmlformats.org/officeDocument/2006/relationships/slide" Target="slide9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slide" Target="slide4.xml"/><Relationship Id="rId14" Type="http://schemas.openxmlformats.org/officeDocument/2006/relationships/image" Target="../media/image3.jpeg"/><Relationship Id="rId15" Type="http://schemas.openxmlformats.org/officeDocument/2006/relationships/slide" Target="slide5.xm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1440" y="5949360"/>
            <a:ext cx="42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are they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>
            <a:hlinkClick r:id="rId2" action="ppaction://hlinksldjump"/>
          </p:cNvPr>
          <p:cNvSpPr/>
          <p:nvPr/>
        </p:nvSpPr>
        <p:spPr>
          <a:xfrm>
            <a:off x="6300360" y="2205000"/>
            <a:ext cx="287640" cy="4316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651480" y="1196640"/>
            <a:ext cx="307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Shak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726720" y="1988280"/>
            <a:ext cx="3541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Brazi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olomb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636000" y="4509000"/>
            <a:ext cx="525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Barranquilla, 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i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zi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5800" y="-28440"/>
            <a:ext cx="3363480" cy="354132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>
            <a:hlinkClick r:id="rId1" action="ppaction://hlinksldjump"/>
          </p:cNvPr>
          <p:cNvSpPr/>
          <p:nvPr/>
        </p:nvSpPr>
        <p:spPr>
          <a:xfrm>
            <a:off x="323640" y="732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>
            <a:hlinkClick r:id="rId3" action="ppaction://hlinksldjump"/>
          </p:cNvPr>
          <p:cNvSpPr/>
          <p:nvPr/>
        </p:nvSpPr>
        <p:spPr>
          <a:xfrm>
            <a:off x="5702400" y="46404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8">
            <a:hlinkClick r:id="rId5" action="ppaction://hlinksldjump"/>
          </p:cNvPr>
          <p:cNvSpPr/>
          <p:nvPr/>
        </p:nvSpPr>
        <p:spPr>
          <a:xfrm>
            <a:off x="2339640" y="46530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7" action="ppaction://hlinksldjump"/>
          </p:cNvPr>
          <p:cNvSpPr/>
          <p:nvPr/>
        </p:nvSpPr>
        <p:spPr>
          <a:xfrm>
            <a:off x="111564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0">
            <a:hlinkClick r:id="rId9" action="ppaction://hlinksldjump"/>
          </p:cNvPr>
          <p:cNvSpPr/>
          <p:nvPr/>
        </p:nvSpPr>
        <p:spPr>
          <a:xfrm>
            <a:off x="399600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1">
            <a:hlinkClick r:id="rId11" action="ppaction://hlinksldjump"/>
          </p:cNvPr>
          <p:cNvSpPr/>
          <p:nvPr/>
        </p:nvSpPr>
        <p:spPr>
          <a:xfrm>
            <a:off x="6804360" y="268884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2">
            <a:hlinkClick r:id="rId13" action="ppaction://hlinksldjump"/>
          </p:cNvPr>
          <p:cNvSpPr/>
          <p:nvPr/>
        </p:nvSpPr>
        <p:spPr>
          <a:xfrm>
            <a:off x="3636000" y="795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3">
            <a:hlinkClick r:id="rId15" action="ppaction://hlinksldjump"/>
          </p:cNvPr>
          <p:cNvSpPr/>
          <p:nvPr/>
        </p:nvSpPr>
        <p:spPr>
          <a:xfrm>
            <a:off x="6388200" y="79308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delay="0"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2808000" cy="2333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66120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5240" y="1196640"/>
            <a:ext cx="4660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 is Martin Scors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722760" y="1988280"/>
            <a:ext cx="2857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ta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717720" y="2853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’s A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ew York,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76640" y="3145320"/>
            <a:ext cx="1758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tin Scorse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a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657600" y="1196640"/>
            <a:ext cx="4524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Nicole Ki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ustral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Sydney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50640" y="4509000"/>
            <a:ext cx="157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ole Kid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97360" y="613800"/>
            <a:ext cx="2499840" cy="319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14720" y="6165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657240" y="1196640"/>
            <a:ext cx="4302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723480" y="1988280"/>
            <a:ext cx="2997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Engl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Ir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avan,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48840" y="4509000"/>
            <a:ext cx="162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erce Brosn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9640" y="225360"/>
            <a:ext cx="2801160" cy="36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9760" y="6093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659400" y="1196640"/>
            <a:ext cx="406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Ricky Martin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725640" y="1988280"/>
            <a:ext cx="327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Mex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Puerto 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San Juan, Puerto 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19560" y="316044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cky Mart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0200" y="476640"/>
            <a:ext cx="2732040" cy="2394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654360" y="1196640"/>
            <a:ext cx="3866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eline D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ana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Quebec,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ine D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06800" y="404640"/>
            <a:ext cx="264312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664800" y="1196640"/>
            <a:ext cx="525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hristina Aguli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731760" y="1988280"/>
            <a:ext cx="4192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rgentin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New York,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657000" y="3145320"/>
            <a:ext cx="187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na Aguil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gentin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520" y="510120"/>
            <a:ext cx="2928240" cy="217152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660120" y="1196640"/>
            <a:ext cx="4684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Ewan McGrego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720600" y="1988280"/>
            <a:ext cx="240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r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Scot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Crieff,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21000" y="3819240"/>
            <a:ext cx="1702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an McGreg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8400" y="191160"/>
            <a:ext cx="2756880" cy="3210840"/>
          </a:xfrm>
          <a:prstGeom prst="rect">
            <a:avLst/>
          </a:prstGeom>
          <a:ln w="0">
            <a:noFill/>
          </a:ln>
        </p:spPr>
      </p:pic>
      <p:sp>
        <p:nvSpPr>
          <p:cNvPr id="114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32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5:47:23Z</dcterms:created>
  <dc:creator>Марина</dc:creator>
  <dc:description/>
  <dc:language>en-US</dc:language>
  <cp:lastModifiedBy>Марина</cp:lastModifiedBy>
  <dcterms:modified xsi:type="dcterms:W3CDTF">2020-07-03T10:15:00Z</dcterms:modified>
  <cp:revision>9</cp:revision>
  <dc:subject/>
  <dc:title>Where are they from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