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57C-E3EE-4834-853E-315AA29F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F50-9EDA-4D8A-AD8D-FBF5C9C9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48B-9AA0-495D-A9FE-DBF9391C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B14-914F-4228-BF1E-4308A2FE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AE7-AD7B-48A6-B925-2DA828C0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23B-42EC-4F85-9D18-B75ABB54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77D-923A-4046-9156-D3E0EE24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DEB-769A-482E-8EE7-C2E7977B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156-0680-4E90-B99E-B3A9ED6D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E56-F8E8-4DFC-B2D2-4996F49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3D9-645C-4C44-AFE1-AFED2D0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406-1266-4AB2-AC5D-33C70940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0E10EC-F01A-42E2-8420-C33D64273FE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9.xml"/><Relationship Id="rId9" Type="http://schemas.openxmlformats.org/officeDocument/2006/relationships/slide" Target="slide1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9.xml"/><Relationship Id="rId26" Type="http://schemas.openxmlformats.org/officeDocument/2006/relationships/slide" Target="slide16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>
            <a:hlinkClick r:id="rId1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" name="Прямоугольник 4">
            <a:hlinkClick r:id="rId2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" name="Прямоугольник 5">
            <a:hlinkClick r:id="rId3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" name="Прямоугольник 6">
            <a:hlinkClick r:id="rId4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" name="Прямоугольник 7">
            <a:hlinkClick r:id="rId5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" name="Прямоугольник 8">
            <a:hlinkClick r:id="rId6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" name="Прямоугольник 9">
            <a:hlinkClick r:id="rId7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" name="Прямоугольник 10">
            <a:hlinkClick r:id="rId8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" name="Прямоугольник 11">
            <a:hlinkClick r:id="rId9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" name="Прямоугольник 12">
            <a:hlinkClick r:id="rId10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" name="Прямоугольник 13">
            <a:hlinkClick r:id="rId11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" name="Прямоугольник 14">
            <a:hlinkClick r:id="rId12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" name="Прямоугольник 15">
            <a:hlinkClick r:id="rId13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" name="Прямоугольник 16">
            <a:hlinkClick r:id="rId14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" name="Прямоугольник 17">
            <a:hlinkClick r:id="rId15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" name="Прямоугольник 18">
            <a:hlinkClick r:id="rId16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" name="Прямоугольник 19">
            <a:hlinkClick r:id="rId17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" name="Прямоугольник 20">
            <a:hlinkClick r:id="rId18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" name="Прямоугольник 21">
            <a:hlinkClick r:id="rId19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" name="Прямоугольник 22">
            <a:hlinkClick r:id="rId20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" name="Прямоугольник 23">
            <a:hlinkClick r:id="rId21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" name="Прямоугольник 24">
            <a:hlinkClick r:id="rId22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" name="Прямоугольник 25">
            <a:hlinkClick r:id="rId23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" name="Прямоугольник 26">
            <a:hlinkClick r:id="rId24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" name="Прямоугольник 27">
            <a:hlinkClick r:id="rId25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" name="Прямоугольник 28">
            <a:hlinkClick r:id="rId26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"/>
          <p:cNvPicPr/>
          <p:nvPr/>
        </p:nvPicPr>
        <p:blipFill>
          <a:blip r:embed="rId1"/>
          <a:stretch/>
        </p:blipFill>
        <p:spPr>
          <a:xfrm>
            <a:off x="1259640" y="1780560"/>
            <a:ext cx="1547640" cy="16851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84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5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6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7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8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9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0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1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2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3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4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5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6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7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8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9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0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1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2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3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4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5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6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7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8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9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1" descr=""/>
          <p:cNvPicPr/>
          <p:nvPr/>
        </p:nvPicPr>
        <p:blipFill>
          <a:blip r:embed="rId1"/>
          <a:stretch/>
        </p:blipFill>
        <p:spPr>
          <a:xfrm>
            <a:off x="2555640" y="1780560"/>
            <a:ext cx="1511640" cy="17766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11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2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3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4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5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6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7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8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9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0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1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2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3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4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5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6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7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8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9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0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1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2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3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4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5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6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"/>
          <p:cNvPicPr/>
          <p:nvPr/>
        </p:nvPicPr>
        <p:blipFill>
          <a:blip r:embed="rId1"/>
          <a:stretch/>
        </p:blipFill>
        <p:spPr>
          <a:xfrm>
            <a:off x="3780000" y="1762200"/>
            <a:ext cx="1439640" cy="18640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3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5148000" y="1700640"/>
            <a:ext cx="1520640" cy="15476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6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"/>
          <p:cNvPicPr/>
          <p:nvPr/>
        </p:nvPicPr>
        <p:blipFill>
          <a:blip r:embed="rId1"/>
          <a:stretch/>
        </p:blipFill>
        <p:spPr>
          <a:xfrm>
            <a:off x="6516360" y="1676520"/>
            <a:ext cx="1331640" cy="16293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9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" descr=""/>
          <p:cNvPicPr/>
          <p:nvPr/>
        </p:nvPicPr>
        <p:blipFill>
          <a:blip r:embed="rId1"/>
          <a:stretch/>
        </p:blipFill>
        <p:spPr>
          <a:xfrm>
            <a:off x="7668360" y="1753560"/>
            <a:ext cx="1403640" cy="15757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1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35640" y="3501000"/>
            <a:ext cx="1403640" cy="16549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4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Рисунок 1" descr=""/>
          <p:cNvPicPr/>
          <p:nvPr/>
        </p:nvPicPr>
        <p:blipFill>
          <a:blip r:embed="rId1"/>
          <a:stretch/>
        </p:blipFill>
        <p:spPr>
          <a:xfrm>
            <a:off x="1187640" y="3507120"/>
            <a:ext cx="1475640" cy="1665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7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" descr=""/>
          <p:cNvPicPr/>
          <p:nvPr/>
        </p:nvPicPr>
        <p:blipFill>
          <a:blip r:embed="rId1"/>
          <a:stretch/>
        </p:blipFill>
        <p:spPr>
          <a:xfrm>
            <a:off x="2483640" y="3507120"/>
            <a:ext cx="1351080" cy="1665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00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1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2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3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4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5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6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7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8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9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0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1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2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3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4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5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6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7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8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9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0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1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2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3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4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5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1" descr=""/>
          <p:cNvPicPr/>
          <p:nvPr/>
        </p:nvPicPr>
        <p:blipFill>
          <a:blip r:embed="rId1"/>
          <a:stretch/>
        </p:blipFill>
        <p:spPr>
          <a:xfrm>
            <a:off x="3858120" y="3648240"/>
            <a:ext cx="1439640" cy="14727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27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8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9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0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1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2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3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4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5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6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7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8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9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0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1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2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3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4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5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6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7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8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9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0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1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2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8640" y="0"/>
            <a:ext cx="1547640" cy="18867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Рисунок 1" descr=""/>
          <p:cNvPicPr/>
          <p:nvPr/>
        </p:nvPicPr>
        <p:blipFill>
          <a:blip r:embed="rId1"/>
          <a:stretch/>
        </p:blipFill>
        <p:spPr>
          <a:xfrm>
            <a:off x="5364000" y="3501000"/>
            <a:ext cx="1223640" cy="15721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54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5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6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7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8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9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0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1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2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3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4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5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6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7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8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9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0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1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2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3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4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5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6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7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8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9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Рисунок 1" descr=""/>
          <p:cNvPicPr/>
          <p:nvPr/>
        </p:nvPicPr>
        <p:blipFill>
          <a:blip r:embed="rId1"/>
          <a:stretch/>
        </p:blipFill>
        <p:spPr>
          <a:xfrm>
            <a:off x="6444360" y="3585240"/>
            <a:ext cx="1295640" cy="14868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81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2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3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4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5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6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7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8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9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0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1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2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3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4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5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6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7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8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9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0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1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2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3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4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5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6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Рисунок 1" descr=""/>
          <p:cNvPicPr/>
          <p:nvPr/>
        </p:nvPicPr>
        <p:blipFill>
          <a:blip r:embed="rId1"/>
          <a:stretch/>
        </p:blipFill>
        <p:spPr>
          <a:xfrm>
            <a:off x="7717320" y="3610080"/>
            <a:ext cx="1367640" cy="15170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0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Рисунок 1" descr=""/>
          <p:cNvPicPr/>
          <p:nvPr/>
        </p:nvPicPr>
        <p:blipFill>
          <a:blip r:embed="rId1"/>
          <a:stretch/>
        </p:blipFill>
        <p:spPr>
          <a:xfrm>
            <a:off x="1187640" y="5229360"/>
            <a:ext cx="1403640" cy="15822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3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Рисунок 1" descr=""/>
          <p:cNvPicPr/>
          <p:nvPr/>
        </p:nvPicPr>
        <p:blipFill>
          <a:blip r:embed="rId1"/>
          <a:stretch/>
        </p:blipFill>
        <p:spPr>
          <a:xfrm>
            <a:off x="2473200" y="5157360"/>
            <a:ext cx="1475640" cy="16074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6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Рисунок 1" descr=""/>
          <p:cNvPicPr/>
          <p:nvPr/>
        </p:nvPicPr>
        <p:blipFill>
          <a:blip r:embed="rId1"/>
          <a:stretch/>
        </p:blipFill>
        <p:spPr>
          <a:xfrm>
            <a:off x="3780000" y="5162400"/>
            <a:ext cx="1514160" cy="16196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8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Рисунок 1" descr=""/>
          <p:cNvPicPr/>
          <p:nvPr/>
        </p:nvPicPr>
        <p:blipFill>
          <a:blip r:embed="rId1"/>
          <a:stretch/>
        </p:blipFill>
        <p:spPr>
          <a:xfrm>
            <a:off x="5148000" y="5085360"/>
            <a:ext cx="1439640" cy="17064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71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Рисунок 1" descr=""/>
          <p:cNvPicPr/>
          <p:nvPr/>
        </p:nvPicPr>
        <p:blipFill>
          <a:blip r:embed="rId1"/>
          <a:stretch/>
        </p:blipFill>
        <p:spPr>
          <a:xfrm>
            <a:off x="6516360" y="5169960"/>
            <a:ext cx="1511640" cy="16117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74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1259640" y="34560"/>
            <a:ext cx="1547640" cy="1683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9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2699640" y="34560"/>
            <a:ext cx="1367640" cy="16628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2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3852000" y="-3240"/>
            <a:ext cx="1403640" cy="17168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4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5148000" y="26280"/>
            <a:ext cx="1511640" cy="15465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7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6444360" y="26280"/>
            <a:ext cx="1439640" cy="16185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0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7596360" y="15120"/>
            <a:ext cx="1475640" cy="17200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30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1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2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3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4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5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6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7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8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9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0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1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2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3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4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5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6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7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8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9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0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1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2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3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4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5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0" y="1703160"/>
            <a:ext cx="1475640" cy="17614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57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8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9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0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1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2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3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4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5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6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7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8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9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0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1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2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3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4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5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6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7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8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9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0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1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2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6:25:52Z</dcterms:created>
  <dc:creator>admin</dc:creator>
  <dc:description/>
  <dc:language>en-US</dc:language>
  <cp:lastModifiedBy>admin</cp:lastModifiedBy>
  <dcterms:modified xsi:type="dcterms:W3CDTF">2020-02-07T16:53:18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