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98C-2D44-4A05-A08F-EDA1C99B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2080-D190-4BF2-9320-8D4AA3BC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3CF-60E7-4F58-90FE-98D735FC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B11-5383-48EE-9605-80779CFD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798E-B5CB-4CFF-9662-7FFB5A6D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EE21-CAE8-471A-B70C-7CF0D5EE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C210-FC21-491C-BA6A-BB6B78EF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2689-93E7-430E-8C48-59A56ED1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EBF5-559E-48A7-8C5F-0F0B41D3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9A94-81BB-442B-BFD1-D4EC1B91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2364-AA0B-4C26-BA3D-59288BDD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3C9C-38C7-43CC-A35F-8121D08A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B09B-3C7A-4DEC-B5C4-0351564D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4A0D-CB38-46D4-86D0-9F2DA9AD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00CE-ABA5-40CE-AFBA-A48200D6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0A5F-A4A2-46A4-85F0-500AFB8F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9D7D-F7A4-47E5-A5AB-49E8DA39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268-4179-494E-BD41-06F312DB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1CF-9E62-4CB1-8789-E1C9BF8F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B97B-9A1D-4A19-98EA-0FD7DB31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3ED-FD2A-4157-8233-105085C4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2424-0F7A-4552-9F28-DD64401D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6C3-25A1-42DE-B9B1-A79E34C1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291C-D100-42B3-8932-C290EABC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40C469-0C49-49DD-897F-69D70923F46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C2AFCF-7A81-4260-8D8B-0B128417A13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339640" y="260640"/>
            <a:ext cx="7281360" cy="64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fashion(-ab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wi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advant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rare(-l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(un)hygienic conditions  </a:t>
            </a:r>
            <a:r>
              <a:rPr b="1" lang="en-US" sz="3200" spc="-1" strike="noStrike">
                <a:solidFill>
                  <a:srgbClr val="002060"/>
                </a:solidFill>
                <a:latin typeface="Arial Rounded MT Bold"/>
              </a:rPr>
              <a:t>[ˈʌnhaɪˈʤiːnɪk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attract(-iv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fl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p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s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masculinity </a:t>
            </a:r>
            <a:r>
              <a:rPr b="1" lang="en-US" sz="3200" spc="-1" strike="noStrike">
                <a:solidFill>
                  <a:srgbClr val="002060"/>
                </a:solidFill>
                <a:latin typeface="Arial Rounded MT Bold"/>
              </a:rPr>
              <a:t>[mæskjʊˈlɪnɪtɪ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641"/>
              </a:spcBef>
              <a:buClr>
                <a:srgbClr val="7030a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7030a0"/>
                </a:solidFill>
                <a:latin typeface="Arial Rounded MT Bold"/>
              </a:rPr>
              <a:t>suntan </a:t>
            </a:r>
            <a:r>
              <a:rPr b="1" lang="en-US" sz="3200" spc="-1" strike="noStrike">
                <a:solidFill>
                  <a:srgbClr val="002060"/>
                </a:solidFill>
                <a:latin typeface="Arial Rounded MT Bold"/>
              </a:rPr>
              <a:t>[ˈsʌntæ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95640" y="33264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4298040" y="4016160"/>
            <a:ext cx="1407960" cy="1407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563760" y="3933000"/>
            <a:ext cx="1523520" cy="26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116640"/>
            <a:ext cx="8290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The use of article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7640" y="620640"/>
            <a:ext cx="2690640" cy="612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) С исчисляемыми сущ-ми в ед. числе (в значении любой\ один из)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) С сущ-ми, обозначающими работу\ профессию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915640" y="620640"/>
            <a:ext cx="3411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сущ-ми единственными в своем роде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moon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гда мы упоминаем сущ-е во второй раз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сущ-ми в ед.ч., когда говорим об изобретениях\ идея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the suntan)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прилаг-ми в превосх. степени;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smallest)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порядковыми числит-ми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the first)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ками, декадами, историч. периодами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Renaissance)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539640" y="692640"/>
            <a:ext cx="2232000" cy="431640"/>
          </a:xfrm>
          <a:prstGeom prst="rect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Arial Rounded MT Bold"/>
              </a:rPr>
              <a:t>a/ 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3492000" y="692640"/>
            <a:ext cx="2160000" cy="431640"/>
          </a:xfrm>
          <a:prstGeom prst="rect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00000"/>
                </a:solidFill>
                <a:latin typeface="Arial Rounded MT Bold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6644880" y="739080"/>
            <a:ext cx="2098080" cy="431640"/>
          </a:xfrm>
          <a:prstGeom prst="rect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00000"/>
                </a:solidFill>
                <a:latin typeface="Arial Rounded MT Bold"/>
              </a:rPr>
              <a:t>z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6286680" y="1214280"/>
            <a:ext cx="2677680" cy="5526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неисчисляемыми сущ-ми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water, sno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сущ-ми во мн.ч.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cars/ wig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континентам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Asi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абстрактными сущ-м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importance/ seriousne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названиями стран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Russ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175</Words>
  <Paragraphs>31</Paragraphs>
  <Company>diakov.n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14T06:17:45Z</dcterms:created>
  <dc:creator>RePack by Diakov</dc:creator>
  <dc:description/>
  <dc:language>en-US</dc:language>
  <cp:lastModifiedBy>RePack by Diakov</cp:lastModifiedBy>
  <dcterms:modified xsi:type="dcterms:W3CDTF">2020-12-14T06:19:01Z</dcterms:modified>
  <cp:revision>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</vt:r8>
  </property>
</Properties>
</file>