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DB5-B12F-4605-96D5-E1A52201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272-4A7F-48F7-995D-A47D925D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332-A77C-4B09-9EB8-F371D61B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E67-5E70-4BA6-A3BF-B6F9D37F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EEE1-EFE5-4EDC-AC01-746A798D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4A9F-0172-4DCE-8D53-36B4BEA1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59F0-FB29-4283-B721-5A064BEB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E787-D66E-418E-AB5D-6FB8EBFC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BC7E-3C32-45FE-A28B-846F644E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0196-2C1D-4EFB-B18F-E95681D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013A-D9DC-40B6-8540-9390E48C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F98-E775-4BB0-BBE7-F6D58846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DA45-1A18-44EC-9013-BCAD07E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D64C-DF2D-4889-A82E-70B7D29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F05-225C-42C6-B8A2-A056047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CC70-BDA0-4A2B-AFD3-9EFB28BF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3237-52FC-470F-A3E7-692F67A8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66F-DEFD-4D98-BA68-642BA282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FA5-178D-4725-8804-E37C50DB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75A-5322-43C6-B47A-8154A72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8E8-C2AD-4DD5-88BC-0F5F2EEB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BA3-8693-459A-90E9-13A687C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857-1089-40E0-8B24-F488B7BF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B5A-3191-45F2-B65F-505D5A0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52255B-306A-457E-AED5-B282A4798E2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E7B7D7-6D52-45A1-A2D5-3FAF541B661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339640" y="260640"/>
            <a:ext cx="7281360" cy="64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fashion(-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w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advan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rare(-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(un)hygienic conditions  </a:t>
            </a:r>
            <a:r>
              <a:rPr b="1" lang="en-US" sz="3200" spc="-1" strike="noStrike">
                <a:solidFill>
                  <a:srgbClr val="002060"/>
                </a:solidFill>
                <a:latin typeface="Arial Rounded MT Bold"/>
              </a:rPr>
              <a:t>[ˈʌnhaɪˈʤiːnɪk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attract(-iv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fl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p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s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masculinity </a:t>
            </a:r>
            <a:r>
              <a:rPr b="1" lang="en-US" sz="3200" spc="-1" strike="noStrike">
                <a:solidFill>
                  <a:srgbClr val="002060"/>
                </a:solidFill>
                <a:latin typeface="Arial Rounded MT Bold"/>
              </a:rPr>
              <a:t>[mæskjʊˈlɪnɪtɪ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suntan </a:t>
            </a:r>
            <a:r>
              <a:rPr b="1" lang="en-US" sz="3200" spc="-1" strike="noStrike">
                <a:solidFill>
                  <a:srgbClr val="002060"/>
                </a:solidFill>
                <a:latin typeface="Arial Rounded MT Bold"/>
              </a:rPr>
              <a:t>[ˈsʌntæ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95640" y="33264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298040" y="4016160"/>
            <a:ext cx="1407960" cy="1407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563760" y="3933000"/>
            <a:ext cx="1523520" cy="26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16640"/>
            <a:ext cx="829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use of article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640" y="620640"/>
            <a:ext cx="2690640" cy="61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 С исчисляемыми сущ-ми в ед. числе (в значении любой\ один из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 С сущ-ми, обозначающими работу\ профессию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15640" y="620640"/>
            <a:ext cx="3411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сущ-ми единственными в своем роде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moon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гда мы упоминаем сущ-е во второй раз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сущ-ми в ед.ч., когда говорим об изобретениях\ идея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the suntan)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прилаг-ми в превосх. степени;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smallest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порядковыми числит-ми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the first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ками, декадами, историч. периодами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Renaissance)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39640" y="692640"/>
            <a:ext cx="2232000" cy="431640"/>
          </a:xfrm>
          <a:prstGeom prst="rec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Arial Rounded MT Bold"/>
              </a:rPr>
              <a:t>a/ 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3492000" y="692640"/>
            <a:ext cx="2160000" cy="431640"/>
          </a:xfrm>
          <a:prstGeom prst="rec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644880" y="739080"/>
            <a:ext cx="2098080" cy="431640"/>
          </a:xfrm>
          <a:prstGeom prst="rec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6286680" y="1214280"/>
            <a:ext cx="2677680" cy="5526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неисчисляемыми сущ-ми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water, sno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сущ-ми во мн.ч.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ars/ wig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континентам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Asi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абстрактными сущ-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importance/ seriousn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названиями стран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Rus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175</Words>
  <Paragraphs>31</Paragraphs>
  <Company>diakov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4T06:17:45Z</dcterms:created>
  <dc:creator>RePack by Diakov</dc:creator>
  <dc:description/>
  <dc:language>en-US</dc:language>
  <cp:lastModifiedBy>RePack by Diakov</cp:lastModifiedBy>
  <dcterms:modified xsi:type="dcterms:W3CDTF">2020-12-14T06:19:01Z</dcterms:modified>
  <cp:revision>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</vt:r8>
  </property>
</Properties>
</file>