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E7D-4C12-4194-8DDA-72E9A1AB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661-C826-4ED6-8812-2AF082EF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1D0-4A27-4C31-94BC-8F3A2DB9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D6F-DB4F-4522-AB9C-16E7E167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609C-7B5F-45B0-85A4-C4C794D4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4C83-756F-4D97-8CC2-88800AB1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7682-8C8F-4858-9F29-3E93C0CB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7BD6-2AA8-4DF3-94C6-FDF63AC8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0FD8-11A7-405E-B091-7A9091D6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324B-1BB3-4B76-BDA0-E445C721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0557-CC2A-404A-BFA6-9729D9CB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CBD-5B5B-40D9-8A31-244AFFFB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6C50-5BE7-4043-A4C2-91EBC019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B2C5-EA0B-46DD-9E63-0BCDEE65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F6C9-5B67-4716-855B-DA5C8911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D63E-F5D2-460A-84CF-AB6134E5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7407-2355-47C5-9FAB-80006708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68F-BD9C-40AB-BA4C-A82CA24C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1282-DE26-4939-A810-75CBF74B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94B-D41A-4098-B6A9-D378D97E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16E-28CD-429B-BE77-14602AF6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330-CE8F-411F-A5C7-3E8877FB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FF0-1149-4553-A77D-FD8B678C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3CB-33C4-4CDC-90D8-6DD32017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CB83B3-F308-4CDD-B806-24417715003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108C3A-3B1F-4B9A-A34A-0F1E85CFD2F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339640" y="260640"/>
            <a:ext cx="7281360" cy="64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fashion(-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w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advant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rare(-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(un)hygienic conditions  </a:t>
            </a:r>
            <a:r>
              <a:rPr b="1" lang="en-US" sz="3200" spc="-1" strike="noStrike">
                <a:solidFill>
                  <a:srgbClr val="002060"/>
                </a:solidFill>
                <a:latin typeface="Arial Rounded MT Bold"/>
              </a:rPr>
              <a:t>[ˈʌnhaɪˈʤiːnɪk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attract(-iv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fl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p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s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masculinity </a:t>
            </a:r>
            <a:r>
              <a:rPr b="1" lang="en-US" sz="3200" spc="-1" strike="noStrike">
                <a:solidFill>
                  <a:srgbClr val="002060"/>
                </a:solidFill>
                <a:latin typeface="Arial Rounded MT Bold"/>
              </a:rPr>
              <a:t>[mæskjʊˈlɪnɪtɪ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suntan </a:t>
            </a:r>
            <a:r>
              <a:rPr b="1" lang="en-US" sz="3200" spc="-1" strike="noStrike">
                <a:solidFill>
                  <a:srgbClr val="002060"/>
                </a:solidFill>
                <a:latin typeface="Arial Rounded MT Bold"/>
              </a:rPr>
              <a:t>[ˈsʌntæ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95640" y="33264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298040" y="4016160"/>
            <a:ext cx="1407960" cy="1407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563760" y="3933000"/>
            <a:ext cx="1523520" cy="26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116640"/>
            <a:ext cx="8290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The use of article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640" y="620640"/>
            <a:ext cx="2690640" cy="61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) С исчисляемыми сущ-ми в ед. числе (в значении любой\ один из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) С сущ-ми, обозначающими работу\ профессию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15640" y="620640"/>
            <a:ext cx="3411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сущ-ми единственными в своем роде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moon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гда мы упоминаем сущ-е во второй раз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сущ-ми в ед.ч., когда говорим об изобретениях\ идея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the suntan)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прилаг-ми в превосх. степени;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smallest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порядковыми числит-ми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the first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ками, декадами, историч. периодами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Renaissance)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539640" y="692640"/>
            <a:ext cx="2232000" cy="431640"/>
          </a:xfrm>
          <a:prstGeom prst="rec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Arial Rounded MT Bold"/>
              </a:rPr>
              <a:t>a/ 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3492000" y="692640"/>
            <a:ext cx="2160000" cy="431640"/>
          </a:xfrm>
          <a:prstGeom prst="rec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6644880" y="739080"/>
            <a:ext cx="2098080" cy="431640"/>
          </a:xfrm>
          <a:prstGeom prst="rec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6286680" y="1214280"/>
            <a:ext cx="2677680" cy="5526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неисчисляемыми сущ-ми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water, sno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сущ-ми во мн.ч.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cars/ wig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континентам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Asi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абстрактными сущ-м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importance/ seriousne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названиями стран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Russ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175</Words>
  <Paragraphs>31</Paragraphs>
  <Company>diakov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4T06:17:45Z</dcterms:created>
  <dc:creator>RePack by Diakov</dc:creator>
  <dc:description/>
  <dc:language>en-US</dc:language>
  <cp:lastModifiedBy>RePack by Diakov</cp:lastModifiedBy>
  <dcterms:modified xsi:type="dcterms:W3CDTF">2020-12-14T06:19:01Z</dcterms:modified>
  <cp:revision>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</vt:r8>
  </property>
</Properties>
</file>