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023-4DAC-4E89-AD11-3928B723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693-E454-458F-9083-9F645FB4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A05-6C3A-413D-80BF-6F77CE59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387-AB00-454E-B8DF-AB24CD6A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FFB6-B523-4F06-B690-446B718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AD1-BA49-4B17-AC2C-68F209B4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9884-6C12-4B17-9412-638F305E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BF65-36C5-412A-AFE0-03351A7E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84F1-8CE1-4007-B7E8-06C9871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BE18-B89E-48C4-9E43-1765A45F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716D-B46D-498D-B732-B84889B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3AD-A432-4F24-8035-18A79B2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57B-DC58-4108-889D-A77A200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1D06-3100-4BD4-A05B-C3F1918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A204-EBE6-4C0F-B6A5-35891E4B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0865-B46C-4DBB-AFB9-71AA4CFE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637-A497-4DF6-88E7-AB348F0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80D0-AE39-40C8-B87D-5B1D7F2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4A11-4191-42D2-92B5-55AE36FA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8DAB-D9ED-4731-8F30-D91DEB3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C462-65EC-4957-A0A3-51038EAA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D9D9-DC45-4063-AE84-487A3F5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E3E-73BC-403A-9361-7BECBF9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08CC-607C-4B07-97B1-D17F2DB7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22AE-1EFC-4B63-9A82-4BCAB23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2D94-4FDB-4770-BCC9-EB239B2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69D0-C735-48D5-ADAB-624051F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EE11-514D-46F5-A598-2B3A91C7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65F9-0DDC-4226-9D78-35ECBCDB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AB5D-BF2F-49F6-B673-B5F7B57F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446-9585-4839-8922-912A0A6A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57A-7925-4C5B-9AE6-30B24725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3C0-DD7D-4DCA-969E-974903E1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93A-772F-4D4C-8480-16E5DAF4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F46-4CCA-448E-8CD5-B6A3E0F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F67-682A-4478-B29B-D97091B5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BFC25F-51E4-47D6-B9A0-807D3CA0E25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20BCD8-FC10-4462-B433-0BE005C07609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DE62C-201A-45BB-A12A-97290A114B9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0"/>
            <a:ext cx="8229240" cy="299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rgbClr val="ffc000"/>
                </a:solidFill>
                <a:latin typeface="Book Antiqua"/>
              </a:rPr>
              <a:t>«Схема нереверсивного пуска электродвигателя»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297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Шаяхметов Э.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руппа Э 3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Кнопочный пост ПКЕ 222-3 У2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Содержимое 3" descr="https://im0-tub-ru.yandex.net/i?id=e8762391b23ea3a84f46d35b6aaea5a9&amp;n=24"/>
          <p:cNvPicPr/>
          <p:nvPr/>
        </p:nvPicPr>
        <p:blipFill>
          <a:blip r:embed="rId1"/>
          <a:stretch/>
        </p:blipFill>
        <p:spPr>
          <a:xfrm>
            <a:off x="827640" y="1628640"/>
            <a:ext cx="7704360" cy="439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Назначение схемы нереверсивного пуска электродвигателя</a:t>
            </a: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640720" cy="49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477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700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лектрической схемой называют упрощенное наглядное изображение связей между отдельными элементами электрической цепи, выполненное с помощью условных графических обозначений и позволяющее понять принцип действия электрической установки. В зависимости от основного назначения схемы подразделяются на структурные, функциональные, принципиальные (полные), соединений (монтажные), подключения, общие, расположения и совмещенные.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Содержимое 6" descr="http://electrical.clan.su/_pu/0/s3739473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http://electrical.clan.su/_pu/0/s3138882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Содержимое 5" descr="Схема включения нереверсивного магнитного пускателя: а - монтажная схема включения пускателя, электрическая принципиальная схема включения пускателя"/>
          <p:cNvPicPr/>
          <p:nvPr/>
        </p:nvPicPr>
        <p:blipFill>
          <a:blip r:embed="rId1"/>
          <a:stretch/>
        </p:blipFill>
        <p:spPr>
          <a:xfrm>
            <a:off x="0" y="1628640"/>
            <a:ext cx="9143640" cy="5229000"/>
          </a:xfrm>
          <a:prstGeom prst="rect">
            <a:avLst/>
          </a:prstGeom>
          <a:ln w="9525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395640" y="83520"/>
            <a:ext cx="784836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Схема включения нереверсивного магнитного пускател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а - монтажная схема включения пускателя, б- электрическая принципиальная схема включения пуск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157040"/>
            <a:ext cx="9143640" cy="5579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Для включения электродвигателя М необходимо кратковременно нажать кнопку SB2 «Пуск». При этом по цепи катушки магнитного пускателя, потечет ток, якорь притянется к сердечнику. Это приведет к замыканию главных контактов в цепи питания электродвигателя. Одновременно замкнется вспомогательный контакт 3 - 5, что создаст параллельную цепь питания катушки магнитного пуск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Если теперь кнопку «Пуск» отпустить, то катушка магнитного пускателя будет включена через собственный вспомогательный контакт. Такую схему называют схемой самоблокировки. Она обеспечивает так называемую нулевую защиту электродвигателя. Если в процессе работы электродвигателя напряжение в сети исчезнет или значительно снизится (обычно более чем на 40% от номинального значения), то магнитный пускатель отключается и его вспомогательный контакт размык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сле восстановления напряжения для включения электродвигателя необходимо повторно нажать кнопку «Пуск». Нулевая защита предотвращает непредвиденный, самопроизвольный пуск электродвигателя, который может привести к ав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9640" y="0"/>
            <a:ext cx="8964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Book Antiqua"/>
              </a:rPr>
              <a:t>Принцип действия схемы нереверсивного пуска электро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Электродвигатель серии 5А80МВ6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Содержимое 3" descr="рисунок двигателя"/>
          <p:cNvPicPr/>
          <p:nvPr/>
        </p:nvPicPr>
        <p:blipFill>
          <a:blip r:embed="rId1"/>
          <a:stretch/>
        </p:blipFill>
        <p:spPr>
          <a:xfrm>
            <a:off x="611640" y="1052640"/>
            <a:ext cx="7992360" cy="489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Пускатель ПМЛ 1000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Содержимое 3" descr="Магнитные пускатели ПМЛ. Технические характеристики"/>
          <p:cNvPicPr/>
          <p:nvPr/>
        </p:nvPicPr>
        <p:blipFill>
          <a:blip r:embed="rId1"/>
          <a:stretch/>
        </p:blipFill>
        <p:spPr>
          <a:xfrm>
            <a:off x="755640" y="1700640"/>
            <a:ext cx="763236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Реле тепловое марки РТТ-111</a:t>
            </a:r>
            <a:br>
              <a:rPr sz="4100"/>
            </a:br>
            <a:r>
              <a:rPr b="1" lang="ru-RU" sz="4100" spc="-1" strike="noStrike">
                <a:solidFill>
                  <a:srgbClr val="ffc000"/>
                </a:solidFill>
                <a:latin typeface="Book Antiqua"/>
              </a:rPr>
              <a:t> </a:t>
            </a:r>
            <a:br>
              <a:rPr sz="4100"/>
            </a:b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Содержимое 3" descr="http://cdn.elec.ru/_thumb/800x600/i/55/eb/55eb9653b8a8ac644943dedcc1dac20d920c3cda.jpg"/>
          <p:cNvPicPr/>
          <p:nvPr/>
        </p:nvPicPr>
        <p:blipFill>
          <a:blip r:embed="rId1"/>
          <a:stretch/>
        </p:blipFill>
        <p:spPr>
          <a:xfrm>
            <a:off x="1685880" y="1644480"/>
            <a:ext cx="5771880" cy="4619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60</TotalTime>
  <Application>LibreOffice/7.4.7.2$Linux_X86_64 LibreOffice_project/40$Build-2</Application>
  <AppVersion>15.0000</AppVersion>
  <Words>213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3:25:28Z</dcterms:created>
  <dc:creator>Ирина</dc:creator>
  <dc:description/>
  <dc:language>en-US</dc:language>
  <cp:lastModifiedBy>Walentina</cp:lastModifiedBy>
  <dcterms:modified xsi:type="dcterms:W3CDTF">2021-05-26T06:33:51Z</dcterms:modified>
  <cp:revision>23</cp:revision>
  <dc:subject/>
  <dc:title>Техническое  обслуживание  и ремонт   ножниц высечных модели Н-53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