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ADC8-F124-4452-ABBE-EDBBCF184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08FD-2F26-4EF0-AF28-1C65206B2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ED8B-D5CB-4A76-83BE-FC7EBA048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411C-B1B6-4390-88C1-DC6EB3362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6FD84-13F5-459D-8984-FB8139114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A2181-B5AF-4BA3-A93B-FB313B538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7B5E6-1F03-475B-96E5-ED07CDDEB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5D2BA-F1BC-4ED6-85B0-CB079B89C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1F1E3-F112-4AE5-9EC6-5ADB2E4D7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D4563-A6A5-4DE0-B4C2-37C030AEC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9E68D-3944-4D33-8C0B-2A1F83EA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2D19-8552-4593-9B73-06C36E083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9BC3E-3FA7-4544-9CEA-CC5F3FA8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CBB61-3FE2-44FA-9E1E-C2AA18AE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252B7-7450-4B8C-83D0-363CA05E9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470AB-D5CE-467D-AEF5-E36AD363A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DA6A9-D89B-4AE3-BA31-DCF8BE79B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0E2C9-FC05-482B-90F9-14DBE902C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3E0B3-3E59-4A35-B40C-62AFDB21A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83B67-B6DD-4419-8D24-C915F34CA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C3D70-DE85-4112-9EEA-FCB262C59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90C42-7326-47DB-8A60-8749CCE74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F91E-5B03-42E4-8BAC-0E81D09FC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FA65C-DAC7-4033-8892-34F4D19BC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A2B68-86B1-49BD-999C-0D96AE89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88E82-8546-4162-A69C-AE6C1B15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1DC5D-00AB-4301-A791-73407ACC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5C8B3-0E2A-4016-9F3D-605D3D829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90EFD-F3C0-4E42-B550-DD803CF19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918F8-033D-4907-B05E-B014839BF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7CD5-37C0-4FEF-B017-781F81EE7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A3D3-C966-4448-930B-5432106E0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3A11-1064-4248-B43B-4B06EE8D9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52A2-CB68-434C-B44E-28150823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E7F8-5D6F-4250-874A-6709C9C3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DCF4-A646-4E8D-AEE1-0F2FEC7F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 cap="all">
                <a:solidFill>
                  <a:srgbClr val="000000"/>
                </a:solidFill>
                <a:latin typeface="Lucida Sans"/>
              </a:rPr>
              <a:t>Образец заголовка</a:t>
            </a:r>
            <a:endParaRPr b="0" lang="ru-RU" sz="4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50222C8-60CA-485A-AFBF-DE7F9FF04C98}" type="slidenum"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ru-RU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00000"/>
                </a:solidFill>
                <a:latin typeface="Lucida Sans"/>
              </a:rPr>
              <a:t>Образец заголовка</a:t>
            </a:r>
            <a:endParaRPr b="0" lang="ru-RU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Образец текста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4000" indent="-228600">
              <a:lnSpc>
                <a:spcPct val="100000"/>
              </a:lnSpc>
              <a:spcBef>
                <a:spcPts val="439"/>
              </a:spcBef>
              <a:buClr>
                <a:srgbClr val="ffffff"/>
              </a:buClr>
              <a:buSzPct val="95000"/>
              <a:buFont typeface="Wingdings" charset="2"/>
              <a:buChar char=""/>
            </a:pP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Третий уровень</a:t>
            </a:r>
            <a:endParaRPr b="0" lang="ru-RU" sz="2200" spc="-1" strike="noStrike">
              <a:solidFill>
                <a:srgbClr val="ffffff"/>
              </a:solidFill>
              <a:latin typeface="Book Antiqua"/>
            </a:endParaRPr>
          </a:p>
          <a:p>
            <a:pPr lvl="3" marL="1353240" indent="-182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3" charset="2"/>
              <a:buChar char="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1545480" indent="-182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2" charset="2"/>
              <a:buChar char="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0C80172-29FF-4FD8-88D4-FEF93BF1328D}" type="slidenum"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63C9246-B273-42F1-9D1B-E295046E82AB}" type="slidenum"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ru-RU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1920" y="0"/>
            <a:ext cx="8229240" cy="2996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 cap="all">
                <a:solidFill>
                  <a:srgbClr val="ffc000"/>
                </a:solidFill>
                <a:latin typeface="Book Antiqua"/>
              </a:rPr>
              <a:t>«Схема нереверсивного пуска электродвигателя»</a:t>
            </a:r>
            <a:endParaRPr b="0" lang="ru-RU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331800"/>
            <a:ext cx="6400440" cy="297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Шаяхметов Э.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Группа Э 3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3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ru-RU" sz="4100" spc="-1" strike="noStrike">
                <a:solidFill>
                  <a:srgbClr val="ffc000"/>
                </a:solidFill>
                <a:latin typeface="Book Antiqua"/>
              </a:rPr>
              <a:t>Кнопочный пост ПКЕ 222-3 У2</a:t>
            </a:r>
            <a:br>
              <a:rPr sz="4100"/>
            </a:br>
            <a:endParaRPr b="0" lang="ru-RU" sz="41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1" name="Содержимое 3" descr="https://im0-tub-ru.yandex.net/i?id=e8762391b23ea3a84f46d35b6aaea5a9&amp;n=24"/>
          <p:cNvPicPr/>
          <p:nvPr/>
        </p:nvPicPr>
        <p:blipFill>
          <a:blip r:embed="rId1"/>
          <a:stretch/>
        </p:blipFill>
        <p:spPr>
          <a:xfrm>
            <a:off x="827640" y="1628640"/>
            <a:ext cx="7704360" cy="4392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71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c000"/>
                </a:solidFill>
                <a:latin typeface="Book Antiqua"/>
              </a:rPr>
              <a:t>Назначение схемы нереверсивного пуска электродвигателя</a:t>
            </a:r>
            <a:endParaRPr b="0" lang="ru-RU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1640" y="1600200"/>
            <a:ext cx="8640720" cy="492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7000"/>
          </a:bodyPr>
          <a:p>
            <a:pPr marL="47700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477000"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Book Antiqua"/>
              </a:rPr>
              <a:t>               </a:t>
            </a: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Электрической схемой называют упрощенное наглядное изображение связей между отдельными элементами электрической цепи, выполненное с помощью условных графических обозначений и позволяющее понять принцип действия электрической установки. В зависимости от основного назначения схемы подразделяются на структурные, функциональные, принципиальные (полные), соединений (монтажные), подключения, общие, расположения и совмещенные.</a:t>
            </a:r>
            <a:br>
              <a:rPr sz="2800"/>
            </a:b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Содержимое 6" descr="http://electrical.clan.su/_pu/0/s37394739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Содержимое 3" descr="http://electrical.clan.su/_pu/0/s31388822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br>
              <a:rPr sz="2800"/>
            </a:b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0" name="Содержимое 5" descr="Схема включения нереверсивного магнитного пускателя: а - монтажная схема включения пускателя, электрическая принципиальная схема включения пускателя"/>
          <p:cNvPicPr/>
          <p:nvPr/>
        </p:nvPicPr>
        <p:blipFill>
          <a:blip r:embed="rId1"/>
          <a:stretch/>
        </p:blipFill>
        <p:spPr>
          <a:xfrm>
            <a:off x="0" y="1628640"/>
            <a:ext cx="9143640" cy="5229000"/>
          </a:xfrm>
          <a:prstGeom prst="rect">
            <a:avLst/>
          </a:prstGeom>
          <a:ln w="9525">
            <a:noFill/>
          </a:ln>
        </p:spPr>
      </p:pic>
      <p:sp>
        <p:nvSpPr>
          <p:cNvPr id="131" name="Rectangle 1"/>
          <p:cNvSpPr/>
          <p:nvPr/>
        </p:nvSpPr>
        <p:spPr>
          <a:xfrm>
            <a:off x="395640" y="83520"/>
            <a:ext cx="7848360" cy="851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Book Antiqua"/>
                <a:ea typeface="Times New Roman"/>
              </a:rPr>
              <a:t>Схема включения нереверсивного магнитного пускател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а - монтажная схема включения пускателя, б- электрическая принципиальная схема включения пускате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"/>
          <p:cNvSpPr/>
          <p:nvPr/>
        </p:nvSpPr>
        <p:spPr>
          <a:xfrm>
            <a:off x="0" y="1157040"/>
            <a:ext cx="9143640" cy="5579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Для включения электродвигателя М необходимо кратковременно нажать кнопку SB2 «Пуск». При этом по цепи катушки магнитного пускателя, потечет ток, якорь притянется к сердечнику. Это приведет к замыканию главных контактов в цепи питания электродвигателя. Одновременно замкнется вспомогательный контакт 3 - 5, что создаст параллельную цепь питания катушки магнитного пускат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Если теперь кнопку «Пуск» отпустить, то катушка магнитного пускателя будет включена через собственный вспомогательный контакт. Такую схему называют схемой самоблокировки. Она обеспечивает так называемую нулевую защиту электродвигателя. Если в процессе работы электродвигателя напряжение в сети исчезнет или значительно снизится (обычно более чем на 40% от номинального значения), то магнитный пускатель отключается и его вспомогательный контакт размыка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После восстановления напряжения для включения электродвигателя необходимо повторно нажать кнопку «Пуск». Нулевая защита предотвращает непредвиденный, самопроизвольный пуск электродвигателя, который может привести к ава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4"/>
          <p:cNvSpPr/>
          <p:nvPr/>
        </p:nvSpPr>
        <p:spPr>
          <a:xfrm>
            <a:off x="179640" y="0"/>
            <a:ext cx="89640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c000"/>
                </a:solidFill>
                <a:latin typeface="Book Antiqua"/>
              </a:rPr>
              <a:t>Принцип действия схемы нереверсивного пуска электродвига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5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ru-RU" sz="3600" spc="-1" strike="noStrike">
                <a:solidFill>
                  <a:srgbClr val="ffc000"/>
                </a:solidFill>
                <a:latin typeface="Book Antiqua"/>
              </a:rPr>
              <a:t>Электродвигатель серии 5А80МВ6</a:t>
            </a:r>
            <a:br>
              <a:rPr sz="3600"/>
            </a:br>
            <a:r>
              <a:rPr b="1" lang="ru-RU" sz="3600" spc="-1" strike="noStrike">
                <a:solidFill>
                  <a:srgbClr val="ffc000"/>
                </a:solidFill>
                <a:latin typeface="Book Antiqua"/>
              </a:rPr>
              <a:t> </a:t>
            </a:r>
            <a:br>
              <a:rPr sz="4100"/>
            </a:br>
            <a:endParaRPr b="0" lang="ru-RU" sz="3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5" name="Содержимое 3" descr="рисунок двигателя"/>
          <p:cNvPicPr/>
          <p:nvPr/>
        </p:nvPicPr>
        <p:blipFill>
          <a:blip r:embed="rId1"/>
          <a:stretch/>
        </p:blipFill>
        <p:spPr>
          <a:xfrm>
            <a:off x="611640" y="1052640"/>
            <a:ext cx="7992360" cy="4896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ffc000"/>
                </a:solidFill>
                <a:latin typeface="Book Antiqua"/>
              </a:rPr>
              <a:t>Пускатель ПМЛ 1000</a:t>
            </a:r>
            <a:endParaRPr b="0" lang="ru-RU" sz="41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7" name="Содержимое 3" descr="Магнитные пускатели ПМЛ. Технические характеристики"/>
          <p:cNvPicPr/>
          <p:nvPr/>
        </p:nvPicPr>
        <p:blipFill>
          <a:blip r:embed="rId1"/>
          <a:stretch/>
        </p:blipFill>
        <p:spPr>
          <a:xfrm>
            <a:off x="755640" y="1700640"/>
            <a:ext cx="7632360" cy="4608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42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00000"/>
                </a:solidFill>
                <a:latin typeface="Lucida Sans"/>
              </a:rPr>
              <a:t> </a:t>
            </a:r>
            <a:br>
              <a:rPr sz="4100"/>
            </a:br>
            <a:r>
              <a:rPr b="1" lang="ru-RU" sz="4100" spc="-1" strike="noStrike">
                <a:solidFill>
                  <a:srgbClr val="ffc000"/>
                </a:solidFill>
                <a:latin typeface="Book Antiqua"/>
              </a:rPr>
              <a:t>Реле тепловое марки РТТ-111</a:t>
            </a:r>
            <a:br>
              <a:rPr sz="4100"/>
            </a:br>
            <a:r>
              <a:rPr b="1" lang="ru-RU" sz="4100" spc="-1" strike="noStrike">
                <a:solidFill>
                  <a:srgbClr val="ffc000"/>
                </a:solidFill>
                <a:latin typeface="Book Antiqua"/>
              </a:rPr>
              <a:t> </a:t>
            </a:r>
            <a:br>
              <a:rPr sz="4100"/>
            </a:br>
            <a:endParaRPr b="0" lang="ru-RU" sz="41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9" name="Содержимое 3" descr="http://cdn.elec.ru/_thumb/800x600/i/55/eb/55eb9653b8a8ac644943dedcc1dac20d920c3cda.jpg"/>
          <p:cNvPicPr/>
          <p:nvPr/>
        </p:nvPicPr>
        <p:blipFill>
          <a:blip r:embed="rId1"/>
          <a:stretch/>
        </p:blipFill>
        <p:spPr>
          <a:xfrm>
            <a:off x="1685880" y="1644480"/>
            <a:ext cx="5771880" cy="46191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Апекс">
  <a:themeElements>
    <a:clrScheme name="Апекс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Апекс">
  <a:themeElements>
    <a:clrScheme name="Апекс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Апекс">
  <a:themeElements>
    <a:clrScheme name="Апекс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pex</Template>
  <TotalTime>160</TotalTime>
  <Application>LibreOffice/7.4.7.2$Linux_X86_64 LibreOffice_project/40$Build-2</Application>
  <AppVersion>15.0000</AppVersion>
  <Words>213</Words>
  <Paragraphs>1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0T13:25:28Z</dcterms:created>
  <dc:creator>Ирина</dc:creator>
  <dc:description/>
  <dc:language>en-US</dc:language>
  <cp:lastModifiedBy>Walentina</cp:lastModifiedBy>
  <dcterms:modified xsi:type="dcterms:W3CDTF">2021-05-26T06:33:51Z</dcterms:modified>
  <cp:revision>23</cp:revision>
  <dc:subject/>
  <dc:title>Техническое  обслуживание  и ремонт   ножниц высечных модели Н-533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0</vt:r8>
  </property>
</Properties>
</file>