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8F4-E05F-4FE3-A041-4733C4FA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AF4-7608-4EF1-8E4E-5F71F5E2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337-1A6E-4AC1-8593-975BE64E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632-4F52-4771-956E-F490F80C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8B03-311A-4D4F-90AF-FE36237F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D785-126D-461D-B95F-0540DF7A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6D87-6D8E-4600-9CE7-863A2F13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4066-0E00-4D38-8A7D-150B4E52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8212-1E12-48C7-9B87-0C50CB50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0DC6-11B4-45CB-87B5-F21867FF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199B-B569-49F3-8FA7-82ADD532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3BF-27CC-4C57-87BC-2FDBF47F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2F4F-488B-4F5B-8282-BB5970ED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90C4-40D0-4937-9264-7D6C01A6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714D-FD2F-4869-88B4-E0C9FF4F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116E-B0F8-4887-ACE2-953B39C0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65C6-9A28-4BF6-8932-F536DC6D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BD0B-66FE-4198-927C-BB2F8702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5D5E-7148-4DB9-A4D8-32F421E9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B161-E79A-4EBD-84A3-4566DE0A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08DE-788B-4DF5-9CCE-897363DD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872B-89F0-4D6B-91CD-0FB6D61C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5D5-028B-4754-ABA6-D69D870B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AE02-2491-4F72-B3A5-AF265C73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925B-95A9-44A0-9A5D-0C8DEEA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3A5B8-A79A-4F26-9157-7A6AD73B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4AF3-7B17-47D5-B3DE-1095526A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0A11-BA7C-4FDE-A7B9-88ACC091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48D5-B519-4588-8915-1760F1AB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5ED7-F74A-4042-9327-C76405A4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68B-57B9-4907-908E-DDC21905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526-F68D-4BB7-85A6-AAE7AD5D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946-A2FA-4C66-8EDF-AF04CB38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BE6-18FE-4391-A8B0-48FCB724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840-AC84-4A65-9851-6A786F4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59A-E3C9-4DF7-BDC4-EEE7276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66E3EB-F6E3-41A9-852F-1FF43A026DD7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95FD29-2027-43CF-8017-C951B1F03CFC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AC17A8-DD82-4BAB-A004-B3E893E13DE4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1920" y="0"/>
            <a:ext cx="8229240" cy="299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rgbClr val="ffc000"/>
                </a:solidFill>
                <a:latin typeface="Book Antiqua"/>
              </a:rPr>
              <a:t>«Схема нереверсивного пуска электродвигателя»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29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Шаяхметов Э.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Группа Э 3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Кнопочный пост ПКЕ 222-3 У2</a:t>
            </a:r>
            <a:br>
              <a:rPr sz="4100"/>
            </a:b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Содержимое 3" descr="https://im0-tub-ru.yandex.net/i?id=e8762391b23ea3a84f46d35b6aaea5a9&amp;n=24"/>
          <p:cNvPicPr/>
          <p:nvPr/>
        </p:nvPicPr>
        <p:blipFill>
          <a:blip r:embed="rId1"/>
          <a:stretch/>
        </p:blipFill>
        <p:spPr>
          <a:xfrm>
            <a:off x="827640" y="1628640"/>
            <a:ext cx="7704360" cy="439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Назначение схемы нереверсивного пуска электродвигателя</a:t>
            </a:r>
            <a:endParaRPr b="0" lang="ru-RU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640720" cy="492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4770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700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лектрической схемой называют упрощенное наглядное изображение связей между отдельными элементами электрической цепи, выполненное с помощью условных графических обозначений и позволяющее понять принцип действия электрической установки. В зависимости от основного назначения схемы подразделяются на структурные, функциональные, принципиальные (полные), соединений (монтажные), подключения, общие, расположения и совмещенные.</a:t>
            </a: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6" descr="http://electrical.clan.su/_pu/0/s3739473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одержимое 3" descr="http://electrical.clan.su/_pu/0/s3138882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Содержимое 5" descr="Схема включения нереверсивного магнитного пускателя: а - монтажная схема включения пускателя, электрическая принципиальная схема включения пускателя"/>
          <p:cNvPicPr/>
          <p:nvPr/>
        </p:nvPicPr>
        <p:blipFill>
          <a:blip r:embed="rId1"/>
          <a:stretch/>
        </p:blipFill>
        <p:spPr>
          <a:xfrm>
            <a:off x="0" y="1628640"/>
            <a:ext cx="9143640" cy="5229000"/>
          </a:xfrm>
          <a:prstGeom prst="rect">
            <a:avLst/>
          </a:prstGeom>
          <a:ln w="9525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395640" y="83520"/>
            <a:ext cx="784836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Схема включения нереверсивного магнитного пускате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а - монтажная схема включения пускателя, б- электрическая принципиальная схема включения пуск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157040"/>
            <a:ext cx="9143640" cy="5579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Для включения электродвигателя М необходимо кратковременно нажать кнопку SB2 «Пуск». При этом по цепи катушки магнитного пускателя, потечет ток, якорь притянется к сердечнику. Это приведет к замыканию главных контактов в цепи питания электродвигателя. Одновременно замкнется вспомогательный контакт 3 - 5, что создаст параллельную цепь питания катушки магнитного пуск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Если теперь кнопку «Пуск» отпустить, то катушка магнитного пускателя будет включена через собственный вспомогательный контакт. Такую схему называют схемой самоблокировки. Она обеспечивает так называемую нулевую защиту электродвигателя. Если в процессе работы электродвигателя напряжение в сети исчезнет или значительно снизится (обычно более чем на 40% от номинального значения), то магнитный пускатель отключается и его вспомогательный контакт размык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сле восстановления напряжения для включения электродвигателя необходимо повторно нажать кнопку «Пуск». Нулевая защита предотвращает непредвиденный, самопроизвольный пуск электродвигателя, который может привести к ав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79640" y="0"/>
            <a:ext cx="896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Book Antiqua"/>
              </a:rPr>
              <a:t>Принцип действия схемы нереверсивного пуска электро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Электродвигатель серии 5А80МВ6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 </a:t>
            </a:r>
            <a:br>
              <a:rPr sz="4100"/>
            </a:br>
            <a:endParaRPr b="0" lang="ru-RU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Содержимое 3" descr="рисунок двигателя"/>
          <p:cNvPicPr/>
          <p:nvPr/>
        </p:nvPicPr>
        <p:blipFill>
          <a:blip r:embed="rId1"/>
          <a:stretch/>
        </p:blipFill>
        <p:spPr>
          <a:xfrm>
            <a:off x="611640" y="1052640"/>
            <a:ext cx="7992360" cy="48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Пускатель ПМЛ 1000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Содержимое 3" descr="Магнитные пускатели ПМЛ. Технические характеристики"/>
          <p:cNvPicPr/>
          <p:nvPr/>
        </p:nvPicPr>
        <p:blipFill>
          <a:blip r:embed="rId1"/>
          <a:stretch/>
        </p:blipFill>
        <p:spPr>
          <a:xfrm>
            <a:off x="755640" y="1700640"/>
            <a:ext cx="763236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br>
              <a:rPr sz="4100"/>
            </a:b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Реле тепловое марки РТТ-111</a:t>
            </a:r>
            <a:br>
              <a:rPr sz="4100"/>
            </a:b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 </a:t>
            </a:r>
            <a:br>
              <a:rPr sz="4100"/>
            </a:b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Содержимое 3" descr="http://cdn.elec.ru/_thumb/800x600/i/55/eb/55eb9653b8a8ac644943dedcc1dac20d920c3cda.jpg"/>
          <p:cNvPicPr/>
          <p:nvPr/>
        </p:nvPicPr>
        <p:blipFill>
          <a:blip r:embed="rId1"/>
          <a:stretch/>
        </p:blipFill>
        <p:spPr>
          <a:xfrm>
            <a:off x="1685880" y="1644480"/>
            <a:ext cx="5771880" cy="4619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60</TotalTime>
  <Application>LibreOffice/7.4.7.2$Linux_X86_64 LibreOffice_project/40$Build-2</Application>
  <AppVersion>15.0000</AppVersion>
  <Words>213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3:25:28Z</dcterms:created>
  <dc:creator>Ирина</dc:creator>
  <dc:description/>
  <dc:language>en-US</dc:language>
  <cp:lastModifiedBy>Walentina</cp:lastModifiedBy>
  <dcterms:modified xsi:type="dcterms:W3CDTF">2021-05-26T06:33:51Z</dcterms:modified>
  <cp:revision>23</cp:revision>
  <dc:subject/>
  <dc:title>Техническое  обслуживание  и ремонт   ножниц высечных модели Н-53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