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8522640" y="6195960"/>
            <a:ext cx="576000" cy="5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ounded Rectangle 4"/>
          <p:cNvSpPr/>
          <p:nvPr/>
        </p:nvSpPr>
        <p:spPr>
          <a:xfrm>
            <a:off x="457200" y="438120"/>
            <a:ext cx="8219880" cy="5957640"/>
          </a:xfrm>
          <a:prstGeom prst="roundRect">
            <a:avLst>
              <a:gd name="adj" fmla="val 2649"/>
            </a:avLst>
          </a:prstGeom>
          <a:solidFill>
            <a:schemeClr val="bg1">
              <a:alpha val="90000"/>
            </a:schemeClr>
          </a:solidFill>
          <a:ln cap="rnd" w="254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350" spc="-1" strike="noStrike">
                <a:solidFill>
                  <a:schemeClr val="lt1"/>
                </a:solidFill>
                <a:latin typeface="Twinkl"/>
              </a:rPr>
              <a:t> 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78800"/>
            <a:ext cx="8219880" cy="993960"/>
          </a:xfrm>
          <a:prstGeom prst="rect">
            <a:avLst/>
          </a:prstGeom>
          <a:noFill/>
          <a:ln w="2556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Master title style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8522640" y="6195960"/>
            <a:ext cx="576000" cy="580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400" spc="-1" strike="noStrike">
              <a:solidFill>
                <a:srgbClr val="1c1c1c"/>
              </a:solidFill>
              <a:latin typeface="Twink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7.png"/><Relationship Id="rId15" Type="http://schemas.openxmlformats.org/officeDocument/2006/relationships/image" Target="../media/image6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8800"/>
            <a:ext cx="8219880" cy="993960"/>
          </a:xfrm>
          <a:prstGeom prst="rect">
            <a:avLst/>
          </a:prstGeom>
          <a:noFill/>
          <a:ln w="2556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rgbClr val="1c1c1c"/>
                </a:solidFill>
                <a:latin typeface="Twinkl"/>
              </a:rPr>
              <a:t>Holiday Clothes Sorting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55640" y="1381320"/>
            <a:ext cx="76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Sort the items suitable for a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hot climate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nto this suit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suitcase" descr=""/>
          <p:cNvPicPr/>
          <p:nvPr/>
        </p:nvPicPr>
        <p:blipFill>
          <a:blip r:embed="rId1"/>
          <a:stretch/>
        </p:blipFill>
        <p:spPr>
          <a:xfrm>
            <a:off x="2004840" y="1770120"/>
            <a:ext cx="4597920" cy="4322520"/>
          </a:xfrm>
          <a:prstGeom prst="rect">
            <a:avLst/>
          </a:prstGeom>
          <a:ln w="0">
            <a:noFill/>
          </a:ln>
        </p:spPr>
      </p:pic>
      <p:pic>
        <p:nvPicPr>
          <p:cNvPr id="120" name="beanie" descr=""/>
          <p:cNvPicPr/>
          <p:nvPr/>
        </p:nvPicPr>
        <p:blipFill>
          <a:blip r:embed="rId2"/>
          <a:stretch/>
        </p:blipFill>
        <p:spPr>
          <a:xfrm rot="18738000">
            <a:off x="2193120" y="5519880"/>
            <a:ext cx="974880" cy="969480"/>
          </a:xfrm>
          <a:prstGeom prst="rect">
            <a:avLst/>
          </a:prstGeom>
          <a:ln w="0">
            <a:noFill/>
          </a:ln>
        </p:spPr>
      </p:pic>
      <p:pic>
        <p:nvPicPr>
          <p:cNvPr id="121" name="boots" descr=""/>
          <p:cNvPicPr/>
          <p:nvPr/>
        </p:nvPicPr>
        <p:blipFill>
          <a:blip r:embed="rId3"/>
          <a:stretch/>
        </p:blipFill>
        <p:spPr>
          <a:xfrm rot="920400">
            <a:off x="6401880" y="4038840"/>
            <a:ext cx="1007280" cy="964440"/>
          </a:xfrm>
          <a:prstGeom prst="rect">
            <a:avLst/>
          </a:prstGeom>
          <a:ln w="0">
            <a:noFill/>
          </a:ln>
        </p:spPr>
      </p:pic>
      <p:pic>
        <p:nvPicPr>
          <p:cNvPr id="122" name="jumper" descr=""/>
          <p:cNvPicPr/>
          <p:nvPr/>
        </p:nvPicPr>
        <p:blipFill>
          <a:blip r:embed="rId4"/>
          <a:stretch/>
        </p:blipFill>
        <p:spPr>
          <a:xfrm>
            <a:off x="649800" y="1952640"/>
            <a:ext cx="2063160" cy="1372680"/>
          </a:xfrm>
          <a:prstGeom prst="rect">
            <a:avLst/>
          </a:prstGeom>
          <a:ln w="0">
            <a:noFill/>
          </a:ln>
        </p:spPr>
      </p:pic>
      <p:pic>
        <p:nvPicPr>
          <p:cNvPr id="123" name="scarf" descr=""/>
          <p:cNvPicPr/>
          <p:nvPr/>
        </p:nvPicPr>
        <p:blipFill>
          <a:blip r:embed="rId5"/>
          <a:stretch/>
        </p:blipFill>
        <p:spPr>
          <a:xfrm>
            <a:off x="702360" y="4468680"/>
            <a:ext cx="1572840" cy="1370160"/>
          </a:xfrm>
          <a:prstGeom prst="rect">
            <a:avLst/>
          </a:prstGeom>
          <a:ln w="0">
            <a:noFill/>
          </a:ln>
        </p:spPr>
      </p:pic>
      <p:pic>
        <p:nvPicPr>
          <p:cNvPr id="124" name="coat" descr=""/>
          <p:cNvPicPr/>
          <p:nvPr/>
        </p:nvPicPr>
        <p:blipFill>
          <a:blip r:embed="rId6"/>
          <a:stretch/>
        </p:blipFill>
        <p:spPr>
          <a:xfrm>
            <a:off x="7273080" y="4067280"/>
            <a:ext cx="1315800" cy="2097000"/>
          </a:xfrm>
          <a:prstGeom prst="rect">
            <a:avLst/>
          </a:prstGeom>
          <a:ln w="0">
            <a:noFill/>
          </a:ln>
        </p:spPr>
      </p:pic>
      <p:pic>
        <p:nvPicPr>
          <p:cNvPr id="125" name="gloves" descr=""/>
          <p:cNvPicPr/>
          <p:nvPr/>
        </p:nvPicPr>
        <p:blipFill>
          <a:blip r:embed="rId7"/>
          <a:stretch/>
        </p:blipFill>
        <p:spPr>
          <a:xfrm>
            <a:off x="635040" y="3508200"/>
            <a:ext cx="1117440" cy="777240"/>
          </a:xfrm>
          <a:prstGeom prst="rect">
            <a:avLst/>
          </a:prstGeom>
          <a:ln w="0">
            <a:noFill/>
          </a:ln>
        </p:spPr>
      </p:pic>
      <p:pic>
        <p:nvPicPr>
          <p:cNvPr id="126" name="swimmers" descr=""/>
          <p:cNvPicPr/>
          <p:nvPr/>
        </p:nvPicPr>
        <p:blipFill>
          <a:blip r:embed="rId8"/>
          <a:stretch/>
        </p:blipFill>
        <p:spPr>
          <a:xfrm>
            <a:off x="7803720" y="2143800"/>
            <a:ext cx="728280" cy="1168200"/>
          </a:xfrm>
          <a:prstGeom prst="rect">
            <a:avLst/>
          </a:prstGeom>
          <a:ln w="0">
            <a:noFill/>
          </a:ln>
        </p:spPr>
      </p:pic>
      <p:pic>
        <p:nvPicPr>
          <p:cNvPr id="127" name="shorts" descr=""/>
          <p:cNvPicPr/>
          <p:nvPr/>
        </p:nvPicPr>
        <p:blipFill>
          <a:blip r:embed="rId9"/>
          <a:stretch/>
        </p:blipFill>
        <p:spPr>
          <a:xfrm>
            <a:off x="6180840" y="5267880"/>
            <a:ext cx="1068120" cy="936360"/>
          </a:xfrm>
          <a:prstGeom prst="rect">
            <a:avLst/>
          </a:prstGeom>
          <a:ln w="0">
            <a:noFill/>
          </a:ln>
        </p:spPr>
      </p:pic>
      <p:pic>
        <p:nvPicPr>
          <p:cNvPr id="128" name="dress" descr=""/>
          <p:cNvPicPr/>
          <p:nvPr/>
        </p:nvPicPr>
        <p:blipFill>
          <a:blip r:embed="rId10"/>
          <a:stretch/>
        </p:blipFill>
        <p:spPr>
          <a:xfrm>
            <a:off x="6507000" y="1885680"/>
            <a:ext cx="1360080" cy="1921680"/>
          </a:xfrm>
          <a:prstGeom prst="rect">
            <a:avLst/>
          </a:prstGeom>
          <a:ln w="0">
            <a:noFill/>
          </a:ln>
        </p:spPr>
      </p:pic>
      <p:pic>
        <p:nvPicPr>
          <p:cNvPr id="129" name="thongs" descr=""/>
          <p:cNvPicPr/>
          <p:nvPr/>
        </p:nvPicPr>
        <p:blipFill>
          <a:blip r:embed="rId11"/>
          <a:stretch/>
        </p:blipFill>
        <p:spPr>
          <a:xfrm>
            <a:off x="1170720" y="5509080"/>
            <a:ext cx="776880" cy="660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"/>
          <p:cNvPicPr/>
          <p:nvPr/>
        </p:nvPicPr>
        <p:blipFill>
          <a:blip r:embed="rId12"/>
          <a:stretch/>
        </p:blipFill>
        <p:spPr>
          <a:xfrm>
            <a:off x="1382400" y="700560"/>
            <a:ext cx="598680" cy="58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"/>
          <p:cNvPicPr/>
          <p:nvPr/>
        </p:nvPicPr>
        <p:blipFill>
          <a:blip r:embed="rId13"/>
          <a:stretch/>
        </p:blipFill>
        <p:spPr>
          <a:xfrm>
            <a:off x="7135920" y="689760"/>
            <a:ext cx="598680" cy="58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"/>
          <p:cNvPicPr/>
          <p:nvPr/>
        </p:nvPicPr>
        <p:blipFill>
          <a:blip r:embed="rId14"/>
          <a:stretch/>
        </p:blipFill>
        <p:spPr>
          <a:xfrm>
            <a:off x="1989720" y="4264200"/>
            <a:ext cx="4166640" cy="1833480"/>
          </a:xfrm>
          <a:prstGeom prst="rect">
            <a:avLst/>
          </a:prstGeom>
          <a:ln w="0">
            <a:noFill/>
          </a:ln>
        </p:spPr>
      </p:pic>
      <p:pic>
        <p:nvPicPr>
          <p:cNvPr id="133" name="hat" descr=""/>
          <p:cNvPicPr/>
          <p:nvPr/>
        </p:nvPicPr>
        <p:blipFill>
          <a:blip r:embed="rId15"/>
          <a:stretch/>
        </p:blipFill>
        <p:spPr>
          <a:xfrm>
            <a:off x="1766880" y="3219840"/>
            <a:ext cx="1481400" cy="804600"/>
          </a:xfrm>
          <a:prstGeom prst="rect">
            <a:avLst/>
          </a:prstGeom>
          <a:ln w="0">
            <a:noFill/>
          </a:ln>
        </p:spPr>
      </p:pic>
      <p:pic>
        <p:nvPicPr>
          <p:cNvPr id="134" name="sunglasses" descr=""/>
          <p:cNvPicPr/>
          <p:nvPr/>
        </p:nvPicPr>
        <p:blipFill>
          <a:blip r:embed="rId16"/>
          <a:stretch/>
        </p:blipFill>
        <p:spPr>
          <a:xfrm rot="402000">
            <a:off x="2281680" y="1846080"/>
            <a:ext cx="1007640" cy="6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delay="0" evt="onClick">
                    <p:tgtEl>
                      <p:spTgt spid="125"/>
                    </p:tgtEl>
                  </p:cond>
                </p:stCondLst>
                <p:childTnLst>
                  <p:par>
                    <p:cTn id="12" fill="hold">
                      <p:stCondLst>
                        <p:cond delay="0"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21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30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39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48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57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0.02552 0.02176 C 0.02848 0.02408 0.0316 0.02616 0.03438 0.02871 C 0.04393 0.03773 0.03924 0.03426 0.04792 0.03982 C 0.05764 0.05394 0.04306 0.03311 0.05677 0.05047 C 0.06181 0.05695 0.0665 0.06366 0.07136 0.07014 C 0.07431 0.07431 0.07726 0.07801 0.08021 0.08218 C 0.08403 0.0875 0.08716 0.09306 0.09132 0.09815 C 0.09844 0.10648 0.10556 0.11482 0.1125 0.12361 C 0.11632 0.12801 0.11997 0.13311 0.12379 0.13797 C 0.12726 0.1426 0.13125 0.14676 0.1349 0.15116 L 0.15052 0.17199 C 0.15261 0.17477 0.15521 0.17732 0.1573 0.18033 C 0.15903 0.18311 0.16112 0.18588 0.16285 0.18889 C 0.16632 0.19561 0.16858 0.20324 0.17292 0.20949 C 0.17396 0.21111 0.17535 0.2125 0.17605 0.21436 C 0.18959 0.23959 0.17344 0.21019 0.18282 0.23241 C 0.18421 0.23519 0.18577 0.23727 0.18733 0.23982 C 0.1882 0.24352 0.18872 0.24723 0.18959 0.2507 C 0.19011 0.25232 0.19028 0.25394 0.19063 0.25556 C 0.19341 0.26551 0.19358 0.26389 0.19514 0.27153 C 0.19705 0.28033 0.19671 0.28125 0.19844 0.29329 C 0.19914 0.29723 0.20018 0.30116 0.20087 0.3051 C 0.20209 0.31343 0.20191 0.31598 0.20296 0.32454 C 0.2033 0.32709 0.20382 0.3294 0.20417 0.33195 C 0.20452 0.33797 0.20487 0.34422 0.20521 0.35 C 0.20556 0.3544 0.20608 0.35903 0.20643 0.36343 C 0.2066 0.36667 0.20643 0.36991 0.20643 0.37338 L 0.20643 0.37361 E">
                                      <p:cBhvr>
                                        <p:cTn id="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62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1.94444E-006 0.00023 C 0.01233 0.0037 0.01285 0.00324 0.02344 0.00833 C 0.03472 0.01389 0.03872 0.0169 0.05 0.02153 C 0.07049 0.02986 0.05504 0.0213 0.07761 0.0331 C 0.08768 0.03819 0.09688 0.04491 0.10695 0.04907 C 0.11632 0.05278 0.14011 0.06273 0.14601 0.0662 C 0.15365 0.0713 0.16129 0.07569 0.1684 0.08079 C 0.17431 0.08518 0.17969 0.09074 0.18646 0.09398 C 0.19045 0.09583 0.19497 0.09722 0.19896 0.09977 C 0.20226 0.10162 0.20521 0.10532 0.20868 0.10694 C 0.21268 0.10903 0.21702 0.10972 0.22136 0.11134 C 0.22448 0.11273 0.22795 0.11389 0.23108 0.11574 C 0.23351 0.11713 0.23559 0.11898 0.23785 0.12014 C 0.24983 0.12477 0.26823 0.13125 0.28247 0.13449 C 0.28542 0.13518 0.28802 0.13542 0.2908 0.13588 C 0.29271 0.13611 0.29462 0.13704 0.29636 0.13727 C 0.30191 0.13819 0.31337 0.13889 0.31337 0.13935 L 0.31337 0.13889 E">
                                      <p:cBhvr>
                                        <p:cTn id="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delay="0" evt="onClick">
                    <p:tgtEl>
                      <p:spTgt spid="129"/>
                    </p:tgtEl>
                  </p:cond>
                </p:stCondLst>
                <p:childTnLst>
                  <p:par>
                    <p:cTn id="67" fill="hold">
                      <p:stCondLst>
                        <p:cond delay="0"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23 L 3.88889E-006 0.00023 C 3.88889E-006 -0.00764 0.00017 -0.01458 0.00052 -0.02176 C 0.00069 -0.025 0.0026 -0.03264 0.00312 -0.03519 C 0.00329 -0.03727 0.00329 -0.03958 0.00382 -0.04167 C 0.00416 -0.04375 0.00503 -0.04537 0.00538 -0.04722 C 0.01007 -0.06968 0.00364 -0.0456 0.00954 -0.07014 C 0.01111 -0.07639 0.01267 -0.08264 0.01441 -0.08866 C 0.01493 -0.09051 0.01562 -0.09213 0.01597 -0.09398 C 0.01649 -0.09653 0.01684 -0.09954 0.0177 -0.10185 C 0.01875 -0.10556 0.02031 -0.1081 0.0217 -0.11158 C 0.02257 -0.11343 0.02309 -0.11574 0.02413 -0.11806 C 0.02691 -0.125 0.02968 -0.13079 0.03298 -0.13681 C 0.03628 -0.14236 0.03923 -0.14815 0.0427 -0.15278 C 0.04704 -0.15787 0.05225 -0.16111 0.05659 -0.1662 C 0.05764 -0.16759 0.05868 -0.16898 0.05972 -0.17014 C 0.0618 -0.17292 0.06336 -0.17593 0.06545 -0.17824 C 0.06666 -0.1794 0.06823 -0.18009 0.06944 -0.18102 C 0.07204 -0.18264 0.0743 -0.18449 0.07691 -0.18634 C 0.08038 -0.18843 0.08993 -0.19329 0.09305 -0.19421 C 0.09566 -0.19514 0.09843 -0.19514 0.10121 -0.19583 C 0.10729 -0.19838 0.10868 -0.19861 0.11493 -0.20232 C 0.11684 -0.2037 0.11857 -0.20579 0.12066 -0.20625 C 0.12343 -0.20741 0.12621 -0.20741 0.12882 -0.20764 C 0.13125 -0.2088 0.13368 -0.20926 0.13611 -0.21042 C 0.13784 -0.21111 0.13975 -0.21273 0.14184 -0.21273 L 0.16927 -0.21158 C 0.17048 -0.21111 0.17152 -0.21019 0.17257 -0.20926 C 0.17569 -0.20602 0.17395 -0.20625 0.17604 -0.20625 L 0.17604 -0.20602 E">
                                      <p:cBhvr>
                                        <p:cTn id="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72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2.5E-006 0.00046 C -0.00278 0.00185 -0.00556 0.0037 -0.00799 0.00648 C -0.01163 0.00972 -0.01476 0.01435 -0.01841 0.01713 C -0.02604 0.02407 -0.03403 0.02963 -0.04167 0.03611 C -0.04618 0.03981 -0.05052 0.04305 -0.05469 0.04722 C -0.05903 0.05139 -0.0632 0.05601 -0.06771 0.05926 C -0.07222 0.06296 -0.07709 0.06527 -0.08143 0.06898 C -0.08629 0.07268 -0.0908 0.07731 -0.09531 0.08101 C -0.10486 0.08889 -0.11441 0.09537 -0.12379 0.10277 C -0.12778 0.10601 -0.13143 0.10879 -0.13507 0.1125 C -0.14167 0.11805 -0.14757 0.125 -0.15417 0.13009 C -0.15729 0.1324 -0.16059 0.13426 -0.16354 0.13657 C -0.1967 0.16574 -0.14948 0.12777 -0.17847 0.15046 C -0.18629 0.16296 -0.17761 0.15 -0.19462 0.16805 C -0.1974 0.17083 -0.2 0.17361 -0.20261 0.17639 C -0.20764 0.18101 -0.21025 0.1824 -0.21459 0.18842 C -0.21788 0.19259 -0.22031 0.19768 -0.22327 0.20185 C -0.22795 0.20833 -0.23299 0.21435 -0.23716 0.22083 C -0.24445 0.2324 -0.24063 0.22916 -0.24757 0.23333 L -0.25712 0.24537 C -0.25834 0.24676 -0.26059 0.24953 -0.26059 0.25 C -0.26111 0.25139 -0.26181 0.25324 -0.26233 0.25509 C -0.26268 0.25694 -0.26268 0.25879 -0.2632 0.26018 C -0.26354 0.26203 -0.26563 0.26851 -0.26667 0.2699 C -0.2691 0.27361 -0.27014 0.27361 -0.27275 0.27685 C -0.27327 0.27777 -0.27379 0.2787 -0.27413 0.27963 L -0.27413 0.28032 E">
                                      <p:cBhvr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77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81481E-006 C -0.12049 0.00231 -0.04913 -0.00116 -0.11649 0.00439 C -0.13906 0.00625 -0.14635 0.00601 -0.16892 0.00879 C -0.17622 0.00995 -0.18368 0.01064 -0.19097 0.0125 C -0.20816 0.01666 -0.22865 0.02662 -0.2434 0.03263 C -0.24879 0.03472 -0.26788 0.04189 -0.2724 0.04444 C -0.27639 0.04652 -0.28004 0.04884 -0.2842 0.05069 C -0.28854 0.05277 -0.29358 0.05416 -0.29809 0.05625 C -0.30833 0.06111 -0.31823 0.06666 -0.32847 0.07175 C -0.33368 0.07453 -0.33906 0.07754 -0.34479 0.07986 C -0.35 0.0824 -0.35573 0.08449 -0.36094 0.08726 C -0.3724 0.09305 -0.38316 0.09953 -0.39462 0.10555 C -0.39896 0.10763 -0.4033 0.10972 -0.40747 0.1118 C -0.41267 0.11435 -0.41945 0.11712 -0.42379 0.12106 C -0.42552 0.12245 -0.42639 0.12476 -0.42847 0.12638 C -0.4401 0.13634 -0.43472 0.12893 -0.44219 0.13726 C -0.44826 0.14398 -0.4467 0.14629 -0.45642 0.1537 C -0.45833 0.15532 -0.46024 0.15671 -0.46215 0.15833 C -0.46424 0.16018 -0.46597 0.16203 -0.46806 0.16365 C -0.46927 0.16504 -0.47118 0.1662 -0.47257 0.16736 C -0.47743 0.17175 -0.48056 0.17569 -0.48646 0.17916 C -0.48872 0.18055 -0.49132 0.18078 -0.49358 0.18194 C -0.49531 0.1831 -0.49635 0.18472 -0.49826 0.18564 C -0.50365 0.18888 -0.50243 0.18587 -0.50642 0.19027 C -0.50747 0.19143 -0.50764 0.19282 -0.50868 0.19398 C -0.50972 0.1949 -0.51198 0.19675 -0.51198 0.19699 L -0.51198 0.19675 E">
                                      <p:cBhvr>
                                        <p:cTn id="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82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046 L 5E-006 0.00023 C -0.00312 -0.00555 -0.0059 -0.01088 -0.00885 -0.01597 C -0.01685 -0.03125 -0.00416 -0.01528 -0.02378 -0.04537 C -0.03055 -0.05486 -0.03784 -0.06365 -0.04479 -0.07315 C -0.04704 -0.07592 -0.04913 -0.0794 -0.05173 -0.08217 C -0.05364 -0.08426 -0.05555 -0.08588 -0.05711 -0.08819 C -0.05868 -0.09004 -0.06006 -0.09259 -0.06145 -0.09421 C -0.06336 -0.09676 -0.06527 -0.09861 -0.06701 -0.10069 C -0.07256 -0.10764 -0.07777 -0.11666 -0.08506 -0.12222 L -0.10869 -0.14051 C -0.1132 -0.14444 -0.11737 -0.14884 -0.12257 -0.15115 C -0.15834 -0.16898 -0.11355 -0.14699 -0.14636 -0.16203 C -0.15018 -0.16412 -0.15435 -0.16643 -0.15834 -0.16805 C -0.16164 -0.16967 -0.16494 -0.17014 -0.16823 -0.17153 C -0.16997 -0.17222 -0.17171 -0.17384 -0.17379 -0.17453 C -0.17605 -0.17523 -0.1783 -0.17546 -0.18091 -0.17615 C -0.19775 -0.18055 -0.1665 -0.17361 -0.19167 -0.1787 C -0.19358 -0.18009 -0.19514 -0.18148 -0.19723 -0.18217 C -0.20157 -0.18333 -0.22014 -0.18472 -0.22223 -0.18472 L -0.29566 -0.18379 C -0.29931 -0.18379 -0.30261 -0.17986 -0.30539 -0.1787 C -0.3073 -0.1787 -0.30903 -0.1787 -0.3106 -0.1787 L -0.3106 -0.17847 E">
                                      <p:cBhvr>
                                        <p:cTn id="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78800"/>
            <a:ext cx="8219880" cy="993960"/>
          </a:xfrm>
          <a:prstGeom prst="rect">
            <a:avLst/>
          </a:prstGeom>
          <a:noFill/>
          <a:ln w="2556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rgbClr val="1c1c1c"/>
                </a:solidFill>
                <a:latin typeface="Twinkl"/>
              </a:rPr>
              <a:t>Holiday Clothes Sorting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55640" y="1381320"/>
            <a:ext cx="76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Sort the items suitable for a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</a:rPr>
              <a:t>cold climate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nto this suit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suitcase" descr=""/>
          <p:cNvPicPr/>
          <p:nvPr/>
        </p:nvPicPr>
        <p:blipFill>
          <a:blip r:embed="rId1"/>
          <a:stretch/>
        </p:blipFill>
        <p:spPr>
          <a:xfrm>
            <a:off x="2004840" y="1770120"/>
            <a:ext cx="4597920" cy="4322520"/>
          </a:xfrm>
          <a:prstGeom prst="rect">
            <a:avLst/>
          </a:prstGeom>
          <a:ln w="0">
            <a:noFill/>
          </a:ln>
        </p:spPr>
      </p:pic>
      <p:pic>
        <p:nvPicPr>
          <p:cNvPr id="138" name="boots" descr=""/>
          <p:cNvPicPr/>
          <p:nvPr/>
        </p:nvPicPr>
        <p:blipFill>
          <a:blip r:embed="rId2"/>
          <a:stretch/>
        </p:blipFill>
        <p:spPr>
          <a:xfrm rot="920400">
            <a:off x="6401880" y="4038840"/>
            <a:ext cx="1007280" cy="964440"/>
          </a:xfrm>
          <a:prstGeom prst="rect">
            <a:avLst/>
          </a:prstGeom>
          <a:ln w="0">
            <a:noFill/>
          </a:ln>
        </p:spPr>
      </p:pic>
      <p:pic>
        <p:nvPicPr>
          <p:cNvPr id="139" name="jumper" descr=""/>
          <p:cNvPicPr/>
          <p:nvPr/>
        </p:nvPicPr>
        <p:blipFill>
          <a:blip r:embed="rId3"/>
          <a:stretch/>
        </p:blipFill>
        <p:spPr>
          <a:xfrm>
            <a:off x="649800" y="1952640"/>
            <a:ext cx="2063160" cy="1372680"/>
          </a:xfrm>
          <a:prstGeom prst="rect">
            <a:avLst/>
          </a:prstGeom>
          <a:ln w="0">
            <a:noFill/>
          </a:ln>
        </p:spPr>
      </p:pic>
      <p:pic>
        <p:nvPicPr>
          <p:cNvPr id="140" name="scarf" descr=""/>
          <p:cNvPicPr/>
          <p:nvPr/>
        </p:nvPicPr>
        <p:blipFill>
          <a:blip r:embed="rId4"/>
          <a:stretch/>
        </p:blipFill>
        <p:spPr>
          <a:xfrm>
            <a:off x="702360" y="4468680"/>
            <a:ext cx="1572840" cy="1370160"/>
          </a:xfrm>
          <a:prstGeom prst="rect">
            <a:avLst/>
          </a:prstGeom>
          <a:ln w="0">
            <a:noFill/>
          </a:ln>
        </p:spPr>
      </p:pic>
      <p:pic>
        <p:nvPicPr>
          <p:cNvPr id="141" name="coat" descr=""/>
          <p:cNvPicPr/>
          <p:nvPr/>
        </p:nvPicPr>
        <p:blipFill>
          <a:blip r:embed="rId5"/>
          <a:stretch/>
        </p:blipFill>
        <p:spPr>
          <a:xfrm>
            <a:off x="7273080" y="4067280"/>
            <a:ext cx="1315800" cy="2097000"/>
          </a:xfrm>
          <a:prstGeom prst="rect">
            <a:avLst/>
          </a:prstGeom>
          <a:ln w="0">
            <a:noFill/>
          </a:ln>
        </p:spPr>
      </p:pic>
      <p:pic>
        <p:nvPicPr>
          <p:cNvPr id="142" name="gloves" descr=""/>
          <p:cNvPicPr/>
          <p:nvPr/>
        </p:nvPicPr>
        <p:blipFill>
          <a:blip r:embed="rId6"/>
          <a:stretch/>
        </p:blipFill>
        <p:spPr>
          <a:xfrm>
            <a:off x="635040" y="3508200"/>
            <a:ext cx="1117440" cy="777240"/>
          </a:xfrm>
          <a:prstGeom prst="rect">
            <a:avLst/>
          </a:prstGeom>
          <a:ln w="0">
            <a:noFill/>
          </a:ln>
        </p:spPr>
      </p:pic>
      <p:pic>
        <p:nvPicPr>
          <p:cNvPr id="143" name="shorts" descr=""/>
          <p:cNvPicPr/>
          <p:nvPr/>
        </p:nvPicPr>
        <p:blipFill>
          <a:blip r:embed="rId7"/>
          <a:stretch/>
        </p:blipFill>
        <p:spPr>
          <a:xfrm>
            <a:off x="6180840" y="5267880"/>
            <a:ext cx="1068120" cy="936360"/>
          </a:xfrm>
          <a:prstGeom prst="rect">
            <a:avLst/>
          </a:prstGeom>
          <a:ln w="0">
            <a:noFill/>
          </a:ln>
        </p:spPr>
      </p:pic>
      <p:pic>
        <p:nvPicPr>
          <p:cNvPr id="144" name="swimmers" descr=""/>
          <p:cNvPicPr/>
          <p:nvPr/>
        </p:nvPicPr>
        <p:blipFill>
          <a:blip r:embed="rId8"/>
          <a:stretch/>
        </p:blipFill>
        <p:spPr>
          <a:xfrm>
            <a:off x="7803720" y="2143800"/>
            <a:ext cx="728280" cy="1168200"/>
          </a:xfrm>
          <a:prstGeom prst="rect">
            <a:avLst/>
          </a:prstGeom>
          <a:ln w="0">
            <a:noFill/>
          </a:ln>
        </p:spPr>
      </p:pic>
      <p:pic>
        <p:nvPicPr>
          <p:cNvPr id="145" name="hat" descr=""/>
          <p:cNvPicPr/>
          <p:nvPr/>
        </p:nvPicPr>
        <p:blipFill>
          <a:blip r:embed="rId9"/>
          <a:stretch/>
        </p:blipFill>
        <p:spPr>
          <a:xfrm>
            <a:off x="1770480" y="3200400"/>
            <a:ext cx="1481400" cy="804600"/>
          </a:xfrm>
          <a:prstGeom prst="rect">
            <a:avLst/>
          </a:prstGeom>
          <a:ln w="0">
            <a:noFill/>
          </a:ln>
        </p:spPr>
      </p:pic>
      <p:pic>
        <p:nvPicPr>
          <p:cNvPr id="146" name="dress" descr=""/>
          <p:cNvPicPr/>
          <p:nvPr/>
        </p:nvPicPr>
        <p:blipFill>
          <a:blip r:embed="rId10"/>
          <a:stretch/>
        </p:blipFill>
        <p:spPr>
          <a:xfrm>
            <a:off x="6507000" y="1885680"/>
            <a:ext cx="1360080" cy="1921680"/>
          </a:xfrm>
          <a:prstGeom prst="rect">
            <a:avLst/>
          </a:prstGeom>
          <a:ln w="0">
            <a:noFill/>
          </a:ln>
        </p:spPr>
      </p:pic>
      <p:pic>
        <p:nvPicPr>
          <p:cNvPr id="147" name="thongs" descr=""/>
          <p:cNvPicPr/>
          <p:nvPr/>
        </p:nvPicPr>
        <p:blipFill>
          <a:blip r:embed="rId11"/>
          <a:stretch/>
        </p:blipFill>
        <p:spPr>
          <a:xfrm>
            <a:off x="1170720" y="5509080"/>
            <a:ext cx="776880" cy="66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12"/>
          <a:stretch/>
        </p:blipFill>
        <p:spPr>
          <a:xfrm>
            <a:off x="7122240" y="623520"/>
            <a:ext cx="606600" cy="69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"/>
          <p:cNvPicPr/>
          <p:nvPr/>
        </p:nvPicPr>
        <p:blipFill>
          <a:blip r:embed="rId13"/>
          <a:stretch/>
        </p:blipFill>
        <p:spPr>
          <a:xfrm>
            <a:off x="1423080" y="623520"/>
            <a:ext cx="606600" cy="699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"/>
          <p:cNvPicPr/>
          <p:nvPr/>
        </p:nvPicPr>
        <p:blipFill>
          <a:blip r:embed="rId14"/>
          <a:stretch/>
        </p:blipFill>
        <p:spPr>
          <a:xfrm>
            <a:off x="1989720" y="4264200"/>
            <a:ext cx="4166640" cy="1833480"/>
          </a:xfrm>
          <a:prstGeom prst="rect">
            <a:avLst/>
          </a:prstGeom>
          <a:ln w="0">
            <a:noFill/>
          </a:ln>
        </p:spPr>
      </p:pic>
      <p:pic>
        <p:nvPicPr>
          <p:cNvPr id="151" name="beanie" descr=""/>
          <p:cNvPicPr/>
          <p:nvPr/>
        </p:nvPicPr>
        <p:blipFill>
          <a:blip r:embed="rId15"/>
          <a:stretch/>
        </p:blipFill>
        <p:spPr>
          <a:xfrm rot="18738000">
            <a:off x="2193120" y="5519880"/>
            <a:ext cx="974880" cy="969480"/>
          </a:xfrm>
          <a:prstGeom prst="rect">
            <a:avLst/>
          </a:prstGeom>
          <a:ln w="0">
            <a:noFill/>
          </a:ln>
        </p:spPr>
      </p:pic>
      <p:pic>
        <p:nvPicPr>
          <p:cNvPr id="152" name="sunglasses" descr=""/>
          <p:cNvPicPr/>
          <p:nvPr/>
        </p:nvPicPr>
        <p:blipFill>
          <a:blip r:embed="rId16"/>
          <a:stretch/>
        </p:blipFill>
        <p:spPr>
          <a:xfrm rot="402000">
            <a:off x="2281680" y="1846080"/>
            <a:ext cx="1007640" cy="6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88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97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106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124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133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22222E-006 L -4.16667E-006 0.00023 C 0.00261 0.00162 0.00556 0.00394 0.00834 0.00602 C 0.01181 0.00903 0.01528 0.01227 0.01875 0.01528 L 0.02639 0.02153 C 0.02796 0.02292 0.02969 0.02431 0.03125 0.02547 L 0.03594 0.02963 C 0.03837 0.03102 0.04046 0.03287 0.04271 0.03449 C 0.04601 0.03727 0.04914 0.03959 0.05226 0.04236 C 0.05504 0.04491 0.05782 0.04792 0.06094 0.05023 C 0.0632 0.05209 0.06598 0.05347 0.06841 0.05533 C 0.07084 0.05741 0.07275 0.05972 0.07518 0.06181 C 0.07743 0.06366 0.08021 0.06551 0.08264 0.0669 C 0.0849 0.06829 0.08733 0.06898 0.08941 0.07084 C 0.09237 0.07338 0.09462 0.07778 0.09809 0.07986 C 0.10487 0.08403 0.10539 0.08403 0.11233 0.08889 C 0.11528 0.09121 0.11789 0.09352 0.12084 0.0956 C 0.12379 0.09746 0.12657 0.09884 0.12952 0.1007 C 0.13178 0.10209 0.13386 0.10463 0.13629 0.10602 C 0.13907 0.10787 0.14184 0.10903 0.14497 0.11111 C 0.14775 0.11297 0.15035 0.11551 0.1533 0.11759 C 0.15556 0.11898 0.15782 0.11991 0.16007 0.12153 C 0.16198 0.12292 0.16389 0.125 0.1658 0.12685 C 0.16789 0.12847 0.17032 0.13009 0.17257 0.13195 C 0.17414 0.13334 0.17535 0.13565 0.17726 0.13727 C 0.17865 0.13843 0.18039 0.13843 0.18212 0.13959 C 0.1849 0.14167 0.18768 0.14398 0.19046 0.14607 C 0.19237 0.14722 0.19462 0.14746 0.19636 0.14838 C 0.19862 0.15 0.2007 0.15232 0.20313 0.15417 C 0.20452 0.15486 0.20625 0.15556 0.20764 0.15648 C 0.20938 0.15764 0.21094 0.15903 0.2125 0.16042 C 0.21355 0.16111 0.21441 0.16227 0.21528 0.16297 C 0.21702 0.16389 0.21858 0.16435 0.22014 0.16528 C 0.22118 0.16621 0.22205 0.16736 0.22309 0.16829 C 0.22483 0.16922 0.22691 0.16945 0.22865 0.1706 C 0.23056 0.17176 0.23195 0.17338 0.23351 0.17454 C 0.23542 0.17593 0.2375 0.17685 0.23924 0.17847 C 0.24184 0.18102 0.24445 0.1838 0.24688 0.18634 C 0.24809 0.1875 0.24948 0.18843 0.2507 0.19028 C 0.25157 0.19144 0.25243 0.19283 0.25348 0.19375 C 0.25625 0.19699 0.25921 0.2 0.26198 0.20301 C 0.2632 0.2044 0.26476 0.20533 0.2658 0.20695 C 0.26684 0.20834 0.26789 0.20949 0.26875 0.21065 C 0.26997 0.21227 0.27136 0.21343 0.27257 0.21482 C 0.27414 0.21644 0.27587 0.2169 0.27743 0.21875 C 0.28021 0.22199 0.28247 0.22547 0.28507 0.22917 L 0.28889 0.23403 C 0.29011 0.23588 0.29132 0.23773 0.29254 0.23912 C 0.29445 0.24144 0.29671 0.24329 0.29844 0.24607 C 0.30053 0.24908 0.30139 0.25371 0.30417 0.25602 C 0.30799 0.25996 0.30608 0.25764 0.3099 0.26297 C 0.31042 0.26435 0.31112 0.26621 0.31164 0.26783 C 0.31303 0.2706 0.31702 0.2757 0.31841 0.2794 C 0.31893 0.28079 0.31893 0.28218 0.31928 0.28334 C 0.3198 0.28519 0.32049 0.28727 0.32136 0.28843 C 0.32327 0.29375 0.32309 0.29074 0.32309 0.29398 L 0.32309 0.29445 E">
                                      <p:cBhvr>
                                        <p:cTn id="1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047 L 4.44444E-006 2.96296E-006 C 0.00277 -0.00093 0.00607 -0.00116 0.00902 -0.00116 C 0.01649 -0.00116 0.02274 -0.00093 0.02968 0.00023 C 0.03142 0.00069 0.03333 0.00115 0.03524 0.00162 C 0.03871 0.00185 0.04201 0.00185 0.04548 0.00231 C 0.05885 0.00717 0.04878 0.00393 0.06232 0.00764 C 0.08125 0.0125 0.07152 0.01041 0.08385 0.0125 C 0.0875 0.01365 0.09097 0.01574 0.09496 0.01643 C 0.09687 0.0169 0.09878 0.0169 0.10052 0.01782 C 0.10243 0.01805 0.10434 0.01898 0.10625 0.01944 C 0.1125 0.02106 0.11857 0.02176 0.125 0.02268 C 0.12673 0.02291 0.12864 0.02338 0.13038 0.02338 C 0.13333 0.0243 0.13888 0.02453 0.14166 0.02546 C 0.14357 0.02615 0.14548 0.02708 0.14722 0.02777 C 0.14861 0.02824 0.14982 0.02824 0.15104 0.0287 C 0.15243 0.02893 0.15347 0.03032 0.15486 0.03055 C 0.16093 0.0331 0.1592 0.0294 0.16788 0.03541 C 0.17413 0.04027 0.16649 0.03472 0.17708 0.0419 C 0.17829 0.04236 0.17916 0.04328 0.18003 0.04352 C 0.18107 0.04444 0.18263 0.04514 0.18368 0.0456 C 0.18802 0.04838 0.18507 0.04676 0.18941 0.05092 C 0.19027 0.05162 0.19132 0.05208 0.19218 0.05301 C 0.19322 0.05625 0.19218 0.05578 0.19409 0.05578 L 0.19409 0.05625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delay="0" evt="onClick">
                    <p:tgtEl>
                      <p:spTgt spid="151"/>
                    </p:tgtEl>
                  </p:cond>
                </p:stCondLst>
                <p:childTnLst>
                  <p:par>
                    <p:cTn id="143" fill="hold">
                      <p:stCondLst>
                        <p:cond delay="0"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0023 L 8.33333E-007 0.00023 C 0.00104 -0.00555 0.00642 -0.03148 0.0099 -0.0412 C 0.01111 -0.04467 0.01302 -0.04745 0.01441 -0.05092 C 0.01597 -0.05532 0.01736 -0.05995 0.01875 -0.06412 C 0.01944 -0.06551 0.01944 -0.06759 0.01996 -0.06898 C 0.02101 -0.07129 0.0224 -0.07338 0.02326 -0.07569 C 0.02483 -0.0787 0.02621 -0.08217 0.02778 -0.08541 C 0.03333 -0.09583 0.0434 -0.11041 0.04913 -0.11805 C 0.05972 -0.1324 0.05121 -0.10926 0.06944 -0.14444 C 0.07066 -0.14652 0.07153 -0.14884 0.07274 -0.15092 C 0.07378 -0.15277 0.07517 -0.1544 0.07604 -0.15602 C 0.07847 -0.15972 0.08055 -0.16342 0.08299 -0.16713 C 0.08785 -0.17639 0.08663 -0.17662 0.09427 -0.18703 C 0.09792 -0.19213 0.10243 -0.19676 0.10642 -0.20162 C 0.10799 -0.2037 0.10937 -0.20648 0.11094 -0.20833 C 0.11406 -0.21203 0.11788 -0.21458 0.12101 -0.21805 C 0.12639 -0.22407 0.12274 -0.22176 0.12674 -0.2294 C 0.1276 -0.23148 0.12899 -0.23264 0.13003 -0.23426 C 0.13073 -0.23611 0.13246 -0.23912 0.13246 -0.23889 L 0.13246 -0.23912 E">
                                      <p:cBhvr>
                                        <p:cTn id="1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148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6.66667E-006 C -0.00312 -0.00277 -0.00608 -0.00509 -0.00903 -0.0081 C -0.01007 -0.00925 -0.01076 -0.0111 -0.01198 -0.01203 C -0.01441 -0.01388 -0.01736 -0.01435 -0.01996 -0.01597 C -0.02691 -0.0206 -0.03351 -0.02615 -0.04062 -0.03055 C -0.04427 -0.03263 -0.04792 -0.03495 -0.05156 -0.03703 C -0.05417 -0.03842 -0.05694 -0.03958 -0.05955 -0.04097 C -0.06146 -0.04212 -0.06337 -0.04374 -0.06545 -0.0449 C -0.06944 -0.04722 -0.07344 -0.0493 -0.07726 -0.05161 C -0.09097 -0.05925 -0.10851 -0.07036 -0.12083 -0.07268 C -0.12361 -0.07314 -0.1309 -0.07453 -0.13385 -0.07522 C -0.13802 -0.07661 -0.14236 -0.07777 -0.1467 -0.07939 C -0.14965 -0.08032 -0.15243 -0.0824 -0.15555 -0.08333 C -0.17292 -0.08819 -0.18246 -0.08772 -0.20104 -0.08981 C -0.22552 -0.09259 -0.20903 -0.09097 -0.25069 -0.09259 C -0.28385 -0.09837 -0.2441 -0.09189 -0.28819 -0.09652 C -0.28924 -0.09652 -0.29028 -0.09745 -0.29114 -0.09768 C -0.29253 -0.09837 -0.29392 -0.0986 -0.29514 -0.09907 C -0.29618 -0.09953 -0.29705 -0.10022 -0.29809 -0.10046 C -0.30243 -0.10069 -0.30677 -0.10046 -0.31094 -0.10046 E">
                                      <p:cBhvr>
                                        <p:cTn id="1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153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C -0.00643 -0.00463 -0.01215 -0.01042 -0.01893 -0.01343 L -0.03073 -0.01852 C -0.03299 -0.02061 -0.03525 -0.02269 -0.03768 -0.02385 C -0.03924 -0.02454 -0.04097 -0.02477 -0.04271 -0.02524 C -0.04514 -0.02686 -0.04688 -0.02848 -0.04965 -0.02917 C -0.05156 -0.02987 -0.05347 -0.0301 -0.05556 -0.03056 C -0.06059 -0.03172 -0.06094 -0.03218 -0.0665 -0.03311 C -0.07761 -0.03519 -0.07656 -0.03426 -0.09011 -0.03588 C -0.09323 -0.03612 -0.09618 -0.03704 -0.09913 -0.03704 C -0.11233 -0.03797 -0.12552 -0.03797 -0.13872 -0.03843 C -0.18611 -0.04699 -0.16025 -0.04329 -0.25747 -0.03982 C -0.2599 -0.03959 -0.26215 -0.03797 -0.26441 -0.03704 C -0.26545 -0.03681 -0.2665 -0.03635 -0.26736 -0.03588 C -0.2691 -0.03473 -0.27066 -0.03311 -0.2724 -0.03195 C -0.27327 -0.03125 -0.27431 -0.03125 -0.27535 -0.03056 C -0.27639 -0.02987 -0.27726 -0.02871 -0.2783 -0.02778 C -0.2816 -0.02524 -0.28177 -0.02547 -0.28525 -0.02385 C -0.28681 -0.02246 -0.29896 -0.01181 -0.29896 -0.01065 L -0.29896 -0.00926 E">
                                      <p:cBhvr>
                                        <p:cTn id="1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158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046 L -3.61111E-006 0.00023 C 0.0033 -0.00741 0.0066 -0.01435 0.01059 -0.0206 C 0.01424 -0.02662 0.02309 -0.03449 0.02674 -0.03912 C 0.02865 -0.04097 0.03004 -0.04398 0.03177 -0.04583 C 0.06684 -0.0838 0.04132 -0.05648 0.06198 -0.07431 C 0.06493 -0.07685 0.06771 -0.07963 0.07066 -0.08264 C 0.079 -0.09005 0.07414 -0.08495 0.08351 -0.09283 C 0.08594 -0.09468 0.08855 -0.09699 0.09115 -0.09954 C 0.09219 -0.10023 0.09393 -0.10139 0.09497 -0.10278 C 0.09671 -0.10463 0.09827 -0.10648 0.09983 -0.10787 C 0.1033 -0.11088 0.10712 -0.11343 0.11059 -0.1162 C 0.11407 -0.11875 0.11563 -0.1206 0.11927 -0.12292 C 0.12101 -0.12361 0.12257 -0.12384 0.12414 -0.12454 C 0.13907 -0.13519 0.12414 -0.12546 0.13577 -0.13125 C 0.13872 -0.13287 0.14184 -0.13472 0.14462 -0.13634 C 0.14809 -0.13796 0.15799 -0.1419 0.16129 -0.14306 C 0.17309 -0.14699 0.16164 -0.14213 0.17066 -0.14583 L 0.2099 -0.14468 C 0.21355 -0.14398 0.21754 -0.14398 0.22136 -0.14306 C 0.22275 -0.14213 0.22414 -0.14097 0.22535 -0.13958 C 0.22761 -0.13681 0.23021 -0.1331 0.23212 -0.12963 C 0.23577 -0.12222 0.23351 -0.12292 0.23629 -0.12292 L 0.23629 -0.1226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152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0556 0.00625 0.01146 0.01297 0.01702 0.01968 C 0.01858 0.02176 0.02014 0.02338 0.02153 0.0257 C 0.02327 0.02824 0.02448 0.03125 0.02622 0.03403 C 0.02691 0.03473 0.02813 0.03519 0.029 0.03611 C 0.03316 0.0426 0.0408 0.05463 0.04532 0.06343 C 0.04618 0.06505 0.04688 0.06736 0.04775 0.06922 C 0.05052 0.07431 0.05434 0.07871 0.05608 0.08449 C 0.05677 0.08658 0.0573 0.0882 0.05799 0.09028 C 0.05834 0.09167 0.05834 0.09283 0.05886 0.09375 C 0.0599 0.0963 0.06146 0.09861 0.06233 0.10093 C 0.06407 0.10533 0.06493 0.11042 0.06684 0.11505 C 0.06771 0.1169 0.07136 0.12477 0.0724 0.12778 C 0.07309 0.13033 0.07344 0.13287 0.07431 0.13496 C 0.07535 0.13843 0.07691 0.14121 0.07796 0.14445 C 0.07882 0.14792 0.07934 0.15162 0.08056 0.1551 C 0.08334 0.16389 0.08681 0.17037 0.09063 0.17871 C 0.0941 0.19723 0.08976 0.17986 0.09584 0.19375 C 0.09705 0.19653 0.09757 0.19931 0.09862 0.20209 C 0.09948 0.20394 0.10052 0.20602 0.10139 0.20811 C 0.10278 0.21111 0.10382 0.21436 0.10504 0.21736 C 0.11337 0.23912 0.10139 0.20718 0.11042 0.2338 C 0.11181 0.23797 0.11355 0.24167 0.11493 0.24561 C 0.11737 0.25162 0.11615 0.24885 0.11875 0.25394 C 0.11893 0.25533 0.11927 0.25695 0.11962 0.25857 L 0.1224 0.26898 L 0.12327 0.27269 C 0.12362 0.27385 0.12379 0.275 0.12414 0.27616 C 0.12483 0.27778 0.12535 0.27917 0.12587 0.28079 C 0.12865 0.29028 0.12674 0.28496 0.12865 0.2926 C 0.12952 0.29607 0.13073 0.29954 0.13125 0.30324 C 0.1316 0.30533 0.13195 0.30718 0.1323 0.30903 C 0.13247 0.31065 0.13299 0.31227 0.13316 0.31366 C 0.13351 0.3169 0.13351 0.32014 0.13403 0.32338 C 0.13507 0.3294 0.13542 0.32963 0.13768 0.3338 C 0.13837 0.33681 0.13872 0.34028 0.13959 0.34306 C 0.13993 0.34445 0.14028 0.34561 0.14046 0.34676 C 0.14046 0.34723 0.14046 0.34769 0.14046 0.34815 L 0.14046 0.34838 E">
                                      <p:cBhvr>
                                        <p:cTn id="1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Twinkl Template">
      <a:dk1>
        <a:srgbClr val="1c1c1c"/>
      </a:dk1>
      <a:lt1>
        <a:srgbClr val="ffffff"/>
      </a:lt1>
      <a:dk2>
        <a:srgbClr val="4a4a4a"/>
      </a:dk2>
      <a:lt2>
        <a:srgbClr val="f4f2f2"/>
      </a:lt2>
      <a:accent1>
        <a:srgbClr val="e34192"/>
      </a:accent1>
      <a:accent2>
        <a:srgbClr val="eb8634"/>
      </a:accent2>
      <a:accent3>
        <a:srgbClr val="e6c734"/>
      </a:accent3>
      <a:accent4>
        <a:srgbClr val="79ad42"/>
      </a:accent4>
      <a:accent5>
        <a:srgbClr val="23a7f9"/>
      </a:accent5>
      <a:accent6>
        <a:srgbClr val="954ebe"/>
      </a:accent6>
      <a:hlink>
        <a:srgbClr val="23a7f9"/>
      </a:hlink>
      <a:folHlink>
        <a:srgbClr val="75707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Twinkl Template">
      <a:dk1>
        <a:srgbClr val="1c1c1c"/>
      </a:dk1>
      <a:lt1>
        <a:srgbClr val="ffffff"/>
      </a:lt1>
      <a:dk2>
        <a:srgbClr val="4a4a4a"/>
      </a:dk2>
      <a:lt2>
        <a:srgbClr val="f4f2f2"/>
      </a:lt2>
      <a:accent1>
        <a:srgbClr val="e34192"/>
      </a:accent1>
      <a:accent2>
        <a:srgbClr val="eb8634"/>
      </a:accent2>
      <a:accent3>
        <a:srgbClr val="e6c734"/>
      </a:accent3>
      <a:accent4>
        <a:srgbClr val="79ad42"/>
      </a:accent4>
      <a:accent5>
        <a:srgbClr val="23a7f9"/>
      </a:accent5>
      <a:accent6>
        <a:srgbClr val="954ebe"/>
      </a:accent6>
      <a:hlink>
        <a:srgbClr val="23a7f9"/>
      </a:hlink>
      <a:folHlink>
        <a:srgbClr val="75707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Twinkl Template">
      <a:dk1>
        <a:srgbClr val="1c1c1c"/>
      </a:dk1>
      <a:lt1>
        <a:srgbClr val="ffffff"/>
      </a:lt1>
      <a:dk2>
        <a:srgbClr val="4a4a4a"/>
      </a:dk2>
      <a:lt2>
        <a:srgbClr val="f4f2f2"/>
      </a:lt2>
      <a:accent1>
        <a:srgbClr val="e34192"/>
      </a:accent1>
      <a:accent2>
        <a:srgbClr val="eb8634"/>
      </a:accent2>
      <a:accent3>
        <a:srgbClr val="e6c734"/>
      </a:accent3>
      <a:accent4>
        <a:srgbClr val="79ad42"/>
      </a:accent4>
      <a:accent5>
        <a:srgbClr val="23a7f9"/>
      </a:accent5>
      <a:accent6>
        <a:srgbClr val="954ebe"/>
      </a:accent6>
      <a:hlink>
        <a:srgbClr val="23a7f9"/>
      </a:hlink>
      <a:folHlink>
        <a:srgbClr val="75707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owerPoint Template</Template>
  <TotalTime>48</TotalTime>
  <Application>LibreOffice/7.4.7.2$Linux_X86_64 LibreOffice_project/40$Build-2</Application>
  <AppVersion>15.0000</AppVersion>
  <Words>30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7T04:46:27Z</dcterms:created>
  <dc:creator>Maddison Wells</dc:creator>
  <dc:description/>
  <dc:language>en-US</dc:language>
  <cp:lastModifiedBy>Maddison Wells</cp:lastModifiedBy>
  <dcterms:modified xsi:type="dcterms:W3CDTF">2019-05-08T00:33:30Z</dcterms:modified>
  <cp:revision>10</cp:revision>
  <dc:subject/>
  <dc:title>PowerPoint Guid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