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E4E-FDEE-45A8-9774-4ECE3CAF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475-A451-464D-8EB9-9C99EC54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1D1-DA4A-49CC-B4B8-4824821A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659-DDD4-4CE7-818D-D2A1235F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BBE6-DC0D-4CB3-99C3-C53FFEFD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DCA3-DE3A-4215-8ABB-084666C7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C479-4768-411E-9F55-01DE9012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8105-7280-40E0-9F87-E79DED06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AB5A-DB8E-4C60-A60F-159979D7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A96A-ACCA-4A18-BB42-3056CC89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00A9-E11D-4468-BD49-341A9FF1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2AF-C061-428D-AAD0-8AB91FC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D961-FE68-4466-ADFA-63D1AD1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089F-58A7-4B82-9C07-7FC60DBD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8CFA-B387-4420-892E-288B2B1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A36E-7156-4D4C-B266-7A9CB229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FAFB-1C11-4C62-BA7E-12ACE73B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29C7-CF67-4188-BC85-DBA28B7C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6C74-B292-4905-BABB-7FBE95CC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D706-F51C-4EC8-92DE-662D363A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A2E7-7505-40EA-9883-BC9EA7A4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FCD5-D2DF-4A8E-BF0F-9599D13C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EDB-9647-4A50-AA7D-01F88D2A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0B36-B530-43C0-8CB5-FCCFCD90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C8C2-41AA-4469-87B7-4031352F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22E1-2563-4EC4-88F9-CF1C00C8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559E-6DB3-4EDC-8F0A-C0392E69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5204-06A0-48C9-A9E8-87025B6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F5AC-4FF9-4F59-8570-F7CA49B9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9809-1787-468C-83CD-0CA8BE49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194-75BD-4AA0-AD50-6B9FC120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95A-2400-4C82-AE47-BB4D8A8A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E60-393B-4B2F-A8FD-A62045FD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BA0-0012-404A-8E94-94BD8891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57A-0098-4C87-89F5-B0AD65C6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34E-3958-4CEC-A0A9-522847DC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25439A-C2AB-4B5A-81B0-6084FF0B90A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685555-9EA8-4968-9933-BB4C7F67AAE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073D37-D83F-4DF4-A3B7-227A0768C9EA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357120" y="428760"/>
            <a:ext cx="8229240" cy="9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2000"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Простые механиз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Рычаг. Условие равновесия рыча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G:\картинки к уроку\1273970278_img_0006.jpg"/>
          <p:cNvPicPr/>
          <p:nvPr/>
        </p:nvPicPr>
        <p:blipFill>
          <a:blip r:embed="rId1"/>
          <a:srcRect l="0" t="-1229" r="0" b="0"/>
          <a:stretch/>
        </p:blipFill>
        <p:spPr>
          <a:xfrm>
            <a:off x="1331640" y="1484640"/>
            <a:ext cx="6215760" cy="510840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9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тическое изображение рычаг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7640" y="443700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а опо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С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5" descr=""/>
          <p:cNvPicPr/>
          <p:nvPr/>
        </p:nvPicPr>
        <p:blipFill>
          <a:blip r:embed="rId1"/>
          <a:srcRect l="48417" t="54194" r="8264" b="11150"/>
          <a:stretch/>
        </p:blipFill>
        <p:spPr>
          <a:xfrm>
            <a:off x="611280" y="1066680"/>
            <a:ext cx="5376960" cy="32259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2487240" y="1600200"/>
            <a:ext cx="536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842400" y="25650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5222880" y="100764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902520" y="17298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4971240" y="22464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Прямая соединительная линия 17"/>
          <p:cNvCxnSpPr/>
          <p:nvPr/>
        </p:nvCxnSpPr>
        <p:spPr>
          <a:xfrm>
            <a:off x="1547640" y="2246400"/>
            <a:ext cx="360" cy="1746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97" name="Прямая соединительная линия 19"/>
          <p:cNvCxnSpPr/>
          <p:nvPr/>
        </p:nvCxnSpPr>
        <p:spPr>
          <a:xfrm>
            <a:off x="1417680" y="2376000"/>
            <a:ext cx="13032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98" name="Прямая соединительная линия 21"/>
          <p:cNvCxnSpPr>
            <a:endCxn id="195" idx="0"/>
          </p:cNvCxnSpPr>
          <p:nvPr/>
        </p:nvCxnSpPr>
        <p:spPr>
          <a:xfrm>
            <a:off x="1417680" y="2246400"/>
            <a:ext cx="38098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99" name="Прямая соединительная линия 23"/>
          <p:cNvCxnSpPr/>
          <p:nvPr/>
        </p:nvCxnSpPr>
        <p:spPr>
          <a:xfrm flipV="1">
            <a:off x="5004000" y="2132640"/>
            <a:ext cx="360" cy="1141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00" name="Прямая соединительная линия 25"/>
          <p:cNvCxnSpPr/>
          <p:nvPr/>
        </p:nvCxnSpPr>
        <p:spPr>
          <a:xfrm flipH="1">
            <a:off x="4968000" y="2132640"/>
            <a:ext cx="252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201" name="Рисунок 3" descr=""/>
          <p:cNvPicPr/>
          <p:nvPr/>
        </p:nvPicPr>
        <p:blipFill>
          <a:blip r:embed="rId2"/>
          <a:stretch/>
        </p:blipFill>
        <p:spPr>
          <a:xfrm>
            <a:off x="-10800" y="-8280"/>
            <a:ext cx="91544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23840" y="76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Условие равновесия рычага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Архимед, 3 век до н.э.)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45040" y="2421000"/>
            <a:ext cx="8460000" cy="17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ычаг находится в равновесии тогда, когда силы, действующие на него, обратно пропорциональны плечам этих си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G:\картинки к уроку\архимед.jpeg"/>
          <p:cNvPicPr/>
          <p:nvPr/>
        </p:nvPicPr>
        <p:blipFill>
          <a:blip r:embed="rId1"/>
          <a:stretch/>
        </p:blipFill>
        <p:spPr>
          <a:xfrm>
            <a:off x="357120" y="214200"/>
            <a:ext cx="1333080" cy="199980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3780000" y="4365000"/>
            <a:ext cx="1990440" cy="1618920"/>
          </a:xfrm>
          <a:prstGeom prst="rect">
            <a:avLst/>
          </a:prstGeom>
          <a:ln w="9525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013240" cy="208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айте мне точку опоры, и я подниму Землю!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Архимед </a:t>
            </a:r>
            <a:br>
              <a:rPr sz="3600"/>
            </a:br>
            <a:br>
              <a:rPr sz="40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45680" y="2781000"/>
            <a:ext cx="8417160" cy="273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72320" cy="228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ревних времен для облегчения своего труда человек использует различные механизмы, которые способны преобразовывать силу человека в значительно большую силу. Еще три тысячи лет назад при строительстве пирамид в Древнем Египте тяжелые каменные плиты передвигали и поднимали с помощью простых механизм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572000" y="3000240"/>
            <a:ext cx="4357440" cy="285732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3" descr="G:\картинки к уроку\egyptian_pyramids.jpg"/>
          <p:cNvPicPr/>
          <p:nvPr/>
        </p:nvPicPr>
        <p:blipFill>
          <a:blip r:embed="rId2"/>
          <a:stretch/>
        </p:blipFill>
        <p:spPr>
          <a:xfrm>
            <a:off x="201600" y="3000240"/>
            <a:ext cx="414000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</a:rPr>
              <a:t>Простые механиз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пособления (устройства), служащие для преобразования силы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7160" y="6207840"/>
            <a:ext cx="9111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значение – получить выигрыш в силе или в рас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5"/>
          <p:cNvGrpSpPr/>
          <p:nvPr/>
        </p:nvGrpSpPr>
        <p:grpSpPr>
          <a:xfrm>
            <a:off x="800640" y="1563840"/>
            <a:ext cx="7614000" cy="2938320"/>
            <a:chOff x="800640" y="1563840"/>
            <a:chExt cx="7614000" cy="2938320"/>
          </a:xfrm>
        </p:grpSpPr>
        <p:sp>
          <p:nvSpPr>
            <p:cNvPr id="135" name="TextBox 6"/>
            <p:cNvSpPr/>
            <p:nvPr/>
          </p:nvSpPr>
          <p:spPr>
            <a:xfrm>
              <a:off x="3296520" y="1563840"/>
              <a:ext cx="2413080" cy="82116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простые механиз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7"/>
            <p:cNvSpPr/>
            <p:nvPr/>
          </p:nvSpPr>
          <p:spPr>
            <a:xfrm>
              <a:off x="1528920" y="3115080"/>
              <a:ext cx="198612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рыч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8"/>
            <p:cNvSpPr/>
            <p:nvPr/>
          </p:nvSpPr>
          <p:spPr>
            <a:xfrm>
              <a:off x="5501520" y="3057120"/>
              <a:ext cx="2449440" cy="69948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наклонная плоск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9"/>
            <p:cNvSpPr/>
            <p:nvPr/>
          </p:nvSpPr>
          <p:spPr>
            <a:xfrm>
              <a:off x="800640" y="3983760"/>
              <a:ext cx="152244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бл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0"/>
            <p:cNvSpPr/>
            <p:nvPr/>
          </p:nvSpPr>
          <p:spPr>
            <a:xfrm>
              <a:off x="2654640" y="3983760"/>
              <a:ext cx="152244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вор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1"/>
            <p:cNvSpPr/>
            <p:nvPr/>
          </p:nvSpPr>
          <p:spPr>
            <a:xfrm>
              <a:off x="5104440" y="4041720"/>
              <a:ext cx="152244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кл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2"/>
            <p:cNvSpPr/>
            <p:nvPr/>
          </p:nvSpPr>
          <p:spPr>
            <a:xfrm>
              <a:off x="6825960" y="4046760"/>
              <a:ext cx="158868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ви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Стрелка вниз 13"/>
            <p:cNvSpPr/>
            <p:nvPr/>
          </p:nvSpPr>
          <p:spPr>
            <a:xfrm rot="2823000">
              <a:off x="3199320" y="2315160"/>
              <a:ext cx="331560" cy="906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Стрелка вниз 14"/>
            <p:cNvSpPr/>
            <p:nvPr/>
          </p:nvSpPr>
          <p:spPr>
            <a:xfrm rot="18860400">
              <a:off x="5527080" y="2304360"/>
              <a:ext cx="330480" cy="906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Стрелка вниз 15"/>
            <p:cNvSpPr/>
            <p:nvPr/>
          </p:nvSpPr>
          <p:spPr>
            <a:xfrm>
              <a:off x="1661400" y="3578400"/>
              <a:ext cx="379080" cy="410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Стрелка вниз 16"/>
            <p:cNvSpPr/>
            <p:nvPr/>
          </p:nvSpPr>
          <p:spPr>
            <a:xfrm>
              <a:off x="2985480" y="3578400"/>
              <a:ext cx="379080" cy="410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Стрелка вниз 17"/>
            <p:cNvSpPr/>
            <p:nvPr/>
          </p:nvSpPr>
          <p:spPr>
            <a:xfrm>
              <a:off x="5700240" y="3636360"/>
              <a:ext cx="379080" cy="410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Стрелка вниз 18"/>
            <p:cNvSpPr/>
            <p:nvPr/>
          </p:nvSpPr>
          <p:spPr>
            <a:xfrm>
              <a:off x="7289280" y="3636360"/>
              <a:ext cx="379080" cy="410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941040" y="4581000"/>
            <a:ext cx="1094760" cy="142920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930400" y="4581000"/>
            <a:ext cx="1035720" cy="141228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662040" y="1685160"/>
            <a:ext cx="1859760" cy="127512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3" descr="G:\картинки к уроку\накл.jpg"/>
          <p:cNvPicPr/>
          <p:nvPr/>
        </p:nvPicPr>
        <p:blipFill>
          <a:blip r:embed="rId4"/>
          <a:stretch/>
        </p:blipFill>
        <p:spPr>
          <a:xfrm>
            <a:off x="6455160" y="1615680"/>
            <a:ext cx="2047320" cy="1150920"/>
          </a:xfrm>
          <a:prstGeom prst="rect">
            <a:avLst/>
          </a:prstGeom>
          <a:ln w="9525">
            <a:noFill/>
          </a:ln>
        </p:spPr>
      </p:pic>
      <p:sp>
        <p:nvSpPr>
          <p:cNvPr id="152" name="Picture 6"/>
          <p:cNvSpPr/>
          <p:nvPr/>
        </p:nvSpPr>
        <p:spPr>
          <a:xfrm>
            <a:off x="5185080" y="4615200"/>
            <a:ext cx="1361160" cy="1361160"/>
          </a:xfrm>
          <a:prstGeom prst="roundRect">
            <a:avLst>
              <a:gd name="adj" fmla="val 11111"/>
            </a:avLst>
          </a:prstGeom>
          <a:blipFill rotWithShape="0">
            <a:blip r:embed="rId5"/>
            <a:srcRect/>
            <a:stretch/>
          </a:blipFill>
          <a:ln cap="rnd" w="190500">
            <a:solidFill>
              <a:srgbClr val="c8c6bd"/>
            </a:solidFill>
            <a:miter/>
          </a:ln>
          <a:effectLst>
            <a:outerShdw algn="tl" blurRad="101520" dir="7190755" dist="50636" rotWithShape="0">
              <a:srgbClr val="000000">
                <a:alpha val="45000"/>
              </a:srgbClr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icture 6"/>
          <p:cNvSpPr/>
          <p:nvPr/>
        </p:nvSpPr>
        <p:spPr>
          <a:xfrm>
            <a:off x="6895440" y="4752000"/>
            <a:ext cx="2111400" cy="1087200"/>
          </a:xfrm>
          <a:prstGeom prst="roundRect">
            <a:avLst>
              <a:gd name="adj" fmla="val 11111"/>
            </a:avLst>
          </a:prstGeom>
          <a:blipFill rotWithShape="0">
            <a:blip r:embed="rId6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tl" blurRad="101520" dir="7190755" dist="50636" rotWithShape="0">
              <a:srgbClr val="000000">
                <a:alpha val="45000"/>
              </a:srgbClr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ча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дое тело, которое может вращаться вокруг неподвижной опоры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G:\картинки к уроку\рычаг.gif"/>
          <p:cNvPicPr/>
          <p:nvPr/>
        </p:nvPicPr>
        <p:blipFill>
          <a:blip r:embed="rId1"/>
          <a:stretch/>
        </p:blipFill>
        <p:spPr>
          <a:xfrm>
            <a:off x="4672440" y="3573000"/>
            <a:ext cx="4063680" cy="2871720"/>
          </a:xfrm>
          <a:prstGeom prst="rect">
            <a:avLst/>
          </a:prstGeom>
          <a:ln w="9525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441360" y="1649880"/>
            <a:ext cx="4275000" cy="2931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лечо силы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кратчайшее расстояние от точки опоры до линии действия сил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значается буквой </a:t>
            </a:r>
            <a:r>
              <a:rPr b="1" i="1" lang="en-US" sz="3200" spc="-1" strike="noStrike">
                <a:solidFill>
                  <a:srgbClr val="ff0000"/>
                </a:solidFill>
                <a:latin typeface="Script MT Bold"/>
              </a:rPr>
              <a:t>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Чтобы найти плечо сил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жно опуст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пендикуляр из точки опоры на линию действия сил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9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тическое изображение рычаг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7640" y="443700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а опо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А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В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12"/>
          <p:cNvCxnSpPr/>
          <p:nvPr/>
        </p:nvCxnSpPr>
        <p:spPr>
          <a:xfrm>
            <a:off x="5220000" y="1340640"/>
            <a:ext cx="1152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headEnd len="med" type="triangle" w="med"/>
            <a:tailEnd len="med" type="triangle" w="med"/>
          </a:ln>
        </p:spPr>
      </p:cxnSp>
      <p:pic>
        <p:nvPicPr>
          <p:cNvPr id="162" name="Рисунок 13" descr=""/>
          <p:cNvPicPr/>
          <p:nvPr/>
        </p:nvPicPr>
        <p:blipFill>
          <a:blip r:embed="rId1"/>
          <a:srcRect l="0" t="15349" r="15346" b="23748"/>
          <a:stretch/>
        </p:blipFill>
        <p:spPr>
          <a:xfrm>
            <a:off x="1601280" y="1052640"/>
            <a:ext cx="6138720" cy="3312000"/>
          </a:xfrm>
          <a:prstGeom prst="rect">
            <a:avLst/>
          </a:prstGeom>
          <a:ln w="0">
            <a:noFill/>
          </a:ln>
        </p:spPr>
      </p:pic>
      <p:cxnSp>
        <p:nvCxnSpPr>
          <p:cNvPr id="163" name="Прямая со стрелкой 15"/>
          <p:cNvCxnSpPr/>
          <p:nvPr/>
        </p:nvCxnSpPr>
        <p:spPr>
          <a:xfrm>
            <a:off x="3851640" y="3645000"/>
            <a:ext cx="288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  <p:cxnSp>
        <p:nvCxnSpPr>
          <p:cNvPr id="164" name="Прямая со стрелкой 17"/>
          <p:cNvCxnSpPr/>
          <p:nvPr/>
        </p:nvCxnSpPr>
        <p:spPr>
          <a:xfrm>
            <a:off x="7164000" y="2852640"/>
            <a:ext cx="288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9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тическое изображение рычаг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7640" y="443700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а опо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А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В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"/>
          <p:cNvPicPr/>
          <p:nvPr/>
        </p:nvPicPr>
        <p:blipFill>
          <a:blip r:embed="rId1"/>
          <a:srcRect l="3539" t="33423" r="49205" b="32493"/>
          <a:stretch/>
        </p:blipFill>
        <p:spPr>
          <a:xfrm>
            <a:off x="359640" y="896760"/>
            <a:ext cx="6278400" cy="33958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64400" y="1409760"/>
            <a:ext cx="536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838520" y="141372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582880" y="177084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6"/>
          <p:cNvCxnSpPr/>
          <p:nvPr/>
        </p:nvCxnSpPr>
        <p:spPr>
          <a:xfrm>
            <a:off x="2195640" y="3429000"/>
            <a:ext cx="288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  <p:cxnSp>
        <p:nvCxnSpPr>
          <p:cNvPr id="172" name="Прямая со стрелкой 10"/>
          <p:cNvCxnSpPr/>
          <p:nvPr/>
        </p:nvCxnSpPr>
        <p:spPr>
          <a:xfrm>
            <a:off x="5580000" y="1043280"/>
            <a:ext cx="360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9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тическое изображение рычаг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7640" y="443700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а опо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С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5" descr=""/>
          <p:cNvPicPr/>
          <p:nvPr/>
        </p:nvPicPr>
        <p:blipFill>
          <a:blip r:embed="rId1"/>
          <a:srcRect l="48417" t="54194" r="8264" b="11150"/>
          <a:stretch/>
        </p:blipFill>
        <p:spPr>
          <a:xfrm>
            <a:off x="611280" y="1066680"/>
            <a:ext cx="5376960" cy="32259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2487240" y="1600200"/>
            <a:ext cx="536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842400" y="25650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5222880" y="100764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902520" y="17298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4971240" y="22464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единительная линия 17"/>
          <p:cNvCxnSpPr/>
          <p:nvPr/>
        </p:nvCxnSpPr>
        <p:spPr>
          <a:xfrm>
            <a:off x="1547640" y="2246400"/>
            <a:ext cx="360" cy="1746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2" name="Прямая соединительная линия 19"/>
          <p:cNvCxnSpPr/>
          <p:nvPr/>
        </p:nvCxnSpPr>
        <p:spPr>
          <a:xfrm>
            <a:off x="1417680" y="2376000"/>
            <a:ext cx="13032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3" name="Прямая соединительная линия 21"/>
          <p:cNvCxnSpPr>
            <a:endCxn id="180" idx="0"/>
          </p:cNvCxnSpPr>
          <p:nvPr/>
        </p:nvCxnSpPr>
        <p:spPr>
          <a:xfrm>
            <a:off x="1417680" y="2246400"/>
            <a:ext cx="38098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4" name="Прямая соединительная линия 23"/>
          <p:cNvCxnSpPr/>
          <p:nvPr/>
        </p:nvCxnSpPr>
        <p:spPr>
          <a:xfrm flipV="1">
            <a:off x="5004000" y="2132640"/>
            <a:ext cx="360" cy="1141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5" name="Прямая соединительная линия 25"/>
          <p:cNvCxnSpPr/>
          <p:nvPr/>
        </p:nvCxnSpPr>
        <p:spPr>
          <a:xfrm flipH="1">
            <a:off x="4968000" y="2132640"/>
            <a:ext cx="252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6" name="Прямая со стрелкой 27"/>
          <p:cNvCxnSpPr/>
          <p:nvPr/>
        </p:nvCxnSpPr>
        <p:spPr>
          <a:xfrm>
            <a:off x="5364000" y="1844640"/>
            <a:ext cx="216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  <p:cxnSp>
        <p:nvCxnSpPr>
          <p:cNvPr id="187" name="Прямая со стрелкой 29"/>
          <p:cNvCxnSpPr/>
          <p:nvPr/>
        </p:nvCxnSpPr>
        <p:spPr>
          <a:xfrm>
            <a:off x="1043280" y="3573000"/>
            <a:ext cx="216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lemental</Template>
  <TotalTime>1378</TotalTime>
  <Application>LibreOffice/7.4.7.2$Linux_X86_64 LibreOffice_project/40$Build-2</Application>
  <AppVersion>15.0000</AppVersion>
  <Words>308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3:46:51Z</dcterms:created>
  <dc:creator>Елена</dc:creator>
  <dc:description/>
  <dc:language>en-US</dc:language>
  <cp:lastModifiedBy>User</cp:lastModifiedBy>
  <dcterms:modified xsi:type="dcterms:W3CDTF">2021-04-29T11:59:17Z</dcterms:modified>
  <cp:revision>10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