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71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944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03320" y="759960"/>
            <a:ext cx="4859280" cy="36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5480" y="4632120"/>
            <a:ext cx="503244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266040"/>
            <a:ext cx="29750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9440" y="9266040"/>
            <a:ext cx="29750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6D20-2177-416B-92C0-A4B4849A56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003320" y="760320"/>
            <a:ext cx="4859280" cy="3645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5480" y="4632120"/>
            <a:ext cx="503244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6EF4-4DA5-4EDF-8394-16D272E6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0464-2C54-4BB6-AF72-3900436F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C64B-625E-4134-8F31-4D152E90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1F8-0CA9-47E1-8943-A9462ED2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A851-D370-482C-A7E7-51E248B8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EBD8-D876-4820-9E94-D804BC0B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D874-29FD-4B40-93B8-1BEF037A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BA1E-B345-4440-A21D-A4B63604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1908-BD5D-442C-8793-0263EE2E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C105-E2C1-4993-8969-021ED995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F53D-4CE5-4478-B7ED-0258584F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4860-6107-4501-A9E5-D8BEF9F3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AB2E-FD99-42E9-BDA6-DB2ABA67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124D-A38F-4BA9-A05C-26164720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57B5-4C31-4C8A-B119-F458DF9B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78C5-E1C5-469D-BBFC-93E47DCF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D179-A616-40E2-8424-0662E561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66E-B6DB-4DE1-B2F8-ED0E0E98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D0A-E8AD-438C-A38C-B98E41F8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2FE2-AF35-4888-B763-DE17ACB5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C852-A245-4A13-92C9-2EFF3D05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34D-AD19-4C16-9C76-FCA1A242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314-4C24-4BDA-8357-FE5DF2C0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872-7C90-4A83-BB27-241BBB82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9300-0ACB-4CBE-AA3A-64EB28651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B11C-43CB-44BD-B09A-0E88F81CE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55520" y="285840"/>
            <a:ext cx="8831160" cy="830160"/>
          </a:xfrm>
          <a:prstGeom prst="rect">
            <a:avLst/>
          </a:prstGeom>
          <a:solidFill>
            <a:srgbClr val="e1e7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811080" y="1468440"/>
            <a:ext cx="76755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нструктирование, проведение обучения по охране труда работ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3520" y="4341600"/>
            <a:ext cx="8153280" cy="2469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f5f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в течение срока действия инструкции по охране труда для  работника  условия  его  труда не изменились,  то ее действие продлевается на следующий с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йствующие  в подразделении  инструкции по охране труда для  работников  структурного  подразделения организации,  а также перечень    этих   инструкций   хранится   у  руководителя   этого подразд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сто нахождения инструкций   по   охране  труда  для работников   определяет  руководитель  структурного подразделения   организации  с учетом  обеспечения  доступности  и удобства ознакомления с н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79280" y="44280"/>
            <a:ext cx="8964720" cy="376560"/>
          </a:xfrm>
          <a:prstGeom prst="rect">
            <a:avLst/>
          </a:prstGeom>
          <a:gradFill rotWithShape="0">
            <a:gsLst>
              <a:gs pos="0">
                <a:srgbClr val="7db6ef"/>
              </a:gs>
              <a:gs pos="50000">
                <a:srgbClr val="ffffff"/>
              </a:gs>
              <a:gs pos="100000">
                <a:srgbClr val="7db6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рядок пересмотра инструкций по охране т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539640" y="765000"/>
            <a:ext cx="8153640" cy="951120"/>
          </a:xfrm>
          <a:prstGeom prst="rect">
            <a:avLst/>
          </a:prstGeom>
          <a:gradFill rotWithShape="0">
            <a:gsLst>
              <a:gs pos="0">
                <a:srgbClr val="dbed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ку и пересмотр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инструкций по охране труда для работников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организует работодател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ересмотр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струкций должен производиться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ff3300"/>
                </a:solidFill>
                <a:uFillTx/>
                <a:latin typeface="Times New Roman"/>
              </a:rPr>
              <a:t>не реже одного раза в 5 лет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33520" y="1905120"/>
            <a:ext cx="815328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струкции по охране труда для работников досрочно пересматривают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39640" y="2276640"/>
            <a:ext cx="8153640" cy="1751400"/>
          </a:xfrm>
          <a:prstGeom prst="rect">
            <a:avLst/>
          </a:prstGeom>
          <a:gradFill rotWithShape="0">
            <a:gsLst>
              <a:gs pos="0">
                <a:srgbClr val="fceaf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indent="262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 пересмотре межотраслевых и отраслевых правил и типовых инструкций по охране тру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менении условий труда работ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недрении новой техники и технолог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результатам анализа материалов расследования аварий, несчастных случаев на производстве и профессиональных заболе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 требованию  представителей  органов по труду субъектов Российской Федерации или органов федеральной инспекции тру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066680" y="457200"/>
            <a:ext cx="7239240" cy="703800"/>
          </a:xfrm>
          <a:prstGeom prst="rect">
            <a:avLst/>
          </a:prstGeom>
          <a:solidFill>
            <a:srgbClr val="c0fb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струкция по охране тру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  разде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66680" y="1523880"/>
            <a:ext cx="6324840" cy="2225520"/>
          </a:xfrm>
          <a:prstGeom prst="rect">
            <a:avLst/>
          </a:prstGeom>
          <a:gradFill rotWithShape="0">
            <a:gsLst>
              <a:gs pos="0">
                <a:srgbClr val="e7f3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 Общие требования охраны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 Требования охраны тру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д началом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 Требования охраны тру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 время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 Требования охраны тру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аварийных ситу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 Требования охраны тру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окончании раб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720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bd07156_"/>
          <p:cNvPicPr/>
          <p:nvPr/>
        </p:nvPicPr>
        <p:blipFill>
          <a:blip r:embed="rId1"/>
          <a:stretch/>
        </p:blipFill>
        <p:spPr>
          <a:xfrm>
            <a:off x="228600" y="3745080"/>
            <a:ext cx="2590920" cy="2198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bd06779_"/>
          <p:cNvPicPr/>
          <p:nvPr/>
        </p:nvPicPr>
        <p:blipFill>
          <a:blip r:embed="rId2"/>
          <a:stretch/>
        </p:blipFill>
        <p:spPr>
          <a:xfrm>
            <a:off x="6435720" y="2768760"/>
            <a:ext cx="2479680" cy="3098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bs00673_"/>
          <p:cNvPicPr/>
          <p:nvPr/>
        </p:nvPicPr>
        <p:blipFill>
          <a:blip r:embed="rId3"/>
          <a:stretch/>
        </p:blipFill>
        <p:spPr>
          <a:xfrm>
            <a:off x="3048120" y="3733920"/>
            <a:ext cx="32763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380880" y="914400"/>
            <a:ext cx="8458200" cy="441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838080" y="152280"/>
            <a:ext cx="800100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ный вид титульного листа                                               инструкции по охране труда для работ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09480" y="914400"/>
            <a:ext cx="8001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наименование организац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33520" y="1600200"/>
            <a:ext cx="3733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ГЛАСОВАНО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именование должности руководителя профсоюзного либо иного уполномоченного работниками орг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 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одпись)   (инициалы, фамил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та согласовани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648320" y="1600200"/>
            <a:ext cx="41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ТВЕРЖД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именование должности работод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 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одпись)   (инициалы, фамил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та утвер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609480" y="3200400"/>
            <a:ext cx="3810240" cy="733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квизиты документа, выражающего мнение профсоюзного  или  иного  уполномоченного работниками орга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33520" y="3962520"/>
            <a:ext cx="8153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СТРУК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 охране труда 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наименование должности, профессии или вида рабо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обознач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523880" y="5410080"/>
            <a:ext cx="5867640" cy="1159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7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ча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оборотной стороне инструкции рекомендуется наличие виз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работчика инструкц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ководителя (специалиста) службы охраны труд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нергетика, технолога и других заинтересованных ли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79280" y="44280"/>
            <a:ext cx="8785440" cy="429120"/>
          </a:xfrm>
          <a:prstGeom prst="rect">
            <a:avLst/>
          </a:prstGeom>
          <a:gradFill rotWithShape="0">
            <a:gsLst>
              <a:gs pos="0">
                <a:srgbClr val="7db6ef"/>
              </a:gs>
              <a:gs pos="50000">
                <a:srgbClr val="ffffff"/>
              </a:gs>
              <a:gs pos="100000">
                <a:srgbClr val="7db6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учение  по охране т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0880" y="765000"/>
            <a:ext cx="8382240" cy="82584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се работники организации, в том числе ее руководитель, обязаны проходить обучение по охране труда и проверку знаний требований охраны труда в порядке, установленном Правительством РФ     (ТК РФ ст.22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9280" y="1684440"/>
            <a:ext cx="2608200" cy="952560"/>
          </a:xfrm>
          <a:prstGeom prst="rect">
            <a:avLst/>
          </a:prstGeom>
          <a:gradFill rotWithShape="0">
            <a:gsLst>
              <a:gs pos="0">
                <a:srgbClr val="c5e2ff"/>
              </a:gs>
              <a:gs pos="50000">
                <a:srgbClr val="ffffff"/>
              </a:gs>
              <a:gs pos="100000">
                <a:srgbClr val="c5e2ff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СТ 12.0.004-2015 «Организация обучения безопасности труда. Общие положения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987640" y="1700280"/>
            <a:ext cx="5940360" cy="892080"/>
          </a:xfrm>
          <a:prstGeom prst="rect">
            <a:avLst/>
          </a:prstGeom>
          <a:gradFill rotWithShape="0">
            <a:gsLst>
              <a:gs pos="0">
                <a:srgbClr val="c5e2ff"/>
              </a:gs>
              <a:gs pos="50000">
                <a:srgbClr val="ffffff"/>
              </a:gs>
              <a:gs pos="100000">
                <a:srgbClr val="c5e2ff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ТАНОВЛЕНИЕ от 13 января 2003 года МИНТРУДА РФ №1, МИНОБРАЗОВАНИЯ РФ №2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Об  утверждении  порядка обучения  по охране труда и проверки знаний требований охраны труда работников организаци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80880" y="5727600"/>
            <a:ext cx="8382240" cy="7520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тветственность за организацию и своевременность обучения по охране труда и проверку знаний требований охраны труда работников организаций несет работодатель в порядке, установленном законодательством Российской Федерации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179280" y="2697840"/>
            <a:ext cx="8785440" cy="2886480"/>
          </a:xfrm>
          <a:prstGeom prst="rect">
            <a:avLst/>
          </a:prstGeom>
          <a:gradFill rotWithShape="0">
            <a:gsLst>
              <a:gs pos="0">
                <a:srgbClr val="fceaf3"/>
              </a:gs>
              <a:gs pos="50000">
                <a:srgbClr val="ffffff"/>
              </a:gs>
              <a:gs pos="100000">
                <a:srgbClr val="fceaf3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всех поступающих на работу лиц, а также для работников, переводимых на другую работу, работодатель или уполномоченное им лицо обязаны проводить инструктаж по охране труда, организовывать обучение безопасным методам и приемам выполнения работ и оказания первой помощи пострадавшим. (ТК РФ ст.2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отодатель обеспечивает обучение лиц, поступающих на работу с вредными и (или) опасными условиями труда, безопасным методам и приемам выполнения работ со стажировкой на рабочем месте и сдачей экзаменов и проведение их периодического обучения по охране труда и проверку знаний требований охраны труда в период работы. (ТК РФ ст.2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115920"/>
            <a:ext cx="9144000" cy="429120"/>
          </a:xfrm>
          <a:prstGeom prst="rect">
            <a:avLst/>
          </a:prstGeom>
          <a:gradFill rotWithShape="0">
            <a:gsLst>
              <a:gs pos="0">
                <a:srgbClr val="7db6ef"/>
              </a:gs>
              <a:gs pos="50000">
                <a:srgbClr val="ffffff"/>
              </a:gs>
              <a:gs pos="100000">
                <a:srgbClr val="7db6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учение по охране труда руководителей и специалист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9400" y="760320"/>
            <a:ext cx="7086600" cy="1155960"/>
          </a:xfrm>
          <a:prstGeom prst="rect">
            <a:avLst/>
          </a:prstGeom>
          <a:gradFill rotWithShape="0">
            <a:gsLst>
              <a:gs pos="0">
                <a:srgbClr val="d8fef9"/>
              </a:gs>
              <a:gs pos="50000">
                <a:srgbClr val="ffffff"/>
              </a:gs>
              <a:gs pos="100000">
                <a:srgbClr val="d8fef9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0066cc"/>
                </a:solidFill>
                <a:latin typeface="Times New Roman"/>
              </a:rPr>
              <a:t>Обучение по охране труда руководителей и специалисто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проводи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епосредственно самой организацией или образовательными учреждениями профессионального образовани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учебными центрами и другими учреждениями и организациями, осуществляющими образовательную деятельность, при наличии у них лиценз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bd06629_"/>
          <p:cNvPicPr/>
          <p:nvPr/>
        </p:nvPicPr>
        <p:blipFill>
          <a:blip r:embed="rId1"/>
          <a:stretch/>
        </p:blipFill>
        <p:spPr>
          <a:xfrm>
            <a:off x="7410600" y="620640"/>
            <a:ext cx="1504800" cy="1752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50760" y="2205000"/>
            <a:ext cx="9036000" cy="3164040"/>
          </a:xfrm>
          <a:prstGeom prst="rect">
            <a:avLst/>
          </a:prstGeom>
          <a:gradFill rotWithShape="0">
            <a:gsLst>
              <a:gs pos="0">
                <a:srgbClr val="fceaf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Обучение в обучающих организациях федеральных органов исполнительной власти, органов исполнительной власти субъектов Российской Федерации в области охраны труда проходя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оводители организаций, заместители руководителей организаций, курирующие вопросы охраны труда, заместители главных инженеров по охране труда, работодатели - физические лица, иные лица, занимающиеся предпринимательской деятельностью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оводители, специалисты, инженерно-технические работники, осуществляющие организацию, руководство и проведение работ на рабочих местах и в производственных подразделениях, а также контроль и технический надзор за проведением работ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пециалисты служб охраны труда, работники, на которых работодателем возложены обязанности организации работы по охране труда, члены комитетов (комиссий) по охране труда, уполномоченные (доверенные) лица по охране труда профессиональных союзов и иных уполномоченных работниками представительных орган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лены комиссий по проверке знаний требований охраны труда организа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06280" y="5586480"/>
            <a:ext cx="8686800" cy="11595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Обучение по охране труда руководителей и специалистов в организации проводится </a:t>
            </a: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по программам обучения по охране труда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, разрабатываемым на основе «Примерных учебных планов обучения по охране труда и проверки знаний требований охраны труда работников организации» и «Примерных программ обучения по охране труда работников организации» (письмо Минтруда №477-7 от 27.05.2004 г.) и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утверждаемым работодателем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28600" y="2971800"/>
            <a:ext cx="8686800" cy="520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неочередная проверка знаний по охране труда руководителей и специалис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рганизаций проводится независимо от срока проведения предыдущей провер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28600" y="3481560"/>
            <a:ext cx="8686800" cy="3410280"/>
          </a:xfrm>
          <a:prstGeom prst="rect">
            <a:avLst/>
          </a:prstGeom>
          <a:gradFill rotWithShape="0">
            <a:gsLst>
              <a:gs pos="0">
                <a:srgbClr val="fceaf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введении новых или внесении изменений и дополнений в действующие законодательные и иные нормативные правовые акты, содержащие требования охраны труда. При этом осуществляется проверка знаний только этих законодательных и нормативных правовых ак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вводе в эксплуатацию нового оборудования и изменениях технологических процессов, требующих дополнительных знаний по охране труда работников. В этом случае осуществляется проверка знаний требований охраны труда, связанных с соответствующими изменения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назначении или переводе работников на другую работу, если новые обязанности требуют дополнительных знаний по охране труда (до начала исполнения ими своих должностных обязанносте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требованию должностных лиц федеральной инспекции труда, других органов государственного надзора и контроля, а также федеральных органов исполнительной власти и органов исполнительной власти субъектов Российской Федерации в области охраны труда, органов местного самоуправления, а также работодателя (или уполномоченного им лица) при установлении нарушений требований охраны труда и недостаточных знаний требований безопасности и охраны тру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ле происшедших аварий и несчастных случаев, а также при выявлении неоднократных нарушений работниками организации требований нормативных правовых актов по охране тру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перерыве в работе в данной должности более одного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685800" y="44280"/>
            <a:ext cx="7848720" cy="580680"/>
          </a:xfrm>
          <a:prstGeom prst="rect">
            <a:avLst/>
          </a:prstGeom>
          <a:solidFill>
            <a:srgbClr val="fd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оводители и специалисты организаций проходят очередную проверку знаний требований охраны труда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е реже одного раза в три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28600" y="762120"/>
            <a:ext cx="8610480" cy="2131560"/>
          </a:xfrm>
          <a:prstGeom prst="rect">
            <a:avLst/>
          </a:prstGeom>
          <a:gradFill rotWithShape="0">
            <a:gsLst>
              <a:gs pos="0">
                <a:srgbClr val="fceaf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ля проверки знаний требований охраны труда работников в организациях приказом (распоряжением) работодателя (руководителя)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создается комисс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в составе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не менее трех человек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прошедших обучение по охране труда и проверку знаний требований охраны труда в установленном поряд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состав комиссий по проверке знаний требований охраны труда организаций включаются руководители организаций и их структурных подразделений, специалисты служб охраны труда, главные специалисты (технолог, механик, энергетик и т.д.). В работе комиссии могут принимать участие представители выборного профсоюзного органа, представляющего интересы работников данной организации, в том числе уполномоченные (доверенные) лица по охране труда профессиональных союз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33480" y="0"/>
            <a:ext cx="73152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вторный инструкта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24000" y="421200"/>
            <a:ext cx="8534160" cy="135108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pPr indent="363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вторный инструктаж проводится не реже одного раза в шесть месяцев по программам, разработанным для проведения первичного инструктажа на рабочем месте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63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нструктаж начинается с ознакомления с приказами и распоряжениями, информационными письмами, направленными на предупреждение несчастных случаев и нарушений. Затем дается анализ производственного травматизма с разбором фактов нарушений правил безопасности, допущенных рабочими производственного участ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95280" y="2196720"/>
            <a:ext cx="8389800" cy="241668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водится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введении в действие новых или изменении законодательных и иных нормативных правовых актов, содержащих требования охраны труда, а также инструкций по охране тру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изменении технологических процессов, замене или модернизации оборудования, приспособлений, инструмента и других факторов, влияющих на безопасность тру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нарушении работниками требований охраны труда, если эти нарушения создали реальную угрозу наступления тяжких последствий (несчастный случай на производстве, авария и т.п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требованию должностных лиц органов государственного надзора и контрол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перерывах в работе (для работ с вредными и (или) опасными условиями - более 30 календарных дней, а для остальных работ - более двух месяцев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решению работодателя (или уполномоченного им лиц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33480" y="1827360"/>
            <a:ext cx="73152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еплановый инструкт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933480" y="4614840"/>
            <a:ext cx="73152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евой  инструкт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414360" y="5026320"/>
            <a:ext cx="8351640" cy="156420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водится пр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полнении разовых работ, не связанных с прямыми обязанностями по специа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иквидации последствий аварий, стихийных бедствий и катастроф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изводстве работ, на которые оформляется наряд-допуск, разрешение и другие документ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ведении экскурсии на предприятии, организации массовых мероприятий с учащими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евой инструктаж фиксируется  в наряде-допуске или другой документации, разрешающей производство раб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9800"/>
            <a:ext cx="6858000" cy="15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Виды и порядок проведения инструктажей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3320" y="1663560"/>
            <a:ext cx="875988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Перед допуском до работы работники должны пройти: вводный инструктаж, первичный инструктаж на рабочем месте, стажировку на рабочем месте от 2 до 14 смен под руководством лица, назначенного приказом. Работники допускаются к самостоятельной работе после стажировки, проверки теоретических знаний и приобретенных навыков безопасных способов работы. Инструктажи по безопасности труда по характеру и времени проведения подразделяю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ввод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первичный на рабочем мес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повтор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целев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внеплан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7200" y="-341280"/>
            <a:ext cx="8229600" cy="1901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36160" y="1198440"/>
            <a:ext cx="8697960" cy="54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водный инструктаж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проводится со всеми вновь принимаемыми на работу независимо от их образования, стажа работы по данной профессии или должности, с временными работниками, командированными, учащимися и студентами, прибывшими на производственное обучение или практ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Вводный инструктаж на предприятиях проводит специалист по охране труда или лицо, на которое приказом по предприятию возложены эти обязанности. Для проведения вводного инструктажа разрабатываются программа и инструкция, утверждаются руководителем пред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О проведении вводного инструктажа делается запись в журнале регистрации вводного инструктажа с обязательной подписью инструктируемого и инструктирующего, а также в документы о приеме на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От последующих инструктажей на рабочем месте освобождаются лица, не связанные с обслуживанием, испытанием, наладкой оборудования и инструментом. Составляется Перечень профессий и должностей работников, освобожденных от инструктажей на рабочем месте, который утверждается руководителем пред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и порядок проведения инструктаж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8360" y="1196640"/>
            <a:ext cx="87631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вичный инструктаж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по охране труда на рабочем месте проводится до начала самостоятельной работы руководителем подразделения или, по его поручению, мастер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со всеми поступающими на работу в подразделение, включая работников, выполняющих работу на условиях трудового договора, заключенного на срок до двух месяцев или на период выполнения сезонных работ, в свободное от основной работы время (совместители), а также на дому (надомники) с использованием материалов, инструментов и механизмов, выделяемых работодателем или приобретаемых ими за свой сч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с работниками организации, переведенными в установленном порядке из другого структурного подразделения, либо работниками, которым поручается выполнение новой для них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с командированными работниками сторонних организаций, обучающимися образовательных учреждений соответствующих уровней, проходящими производственную практику (практические занятия), и другими лицами, участвующими в производственной деятельности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Первичный инструктаж проводится по разработанным и утвержденным программам инструктажа на рабочем месте с использованием инструкций по охране труда с целью получения конкретных знаний для безопасного выполнения производственного за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и порядок проведения инструктаж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8400" y="1144080"/>
            <a:ext cx="8867880" cy="55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Повторный инструктаж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проходят все рабочие, независимо от квалификации, образования, стажа, характера выполняемой работы не позднее, чем через 6 меся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С рабочими обслуживающими оборудование повышенной опасности повторный инструктаж проводят не реже 1 раза в 3 меся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Предприятиями, организациями по согласованию с профсоюзными комитетами и соответствующими местными органами государственного надзора для некоторых категорий работников может быть установлен более продолжительный (до 1 года) срок проведения повторного инструкта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Повторный инструктаж проводят по программам, разработанным для проведения первичного инструктажа на рабочем месте с целью проверки и повышения уровня знаний правил и инструкций по охране труда индивидуально или с группой работников одной профессии, бриг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и порядок проведения инструктаж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10960" y="1160280"/>
            <a:ext cx="877752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неплановый инструкта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вод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введении в действие новых или переработанных стандартов, правил, инструкций по охране тру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изменении технологического процесса, замене или модернизации оборудования, приспособлений и инструмента, исходного сырья, материалов и других факторов, влияющих на безопасность тру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нарушении работниками требований охраны труда, если эти нарушения создали реальную угрозу наступления тяжких последствий (несчастный случай на производстве, авария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требованию должностных лиц органов государственного надзора и контр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перерывах в работе: для работ с вредными и (или) опасными условиями более 30 календарных дней, а для остальных работ - более двух месяце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решению работодателя (или уполномоченного им лиц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и порядок проведения инструктаж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98000" y="1145880"/>
            <a:ext cx="877572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евой инструктаж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водят при выполнении разовых работ, не связанных с прямыми обязанностями по специальности (погрузка, выгрузка, уборка территории, разовые работы вне предприятия, цеха и т.п.), ликвидации последствий аварий, стихийных бедствий и катастроф, производстве работ на которые оформляется наряд-допуск, разрешение и другие документы, проведении экскурсий на предприятии. Организации массовых мероприятий с учащимися (экскурсии, походы, спортивные соревнования и др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ой инструктаж с работниками, проводящими работы по наряду-допуску, разрешению и т.п. фиксируются в наряде-допуске или другом документе разрешающем производство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4361040" y="1633680"/>
            <a:ext cx="215640" cy="287280"/>
          </a:xfrm>
          <a:prstGeom prst="downArrow">
            <a:avLst>
              <a:gd name="adj1" fmla="val 50000"/>
              <a:gd name="adj2" fmla="val 33281"/>
            </a:avLst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0" y="-27000"/>
            <a:ext cx="9144000" cy="376200"/>
          </a:xfrm>
          <a:prstGeom prst="rect">
            <a:avLst/>
          </a:prstGeom>
          <a:gradFill rotWithShape="0">
            <a:gsLst>
              <a:gs pos="0">
                <a:srgbClr val="7db6ef"/>
              </a:gs>
              <a:gs pos="50000">
                <a:srgbClr val="ffffff"/>
              </a:gs>
              <a:gs pos="100000">
                <a:srgbClr val="7db6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рядок разработки и утверждения инструкций по охране т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04920" y="419760"/>
            <a:ext cx="8532720" cy="48708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. 212 ТК  РФ «Работодатель обязан обеспечить разработку и утверждение инструкций по охране труда  для работников организации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503440" y="953640"/>
            <a:ext cx="4392720" cy="72468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тановление Минтруда РФ от 17 декабря 2002 г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№ 80 "Об утверждении Методических рекомендаций по разработке государственных нормативных требований охраны труда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611280" y="1893960"/>
            <a:ext cx="8066160" cy="233280"/>
          </a:xfrm>
          <a:prstGeom prst="rect">
            <a:avLst/>
          </a:prstGeom>
          <a:solidFill>
            <a:srgbClr val="ccffff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комендации по разработке инструкций по охране труда и их содерж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50920" y="2284560"/>
            <a:ext cx="8640720" cy="43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f5f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Инструкция по охране труда для работника разрабатывается, исходя из его должности, профессии или вида выполняемой работы (п.5.1. Пост. Минтруда от 17.12.2002 г. № 8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79280" y="3650760"/>
            <a:ext cx="4392720" cy="90576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щероссийский классифика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фессий рабочих, должностей служащих и тарифных разрядов (ОКПДТ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принят постановлением Госстандарта РФ от 26 декабря 1994 г. N 36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4643280" y="3650760"/>
            <a:ext cx="4392720" cy="90576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валификационный справоч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лжностей руководителей, специалистов и других служащ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утв. постановлением Минтруда РФ от 21 августа 1998 г. N 3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81160" y="2861280"/>
            <a:ext cx="8581680" cy="65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f5f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marL="174600" indent="-174600" algn="just">
              <a:lnSpc>
                <a:spcPct val="90000"/>
              </a:lnSpc>
              <a:tabLst>
                <a:tab algn="l" pos="0"/>
                <a:tab algn="l" pos="26208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Действующие в подразделении инструкции по охране труда для работников структурного подразделения организации, а также перечень этих инструкций хранится у руководителя этого подразделения (п.5.9. Пост. Минтруда от 17.12.2002 г. № 8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755640" y="4653000"/>
            <a:ext cx="7416720" cy="21924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Штатное расписание предприятия, утвержденное в установленном поряд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1908000" y="5013360"/>
            <a:ext cx="6985080" cy="1094760"/>
          </a:xfrm>
          <a:prstGeom prst="rect">
            <a:avLst/>
          </a:prstGeom>
          <a:gradFill rotWithShape="0">
            <a:gsLst>
              <a:gs pos="0">
                <a:srgbClr val="eae6d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ечень инструкций по охране труда действующих в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составляется службой охраны труда при участии руководителей подразделений, служб главных специалистов (главного технолога, главного механика, главного энергетика, главного металлурга и др.), службы организации труда и заработной плат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395280" y="6275520"/>
            <a:ext cx="8353440" cy="438120"/>
          </a:xfrm>
          <a:prstGeom prst="rect">
            <a:avLst/>
          </a:prstGeom>
          <a:gradFill rotWithShape="0">
            <a:gsLst>
              <a:gs pos="0">
                <a:srgbClr val="eae6d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тверждение перечня инструкций по охране труда руководителем организации , и рассылка во все структурные подразделения (службы)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324000" y="458136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 flipH="1">
            <a:off x="8172360" y="458136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457200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457200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179280" y="5229360"/>
            <a:ext cx="1440000" cy="65700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иды работ, выполняемых в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1619280" y="558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24000" y="1117440"/>
            <a:ext cx="8496000" cy="284580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marL="174600" indent="-174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66cc"/>
                </a:solidFill>
                <a:uFillTx/>
                <a:latin typeface="Times New Roman"/>
              </a:rPr>
              <a:t>Подготовительная работа, необходимая для разработки инструкц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ализ и выявление опасных и вредных производственных факторов, которые могут воздействовать на работника в процессе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ределение средств коллективной защиты, а также спецодежды, спецобуви и других средств индивидуальной защиты, предотвращающих воздействие на работников выявленных опасных и вредных факто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ределение безопасных методов и приемов работ, их последовательности, а также технических и организационных мероприятий, подлежащих включению в инструкц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ределение режимов труда и отдыха на основе утвержденных нор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ределение соответствия применяемых оборудования, приспособлений и инструмента характеру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ведение анализа причин производственного травматизма, аварийных ситуаций и профессиональных заболеваний для данной профессии (вида работы) на предприят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0" y="-27000"/>
            <a:ext cx="9144000" cy="368280"/>
          </a:xfrm>
          <a:prstGeom prst="rect">
            <a:avLst/>
          </a:prstGeom>
          <a:gradFill rotWithShape="0">
            <a:gsLst>
              <a:gs pos="0">
                <a:srgbClr val="7db6ef"/>
              </a:gs>
              <a:gs pos="50000">
                <a:srgbClr val="ffffff"/>
              </a:gs>
              <a:gs pos="100000">
                <a:srgbClr val="7db6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ядок разработки и утверждения инструкций по охране труда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87280" y="476280"/>
            <a:ext cx="8569440" cy="43812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каз (распоряжение) руководителя организации о разработке инструкций по охране труда,  с указанием конкретных лиц, ответственных за их разработ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79280" y="4437000"/>
            <a:ext cx="3168720" cy="109476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marL="174600" indent="-174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жотраслевые или отраслевые типовые инструкции по охране труда ( межотраслевые или отраслевые правила по охране тру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796000" y="4437000"/>
            <a:ext cx="2989080" cy="87588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marL="174600" indent="-174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ксплуатационная и ремонтная документация организаций-изготовителей обору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706920" y="4581360"/>
            <a:ext cx="1728720" cy="65700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marL="174600" indent="-174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хнологическая документация орган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268360" y="6093000"/>
            <a:ext cx="4969080" cy="38412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marL="174600" indent="-174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рукция по охране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2556000" y="5589720"/>
            <a:ext cx="0" cy="5032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3492360" y="3975120"/>
            <a:ext cx="0" cy="21178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572000" y="5300640"/>
            <a:ext cx="0" cy="79236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6659640" y="537372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4572000" y="907920"/>
            <a:ext cx="0" cy="21744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9:27:00Z</dcterms:created>
  <dc:creator>Даценко А.И.</dc:creator>
  <dc:description/>
  <dc:language>en-US</dc:language>
  <cp:lastModifiedBy>user</cp:lastModifiedBy>
  <cp:lastPrinted>2003-10-21T08:41:00Z</cp:lastPrinted>
  <dcterms:modified xsi:type="dcterms:W3CDTF">2020-09-07T05:54:51Z</dcterms:modified>
  <cp:revision>630</cp:revision>
  <dc:subject/>
  <dc:title>Охрана тру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1.0.5657</vt:lpwstr>
  </property>
</Properties>
</file>