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71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9440" y="0"/>
            <a:ext cx="297504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03320" y="759960"/>
            <a:ext cx="485928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5480" y="4632120"/>
            <a:ext cx="503244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9266040"/>
            <a:ext cx="29750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9440" y="9266040"/>
            <a:ext cx="297504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A8A48-98B3-4CD3-9B8B-03B6469270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003320" y="760320"/>
            <a:ext cx="4859280" cy="3645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5480" y="4632120"/>
            <a:ext cx="5032440" cy="43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5BE8-1C05-45E4-BB46-3036A5F5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8BD9-8474-4863-9912-4D59056E1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729C-BED0-4FD5-B153-5D4150F50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FA5F-73BA-4477-AE2B-7C874E6FD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FD66-6E3A-4341-9E82-770A12102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E8FB9-7DC3-49AA-BB24-C1477402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CCB2-4B72-4A69-8520-8DBD074D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91B7E-34F2-4365-B38C-9BA71270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F090-1092-45C8-9880-36408C59C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6EB26-D1DA-4ADC-81F8-B8DC43CD8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AE21-E552-42D3-BF6A-7A46B10D0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FBA6-9E28-4B5D-919B-7265F6F17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1854C-0488-466D-815E-A6252EB3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A812D-2FE0-48B4-B643-A16EF0AE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9F5C4-7AE1-4E64-81F2-B74D223A2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0CCFD-6947-48D5-82AD-B5B6CDD28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9B8A7-A527-4B98-8707-6014A8AEA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AA76-81D4-4682-9881-721574109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5097-EBE7-41A8-BC74-462A698B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E460-C6B1-4204-B040-036AE6E0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F637-37FC-43A0-8F18-224B900C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03FEE-55CE-4717-9CDA-10991B2AC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C453-9C1C-45CA-9708-601BF6FA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7CC8-1396-4C77-A67F-8FF472A3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BDF7-5F4D-4EBA-AE99-E94A8A51C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e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B038-F67A-4E82-82CC-EF0E8B85E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2"/>
          <p:cNvSpPr/>
          <p:nvPr/>
        </p:nvSpPr>
        <p:spPr>
          <a:xfrm>
            <a:off x="155520" y="285840"/>
            <a:ext cx="8831160" cy="830160"/>
          </a:xfrm>
          <a:prstGeom prst="rect">
            <a:avLst/>
          </a:prstGeom>
          <a:solidFill>
            <a:srgbClr val="e1e7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"/>
          <p:cNvSpPr/>
          <p:nvPr/>
        </p:nvSpPr>
        <p:spPr>
          <a:xfrm>
            <a:off x="811080" y="1468440"/>
            <a:ext cx="767556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Инструктирование, проведение обучения по охране труда работник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533520" y="4341600"/>
            <a:ext cx="8153280" cy="2469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f5f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Если в течение срока действия инструкции по охране труда для  работника  условия  его  труда не изменились,  то ее действие продлевается на следующий ср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ействующие  в подразделении  инструкции по охране труда для  работников  структурного  подразделения организации,  а также перечень    этих   инструкций   хранится   у  руководителя   этого подраздел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есто нахождения инструкций   по   охране  труда  для работников   определяет  руководитель  структурного подразделения   организации  с учетом  обеспечения  доступности  и удобства ознакомления с ни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179280" y="44280"/>
            <a:ext cx="8964720" cy="376560"/>
          </a:xfrm>
          <a:prstGeom prst="rect">
            <a:avLst/>
          </a:prstGeom>
          <a:gradFill rotWithShape="0">
            <a:gsLst>
              <a:gs pos="0">
                <a:srgbClr val="7db6ef"/>
              </a:gs>
              <a:gs pos="50000">
                <a:srgbClr val="ffffff"/>
              </a:gs>
              <a:gs pos="100000">
                <a:srgbClr val="7db6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рядок пересмотра инструкций по охране т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539640" y="765000"/>
            <a:ext cx="8153640" cy="951120"/>
          </a:xfrm>
          <a:prstGeom prst="rect">
            <a:avLst/>
          </a:prstGeom>
          <a:gradFill rotWithShape="0">
            <a:gsLst>
              <a:gs pos="0">
                <a:srgbClr val="dbed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роверку и пересмотр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инструкций по охране труда для работников 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организует работодатель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Пересмотр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струкций должен производиться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1600" spc="-1" strike="noStrike" u="sng">
                <a:solidFill>
                  <a:srgbClr val="ff3300"/>
                </a:solidFill>
                <a:uFillTx/>
                <a:latin typeface="Times New Roman"/>
              </a:rPr>
              <a:t>не реже одного раза в 5 лет</a:t>
            </a:r>
            <a:r>
              <a:rPr b="1" lang="ru-RU" sz="16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533520" y="1905120"/>
            <a:ext cx="815328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нструкции по охране труда для работников досрочно пересматриваются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539640" y="2276640"/>
            <a:ext cx="8153640" cy="1751400"/>
          </a:xfrm>
          <a:prstGeom prst="rect">
            <a:avLst/>
          </a:prstGeom>
          <a:gradFill rotWithShape="0">
            <a:gsLst>
              <a:gs pos="0">
                <a:srgbClr val="fceaf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indent="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 пересмотре межотраслевых и отраслевых правил и типовых инструкций по охране труд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изменении условий труда работник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недрении новой техники и технологи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результатам анализа материалов расследования аварий, несчастных случаев на производстве и профессиональных заболеваний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6208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о  требованию  представителей  органов по труду субъектов Российской Федерации или органов федеральной инспекции тру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2"/>
          <p:cNvSpPr/>
          <p:nvPr/>
        </p:nvSpPr>
        <p:spPr>
          <a:xfrm>
            <a:off x="1066680" y="457200"/>
            <a:ext cx="7239240" cy="703800"/>
          </a:xfrm>
          <a:prstGeom prst="rect">
            <a:avLst/>
          </a:prstGeom>
          <a:solidFill>
            <a:srgbClr val="c0fb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нструкция по охране труд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ключает   раздел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066680" y="1523880"/>
            <a:ext cx="6324840" cy="2225520"/>
          </a:xfrm>
          <a:prstGeom prst="rect">
            <a:avLst/>
          </a:prstGeom>
          <a:gradFill rotWithShape="0">
            <a:gsLst>
              <a:gs pos="0">
                <a:srgbClr val="e7f3ff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.  Общие требования охраны тру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2.  Требования охраны тру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еред началом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.  Требования охраны тру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о время рабо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.  Требования охраны тру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 аварийных ситуаци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.  Требования охраны тру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 окончании рабо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187200"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bd07156_"/>
          <p:cNvPicPr/>
          <p:nvPr/>
        </p:nvPicPr>
        <p:blipFill>
          <a:blip r:embed="rId1"/>
          <a:stretch/>
        </p:blipFill>
        <p:spPr>
          <a:xfrm>
            <a:off x="228600" y="3745080"/>
            <a:ext cx="2590920" cy="2198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5" descr="bd06779_"/>
          <p:cNvPicPr/>
          <p:nvPr/>
        </p:nvPicPr>
        <p:blipFill>
          <a:blip r:embed="rId2"/>
          <a:stretch/>
        </p:blipFill>
        <p:spPr>
          <a:xfrm>
            <a:off x="6435720" y="2768760"/>
            <a:ext cx="2479680" cy="3098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bs00673_"/>
          <p:cNvPicPr/>
          <p:nvPr/>
        </p:nvPicPr>
        <p:blipFill>
          <a:blip r:embed="rId3"/>
          <a:stretch/>
        </p:blipFill>
        <p:spPr>
          <a:xfrm>
            <a:off x="3048120" y="3733920"/>
            <a:ext cx="32763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380880" y="914400"/>
            <a:ext cx="8458200" cy="4419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838080" y="152280"/>
            <a:ext cx="8001000" cy="7038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имерный вид титульного листа                                               инструкции по охране труда для работн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609480" y="914400"/>
            <a:ext cx="8001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наименование организации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533520" y="1600200"/>
            <a:ext cx="373356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ГЛАСОВАНО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именование должности руководителя профсоюзного либо иного уполномоченного работниками орга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 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дпись)   (инициалы, фамил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та согласования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648320" y="1600200"/>
            <a:ext cx="41148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УТВЕРЖДА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именование должности работода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 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подпись)   (инициалы, фамилия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Дата утвер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609480" y="3200400"/>
            <a:ext cx="3810240" cy="733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квизиты документа, выражающего мнение профсоюзного  или  иного  уполномоченного работниками орган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533520" y="3962520"/>
            <a:ext cx="81532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НСТРУКЦИ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 охране труда д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наименование должности, профессии или вида рабо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___________________________________________________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(обозначени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523880" y="5410080"/>
            <a:ext cx="5867640" cy="115956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37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Times New Roman"/>
              </a:rPr>
              <a:t>Примечание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оборотной стороне инструкции рекомендуется наличие виз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азработчика инструкции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уководителя (специалиста) службы охраны труд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76280" indent="-37476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энергетика, технолога и других заинтересованных лиц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2"/>
          <p:cNvSpPr/>
          <p:nvPr/>
        </p:nvSpPr>
        <p:spPr>
          <a:xfrm>
            <a:off x="179280" y="44280"/>
            <a:ext cx="8785440" cy="429120"/>
          </a:xfrm>
          <a:prstGeom prst="rect">
            <a:avLst/>
          </a:prstGeom>
          <a:gradFill rotWithShape="0">
            <a:gsLst>
              <a:gs pos="0">
                <a:srgbClr val="7db6ef"/>
              </a:gs>
              <a:gs pos="50000">
                <a:srgbClr val="ffffff"/>
              </a:gs>
              <a:gs pos="100000">
                <a:srgbClr val="7db6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учение  по охране т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0880" y="765000"/>
            <a:ext cx="8382240" cy="82584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Все работники организации, в том числе ее руководитель, обязаны проходить обучение по охране труда и проверку знаний требований охраны труда в порядке, установленном Правительством РФ     (ТК РФ ст.225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179280" y="1684440"/>
            <a:ext cx="2608200" cy="952560"/>
          </a:xfrm>
          <a:prstGeom prst="rect">
            <a:avLst/>
          </a:prstGeom>
          <a:gradFill rotWithShape="0">
            <a:gsLst>
              <a:gs pos="0">
                <a:srgbClr val="c5e2ff"/>
              </a:gs>
              <a:gs pos="50000">
                <a:srgbClr val="ffffff"/>
              </a:gs>
              <a:gs pos="100000">
                <a:srgbClr val="c5e2ff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ГОСТ 12.0.004-2015 «Организация обучения безопасности труда. Общие положения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987640" y="1700280"/>
            <a:ext cx="5940360" cy="892080"/>
          </a:xfrm>
          <a:prstGeom prst="rect">
            <a:avLst/>
          </a:prstGeom>
          <a:gradFill rotWithShape="0">
            <a:gsLst>
              <a:gs pos="0">
                <a:srgbClr val="c5e2ff"/>
              </a:gs>
              <a:gs pos="50000">
                <a:srgbClr val="ffffff"/>
              </a:gs>
              <a:gs pos="100000">
                <a:srgbClr val="c5e2ff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rm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ТАНОВЛЕНИЕ от 13 января 2003 года МИНТРУДА РФ №1, МИНОБРАЗОВАНИЯ РФ №2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«Об  утверждении  порядка обучения  по охране труда и проверки знаний требований охраны труда работников организаци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380880" y="5727600"/>
            <a:ext cx="8382240" cy="75204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ffff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Ответственность за организацию и своевременность обучения по охране труда и проверку знаний требований охраны труда работников организаций несет работодатель в порядке, установленном законодательством Российской Федерации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179280" y="2697840"/>
            <a:ext cx="8785440" cy="2886480"/>
          </a:xfrm>
          <a:prstGeom prst="rect">
            <a:avLst/>
          </a:prstGeom>
          <a:gradFill rotWithShape="0">
            <a:gsLst>
              <a:gs pos="0">
                <a:srgbClr val="fceaf3"/>
              </a:gs>
              <a:gs pos="50000">
                <a:srgbClr val="ffffff"/>
              </a:gs>
              <a:gs pos="100000">
                <a:srgbClr val="fceaf3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Для всех поступающих на работу лиц, а также для работников, переводимых на другую работу, работодатель или уполномоченное им лицо обязаны проводить инструктаж по охране труда, организовывать обучение безопасным методам и приемам выполнения работ и оказания первой помощи пострадавшим. (ТК РФ ст.2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ботодатель обеспечивает обучение лиц, поступающих на работу с вредными и (или) опасными условиями труда, безопасным методам и приемам выполнения работ со стажировкой на рабочем месте и сдачей экзаменов и проведение их периодического обучения по охране труда и проверку знаний требований охраны труда в период работы. (ТК РФ ст.22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2"/>
          <p:cNvSpPr/>
          <p:nvPr/>
        </p:nvSpPr>
        <p:spPr>
          <a:xfrm>
            <a:off x="0" y="115920"/>
            <a:ext cx="9144000" cy="429120"/>
          </a:xfrm>
          <a:prstGeom prst="rect">
            <a:avLst/>
          </a:prstGeom>
          <a:gradFill rotWithShape="0">
            <a:gsLst>
              <a:gs pos="0">
                <a:srgbClr val="7db6ef"/>
              </a:gs>
              <a:gs pos="50000">
                <a:srgbClr val="ffffff"/>
              </a:gs>
              <a:gs pos="100000">
                <a:srgbClr val="7db6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учение по охране труда руководителей и специалистов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149400" y="760320"/>
            <a:ext cx="7086600" cy="1155960"/>
          </a:xfrm>
          <a:prstGeom prst="rect">
            <a:avLst/>
          </a:prstGeom>
          <a:gradFill rotWithShape="0">
            <a:gsLst>
              <a:gs pos="0">
                <a:srgbClr val="d8fef9"/>
              </a:gs>
              <a:gs pos="50000">
                <a:srgbClr val="ffffff"/>
              </a:gs>
              <a:gs pos="100000">
                <a:srgbClr val="d8fef9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normAutofit fontScale="95000"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ru-RU" sz="1600" spc="-1" strike="noStrike">
                <a:solidFill>
                  <a:srgbClr val="0066cc"/>
                </a:solidFill>
                <a:latin typeface="Times New Roman"/>
              </a:rPr>
              <a:t>Обучение по охране труда руководителей и специалисто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проводится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посредственно самой организацией или образовательными учреждениями профессионального образовани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, учебными центрами и другими учреждениями и организациями, осуществляющими образовательную деятельность, при наличии у них лиценз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4" descr="bd06629_"/>
          <p:cNvPicPr/>
          <p:nvPr/>
        </p:nvPicPr>
        <p:blipFill>
          <a:blip r:embed="rId1"/>
          <a:stretch/>
        </p:blipFill>
        <p:spPr>
          <a:xfrm>
            <a:off x="7410600" y="620640"/>
            <a:ext cx="1504800" cy="17528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5"/>
          <p:cNvSpPr/>
          <p:nvPr/>
        </p:nvSpPr>
        <p:spPr>
          <a:xfrm>
            <a:off x="50760" y="2205000"/>
            <a:ext cx="9036000" cy="3164040"/>
          </a:xfrm>
          <a:prstGeom prst="rect">
            <a:avLst/>
          </a:prstGeom>
          <a:gradFill rotWithShape="0">
            <a:gsLst>
              <a:gs pos="0">
                <a:srgbClr val="fceaf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Times New Roman"/>
              </a:rPr>
              <a:t>Обучение в обучающих организациях федеральных органов исполнительной власти, органов исполнительной власти субъектов Российской Федерации в области охраны труда проходят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и организаций, заместители руководителей организаций, курирующие вопросы охраны труда, заместители главных инженеров по охране труда, работодатели - физические лица, иные лица, занимающиеся предпринимательской деятельностью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и, специалисты, инженерно-технические работники, осуществляющие организацию, руководство и проведение работ на рабочих местах и в производственных подразделениях, а также контроль и технический надзор за проведением работ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пециалисты служб охраны труда, работники, на которых работодателем возложены обязанности организации работы по охране труда, члены комитетов (комиссий) по охране труда, уполномоченные (доверенные) лица по охране труда профессиональных союзов и иных уполномоченных работниками представительных орган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члены комиссий по проверке знаний требований охраны труда организаци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6"/>
          <p:cNvSpPr/>
          <p:nvPr/>
        </p:nvSpPr>
        <p:spPr>
          <a:xfrm>
            <a:off x="206280" y="5586480"/>
            <a:ext cx="8686800" cy="115956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Обучение по охране труда руководителей и специалистов в организации проводится </a:t>
            </a:r>
            <a:r>
              <a:rPr b="1" lang="ru-RU" sz="1400" spc="-1" strike="noStrike" u="sng">
                <a:solidFill>
                  <a:srgbClr val="ff0000"/>
                </a:solidFill>
                <a:uFillTx/>
                <a:latin typeface="Times New Roman"/>
              </a:rPr>
              <a:t>по программам обучения по охране труда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, разрабатываемым на основе «Примерных учебных планов обучения по охране труда и проверки знаний требований охраны труда работников организации» и «Примерных программ обучения по охране труда работников организации» (письмо Минтруда №477-7 от 27.05.2004 г.) и </a:t>
            </a: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утверждаемым работодателем</a:t>
            </a:r>
            <a:r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2"/>
          <p:cNvSpPr/>
          <p:nvPr/>
        </p:nvSpPr>
        <p:spPr>
          <a:xfrm>
            <a:off x="228600" y="2971800"/>
            <a:ext cx="8686800" cy="520200"/>
          </a:xfrm>
          <a:prstGeom prst="rect">
            <a:avLst/>
          </a:prstGeom>
          <a:gradFill rotWithShape="0">
            <a:gsLst>
              <a:gs pos="0">
                <a:srgbClr val="eaeaea"/>
              </a:gs>
              <a:gs pos="50000">
                <a:srgbClr val="ffffff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Внеочередная проверка знаний по охране труда руководителей и специалистов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организаций проводится независимо от срока проведения предыдущей проверк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28600" y="3481560"/>
            <a:ext cx="8686800" cy="3410280"/>
          </a:xfrm>
          <a:prstGeom prst="rect">
            <a:avLst/>
          </a:prstGeom>
          <a:gradFill rotWithShape="0">
            <a:gsLst>
              <a:gs pos="0">
                <a:srgbClr val="fceaf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введении новых или внесении изменений и дополнений в действующие законодательные и иные нормативные правовые акты, содержащие требования охраны труда. При этом осуществляется проверка знаний только этих законодательных и нормативных правовых акт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вводе в эксплуатацию нового оборудования и изменениях технологических процессов, требующих дополнительных знаний по охране труда работников. В этом случае осуществляется проверка знаний требований охраны труда, связанных с соответствующими изменениям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назначении или переводе работников на другую работу, если новые обязанности требуют дополнительных знаний по охране труда (до начала исполнения ими своих должностных обязанносте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требованию должностных лиц федеральной инспекции труда, других органов государственного надзора и контроля, а также федеральных органов исполнительной власти и органов исполнительной власти субъектов Российской Федерации в области охраны труда, органов местного самоуправления, а также работодателя (или уполномоченного им лица) при установлении нарушений требований охраны труда и недостаточных знаний требований безопасности и охраны тру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ле происшедших аварий и несчастных случаев, а также при выявлении неоднократных нарушений работниками организации требований нормативных правовых актов по охране тру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перерыве в работе в данной должности более одного года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685800" y="44280"/>
            <a:ext cx="7848720" cy="580680"/>
          </a:xfrm>
          <a:prstGeom prst="rect">
            <a:avLst/>
          </a:prstGeom>
          <a:solidFill>
            <a:srgbClr val="fdf5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Руководители и специалисты организаций проходят очередную проверку знаний требований охраны труда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</a:rPr>
              <a:t>не реже одного раза в три го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228600" y="762120"/>
            <a:ext cx="8610480" cy="2131560"/>
          </a:xfrm>
          <a:prstGeom prst="rect">
            <a:avLst/>
          </a:prstGeom>
          <a:gradFill rotWithShape="0">
            <a:gsLst>
              <a:gs pos="0">
                <a:srgbClr val="fceaf3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ля проверки знаний требований охраны труда работников в организациях приказом (распоряжением) работодателя (руководителя)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создается комиссия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в составе </a:t>
            </a:r>
            <a:r>
              <a:rPr b="1" lang="ru-RU" sz="1400" spc="-1" strike="noStrike">
                <a:solidFill>
                  <a:srgbClr val="ff0066"/>
                </a:solidFill>
                <a:latin typeface="Times New Roman"/>
              </a:rPr>
              <a:t>не менее трех человек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, прошедших обучение по охране труда и проверку знаний требований охраны труда в установленном порядк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состав комиссий по проверке знаний требований охраны труда организаций включаются руководители организаций и их структурных подразделений, специалисты служб охраны труда, главные специалисты (технолог, механик, энергетик и т.д.). В работе комиссии могут принимать участие представители выборного профсоюзного органа, представляющего интересы работников данной организации, в том числе уполномоченные (доверенные) лица по охране труда профессиональных союз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933480" y="0"/>
            <a:ext cx="73152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вторный инструктаж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3"/>
          <p:cNvSpPr/>
          <p:nvPr/>
        </p:nvSpPr>
        <p:spPr>
          <a:xfrm>
            <a:off x="324000" y="421200"/>
            <a:ext cx="8534160" cy="135108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pPr indent="363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вторный инструктаж проводится не реже одного раза в шесть месяцев по программам, разработанным для проведения первичного инструктажа на рабочем месте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6360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Инструктаж начинается с ознакомления с приказами и распоряжениями, информационными письмами, направленными на предупреждение несчастных случаев и нарушений. Затем дается анализ производственного травматизма с разбором фактов нарушений правил безопасности, допущенных рабочими производственного участ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395280" y="2196720"/>
            <a:ext cx="8389800" cy="241668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водится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введении в действие новых или изменении законодательных и иных нормативных правовых актов, содержащих требования охраны труда, а также инструкций по охране тру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изменении технологических процессов, замене или модернизации оборудования, приспособлений, инструмента и других факторов, влияющих на безопасность труд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нарушении работниками требований охраны труда, если эти нарушения создали реальную угрозу наступления тяжких последствий (несчастный случай на производстве, авария и т.п.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требованию должностных лиц органов государственного надзора и контрол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и перерывах в работе (для работ с вредными и (или) опасными условиями - более 30 календарных дней, а для остальных работ - более двух месяцев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 решению работодателя (или уполномоченного им лица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933480" y="1827360"/>
            <a:ext cx="73152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Внеплановый инструкт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933480" y="4614840"/>
            <a:ext cx="731520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Целевой  инструкта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414360" y="5026320"/>
            <a:ext cx="8351640" cy="156420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36000" bIns="360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водится пр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ыполнении разовых работ, не связанных с прямыми обязанностями по специаль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ликвидации последствий аварий, стихийных бедствий и катастроф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изводстве работ, на которые оформляется наряд-допуск, разрешение и другие документы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262080"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ведении экскурсии на предприятии, организации массовых мероприятий с учащимися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Целевой инструктаж фиксируется  в наряде-допуске или другой документации, разрешающей производство работ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199800"/>
            <a:ext cx="6858000" cy="15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00000"/>
                </a:solidFill>
                <a:latin typeface="Times New Roman"/>
              </a:rPr>
              <a:t>Виды и порядок проведения инструктажей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3320" y="1663560"/>
            <a:ext cx="875988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Перед допуском до работы работники должны пройти: вводный инструктаж, первичный инструктаж на рабочем месте, стажировку на рабочем месте от 2 до 14 смен под руководством лица, назначенного приказом. Работники допускаются к самостоятельной работе после стажировки, проверки теоретических знаний и приобретенных навыков безопасных способов работы. Инструктажи по безопасности труда по характеру и времени проведения подразделяются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ввод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первичный на рабочем мест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повторны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целев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2400" spc="-1" strike="noStrike">
                <a:solidFill>
                  <a:srgbClr val="000000"/>
                </a:solidFill>
                <a:latin typeface="Times New Roman"/>
              </a:rPr>
              <a:t>внепланов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Заголовок 1" descr=""/>
          <p:cNvPicPr/>
          <p:nvPr/>
        </p:nvPicPr>
        <p:blipFill>
          <a:blip r:embed="rId1"/>
          <a:stretch/>
        </p:blipFill>
        <p:spPr>
          <a:xfrm>
            <a:off x="457200" y="-341280"/>
            <a:ext cx="8229600" cy="19018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236160" y="1198440"/>
            <a:ext cx="8697960" cy="54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000000"/>
                </a:solidFill>
                <a:uFillTx/>
                <a:latin typeface="Times New Roman"/>
              </a:rPr>
              <a:t>Вводный инструктаж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проводится со всеми вновь принимаемыми на работу независимо от их образования, стажа работы по данной профессии или должности, с временными работниками, командированными, учащимися и студентами, прибывшими на производственное обучение или практик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Вводный инструктаж на предприятиях проводит специалист по охране труда или лицо, на которое приказом по предприятию возложены эти обязанности. Для проведения вводного инструктажа разрабатываются программа и инструкция, утверждаются руководителем пред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О проведении вводного инструктажа делается запись в журнале регистрации вводного инструктажа с обязательной подписью инструктируемого и инструктирующего, а также в документы о приеме на работ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От последующих инструктажей на рабочем месте освобождаются лица, не связанные с обслуживанием, испытанием, наладкой оборудования и инструментом. Составляется Перечень профессий и должностей работников, освобожденных от инструктажей на рабочем месте, который утверждается руководителем предприят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и порядок проведения инструктаж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98360" y="1196640"/>
            <a:ext cx="876312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ервичный инструктаж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по охране труда на рабочем месте проводится до начала самостоятельной работы руководителем подразделения или, по его поручению, мастер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со всеми поступающими на работу в подразделение, включая работников, выполняющих работу на условиях трудового договора, заключенного на срок до двух месяцев или на период выполнения сезонных работ, в свободное от основной работы время (совместители), а также на дому (надомники) с использованием материалов, инструментов и механизмов, выделяемых работодателем или приобретаемых ими за свой счет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с работниками организации, переведенными в установленном порядке из другого структурного подразделения, либо работниками, которым поручается выполнение новой для них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с командированными работниками сторонних организаций, обучающимися образовательных учреждений соответствующих уровней, проходящими производственную практику (практические занятия), и другими лицами, участвующими в производственной деятельности организ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Первичный инструктаж проводится по разработанным и утвержденным программам инструктажа на рабочем месте с использованием инструкций по охране труда с целью получения конкретных знаний для безопасного выполнения производственного зад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и порядок проведения инструктаж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58400" y="1144080"/>
            <a:ext cx="8867880" cy="55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Times New Roman"/>
              </a:rPr>
              <a:t>Повторный инструктаж</a:t>
            </a: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 проходят все рабочие, независимо от квалификации, образования, стажа, характера выполняемой работы не позднее, чем через 6 месяце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С рабочими обслуживающими оборудование повышенной опасности повторный инструктаж проводят не реже 1 раза в 3 месяц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Предприятиями, организациями по согласованию с профсоюзными комитетами и соответствующими местными органами государственного надзора для некоторых категорий работников может быть установлен более продолжительный (до 1 года) срок проведения повторного инструктаж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Times New Roman"/>
              </a:rPr>
              <a:t>Повторный инструктаж проводят по программам, разработанным для проведения первичного инструктажа на рабочем месте с целью проверки и повышения уровня знаний правил и инструкций по охране труда индивидуально или с группой работников одной профессии, бригад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и порядок проведения инструктаж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10960" y="1160280"/>
            <a:ext cx="8777520" cy="55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Внеплановый инструктаж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роводя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введении в действие новых или переработанных стандартов, правил, инструкций по охране тру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изменении технологического процесса, замене или модернизации оборудования, приспособлений и инструмента, исходного сырья, материалов и других факторов, влияющих на безопасность труд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нарушении работниками требований охраны труда, если эти нарушения создали реальную угрозу наступления тяжких последствий (несчастный случай на производстве, авария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требованию должностных лиц органов государственного надзора и контрол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ри перерывах в работе: для работ с вредными и (или) опасными условиями более 30 календарных дней, а для остальных работ - более двух месяце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 решению работодателя (или уполномоченного им лиц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и порядок проведения инструктажей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98000" y="1145880"/>
            <a:ext cx="877572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Целевой инструктаж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проводят при выполнении разовых работ, не связанных с прямыми обязанностями по специальности (погрузка, выгрузка, уборка территории, разовые работы вне предприятия, цеха и т.п.), ликвидации последствий аварий, стихийных бедствий и катастроф, производстве работ на которые оформляется наряд-допуск, разрешение и другие документы, проведении экскурсий на предприятии. Организации массовых мероприятий с учащимися (экскурсии, походы, спортивные соревнования и др.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елевой инструктаж с работниками, проводящими работы по наряду-допуску, разрешению и т.п. фиксируются в наряде-допуске или другом документе разрешающем производство рабо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AutoShape 2"/>
          <p:cNvSpPr/>
          <p:nvPr/>
        </p:nvSpPr>
        <p:spPr>
          <a:xfrm>
            <a:off x="4361040" y="1633680"/>
            <a:ext cx="215640" cy="287280"/>
          </a:xfrm>
          <a:prstGeom prst="downArrow">
            <a:avLst>
              <a:gd name="adj1" fmla="val 50000"/>
              <a:gd name="adj2" fmla="val 33281"/>
            </a:avLst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4"/>
          <p:cNvSpPr/>
          <p:nvPr/>
        </p:nvSpPr>
        <p:spPr>
          <a:xfrm>
            <a:off x="0" y="-27000"/>
            <a:ext cx="9144000" cy="376200"/>
          </a:xfrm>
          <a:prstGeom prst="rect">
            <a:avLst/>
          </a:prstGeom>
          <a:gradFill rotWithShape="0">
            <a:gsLst>
              <a:gs pos="0">
                <a:srgbClr val="7db6ef"/>
              </a:gs>
              <a:gs pos="50000">
                <a:srgbClr val="ffffff"/>
              </a:gs>
              <a:gs pos="100000">
                <a:srgbClr val="7db6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орядок разработки и утверждения инструкций по охране тр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304920" y="419760"/>
            <a:ext cx="8532720" cy="48708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Ст. 212 ТК  РФ «Работодатель обязан обеспечить разработку и утверждение инструкций по охране труда  для работников организации.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2503440" y="953640"/>
            <a:ext cx="4392720" cy="72468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остановление Минтруда РФ от 17 декабря 2002 г. 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№ 80 "Об утверждении Методических рекомендаций по разработке государственных нормативных требований охраны труда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8"/>
          <p:cNvSpPr/>
          <p:nvPr/>
        </p:nvSpPr>
        <p:spPr>
          <a:xfrm>
            <a:off x="611280" y="1893960"/>
            <a:ext cx="8066160" cy="233280"/>
          </a:xfrm>
          <a:prstGeom prst="rect">
            <a:avLst/>
          </a:prstGeom>
          <a:solidFill>
            <a:srgbClr val="ccffff"/>
          </a:soli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екомендации по разработке инструкций по охране труда и их содержани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50920" y="2284560"/>
            <a:ext cx="8640720" cy="438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f5f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marL="174600" indent="-1746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. Инструкция по охране труда для работника разрабатывается, исходя из его должности, профессии или вида выполняемой работы (п.5.1. Пост. Минтруда от 17.12.2002 г. № 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0"/>
          <p:cNvSpPr/>
          <p:nvPr/>
        </p:nvSpPr>
        <p:spPr>
          <a:xfrm>
            <a:off x="179280" y="3650760"/>
            <a:ext cx="4392720" cy="90576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щероссийский классификато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профессий рабочих, должностей служащих и тарифных разрядов (ОКПДТР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принят постановлением Госстандарта РФ от 26 декабря 1994 г. N 36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>
            <a:off x="4643280" y="3650760"/>
            <a:ext cx="4392720" cy="905760"/>
          </a:xfrm>
          <a:prstGeom prst="rect">
            <a:avLst/>
          </a:prstGeom>
          <a:gradFill rotWithShape="0">
            <a:gsLst>
              <a:gs pos="0">
                <a:srgbClr val="ebffeb"/>
              </a:gs>
              <a:gs pos="50000">
                <a:srgbClr val="ffffff"/>
              </a:gs>
              <a:gs pos="100000">
                <a:srgbClr val="ebffeb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Квалификационный справочни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должностей руководителей, специалистов и других служащи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(утв. постановлением Минтруда РФ от 21 августа 1998 г. N 3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2"/>
          <p:cNvSpPr/>
          <p:nvPr/>
        </p:nvSpPr>
        <p:spPr>
          <a:xfrm>
            <a:off x="281160" y="2861280"/>
            <a:ext cx="8581680" cy="657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fdf5f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ctr">
            <a:spAutoFit/>
          </a:bodyPr>
          <a:p>
            <a:pPr marL="174600" indent="-174600" algn="just">
              <a:lnSpc>
                <a:spcPct val="90000"/>
              </a:lnSpc>
              <a:tabLst>
                <a:tab algn="l" pos="0"/>
                <a:tab algn="l" pos="262080"/>
                <a:tab algn="l" pos="363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.Действующие в подразделении инструкции по охране труда для работников структурного подразделения организации, а также перечень этих инструкций хранится у руководителя этого подразделения (п.5.9. Пост. Минтруда от 17.12.2002 г. № 8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3"/>
          <p:cNvSpPr/>
          <p:nvPr/>
        </p:nvSpPr>
        <p:spPr>
          <a:xfrm>
            <a:off x="755640" y="4653000"/>
            <a:ext cx="7416720" cy="21924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Штатное расписание предприятия, утвержденное в установленном порядк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4"/>
          <p:cNvSpPr/>
          <p:nvPr/>
        </p:nvSpPr>
        <p:spPr>
          <a:xfrm>
            <a:off x="1908000" y="5013360"/>
            <a:ext cx="6985080" cy="1094760"/>
          </a:xfrm>
          <a:prstGeom prst="rect">
            <a:avLst/>
          </a:prstGeom>
          <a:gradFill rotWithShape="0">
            <a:gsLst>
              <a:gs pos="0">
                <a:srgbClr val="eae6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еречень инструкций по охране труда действующих в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(составляется службой охраны труда при участии руководителей подразделений, служб главных специалистов (главного технолога, главного механика, главного энергетика, главного металлурга и др.), службы организации труда и заработной платы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5"/>
          <p:cNvSpPr/>
          <p:nvPr/>
        </p:nvSpPr>
        <p:spPr>
          <a:xfrm>
            <a:off x="395280" y="6275520"/>
            <a:ext cx="8353440" cy="438120"/>
          </a:xfrm>
          <a:prstGeom prst="rect">
            <a:avLst/>
          </a:prstGeom>
          <a:gradFill rotWithShape="0">
            <a:gsLst>
              <a:gs pos="0">
                <a:srgbClr val="eae6de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Утверждение перечня инструкций по охране труда руководителем организации , и рассылка во все структурные подразделения (службы)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6"/>
          <p:cNvSpPr/>
          <p:nvPr/>
        </p:nvSpPr>
        <p:spPr>
          <a:xfrm>
            <a:off x="324000" y="4581360"/>
            <a:ext cx="431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7"/>
          <p:cNvSpPr/>
          <p:nvPr/>
        </p:nvSpPr>
        <p:spPr>
          <a:xfrm flipH="1">
            <a:off x="8172360" y="4581360"/>
            <a:ext cx="503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8"/>
          <p:cNvSpPr/>
          <p:nvPr/>
        </p:nvSpPr>
        <p:spPr>
          <a:xfrm>
            <a:off x="4572000" y="5877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9"/>
          <p:cNvSpPr/>
          <p:nvPr/>
        </p:nvSpPr>
        <p:spPr>
          <a:xfrm>
            <a:off x="4572000" y="486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0"/>
          <p:cNvSpPr/>
          <p:nvPr/>
        </p:nvSpPr>
        <p:spPr>
          <a:xfrm>
            <a:off x="179280" y="5229360"/>
            <a:ext cx="1440000" cy="65700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Виды работ, выполняемых в организ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21"/>
          <p:cNvSpPr/>
          <p:nvPr/>
        </p:nvSpPr>
        <p:spPr>
          <a:xfrm>
            <a:off x="1619280" y="5589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324000" y="1117440"/>
            <a:ext cx="8496000" cy="284580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marL="174600" indent="-174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66cc"/>
                </a:solidFill>
                <a:uFillTx/>
                <a:latin typeface="Times New Roman"/>
              </a:rPr>
              <a:t>Подготовительная работа, необходимая для разработки инструкций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анализ и выявление опасных и вредных производственных факторов, которые могут воздействовать на работника в процессе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ие средств коллективной защиты, а также спецодежды, спецобуви и других средств индивидуальной защиты, предотвращающих воздействие на работников выявленных опасных и вредных фактор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ие безопасных методов и приемов работ, их последовательности, а также технических и организационных мероприятий, подлежащих включению в инструкцию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ие режимов труда и отдыха на основе утвержденных норм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пределение соответствия применяемых оборудования, приспособлений и инструмента характеру работ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оведение анализа причин производственного травматизма, аварийных ситуаций и профессиональных заболеваний для данной профессии (вида работы) на предприятии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0" y="-27000"/>
            <a:ext cx="9144000" cy="368280"/>
          </a:xfrm>
          <a:prstGeom prst="rect">
            <a:avLst/>
          </a:prstGeom>
          <a:gradFill rotWithShape="0">
            <a:gsLst>
              <a:gs pos="0">
                <a:srgbClr val="7db6ef"/>
              </a:gs>
              <a:gs pos="50000">
                <a:srgbClr val="ffffff"/>
              </a:gs>
              <a:gs pos="100000">
                <a:srgbClr val="7db6e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Порядок разработки и утверждения инструкций по охране труда (продолжени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87280" y="476280"/>
            <a:ext cx="8569440" cy="43812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риказ (распоряжение) руководителя организации о разработке инструкций по охране труда,  с указанием конкретных лиц, ответственных за их разработку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79280" y="4437000"/>
            <a:ext cx="3168720" cy="109476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marL="174600" indent="-174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Межотраслевые или отраслевые типовые инструкции по охране труда ( межотраслевые или отраслевые правила по охране труд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796000" y="4437000"/>
            <a:ext cx="2989080" cy="87588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marL="174600" indent="-174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Эксплуатационная и ремонтная документация организаций-изготовителей оборудов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706920" y="4581360"/>
            <a:ext cx="1728720" cy="65700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marL="174600" indent="-174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технологическая документация организац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2268360" y="6093000"/>
            <a:ext cx="4969080" cy="384120"/>
          </a:xfrm>
          <a:prstGeom prst="rect">
            <a:avLst/>
          </a:prstGeom>
          <a:gradFill rotWithShape="0">
            <a:gsLst>
              <a:gs pos="0">
                <a:srgbClr val="e3fa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0" bIns="0" anchor="t">
            <a:spAutoFit/>
          </a:bodyPr>
          <a:p>
            <a:pPr marL="174600" indent="-1746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струкция по охране тру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2556000" y="5589720"/>
            <a:ext cx="0" cy="5032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0"/>
          <p:cNvSpPr/>
          <p:nvPr/>
        </p:nvSpPr>
        <p:spPr>
          <a:xfrm>
            <a:off x="3492360" y="3975120"/>
            <a:ext cx="0" cy="21178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4572000" y="5300640"/>
            <a:ext cx="0" cy="79236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2"/>
          <p:cNvSpPr/>
          <p:nvPr/>
        </p:nvSpPr>
        <p:spPr>
          <a:xfrm>
            <a:off x="6659640" y="5373720"/>
            <a:ext cx="0" cy="71928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3"/>
          <p:cNvSpPr/>
          <p:nvPr/>
        </p:nvSpPr>
        <p:spPr>
          <a:xfrm>
            <a:off x="4572000" y="907920"/>
            <a:ext cx="0" cy="217440"/>
          </a:xfrm>
          <a:prstGeom prst="line">
            <a:avLst/>
          </a:prstGeom>
          <a:ln w="3816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9:27:00Z</dcterms:created>
  <dc:creator>Даценко А.И.</dc:creator>
  <dc:description/>
  <dc:language>en-US</dc:language>
  <cp:lastModifiedBy>user</cp:lastModifiedBy>
  <cp:lastPrinted>2003-10-21T08:41:00Z</cp:lastPrinted>
  <dcterms:modified xsi:type="dcterms:W3CDTF">2020-09-07T05:54:51Z</dcterms:modified>
  <cp:revision>630</cp:revision>
  <dc:subject/>
  <dc:title>Охрана тру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9-10.1.0.5657</vt:lpwstr>
  </property>
</Properties>
</file>