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DB8-5057-482C-9509-6BAF2E9A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150-4AC9-44F2-9AEA-DA2BB5B4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DFF-7B21-42AE-B629-B7DDD8D8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194-A848-4C28-8748-FD382B00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D38-41DA-479E-B6E8-838AA76E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588-7699-41A7-BD3A-03FD0A9E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9EA-5FCF-4F6F-A3AB-B482FD00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C4A-A9F9-4938-9483-1193B246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766-07F9-4ADB-AE4A-D9F909D7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98E-0089-4E6B-8126-9B0499F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3F8-D3CA-4520-998E-DBB0596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81C-8569-4440-B519-1DF8A69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BB92-F555-4D75-9195-AC8CBFC79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hyperlink" Target="file:///&#1062;&#1110;&#1082;&#1072;&#1074;&#1086;....doc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hyperlink" Target="file:///&#1047;&#1095;&#1080;&#1090;&#1091;&#1108;&#1084;&#1086;...doc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83;&#1072;&#1076;&#1085;&#1110;&#1096;&#1077;...doc" TargetMode="External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9900"/>
                </a:solidFill>
                <a:latin typeface="Arial Black"/>
              </a:rPr>
              <a:t>Сканери штрихових ко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анер штрихового коду – це пристрій, за допомогою якого виконується читання штрихового коду і передача його даних в персональный комп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ютер, касовий апарат або POS -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774072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6600"/>
                </a:solidFill>
                <a:latin typeface="Arial"/>
              </a:rPr>
              <a:t>За типом викон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716280"/>
            <a:ext cx="2520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71880" y="378000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23736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7524720" y="6237360"/>
            <a:ext cx="934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аціонар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-  горизонт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-  вертик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-  біоптич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Руч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Комбінова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  (стаціонарні/ручн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Докладніше..."/>
          <p:cNvPicPr/>
          <p:nvPr/>
        </p:nvPicPr>
        <p:blipFill>
          <a:blip r:embed="rId11"/>
          <a:stretch/>
        </p:blipFill>
        <p:spPr>
          <a:xfrm>
            <a:off x="5364000" y="3141720"/>
            <a:ext cx="1800360" cy="158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5148360" y="4724280"/>
            <a:ext cx="2592360" cy="1513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003640" y="1197000"/>
            <a:ext cx="2664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669900"/>
                </a:solidFill>
                <a:latin typeface="Arial"/>
              </a:rPr>
              <a:t>Стаціонарні сканер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 зчитуванні нерухомі і зчитування відбувається шляхом проведення штрих-коду товару перед системою зчитування поверхні сканера. В залежності від типу виконання стаціонарні сканери бувають вертикальні, горизонтальні, біоптичні     та щельові (для зчитування штрих-коду з картки), вбудовані та настільні.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 торгівлі використовуються горизонтальний, вертикальний та біоптичний сканери штрих-кодів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становлюють їх в великих магазинах, де важливо швидко обслужити покупця на касовому вузлі, щоб не створювати черг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308720" y="6308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75564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743280" cy="4360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9900"/>
                </a:solidFill>
                <a:latin typeface="Arial"/>
              </a:rPr>
              <a:t>Горизонтальні сканери</a:t>
            </a: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штрих-кодів вбудовують на касовому вузлі  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ким чином вивільняють місце на касовому столі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видкість обслуговування покупців зроста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723600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968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i="1" lang="uk-UA" sz="2800" spc="-1" strike="noStrike">
                <a:solidFill>
                  <a:srgbClr val="ffcc00"/>
                </a:solidFill>
                <a:latin typeface="Arial"/>
              </a:rPr>
              <a:t>Вертикальні сканери штрих-кодів</a:t>
            </a: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більш практичні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евагами такого рішення є: збільшення швидкості обслуговування покупця завдяки скороченню часу, який до цього витрачалося на постійні повороти до монітора і назад; зниження витрат на заміну стекол в сканері штрих кодів, на який касири кидають товар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81636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623736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64000" y="620640"/>
            <a:ext cx="558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ічною особливістю </a:t>
            </a: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біоптичних моделе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є здатність зчитувати штрих-коди з усіх чотирьох сторін товару. Деякі моделі поєднуют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собі сканер штрих-коду і ваг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сокі механічні якості забезпечують надійну роботу і високу швидкість скануванн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636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Magellan 8300 / 8400 (Datalogic)"/>
          <p:cNvPicPr/>
          <p:nvPr/>
        </p:nvPicPr>
        <p:blipFill>
          <a:blip r:embed="rId2"/>
          <a:stretch/>
        </p:blipFill>
        <p:spPr>
          <a:xfrm>
            <a:off x="395280" y="836640"/>
            <a:ext cx="345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9403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Ручні сканер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еобхідно тримати в руці і проводити зчитування прикладаючи пристрій до  штрих-коду на етикетці. При наявності опції «кнопка сканування» читання штрих-коду відбувається</a:t>
            </a: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томатично, якщо навести луч сканеру на штрих-код и натиснути кнопку сканування. Використовують у випадках, коли необхідно забезпечити більшу свободу дій оператор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Ручной сканер Motorola Symbol LS-2208"/>
          <p:cNvPicPr/>
          <p:nvPr/>
        </p:nvPicPr>
        <p:blipFill>
          <a:blip r:embed="rId1"/>
          <a:stretch/>
        </p:blipFill>
        <p:spPr>
          <a:xfrm>
            <a:off x="5364000" y="1557360"/>
            <a:ext cx="3095640" cy="403236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68436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7740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Комбіновані модел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значені для роботи в двох режимах. Це або ручний сканер, у комплект до якого входить кріплення або підставка, що дозволяє його зафіксувати або настільний, який закреплений на гнучкий штанг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6237360"/>
            <a:ext cx="93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7885080" y="6165720"/>
            <a:ext cx="93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Гібридний високошвидкісний сканер-іміджер штрих-коду Symbol DS9808 Standard Range (Натисніть, щоб збільшити)"/>
          <p:cNvPicPr/>
          <p:nvPr/>
        </p:nvPicPr>
        <p:blipFill>
          <a:blip r:embed="rId2"/>
          <a:stretch/>
        </p:blipFill>
        <p:spPr>
          <a:xfrm>
            <a:off x="5148360" y="3213000"/>
            <a:ext cx="3166920" cy="288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2664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6600"/>
                </a:solidFill>
                <a:latin typeface="Arial"/>
              </a:rPr>
              <a:t>По технології зчи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Однопроменеві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або одноплощинні) лазерні сканери випромінюють один скануючий промінь і можуть читати штрих-код тільки в одному положен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Багатопроменеві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 або багатоплощінні) сканери випромінюють кілька скануючих променів у різних площинах, що дозволяє зчитувати штрих-код в будь-якому положенні.    Вони найчастіше використовуються в теперешній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66cc"/>
                </a:solidFill>
                <a:latin typeface="Arial"/>
              </a:rPr>
              <a:t>Головна функція сканерів штрих-коді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читання зображення  штрих-коду та перетворення його в цифровий сигнал. Функцію перетворення виконує спеціальний декодер, як правило, вбудований в сканер або виконаний у вигляді окремого пристрою, який підключаєтся між сканером та комп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ютером, касовим апаратом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POS-системою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6237360"/>
            <a:ext cx="935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7596360" y="6308640"/>
            <a:ext cx="9331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165720"/>
            <a:ext cx="1224000" cy="432000"/>
          </a:xfrm>
          <a:custGeom>
            <a:avLst/>
            <a:gdLst>
              <a:gd name="textAreaLeft" fmla="*/ 0 w 1224000"/>
              <a:gd name="textAreaRight" fmla="*/ 1224360 w 122400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Цікаво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cc00"/>
                </a:solidFill>
                <a:latin typeface="Arial"/>
              </a:rPr>
              <a:t>Класифікація сканерів штрих-ко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900000" y="623736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956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cument"/>
          <p:cNvSpPr/>
          <p:nvPr/>
        </p:nvSpPr>
        <p:spPr>
          <a:xfrm>
            <a:off x="971640" y="1773360"/>
            <a:ext cx="2016000" cy="237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о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жер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іт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cument"/>
          <p:cNvSpPr/>
          <p:nvPr/>
        </p:nvSpPr>
        <p:spPr>
          <a:xfrm>
            <a:off x="2556000" y="1989000"/>
            <a:ext cx="2016000" cy="2374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інтерфей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підключ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cument"/>
          <p:cNvSpPr/>
          <p:nvPr/>
        </p:nvSpPr>
        <p:spPr>
          <a:xfrm>
            <a:off x="4284720" y="2421000"/>
            <a:ext cx="2195280" cy="237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т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викон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cument"/>
          <p:cNvSpPr/>
          <p:nvPr/>
        </p:nvSpPr>
        <p:spPr>
          <a:xfrm>
            <a:off x="6300720" y="2708280"/>
            <a:ext cx="2016360" cy="2374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техн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зчит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6600"/>
                </a:solidFill>
                <a:latin typeface="Arial"/>
              </a:rPr>
              <a:t>По типу джерела світ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52472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24000" y="1628640"/>
            <a:ext cx="8062920" cy="4248360"/>
            <a:chOff x="324000" y="1628640"/>
            <a:chExt cx="8062920" cy="4248360"/>
          </a:xfrm>
        </p:grpSpPr>
        <p:sp>
          <p:nvSpPr>
            <p:cNvPr id="60" name=""/>
            <p:cNvSpPr txBox="1"/>
            <p:nvPr/>
          </p:nvSpPr>
          <p:spPr>
            <a:xfrm>
              <a:off x="3716640" y="1891800"/>
              <a:ext cx="1782000" cy="127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Image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 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або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 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8" action="ppaction://hlinksldjump"/>
                </a:rPr>
                <a:t>матрич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9" action="ppaction://hlinksldjump"/>
                </a:rPr>
                <a:t>технолог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24000" y="1628640"/>
              <a:ext cx="8062920" cy="4248360"/>
              <a:chOff x="324000" y="1628640"/>
              <a:chExt cx="8062920" cy="42483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826920" y="1628640"/>
                <a:ext cx="7560000" cy="1871640"/>
                <a:chOff x="826920" y="1628640"/>
                <a:chExt cx="7560000" cy="18716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5867280" y="1700280"/>
                  <a:ext cx="2519640" cy="1800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0" action="ppaction://hlinksldjump"/>
                    </a:rPr>
                    <a:t>Лазерні</a:t>
                  </a:r>
                  <a:r>
                    <a:rPr b="0" lang="ru-RU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1" action="ppaction://hlinksldjump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2" action="ppaction://hlinksldjump"/>
                    </a:rPr>
                    <a:t>сканери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26920" y="1628640"/>
                  <a:ext cx="2519640" cy="18003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3" action="ppaction://hlinksldjump"/>
                    </a:rPr>
                    <a:t>Світлодиодні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4" action="ppaction://hlinksldjump"/>
                    </a:rPr>
                    <a:t> ( ССД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324000" y="4005360"/>
                <a:ext cx="2232000" cy="180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5" action="ppaction://hlinksldjump"/>
                  </a:rPr>
                  <a:t>Контактн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56000" y="4076640"/>
                <a:ext cx="2232000" cy="18003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6" action="ppaction://hlinksldjump"/>
                  </a:rPr>
                  <a:t>Далекої ді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2700360" y="3284640"/>
            <a:ext cx="3589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47640" y="335772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529080" cy="4824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140000" y="549360"/>
            <a:ext cx="4833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i="1" lang="uk-UA" sz="2800" spc="-1" strike="noStrike">
                <a:solidFill>
                  <a:srgbClr val="ffcc00"/>
                </a:solidFill>
                <a:latin typeface="Arial"/>
              </a:rPr>
              <a:t>Контактні світлодиодні сканери</a:t>
            </a:r>
            <a:r>
              <a:rPr b="1" i="1" lang="uk-UA" sz="20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читують інформацію засвічуючи всю область, яка містить штрих-код. Моделі сканерів цього типу мають невелику відстань зчитування, при цьому штрих-код повинен бути чітким і нанесеним на рівну поверхн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759636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504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9933"/>
                </a:solidFill>
                <a:latin typeface="Arial"/>
              </a:rPr>
              <a:t>Світлодиодні сканери </a:t>
            </a: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далекої дії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ідрізняються більшою відстанню зчитування  і механизмом розпізнавання зображення, який дозволяє зчитувати неякісно надруковані і пошкоджені коди (наприклад, які нанесені на нерівну поверхню). Більшість таких сканерів  зчитують штрих - коди на відстані 6-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952720" cy="4535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802800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03280" y="404280"/>
            <a:ext cx="5483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Image або матрична технологі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заснована на тому, що для вилучення із штрих-коду інформації використовується не частина штрих-коду, підсвічена лазером або світлодіодами, а все зображення повністю. Ця технологія дозволяє розпізнавати двомірні (2D) штрих-коди, дрібні або пошкоджені штрих-коди, а також зчитувати їх через вакуумну плі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574720" cy="446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7956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62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Лазерні сканер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зчитують інформацію за допомогою вузького променя лаз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ни  бувають різноманітні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ід розміру олівця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их стаціонарних багатоплоскосних сканерів штрих-кодів, відстань зчитування яких добігає декілька десятків сантиметрів незалежно від нахилу етик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447640" cy="360036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74072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6165720"/>
            <a:ext cx="9352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6165720"/>
            <a:ext cx="1655640" cy="432000"/>
          </a:xfrm>
          <a:custGeom>
            <a:avLst/>
            <a:gdLst>
              <a:gd name="textAreaLeft" fmla="*/ 0 w 1655640"/>
              <a:gd name="textAreaRight" fmla="*/ 1656000 w 165564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Зчитує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6600"/>
                </a:solidFill>
                <a:latin typeface="Arial"/>
              </a:rPr>
              <a:t>По інтерфейсу підключ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Клавіатурні” скане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Сканери з інтерфейсом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RS-23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Сканери з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6021360"/>
            <a:ext cx="1728720" cy="503280"/>
          </a:xfrm>
          <a:custGeom>
            <a:avLst/>
            <a:gdLst>
              <a:gd name="textAreaLeft" fmla="*/ 0 w 1728720"/>
              <a:gd name="textAreaRight" fmla="*/ 1729080 w 1728720"/>
              <a:gd name="textAreaTop" fmla="*/ 65160 h 503280"/>
              <a:gd name="textAreaBottom" fmla="*/ 4381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окладніш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08720" y="6308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Докладніше..."/>
          <p:cNvPicPr/>
          <p:nvPr/>
        </p:nvPicPr>
        <p:blipFill>
          <a:blip r:embed="rId4">
            <a:lum contrast="22000"/>
          </a:blip>
          <a:stretch/>
        </p:blipFill>
        <p:spPr>
          <a:xfrm>
            <a:off x="5435640" y="2708280"/>
            <a:ext cx="2160720" cy="165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Докладніше..."/>
          <p:cNvPicPr/>
          <p:nvPr/>
        </p:nvPicPr>
        <p:blipFill>
          <a:blip r:embed="rId5">
            <a:lum contrast="14000"/>
          </a:blip>
          <a:stretch/>
        </p:blipFill>
        <p:spPr>
          <a:xfrm>
            <a:off x="5580000" y="4292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Докладніше...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5435640" y="134136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7:16:57Z</dcterms:created>
  <dc:creator>Екатерина</dc:creator>
  <dc:description/>
  <dc:language>en-US</dc:language>
  <cp:lastModifiedBy>Admin</cp:lastModifiedBy>
  <dcterms:modified xsi:type="dcterms:W3CDTF">2017-01-18T19:08:29Z</dcterms:modified>
  <cp:revision>240</cp:revision>
  <dc:subject/>
  <dc:title>Днiпропетровський навчально-виробничий центр № 2</dc:title>
</cp:coreProperties>
</file>