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6628-5059-495C-A46F-7C96232D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361-013A-4D8B-9070-50C95112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138-2C4A-4588-91C6-A2CC1C54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23FA-D617-4B3A-9EE8-778308F3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7AAE-B073-477E-A1F6-863F6692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F529-3AAC-46A8-AAA2-2F0C4CC4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E16B-F077-4354-B88A-F83C3B7C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1A97-B57D-4287-BAD6-8909AB14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F772-28C6-4B02-BB0A-07D2B981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06CF-47B9-4332-A9F7-7EA7955B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2E43-C49C-41A7-92B5-BBEB5586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077-B351-4C00-B0DD-082EF417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3B94-6CA7-46B8-8BE8-73E403FB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6212-60F5-43DE-B67A-526F4FB9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543A-FB56-44BD-9070-8C9581D3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4748-158E-4E1C-A42C-EDA35710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7A2E-BDE0-47D7-9FD5-44156A16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7B208-F6C9-4322-BAE4-8E5BED98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4F285-5F23-4F14-84E5-3A60488E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60168-5880-4B08-87D0-2A3B32B2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B1E44-3490-4A80-9459-B5A4586F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45023-735C-49D3-90FE-A5D76411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22C-429F-4FB5-842F-D1916F0B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B78F8-A519-4A6C-8A38-023DB427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055A8-3303-494A-9C43-0E1CBEEC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17487-0D33-4140-97A5-39A8E895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C86AC-4A59-410A-BFEA-05DCE29F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DF04E-740A-4829-96A2-41900DBE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7E2F3-C7D2-4784-9C86-6CBF0A4A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DE345-C4D1-4D4E-903C-8E7AD036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14348-F4FB-4405-9812-54042F63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15E28-8FE9-4DD2-8BD6-0D11DD6E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44490-C9BF-4FA9-A3A5-AACB7477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BCB-F3D2-4C2C-AEA0-0AE872DF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288B3-188F-44E1-8128-365FA527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E004D-91BE-42C1-A5E4-33AC27FA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BF927-12F8-4285-8E65-EA64A6A8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0DD37-0E13-43B8-80B0-4EEC5B12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60F4C-2B92-4C2B-9AF8-6E15A80F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6763E-639B-4A8B-84BA-C4EF6655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0EB60-12BD-4F3B-9C2A-9457E03F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D1E03-A355-456C-B031-1A278ED6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3F655-E31B-45D1-9386-DB4BE288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413-1F52-4E80-AB09-48AEF74D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5439-5D9E-416B-BD2E-9DA164AE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0B3F-E058-4503-BC33-B7E1668A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9ED3-62D0-4B1B-B8E1-238CEC67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FF0-392C-4634-9B29-03E81E13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C2EF42-C648-4AEA-920A-69B8869AF5F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2D7311-CE8C-4A26-BBB5-F3C1F8E8D1D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858715-F933-4DCA-8FE6-4AAECB60542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BE51D1-FA69-4CFE-A9B9-277B037B2F8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s://ru.wikipedia.org/wiki/&#1063;&#1077;&#1084;&#1087;&#1080;&#1086;&#1085;&#1072;&#1090;_&#1056;&#1086;&#1089;&#1089;&#1080;&#1080;_&#1087;&#1086;_&#1092;&#1091;&#1090;&#1073;&#1086;&#1083;&#1091;_2014/2015" TargetMode="External"/><Relationship Id="rId5" Type="http://schemas.openxmlformats.org/officeDocument/2006/relationships/hyperlink" Target="https://ru.wikipedia.org/wiki/&#1063;&#1077;&#1084;&#1087;&#1080;&#1086;&#1085;&#1072;&#1090;_&#1056;&#1086;&#1089;&#1089;&#1080;&#1080;_&#1087;&#1086;_&#1092;&#1091;&#1090;&#1073;&#1086;&#1083;&#1091;_2018/2019" TargetMode="External"/><Relationship Id="rId6" Type="http://schemas.openxmlformats.org/officeDocument/2006/relationships/hyperlink" Target="https://ru.wikipedia.org/wiki/&#1063;&#1077;&#1084;&#1087;&#1080;&#1086;&#1085;&#1072;&#1090;_&#1056;&#1086;&#1089;&#1089;&#1080;&#1080;_&#1087;&#1086;_&#1092;&#1091;&#1090;&#1073;&#1086;&#1083;&#1091;_2019/2020" TargetMode="External"/><Relationship Id="rId7" Type="http://schemas.openxmlformats.org/officeDocument/2006/relationships/hyperlink" Target="https://ru.wikipedia.org/wiki/&#1050;&#1091;&#1073;&#1086;&#1082;_&#1056;&#1086;&#1089;&#1089;&#1080;&#1080;_&#1087;&#1086;_&#1092;&#1091;&#1090;&#1073;&#1086;&#1083;&#1091;_2013/2014" TargetMode="External"/><Relationship Id="rId8" Type="http://schemas.openxmlformats.org/officeDocument/2006/relationships/hyperlink" Target="https://ru.wikipedia.org/wiki/&#1042;&#1090;&#1086;&#1088;&#1086;&#1081;_&#1076;&#1080;&#1074;&#1080;&#1079;&#1080;&#1086;&#1085;_&#1055;&#1060;&#1051;_2008" TargetMode="External"/><Relationship Id="rId9" Type="http://schemas.openxmlformats.org/officeDocument/2006/relationships/hyperlink" Target="https://ru.wikipedia.org/wiki/&#1063;&#1077;&#1084;&#1087;&#1080;&#1086;&#1085;&#1072;&#1090;_&#1056;&#1086;&#1089;&#1089;&#1080;&#1080;_&#1087;&#1086;_&#1092;&#1091;&#1090;&#1073;&#1086;&#1083;&#1091;_2017/2018" TargetMode="External"/><Relationship Id="rId10" Type="http://schemas.openxmlformats.org/officeDocument/2006/relationships/hyperlink" Target="https://ru.wikipedia.org/wiki/&#1051;&#1080;&#1075;&#1072;_&#1045;&#1074;&#1088;&#1086;&#1087;&#1099;_&#1059;&#1045;&#1060;&#1040;_2016/2017" TargetMode="External"/><Relationship Id="rId11" Type="http://schemas.openxmlformats.org/officeDocument/2006/relationships/hyperlink" Target="https://ru.wikipedia.org/wiki/&#1051;&#1080;&#1075;&#1072;_&#1045;&#1074;&#1088;&#1086;&#1087;&#1099;_&#1059;&#1045;&#1060;&#1040;_2018/2019" TargetMode="External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Роль спорта в жизни человека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043640" y="3886200"/>
            <a:ext cx="741636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л: учащийся 5-го класса Смирнов Яросл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чный руководитель: учитель физической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колаенко Татьяна Ю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кета членов футбольного клуба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Содержимое 3"/>
          <p:cNvGraphicFramePr/>
          <p:nvPr/>
        </p:nvGraphicFramePr>
        <p:xfrm>
          <a:off x="179640" y="692640"/>
          <a:ext cx="8784720" cy="6011640"/>
        </p:xfrm>
        <a:graphic>
          <a:graphicData uri="http://schemas.openxmlformats.org/drawingml/2006/table">
            <a:tbl>
              <a:tblPr/>
              <a:tblGrid>
                <a:gridCol w="3316320"/>
                <a:gridCol w="1006920"/>
                <a:gridCol w="448560"/>
                <a:gridCol w="1186920"/>
                <a:gridCol w="655560"/>
                <a:gridCol w="682560"/>
                <a:gridCol w="1487160"/>
              </a:tblGrid>
              <a:tr h="44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ы ответо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Как давно ты занимаешься футбо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0%- с 6лет, 30% с 7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38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чему именно ты выбрал футбол?  (можно указать несколько ответов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ы ответо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р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ид спорта выбрали   родители, потом очень понравило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это модно, можно многого в жизни добить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хочу быть похожим на знаменитых футболис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</a:tr>
              <a:tr h="2833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.Мешают ли тебе занятия спортом хорошо учитьс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арианты ответо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атрудняюсь ответ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9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.Часто ли ты болеешь простудными заболеваниям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1864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ключение, выводы: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32000" y="404640"/>
            <a:ext cx="3816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lvl="1" marL="748800" indent="-288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вигательная активность, спорт необходимы каждому человеку, малоподвижный образ жизни разрушает здоровье челове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8800" indent="-288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ти, занимающиеся спортом, меньше болеют, более дисциплинированы, выносливы, умеют ставить цели перед собой, планировать свое врем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8800" indent="-288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рт помогает достичь успехов в разных сферах жизни, не является помехой в учеб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8800" indent="-288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рт дарит радость общения, учит взаимодействовать в команде, понимать друг друг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5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оя гипотеза доказан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467640" y="1628640"/>
            <a:ext cx="4464000" cy="388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673560" y="2967480"/>
            <a:ext cx="77961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СПАСИБО</a:t>
            </a:r>
            <a:r>
              <a:rPr b="1" lang="ru-RU" sz="5400" spc="-1" strike="noStrike">
                <a:solidFill>
                  <a:schemeClr val="accent3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7"/>
          <p:cNvSpPr/>
          <p:nvPr/>
        </p:nvSpPr>
        <p:spPr>
          <a:xfrm>
            <a:off x="673560" y="2967480"/>
            <a:ext cx="77965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accent3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7000"/>
          </a:bodyPr>
          <a:p>
            <a:pPr indent="0">
              <a:lnSpc>
                <a:spcPct val="100000"/>
              </a:lnSpc>
              <a:buNone/>
            </a:pPr>
            <a:r>
              <a:rPr b="1" lang="ru-RU" sz="3100" spc="-1" strike="noStrike" u="sng">
                <a:solidFill>
                  <a:srgbClr val="000000"/>
                </a:solidFill>
                <a:uFillTx/>
                <a:latin typeface="Calibri"/>
              </a:rPr>
              <a:t>Цель работы</a:t>
            </a: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выяснить роль спорта в жизни человека.</a:t>
            </a:r>
            <a:br>
              <a:rPr sz="4400"/>
            </a:b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ч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зучить информацию по теме «Спорт и здоровье», познакомиться с историей футбольного клуба «Краснодар»;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вести анкетирование среди учащихся и учителей проанализировать полученные данные;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беседовать с тренером Буталий Дмитрием Ивановичем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ссказать о результатах исследования своим одноклассникам.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Гипотез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спорт укрепляет здоровье, с помощью занятий спортом можно добиться успехов в учебе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3060000" y="260640"/>
            <a:ext cx="3333240" cy="3200040"/>
          </a:xfrm>
          <a:prstGeom prst="rect">
            <a:avLst/>
          </a:prstGeom>
          <a:ln w="9525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67640" y="1340640"/>
            <a:ext cx="2609640" cy="2448000"/>
          </a:xfrm>
          <a:prstGeom prst="rect">
            <a:avLst/>
          </a:prstGeom>
          <a:ln w="9525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3"/>
          <a:stretch/>
        </p:blipFill>
        <p:spPr>
          <a:xfrm>
            <a:off x="6444360" y="1412640"/>
            <a:ext cx="2016000" cy="2232000"/>
          </a:xfrm>
          <a:prstGeom prst="rect">
            <a:avLst/>
          </a:prstGeom>
          <a:ln w="9525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11640" y="4032360"/>
            <a:ext cx="7776360" cy="203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иж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циональны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 чемпионат России - бронзовый призёр (3):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4"/>
              </a:rPr>
              <a:t>2014/1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5"/>
              </a:rPr>
              <a:t>2018/1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6"/>
              </a:rPr>
              <a:t>2019/2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кубок России - финалист (1):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7"/>
              </a:rPr>
              <a:t>2013/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ПФЛ (зона «Юг») - бронзовый призёр (1):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8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 молодежное первенство России - чемпион (1):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9"/>
              </a:rPr>
              <a:t>2017/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Еврокуб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ига Европы УЕФА - 1/8 финала (2):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10"/>
              </a:rPr>
              <a:t>2016/1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  <a:ea typeface="Times New Roman"/>
                <a:hlinkClick r:id="rId11"/>
              </a:rPr>
              <a:t>2018/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i-main-pic" descr="Картинка 2 из 489"/>
          <p:cNvPicPr/>
          <p:nvPr/>
        </p:nvPicPr>
        <p:blipFill>
          <a:blip r:embed="rId1"/>
          <a:stretch/>
        </p:blipFill>
        <p:spPr>
          <a:xfrm>
            <a:off x="1403640" y="1628640"/>
            <a:ext cx="2338920" cy="2016000"/>
          </a:xfrm>
          <a:prstGeom prst="rect">
            <a:avLst/>
          </a:prstGeom>
          <a:ln w="0">
            <a:noFill/>
          </a:ln>
        </p:spPr>
      </p:pic>
      <p:pic>
        <p:nvPicPr>
          <p:cNvPr id="177" name="i-main-pic" descr="Картинка 12 из 489"/>
          <p:cNvPicPr/>
          <p:nvPr/>
        </p:nvPicPr>
        <p:blipFill>
          <a:blip r:embed="rId2"/>
          <a:stretch/>
        </p:blipFill>
        <p:spPr>
          <a:xfrm>
            <a:off x="5940000" y="1412640"/>
            <a:ext cx="1857960" cy="2157480"/>
          </a:xfrm>
          <a:prstGeom prst="rect">
            <a:avLst/>
          </a:prstGeom>
          <a:ln w="9525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1187640" y="4029840"/>
            <a:ext cx="6840360" cy="1920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Инфантильные сколиоз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азвиваются в 1-2 годы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Ювениальные  сколиоз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возникают между 4-6 годами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дростковые сколиоз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адолесцентные) – появляются между 10 и 14 годами жизн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3"/>
          <a:stretch/>
        </p:blipFill>
        <p:spPr>
          <a:xfrm>
            <a:off x="3996000" y="1124640"/>
            <a:ext cx="1728000" cy="1903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24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амое опасное для позвоночник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это постоянно сидячий образ жизни. Если человек регулярно проводит долгое время в сидячем положении, его мышцы привыкают находиться в расслабленном состоянии и не помогают позвоночнику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403640" y="548640"/>
            <a:ext cx="3024000" cy="2742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4860000" y="548640"/>
            <a:ext cx="2628000" cy="28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C:\Users\Я\Desktop\ДЛЯ РАБОТЫ ЮЛЕ\5._butalij.jpg"/>
          <p:cNvPicPr/>
          <p:nvPr/>
        </p:nvPicPr>
        <p:blipFill>
          <a:blip r:embed="rId1"/>
          <a:stretch/>
        </p:blipFill>
        <p:spPr>
          <a:xfrm>
            <a:off x="2988000" y="350100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Я\Desktop\ДЛЯ РАБОТЫ ЮЛЕ\IMG-20210407-WA0005.jpg"/>
          <p:cNvPicPr/>
          <p:nvPr/>
        </p:nvPicPr>
        <p:blipFill>
          <a:blip r:embed="rId2"/>
          <a:stretch/>
        </p:blipFill>
        <p:spPr>
          <a:xfrm>
            <a:off x="1331640" y="764640"/>
            <a:ext cx="2808000" cy="2370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C:\Users\Я\Desktop\ДЛЯ РАБОТЫ ЮЛЕ\IMG-20210407-WA0004.jpg"/>
          <p:cNvPicPr/>
          <p:nvPr/>
        </p:nvPicPr>
        <p:blipFill>
          <a:blip r:embed="rId3"/>
          <a:stretch/>
        </p:blipFill>
        <p:spPr>
          <a:xfrm>
            <a:off x="4788000" y="764640"/>
            <a:ext cx="2736000" cy="23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611640" y="908640"/>
            <a:ext cx="3672000" cy="4968360"/>
          </a:xfrm>
          <a:prstGeom prst="rect">
            <a:avLst/>
          </a:prstGeom>
          <a:ln w="9525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реди учащихся 5-6 классов, учителей, членов футбольного клуба «Краснодар» был проведено анкетирование. Всего в опросе приняло участие 38 человек, среди них: учащиеся -14 человек, учителя -4 человека, члены клуба – 20 человек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468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нкетирование (учащиеся)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Таблица 4"/>
          <p:cNvGraphicFramePr/>
          <p:nvPr/>
        </p:nvGraphicFramePr>
        <p:xfrm>
          <a:off x="395640" y="476640"/>
          <a:ext cx="8352720" cy="6231240"/>
        </p:xfrm>
        <a:graphic>
          <a:graphicData uri="http://schemas.openxmlformats.org/drawingml/2006/table">
            <a:tbl>
              <a:tblPr/>
              <a:tblGrid>
                <a:gridCol w="3252240"/>
                <a:gridCol w="994680"/>
                <a:gridCol w="695520"/>
                <a:gridCol w="224280"/>
                <a:gridCol w="1274040"/>
                <a:gridCol w="206280"/>
                <a:gridCol w="1704600"/>
              </a:tblGrid>
              <a:tr h="3610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ы ответ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атрудняюсь ответ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58824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. </a:t>
                      </a: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Занимаешься ли ты спорто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</a:tr>
              <a:tr h="72684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2.Спортом не занимаюсь, но занимаюсь танцами, акробатикой и т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145404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3.Влияет ли спорт на твое здоровье? Выбери вариант от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А) да, я стал меньше боле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Б) нет, не влияет, все зависит от иммунит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В) затрудняюсь отве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</a:tr>
              <a:tr h="55368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4.Можно ли с помощью спорта добиться успехов в уче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632160">
                <a:tc rowSpan="3"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5. Если ты занимаешься спортом, то почем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ы ответ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рави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од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аставляю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Хочу сделать спортивную карье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нкетирование (учителя)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" name="Содержимое 3"/>
          <p:cNvGraphicFramePr/>
          <p:nvPr/>
        </p:nvGraphicFramePr>
        <p:xfrm>
          <a:off x="179640" y="476640"/>
          <a:ext cx="8784720" cy="6120360"/>
        </p:xfrm>
        <a:graphic>
          <a:graphicData uri="http://schemas.openxmlformats.org/drawingml/2006/table">
            <a:tbl>
              <a:tblPr/>
              <a:tblGrid>
                <a:gridCol w="2610720"/>
                <a:gridCol w="1926360"/>
                <a:gridCol w="127080"/>
                <a:gridCol w="1823760"/>
                <a:gridCol w="2296080"/>
              </a:tblGrid>
              <a:tr h="5133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прос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ы ответов, 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145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Укажите количество учащихся, пропустивших уроки по болезн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</a:tr>
              <a:tr h="68616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 Какие учащиеся чаще бол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ы ответо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, кто занимается спор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, кто спортом не занима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личество заболевших примерно одинако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3985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. </a:t>
                      </a: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лияют ли занятия спортом, танцами и т.п. на успеваемость</a:t>
                      </a: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нты ответов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лияют полож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лияют отрица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е влия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44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  <Words>630</Words>
  <Paragraphs>1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1T14:33:50Z</dcterms:created>
  <dc:creator>Я</dc:creator>
  <dc:description/>
  <dc:language>en-US</dc:language>
  <cp:lastModifiedBy>Я</cp:lastModifiedBy>
  <dcterms:modified xsi:type="dcterms:W3CDTF">2021-04-11T16:11:53Z</dcterms:modified>
  <cp:revision>11</cp:revision>
  <dc:subject/>
  <dc:title>«Роль спорта в жизни человека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