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E21-4FA8-4605-A7B7-C1C516F9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155-0425-4227-A13B-209098B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DA0-681A-49A1-A317-D3489A4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55E-F087-4C37-957A-38865527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2306-1E84-4B01-B2FD-A3D314C0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CE7-1964-4D57-BAAD-CB6BBE9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BFE-AE66-4F83-815D-F7815B7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E0D1-4463-408C-8341-0588932F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455-C708-4321-AD32-B9DD82C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71F-C000-4606-AD13-92753D7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95B2-DD18-4F9C-96C6-CD2A6B2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B01-3BC9-4E08-8D30-6E719D7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F6D-3765-4E1C-9507-468EB2B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07B-0B98-45FF-B41D-1B5434F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CDB-4EA1-4479-BAAC-47C28B1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8B7-91F6-4A68-9FAA-7AA47FF4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4150-4608-47F5-A412-2ECFBB38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8051-C4F3-4FFC-A4D4-57CA902D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8731-769B-4AD1-B133-7C4D2C1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4A44-FF18-4BEA-8DF3-E4A3E4A7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00AA-6BBC-4C01-980C-FECBED93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E061-46A1-4BDB-8EA1-DAC63D68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44A-F85E-463E-AC16-52ADB6C7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2FA2-6B0D-478E-8281-B440967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A1BA-CA46-4FAE-90E0-ACA2753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0CEA-CA38-4C0C-930E-A6970A8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46D7-4604-436A-BFE9-6BEBE29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267C-9B5D-4091-92CE-3A74EC0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0635-EFE0-4990-880D-49C94AB0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815C-6071-49ED-BE44-315CE459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1481-554B-461C-AA3C-878E1BAD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0421-D06D-4B21-8533-42DE3C7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F01D-F2B6-400A-B61B-64154D9C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ADE-7A9E-4AB8-93AC-4BCEC8B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CED8-9EB6-4E68-9341-B62D76CC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2CF1-DE5D-4C89-95FC-C953D460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EEA1-F7BB-42C1-92E3-8512A3CA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C43E-BBDE-4B52-B11C-A0A0513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8AC9-E7BC-414C-B469-9E90555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C528-DDC2-4F0B-97F8-E245A8A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9A4A-E7EA-486C-A969-3D579D40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781F-CC66-4DCE-8A9E-9E8AB5FF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74DD-DFBF-447A-A884-90B9C1DA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E88-1DED-4341-9A9A-918073F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3E5-F679-4366-A3C4-F25E3B0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276-14E4-4DF7-88A9-DDC8538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118-6569-48E8-8849-092B670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24B-33BA-4CA4-803E-2D51D5E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935FA-32DB-43D1-90FD-C97BB9A848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438B88-02A2-4FB6-A4FE-2327CF75F5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7257E9-79FD-4C15-AF2A-8A68CDB5FE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B1CBF-0944-434A-9284-86C17B91F1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4/2015" TargetMode="External"/><Relationship Id="rId5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8/2019" TargetMode="External"/><Relationship Id="rId6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9/2020" TargetMode="External"/><Relationship Id="rId7" Type="http://schemas.openxmlformats.org/officeDocument/2006/relationships/hyperlink" Target="https://ru.wikipedia.org/wiki/&#1050;&#1091;&#1073;&#1086;&#1082;_&#1056;&#1086;&#1089;&#1089;&#1080;&#1080;_&#1087;&#1086;_&#1092;&#1091;&#1090;&#1073;&#1086;&#1083;&#1091;_2013/2014" TargetMode="External"/><Relationship Id="rId8" Type="http://schemas.openxmlformats.org/officeDocument/2006/relationships/hyperlink" Target="https://ru.wikipedia.org/wiki/&#1042;&#1090;&#1086;&#1088;&#1086;&#1081;_&#1076;&#1080;&#1074;&#1080;&#1079;&#1080;&#1086;&#1085;_&#1055;&#1060;&#1051;_2008" TargetMode="External"/><Relationship Id="rId9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7/2018" TargetMode="External"/><Relationship Id="rId10" Type="http://schemas.openxmlformats.org/officeDocument/2006/relationships/hyperlink" Target="https://ru.wikipedia.org/wiki/&#1051;&#1080;&#1075;&#1072;_&#1045;&#1074;&#1088;&#1086;&#1087;&#1099;_&#1059;&#1045;&#1060;&#1040;_2016/2017" TargetMode="External"/><Relationship Id="rId11" Type="http://schemas.openxmlformats.org/officeDocument/2006/relationships/hyperlink" Target="https://ru.wikipedia.org/wiki/&#1051;&#1080;&#1075;&#1072;_&#1045;&#1074;&#1088;&#1086;&#1087;&#1099;_&#1059;&#1045;&#1060;&#1040;_2018/2019" TargetMode="External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оль спорта в жизни человека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43640" y="3886200"/>
            <a:ext cx="7416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: учащийся 5-го класса Смирнов Яро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ый руководитель: учитель физиче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лаенко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кета членов футбольного клуб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Содержимое 3"/>
          <p:cNvGraphicFramePr/>
          <p:nvPr/>
        </p:nvGraphicFramePr>
        <p:xfrm>
          <a:off x="179640" y="692640"/>
          <a:ext cx="8784720" cy="6011640"/>
        </p:xfrm>
        <a:graphic>
          <a:graphicData uri="http://schemas.openxmlformats.org/drawingml/2006/table">
            <a:tbl>
              <a:tblPr/>
              <a:tblGrid>
                <a:gridCol w="3316320"/>
                <a:gridCol w="1006920"/>
                <a:gridCol w="448560"/>
                <a:gridCol w="1186920"/>
                <a:gridCol w="655560"/>
                <a:gridCol w="682560"/>
                <a:gridCol w="1487160"/>
              </a:tblGrid>
              <a:tr h="44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Как давно ты занимаешься футб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%- с 6лет, 30% с 7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чему именно ты выбрал футбол?  (можно указать несколько ответов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ид спорта выбрали   родители, потом очень понрав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модно, можно многого в жизни доб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быть похожим на знаменитых футболи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833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Мешают ли тебе занятия спортом хорошо учить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9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Часто ли ты болеешь простудными заболевания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186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лючение, выводы: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381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игательная активность, спорт необходимы каждому человеку, малоподвижный образ жизни разрушает здоровье чело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, занимающиеся спортом, меньше болеют, более дисциплинированы, выносливы, умеют ставить цели перед собой, планировать св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помогает достичь успехов в разных сферах жизни, не является помехой в учеб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дарит радость общения, учит взаимодействовать в команде, понимать друг друг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я гипотеза доказан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7640" y="1628640"/>
            <a:ext cx="4464000" cy="38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673560" y="2967480"/>
            <a:ext cx="7796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ПАСИБО</a:t>
            </a: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673560" y="2967480"/>
            <a:ext cx="7796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Цель работы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ыяснить роль спорта в жизни человека.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учить информацию по теме «Спорт и здоровье», познакомиться с историей футбольного клуба «Краснодар»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вести анкетирование среди учащихся и учителей проанализировать полученные данные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беседовать с тренером Буталий Дмитрием Ивановичем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сказать о результатах исследования своим одноклассникам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спорт укрепляет здоровье, с помощью занятий спортом можно добиться успехов в учеб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060000" y="260640"/>
            <a:ext cx="3333240" cy="32000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7640" y="1340640"/>
            <a:ext cx="2609640" cy="244800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444360" y="1412640"/>
            <a:ext cx="2016000" cy="2232000"/>
          </a:xfrm>
          <a:prstGeom prst="rect">
            <a:avLst/>
          </a:prstGeom>
          <a:ln w="9525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11640" y="4032360"/>
            <a:ext cx="7776360" cy="203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ж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чемпионат России - бронзовый призёр (3):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4"/>
              </a:rPr>
              <a:t>2014/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5"/>
              </a:rPr>
              <a:t>2018/1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6"/>
              </a:rPr>
              <a:t>2019/2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убок России - финалист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7"/>
              </a:rPr>
              <a:t>2013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ФЛ (зона «Юг») - бронзовый призёр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8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олодежное первенство России - чемпион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9"/>
              </a:rPr>
              <a:t>2017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Еврокуб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 Европы УЕФА - 1/8 финала (2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0"/>
              </a:rPr>
              <a:t>2016/1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1"/>
              </a:rPr>
              <a:t>2018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i-main-pic" descr="Картинка 2 из 489"/>
          <p:cNvPicPr/>
          <p:nvPr/>
        </p:nvPicPr>
        <p:blipFill>
          <a:blip r:embed="rId1"/>
          <a:stretch/>
        </p:blipFill>
        <p:spPr>
          <a:xfrm>
            <a:off x="1403640" y="1628640"/>
            <a:ext cx="2338920" cy="2016000"/>
          </a:xfrm>
          <a:prstGeom prst="rect">
            <a:avLst/>
          </a:prstGeom>
          <a:ln w="0">
            <a:noFill/>
          </a:ln>
        </p:spPr>
      </p:pic>
      <p:pic>
        <p:nvPicPr>
          <p:cNvPr id="177" name="i-main-pic" descr="Картинка 12 из 489"/>
          <p:cNvPicPr/>
          <p:nvPr/>
        </p:nvPicPr>
        <p:blipFill>
          <a:blip r:embed="rId2"/>
          <a:stretch/>
        </p:blipFill>
        <p:spPr>
          <a:xfrm>
            <a:off x="5940000" y="1412640"/>
            <a:ext cx="1857960" cy="2157480"/>
          </a:xfrm>
          <a:prstGeom prst="rect">
            <a:avLst/>
          </a:prstGeom>
          <a:ln w="9525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1187640" y="4029840"/>
            <a:ext cx="6840360" cy="192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нфантильн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азвиваются в 1-2 год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вениальные 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возникают между 4-6 годам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ростков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адолесцентные) – появляются между 10 и 14 годами жиз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996000" y="1124640"/>
            <a:ext cx="1728000" cy="1903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2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е опасное для позвоночни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постоянно сидячий образ жизни. Если человек регулярно проводит долгое время в сидячем положении, его мышцы привыкают находиться в расслабленном состоянии и не помогают позвоночнику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03640" y="548640"/>
            <a:ext cx="3024000" cy="274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860000" y="548640"/>
            <a:ext cx="262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Я\Desktop\ДЛЯ РАБОТЫ ЮЛЕ\5._butalij.jpg"/>
          <p:cNvPicPr/>
          <p:nvPr/>
        </p:nvPicPr>
        <p:blipFill>
          <a:blip r:embed="rId1"/>
          <a:stretch/>
        </p:blipFill>
        <p:spPr>
          <a:xfrm>
            <a:off x="2988000" y="350100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Я\Desktop\ДЛЯ РАБОТЫ ЮЛЕ\IMG-20210407-WA0005.jpg"/>
          <p:cNvPicPr/>
          <p:nvPr/>
        </p:nvPicPr>
        <p:blipFill>
          <a:blip r:embed="rId2"/>
          <a:stretch/>
        </p:blipFill>
        <p:spPr>
          <a:xfrm>
            <a:off x="1331640" y="764640"/>
            <a:ext cx="2808000" cy="237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Я\Desktop\ДЛЯ РАБОТЫ ЮЛЕ\IMG-20210407-WA0004.jpg"/>
          <p:cNvPicPr/>
          <p:nvPr/>
        </p:nvPicPr>
        <p:blipFill>
          <a:blip r:embed="rId3"/>
          <a:stretch/>
        </p:blipFill>
        <p:spPr>
          <a:xfrm>
            <a:off x="4788000" y="764640"/>
            <a:ext cx="273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11640" y="908640"/>
            <a:ext cx="36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реди учащихся 5-6 классов, учителей, членов футбольного клуба «Краснодар» был проведено анкетирование. Всего в опросе приняло участие 38 человек, среди них: учащиеся -14 человек, учителя -4 человека, члены клуба – 20 человек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46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ащиес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Таблица 4"/>
          <p:cNvGraphicFramePr/>
          <p:nvPr/>
        </p:nvGraphicFramePr>
        <p:xfrm>
          <a:off x="395640" y="476640"/>
          <a:ext cx="8352720" cy="6231240"/>
        </p:xfrm>
        <a:graphic>
          <a:graphicData uri="http://schemas.openxmlformats.org/drawingml/2006/table">
            <a:tbl>
              <a:tblPr/>
              <a:tblGrid>
                <a:gridCol w="3252240"/>
                <a:gridCol w="994680"/>
                <a:gridCol w="695520"/>
                <a:gridCol w="224280"/>
                <a:gridCol w="1274040"/>
                <a:gridCol w="206280"/>
                <a:gridCol w="1704600"/>
              </a:tblGrid>
              <a:tr h="36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5882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Занимаешься ли ты спорт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726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Спортом не занимаюсь, но занимаюсь танцами, акробатикой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0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Влияет ли спорт на твое здоровье? Выбери вариант от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А) да, я стал меньше боле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Б) нет, не влияет, все зависит от иммунит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) затрудняюсь отве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5536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Можно ли с помощью спорта добиться успехов в уч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632160">
                <a:tc rowSpan="3"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 Если ты занимаешься спортом, то 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ставля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сделать спортивную карь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ител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Содержимое 3"/>
          <p:cNvGraphicFramePr/>
          <p:nvPr/>
        </p:nvGraphicFramePr>
        <p:xfrm>
          <a:off x="179640" y="476640"/>
          <a:ext cx="8784720" cy="6120360"/>
        </p:xfrm>
        <a:graphic>
          <a:graphicData uri="http://schemas.openxmlformats.org/drawingml/2006/table">
            <a:tbl>
              <a:tblPr/>
              <a:tblGrid>
                <a:gridCol w="2610720"/>
                <a:gridCol w="1926360"/>
                <a:gridCol w="127080"/>
                <a:gridCol w="1823760"/>
                <a:gridCol w="2296080"/>
              </a:tblGrid>
              <a:tr h="5133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,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Укажите количество учащихся, пропустивших уроки по боле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68616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Какие учащиеся чаще бол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занимается сп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спортом не заним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заболевших примерно одина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985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ли занятия спортом, танцами и т.п. на успеваемость</a:t>
                      </a: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полож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отриц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 вли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4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  <Words>630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1T14:33:50Z</dcterms:created>
  <dc:creator>Я</dc:creator>
  <dc:description/>
  <dc:language>en-US</dc:language>
  <cp:lastModifiedBy>Я</cp:lastModifiedBy>
  <dcterms:modified xsi:type="dcterms:W3CDTF">2021-04-11T16:11:53Z</dcterms:modified>
  <cp:revision>11</cp:revision>
  <dc:subject/>
  <dc:title>«Роль спорта в жизни человек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