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ECB-F08B-4FC4-8B7A-1E559D85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89B-A35F-4B2D-9223-403A88CF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D84-A645-495B-9E73-2EFBD4D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0C9-79B4-465C-967F-353E6E5E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FFB5-6A43-47D6-87FA-B3D3A34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360-7A6B-4E0F-9236-C4E69641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D99-E885-4ECC-A5D2-6AAF349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057-E4D9-4F9D-B4EF-E3FAC557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ED9-EC38-408E-8BE2-BE0E09BC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A2D2-F9EA-4819-8EB8-53596CB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92A4-AA5A-445A-A20E-7211630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659-655A-431D-BCCA-02345493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F309-EAD2-47DE-A99C-7341666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15D-5B1B-4F6D-B359-B6A6819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BDA1-71E1-4748-ABBF-65D0E0A5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AC0-348F-4A8B-93B8-4745EB10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DFD9-1667-42D5-9BB9-C80A317C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644A-D058-402A-96D3-83E69F4C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6A2B-31EE-4D64-9B06-AF259539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2E73-1C68-4BA2-BA8A-618CE1A3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777E-13B5-45F0-8A57-1480879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BC2B-B712-4BFE-948B-8685ADC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5C3-5CCA-4C91-BEAA-3AA4DD5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55EE-4F42-4674-A5C8-670DF2E2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5239-AE51-4A2C-9716-C55B374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8C95-71D8-4263-97E8-36D8164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7737-BB52-4046-B5F7-5FDA0E1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D32E-6C4C-4A25-8D46-8D30058A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AF7E-0F8C-4F87-8AF4-6775D335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89D0-DC49-4592-BEC1-E9CC67DB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1D35-A183-4B9B-9D61-6FE6F9A0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913B-A6DA-4C50-85BD-41B25178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CFFD-D62B-4754-8FA8-6F74FFB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218-D757-4B95-AD4F-C3A6254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91D6-CFFB-4F29-A076-67AE77BC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6222-4D8C-428B-9372-DEBAF43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FA53-FFCF-4567-9671-18C2F0E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AF67-BB1A-4B4C-9757-7B99CF3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CE44-B0F7-4CC3-A065-0C44FF4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F4E7-74D5-49AB-9F70-C563D1C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DB84-45AC-4F10-B727-C846B29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7DE2-2908-4D21-A338-84AA4A18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74F9-EA02-4CF6-8521-71EEA546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190-29FB-40C4-BCC0-2F0D4ED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834-905A-4D4C-86C1-6CECA33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AED-8ADF-4E06-A45B-893C8CD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42E-E635-477B-A197-D6E25AC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0DC-48DC-4CBA-89EC-61FE3F2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DD6535-DDB6-4EB9-B9EC-614270962AC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636349-463B-441B-AD89-4C888BCE6A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44B41-251F-4285-8ABF-009FBC0733E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6A00C-573A-4A07-9F36-486559429C5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4/2015" TargetMode="External"/><Relationship Id="rId5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8/2019" TargetMode="External"/><Relationship Id="rId6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9/2020" TargetMode="External"/><Relationship Id="rId7" Type="http://schemas.openxmlformats.org/officeDocument/2006/relationships/hyperlink" Target="https://ru.wikipedia.org/wiki/&#1050;&#1091;&#1073;&#1086;&#1082;_&#1056;&#1086;&#1089;&#1089;&#1080;&#1080;_&#1087;&#1086;_&#1092;&#1091;&#1090;&#1073;&#1086;&#1083;&#1091;_2013/2014" TargetMode="External"/><Relationship Id="rId8" Type="http://schemas.openxmlformats.org/officeDocument/2006/relationships/hyperlink" Target="https://ru.wikipedia.org/wiki/&#1042;&#1090;&#1086;&#1088;&#1086;&#1081;_&#1076;&#1080;&#1074;&#1080;&#1079;&#1080;&#1086;&#1085;_&#1055;&#1060;&#1051;_2008" TargetMode="External"/><Relationship Id="rId9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7/2018" TargetMode="External"/><Relationship Id="rId10" Type="http://schemas.openxmlformats.org/officeDocument/2006/relationships/hyperlink" Target="https://ru.wikipedia.org/wiki/&#1051;&#1080;&#1075;&#1072;_&#1045;&#1074;&#1088;&#1086;&#1087;&#1099;_&#1059;&#1045;&#1060;&#1040;_2016/2017" TargetMode="External"/><Relationship Id="rId11" Type="http://schemas.openxmlformats.org/officeDocument/2006/relationships/hyperlink" Target="https://ru.wikipedia.org/wiki/&#1051;&#1080;&#1075;&#1072;_&#1045;&#1074;&#1088;&#1086;&#1087;&#1099;_&#1059;&#1045;&#1060;&#1040;_2018/2019" TargetMode="External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оль спорта в жизни человека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43640" y="3886200"/>
            <a:ext cx="7416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: учащийся 5-го класса Смирнов Яро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ый руководитель: учитель физиче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лаенко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кета членов футбольного клуб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Содержимое 3"/>
          <p:cNvGraphicFramePr/>
          <p:nvPr/>
        </p:nvGraphicFramePr>
        <p:xfrm>
          <a:off x="179640" y="692640"/>
          <a:ext cx="8784720" cy="6011640"/>
        </p:xfrm>
        <a:graphic>
          <a:graphicData uri="http://schemas.openxmlformats.org/drawingml/2006/table">
            <a:tbl>
              <a:tblPr/>
              <a:tblGrid>
                <a:gridCol w="3316320"/>
                <a:gridCol w="1006920"/>
                <a:gridCol w="448560"/>
                <a:gridCol w="1186920"/>
                <a:gridCol w="655560"/>
                <a:gridCol w="682560"/>
                <a:gridCol w="1487160"/>
              </a:tblGrid>
              <a:tr h="44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Как давно ты занимаешься футб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%- с 6лет, 30% с 7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чему именно ты выбрал футбол?  (можно указать несколько ответов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ид спорта выбрали   родители, потом очень понрав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модно, можно многого в жизни доб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быть похожим на знаменитых футболи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833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Мешают ли тебе занятия спортом хорошо учить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9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Часто ли ты болеешь простудными заболевания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186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лючение, выводы: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381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игательная активность, спорт необходимы каждому человеку, малоподвижный образ жизни разрушает здоровье чело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, занимающиеся спортом, меньше болеют, более дисциплинированы, выносливы, умеют ставить цели перед собой, планировать св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помогает достичь успехов в разных сферах жизни, не является помехой в учеб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дарит радость общения, учит взаимодействовать в команде, понимать друг друг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я гипотеза доказан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7640" y="1628640"/>
            <a:ext cx="4464000" cy="38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673560" y="2967480"/>
            <a:ext cx="7796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ПАСИБО</a:t>
            </a: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673560" y="2967480"/>
            <a:ext cx="7796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Цель работы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ыяснить роль спорта в жизни человека.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учить информацию по теме «Спорт и здоровье», познакомиться с историей футбольного клуба «Краснодар»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вести анкетирование среди учащихся и учителей проанализировать полученные данные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беседовать с тренером Буталий Дмитрием Ивановичем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сказать о результатах исследования своим одноклассникам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спорт укрепляет здоровье, с помощью занятий спортом можно добиться успехов в учеб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060000" y="260640"/>
            <a:ext cx="3333240" cy="32000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7640" y="1340640"/>
            <a:ext cx="2609640" cy="244800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444360" y="1412640"/>
            <a:ext cx="2016000" cy="2232000"/>
          </a:xfrm>
          <a:prstGeom prst="rect">
            <a:avLst/>
          </a:prstGeom>
          <a:ln w="9525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11640" y="4032360"/>
            <a:ext cx="7776360" cy="203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ж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чемпионат России - бронзовый призёр (3):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4"/>
              </a:rPr>
              <a:t>2014/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5"/>
              </a:rPr>
              <a:t>2018/1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6"/>
              </a:rPr>
              <a:t>2019/2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убок России - финалист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7"/>
              </a:rPr>
              <a:t>2013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ФЛ (зона «Юг») - бронзовый призёр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8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олодежное первенство России - чемпион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9"/>
              </a:rPr>
              <a:t>2017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Еврокуб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 Европы УЕФА - 1/8 финала (2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0"/>
              </a:rPr>
              <a:t>2016/1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1"/>
              </a:rPr>
              <a:t>2018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i-main-pic" descr="Картинка 2 из 489"/>
          <p:cNvPicPr/>
          <p:nvPr/>
        </p:nvPicPr>
        <p:blipFill>
          <a:blip r:embed="rId1"/>
          <a:stretch/>
        </p:blipFill>
        <p:spPr>
          <a:xfrm>
            <a:off x="1403640" y="1628640"/>
            <a:ext cx="2338920" cy="2016000"/>
          </a:xfrm>
          <a:prstGeom prst="rect">
            <a:avLst/>
          </a:prstGeom>
          <a:ln w="0">
            <a:noFill/>
          </a:ln>
        </p:spPr>
      </p:pic>
      <p:pic>
        <p:nvPicPr>
          <p:cNvPr id="177" name="i-main-pic" descr="Картинка 12 из 489"/>
          <p:cNvPicPr/>
          <p:nvPr/>
        </p:nvPicPr>
        <p:blipFill>
          <a:blip r:embed="rId2"/>
          <a:stretch/>
        </p:blipFill>
        <p:spPr>
          <a:xfrm>
            <a:off x="5940000" y="1412640"/>
            <a:ext cx="1857960" cy="2157480"/>
          </a:xfrm>
          <a:prstGeom prst="rect">
            <a:avLst/>
          </a:prstGeom>
          <a:ln w="9525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1187640" y="4029840"/>
            <a:ext cx="6840360" cy="192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нфантильн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азвиваются в 1-2 год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вениальные 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возникают между 4-6 годам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ростков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адолесцентные) – появляются между 10 и 14 годами жиз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996000" y="1124640"/>
            <a:ext cx="1728000" cy="1903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2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е опасное для позвоночни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постоянно сидячий образ жизни. Если человек регулярно проводит долгое время в сидячем положении, его мышцы привыкают находиться в расслабленном состоянии и не помогают позвоночнику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03640" y="548640"/>
            <a:ext cx="3024000" cy="274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860000" y="548640"/>
            <a:ext cx="262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Я\Desktop\ДЛЯ РАБОТЫ ЮЛЕ\5._butalij.jpg"/>
          <p:cNvPicPr/>
          <p:nvPr/>
        </p:nvPicPr>
        <p:blipFill>
          <a:blip r:embed="rId1"/>
          <a:stretch/>
        </p:blipFill>
        <p:spPr>
          <a:xfrm>
            <a:off x="2988000" y="350100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Я\Desktop\ДЛЯ РАБОТЫ ЮЛЕ\IMG-20210407-WA0005.jpg"/>
          <p:cNvPicPr/>
          <p:nvPr/>
        </p:nvPicPr>
        <p:blipFill>
          <a:blip r:embed="rId2"/>
          <a:stretch/>
        </p:blipFill>
        <p:spPr>
          <a:xfrm>
            <a:off x="1331640" y="764640"/>
            <a:ext cx="2808000" cy="237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Я\Desktop\ДЛЯ РАБОТЫ ЮЛЕ\IMG-20210407-WA0004.jpg"/>
          <p:cNvPicPr/>
          <p:nvPr/>
        </p:nvPicPr>
        <p:blipFill>
          <a:blip r:embed="rId3"/>
          <a:stretch/>
        </p:blipFill>
        <p:spPr>
          <a:xfrm>
            <a:off x="4788000" y="764640"/>
            <a:ext cx="273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11640" y="908640"/>
            <a:ext cx="36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реди учащихся 5-6 классов, учителей, членов футбольного клуба «Краснодар» был проведено анкетирование. Всего в опросе приняло участие 38 человек, среди них: учащиеся -14 человек, учителя -4 человека, члены клуба – 20 человек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46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ащиес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Таблица 4"/>
          <p:cNvGraphicFramePr/>
          <p:nvPr/>
        </p:nvGraphicFramePr>
        <p:xfrm>
          <a:off x="395640" y="476640"/>
          <a:ext cx="8352720" cy="6231240"/>
        </p:xfrm>
        <a:graphic>
          <a:graphicData uri="http://schemas.openxmlformats.org/drawingml/2006/table">
            <a:tbl>
              <a:tblPr/>
              <a:tblGrid>
                <a:gridCol w="3252240"/>
                <a:gridCol w="994680"/>
                <a:gridCol w="695520"/>
                <a:gridCol w="224280"/>
                <a:gridCol w="1274040"/>
                <a:gridCol w="206280"/>
                <a:gridCol w="1704600"/>
              </a:tblGrid>
              <a:tr h="36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5882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Занимаешься ли ты спорт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726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Спортом не занимаюсь, но занимаюсь танцами, акробатикой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0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Влияет ли спорт на твое здоровье? Выбери вариант от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А) да, я стал меньше боле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Б) нет, не влияет, все зависит от иммунит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) затрудняюсь отве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5536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Можно ли с помощью спорта добиться успехов в уч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632160">
                <a:tc rowSpan="3"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 Если ты занимаешься спортом, то 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ставля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сделать спортивную карь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ител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Содержимое 3"/>
          <p:cNvGraphicFramePr/>
          <p:nvPr/>
        </p:nvGraphicFramePr>
        <p:xfrm>
          <a:off x="179640" y="476640"/>
          <a:ext cx="8784720" cy="6120360"/>
        </p:xfrm>
        <a:graphic>
          <a:graphicData uri="http://schemas.openxmlformats.org/drawingml/2006/table">
            <a:tbl>
              <a:tblPr/>
              <a:tblGrid>
                <a:gridCol w="2610720"/>
                <a:gridCol w="1926360"/>
                <a:gridCol w="127080"/>
                <a:gridCol w="1823760"/>
                <a:gridCol w="2296080"/>
              </a:tblGrid>
              <a:tr h="5133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,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Укажите количество учащихся, пропустивших уроки по боле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68616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Какие учащиеся чаще бол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занимается сп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спортом не заним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заболевших примерно одина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985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ли занятия спортом, танцами и т.п. на успеваемость</a:t>
                      </a: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полож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отриц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 вли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4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  <Words>630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1T14:33:50Z</dcterms:created>
  <dc:creator>Я</dc:creator>
  <dc:description/>
  <dc:language>en-US</dc:language>
  <cp:lastModifiedBy>Я</cp:lastModifiedBy>
  <dcterms:modified xsi:type="dcterms:W3CDTF">2021-04-11T16:11:53Z</dcterms:modified>
  <cp:revision>11</cp:revision>
  <dc:subject/>
  <dc:title>«Роль спорта в жизни человек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