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5.wmf" ContentType="image/x-wmf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A8D-C56C-4C13-9D7C-3ECCF133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79C-380A-4C22-9EA9-1D821A26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460-E407-46F2-9C88-A98EE046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2CF-5CEB-405D-998A-DB5FBB36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FC92-0A7A-499B-9365-6AFD0771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A460-0D58-448B-874F-3A019C11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FB40-BF32-4FCD-AEAD-3ADB5135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EA9F-84D1-4CEF-BC85-29C28652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3A0E-46AD-4AC8-80AE-7F631244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18CD-6D17-4BED-9B20-2680F241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370A-D290-4D18-8E7A-795424E1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527-58FC-48C8-85A4-7915967A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1BCA-C626-432C-9B94-BD89550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96A6-C45A-47F4-B324-C618E4F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8A24-4C5C-4565-9ED9-EB537E4F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52D2-C493-4961-8E2C-C5B26C64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2B81-1BA5-4A3D-B5DF-ED1DD7AF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7DF-38C8-4D84-A3BB-5D3852F3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E0B-51FE-4BD6-9721-58CEB03E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D6E-456F-4FB8-B550-652D2BBB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AB1-2FE1-44D9-803E-03905CA9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41E-7A7D-4A2F-B6B2-86660F3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77F-AB93-489C-90BA-E8AECBB7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FD2-6E06-4D1A-A660-1F4E93B8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B9F1C2-8915-47D7-85BC-E951AE9935C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F27964-9754-4D24-8AB1-CF92F7E8D17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8560" y="411480"/>
            <a:ext cx="9441000" cy="14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90000"/>
              </a:lnSpc>
              <a:buNone/>
            </a:pPr>
            <a:r>
              <a:rPr b="1" lang="uk-UA" sz="6000" spc="-1" strike="noStrike">
                <a:solidFill>
                  <a:schemeClr val="accent5">
                    <a:lumMod val="75000"/>
                  </a:schemeClr>
                </a:solidFill>
                <a:latin typeface="Calibri Light"/>
              </a:rPr>
              <a:t>Розв’язання задач по темі «Закон всесвітнього тяжіння»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rcRect l="2910" t="20751" r="75561" b="29169"/>
          <a:stretch/>
        </p:blipFill>
        <p:spPr>
          <a:xfrm>
            <a:off x="411480" y="2891160"/>
            <a:ext cx="2814120" cy="3417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9095400" y="149400"/>
            <a:ext cx="3096000" cy="2456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85" name="Прямоугольник 6"/>
          <p:cNvSpPr/>
          <p:nvPr/>
        </p:nvSpPr>
        <p:spPr>
          <a:xfrm>
            <a:off x="106560" y="149400"/>
            <a:ext cx="6091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7"/>
          <p:cNvGrpSpPr/>
          <p:nvPr/>
        </p:nvGrpSpPr>
        <p:grpSpPr>
          <a:xfrm>
            <a:off x="5883120" y="2825280"/>
            <a:ext cx="3755520" cy="3415680"/>
            <a:chOff x="5883120" y="2825280"/>
            <a:chExt cx="3755520" cy="3415680"/>
          </a:xfrm>
        </p:grpSpPr>
        <p:pic>
          <p:nvPicPr>
            <p:cNvPr id="87" name="Picture 2" descr="Місяць - супутник Землі. Сонячні та місячні затемнення » http ..."/>
            <p:cNvPicPr/>
            <p:nvPr/>
          </p:nvPicPr>
          <p:blipFill>
            <a:blip r:embed="rId3"/>
            <a:stretch/>
          </p:blipFill>
          <p:spPr>
            <a:xfrm>
              <a:off x="5883120" y="2825280"/>
              <a:ext cx="3755520" cy="341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Прямоугольник 2"/>
            <p:cNvSpPr/>
            <p:nvPr/>
          </p:nvSpPr>
          <p:spPr>
            <a:xfrm>
              <a:off x="5994360" y="5423040"/>
              <a:ext cx="1168200" cy="4694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rgbClr val="ff0000"/>
                </a:solidFill>
                <a:latin typeface="Calibri Light"/>
              </a:rPr>
              <a:t>Домашнє завданн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вторити параграф 33, фізика 9 Бар’яхтар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4" descr=""/>
          <p:cNvPicPr/>
          <p:nvPr/>
        </p:nvPicPr>
        <p:blipFill>
          <a:blip r:embed="rId1"/>
          <a:stretch/>
        </p:blipFill>
        <p:spPr>
          <a:xfrm>
            <a:off x="838080" y="2468520"/>
            <a:ext cx="10589040" cy="12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uk-UA" sz="4400" spc="-1" strike="noStrike">
                <a:solidFill>
                  <a:schemeClr val="accent2"/>
                </a:solidFill>
                <a:latin typeface="Calibri Light"/>
              </a:rPr>
              <a:t>Закон всесвітнього тяжінн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680" y="1825560"/>
            <a:ext cx="9143640" cy="1260000"/>
          </a:xfrm>
          <a:prstGeom prst="rect">
            <a:avLst/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іж будь-якими двома тілами діють сили взаємного притягання, які прямо пропорційні добутку мас цих тіл і обернено пропорційні квадрату відстані між ними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slide-69-638"/>
          <p:cNvPicPr/>
          <p:nvPr/>
        </p:nvPicPr>
        <p:blipFill>
          <a:blip r:embed="rId1"/>
          <a:srcRect l="62784" t="12062" r="7701" b="76386"/>
          <a:stretch/>
        </p:blipFill>
        <p:spPr>
          <a:xfrm>
            <a:off x="6743880" y="3429000"/>
            <a:ext cx="2952360" cy="1701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2"/>
          <a:stretch/>
        </p:blipFill>
        <p:spPr>
          <a:xfrm>
            <a:off x="2367000" y="3429000"/>
            <a:ext cx="2326680" cy="118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3"/>
          <a:stretch/>
        </p:blipFill>
        <p:spPr>
          <a:xfrm>
            <a:off x="2367000" y="5473800"/>
            <a:ext cx="6766920" cy="645840"/>
          </a:xfrm>
          <a:prstGeom prst="rect">
            <a:avLst/>
          </a:prstGeom>
          <a:ln>
            <a:solidFill>
              <a:srgbClr val="ffc000"/>
            </a:solidFill>
          </a:ln>
        </p:spPr>
      </p:pic>
      <p:pic>
        <p:nvPicPr>
          <p:cNvPr id="94" name="Рисунок 7" descr=""/>
          <p:cNvPicPr/>
          <p:nvPr/>
        </p:nvPicPr>
        <p:blipFill>
          <a:blip r:embed="rId4"/>
          <a:stretch/>
        </p:blipFill>
        <p:spPr>
          <a:xfrm rot="16200000">
            <a:off x="-1575000" y="2583360"/>
            <a:ext cx="5242680" cy="10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uk-UA" sz="4400" spc="-1" strike="noStrike">
                <a:solidFill>
                  <a:schemeClr val="accent2"/>
                </a:solidFill>
                <a:latin typeface="Calibri Light"/>
              </a:rPr>
              <a:t>Межі застосування закону всесвітнього тяжінн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5440" y="1825560"/>
            <a:ext cx="9588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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розміри тіл нехтовно малі порівняно з відстанню між ними (матеріальні точки)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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обидва тіла мають кулясту форму та сферичний розподіл речовин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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одне з тіл – куля, розміри та маса якої значно більші, ніж розміри та маса другого ті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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швидкість руху тіл набагато менша швидкості поширення світ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 rot="16200000">
            <a:off x="-1879560" y="2608920"/>
            <a:ext cx="5242680" cy="10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5920" y="411480"/>
            <a:ext cx="524232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uk-UA" sz="6000" spc="-1" strike="noStrike">
                <a:solidFill>
                  <a:srgbClr val="4482bb"/>
                </a:solidFill>
                <a:latin typeface="Calibri Light"/>
              </a:rPr>
              <a:t>Пригадайте!</a:t>
            </a:r>
            <a:r>
              <a:rPr b="1" lang="uk-UA" sz="6000" spc="-1" strike="noStrike">
                <a:solidFill>
                  <a:schemeClr val="accent5">
                    <a:lumMod val="75000"/>
                  </a:schemeClr>
                </a:solidFill>
                <a:latin typeface="Calibri Light"/>
              </a:rPr>
              <a:t>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5" descr=""/>
          <p:cNvPicPr/>
          <p:nvPr/>
        </p:nvPicPr>
        <p:blipFill>
          <a:blip r:embed="rId1"/>
          <a:stretch/>
        </p:blipFill>
        <p:spPr>
          <a:xfrm>
            <a:off x="9814680" y="149400"/>
            <a:ext cx="2377080" cy="1885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00" name="TextBox 2"/>
          <p:cNvSpPr/>
          <p:nvPr/>
        </p:nvSpPr>
        <p:spPr>
          <a:xfrm>
            <a:off x="411480" y="1859400"/>
            <a:ext cx="665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Що таке сила тяжін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04400" y="3147480"/>
            <a:ext cx="10990080" cy="344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ла  тяжіння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—  сила,  з  якою  Земля (або  інше  астрономічне  тіло)  притягує  до себе тіла, що перебувають на її поверхні або поблизу неї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9" descr=""/>
          <p:cNvPicPr/>
          <p:nvPr/>
        </p:nvPicPr>
        <p:blipFill>
          <a:blip r:embed="rId2"/>
          <a:stretch/>
        </p:blipFill>
        <p:spPr>
          <a:xfrm>
            <a:off x="7045920" y="174600"/>
            <a:ext cx="2585520" cy="267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18"/>
          <p:cNvGraphicFramePr/>
          <p:nvPr/>
        </p:nvGraphicFramePr>
        <p:xfrm>
          <a:off x="6012000" y="5445000"/>
          <a:ext cx="2233080" cy="7585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0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45000"/>
                    <a:ext cx="223308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5" name="Object 16"/>
          <p:cNvGraphicFramePr/>
          <p:nvPr/>
        </p:nvGraphicFramePr>
        <p:xfrm>
          <a:off x="8878680" y="5445000"/>
          <a:ext cx="1871280" cy="7567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0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78680" y="5445000"/>
                    <a:ext cx="1871280" cy="7567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uk-UA" sz="4400" spc="-1" strike="noStrike">
                <a:solidFill>
                  <a:schemeClr val="accent2"/>
                </a:solidFill>
                <a:latin typeface="Calibri Light"/>
              </a:rPr>
              <a:t>Прискорення вільного падінн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31920" y="3695760"/>
            <a:ext cx="10121400" cy="24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искорення вільного падіння не залежить від маси тіл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искорення вільного падіння зменшується зі збільшенням висо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тіла над поверхнею Землі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= 0 аб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&lt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Calibri"/>
              </a:rPr>
              <a:t>З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Object 9"/>
          <p:cNvGraphicFramePr/>
          <p:nvPr/>
        </p:nvGraphicFramePr>
        <p:xfrm>
          <a:off x="1547640" y="148428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8428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1" name="Рисунок 5" descr=""/>
          <p:cNvPicPr/>
          <p:nvPr/>
        </p:nvPicPr>
        <p:blipFill>
          <a:blip r:embed="rId3"/>
          <a:stretch/>
        </p:blipFill>
        <p:spPr>
          <a:xfrm>
            <a:off x="4303080" y="1479240"/>
            <a:ext cx="2427120" cy="974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"/>
          <p:cNvPicPr/>
          <p:nvPr/>
        </p:nvPicPr>
        <p:blipFill>
          <a:blip r:embed="rId4"/>
          <a:stretch/>
        </p:blipFill>
        <p:spPr>
          <a:xfrm>
            <a:off x="7254000" y="1298520"/>
            <a:ext cx="3762000" cy="172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6"/>
          <p:cNvGraphicFramePr/>
          <p:nvPr/>
        </p:nvGraphicFramePr>
        <p:xfrm>
          <a:off x="5783760" y="5154480"/>
          <a:ext cx="2736360" cy="10220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3760" y="5154480"/>
                    <a:ext cx="2736360" cy="102204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5" name="Рисунок 8" descr=""/>
          <p:cNvPicPr/>
          <p:nvPr/>
        </p:nvPicPr>
        <p:blipFill>
          <a:blip r:embed="rId7"/>
          <a:stretch/>
        </p:blipFill>
        <p:spPr>
          <a:xfrm>
            <a:off x="89280" y="347760"/>
            <a:ext cx="1005480" cy="52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360" y="149400"/>
            <a:ext cx="4863600" cy="1325160"/>
          </a:xfrm>
          <a:prstGeom prst="rect">
            <a:avLst/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chemeClr val="dk1"/>
                </a:solidFill>
                <a:latin typeface="Calibri"/>
              </a:rPr>
              <a:t>Розв’язання задач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68280" y="1574640"/>
            <a:ext cx="4254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формули 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9"/>
          <p:cNvGraphicFramePr/>
          <p:nvPr/>
        </p:nvGraphicFramePr>
        <p:xfrm>
          <a:off x="544680" y="221076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21076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0" name="Рисунок 6" descr=""/>
          <p:cNvPicPr/>
          <p:nvPr/>
        </p:nvPicPr>
        <p:blipFill>
          <a:blip r:embed="rId3"/>
          <a:stretch/>
        </p:blipFill>
        <p:spPr>
          <a:xfrm>
            <a:off x="496080" y="3065760"/>
            <a:ext cx="2328480" cy="1182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4"/>
          <a:stretch/>
        </p:blipFill>
        <p:spPr>
          <a:xfrm>
            <a:off x="496080" y="4344840"/>
            <a:ext cx="2328480" cy="1071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"/>
          <p:cNvPicPr/>
          <p:nvPr/>
        </p:nvPicPr>
        <p:blipFill>
          <a:blip r:embed="rId5"/>
          <a:stretch/>
        </p:blipFill>
        <p:spPr>
          <a:xfrm>
            <a:off x="496080" y="5523480"/>
            <a:ext cx="2788200" cy="1073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9"/>
          <p:cNvSpPr/>
          <p:nvPr/>
        </p:nvSpPr>
        <p:spPr>
          <a:xfrm>
            <a:off x="5092560" y="343080"/>
            <a:ext cx="637488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Вправа 33 № 3,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фізика 9 Бар’ях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к зміниться  сила  гравітаційного притяганн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іж двома кульками, якщо одну з них замінити іншою, вдвічі більшої маси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Объект 11"/>
          <p:cNvGraphicFramePr/>
          <p:nvPr/>
        </p:nvGraphicFramePr>
        <p:xfrm>
          <a:off x="3505320" y="1825560"/>
          <a:ext cx="8432280" cy="3841200"/>
        </p:xfrm>
        <a:graphic>
          <a:graphicData uri="http://schemas.openxmlformats.org/drawingml/2006/table">
            <a:tbl>
              <a:tblPr/>
              <a:tblGrid>
                <a:gridCol w="1882800"/>
                <a:gridCol w="65494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’яз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 закон всесвітнього тяжіння для двох тіл масам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о знов цей закон для більшої маси вдвіч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 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а гравітаційного притягання збільшиться вдвіч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5948280" y="3065760"/>
          <a:ext cx="1468080" cy="66888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8280" y="3065760"/>
                    <a:ext cx="1468080" cy="66888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5859360" y="4521600"/>
          <a:ext cx="1557000" cy="64332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59360" y="4521600"/>
                    <a:ext cx="1557000" cy="6433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Стрелка вправо 2"/>
          <p:cNvSpPr/>
          <p:nvPr/>
        </p:nvSpPr>
        <p:spPr>
          <a:xfrm rot="20922600">
            <a:off x="2802960" y="3489840"/>
            <a:ext cx="3112920" cy="2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360" y="149400"/>
            <a:ext cx="4559040" cy="1325160"/>
          </a:xfrm>
          <a:prstGeom prst="rect">
            <a:avLst/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chemeClr val="dk1"/>
                </a:solidFill>
                <a:latin typeface="Calibri"/>
              </a:rPr>
              <a:t>Розв’язання задач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68280" y="1574640"/>
            <a:ext cx="4254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формули 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9"/>
          <p:cNvGraphicFramePr/>
          <p:nvPr/>
        </p:nvGraphicFramePr>
        <p:xfrm>
          <a:off x="544680" y="221076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21076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Рисунок 6" descr=""/>
          <p:cNvPicPr/>
          <p:nvPr/>
        </p:nvPicPr>
        <p:blipFill>
          <a:blip r:embed="rId3"/>
          <a:stretch/>
        </p:blipFill>
        <p:spPr>
          <a:xfrm>
            <a:off x="496080" y="3065760"/>
            <a:ext cx="2328480" cy="11822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4"/>
          <a:stretch/>
        </p:blipFill>
        <p:spPr>
          <a:xfrm>
            <a:off x="496080" y="4344840"/>
            <a:ext cx="2328480" cy="10717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5"/>
          <a:stretch/>
        </p:blipFill>
        <p:spPr>
          <a:xfrm>
            <a:off x="496080" y="5523480"/>
            <a:ext cx="2788200" cy="107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Объект 11"/>
          <p:cNvGraphicFramePr/>
          <p:nvPr/>
        </p:nvGraphicFramePr>
        <p:xfrm>
          <a:off x="3759120" y="1726920"/>
          <a:ext cx="8432280" cy="3475440"/>
        </p:xfrm>
        <a:graphic>
          <a:graphicData uri="http://schemas.openxmlformats.org/drawingml/2006/table">
            <a:tbl>
              <a:tblPr/>
              <a:tblGrid>
                <a:gridCol w="2692080"/>
                <a:gridCol w="57402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=6400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’яз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 формулу прискорення вільного падіння біля поверхні Земл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=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азимо з цієї формули масу Зем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а Земл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Рисунок 2" descr=""/>
          <p:cNvPicPr/>
          <p:nvPr/>
        </p:nvPicPr>
        <p:blipFill>
          <a:blip r:embed="rId6"/>
          <a:stretch/>
        </p:blipFill>
        <p:spPr>
          <a:xfrm>
            <a:off x="4724280" y="666000"/>
            <a:ext cx="7340400" cy="96336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139" name="Прямоугольник 3"/>
          <p:cNvSpPr/>
          <p:nvPr/>
        </p:nvSpPr>
        <p:spPr>
          <a:xfrm>
            <a:off x="4744440" y="296640"/>
            <a:ext cx="358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Вправа 33 № 4, фізика 9 Бар’ях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10"/>
          <p:cNvSpPr/>
          <p:nvPr/>
        </p:nvSpPr>
        <p:spPr>
          <a:xfrm rot="19871400">
            <a:off x="3062520" y="4450680"/>
            <a:ext cx="4455720" cy="223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360" y="149400"/>
            <a:ext cx="4559040" cy="1325160"/>
          </a:xfrm>
          <a:prstGeom prst="rect">
            <a:avLst/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chemeClr val="dk1"/>
                </a:solidFill>
                <a:latin typeface="Calibri"/>
              </a:rPr>
              <a:t>Розв’язання задач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68280" y="1574640"/>
            <a:ext cx="4254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формули 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9"/>
          <p:cNvGraphicFramePr/>
          <p:nvPr/>
        </p:nvGraphicFramePr>
        <p:xfrm>
          <a:off x="544680" y="221076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21076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5" name="Рисунок 6" descr=""/>
          <p:cNvPicPr/>
          <p:nvPr/>
        </p:nvPicPr>
        <p:blipFill>
          <a:blip r:embed="rId3"/>
          <a:stretch/>
        </p:blipFill>
        <p:spPr>
          <a:xfrm>
            <a:off x="496080" y="3065760"/>
            <a:ext cx="2328480" cy="11822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"/>
          <p:cNvPicPr/>
          <p:nvPr/>
        </p:nvPicPr>
        <p:blipFill>
          <a:blip r:embed="rId4"/>
          <a:stretch/>
        </p:blipFill>
        <p:spPr>
          <a:xfrm>
            <a:off x="496080" y="4344840"/>
            <a:ext cx="2328480" cy="10717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"/>
          <p:cNvPicPr/>
          <p:nvPr/>
        </p:nvPicPr>
        <p:blipFill>
          <a:blip r:embed="rId5"/>
          <a:stretch/>
        </p:blipFill>
        <p:spPr>
          <a:xfrm>
            <a:off x="496080" y="5523480"/>
            <a:ext cx="2788200" cy="107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Объект 11"/>
          <p:cNvGraphicFramePr/>
          <p:nvPr/>
        </p:nvGraphicFramePr>
        <p:xfrm>
          <a:off x="3759120" y="1726920"/>
          <a:ext cx="8432280" cy="3658320"/>
        </p:xfrm>
        <a:graphic>
          <a:graphicData uri="http://schemas.openxmlformats.org/drawingml/2006/table">
            <a:tbl>
              <a:tblPr/>
              <a:tblGrid>
                <a:gridCol w="2692080"/>
                <a:gridCol w="57402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=6400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’яз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 формулу прискорення вільного падіння біля поверхні Земл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=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скорення на висо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Прямоугольник 3"/>
          <p:cNvSpPr/>
          <p:nvPr/>
        </p:nvSpPr>
        <p:spPr>
          <a:xfrm>
            <a:off x="4744080" y="296640"/>
            <a:ext cx="358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Вправа 33 №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, фізика 9 Бар’ях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9" descr=""/>
          <p:cNvPicPr/>
          <p:nvPr/>
        </p:nvPicPr>
        <p:blipFill>
          <a:blip r:embed="rId6"/>
          <a:stretch/>
        </p:blipFill>
        <p:spPr>
          <a:xfrm>
            <a:off x="3832200" y="3957120"/>
            <a:ext cx="2546640" cy="1847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0" descr=""/>
          <p:cNvPicPr/>
          <p:nvPr/>
        </p:nvPicPr>
        <p:blipFill>
          <a:blip r:embed="rId7"/>
          <a:stretch/>
        </p:blipFill>
        <p:spPr>
          <a:xfrm>
            <a:off x="4622760" y="715320"/>
            <a:ext cx="73022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360" y="149400"/>
            <a:ext cx="4559040" cy="1325160"/>
          </a:xfrm>
          <a:prstGeom prst="rect">
            <a:avLst/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chemeClr val="dk1"/>
                </a:solidFill>
                <a:latin typeface="Calibri"/>
              </a:rPr>
              <a:t>Розв’язання задач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68280" y="1574640"/>
            <a:ext cx="4254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формули 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9"/>
          <p:cNvGraphicFramePr/>
          <p:nvPr/>
        </p:nvGraphicFramePr>
        <p:xfrm>
          <a:off x="544680" y="221076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5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21076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6" name="Рисунок 6" descr=""/>
          <p:cNvPicPr/>
          <p:nvPr/>
        </p:nvPicPr>
        <p:blipFill>
          <a:blip r:embed="rId3"/>
          <a:stretch/>
        </p:blipFill>
        <p:spPr>
          <a:xfrm>
            <a:off x="496080" y="3065760"/>
            <a:ext cx="2328480" cy="1182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7" descr=""/>
          <p:cNvPicPr/>
          <p:nvPr/>
        </p:nvPicPr>
        <p:blipFill>
          <a:blip r:embed="rId4"/>
          <a:stretch/>
        </p:blipFill>
        <p:spPr>
          <a:xfrm>
            <a:off x="496080" y="4344840"/>
            <a:ext cx="2328480" cy="1071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8" descr=""/>
          <p:cNvPicPr/>
          <p:nvPr/>
        </p:nvPicPr>
        <p:blipFill>
          <a:blip r:embed="rId5"/>
          <a:stretch/>
        </p:blipFill>
        <p:spPr>
          <a:xfrm>
            <a:off x="496080" y="5523480"/>
            <a:ext cx="2788200" cy="107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Объект 11"/>
          <p:cNvGraphicFramePr/>
          <p:nvPr/>
        </p:nvGraphicFramePr>
        <p:xfrm>
          <a:off x="3759120" y="1726920"/>
          <a:ext cx="8432280" cy="3658320"/>
        </p:xfrm>
        <a:graphic>
          <a:graphicData uri="http://schemas.openxmlformats.org/drawingml/2006/table">
            <a:tbl>
              <a:tblPr/>
              <a:tblGrid>
                <a:gridCol w="2692080"/>
                <a:gridCol w="57402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’яз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 формулу прискорення вільного падіння  Земл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скорення для другої план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скорення на висо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Прямоугольник 3"/>
          <p:cNvSpPr/>
          <p:nvPr/>
        </p:nvSpPr>
        <p:spPr>
          <a:xfrm>
            <a:off x="4744440" y="296640"/>
            <a:ext cx="358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Вправа 33 № 6, фізика 9 Бар’ях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"/>
          <p:cNvPicPr/>
          <p:nvPr/>
        </p:nvPicPr>
        <p:blipFill>
          <a:blip r:embed="rId6"/>
          <a:stretch/>
        </p:blipFill>
        <p:spPr>
          <a:xfrm>
            <a:off x="3832200" y="3957120"/>
            <a:ext cx="2546640" cy="18471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" descr=""/>
          <p:cNvPicPr/>
          <p:nvPr/>
        </p:nvPicPr>
        <p:blipFill>
          <a:blip r:embed="rId7"/>
          <a:stretch/>
        </p:blipFill>
        <p:spPr>
          <a:xfrm>
            <a:off x="4622760" y="748440"/>
            <a:ext cx="725328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769</TotalTime>
  <Application>LibreOffice/7.4.7.2$Linux_X86_64 LibreOffice_project/40$Build-2</Application>
  <AppVersion>15.0000</AppVersion>
  <Words>322</Words>
  <Paragraphs>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1T06:49:00Z</dcterms:created>
  <dc:creator>Пользователь</dc:creator>
  <dc:description/>
  <dc:language>en-US</dc:language>
  <cp:lastModifiedBy>Пользователь</cp:lastModifiedBy>
  <dcterms:modified xsi:type="dcterms:W3CDTF">2020-04-15T18:56:02Z</dcterms:modified>
  <cp:revision>65</cp:revision>
  <dc:subject/>
  <dc:title>Рух тіла під дією сили тяжі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