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7B2-4FE2-4B42-8934-278E0E04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CFE-8152-4B79-80E3-E85F228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E38-15BE-4190-95B7-330E5531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1C4-05E1-46E7-9157-0EA0F9A1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C7B-61D0-4A71-B23D-C27CB35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073-3953-4B58-9B59-5CD5488A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19E-7231-455E-9EAB-3764609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DF9-8E7C-473D-8F9B-C8BFB61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A2-36B6-42F5-8625-A882B142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C3C-6E50-4154-9B9B-1778416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907-0A0B-4352-9C01-37901B9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049-126F-4E33-98B1-951A7ED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DE3C-AF8F-452C-BE8D-D2C02E87A4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RobertKoch_croppe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Руки персонала как основа инфекционной 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6920" y="5770440"/>
            <a:ext cx="770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okbil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7280" y="501336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оберт Кох (1843г. – 1910г.) – немецкий микробиолог, один из основоположников современной бактериологии и эпидемиологии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 своих публикациях Кох  выработал принципы «получения доказательств, что тот или иной микроорганизм вызывает определённые заболевания». Эти принципы до сих пор лежат в основе медицинской микробиологи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RobertKoch cropp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133720"/>
            <a:ext cx="2919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00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Риски контаминации кожи рук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(по возрастанию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445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акт с чистыми продезинфицированными или простерилизованными поверхност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е контактировавшие с пациентами (пища, медикаме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незначительного контакта с пациентами (мебел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тесного контакта с неинфицированными пациентами (постельные принадлежности и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циенты и процедуры с незначительным контактом (подсчет пульса, измерение А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которые вероятно контаминированы микроорганизмами (ванны, душевые каби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аходившиеся в тесном контакте с инфицированными пациентами (постельные принадлежности, постельное и нательное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ые биологические жидкости организма неинфицированного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ологические жидкости заведомо инфицированных паци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аги инф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ровни деконтаминации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(дезинфекции)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989000"/>
          <a:ext cx="8207280" cy="4291200"/>
        </p:xfrm>
        <a:graphic>
          <a:graphicData uri="http://schemas.openxmlformats.org/drawingml/2006/table">
            <a:tbl>
              <a:tblPr/>
              <a:tblGrid>
                <a:gridCol w="3162240"/>
                <a:gridCol w="50450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 обрабо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 обработ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епень деконтаминаци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гиеническая обработка ру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 загрязнений, удаление /уничтожение транзиторной микрофл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ботка рук хирург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/уничтожение транзиторной микрофлоры и снижение численности резидентной фл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вила обработки рук персонал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остижения эффективного мытья и обеззараживания рук необходимо соблюдать следующие усло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чистые, коротко подстриженные ногти, отсутствие лака на ногтях, отсутствие искусственных ногтей; ухоженные (без трещин и заусениц) руки, безобрезной (европейский) маникю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отсутствие на руках колец, перстней и других ювелирных украшений; перед обработкой рук хирургов необходимо снять также часы, браслеты и пр.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менение жидкого мыла с помощью доза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менение для высушивания рук чистых тканевых индивидуальных полотенец или бумажных салфеток однократного использования, при обработке рук хирургов – только стерильных тканев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следует проводить в следующих случая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непосредственным контактом с пациент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еред надеванием стерильных перчаток и после снятия перчаток при постановке центрального внутрисосудистого катете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и после постановки центрального внутрисосудистого, периферических сосудистых и мочевых катетеров или других инвазивных устройств, если эти манипуляции не требуют хирургического вмеш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неповрежденной кожей пациента (например, при измерении пульса или артериального давления, перекладывании пациента и т.п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 выполнении различных манипуляций по уходу за пациентом после контакта с контаминированными микроорганизмами участками те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медицинским оборудованием и другими объектами, находящимися в непосредственной близости от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 проводится двумя способам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гигиеническое мытье рук мылом и водой для удаления загрязнений и снижения количества микроорганиз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бработка рук спиртосодержащим кожным антисептиком для снижения количества микроорганизмов до безопасного уров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у рук хирургов проводят все, участвующие в выполнении оперативных вмешательств, катетеризации магистральных сосудов, пункции суставов, пол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а проводится в два эта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этап - мытье рук мылом и водой в течение двух минут, а затем высушивание стерильным полотенцем (салфеткой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этап - обработка антисептиком кистей рук, запястий и предплеч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антисептика, необходимое для обработки, кратность обработки и её продолжительность определяются рекомендациями, изложенными в методических указаниях/инструкциях по применению конкретного средства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рильные перчатки надевают сразу после полного высыхания антисептика на коже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БЩИЕ  РЕКОМЕНДАЦИИ 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И  ПРОВЕДЕНИИ  ДЕЗИНФЕКЦИИ  РУК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йте на небольшом расстоянии от раковины, чтобы не забрызгаться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мойте руки под умеренной струей комфортно тёплой воды (37-40гр. С), намыливайте мылом до получения обильной пе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тщательно мойте руки в соответствие с методикой, уделяя особое внимание кончикам пальцев ладонной и тыльной сторо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щетку только для чистки ногтей, но не рук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ополаскивайте руки под струей воды так, чтобы вода стекала с кончиков пальцев к запястью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хорошо смывайте остатки мыла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сушите руки одноразовыми бумажными полотенцами, которыми затем закрывайте кран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не пользуйтесь, как это принято, общим полотенцем, которое обычно не меняется в течение дня;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после работы смягчающие лосьоны или крем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55640" y="404640"/>
          <a:ext cx="7777080" cy="6172200"/>
        </p:xfrm>
        <a:graphic>
          <a:graphicData uri="http://schemas.openxmlformats.org/drawingml/2006/table">
            <a:tbl>
              <a:tblPr/>
              <a:tblGrid>
                <a:gridCol w="3857760"/>
                <a:gridCol w="3919320"/>
              </a:tblGrid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Круговым движением тереть ладонь левой кисти кончиками пальцев правой рук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Тереть одну ладонь о другую ладонь возвратно-поступательными движениями. Обработайте ладон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оединить пальцы одной руки в межпальцевых промежутках другой, тереть внутренние поверхности пальцев движениями вверх и вниз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авой ладонью растирать тыльную поверхность левой кист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Охватить основание большого пальца левой кисти между большим и указательным пальцами правой кисти, вращательное трение. Повторить на запястье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Соединить пальцы в «замок», тыльной стороной согнутых пальцев растирать ладонь другой руки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2016000" cy="9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19270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871640" cy="102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1944720" cy="107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2700360" y="4365720"/>
            <a:ext cx="187164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6"/>
          <a:stretch/>
        </p:blipFill>
        <p:spPr>
          <a:xfrm>
            <a:off x="2556000" y="5589720"/>
            <a:ext cx="2087280" cy="1020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630080" y="5976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imesNewRomanPSMT"/>
              </a:rPr>
              <a:t>Алгоритм мытья рук по технологии «горного озер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vin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4968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сё в руках человека. Поэтому их надо как можно чаще мыть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          (Станислав Ежи Лец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тандартная методика 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ое движение повторяется не менее 5 раз. Обработка рук осуществляется в течение 1 мину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альтернатива частому мытью рук – обработка антисепт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цинский персонал должен быть обеспечен в достаточном количестве эффективными средствами для мытья и обеззараживания рук, а также средствами для ухода за кожей рук (кремы, лосьоны, бальзамы и др.) для снижения риска возникновения контактных дерматитов. При выборе кожных антисептиков, моющих средств и средств для ухода за кожей рук следует учитывать индивидуальную переносим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а, применяемые во фтизиатрических учреждениях должны быть дополнительно исследованы в тестах на туберкулецидную 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(без их предварительного мытья) проводят путем втирания его в кожу кистей рук в количестве, рекомендуемом инструкцией по применению, обращая особое внимание на обработку кончиков пальцев, кожу вокруг ногтей, между пальцами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использовании дозатора новую порцию антисептика наливают в него после его дезинфекции и промывания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е антисептики для обработки рук должны быть легко доступны на всех этапах лечебно-диагностического процесса. В подразделениях с высокой интенсивностью ухода за пациентами и с высокой нагрузкой на персонал (отделения реанимации и интенсивной терапии и т.п.) дозаторы с кожными антисептиками для обработки рук должны размещаться в удобных для применения персоналом местах (у входа в палату, у постели больного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дует также предусматривать возможность обеспечения медицинских работников индивидуальными емкостями (флаконами) небольших объемов (до 200 мл) с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619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осуществлять постоянный контроль выполнения требований гигиены рук медицинскими работниками и доводить эту информацию до сведения персонала с целью повышения качества медицинск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_MG_3295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64000" y="907920"/>
            <a:ext cx="3311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07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чатки необходимо надевать во всех случаях, когда возможен контакт с кровью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опускается использование одной и той же пары перчаток при контакте (для ухода) с двумя и более пациентами, при переходе от одного пациента к другому или от контаминированного микроорганизмами участка тела - к чист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перчаток не устраняет необходимости гигиенической обработки рук. Она очень важна и при работе в перчатках, так как бактерии могут размножаться в тёплой, влажной среде внутри перчатки, кроме того, не исключены разрывы перчаток и передача инфекции пациенту. После снятия перчаток проводят гигиеническую обработку рук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7607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средства (или антисептика), убрать видимые загрязнения. Снять перчатки, погрузить их в раствор дезинфектанта,затем утилизировать.  Руки обработать кожным антисепти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456"/>
          <p:cNvPicPr/>
          <p:nvPr/>
        </p:nvPicPr>
        <p:blipFill>
          <a:blip r:embed="rId1"/>
          <a:stretch/>
        </p:blipFill>
        <p:spPr>
          <a:xfrm>
            <a:off x="6300720" y="4076640"/>
            <a:ext cx="2592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мыть руки после каждого контакта с пациентом, независимо от использования перчаток. Мыть руки необходимо сразу после того, как сняты перчатки, до и после контакта с пациентом и каждый раз после контакта с кровью, биологическими жидкостями, секретами, выделениями или потенциально контаминированными предметами и оборудов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нятия перчаток и между контактами с пациентами руки моют с мылом или обрабатывают спиртосодержащим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сонал обрабатывает руки спиртосодержащим кожным антисептиком не только до осмотра и перевязки инфицированных пациентов, но и пос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то интересн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днее время появились исследования, которые доказывают, что наручные часы, авторучки и мобильные телефоны медицинских работников также являются рассадником микро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им образом, гигиена рук является неотъемлемой частью системы мер по профилактике внутрибольничной инфекции в лечебной организ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и – это «медицинский инструмент», которым персонал пользуется чаще всего. Но в отличие от обычных медицинских инструментов, руки не могут быть полностью лишены микробов и поэтому их дезинфекция постоянно необходима во врем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же находятся многочисленные микробы разного происхожд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Даже тщательно вымытая кожа содержит много бактерий, принадлежащих физиологической бактериальной флор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(нормальная)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микроорганизмы, постоянно живущие и размножающиеся на кож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I.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неколонизирующая микрофлора, приобретённая медицинским персоналом в процессе работы в результате контакта с инфицированными объектами окружающей сред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это микрофлора, вызывающая клинически выраженное заболевание у здоровых люд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Условно-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заболевание только в присутствии специфического предрасполагающего факто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икробы – оппортунисты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генерализованное заболевание только у больных с выраженным снижением иммуните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микрофлора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тимулирует образование антител и препятствует заселению кожи грамотрицательными микроорганизмами. Обитает в роговом слое кожи,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на преимущественно представлена кокками: эпидермальным и другими видами стафилококков, дифтероидами, пропионбактерия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е невозможно полностью удалить при обычном мытье рук и обработке антисептикам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ена преимущественно микроорганизмами, находящимися во внешней среде учреждения, опасными в эпидемиологическом отношен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огенные микроорганизмы (сальмонеллы, шигеллы, ротавирусы, вирусы гепатита 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ловно-патогенные микроорганизм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положительные (стафилококки золотистый и эпидермальны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отрицательные (кишечная палочка, клебсиеллы, псевдомонад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ибы (кандиды, аспиргил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храняется на руках не более 24 часов и может быть удалена путем обычного мытья рук и обработки антисептик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загрязненными участками кожи рук являются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колоногтевые валик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ушечки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сложно промываемыми участками считаются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жпальцевые промежутки;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емка большого пальца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329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и являются одним из основных факторов передачи возбудителей ВБИ. Через руки персонала передаётся транзиторная патогенная или условно-патогенная микрофлора, микробы-оппортунисты. Возможна контаминация операционной раны и представителями резидентной микрофлоры ко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зинфекция рук является одной из самых эффективных мер по предупреждению ВБИ и по защите пациентов и медицинского персонала от инфицирования. Основа профилактики ВБИ – гигиеническая культура и подготовленность в эпидемиологическом плане на всех этапах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19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953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рическ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692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первые обработка рук раствором карболовой кислоты (фенола) для профилактики раневой инфекции была применена английским хирургом Джозефом Листером в 1867 году. Метод Д. Листера (1827г. – 1912г.) стал триумфом медицины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LISTER"/>
          <p:cNvPicPr/>
          <p:nvPr/>
        </p:nvPicPr>
        <p:blipFill>
          <a:blip r:embed="rId1"/>
          <a:stretch/>
        </p:blipFill>
        <p:spPr>
          <a:xfrm>
            <a:off x="971640" y="1700280"/>
            <a:ext cx="2663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59:25Z</dcterms:created>
  <dc:creator>Слава</dc:creator>
  <dc:description/>
  <dc:language>en-US</dc:language>
  <cp:lastModifiedBy>Шибанова Наталья Юрьевна</cp:lastModifiedBy>
  <dcterms:modified xsi:type="dcterms:W3CDTF">2018-11-12T03:11:01Z</dcterms:modified>
  <cp:revision>139</cp:revision>
  <dc:subject/>
  <dc:title>Мотивация деятельности сестринского персонала ЛПУ</dc:title>
</cp:coreProperties>
</file>