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3D27-F544-4D05-B12D-6F37B08BA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A84-0B38-43E1-8824-51BEB9FE4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DF01-77CA-4C37-A46C-68DF8796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3A5-750F-4D89-90A2-B2380FEC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EEA6-0278-457E-B7FB-8DBDDA9F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ED9-A0F4-471C-AFB1-03C3E28F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D93-55BA-4970-9E93-44ADA571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3000-0170-4F28-8C24-9DC63183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DF9-0DB9-4E6A-A87C-B06F1E02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239D-3B64-40BB-8B51-A89EEADF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6E99-9FE1-44AD-9AA6-9A9E2F22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E864-8685-4BFF-862D-CCEE91AC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4821-1C1E-40A5-8906-A0A132B633A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208;&#164;&#208;&#176;&#208;&#185;&#208;&#187;:RobertKoch_cropped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17136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Tahoma"/>
              </a:rPr>
              <a:t>Руки персонала как основа инфекционной безопасно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826920" y="5770440"/>
            <a:ext cx="7705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7" descr="okbil"/>
          <p:cNvPicPr/>
          <p:nvPr/>
        </p:nvPicPr>
        <p:blipFill>
          <a:blip r:embed="rId1"/>
          <a:stretch/>
        </p:blipFill>
        <p:spPr>
          <a:xfrm>
            <a:off x="755640" y="1557360"/>
            <a:ext cx="7777080" cy="5040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8"/>
          <p:cNvSpPr/>
          <p:nvPr/>
        </p:nvSpPr>
        <p:spPr>
          <a:xfrm>
            <a:off x="1187280" y="5013360"/>
            <a:ext cx="691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Роберт Кох (1843г. – 1910г.) – немецкий микробиолог, один из основоположников современной бактериологии и эпидемиологии</a:t>
            </a:r>
            <a:endParaRPr b="0" lang="en-US" sz="2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30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 своих публикациях Кох  выработал принципы «получения доказательств, что тот или иной микроорганизм вызывает определённые заболевания». Эти принципы до сих пор лежат в основе медицинской микробиологии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7" descr="RobertKoch cropp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7480" y="2133720"/>
            <a:ext cx="29196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00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Риски контаминации кожи рук </a:t>
            </a:r>
            <a:br>
              <a:rPr sz="3600"/>
            </a:br>
            <a:r>
              <a:rPr b="0" lang="ru-RU" sz="3600" spc="-1" strike="noStrike">
                <a:solidFill>
                  <a:srgbClr val="ffcc00"/>
                </a:solidFill>
                <a:latin typeface="Tahoma"/>
              </a:rPr>
              <a:t>(по возрастанию)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445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онтакт с чистыми продезинфицированными или простерилизованными поверхностя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, не контактировавшие с пациентами (пища, медикамен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 незначительного контакта с пациентами (мебель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 тесного контакта с неинфицированными пациентами (постельные принадлежности и бель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ациенты и процедуры с незначительным контактом (подсчет пульса, измерение АД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, которые вероятно контаминированы микроорганизмами (ванны, душевые кабин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бъекты, находившиеся в тесном контакте с инфицированными пациентами (постельные принадлежности, постельное и нательное бель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юбые биологические жидкости организма неинфицированного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иологические жидкости заведомо инфицированных пациент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чаги инфекци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Уровни деконтаминации </a:t>
            </a:r>
            <a:br>
              <a:rPr sz="4400"/>
            </a:b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(дезинфекции) ру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4000" y="765000"/>
            <a:ext cx="822960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8360" y="1989000"/>
          <a:ext cx="8207280" cy="4291200"/>
        </p:xfrm>
        <a:graphic>
          <a:graphicData uri="http://schemas.openxmlformats.org/drawingml/2006/table">
            <a:tbl>
              <a:tblPr/>
              <a:tblGrid>
                <a:gridCol w="3162240"/>
                <a:gridCol w="504504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пособ обрабо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ль обработк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степень деконтаминации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игиеническая обработка ру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даление загрязнений, удаление /уничтожение транзиторной микрофлоры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8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бработка рук хирурго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даление/уничтожение транзиторной микрофлоры и снижение численности резидентной фло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Правила обработки рук персонал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достижения эффективного мытья и обеззараживания рук необходимо соблюдать следующие условия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 чистые, коротко подстриженные ногти, отсутствие лака на ногтях, отсутствие искусственных ногтей; ухоженные (без трещин и заусениц) руки, безобрезной (европейский) маникюр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отсутствие на руках колец, перстней и других ювелирных украшений; перед обработкой рук хирургов необходимо снять также часы, браслеты и пр.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рименение жидкого мыла с помощью дозатора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применение для высушивания рук чистых тканевых индивидуальных полотенец или бумажных салфеток однократного использования, при обработке рук хирургов – только стерильных тканевых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Гигиеническая обработка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игиеническую обработку рук кожным антисептиком следует проводить в следующих случаях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еред непосредственным контактом с пациенто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перед надеванием стерильных перчаток и после снятия перчаток при постановке центрального внутрисосудистого катетер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еред и после постановки центрального внутрисосудистого, периферических сосудистых и мочевых катетеров или других инвазивных устройств, если эти манипуляции не требуют хирургического вмешатель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сле контакта с неповрежденной кожей пациента (например, при измерении пульса или артериального давления, перекладывании пациента и т.п.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сле контакта с секретами или экскретами организма, слизистыми оболочками, повязками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ри выполнении различных манипуляций по уходу за пациентом после контакта с контаминированными микроорганизмами участками тел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- после контакта с медицинским оборудованием и другими объектами, находящимися в непосредственной близости от пациен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Гигиеническая обработка рук проводится двумя способами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гигиеническое мытье рук мылом и водой для удаления загрязнений и снижения количества микроорганизмо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обработка рук спиртосодержащим кожным антисептиком для снижения количества микроорганизмов до безопасного уровн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184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работка рук хирург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ботку рук хирургов проводят все, участвующие в выполнении оперативных вмешательств, катетеризации магистральных сосудов, пункции суставов, полост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работка проводится в два этап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 этап - мытье рук мылом и водой в течение двух минут, а затем высушивание стерильным полотенцем (салфеткой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II этап - обработка антисептиком кистей рук, запястий и предплеч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работка рук хирургов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личество антисептика, необходимое для обработки, кратность обработки и её продолжительность определяются рекомендациями, изложенными в методических указаниях/инструкциях по применению конкретного средства. Непременным условием эффективного обеззараживания рук является поддержание их во влажном состоянии в течение рекомендуемого времени обработ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рильные перчатки надевают сразу после полного высыхания антисептика на коже ру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БЩИЕ  РЕКОМЕНДАЦИИ  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РИ  ПРОВЕДЕНИИ  ДЕЗИНФЕКЦИИ  РУК: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стойте на небольшом расстоянии от раковины, чтобы не забрызгаться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мойте руки под умеренной струей комфортно тёплой воды (37-40гр. С), намыливайте мылом до получения обильной пены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тщательно мойте руки в соответствие с методикой, уделяя особое внимание кончикам пальцев ладонной и тыльной стороны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используйте щетку только для чистки ногтей, но не рук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ополаскивайте руки под струей воды так, чтобы вода стекала с кончиков пальцев к запястью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хорошо смывайте остатки мыла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сушите руки одноразовыми бумажными полотенцами, которыми затем закрывайте кран;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не пользуйтесь, как это принято, общим полотенцем, которое обычно не меняется в течение дня;  </a:t>
            </a:r>
            <a:br>
              <a:rPr sz="2200"/>
            </a:b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• используйте после работы смягчающие лосьоны или крем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55640" y="404640"/>
          <a:ext cx="7777080" cy="6172200"/>
        </p:xfrm>
        <a:graphic>
          <a:graphicData uri="http://schemas.openxmlformats.org/drawingml/2006/table">
            <a:tbl>
              <a:tblPr/>
              <a:tblGrid>
                <a:gridCol w="3857760"/>
                <a:gridCol w="3919320"/>
              </a:tblGrid>
              <a:tr h="9162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 Круговым движением тереть ладонь левой кисти кончиками пальцев правой руки, поменять ру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Тереть одну ладонь о другую ладонь возвратно-поступательными движениями. Обработайте ладони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Соединить пальцы одной руки в межпальцевых промежутках другой, тереть внутренние поверхности пальцев движениями вверх и вниз.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Правой ладонью растирать тыльную поверхность левой кисти, поменять ру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Охватить основание большого пальца левой кисти между большим и указательным пальцами правой кисти, вращательное трение. Повторить на запястье. Поменять ру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Соединить пальцы в «замок», тыльной стороной согнутых пальцев растирать ладонь другой руки. Поменять рук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2627280" y="404640"/>
            <a:ext cx="2016000" cy="9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700360" y="1341360"/>
            <a:ext cx="1927080" cy="100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2700360" y="2349360"/>
            <a:ext cx="1871640" cy="102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4"/>
          <a:stretch/>
        </p:blipFill>
        <p:spPr>
          <a:xfrm>
            <a:off x="2627280" y="3357720"/>
            <a:ext cx="1944720" cy="1074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2700360" y="4365720"/>
            <a:ext cx="1871640" cy="1181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" descr=""/>
          <p:cNvPicPr/>
          <p:nvPr/>
        </p:nvPicPr>
        <p:blipFill>
          <a:blip r:embed="rId6"/>
          <a:stretch/>
        </p:blipFill>
        <p:spPr>
          <a:xfrm>
            <a:off x="2556000" y="5589720"/>
            <a:ext cx="2087280" cy="10206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7"/>
          <p:cNvSpPr/>
          <p:nvPr/>
        </p:nvSpPr>
        <p:spPr>
          <a:xfrm>
            <a:off x="1630080" y="59760"/>
            <a:ext cx="588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  <a:ea typeface="TimesNewRomanPSMT"/>
              </a:rPr>
              <a:t>Алгоритм мытья рук по технологии «горного озера»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svin"/>
          <p:cNvPicPr/>
          <p:nvPr/>
        </p:nvPicPr>
        <p:blipFill>
          <a:blip r:embed="rId1"/>
          <a:stretch/>
        </p:blipFill>
        <p:spPr>
          <a:xfrm>
            <a:off x="539640" y="189000"/>
            <a:ext cx="8064720" cy="4968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15772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сё в руках человека. Поэтому их надо как можно чаще мыть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                        (Станислав Ежи Лец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Стандартная методика  </a:t>
            </a:r>
            <a:br>
              <a:rPr sz="4000"/>
            </a:b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обработки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ждое движение повторяется не менее 5 раз. Обработка рук осуществляется в течение 1 минуты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альтернатива частому мытью рук – обработка антисептик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ицинский персонал должен быть обеспечен в достаточном количестве эффективными средствами для мытья и обеззараживания рук, а также средствами для ухода за кожей рук (кремы, лосьоны, бальзамы и др.) для снижения риска возникновения контактных дерматитов. При выборе кожных антисептиков, моющих средств и средств для ухода за кожей рук следует учитывать индивидуальную переносимо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едства, применяемые во фтизиатрических учреждениях должны быть дополнительно исследованы в тестах на туберкулецидную активность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игиеническую обработку рук кожным антисептиком (без их предварительного мытья) проводят путем втирания его в кожу кистей рук в количестве, рекомендуемом инструкцией по применению, обращая особое внимание на обработку кончиков пальцев, кожу вокруг ногтей, между пальцами. Непременным условием эффективного обеззараживания рук является поддержание их во влажном состоянии в течение рекомендуемого времени обработ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использовании дозатора новую порцию антисептика наливают в него после его дезинфекции и промывания водо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280" y="476280"/>
            <a:ext cx="8209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жные антисептики для обработки рук должны быть легко доступны на всех этапах лечебно-диагностического процесса. В подразделениях с высокой интенсивностью ухода за пациентами и с высокой нагрузкой на персонал (отделения реанимации и интенсивной терапии и т.п.) дозаторы с кожными антисептиками для обработки рук должны размещаться в удобных для применения персоналом местах (у входа в палату, у постели больного и др.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ледует также предусматривать возможность обеспечения медицинских работников индивидуальными емкостями (флаконами) небольших объемов (до 200 мл) с кожным антисепти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619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 осуществлять постоянный контроль выполнения требований гигиены рук медицинскими работниками и доводить эту информацию до сведения персонала с целью повышения качества медицинской помощ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_MG_3295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5364000" y="907920"/>
            <a:ext cx="33116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спользование перчат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072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чатки необходимо надевать во всех случаях, когда возможен контакт с кровью или другими биологическими субстратами, потенциально или явно контаминированными микроорганизмами, слизистыми оболочками, поврежденной кож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допускается использование одной и той же пары перчаток при контакте (для ухода) с двумя и более пациентами, при переходе от одного пациента к другому или от контаминированного микроорганизмами участка тела - к чистому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спользование перчаток не устраняет необходимости гигиенической обработки рук. Она очень важна и при работе в перчатках, так как бактерии могут размножаться в тёплой, влажной среде внутри перчатки, кроме того, не исключены разрывы перчаток и передача инфекции пациенту. После снятия перчаток проводят гигиеническую обработку рук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спользование перчат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576072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загрязнении перчаток выделениями, кровью и т.п. во избежание загрязнения рук в процессе их снятия следует тампоном (салфеткой), смоченным раствором дезсредства (или антисептика), убрать видимые загрязнения. Снять перчатки, погрузить их в раствор дезинфектанта,затем утилизировать.  Руки обработать кожным антисептиком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7" descr="456"/>
          <p:cNvPicPr/>
          <p:nvPr/>
        </p:nvPicPr>
        <p:blipFill>
          <a:blip r:embed="rId1"/>
          <a:stretch/>
        </p:blipFill>
        <p:spPr>
          <a:xfrm>
            <a:off x="6300720" y="4076640"/>
            <a:ext cx="2592360" cy="20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Использование перчато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обходимо мыть руки после каждого контакта с пациентом, независимо от использования перчаток. Мыть руки необходимо сразу после того, как сняты перчатки, до и после контакта с пациентом и каждый раз после контакта с кровью, биологическими жидкостями, секретами, выделениями или потенциально контаминированными предметами и оборудован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снятия перчаток и между контактами с пациентами руки моют с мылом или обрабатывают спиртосодержащим кожным антисептик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ерсонал обрабатывает руки спиртосодержащим кожным антисептиком не только до осмотра и перевязки инфицированных пациентов, но и посл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Это интересно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следнее время появились исследования, которые доказывают, что наручные часы, авторучки и мобильные телефоны медицинских работников также являются рассадником микроб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Таким образом, гигиена рук является неотъемлемой частью системы мер по профилактике внутрибольничной инфекции в лечебной организации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уки – это «медицинский инструмент», которым персонал пользуется чаще всего. Но в отличие от обычных медицинских инструментов, руки не могут быть полностью лишены микробов и поэтому их дезинфекция постоянно необходима во время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коже находятся многочисленные микробы разного происхождения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Даже тщательно вымытая кожа содержит много бактерий, принадлежащих физиологической бактериальной флоре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Микрофлора кожи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.</a:t>
            </a:r>
            <a:r>
              <a:rPr b="0" lang="en-US" sz="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Резидентная (нормальная) микрофлор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это микроорганизмы, постоянно живущие и размножающиеся на коже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II. </a:t>
            </a:r>
            <a:r>
              <a:rPr b="0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Транзиторная микрофлора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 – это неколонизирующая микрофлора, приобретённая медицинским персоналом в процессе работы в результате контакта с инфицированными объектами окружающей среды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Патогенная микрофлор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– это микрофлора, вызывающая клинически выраженное заболевание у здоровых людей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Условно-патогенная микрофлора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это микрофлора, вызывающая заболевание только в присутствии специфического предрасполагающего фактор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Tahoma"/>
              </a:rPr>
              <a:t>Микробы – оппортунисты </a:t>
            </a:r>
            <a:r>
              <a:rPr b="0" lang="ru-RU" sz="2200" spc="-1" strike="noStrike">
                <a:solidFill>
                  <a:srgbClr val="ffffff"/>
                </a:solidFill>
                <a:latin typeface="Tahoma"/>
              </a:rPr>
              <a:t>- это микрофлора, вызывающая генерализованное заболевание только у больных с выраженным снижением иммунитет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Микрофлора кожи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Резидентная микрофлора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стимулирует образование антител и препятствует заселению кожи грамотрицательными микроорганизмами. Обитает в роговом слое кожи, находится в волосяных фолликулах, сальных, потовых железах, в области ногтевых валиков, под ногтями, между пальцами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Она преимущественно представлена кокками: эпидермальным и другими видами стафилококков, дифтероидами, пропионбактериями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Ее невозможно полностью удалить при обычном мытье рук и обработке антисептикам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Микрофлора кожи рук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ffff"/>
                </a:solidFill>
                <a:uFillTx/>
                <a:latin typeface="Tahoma"/>
              </a:rPr>
              <a:t>Транзиторная микрофлор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дставлена преимущественно микроорганизмами, находящимися во внешней среде учреждения, опасными в эпидемиологическом отношени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атогенные микроорганизмы (сальмонеллы, шигеллы, ротавирусы, вирусы гепатита А и др.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словно-патогенные микроорганизмы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рамположительные (стафилококки золотистый и эпидермальный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рамотрицательные (кишечная палочка, клебсиеллы, псевдомонады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рибы (кандиды, аспиргиллы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храняется на руках не более 24 часов и может быть удалена путем обычного мытья рук и обработки антисептикам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Микрофлора кожи рук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ее загрязненными участками кожи рук являются: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дногтевое пространство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околоногтевые валики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душечки пальце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иболее сложно промываемыми участками считаются: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одногтевое пространство;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межпальцевые промежутки; 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выемка большого пальца.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53294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ки являются одним из основных факторов передачи возбудителей ВБИ. Через руки персонала передаётся транзиторная патогенная или условно-патогенная микрофлора, микробы-оппортунисты. Возможна контаминация операционной раны и представителями резидентной микрофлоры кож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зинфекция рук является одной из самых эффективных мер по предупреждению ВБИ и по защите пациентов и медицинского персонала от инфицирования. Основа профилактики ВБИ – гигиеническая культура и подготовленность в эпидемиологическом плане на всех этапах работы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Рисунок 19" descr=""/>
          <p:cNvPicPr/>
          <p:nvPr/>
        </p:nvPicPr>
        <p:blipFill>
          <a:blip r:embed="rId1"/>
          <a:stretch/>
        </p:blipFill>
        <p:spPr>
          <a:xfrm>
            <a:off x="5724360" y="1557360"/>
            <a:ext cx="29530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Исторические свед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066920" y="1412640"/>
            <a:ext cx="439236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первые обработка рук раствором карболовой кислоты (фенола) для профилактики раневой инфекции была применена английским хирургом Джозефом Листером в 1867 году. Метод Д. Листера (1827г. – 1912г.) стал триумфом медицины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XIX </a:t>
            </a:r>
            <a:r>
              <a:rPr b="0" lang="ru-RU" sz="2600" spc="-1" strike="noStrike">
                <a:solidFill>
                  <a:srgbClr val="ffffff"/>
                </a:solidFill>
                <a:latin typeface="Tahoma"/>
              </a:rPr>
              <a:t>века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" name="Picture 7" descr="LISTER"/>
          <p:cNvPicPr/>
          <p:nvPr/>
        </p:nvPicPr>
        <p:blipFill>
          <a:blip r:embed="rId1"/>
          <a:stretch/>
        </p:blipFill>
        <p:spPr>
          <a:xfrm>
            <a:off x="971640" y="1700280"/>
            <a:ext cx="266364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4:59:25Z</dcterms:created>
  <dc:creator>Слава</dc:creator>
  <dc:description/>
  <dc:language>en-US</dc:language>
  <cp:lastModifiedBy>Шибанова Наталья Юрьевна</cp:lastModifiedBy>
  <dcterms:modified xsi:type="dcterms:W3CDTF">2018-11-12T03:11:01Z</dcterms:modified>
  <cp:revision>139</cp:revision>
  <dc:subject/>
  <dc:title>Мотивация деятельности сестринского персонала ЛПУ</dc:title>
</cp:coreProperties>
</file>