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631-C3E0-4AD3-8763-24AEDDDE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7CAA-5DD4-489D-A902-5BB01333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614-7D26-4684-981E-754F71C4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807-E32D-4C90-AEA5-1D270A77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EB28-3EC6-4CAB-8260-B4DBB892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DF6-6382-402D-9426-3BAF6E99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BD4-7D56-4372-8CE6-BE3D5A96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D8A-669A-496C-B483-95501E5B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C95-AEDA-4E57-8A2F-A4F0DF7C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C16A-2BA8-47AF-B53F-64E95DA1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BCD-9C62-4A0A-84EB-DF2D40D6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97A-2768-485A-B8D1-F28748C6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84A9-0121-4812-952E-22858AF31A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64;&#208;&#176;&#208;&#185;&#208;&#187;:RobertKoch_cropped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Руки персонала как основа инфекционной безопас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826920" y="5770440"/>
            <a:ext cx="7705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7" descr="okbil"/>
          <p:cNvPicPr/>
          <p:nvPr/>
        </p:nvPicPr>
        <p:blipFill>
          <a:blip r:embed="rId1"/>
          <a:stretch/>
        </p:blipFill>
        <p:spPr>
          <a:xfrm>
            <a:off x="755640" y="1557360"/>
            <a:ext cx="7777080" cy="5040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1187280" y="5013360"/>
            <a:ext cx="69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Роберт Кох (1843г. – 1910г.) – немецкий микробиолог, один из основоположников современной бактериологии и эпидемиологии</a:t>
            </a:r>
            <a:endParaRPr b="0" lang="en-US" sz="2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30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 своих публикациях Кох  выработал принципы «получения доказательств, что тот или иной микроорганизм вызывает определённые заболевания». Эти принципы до сих пор лежат в основе медицинской микробиологии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7" descr="RobertKoch croppe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7480" y="2133720"/>
            <a:ext cx="2919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00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Риски контаминации кожи рук 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(по возрастанию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445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акт с чистыми продезинфицированными или простерилизованными поверхност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ы, не контактировавшие с пациентами (пища, медикамент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ы незначительного контакта с пациентами (мебел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ы тесного контакта с неинфицированными пациентами (постельные принадлежности и бель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циенты и процедуры с незначительным контактом (подсчет пульса, измерение АД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ы, которые вероятно контаминированы микроорганизмами (ванны, душевые кабин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ы, находившиеся в тесном контакте с инфицированными пациентами (постельные принадлежности, постельное и нательное бель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юбые биологические жидкости организма неинфицированного паци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ологические жидкости заведомо инфицированных пациен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чаги инфек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Уровни деконтаминации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(дезинфекции) ру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2400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1989000"/>
          <a:ext cx="8207280" cy="4291200"/>
        </p:xfrm>
        <a:graphic>
          <a:graphicData uri="http://schemas.openxmlformats.org/drawingml/2006/table">
            <a:tbl>
              <a:tblPr/>
              <a:tblGrid>
                <a:gridCol w="3162240"/>
                <a:gridCol w="504504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особ обрабо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ль обработк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тепень деконтаминации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игиеническая обработка ру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даление загрязнений, удаление /уничтожение транзиторной микрофл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работка рук хирурго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даление/уничтожение транзиторной микрофлоры и снижение численности резидентной фл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равила обработки рук персонал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достижения эффективного мытья и обеззараживания рук необходимо соблюдать следующие услов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чистые, коротко подстриженные ногти, отсутствие лака на ногтях, отсутствие искусственных ногтей; ухоженные (без трещин и заусениц) руки, безобрезной (европейский) маникюр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отсутствие на руках колец, перстней и других ювелирных украшений; перед обработкой рук хирургов необходимо снять также часы, браслеты и пр.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рименение жидкого мыла с помощью дозато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применение для высушивания рук чистых тканевых индивидуальных полотенец или бумажных салфеток однократного использования, при обработке рук хирургов – только стерильных тканев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Гигиеническая обработка ру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игиеническую обработку рук кожным антисептиком следует проводить в следующих случаях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еред непосредственным контактом с пациент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перед надеванием стерильных перчаток и после снятия перчаток при постановке центрального внутрисосудистого катетер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еред и после постановки центрального внутрисосудистого, периферических сосудистых и мочевых катетеров или других инвазивных устройств, если эти манипуляции не требуют хирургического вмешатель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сле контакта с неповрежденной кожей пациента (например, при измерении пульса или артериального давления, перекладывании пациента и т.п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сле контакта с секретами или экскретами организма, слизистыми оболочками, повязк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и выполнении различных манипуляций по уходу за пациентом после контакта с контаминированными микроорганизмами участками те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сле контакта с медицинским оборудованием и другими объектами, находящимися в непосредственной близости от паци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Гигиеническая обработка рук проводится двумя способами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гигиеническое мытье рук мылом и водой для удаления загрязнений и снижения количества микроорганизм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обработка рук спиртосодержащим кожным антисептиком для снижения количества микроорганизмов до безопасного уровн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бработка рук хирург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ботку рук хирургов проводят все, участвующие в выполнении оперативных вмешательств, катетеризации магистральных сосудов, пункции суставов, полос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ботка проводится в два этап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 этап - мытье рук мылом и водой в течение двух минут, а затем высушивание стерильным полотенцем (салфеткой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I этап - обработка антисептиком кистей рук, запястий и предплеч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бработка рук хирург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антисептика, необходимое для обработки, кратность обработки и её продолжительность определяются рекомендациями, изложенными в методических указаниях/инструкциях по применению конкретного средства. Непременным условием эффективного обеззараживания рук является поддержание их во влажном состоянии в течение рекомендуемого времени обработ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рильные перчатки надевают сразу после полного высыхания антисептика на коже ру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БЩИЕ  РЕКОМЕНДАЦИИ  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РИ  ПРОВЕДЕНИИ  ДЕЗИНФЕКЦИИ  РУК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тойте на небольшом расстоянии от раковины, чтобы не забрызгаться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мойте руки под умеренной струей комфортно тёплой воды (37-40гр. С), намыливайте мылом до получения обильной пены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тщательно мойте руки в соответствие с методикой, уделяя особое внимание кончикам пальцев ладонной и тыльной стороны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используйте щетку только для чистки ногтей, но не рук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ополаскивайте руки под струей воды так, чтобы вода стекала с кончиков пальцев к запястью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хорошо смывайте остатки мыла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сушите руки одноразовыми бумажными полотенцами, которыми затем закрывайте кран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не пользуйтесь, как это принято, общим полотенцем, которое обычно не меняется в течение дня; 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используйте после работы смягчающие лосьоны или крем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55640" y="404640"/>
          <a:ext cx="7777080" cy="6172200"/>
        </p:xfrm>
        <a:graphic>
          <a:graphicData uri="http://schemas.openxmlformats.org/drawingml/2006/table">
            <a:tbl>
              <a:tblPr/>
              <a:tblGrid>
                <a:gridCol w="3857760"/>
                <a:gridCol w="3919320"/>
              </a:tblGrid>
              <a:tr h="91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Круговым движением тереть ладонь левой кисти кончиками пальцев правой руки, поменять ру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Тереть одну ладонь о другую ладонь возвратно-поступательными движениями. Обработайте ладони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Соединить пальцы одной руки в межпальцевых промежутках другой, тереть внутренние поверхности пальцев движениями вверх и вниз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Правой ладонью растирать тыльную поверхность левой кисти, поменять ру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Охватить основание большого пальца левой кисти между большим и указательным пальцами правой кисти, вращательное трение. Повторить на запястье. Поменять ру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Соединить пальцы в «замок», тыльной стороной согнутых пальцев растирать ладонь другой руки. Поменять ру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2016000" cy="9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700360" y="1341360"/>
            <a:ext cx="192708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2700360" y="2349360"/>
            <a:ext cx="1871640" cy="102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2627280" y="3357720"/>
            <a:ext cx="1944720" cy="1074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2700360" y="4365720"/>
            <a:ext cx="1871640" cy="118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"/>
          <p:cNvPicPr/>
          <p:nvPr/>
        </p:nvPicPr>
        <p:blipFill>
          <a:blip r:embed="rId6"/>
          <a:stretch/>
        </p:blipFill>
        <p:spPr>
          <a:xfrm>
            <a:off x="2556000" y="5589720"/>
            <a:ext cx="2087280" cy="1020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630080" y="59760"/>
            <a:ext cx="588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TimesNewRomanPSMT"/>
              </a:rPr>
              <a:t>Алгоритм мытья рук по технологии «горного озера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vin"/>
          <p:cNvPicPr/>
          <p:nvPr/>
        </p:nvPicPr>
        <p:blipFill>
          <a:blip r:embed="rId1"/>
          <a:stretch/>
        </p:blipFill>
        <p:spPr>
          <a:xfrm>
            <a:off x="539640" y="189000"/>
            <a:ext cx="8064720" cy="4968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15772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сё в руках человека. Поэтому их надо как можно чаще мыть.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                         (Станислав Ежи Лец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тандартная методика 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бработки ру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ое движение повторяется не менее 5 раз. Обработка рук осуществляется в течение 1 минут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альтернатива частому мытью рук – обработка антисепти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цинский персонал должен быть обеспечен в достаточном количестве эффективными средствами для мытья и обеззараживания рук, а также средствами для ухода за кожей рук (кремы, лосьоны, бальзамы и др.) для снижения риска возникновения контактных дерматитов. При выборе кожных антисептиков, моющих средств и средств для ухода за кожей рук следует учитывать индивидуальную переносим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ства, применяемые во фтизиатрических учреждениях должны быть дополнительно исследованы в тестах на туберкулецидную активн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гиеническую обработку рук кожным антисептиком (без их предварительного мытья) проводят путем втирания его в кожу кистей рук в количестве, рекомендуемом инструкцией по применению, обращая особое внимание на обработку кончиков пальцев, кожу вокруг ногтей, между пальцами. Непременным условием эффективного обеззараживания рук является поддержание их во влажном состоянии в течение рекомендуемого времени обработ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использовании дозатора новую порцию антисептика наливают в него после его дезинфекции и промывания во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жные антисептики для обработки рук должны быть легко доступны на всех этапах лечебно-диагностического процесса. В подразделениях с высокой интенсивностью ухода за пациентами и с высокой нагрузкой на персонал (отделения реанимации и интенсивной терапии и т.п.) дозаторы с кожными антисептиками для обработки рук должны размещаться в удобных для применения персоналом местах (у входа в палату, у постели больного и др.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едует также предусматривать возможность обеспечения медицинских работников индивидуальными емкостями (флаконами) небольших объемов (до 200 мл) с кожным антисептик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619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ходимо осуществлять постоянный контроль выполнения требований гигиены рук медицинскими работниками и доводить эту информацию до сведения персонала с целью повышения качества медицинской помощ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_MG_3295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64000" y="907920"/>
            <a:ext cx="3311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Использование перчато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072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чатки необходимо надевать во всех случаях, когда возможен контакт с кровью или другими биологическими субстратами, потенциально или явно контаминированными микроорганизмами, слизистыми оболочками, поврежденной кож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допускается использование одной и той же пары перчаток при контакте (для ухода) с двумя и более пациентами, при переходе от одного пациента к другому или от контаминированного микроорганизмами участка тела - к чисто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перчаток не устраняет необходимости гигиенической обработки рук. Она очень важна и при работе в перчатках, так как бактерии могут размножаться в тёплой, влажной среде внутри перчатки, кроме того, не исключены разрывы перчаток и передача инфекции пациенту. После снятия перчаток проводят гигиеническую обработку рук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Использование перчато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576072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загрязнении перчаток выделениями, кровью и т.п. во избежание загрязнения рук в процессе их снятия следует тампоном (салфеткой), смоченным раствором дезсредства (или антисептика), убрать видимые загрязнения. Снять перчатки, погрузить их в раствор дезинфектанта,затем утилизировать.  Руки обработать кожным антисептик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456"/>
          <p:cNvPicPr/>
          <p:nvPr/>
        </p:nvPicPr>
        <p:blipFill>
          <a:blip r:embed="rId1"/>
          <a:stretch/>
        </p:blipFill>
        <p:spPr>
          <a:xfrm>
            <a:off x="6300720" y="4076640"/>
            <a:ext cx="259236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Использование перчато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ходимо мыть руки после каждого контакта с пациентом, независимо от использования перчаток. Мыть руки необходимо сразу после того, как сняты перчатки, до и после контакта с пациентом и каждый раз после контакта с кровью, биологическими жидкостями, секретами, выделениями или потенциально контаминированными предметами и оборудова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снятия перчаток и между контактами с пациентами руки моют с мылом или обрабатывают спиртосодержащим кожным антисептик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сонал обрабатывает руки спиртосодержащим кожным антисептиком не только до осмотра и перевязки инфицированных пациентов, но и пос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Это интересн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оследнее время появились исследования, которые доказывают, что наручные часы, авторучки и мобильные телефоны медицинских работников также являются рассадником микроб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ким образом, гигиена рук является неотъемлемой частью системы мер по профилактике внутрибольничной инфекции в лечебной организац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ки – это «медицинский инструмент», которым персонал пользуется чаще всего. Но в отличие от обычных медицинских инструментов, руки не могут быть полностью лишены микробов и поэтому их дезинфекция постоянно необходима во время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коже находятся многочисленные микробы разного происхождени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Даже тщательно вымытая кожа содержит много бактерий, принадлежащих физиологической бактериальной флор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Микрофлора кожи ру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.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Резидентная (нормальная) микрофлор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это микроорганизмы, постоянно живущие и размножающиеся на коже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I.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Транзиторная микрофлор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это неколонизирующая микрофлора, приобретённая медицинским персоналом в процессе работы в результате контакта с инфицированными объектами окружающей сред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Патогенная микрофлора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это микрофлора, вызывающая клинически выраженное заболевание у здоровых люде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Условно-патогенная микрофлора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- это микрофлора, вызывающая заболевание только в присутствии специфического предрасполагающего фактор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Микробы – оппортунисты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- это микрофлора, вызывающая генерализованное заболевание только у больных с выраженным снижением иммунитет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Микрофлора кожи ру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Резидентная микрофлора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тимулирует образование антител и препятствует заселению кожи грамотрицательными микроорганизмами. Обитает в роговом слое кожи, находится в волосяных фолликулах, сальных, потовых железах, в области ногтевых валиков, под ногтями, между пальцами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на преимущественно представлена кокками: эпидермальным и другими видами стафилококков, дифтероидами, пропионбактериями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Ее невозможно полностью удалить при обычном мытье рук и обработке антисептикам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Микрофлора кожи ру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Транзиторная микрофлор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лена преимущественно микроорганизмами, находящимися во внешней среде учреждения, опасными в эпидемиологическом отношен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огенные микроорганизмы (сальмонеллы, шигеллы, ротавирусы, вирусы гепатита А и д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ловно-патогенные микроорганизмы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рамположительные (стафилококки золотистый и эпидермальный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рамотрицательные (кишечная палочка, клебсиеллы, псевдомонад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рибы (кандиды, аспиргилл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храняется на руках не более 24 часов и может быть удалена путем обычного мытья рук и обработки антисептикам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Микрофлора кожи ру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более загрязненными участками кожи рук являются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дногтевое пространство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колоногтевые валики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душечки пальце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более сложно промываемыми участками считаются: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дногтевое пространство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межпальцевые промежутки;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выемка большого пальца.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5329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и являются одним из основных факторов передачи возбудителей ВБИ. Через руки персонала передаётся транзиторная патогенная или условно-патогенная микрофлора, микробы-оппортунисты. Возможна контаминация операционной раны и представителями резидентной микрофлоры ко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зинфекция рук является одной из самых эффективных мер по предупреждению ВБИ и по защите пациентов и медицинского персонала от инфицирования. Основа профилактики ВБИ – гигиеническая культура и подготовленность в эпидемиологическом плане на всех этапах работ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Рисунок 19" descr=""/>
          <p:cNvPicPr/>
          <p:nvPr/>
        </p:nvPicPr>
        <p:blipFill>
          <a:blip r:embed="rId1"/>
          <a:stretch/>
        </p:blipFill>
        <p:spPr>
          <a:xfrm>
            <a:off x="5724360" y="1557360"/>
            <a:ext cx="29530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Исторические свед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066920" y="1412640"/>
            <a:ext cx="4392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первые обработка рук раствором карболовой кислоты (фенола) для профилактики раневой инфекции была применена английским хирургом Джозефом Листером в 1867 году. Метод Д. Листера (1827г. – 1912г.) стал триумфом медицины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XIX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ека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7" descr="LISTER"/>
          <p:cNvPicPr/>
          <p:nvPr/>
        </p:nvPicPr>
        <p:blipFill>
          <a:blip r:embed="rId1"/>
          <a:stretch/>
        </p:blipFill>
        <p:spPr>
          <a:xfrm>
            <a:off x="971640" y="1700280"/>
            <a:ext cx="266364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4:59:25Z</dcterms:created>
  <dc:creator>Слава</dc:creator>
  <dc:description/>
  <dc:language>en-US</dc:language>
  <cp:lastModifiedBy>Шибанова Наталья Юрьевна</cp:lastModifiedBy>
  <dcterms:modified xsi:type="dcterms:W3CDTF">2018-11-12T03:11:01Z</dcterms:modified>
  <cp:revision>139</cp:revision>
  <dc:subject/>
  <dc:title>Мотивация деятельности сестринского персонала ЛПУ</dc:title>
</cp:coreProperties>
</file>