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B2D9FA-BF0F-4F00-BBD4-9490DCBBE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AB32A8-5488-4DD0-9D15-807AAFB7BE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EDEC-D82E-42D6-8141-4D78DB31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FC9E-D651-4AC8-89AE-F7AE39C6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16D6-21FB-4C23-A404-A6DB57BF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D372-8A77-42AD-B164-A5C6B021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E7CB-59C6-4B67-AA98-FBD48A75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92F7-3A07-4DEC-A4A4-323AD4CC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E4F9-5DAE-4ED7-BA6D-1598B269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D44C-4184-49E8-8293-C05A5D3C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F35E-B7FA-4FF7-B960-ED443753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E1C1-048C-4863-8CB7-308E1B19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92B9-725D-491B-824C-180AFC1A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76D6-BF0B-4F9D-B78B-3DA2BC2C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0A4F-1C17-4DEF-B374-65B38127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E59B-7EEB-4346-8A0B-D4E90AB4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78EF-BA08-400B-BCEB-270AC703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C787-578D-41FB-98F6-FCE6A8BA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A8CE-CD6A-4F8D-A06A-BE6ECD8F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9C846-79DE-4AFC-9BB2-AA8F4CF2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88ECA-CA7D-4D8E-AC70-471E3E6E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8F95A-18B7-4412-845D-35C5D1EB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E2F64-B85B-4884-8C74-EA3FFCA6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D678C-D90B-4A8F-921E-1DEB675E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594-7ED9-4BEE-8033-0963B917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2327C-72F1-4435-8521-578BDC87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7EA77-FDB0-4B54-A20F-0292172F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84F44-07CC-4739-B38B-AD9237F1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B87BF-A65B-452F-B8E0-0838708D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0E261-F837-47EB-B611-C4C988EE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4BAC5-BEA6-4C48-8415-EDBEE10F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61768-418F-41A6-A2C8-6237262E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89C5-F984-4B18-80D5-729AFB2F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81C-EBFE-46C5-803F-9223B898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86A-A791-4FDB-96AF-1790D5B2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8F4A-20D9-4F47-98EC-F30733C5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3BFF-DC28-464C-B748-3931B151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5E28-C8B5-4713-92DD-007587D5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34304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6"/>
          <p:cNvSpPr>
            <a:spLocks noGrp="1"/>
          </p:cNvSpPr>
          <p:nvPr>
            <p:ph type="sldNum" idx="3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518532-6990-4155-BDB1-1940D7DBF132}" type="slidenum">
              <a:rPr b="0" lang="ru-RU" sz="1200" spc="-1" strike="noStrike">
                <a:solidFill>
                  <a:srgbClr val="d38e2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C3BC6B-4F5D-4EBC-AB7F-D10D54E7B8C2}" type="slidenum">
              <a:rPr b="0" lang="ru-RU" sz="1200" spc="-1" strike="noStrike">
                <a:solidFill>
                  <a:srgbClr val="d38e2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6E767B-05B1-438C-8F41-8C991BD791F0}" type="slidenum">
              <a:rPr b="0" lang="ru-RU" sz="1200" spc="-1" strike="noStrike">
                <a:solidFill>
                  <a:srgbClr val="d38e2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ЛЕКЦИЯ</a:t>
            </a: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56640"/>
            <a:ext cx="4330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322200" indent="0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ТЕМА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: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Диагностика и самодиагностика состояния организма при регулярных занятиях физическими упражнениями и спортом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41" name="Picture 2" descr="C:\Users\Надя\Desktop\i.jpg"/>
          <p:cNvPicPr/>
          <p:nvPr/>
        </p:nvPicPr>
        <p:blipFill>
          <a:blip r:embed="rId1"/>
          <a:stretch/>
        </p:blipFill>
        <p:spPr>
          <a:xfrm>
            <a:off x="4428000" y="1268640"/>
            <a:ext cx="4491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799272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едицинское обслуживание массовых оздоровительных, физкультурных и спортивных мероприятий, а также мероприятий, проводимых в оздоровительно-спортивных лагерях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анитарно-просветительная работа и пропаганда физической культуры и спорта в вузе.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ПЕДАГОГИЧЕСКИЙ КОНТРОЛЬ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Педагогический контроль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- планомерный процесс получения информации о физическом состоянии занимающихся физической культурой и спортом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водится для того, чтобы проверить насколько соответствует педагогическое воздействие повышению эффективности учебно-тренировочных занятий. </a:t>
            </a: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Содержание педагогического контроля: 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онтроль за посещаемостью занятий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онтроль за тренировочными нагрузками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онтроль за состоянием занимающихся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онтроль за техникой упражнений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чет спортивных результатов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онтроль за поведением во время соревнований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Задачи</a:t>
            </a:r>
            <a:r>
              <a:rPr b="0" lang="ru-RU" sz="2400" spc="-1" strike="noStrike" cap="all">
                <a:solidFill>
                  <a:srgbClr val="4e3b30"/>
                </a:solidFill>
                <a:latin typeface="Franklin Gothic Medium"/>
              </a:rPr>
              <a:t> </a:t>
            </a: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педагогического контроля: </a:t>
            </a:r>
            <a:br>
              <a:rPr sz="24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240" cy="57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ценить эффективность применяемых средств и методов тренировки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ыполнить план тренировки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становить контрольные нормативы, оценивающие физическую, техническую, тактическую, теоретическую подготовленность спортсменов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ыявить динамику развития спортивных результатов и спрогнозировать достижения отдельных спортсменов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тобрать талантливых спортсменов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Виды педагогического контроля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оэтапный - оценивать состояние спортивно-технической и тактической подготовки занимающихся на конкретном этапе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екущий - определять повседневные изменения в подготовке занимающихся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перативный - экспресс-оценка того состояния, в котором находится занимающийся в данный момент. </a:t>
            </a: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353080" cy="12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Специалисты различают три типа состояний занимающихся физической культурой 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569080" cy="51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Перманентные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- сохраняющиеся в течение длительного периода времени (состояние спортивной формы организма, уровня его тренированности)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Текущие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- с изменениями в процессе одного или нескольких занятий (состояние повышенной или пониженной работоспособности)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Оперативные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- изменяющиеся под влиянием конкретных физических упражнений (утомление после однократного пробегании дистанции или повышение работоспособности после разминки и т.п.)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Методы педагогического контроля: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2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Анкетирование занимающихся и тренеров-преподавателей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Анализ рабочей документации учебно-тренировочного процесса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едагогические наблюдения во время занятий, регистрация функциональных и других показателей, характеризующих деятельность занимающегося физическими упражнениями непосредственно на занятиях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естирование различных сторон подготовленности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боснованное прогнозирование спортивной работоспособности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240" cy="94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Врачебно-педагогический контроль, его содержание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624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Врачебно-педагогический контроль — это исследования, проводимые совместно врачом и тренером для того, чтобы определить, как воздействуют на организм спортсмена тренировочные нагрузки, с целью предупредить переутомление и развитие патологических изменений, приводящих к заболеваниям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 помощью врачебно-педагогического контроля можно выявить срочный, отставленный и кумулятивный тренировочные эффекты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Самоконтроль, его цели, задачи и методы исследования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Самоконтроль — регулярные наблюдения за состоянием своего здоровья, физическим развитием и физической подготовкой и их изменениями под влиянием регулярных занятий упражнениями и спортом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44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2400" spc="-1" strike="noStrike" cap="all">
                <a:solidFill>
                  <a:srgbClr val="4e3b30"/>
                </a:solidFill>
                <a:latin typeface="Franklin Gothic Medium"/>
              </a:rPr>
              <a:t>  </a:t>
            </a:r>
            <a:r>
              <a:rPr b="0" i="1" lang="ru-RU" sz="2400" spc="-1" strike="noStrike" cap="all">
                <a:solidFill>
                  <a:srgbClr val="4e3b30"/>
                </a:solidFill>
                <a:latin typeface="Franklin Gothic Medium"/>
              </a:rPr>
              <a:t>Цель самоконтроля </a:t>
            </a:r>
            <a:r>
              <a:rPr b="0" lang="ru-RU" sz="2400" spc="-1" strike="noStrike" cap="all">
                <a:solidFill>
                  <a:srgbClr val="4e3b30"/>
                </a:solidFill>
                <a:latin typeface="Franklin Gothic Medium"/>
              </a:rPr>
              <a:t>— самостоятельные регулярные наблюдения простыми и доступными способами за физическим развитием, состоянием своего организма, влиянием на него физических упражнений или конкретного вида спорта.</a:t>
            </a: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240" cy="41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Задачи самоконтроля: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Расширить знания о физическом развитии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иобрести навыки в оценивании психофизической подготовки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знакомиться с простейшими доступными методиками самоконтроля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пределить уровень физического развития, тренированности и здоровья, чтобы корректировать нагрузку при занятиях физической культурой и спортом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13440" cy="20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4e3b30"/>
                </a:solidFill>
                <a:latin typeface="Franklin Gothic Medium"/>
              </a:rPr>
              <a:t>ДИАГНОСТИКА И САМОДИАГНОСТИКА ОРГАНИЗМА ПРИ РЕГУЛЯРНЫХ ЗАНЯТИЯХ ФИЗИЧЕСКИМИ УПРАЖНЕНИЯМИ И СПОРТОМ </a:t>
            </a:r>
            <a:br>
              <a:rPr sz="2800"/>
            </a:br>
            <a:br>
              <a:rPr sz="2800"/>
            </a:b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2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Диагностика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- это процесс распознавания и оценки индивидуальных биологических и социальных особенностей человека, истолкование и обобщение полученных данных о здоровье и заболевании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олько правильно организованные занятия с соблюдением принципов физического воспитания и спортивной тренировки под наблюдением преподавателя и врача укрепляют здоровье, улучшают физическое развитие, повышают физическую подготовленность и работоспособность организма человека, способствует росту спортивного мастерств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Дневник самоконтроля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2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Результаты самоконтроля записываются в специальный дневник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 дневнике рекомендуется регулярно регистрировать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субъективные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(самочувствие, сон, аппетит, работоспобность и др.) и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объективные данные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(вес, пульс, тренировочные нагрузки и др.)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и занятиях физической культурой по учебной программе, а также в группах здоровья и при самостоятельных занятиях, можно ограничиться такими показателями, как самочувствие, сон, аппетит, болевые ощущения, пульс, вес, тренировочные нагрузки, нарушение режима, спортивные результаты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776720" cy="6479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Дневник самоконтроля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240" cy="49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Данные самоконтроля помогают преподавателю, тренеру, инструктору и самим занимающимся контролировать и регулировать правильность подбора средств и методов проведения физкультурно-оздоровительных и учебно-тренировочных занятий, т.е. определенным образом управлять этими процессами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писи  результатов показывают, правильно или неправильно применяются средства и методы тренировочных занятий. Их анализ может выявить дополнительные резервы для роста физической подготовленности и спортивного мастерства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 cap="all">
                <a:solidFill>
                  <a:srgbClr val="4e3b30"/>
                </a:solidFill>
                <a:latin typeface="Franklin Gothic Medium"/>
              </a:rPr>
              <a:t>Субъективные показатели самоконтроля</a:t>
            </a: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 u="sng">
                <a:solidFill>
                  <a:srgbClr val="4e3b30"/>
                </a:solidFill>
                <a:uFillTx/>
                <a:latin typeface="Times New Roman"/>
              </a:rPr>
              <a:t>Настроение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Очень существенный показатель, отражающий психическое состояние занимающихся. Занятия всегда должны доставлять удовольствие. Настроение можно считать - хорошим, когда уверен в себе, спокоен, жизнерадостен; удовлетворительным - при неустойчивом эмоциональном состоянии и неудовлетворительным, когда человек расстроен, растерян, подавлен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 cap="all">
                <a:solidFill>
                  <a:srgbClr val="4e3b30"/>
                </a:solidFill>
                <a:latin typeface="Franklin Gothic Medium"/>
              </a:rPr>
              <a:t>Субъективные показатели самоконтроля</a:t>
            </a: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 u="sng">
                <a:solidFill>
                  <a:srgbClr val="4e3b30"/>
                </a:solidFill>
                <a:uFillTx/>
                <a:latin typeface="Times New Roman"/>
              </a:rPr>
              <a:t>Самочувствие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Является одним из важных показателей оценки физического состояния, влияния физических упражнений на организм. У занимающихся плохое самочувствие, как правило, бывает при заболеваниях или при несоответствии функциональных возможностей организма уровню выполняемой физической нагрузки. Самочувствие может быть хорошее (ощущение силы и бодрости, желание заниматься), удовлетворительным (вялость, упадок сил, неудовлетворительное (заметная слабость, утомление, головные боли, повышение ЧСС и артериального давления в покое и др.)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 cap="all">
                <a:solidFill>
                  <a:srgbClr val="4e3b30"/>
                </a:solidFill>
                <a:latin typeface="Franklin Gothic Medium"/>
              </a:rPr>
              <a:t>Субъективные показатели самоконтроля</a:t>
            </a: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240" cy="54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Сон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 дневнике отмечается продолжительность и глубина сна, его нарушения (трудное засыпание, беспокойный сон, бессонница, недосыпание и др.)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Аппетит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тмечается хороший, удовлетворительный, пониженный, плохой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Болевые ощущения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боли в мышцах, головные боли, боли в правом или левом боку и в области сердца могут наступать при нарушениях режима дня, при общем утомлении организма, при форсировании тренировочных нагрузок и т.п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br>
              <a:rPr sz="2400"/>
            </a:b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Субъективные показатели самоконтроля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240" cy="49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Утомление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то физиологическое состояние организма, проявляющееся в снижении работоспособности в результате проведенной работы. Оно является средством тренировки и повышения работоспособности. В норме утомление должно проходить через 2-3 часа после занятий. Если оно держится дольше, это говорит о неадекватности подобранной физической нагрузки. С утомлением следует бороться тогда, когда оно начинает переходить в переутомление, те.  когда утомление не исчезает на следующее утро после тренировки. Примерная схема внешних признаков утомления  приведена в табл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355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4e3b30"/>
                </a:solidFill>
                <a:latin typeface="Franklin Gothic Medium"/>
              </a:rPr>
              <a:t>Таблица - Внешние признаки утомления при занятиях физическими упражнениями (по Н.Б. Танбиану)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Содержимое 3"/>
          <p:cNvGraphicFramePr/>
          <p:nvPr/>
        </p:nvGraphicFramePr>
        <p:xfrm>
          <a:off x="179280" y="1052640"/>
          <a:ext cx="8712720" cy="6134400"/>
        </p:xfrm>
        <a:graphic>
          <a:graphicData uri="http://schemas.openxmlformats.org/drawingml/2006/table">
            <a:tbl>
              <a:tblPr/>
              <a:tblGrid>
                <a:gridCol w="1889640"/>
                <a:gridCol w="1609560"/>
                <a:gridCol w="2029320"/>
                <a:gridCol w="3183840"/>
              </a:tblGrid>
              <a:tr h="49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Признак устал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Степень утомля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не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значи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резкая (больша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</a:tr>
              <a:tr h="628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Окраска ко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Небольшое покрас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Значительное покрас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Резкое покраснение или побледнение, синюш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</a:tr>
              <a:tr h="73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Потлив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Не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Большая (плечевой поя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Очень большая (все туловище), появление соли на висках, на рубашке, май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</a:tr>
              <a:tr h="73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Дви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Быстрая похо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Неуверенный шаг, покачи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Резкие покачивания, отставание при ходьбе, беге, в альпинистких походах, на марш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</a:tr>
              <a:tr h="93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Вним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Хорошее, безошибочное выполнение указ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Неточность в выполнении команды, ошибки при перемене направ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Замедленное выполнение команд, воспринимаются только громкие коман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</a:tr>
              <a:tr h="114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Самочув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Никаких жало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Жалобы на усталость, боли в ногах, одышку, сердцеби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Жалобы на усталость, боли в ногах, одышку, головную боль, "жжение" в груди, тошноту, и даже рвоту. Такое состояние держится долго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Объективные показатели самоконтроля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ес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ульс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пирометрия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Частота дыхания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Артериальное давление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Динамометрия и  т. д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Пульс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Пульс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- важный показатель состояния организма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бычно на учебных занятиях по физической культуре частота сердечных сокращений при средней нагрузке достигает 130-150 ударов в минуту. На спортивных тренировках, при значительных физических усилиях частота сердечных сокращений достигает 180-200 и даже больше ударов в минуту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5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Виды диагностики, ее цели и задачи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240" cy="47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Основные виды диагностики: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врачебный контроль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диспансеризация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врачебно-педагогический контроль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самоконтроль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endParaRPr b="0" lang="ru-RU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Цель диагностики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способствовать укреплению здоровья человека, его гармоничному развитию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Вес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Для определения нормального веса используются различные весо-ростовые индексы. В практике широко используют индекс Брока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Нормальный вес тела для людей ростом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т 155 до 165 см = длина тела –100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165  -  175 см = длина тела -105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175 и выше см = длина тела -110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Tahoma"/>
              </a:rPr>
              <a:t>Примерный вес мужчин и женщин (в кг) в зависимости от роста и возраста</a:t>
            </a:r>
            <a:br>
              <a:rPr sz="2000"/>
            </a:b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Содержимое 9"/>
          <p:cNvGraphicFramePr/>
          <p:nvPr/>
        </p:nvGraphicFramePr>
        <p:xfrm>
          <a:off x="395280" y="1125360"/>
          <a:ext cx="8424360" cy="5687640"/>
        </p:xfrm>
        <a:graphic>
          <a:graphicData uri="http://schemas.openxmlformats.org/drawingml/2006/table">
            <a:tbl>
              <a:tblPr/>
              <a:tblGrid>
                <a:gridCol w="1436400"/>
                <a:gridCol w="1618920"/>
                <a:gridCol w="1758600"/>
                <a:gridCol w="1850760"/>
                <a:gridCol w="1758600"/>
              </a:tblGrid>
              <a:tr h="379080"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нщ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ж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 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2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 - 4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2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-4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с в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с в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с в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с в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760"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,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 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,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,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,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,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,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,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,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,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,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,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,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,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Частота дыхания (ЧД) и ЖЕЛ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36244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Дыхание в покое должно быть ритмичным и глубоким. В норме частота дыхания у взрослого человека 14-18 раз в минуту. При нагрузке увеличивается в 2-2, 5 раза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ажным показателем функции дыхания является жизненная емкость легких (ЖЕП) - объем воздуха, полученный при максимальном выдохе, сделанном после максимального вдо­ха. В норме у женщин 2, 5 - 4 л, у мужчин равна 3, 5-5 л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395280" y="846720"/>
            <a:ext cx="8424360" cy="6063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16000" indent="181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териальное давление (АД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олическое давление (макс) - это давление в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иод систолы (сокращения)  сердца, когда он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игает наибольшей величины на протяжен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дечного цик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столическое давление (мин) - определяется к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цу диастолы (расслабления) сердца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о на протяжении сердечного цикла достиг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нимальной вел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мирная организация здравоохранения предлагае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читать нормальными цифрами артериальное давлен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систолического (макс.) - 100 - 140 мм рт. ст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 диастолического 80-90 мм рт. 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Артериальное давление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Функциональные пробы и тесты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240" cy="48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доровье, функциональное состояние и тренированность спортсмена можно определить с помощью функциональных проб и контрольных упражнений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Функциональные пробы бывают: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бщие (неспецифические)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о специфическими нагрузками, которые проводятся, как правило, в естественных условиях спортивной деятельности с нагрузками различной интенсивности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Методы стандартов, антропометрических индексов, номограмм, функциональных проб, упражнений, тестов для оценки физического развития и физической подготовленности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240" cy="42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Ростовой индекс определяет соотношение роста в сантиметрах и массы в килограммах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есоростовой показатель вычисляется делением массы тела (в граммах) на его длину (в сантиметрах)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Жизненный индекс определяется делением цифры, обозначающей жизненную емкость легких, на массу тела (в граммах)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иловой индекс — это отношение силы кисти более сильной руки (в килограммах) к массе тела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20872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Индекс пропорциональности между ростом и окружностью грудной клетки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порциональность между ростом и шириной плеч определяется отношением ширины плеч к росту (в сантиметрах)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Индекс пропорциональности развития грудной клетки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оказатель крепости телосложения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оэффициент пропорциональности (КП)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47640" y="620640"/>
            <a:ext cx="8496000" cy="54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Физиологическая проба: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онтроль за частотой сердечных сокращений (ЧСС)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ба Штанге (задержка дыхания на вдохе)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ртостатическая проба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ба Генчи (задержка дыхания на выдохе)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Проба Штанге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24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ба Штанге (задержка дыхания на вдохе). После 5-ти минут отдыха сидя сделать 2-3 глубоких вдоха и выдоха, а затем, сделав полный вдох  задерживают дыхание, время отмечается от момента задержки дыхания до ее прекращения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редним показателем является способность задержать дыхание на вдохе для нетренированных людей на 40-55 секунд, для тренированных - на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60-90 сек и более. С нарастанием тренированности время задержки дыхания возрастает,  при заболевании или переутомлении это время снижается до 30-35 секунд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та проба характеризует устойчивость организма к недостатку кислорода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Проба  Генчи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ба  Генчи (задержка дыхания на выдохе). Выполняется также, как и проба Штанге, только задержка дыхания производится после полного выдоха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десь средним показателем является способность задержать дыхание на выдохе для нетренированных людей на 25-30 сек., для тренированных на 40-60 сек. и более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69080" cy="11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 </a:t>
            </a: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Перед </a:t>
            </a: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диагностикой</a:t>
            </a: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 стоят следующие задачи: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424360" cy="58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endParaRPr b="0" lang="ru-RU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just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Регулярно проводить врачебный контроль за состоянием здоровья всех лиц, занимающихся физической культурой и спортом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just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ценивать эффективность применяемых средств и методов учебно-тренировочных занятий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just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ыполнять план учебно-тренировочных занятий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just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становить контрольные нормативы для оценки подготовленности спортсменов с точки зрения физической, технической, тактической, морально-волевой и теоретической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just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гнозировать достижения отдельных спортсменов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just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ыявлять динамику развития спортивных результатов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just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тбирать талантливых спортсменов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280000" cy="56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Тестирование как применение контрольных нормативов.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бязательные тесты: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Бег на 100м (показатель качества быстроты)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одтягивание для студентов, поднимание и опускание туловища из положения лежа для студенток (показатель силовой подготовленности)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Бег на 2000м для студенток и на 3000м для студентов (показатель выносливости)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 начале учебного года тесты проводятся как контрольные, в конце — как фиксирующие изменения за прошедший учебный год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395280" y="-686160"/>
            <a:ext cx="8208720" cy="835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152280" anchor="ctr">
            <a:spAutoFit/>
          </a:bodyPr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Здоровый образ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Физическая культура в обеспечении  здор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Основные пон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Здоровье человека как ценность ее факторы, определяющ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здоровый образ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Режим труда и отды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Режим 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Активная мышечная деятельность (физическая нагруз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Закаливание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Гигиенические основы 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Профилактика вредных привы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Рациональное пит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713440" cy="15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Врачебный контроль как условие допуска к занятиям физическими упражнениями</a:t>
            </a:r>
            <a:br>
              <a:rPr sz="2800"/>
            </a:b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и спортом, его содержание и периодичность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353080" cy="48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Врачебный контроль — это комплексное медицинское обследование физического развития и функциональной подготовленности занимающихся физкультурой и спортом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сновная форма врачебного контроля — врачебное обследование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Периодичность врачебного контроля или осмотра зависит от квалификации, а также от видов спорта.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нимающиеся спортом, — 2  раза в год, а студенты, отнесенные по состоянию здоровья к</a:t>
            </a: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пециальной медицинской группе, — 1 раз в семестр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250920" y="2834640"/>
            <a:ext cx="8713440" cy="45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Врачебное обследование подразделяется на первичное, повторное и дополнительное. 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713440" cy="52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endParaRPr b="0" lang="ru-RU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Первичное обследование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водится, чтобы решить вопрос о допуске к регулярным занятиям физическими упражнениями и спортом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Повторное врачебное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бследование проводится, чтобы убедиться, насколько соответствует объем и интенсивность нагрузки состоянию здоровья, а также для того, чтобы корректировать учебно-тренировочный процесс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Дополнительные врачебные обследования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водятся для того, чтобы решить вопрос о возможности приступить к тренировкам после перенесенных заболеваний или травм, при неблагоприятных субъективных ощущениях, а также перед соревнованиями по направлению преподавателя физического воспитания или тренера. </a:t>
            </a: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Диспансеризация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240" cy="49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глубленной формой врачебного наблюдения является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диспансеризация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- система мероприятий по укреплению здоровья и длительному сохранению высокой спортивной работоспособности, направляемая на то, чтобы предупредить и выявить ранние признаки нарушения здоровья и функционального состояния.</a:t>
            </a: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 </a:t>
            </a: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Врачебный контроль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ероприятия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врачебного контроля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направлены на исключение условий, при которых может иметь место отрицательное воздействие занятий физическими упражнениями и спортом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0000"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Врачебный контроль</a:t>
            </a: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 в вузе проводится в следующих формах: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69080" cy="50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Регулярные медицинские обследования занимающихся физической культурой и спортом (первичные, повторные, дополнительные)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рачебно-педагогические наблюдения за студентами во время занятий и соревнований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едицинское обеспечение физического воспитания студентов в учебных отделениях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анитарно-гигиенический контроль за местами и условиями проведения занятий и спортивных соревнований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едупреждение спортивного травматизма и заболеваемости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687</TotalTime>
  <Application>LibreOffice/7.4.7.2$Linux_X86_64 LibreOffice_project/40$Build-2</Application>
  <AppVersion>15.0000</AppVersion>
  <Words>2464</Words>
  <Paragraphs>30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1:26:04Z</dcterms:created>
  <dc:creator>YA</dc:creator>
  <dc:description/>
  <dc:language>en-US</dc:language>
  <cp:lastModifiedBy>Надя</cp:lastModifiedBy>
  <dcterms:modified xsi:type="dcterms:W3CDTF">2021-01-14T19:28:05Z</dcterms:modified>
  <cp:revision>6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41</vt:r8>
  </property>
</Properties>
</file>