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EE374A-BA9C-491D-80C5-26C1E5B3A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98E552-3AB5-4E9E-A377-54D1463770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C98-0976-4C80-8553-38BAEC96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5D4-6FE6-46B7-9C84-4E7C1055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7CE-82BC-473B-B37A-B27A6CBA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1EC-E13C-44A4-BF2D-13D74E95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508F-425D-4542-9B66-F0B8FA64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A4AD-5FA1-4CA1-BD12-5B902F3B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CF7F-BD52-49F6-846E-DB6EA43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5465-BAAB-4997-AF74-A80DECD6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58C7-7D66-42C5-9433-75C74B00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3287-5942-413D-9761-B7129E68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BF13-1608-4176-8D8A-FB4E6913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B3B-0ACB-446D-A510-39FA7F51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7D30-AA2A-419D-B153-A9ED284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BF8F-7CC2-4FEE-BF89-AB6F2F8A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C668-34B4-4A0B-9B0E-617B9D9E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72AF-1950-4817-A455-318874E7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3E71-FE6B-44EF-A056-C65B7E01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3F60-1C40-4396-BCDB-38F6DB18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EFA6-AF70-4D88-A1DD-A653171F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0F09-3F83-4122-B0D4-A9FB516D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B9EE-BD71-4096-A5FC-7AF8FBB7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B63B-FEB1-4F48-A62F-0E401CA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192-1710-4A8D-A994-CCB77A4E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2D08-A23A-4EFA-8C9C-953670F7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F325-A41C-4EEA-9AE4-6D4861E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27ED-0E22-4132-AB07-987A8363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BED9-221F-4BC3-96BC-D23F1874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3494-D083-413B-AAC0-A04549DB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D542-1030-4A24-8207-429BCCAE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5A99-1F9D-4146-88D4-99EDF716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107-3F67-4DFF-8807-F83505E0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BA8-6FF3-466F-B59F-E1CDB90D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890-799C-47CC-B972-E94386FD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FA8-9C9A-4E29-BD9F-B4B57F7C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DAD-0D5E-4EAC-BA64-98FAB00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DDC-3DA4-4D93-A2C1-4F723DC6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8588BD-96A2-47D4-8005-798614070E92}" type="slidenum">
              <a:rPr b="0" lang="ru-RU" sz="1200" spc="-1" strike="noStrike">
                <a:solidFill>
                  <a:srgbClr val="d38e2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EC3994-792E-4F90-9B31-41597AB26C28}" type="slidenum">
              <a:rPr b="0" lang="ru-RU" sz="1200" spc="-1" strike="noStrike">
                <a:solidFill>
                  <a:srgbClr val="d38e2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EAA19B-53F5-41D0-BD0C-D2E9F81E422E}" type="slidenum">
              <a:rPr b="0" lang="ru-RU" sz="1200" spc="-1" strike="noStrike">
                <a:solidFill>
                  <a:srgbClr val="d38e2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ЛЕКЦИЯ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56640"/>
            <a:ext cx="4330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ТЕМА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: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Диагностика и самодиагностика состояния организма при регулярных занятиях физическими упражнениями и спортом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41" name="Picture 2" descr="C:\Users\Надя\Desktop\i.jpg"/>
          <p:cNvPicPr/>
          <p:nvPr/>
        </p:nvPicPr>
        <p:blipFill>
          <a:blip r:embed="rId1"/>
          <a:stretch/>
        </p:blipFill>
        <p:spPr>
          <a:xfrm>
            <a:off x="4428000" y="1268640"/>
            <a:ext cx="4491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79927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дицинское обслуживание массовых оздоровительных, физкультурных и спортивных мероприятий, а также мероприятий, проводимых в оздоровительно-спортивных лагерях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анитарно-просветительная работа и пропаганда физической культуры и спорта в вузе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ЕДАГОГИЧЕСКИЙ КОНТРОЛЬ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едагогический контроль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планомерный процесс получения информации о физическом состоянии занимающихся физической культурой и спортом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водится для того, чтобы проверить насколько соответствует педагогическое воздействие повышению эффективности учебно-тренировочных занятий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одержание педагогического контроля: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посещаемостью занятий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тренировочными нагрузкам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состоянием занимающихся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техникой упражнений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чет спортивных результатов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поведением во время соревнований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Задачи</a:t>
            </a: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едагогического контроля: </a:t>
            </a:r>
            <a:br>
              <a:rPr sz="24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57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ценить эффективность применяемых средств и методов тренировк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полнить план тренировк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становить контрольные нормативы, оценивающие физическую, техническую, тактическую, теоретическую подготовленность спортсменов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явить динамику развития спортивных результатов и спрогнозировать достижения отдельных спортсменов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обрать талантливых спортсменов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иды педагогического контроля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этапный - оценивать состояние спортивно-технической и тактической подготовки занимающихся на конкретном этапе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екущий - определять повседневные изменения в подготовке занимающихс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еративный - экспресс-оценка того состояния, в котором находится занимающийся в данный момент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53080" cy="12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пециалисты различают три типа состояний занимающихся физической культурой 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6908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ерманент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сохраняющиеся в течение длительного периода времени (состояние спортивной формы организма, уровня его тренированности)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Текущи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с изменениями в процессе одного или нескольких занятий (состояние повышенной или пониженной работоспособности)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Оператив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изменяющиеся под влиянием конкретных физических упражнений (утомление после однократного пробегании дистанции или повышение работоспособности после разминки и т.п.)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Методы педагогического контроля: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нкетирование занимающихся и тренеров-преподавателе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нализ рабочей документации учебно-тренировочного процесса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едагогические наблюдения во время занятий, регистрация функциональных и других показателей, характеризующих деятельность занимающегося физическими упражнениями непосредственно на занятиях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естирование различных сторон подготовленности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основанное прогнозирование спортивной работоспособност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о-педагогический контроль, его содержание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624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о-педагогический контроль — это исследования, проводимые совместно врачом и тренером для того, чтобы определить, как воздействуют на организм спортсмена тренировочные нагрузки, с целью предупредить переутомление и развитие патологических изменений, приводящих к заболевания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 помощью врачебно-педагогического контроля можно выявить срочный, отставленный и кумулятивный тренировочные эффекты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Самоконтроль, его цели, задачи и методы исследовани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амоконтроль — регулярные наблюдения за состоянием своего здоровья, физическим развитием и физической подготовкой и их изменениями под влиянием регулярных занятий упражнениями и спорто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44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400" spc="-1" strike="noStrike" cap="all">
                <a:solidFill>
                  <a:srgbClr val="4e3b30"/>
                </a:solidFill>
                <a:latin typeface="Franklin Gothic Medium"/>
              </a:rPr>
              <a:t>  </a:t>
            </a:r>
            <a:r>
              <a:rPr b="0" i="1" lang="ru-RU" sz="2400" spc="-1" strike="noStrike" cap="all">
                <a:solidFill>
                  <a:srgbClr val="4e3b30"/>
                </a:solidFill>
                <a:latin typeface="Franklin Gothic Medium"/>
              </a:rPr>
              <a:t>Цель самоконтроля </a:t>
            </a: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— самостоятельные регулярные наблюдения простыми и доступными способами за физическим развитием, состоянием своего организма, влиянием на него физических упражнений или конкретного вида спорта.</a:t>
            </a: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24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Задачи самоконтроля: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асширить знания о физическом развити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обрести навыки в оценивании психофизической подготовк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знакомиться с простейшими доступными методиками самоконтроля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пределить уровень физического развития, тренированности и здоровья, чтобы корректировать нагрузку при занятиях физической культурой и спорто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13440" cy="20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ДИАГНОСТИКА И САМОДИАГНОСТИКА ОРГАНИЗМА ПРИ РЕГУЛЯРНЫХ ЗАНЯТИЯХ ФИЗИЧЕСКИМИ УПРАЖНЕНИЯМИ И СПОРТОМ </a:t>
            </a:r>
            <a:br>
              <a:rPr sz="2800"/>
            </a:br>
            <a:br>
              <a:rPr sz="2800"/>
            </a:b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Диагностика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это процесс распознавания и оценки индивидуальных биологических и социальных особенностей человека, истолкование и обобщение полученных данных о здоровье и заболевани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олько правильно организованные занятия с соблюдением принципов физического воспитания и спортивной тренировки под наблюдением преподавателя и врача укрепляют здоровье, улучшают физическое развитие, повышают физическую подготовленность и работоспособность организма человека, способствует росту спортивного мастерств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Дневник самоконтрол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2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зультаты самоконтроля записываются в специальный дневник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дневнике рекомендуется регулярно регистрировать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убъектив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(самочувствие, сон, аппетит, работоспобность и др.) и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объективные данные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(вес, пульс, тренировочные нагрузки и др.)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 занятиях физической культурой по учебной программе, а также в группах здоровья и при самостоятельных занятиях, можно ограничиться такими показателями, как самочувствие, сон, аппетит, болевые ощущения, пульс, вес, тренировочные нагрузки, нарушение режима, спортивные результаты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76720" cy="647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Дневник самоконтрол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анные самоконтроля помогают преподавателю, тренеру, инструктору и самим занимающимся контролировать и регулировать правильность подбора средств и методов проведения физкультурно-оздоровительных и учебно-тренировочных занятий, т.е. определенным образом управлять этими процессам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писи  результатов показывают, правильно или неправильно применяются средства и методы тренировочных занятий. Их анализ может выявить дополнительные резервы для роста физической подготовленности и спортивного мастерств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Times New Roman"/>
              </a:rPr>
              <a:t>Настроение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Очень существенный показатель, отражающий психическое состояние занимающихся. Занятия всегда должны доставлять удовольствие. Настроение можно считать - хорошим, когда уверен в себе, спокоен, жизнерадостен; удовлетворительным - при неустойчивом эмоциональном состоянии и неудовлетворительным, когда человек расстроен, растерян, подавлен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Times New Roman"/>
              </a:rPr>
              <a:t>Самочувствие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Является одним из важных показателей оценки физического состояния, влияния физических упражнений на организм. У занимающихся плохое самочувствие, как правило, бывает при заболеваниях или при несоответствии функциональных возможностей организма уровню выполняемой физической нагрузки. Самочувствие может быть хорошее (ощущение силы и бодрости, желание заниматься), удовлетворительным (вялость, упадок сил, неудовлетворительное (заметная слабость, утомление, головные боли, повышение ЧСС и артериального давления в покое и др.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4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Сон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дневнике отмечается продолжительность и глубина сна, его нарушения (трудное засыпание, беспокойный сон, бессонница, недосыпание и др.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Аппетит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мечается хороший, удовлетворительный, пониженный, плохой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Болевые ощущения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оли в мышцах, головные боли, боли в правом или левом боку и в области сердца могут наступать при нарушениях режима дня, при общем утомлении организма, при форсировании тренировочных нагрузок и т.п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Субъективные показатели самоконтроля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24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Утомление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физиологическое состояние организма, проявляющееся в снижении работоспособности в результате проведенной работы. Оно является средством тренировки и повышения работоспособности. В норме утомление должно проходить через 2-3 часа после занятий. Если оно держится дольше, это говорит о неадекватности подобранной физической нагрузки. С утомлением следует бороться тогда, когда оно начинает переходить в переутомление, те.  когда утомление не исчезает на следующее утро после тренировки. Примерная схема внешних признаков утомления  приведена в табл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35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4e3b30"/>
                </a:solidFill>
                <a:latin typeface="Franklin Gothic Medium"/>
              </a:rPr>
              <a:t>Таблица - Внешние признаки утомления при занятиях физическими упражнениями (по Н.Б. Танбиану)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Содержимое 3"/>
          <p:cNvGraphicFramePr/>
          <p:nvPr/>
        </p:nvGraphicFramePr>
        <p:xfrm>
          <a:off x="179280" y="1052640"/>
          <a:ext cx="8712720" cy="6134400"/>
        </p:xfrm>
        <a:graphic>
          <a:graphicData uri="http://schemas.openxmlformats.org/drawingml/2006/table">
            <a:tbl>
              <a:tblPr/>
              <a:tblGrid>
                <a:gridCol w="1889640"/>
                <a:gridCol w="1609560"/>
                <a:gridCol w="2029320"/>
                <a:gridCol w="3183840"/>
              </a:tblGrid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ризнак устал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Степень утомля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Franklin Gothic Book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начит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езкая (больша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62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Окраска к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больш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начительн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езкое покраснение или побледнение, синюш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73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Пот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Большая (плечевой поя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Очень большая (все туловище), появление соли на висках, на рубашке, май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73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Дви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Быстрая похо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уверенный шаг, покач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Резкие покачивания, отставание при ходьбе, беге, в альпинистких походах, на мар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  <a:tr h="93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Хорошее, безошибочное выполнение указ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еточность в выполнении команды, ошибки при перемене напра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Замедленное выполнение команд, воспринимаются только громкие ком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  <a:tr h="114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Самочув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Никаких жал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Жалобы на усталость, боли в ногах, одышку, сердцеби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Жалобы на усталость, боли в ногах, одышку, головную боль, "жжение" в груди, тошноту, и даже рвоту. Такое состояние держится долго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Franklin Gothic Book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c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Объективные показатели самоконтроля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ес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ульс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ирометри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Частота дыхания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ртериальное давление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инамометрия и  т. д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ульс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ульс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важный показатель состояния организм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ычно на учебных занятиях по физической культуре частота сердечных сокращений при средней нагрузке достигает 130-150 ударов в минуту. На спортивных тренировках, при значительных физических усилиях частота сердечных сокращений достигает 180-200 и даже больше ударов в минуту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иды диагностики, ее цели и задачи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240" cy="47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Основные виды диагностики: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ый контроль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диспансеризация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о-педагогический контроль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амоконтроль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Цель диагностики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способствовать укреплению здоровья человека, его гармоничному развитию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ес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ля определения нормального веса используются различные весо-ростовые индексы. В практике широко используют индекс Брок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ормальный вес тела для людей ростом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 155 до 165 см = длина тела –100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65  -  175 см = длина тела -105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175 и выше см = длина тела -110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Tahoma"/>
              </a:rPr>
              <a:t>Примерный вес мужчин и женщин (в кг) в зависимости от роста и возраста</a:t>
            </a:r>
            <a:br>
              <a:rPr sz="2000"/>
            </a:b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Содержимое 9"/>
          <p:cNvGraphicFramePr/>
          <p:nvPr/>
        </p:nvGraphicFramePr>
        <p:xfrm>
          <a:off x="395280" y="1125360"/>
          <a:ext cx="8424360" cy="5687640"/>
        </p:xfrm>
        <a:graphic>
          <a:graphicData uri="http://schemas.openxmlformats.org/drawingml/2006/table">
            <a:tbl>
              <a:tblPr/>
              <a:tblGrid>
                <a:gridCol w="1436400"/>
                <a:gridCol w="1618920"/>
                <a:gridCol w="1758600"/>
                <a:gridCol w="1850760"/>
                <a:gridCol w="1758600"/>
              </a:tblGrid>
              <a:tr h="37908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endParaRPr b="0" lang="ru-RU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щ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ж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 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 - 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4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 в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760"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,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Частота дыхания (ЧД) и ЖЕЛ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44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ыхание в покое должно быть ритмичным и глубоким. В норме частота дыхания у взрослого человека 14-18 раз в минуту. При нагрузке увеличивается в 2-2, 5 раз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ажным показателем функции дыхания является жизненная емкость легких (ЖЕП) - объем воздуха, полученный при максимальном выдохе, сделанном после максимального вдо­ха. В норме у женщин 2, 5 - 4 л, у мужчин равна 3, 5-5 л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395280" y="846720"/>
            <a:ext cx="8424360" cy="6063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ериальное давление (АД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олическое давление (макс) - это давление в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 систолы (сокращения)  сердца, когда он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гает наибольшей величины на протяжен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дечного ци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столическое давление (мин) - определяется 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у диастолы (расслабления) сердца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о на протяжении сердечного цикла достиг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маль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мирная организация здравоохранения предлага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итать нормальными цифрами артериальное давл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истолического (макс.) - 100 - 140 мм рт. ст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 диастолического 80-90 мм рт. 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Артериальное давление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Функциональные пробы и тесты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240" cy="48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доровье, функциональное состояние и тренированность спортсмена можно определить с помощью функциональных проб и контрольных упражнений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ункциональные пробы бывают: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щие (неспецифические)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 специфическими нагрузками, которые проводятся, как правило, в естественных условиях спортивной деятельности с нагрузками различной интенсивности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Методы стандартов, антропометрических индексов, номограмм, функциональных проб, упражнений, тестов для оценки физического развития и физической подготовленности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240" cy="42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остовой индекс определяет соотношение роста в сантиметрах и массы в килограммах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есоростовой показатель вычисляется делением массы тела (в граммах) на его длину (в сантиметрах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Жизненный индекс определяется делением цифры, обозначающей жизненную емкость легких, на массу тела (в граммах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иловой индекс — это отношение силы кисти более сильной руки (в килограммах) к массе тел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087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ндекс пропорциональности между ростом и окружностью грудной клетк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порциональность между ростом и шириной плеч определяется отношением ширины плеч к росту (в сантиметрах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ндекс пропорциональности развития грудной клетки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казатель крепости телосложения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эффициент пропорциональности (КП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47640" y="620640"/>
            <a:ext cx="8496000" cy="54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изиологическая проба: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онтроль за частотой сердечных сокращений (ЧСС)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Штанге (задержка дыхания на вдохе)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ртостатическая проба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Генчи (задержка дыхания на выдохе)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роба Штанге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Штанге (задержка дыхания на вдохе). После 5-ти минут отдыха сидя сделать 2-3 глубоких вдоха и выдоха, а затем, сделав полный вдох  задерживают дыхание, время отмечается от момента задержки дыхания до ее прекращения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редним показателем является способность задержать дыхание на вдохе для нетренированных людей на 40-55 секунд, для тренированных - на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60-90 сек и более. С нарастанием тренированности время задержки дыхания возрастает,  при заболевании или переутомлении это время снижается до 30-35 секунд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а проба характеризует устойчивость организма к недостатку кислорода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роба  Генчи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ба  Генчи (задержка дыхания на выдохе). Выполняется также, как и проба Штанге, только задержка дыхания производится после полного выдоха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десь средним показателем является способность задержать дыхание на выдохе для нетренированных людей на 25-30 сек., для тренированных на 40-60 сек. и более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69080" cy="11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Перед </a:t>
            </a: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диагностикой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стоят следующие задачи: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424360" cy="58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гулярно проводить врачебный контроль за состоянием здоровья всех лиц, занимающихся физической культурой и спортом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ценивать эффективность применяемых средств и методов учебно-тренировочных занят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полнять план учебно-тренировочных занят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становить контрольные нормативы для оценки подготовленности спортсменов с точки зрения физической, технической, тактической, морально-волевой и теоретическо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гнозировать достижения отдельных спортсменов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являть динамику развития спортивных результатов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just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тбирать талантливых спортсменов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80000" cy="56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естирование как применение контрольных нормативов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язательные тесты: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ег на 100м (показатель качества быстроты)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дтягивание для студентов, поднимание и опускание туловища из положения лежа для студенток (показатель силовой подготовленности);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Бег на 2000м для студенток и на 3000м для студентов (показатель выносливости)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начале учебного года тесты проводятся как контрольные, в конце — как фиксирующие изменения за прошедший учебный год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95280" y="-686160"/>
            <a:ext cx="8208720" cy="835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152280" anchor="ctr">
            <a:spAutoFit/>
          </a:bodyPr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доровый образ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Физическая культура в обеспечении 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Основные по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доровье человека как ценность ее факторы, определяющ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доров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Режим труда и отды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Режим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Активная мышечная деятельность (физическая нагруз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Закаливание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Гигиенические основы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Профилактика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181080">
              <a:lnSpc>
                <a:spcPct val="150000"/>
              </a:lnSpc>
              <a:buClr>
                <a:srgbClr val="e5e500"/>
              </a:buClr>
              <a:buFont typeface="Wingdings" charset="2"/>
              <a:buChar char=""/>
              <a:tabLst>
                <a:tab algn="r" pos="6751800"/>
              </a:tabLst>
            </a:pPr>
            <a:r>
              <a:rPr b="0" lang="ru-RU" sz="2400" spc="-1" strike="noStrike">
                <a:solidFill>
                  <a:srgbClr val="e5e500"/>
                </a:solidFill>
                <a:latin typeface="Times New Roman"/>
              </a:rPr>
              <a:t>Рациональ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13440" cy="15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ый контроль как условие допуска к занятиям физическими упражнениями</a:t>
            </a:r>
            <a:br>
              <a:rPr sz="2800"/>
            </a:b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и спортом, его содержание и периодичность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5308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Врачебный контроль — это комплексное медицинское обследование физического развития и функциональной подготовленности занимающихся физкультурой и спортом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сновная форма врачебного контроля — врачебное обследование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ериодичность врачебного контроля или осмотра зависит от квалификации, а также от видов спорта.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нимающиеся спортом, — 2  раза в год, а студенты, отнесенные по состоянию здоровья к</a:t>
            </a: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ециальной медицинской группе, — 1 раз в семестр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250920" y="2834640"/>
            <a:ext cx="8713440" cy="45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ое обследование подразделяется на первичное, повторное и дополнительное.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713440" cy="52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endParaRPr b="0" lang="ru-RU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ервичное обследование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водится, чтобы решить вопрос о допуске к регулярным занятиям физическими упражнениями и спортом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Повторное врачебное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следование проводится, чтобы убедиться, насколько соответствует объем и интенсивность нагрузки состоянию здоровья, а также для того, чтобы корректировать учебно-тренировочный процесс.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e3b30"/>
                </a:solidFill>
                <a:latin typeface="Franklin Gothic Book"/>
              </a:rPr>
              <a:t>Дополнительные врачебные обследования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оводятся для того, чтобы решить вопрос о возможности приступить к тренировкам после перенесенных заболеваний или травм, при неблагоприятных субъективных ощущениях, а также перед соревнованиями по направлению преподавателя физического воспитания или тренера. 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Диспансеризаци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49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глубленной формой врачебного наблюдения являетс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диспансеризаци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система мероприятий по укреплению здоровья и длительному сохранению высокой спортивной работоспособности, направляемая на то, чтобы предупредить и выявить ранние признаки нарушения здоровья и функционального состояния.</a:t>
            </a:r>
            <a:br>
              <a:rPr sz="2400"/>
            </a:b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ый контроль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роприятия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рачебного контроля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направлены на исключение условий, при которых может иметь место отрицательное воздействие занятий физическими упражнениями и спортом.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Franklin Gothic Medium"/>
              </a:rPr>
              <a:t>Врачебный контроль</a:t>
            </a:r>
            <a:r>
              <a:rPr b="0" lang="ru-RU" sz="2800" spc="-1" strike="noStrike" cap="all">
                <a:solidFill>
                  <a:srgbClr val="4e3b30"/>
                </a:solidFill>
                <a:latin typeface="Franklin Gothic Medium"/>
              </a:rPr>
              <a:t> в вузе проводится в следующих формах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6908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гулярные медицинские обследования занимающихся физической культурой и спортом (первичные, повторные, дополнительные)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рачебно-педагогические наблюдения за студентами во время занятий и соревнован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дицинское обеспечение физического воспитания студентов в учебных отделениях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анитарно-гигиенический контроль за местами и условиями проведения занятий и спортивных соревнований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едупреждение спортивного травматизма и заболеваемости;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687</TotalTime>
  <Application>LibreOffice/7.4.7.2$Linux_X86_64 LibreOffice_project/40$Build-2</Application>
  <AppVersion>15.0000</AppVersion>
  <Words>2464</Words>
  <Paragraphs>30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1:26:04Z</dcterms:created>
  <dc:creator>YA</dc:creator>
  <dc:description/>
  <dc:language>en-US</dc:language>
  <cp:lastModifiedBy>Надя</cp:lastModifiedBy>
  <dcterms:modified xsi:type="dcterms:W3CDTF">2021-01-14T19:28:05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41</vt:r8>
  </property>
</Properties>
</file>