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CF7-42D6-4ED5-918C-B80EC913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721-5271-4334-ADEA-42A46DE2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F19-E7DF-4F17-BA67-963E142C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E28-D07A-4E76-A9FD-0D7D8C5D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D931-4408-401C-B31A-668A3415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14A7-7D4B-47FB-90E9-0419146D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1E50-4BFE-4D42-8DFB-58AA0AFB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B166-E0AD-4982-AEB8-71D651C1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F285-EC11-4BF6-8B4E-00CE7521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E21A-38CA-4E88-A31D-337C1BC0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E5DA-C2B5-4435-9077-48005C15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B9D-81BA-4047-B6EA-DA157302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DDB6-8B89-46F6-A06A-9D154FF5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710D-2963-4BAD-B08F-1C1AE725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5AFA-7D9E-46D2-B449-DE779352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BBDC-ABFD-4C97-8CD1-12955E52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78FA-B2A7-46CF-A31D-F746F5E7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A9B-591A-4386-AF2D-9538342F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EAA-9C87-415E-A2ED-AF47B214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7EB-E43B-4442-9101-5287174B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228-3400-42F3-B3E5-7D917CA5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A50-84DD-46E0-B9D5-DF67D28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597-8669-4F0E-ADED-533864A7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A54-4AFD-4E90-98BF-2DA62886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98780C-264F-4E01-877B-E7AEFDFC4CE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28E561-F6C3-4142-B6F9-44C0876900F6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6320" y="724680"/>
            <a:ext cx="11143080" cy="418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ФГБОУ ВО МГХПА им. С.Г. Строганов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      Кафедра физвоспитания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«</a:t>
            </a: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Гигиеническое обеспечение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индиви­дуальных (самостоятельных)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форм занятий массовы­ми видами спорта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и физической культуры»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554200" y="5726520"/>
            <a:ext cx="8915040" cy="46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Москва,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691560" y="144720"/>
            <a:ext cx="2268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47720" y="624240"/>
            <a:ext cx="9592200" cy="9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опаганда санитарной культуры занят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физическими уп­ражнениями и спортом</a:t>
            </a:r>
            <a:br>
              <a:rPr sz="2000"/>
            </a:b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80240" y="1733760"/>
            <a:ext cx="9902880" cy="436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ажной функцией физической культуры является ее оздорови­тельное влияние, которое нужно обеспечить на каждом занятии. Такое влияние достигается как непосредственно во время занятий, так и путем выработки у занимающихся гигиенических навыков и привычек в повсе­дневной жизни, в частности разумного использования двигательных уп­ражнений в режиме каждого дня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здоровительная направленность занятий физкультурой и спор­том достигается путем обязательной оценки оздоровительного влияния средств и методов физического воспитания, регулирования физических нагрузок на занимающихся с учетом их возможностей, обеспечения врачебно-педагогического контроля за ним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начение гигиенических основ физкультуры и спорта нужны инструкторам-методистам, преподавателям, тренерам и другим физкультур­ным работникам, а также самим занимающимся. Умелое использование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гигиенических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акторов в значительной степени повышает оздоровительный эффект от занятий физическими упражнениями и спортом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мостоятельно занимающиеся физическими упражнениями должны знать и соблюдать все требования личной и общественной ги­гиены придерживаться рационального распорядка дня и режима пита­ния, соблюдать личную гигиену, проводить профилактику инфекционных заболеваний, постоянно закаливать организм, систематически прохо­дить врачебный контроль, овладеть приемами массажа и самомассажа уметь проводить самоконтроль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3640" y="624240"/>
            <a:ext cx="9830880" cy="79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Суточный режим и его рациональность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78200" y="1251000"/>
            <a:ext cx="10425960" cy="46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Рациональный суточный режим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это распределение определен­ных видов деятельности человека в течение суток таким образом, чтобы сон, физическая зарядка, прием пищи, рабочая или учебная нагрузка, занятия физическими упражнениями и др. были приурочены изо дня в день к определенному времени суток. При правильном и строго соблюдаемом режиме дня вырабатыва­ется определенный ритм функционирования организма, в результате чего человек может в определенное время наиболее эффективно вы­полнять различные виды работ. Необходимо постоянство в режиме дня, которое обусловливается наличием у человека суточного биоритма. Поэтому режим дня следует строить с учетом фазовых изме­нений в функциональном состоянии различных органов и систем орга­низма на протяжении суток организм человека по-разному реагирует на физические нагрузки. Установлено, что функциональные возможности у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еловека наиболее снижены с 2 до 5 часов утра и между 12 и 14 часами повышены - с 8 до 12 и с 14 до 17 часов. В период наилучших функциональных возможностей выраженность отдельных физических, качеств неодинакова: гибкость лучше выражена около 10 часов утре сила мышц между 16 и 18 часам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5400" y="606960"/>
            <a:ext cx="9678600" cy="108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В качестве примера может быть представлена следующая схема суточного режима студента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46080" y="1544040"/>
            <a:ext cx="9669960" cy="47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дъем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тренняя гигиеническая гимнастика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закаливающие процедуры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завтрак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трудовая деятельность (учеба). В паузах (3-5 мин) выполнение физических упражнений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бед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трудовая деятельность (учеба). В паузах (3-5 мин) выполнение физических упражнений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лдник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тдых перед тренировкой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чебно-тренировочное занятие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теплый душ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жин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тдых, культурные развлечения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рогулка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сон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82280" y="624240"/>
            <a:ext cx="982224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Личная гигиена, водные процедуры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6440" y="1388880"/>
            <a:ext cx="10288080" cy="452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блюдение правил личной гигиены и выработка соответствующих привычек - необходимое условие сохранения здоровья.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Личная гигиен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 это уход за кожей, волосами, ногтями, ротовой полостью. Уход за кожей остается важным условием, способствующим нормальной терморегуля­ции потоотделения и защиты организма от болезнетворных микробов необходимо ежедневное обтирать или обливать тело водой до пояса. Лицо и шею следует мыть утром и вечером. Руки моют каждый раз перед приемом пищи, после выполнения работы, за­грязняющей руки, после посещения туалета. После тренировок, соревнований принимают теплый душ с мылом. Каждую неделю нужно мыть­ся в ванной под душем или париться в саун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огти стригут коротко, так как под длинными ногтями собирается грязь и возбудители различных заболеваний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тром и вечером надо чистить зубы, после каждого приема пищи рекомендуется прополоскать рот водой. С целью профилактики заболе­ваний зубов следует 1-2 раза в год посещать зубного врач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мый простой вид водных процедур - умывание. Утром следует умываться холодной водой (это делает человека бодрым и способству­ет закаливанию), вечером теплой водой (она успокаивает нервную сис­тему и хорошо смывает грязь). Обтирание мокрой ладонью, мочалкой, полотенцем - доступная процедура в любое время года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30440" y="606960"/>
            <a:ext cx="942516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Режим пита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54320" y="1466640"/>
            <a:ext cx="10161720" cy="49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мение правильно питаться - важный показатель культуры челове­ка. Основные требования рационального питания состоят в том, чтобы оно обеспечивало организм веществами, необходимыми для построе­ния тканей и органов, а также для нормального протекания физиологи­ческих процессов. Пищевой рацион должен содержать нужное количе­ство белков, жиров, углеводов, витаминов, минеральных веществ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аспределение пищи по определенным приемам и в определенные часы дня составляет содержание режима питания. Соблюдение режима питания обеспечивает регулярное поступление в организм пище­вых веществ, что является главным условием нормальной работы пи­щеварительного аппарата, а это в свою очередь влияет на более пол­ное усвоение организмом белков, жиров, углеводов, витаминов и мине­ральных веществ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ациональным считается 4-5-кратный прием пищи, минимально приемлемым трехразовое питание. Между приемами пищи и занятиями физическими упражнениями должны быть соблюдены определенные временные интервалы: прием пищи должен быть не менее чем за 2,5 ч. до тренировки и не ранее чем через 1,5 ч. после не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систематических занятиях физическими упражнениями энер­гетическая ценность суточного рациона должна строиться таким обра­зом, чтобы учитывались энергозатраты не только на профессиональную деятельность, но и на занятия физическими упражнениями и спортом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52680" y="296280"/>
            <a:ext cx="9951480" cy="7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Питьевой режим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52280" y="992160"/>
            <a:ext cx="10515240" cy="55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ри выполнении физических упражнений в результате активной мышечной деятельности происходит образование значительного коли­чества тепла, избыток которого необходимо отдавать в окружающую среду, чтобы исключить перегревание организма. К тому же мышечная деятельность сопровождается накоплением в организме продуктов об­мена веществ, которые должны быть выделены из организма, что воз­можно только при условии их полного растворения в воде. Таким обра­зом, при мышечной деятельности имеет место, с одной стороны, потеря воды за счет отделения пота и его испарения, а с другой - возрастает потребность в воде для того, чтобы вывести из организма продукты об­мена Недостаток воды в организме ощущается как чувство жажды, ко­торое связано с недостатком воды в тканях, и этот недостаток затруд­няет терморегуляцию и обменные процессы. Это чувство жажды должно быть удовлетворено приемом жидкости. Лучше всего в виде воды или крепкого чая Пить воду следует небольшими порциями по 100-200 мл, с паузами в несколько минут. Такой прием утоления жажды исключает перегрузку водой желудочно-кишечного тракта и сердечно - сосудистой системы. После приема воды необходим отдых не менее 15 мин. Коли­чество воды, которое может потребляться в день для утоления жажды при работе средней тяжести и температуре воздуха в пределах до 30 Ф С, может составлять 3-6 л.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итьевая вода должна отвечать гигиеническим требованиям и главное - не содержать болезнетворных микроорганизмов, иметь опре­деленный химический состав и физические свойства. Вода имеет не только физиологическое значение, но и общесанитарное, т.е. она необ­ходима для соблюдения требований личной и общественной гигиены (умывание, бани, стирки, уборка помещений и др.), поэтому на одного человека должно подаваться не менее 100 л воды в сутки.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39080" y="451440"/>
            <a:ext cx="1001196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Гигиенические требования к одежде и обуви для занятий фи­зической культурой и спортом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95480" y="1699560"/>
            <a:ext cx="1044612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14640" indent="-314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ежда предохраняет организм от неблагоприятных воздействий внешней среды, механических повреждений и загрязнений. С гигиениче­ской точки зрения, она должна помогать приспосабливаться к различ­ным условиям внешней среды, способствовать созданию необходимого микроклимата, быть легкой и удобной. Надевают ее только при занятиях физическими упражнениям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4640" indent="-314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занятий физическими упражнениями нужно иметь три ком­плекта одежды и обуви: трусы, майку, плавки - для мужчин, купальники для женщин, кроссовки или полукеды (для занятий в спортивном зале), трикотажный тренировочный костюм, полукеды или кеды, кроссовки для занятий на свежем воздухе (весной и осенью), теплый лыжный костюм, ботинки, шапочку, варежки для занятий лыжами. Майку, трусы, плавки, купальник рекомендуется стирать после каждой тренировки. Чистая одежда хорошо впитывает пот и не раздражает кожу. Во время занятий зимними видами спорта применяется спортив­ная одежда с высокими теплозащитными и ветрозащитными свойства­ми обычно это хлопчатобумажное белье, шерстяной костюм или свитер с брюками, шапочки. При сильном ветре сверху одевается ветрозащит­ная куртка. Различные виды спортивной одежды из синтетических тка­ней рекомендуется применять лишь для защиты от ветра, дождя, снега и др. Негигиенично пользоваться спортивной одеждой в повседневной жизн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4640" indent="-314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 гигиенической точки зрения обувь должна быть легкой, эластич­ной и хорошо вентилируемой необходимо, чтобы ее теплозащитные и водоупорные свойства соответствовали погодным условиям. Распро­страненной спортивной обувью являются полукеды, кеды и кроссовки. Гигиенические стельки, имеющиеся в них, следует просушивать после каждого занятия. При низкой температуре воздуха для повышения теп­лозащитных свойств обуви в нее закладываются стельки из войлока или меха, рекомендуется также надевать шерстяные носки. Специальной зимней обувью следует пользоваться только при длительном пребыва­нии на свежем воздух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42360" y="503280"/>
            <a:ext cx="102535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ребования к самостоятельным занятиям физическими уп­ражнениями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960" y="1820160"/>
            <a:ext cx="10394640" cy="448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сновные требования к самостоятельным занятиям физическими упражнениями сводятся к следующему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оводить занятия ежедневно и в определенное время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облюдать гигиенические требования к одежде и обуви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очетать выполнение физических упражнений с закаливанием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авильно выполнять движения, сочетать дыхание с движения­ми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авильно дозировать физические нагрузки путем подбора </a:t>
            </a: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оот­ветствующих упражнений, их количества и темпа повторений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существлять самоконтроль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08200" y="658440"/>
            <a:ext cx="93909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ПРАВИЛА САМОКОНТРОЛ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25080" y="1526760"/>
            <a:ext cx="10279440" cy="43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самостоятельных занятиях физическими упражнениями очень важно, чтобы каждый занимающийся мог следить за состоянием своего организма. При самоконтроле учитываются субъективные показатели (сон, аппетит, желание тренироваться) и объективные данные (пульс, дыхание, результаты спирометрии, динамометрии, масса тела)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мочувствие оценивается как хорошее, удовлетворительное, плохое. Хорошее самочувствие - признак нормального состояния орга­низма. Ухудшается самочувствие вследствие нарушения режима, мало­подвижного образа жизни, а также при физическом и умственном пере­утомлении. Это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провождается снижением интереса к занятиям, общей вялостью, иногда раздражительностью. Нарушение сна вследствие общего переутомления или физических перегрузок проявляется в виде беспокойного сна, бессонницы, а иногда в виде сонливост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нижение аппетита свидетельствует об общем переутомлении, физических перегрузках или начале заболевания. Проверяя пульс, оп­ределяют его частоту, время показания после физических нагрузок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нимающимся физическими упражнениями рекомендуется про­верять массу тела 1-2 раза в неделю. Стойкой сохранение массы явля­ется важным показателем хорошей тренированности организма и опти­мальности физических нагрузок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44040" y="304920"/>
            <a:ext cx="9951480" cy="7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ЗАКЛЮЧЕНИЕ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3640" y="1164600"/>
            <a:ext cx="1053792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Требования общесанитарного режима при занятиях физическими упражнениями и спортом сводятся прежде всего к поддержанию в мес­тах занятий физическими упражнениями чистоты воздуха, чистоты по­мещений, чистоты спортивной одежды и обуви. 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еред началом занятий помещения должны проветриваться, а в самом помещении до занятий и после занятий должна быть проведена влажная уборка. Отдельная одежда, обувь должна использоваться только для за­нятий физическими упражнениями и спортом, в ней нельзя выходить на улицу на прогулку или заниматься хозяйственными и учебными делам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еред началом занятий и после них не следует курить или упот­реблять любые алкогольные напитки. Занятия физическими упражне­ниями и спортом несовместимы с употреблением алкоголя и курением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ост санитарной культуры широких масс населения, в том числе и студенческой молодежи, должен опережать, или, во всяком случае, идти параллельно с ростом интереса к массовым формам физической куль­туры и спорта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2080" y="477360"/>
            <a:ext cx="948564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АКТУАЛЬНОСТЬ ДАННОЙ ТЕМ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3800" y="1337040"/>
            <a:ext cx="1085184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настоящее время особую актуальность приобретают меры уси­ления социально-гигиенической ориентаци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силивается психо­эмоциональная напряженность, растут нервные затраты и нагрузки у студентов и работающих . 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этих условиях активное использование социально-гигиенического регу­лирования трудовой деятельности обогащает всю систему средств сти­мулирующего воздействия социально-экономической политики на акти­визацию человеческого фактор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птимальное раскрытие всех физических и духовных потенций че­ловеческого фактора возможно только в условиях здорового гигиениче­ского образа жизни, достижение которого в дальнейшем поддержании организма в надлежащем порядке каждым членом общества исключи­тельно актуально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доровый, рациональный образ жизни ориентирует на развитие наиболее разумных в гигиеническом отношении норм потребления ма­териальных благ, разумное использование свободного времени, что резко сужает и уменьшает сферу проявления уродливых антисоциаль­ных явлений, таких как пьянство, алкоголизм, наркомания и др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5480" y="526320"/>
            <a:ext cx="10342800" cy="12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МЕРОПРИЯТИЯ ПО ГИГЕНИЧЕСКОМУ ОБЕСПЧЕНИЮ 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ИНДИВИДУАЛЬНЫХ (САМОСТОЯТЕЛЬНЫХ) ФОРМ ЗАНЯТИЙ 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МАССОВЫМИ ВИДАМИ ФИЗИЧЕСКОЙ КУЛЬТУРЫ. 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0800" y="1690920"/>
            <a:ext cx="10503720" cy="42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азвитие массовой физической культуры, внедрение ее в быт лю­дей всех возрастов - один из важнейших факторов укрепления здоровья, повышения умственной и физической работоспособности, долголетия, обеспечения полноценного отдыха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ольшинство городского населения для укрепления здоровья, ор­ганизации досуга и свободного времени чаще стали использовать парки культуры и отдыха. Однако они не всем стали доступны экономическ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ольшие социальные изменения в жизни народа, развитие неко­торых видов промышленности в так называемой рыночной экономике и связанное с этим значительное увеличение численности городского на­селения, создание новых микрорайонов, массовой жилищной застройки и др. приводят к поиску наиболее эффективных организационных форм, средств и методов физкультурно-оздоровительной работы с населени­ем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3080" y="322200"/>
            <a:ext cx="936792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В настоящее время различают </a:t>
            </a:r>
            <a:r>
              <a:rPr b="1" lang="ru-RU" sz="2400" spc="-1" strike="noStrike" u="sng">
                <a:solidFill>
                  <a:srgbClr val="262626"/>
                </a:solidFill>
                <a:uFillTx/>
                <a:latin typeface="Century Gothic"/>
              </a:rPr>
              <a:t>четыре</a:t>
            </a: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 основных 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формы самодея­тельных физкультурных занятий: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14800" y="1302480"/>
            <a:ext cx="9635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индивидуальные;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семейные;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мало-групповые;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коллективные.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5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5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5000" spc="-1" strike="noStrike">
                <a:solidFill>
                  <a:srgbClr val="404040"/>
                </a:solidFill>
                <a:latin typeface="Century Gothic"/>
              </a:rPr>
              <a:t>Самостоятельные и индивидуальные занятия физическими упраж­нениями являются достаточно распространенными, хотя и не главными формами реализации физической активности человека. Разумное управление этой формой приобщения человека к физической культуре может способствовать существенному повышению ее эффективности. Однако организация режима самостоятельных занятий сталкивается с целым рядом трудностей, главным из которых является недостаток знаний правил проведения тренировочных занятий, понимания сущности его составных частей, их функционального назначения, а также элемен­тов медицинского и педагогического контроля.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99560" y="624240"/>
            <a:ext cx="980496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Гигиеническое обеспечение индивидуальных (самостоятельных) форм занятий населения массовыми видами физической культуры и спорта предусматривает осуществление следующих мероприятий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65000" y="1872000"/>
            <a:ext cx="9839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бучение населения и студентов методам самоконтроля состояния здоровья и физической подготовленности, а также умению дозировать физиче­ские нагрузки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опаганда массовых форм физической культуры и спорта, а также видов спорта нужных и важных для конкретного лица с точки зре­ния улучшения состояния его здоровья, совершенствование физической подготовленности с учетом профессиональных навыков труда и разви­тия отдельных физических качеств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опаганда среди населения санитарной культуры занятий физи­ческими упражнениями, в том числе спортом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21800" y="537840"/>
            <a:ext cx="9856440" cy="62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Правильность дозирования физических нагрузок</a:t>
            </a: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57600" y="1337040"/>
            <a:ext cx="10546560" cy="50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и организации тренировочного процесса общее повышение фи­зической подготовленности и поддержание ее на достаточно высоком уровне возможно лучше при правильной организации физических нагру­зок, для каждого человека оптимальное количество движений, помогающее удержать высокие резервы возможности орга­низма или повысить их, будет строго индивидуальной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 научных исследованиях установлено, что процессы жизнеобес­печения организма человека прежде всего зависят от его двигательной активност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Физкультурно-спортивная деятельность как педагогически органи­зованная двигательная активность студенческой молодежи всего населения является важным социальным фактором нормального физиче­ского развития человека, рациональной адаптации его к динамическим условиям жизнедеятельност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Целый ряд научных работ посвящен вопросам нормирования дви­гательной активности. Анализ обобщенных результатов этих научных исследований показывает, что оптимальные нормы двигательной актив­ности находятся в следующих ориентировочных границах: дошкольники - 8-10 часов в неделю, школьники - 7-12, учащиеся техникумов, колледжей - 8-9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туденты учебных заведений - 8-10, рабочие и служащие - 6-10, семейные - 4-6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62960" y="491760"/>
            <a:ext cx="10141200" cy="567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На основании проведенного анализа литературных источников, мы для определения дозирования физических нагрузок в условиях массо­вой физкультурно-оздоровительной работы, рекомендуем взять такой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оказатель, как частота сердечных сокращений.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Интенсивность макси­мальной нагрузки можно определить по формуле: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ЧСС = 180 - возраст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Например, для человека в возрасте 20 лет нагрузка должна сопро­вождаться учащением пульса не более чем до 160 уд/мин (180-20=160), а для 40-летнего - 140 уд/мин.(180-40=140). Время выполнения упражнений не должно превышать 10-30 мин. Правильно дозированная физическая нагрузка должна быть доста­точной, чтобы вызвать состояние утомления, которое воспринимается как усталость. 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Именно утомление является специфическим раздражи­телем для развития восстановительных процессов, которые повышают функциональные возможности физиологических систем организма, ук­репляя тем самым здоровье и повышая его работоспособность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12760" y="353520"/>
            <a:ext cx="10391400" cy="55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месте с тем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ажно, чтобы состояние утомления не переходило в состояние переутомлен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что может иметь место в том случае, если организм человека не подготовлен к выполнению нагрузок. Поэтому при гигиеническом обеспечении индивидуальных форм занятий массовыми видами физической культуры и спорта занимаю­щиеся должны уметь контролировать не только уровень своего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изического состояния и дозировать физическую нагрузку, но и знать признаки изменения состояния организма, которые свидетельствуют о переходе утомления в острое переутомление (табл. 1)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53" name="Таблица 3"/>
          <p:cNvGraphicFramePr/>
          <p:nvPr/>
        </p:nvGraphicFramePr>
        <p:xfrm>
          <a:off x="3260880" y="2674080"/>
          <a:ext cx="5970600" cy="4361760"/>
        </p:xfrm>
        <a:graphic>
          <a:graphicData uri="http://schemas.openxmlformats.org/drawingml/2006/table">
            <a:tbl>
              <a:tblPr/>
              <a:tblGrid>
                <a:gridCol w="1379880"/>
                <a:gridCol w="1962000"/>
                <a:gridCol w="2628720"/>
              </a:tblGrid>
              <a:tr h="285480">
                <a:tc>
                  <a:txBody>
                    <a:bodyPr lIns="6120" rIns="6120" tIns="0" bIns="0" anchor="b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Утом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ереутом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768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Цвет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Небольш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Значительн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192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ых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о 20-26 в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о 40-50 в мин (част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7680">
                <a:tc>
                  <a:txBody>
                    <a:bodyPr lIns="6120" rIns="6120" tIns="0" bIns="0" anchor="b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ульс, уд/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110-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180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2796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оходка обы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оходка неувер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4344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Безошибочн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шибки в дей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768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Самочув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Легкая уста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Выраженная уста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69696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бщий 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б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Сутулость,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пущенные плечи,   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уста­лое выражен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09440" y="1233720"/>
            <a:ext cx="10495080" cy="46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и появлении признаков острого переутомления выполнение уп­ражнений должно быть прекращено, а в последующие дни снижена и физическая нагрузка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Таким образом, общее повышение физической подготовленности и поддержание ее на достаточно высоком уровне возможно при правиль­ной организации физических нагрузок. Общие правила дозирования на­грузок приемлемы при организации общеразвивающей и оздоровитель­ной тренировки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рганизационной основой физической тренировки, осуществляе­мой в общеразвивающих и оздоровительных целях, должно быть систе­матическое проведение тренировочных занятий, содержание и структу­ра которых определяются дидактическими принципами построения тре­нировочных уроков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106</TotalTime>
  <Application>LibreOffice/7.4.7.2$Linux_X86_64 LibreOffice_project/40$Build-2</Application>
  <AppVersion>15.0000</AppVersion>
  <Words>2444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0T16:48:56Z</dcterms:created>
  <dc:creator>Кафедра физвоспитание и. безопастность жизнедеятельнос</dc:creator>
  <dc:description/>
  <dc:language>en-US</dc:language>
  <cp:lastModifiedBy>Кафедра физвоспитание и. безопастность жизнедеятельнос</cp:lastModifiedBy>
  <dcterms:modified xsi:type="dcterms:W3CDTF">2021-02-04T11:56:24Z</dcterms:modified>
  <cp:revision>20</cp:revision>
  <dc:subject/>
  <dc:title>Анаэробная производительность  организма спортсмен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9</vt:r8>
  </property>
</Properties>
</file>