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D55-F36A-4C74-80C9-E6C27C20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7F4-9C54-471B-A42C-D2EBD06A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719-4F48-44C4-825E-71911539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6C2-C330-4821-BFEE-7B1B4626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E35-E5F1-46DF-8DD4-679C8FB6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F3C-3FF3-4491-B91B-3C882F68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433-5B2E-4980-8F3E-D2FF7781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5DC-5DCF-4D98-A9D9-292F588A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77D-703A-45EA-BD2A-C3B3BD1C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F47-06B3-4F82-984C-8D28BFD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B8E-586B-4949-B33E-FFC8547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079-AC99-467A-A27E-B1307FE1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238C18-D985-4AE5-BFE2-74061691D0D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Террористический акт-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это совершение взрыва, поджога или иных действий, связанных с устрашением населения и создающие опасность гибели человека, причинение значительного имущественного ущерба либо наступление экологической катастрофы или иных особо тяжких последствий, в целях противоправного воздействия на принятие решения органами власти, а так же угроза совершения действий в тех же целях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федеральный закон о противодействии терроризму)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520" cy="85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000000"/>
                </a:solidFill>
                <a:latin typeface="Trebuchet MS"/>
              </a:rPr>
              <a:t>Правила поведения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7714800" cy="57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прикасайтесь к бесхозным вещам. Ни в коем  случае не пытайтесь самостоятельно обезвредить взрывное устройство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общите о находке должностному лицу, взрослому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взрыв произошел и вы остались живы  установите и уточните обстановку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зажигайте спичек, зажигалок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щитите органы дыхания от дыма мокрым платком, лоскутом ткани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возможности по телефону сообщите взрослым, в органы правопорядка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не возможности выйти из дома обычным путем  нужно выйти на балкон и звать на помощь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йдя из дома отойдите от него на безопасное расстояние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7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000000"/>
                </a:solidFill>
                <a:latin typeface="Trebuchet MS"/>
              </a:rPr>
              <a:t>Если вы стали заложником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771480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подвергайте себя излишнему риску, не вызывайте агрессию у преступников своими действиями , словами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ьте спокойны, покладисты, терпеливы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вы не смогли убежать, не пытайтесь самостоятельно освободиться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момента захвата контролируйте все действия преступников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пользуйте любую возможность для передачи информации  о месте вашего нахождения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захваченном транспорте оставайтесь на своем месте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6857640" cy="57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000000"/>
                </a:solidFill>
                <a:latin typeface="Trebuchet MS"/>
              </a:rPr>
              <a:t>При  штурме спецподразделения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7686360" cy="574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старайтесь укрыться за  предметами (стол, кресло,шкаф)прикрыть свое тело от пуль подручными средствами, всем тем, что способно ослабить пробивную силу пуль.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ойдите, по возможности от окон и дверей, примите горизонтальное положение, в дальнейшем беспрекословно выполняйте команды  штурмовой группы.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 время штурма не берите в руки оружие преступников, вас могут принять за бандита и открыть огонь на поражение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8" name="Picture 4" descr="Национальный антитеррористический комитет провел учения в Выборгском районе"/>
          <p:cNvPicPr/>
          <p:nvPr/>
        </p:nvPicPr>
        <p:blipFill>
          <a:blip r:embed="rId1"/>
          <a:stretch/>
        </p:blipFill>
        <p:spPr>
          <a:xfrm>
            <a:off x="0" y="3143160"/>
            <a:ext cx="4571640" cy="3714480"/>
          </a:xfrm>
          <a:prstGeom prst="rect">
            <a:avLst/>
          </a:prstGeom>
          <a:ln w="9525">
            <a:noFill/>
          </a:ln>
        </p:spPr>
      </p:pic>
      <p:pic>
        <p:nvPicPr>
          <p:cNvPr id="69" name="Picture 5" descr="http://www.samaratoday.ru/img/2011/03/%D0%9D%D0%90%D0%9A-5.jpg"/>
          <p:cNvPicPr/>
          <p:nvPr/>
        </p:nvPicPr>
        <p:blipFill>
          <a:blip r:embed="rId2"/>
          <a:stretch/>
        </p:blipFill>
        <p:spPr>
          <a:xfrm>
            <a:off x="4572000" y="3143160"/>
            <a:ext cx="4571640" cy="371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520" cy="228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000000"/>
                </a:solidFill>
                <a:latin typeface="Trebuchet MS"/>
              </a:rPr>
              <a:t>От граждан РФ требуются повышенная бдительность и соблюдение мер личной безопасности против террористической деятельности.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1" name="Picture 4" descr="http://im3-tub-ru.yandex.net/i?id=167652353-23-72&amp;n=21"/>
          <p:cNvPicPr/>
          <p:nvPr/>
        </p:nvPicPr>
        <p:blipFill>
          <a:blip r:embed="rId1"/>
          <a:stretch/>
        </p:blipFill>
        <p:spPr>
          <a:xfrm>
            <a:off x="714240" y="2357280"/>
            <a:ext cx="7143480" cy="4500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072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Виды террористических актов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2920" y="785880"/>
            <a:ext cx="792936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- Политический терроризм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- Терроризм ,использующий религиозные мотивы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- Криминальный терроризм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- Националистический терроризм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-Технологический терроризм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зрывы в местах массового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коплениях людей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 на рынках, на стадионах,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окзалах, кинотеатрах,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жилых домов)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Взрыв 11 сентября 2011 года,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ью-Йорк)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572000" y="1643040"/>
            <a:ext cx="4571640" cy="5214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6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000000"/>
                </a:solidFill>
                <a:latin typeface="Trebuchet MS"/>
              </a:rPr>
              <a:t>Виды террористических актов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7238520" cy="52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Захват воздушных, морских судов, автомашин и других транспортных средств, удержание в них заложников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Похищение людей с целью выкупа и угроза физического уничтожения заложников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воздействие на опасные промышленные объекты (химически опасные производства, атомные электростанции и т.д.)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отравление воды в системах водоснабжения, продуктов питания, распространение возбудителей инфекционных заболеваний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кусственное загрязнение местности  радиоактивными отходами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</a:pPr>
            <a:endParaRPr b="1" lang="ru-RU" sz="3800" spc="-1" strike="noStrike" cap="all">
              <a:solidFill>
                <a:srgbClr val="fdf2e8"/>
              </a:solidFill>
              <a:latin typeface="Trebuchet MS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7572240" cy="6214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</a:pPr>
            <a:endParaRPr b="1" lang="ru-RU" sz="3800" spc="-1" strike="noStrike" cap="all">
              <a:solidFill>
                <a:srgbClr val="fdf2e8"/>
              </a:solidFill>
              <a:latin typeface="Trebuchet MS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7500600" cy="6286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</a:pPr>
            <a:endParaRPr b="1" lang="ru-RU" sz="3800" spc="-1" strike="noStrike" cap="all">
              <a:solidFill>
                <a:srgbClr val="fdf2e8"/>
              </a:solidFill>
              <a:latin typeface="Trebuchet MS"/>
            </a:endParaRPr>
          </a:p>
        </p:txBody>
      </p:sp>
      <p:pic>
        <p:nvPicPr>
          <p:cNvPr id="54" name="Picture 5" descr="http://im5-tub-ru.yandex.net/i?id=118679049-53-72&amp;n=21"/>
          <p:cNvPicPr/>
          <p:nvPr/>
        </p:nvPicPr>
        <p:blipFill>
          <a:blip r:embed="rId1"/>
          <a:stretch/>
        </p:blipFill>
        <p:spPr>
          <a:xfrm>
            <a:off x="285840" y="357120"/>
            <a:ext cx="7572240" cy="6286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7857720" cy="1785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 cap="all">
                <a:solidFill>
                  <a:srgbClr val="000000"/>
                </a:solidFill>
                <a:latin typeface="Trebuchet MS"/>
              </a:rPr>
              <a:t>Криминальный терроризм осуществляется уголовными элементами или криминальными группами с целью добиться определенных уступок от властей, запугать власть и население страны с помощью методов насилия и устрашения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7500600" cy="5214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520" cy="57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Исторические факты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807228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Мюнхен (ФРГ) 5 сентября 1972 год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Теракт был совершен во время Олимпийских игр. Жертвами стали 11 человек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b050"/>
                </a:solidFill>
                <a:latin typeface="Trebuchet MS"/>
              </a:rPr>
              <a:t>Москва, 9 сентября 1999 года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b050"/>
                </a:solidFill>
                <a:latin typeface="Trebuchet MS"/>
              </a:rPr>
              <a:t>Взрыв жилого дома на улице Гурьянова, погибло около 100 человек, пострадало 690 человек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Беслан (Северная Осетия - Алания)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1-3 сентября 2004 года.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Захват школы.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Погибло 330 человек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Москва 2010 год. Взрывы в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поездах метро «Лубянка» и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«Парк культуры»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2520" indent="-27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Погибло 88 человек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9" name="Picture 6" descr="http://www.metronews.ru/_internal/gxml!0/r0dc21o2f3vste5s7ezej9x3a10rp3w$bo26rfc6u1lqjmlcin35zz8it8yluqn/21645_164109.jpeg"/>
          <p:cNvPicPr/>
          <p:nvPr/>
        </p:nvPicPr>
        <p:blipFill>
          <a:blip r:embed="rId1"/>
          <a:stretch/>
        </p:blipFill>
        <p:spPr>
          <a:xfrm>
            <a:off x="4429080" y="3357720"/>
            <a:ext cx="4714560" cy="3499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89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000000"/>
                </a:solidFill>
                <a:latin typeface="Trebuchet MS"/>
              </a:rPr>
              <a:t>Рекомендации специалистов по снижению факторов риска для жизни и здоровья в случае теракта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2286000"/>
            <a:ext cx="7857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изнаки, свидетельствующие  о возможном взрыве: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еизвестная вещь в машине, в доме.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статки вещей нетипичных для данного места.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атянутая проволока, шнур.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Чужая сумка, портфель у вашей квартиры.</a:t>
            </a: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87</TotalTime>
  <Application>LibreOffice/7.4.7.2$Linux_X86_64 LibreOffice_project/40$Build-2</Application>
  <AppVersion>15.0000</AppVersion>
  <Words>593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21-03-01T13:41:54Z</dcterms:modified>
  <cp:revision>13</cp:revision>
  <dc:subject/>
  <dc:title>Урок ОБЖ  5 класс  Тема урока: «Виды террористических актов и их  последстви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