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F11-EB5D-4117-B50F-C2F4E15D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C5D-887A-4C82-9AFD-4CFEB6E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D81-0337-44D1-A665-185FE25F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298-79EF-478F-B289-A49E0D6D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EFB-A3EB-4BD6-8C42-798FF6BF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2DA-4F3E-4E03-9E0F-B3A6AC4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A15-F6F7-4522-896C-EE73926B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A80-B9FB-4734-9740-949A8E6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535-5549-47F1-8096-5307A51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D55-6C06-4875-A5D6-80799E3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7BE-CAD2-476F-9FCB-B75FBBF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FDB-EA9E-413D-9881-FF874E8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734422-1249-454E-A635-F6C8705A979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Террористический акт-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это совершение взрыва, поджога или иных действий, связанных с устрашением населения и создающие опасность гибели человека, причинение значительного имущественного ущерба либо наступление экологической катастрофы или иных особо тяжких последствий, в целях противоправного воздействия на принятие решения органами власти, а так же угроза совершения действий в тех же целях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федеральный закон о противодействии терроризму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Правила поведения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7714800" cy="57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рикасайтесь к бесхозным вещам. Ни в коем  случае не пытайтесь самостоятельно обезвредить взрывное устройство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общите о находке должностному лицу, взрослом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взрыв произошел и вы остались живы  установите и уточните обстановк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зажигайте спичек, зажигало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щитите органы дыхания от дыма мокрым платком, лоскутом ткан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возможности по телефону сообщите взрослым, в органы правопорядка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не возможности выйти из дома обычным путем  нужно выйти на балкон и звать на помощь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йдя из дома отойдите от него на безопасное расстояние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7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Если вы стали заложником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771480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одвергайте себя излишнему риску, не вызывайте агрессию у преступников своими действиями , слов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те спокойны, покладисты, терпеливы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вы не смогли убежать, не пытайтесь самостоятельно освободиться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момента захвата контролируйте все действия преступ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уйте любую возможность для передачи информации  о месте вашего нахождения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захваченном транспорте оставайтесь на своем месте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857640" cy="57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При  штурме спецподразделения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7686360" cy="574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старайтесь укрыться за  предметами (стол, кресло,шкаф)прикрыть свое тело от пуль подручными средствами, всем тем, что способно ослабить пробивную силу пуль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ойдите, по возможности от окон и дверей, примите горизонтальное положение, в дальнейшем беспрекословно выполняйте команды  штурмовой группы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 время штурма не берите в руки оружие преступников, вас могут принять за бандита и открыть огонь на поражение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8" name="Picture 4" descr="Национальный антитеррористический комитет провел учения в Выборгском районе"/>
          <p:cNvPicPr/>
          <p:nvPr/>
        </p:nvPicPr>
        <p:blipFill>
          <a:blip r:embed="rId1"/>
          <a:stretch/>
        </p:blipFill>
        <p:spPr>
          <a:xfrm>
            <a:off x="0" y="3143160"/>
            <a:ext cx="4571640" cy="3714480"/>
          </a:xfrm>
          <a:prstGeom prst="rect">
            <a:avLst/>
          </a:prstGeom>
          <a:ln w="9525">
            <a:noFill/>
          </a:ln>
        </p:spPr>
      </p:pic>
      <p:pic>
        <p:nvPicPr>
          <p:cNvPr id="69" name="Picture 5" descr="http://www.samaratoday.ru/img/2011/03/%D0%9D%D0%90%D0%9A-5.jpg"/>
          <p:cNvPicPr/>
          <p:nvPr/>
        </p:nvPicPr>
        <p:blipFill>
          <a:blip r:embed="rId2"/>
          <a:stretch/>
        </p:blipFill>
        <p:spPr>
          <a:xfrm>
            <a:off x="4572000" y="3143160"/>
            <a:ext cx="4571640" cy="37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228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От граждан РФ требуются повышенная бдительность и соблюдение мер личной безопасности против террористической деятельности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" name="Picture 4" descr="http://im3-tub-ru.yandex.net/i?id=167652353-23-72&amp;n=21"/>
          <p:cNvPicPr/>
          <p:nvPr/>
        </p:nvPicPr>
        <p:blipFill>
          <a:blip r:embed="rId1"/>
          <a:stretch/>
        </p:blipFill>
        <p:spPr>
          <a:xfrm>
            <a:off x="714240" y="2357280"/>
            <a:ext cx="7143480" cy="450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072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иды террористических актов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920" y="785880"/>
            <a:ext cx="792936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Полит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Терроризм ,использующий религиозные мотивы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Криминальны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Националист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Технолог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зрывы в местах массового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плениях людей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 на рынках, на стадионах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окзалах, кинотеатрах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жилых домов)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Взрыв 11 сентября 2011 года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ью-Йорк)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572000" y="1643040"/>
            <a:ext cx="457164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Виды террористических актов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7238520" cy="52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Захват воздушных, морских судов, автомашин и других транспортных средств, удержание в них залож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Похищение людей с целью выкупа и угроза физического уничтожения залож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воздействие на опасные промышленные объекты (химически опасные производства, атомные электростанции и т.д.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отравление воды в системах водоснабжения, продуктов питания, распространение возбудителей инфекционных заболеваний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кусственное загрязнение местности  радиоактивными отход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7572240" cy="6214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750060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4" name="Picture 5" descr="http://im5-tub-ru.yandex.net/i?id=118679049-53-72&amp;n=21"/>
          <p:cNvPicPr/>
          <p:nvPr/>
        </p:nvPicPr>
        <p:blipFill>
          <a:blip r:embed="rId1"/>
          <a:stretch/>
        </p:blipFill>
        <p:spPr>
          <a:xfrm>
            <a:off x="285840" y="357120"/>
            <a:ext cx="757224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7857720" cy="178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 cap="all">
                <a:solidFill>
                  <a:srgbClr val="000000"/>
                </a:solidFill>
                <a:latin typeface="Trebuchet MS"/>
              </a:rPr>
              <a:t>Криминальный терроризм осуществляется уголовными элементами или криминальными группами с целью добиться определенных уступок от властей, запугать власть и население страны с помощью методов насилия и устрашен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750060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57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Исторические факты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807228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Мюнхен (ФРГ) 5 сентября 1972 год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Теракт был совершен во время Олимпийских игр. Жертвами стали 11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Москва, 9 сентября 1999 года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Взрыв жилого дома на улице Гурьянова, погибло около 100 человек, пострадало 690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Беслан (Северная Осетия - Алания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1-3 сентября 2004 года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Захват школы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Погибло 330 челове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осква 2010 год. Взрывы в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поездах метро «Лубянка» 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Парк культуры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Погибло 88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Picture 6" descr="http://www.metronews.ru/_internal/gxml!0/r0dc21o2f3vste5s7ezej9x3a10rp3w$bo26rfc6u1lqjmlcin35zz8it8yluqn/21645_164109.jpeg"/>
          <p:cNvPicPr/>
          <p:nvPr/>
        </p:nvPicPr>
        <p:blipFill>
          <a:blip r:embed="rId1"/>
          <a:stretch/>
        </p:blipFill>
        <p:spPr>
          <a:xfrm>
            <a:off x="4429080" y="3357720"/>
            <a:ext cx="4714560" cy="3499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89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Рекомендации специалистов по снижению факторов риска для жизни и здоровья в случае теракта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2286000"/>
            <a:ext cx="7857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изнаки, свидетельствующие  о возможном взрыве: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известная вещь в машине, в доме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татки вещей нетипичных для данного места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тянутая проволока, шнур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Чужая сумка, портфель у вашей квартиры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87</TotalTime>
  <Application>LibreOffice/7.4.7.2$Linux_X86_64 LibreOffice_project/40$Build-2</Application>
  <AppVersion>15.0000</AppVersion>
  <Words>593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1-03-01T13:41:54Z</dcterms:modified>
  <cp:revision>13</cp:revision>
  <dc:subject/>
  <dc:title>Урок ОБЖ  5 класс  Тема урока: «Виды террористических актов и их  последств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