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FA9B-132D-4B86-ACB7-D4B05E270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93BD-D66C-4F5B-9DFC-0A7FD445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5176-0450-42C6-BC8D-32F2F466E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D634-E27B-4918-AE27-129F874B4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A1C31A-AC46-407D-9283-3AF5497FF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2790DA-9B21-41A6-BB56-5911CD85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42535F-D215-48B7-A5EE-F37A9BC9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670EF-92DC-4338-93E1-EA4A0BE9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36489-1C29-410A-84AD-1B98B63F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D3564-30CE-46F9-A109-4DC0447F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9A0D8B-60C9-4D45-B92D-36CF2E37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BED4-5BA1-4DF0-BAC6-A6437D7D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7C5E7A-18EF-48C4-A705-66974CC8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C3950-8838-44B8-AD5B-891C1738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642D4-0634-43E1-842C-B0DFB1BB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79D62-F4C0-4C35-9AA7-FF1AF82C3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6DB33-EB64-4CC9-8E4F-E89E92C13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743B-4D93-4F0E-8578-321F683D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11DD-BFC3-4E92-B0E0-D5A12900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99C8-E505-4E0C-B7C1-F28DDE33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1CB9-E804-49E9-9C8E-477359E15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8DE1-DF8D-48CE-9505-6ACA30269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1234-6916-442A-87D2-5E58BE08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3145-C2A4-4ACD-8BC5-BFFAEB35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c9c2d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c9c2d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c9c2d1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68BF36E-7D1E-4154-8F00-8D311DF53D1F}" type="slidenum">
              <a:rPr b="0" lang="ru-RU" sz="1600" spc="-1" strike="noStrike">
                <a:solidFill>
                  <a:srgbClr val="c9c2d1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33880"/>
            <a:ext cx="8305560" cy="198072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42" name="Прямая соединительная линия 7"/>
          <p:cNvCxnSpPr/>
          <p:nvPr/>
        </p:nvCxnSpPr>
        <p:spPr>
          <a:xfrm>
            <a:off x="1463400" y="3549960"/>
            <a:ext cx="2972160" cy="1800"/>
          </a:xfrm>
          <a:prstGeom prst="straightConnector1">
            <a:avLst/>
          </a:prstGeom>
          <a:ln>
            <a:solidFill>
              <a:srgbClr val="69676d">
                <a:tint val="20000"/>
              </a:srgbClr>
            </a:solidFill>
            <a:round/>
          </a:ln>
        </p:spPr>
      </p:cxnSp>
      <p:cxnSp>
        <p:nvCxnSpPr>
          <p:cNvPr id="43" name="Прямая соединительная линия 12"/>
          <p:cNvCxnSpPr/>
          <p:nvPr/>
        </p:nvCxnSpPr>
        <p:spPr>
          <a:xfrm>
            <a:off x="4708440" y="3549960"/>
            <a:ext cx="2972160" cy="1800"/>
          </a:xfrm>
          <a:prstGeom prst="straightConnector1">
            <a:avLst/>
          </a:prstGeom>
          <a:ln>
            <a:solidFill>
              <a:srgbClr val="69676d">
                <a:tint val="20000"/>
              </a:srgbClr>
            </a:solidFill>
            <a:round/>
          </a:ln>
        </p:spPr>
      </p:cxnSp>
      <p:sp>
        <p:nvSpPr>
          <p:cNvPr id="44" name="Овал 13"/>
          <p:cNvSpPr/>
          <p:nvPr/>
        </p:nvSpPr>
        <p:spPr>
          <a:xfrm>
            <a:off x="4540320" y="3526200"/>
            <a:ext cx="45360" cy="45360"/>
          </a:xfrm>
          <a:prstGeom prst="ellipse">
            <a:avLst/>
          </a:prstGeom>
          <a:solidFill>
            <a:srgbClr val="9cb084"/>
          </a:solidFill>
          <a:ln>
            <a:solidFill>
              <a:srgbClr val="9cb084"/>
            </a:solidFill>
            <a:round/>
          </a:ln>
          <a:effectLst>
            <a:outerShdw algn="tl" blurRad="31680" dir="0" rotWithShape="0">
              <a:srgbClr val="000000">
                <a:alpha val="55000"/>
              </a:srgbClr>
            </a:outerShdw>
          </a:effectLst>
        </p:spPr>
        <p:style>
          <a:lnRef idx="2">
            <a:schemeClr val="accent2"/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-12600" bIns="-12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c9c2d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c9c2d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c9c2d1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66C9B27-E0EC-4D78-A5E6-20F0D1036D62}" type="slidenum">
              <a:rPr b="0" lang="ru-RU" sz="1600" spc="-1" strike="noStrike">
                <a:solidFill>
                  <a:srgbClr val="c9c2d1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3"/>
          <p:cNvSpPr/>
          <p:nvPr/>
        </p:nvSpPr>
        <p:spPr>
          <a:xfrm>
            <a:off x="251640" y="404640"/>
            <a:ext cx="8568720" cy="39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e1d6b3"/>
                </a:solidFill>
                <a:latin typeface="Decree Narrow"/>
              </a:rPr>
              <a:t>Гражданская оборона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e1d6b3"/>
                </a:solidFill>
                <a:latin typeface="Decree Narrow"/>
              </a:rPr>
              <a:t>основные понятия и определения, задачи гражданской оборо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Untitled-36_2"/>
          <p:cNvPicPr/>
          <p:nvPr/>
        </p:nvPicPr>
        <p:blipFill>
          <a:blip r:embed="rId1"/>
          <a:stretch/>
        </p:blipFill>
        <p:spPr>
          <a:xfrm>
            <a:off x="2988000" y="3451320"/>
            <a:ext cx="1983960" cy="303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с двумя скругленными противолежащими углами 2"/>
          <p:cNvSpPr/>
          <p:nvPr/>
        </p:nvSpPr>
        <p:spPr>
          <a:xfrm>
            <a:off x="611640" y="260640"/>
            <a:ext cx="7920360" cy="15836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0000"/>
              </a:lnSpc>
              <a:spcAft>
                <a:spcPts val="839"/>
              </a:spcAf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проведение аварийно-спасательных работ в случае возникновения опасностей для населения при ведении военных действий или вследствие  этих действий, а также вследствие чрезвычайных ситуаций природного и техногенного характер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с двумя скругленными противолежащими углами 3"/>
          <p:cNvSpPr/>
          <p:nvPr/>
        </p:nvSpPr>
        <p:spPr>
          <a:xfrm>
            <a:off x="575640" y="1989000"/>
            <a:ext cx="7920360" cy="244800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первоочередное обеспечение населения, пострадавшего при ведении военных действий или вследствие этих действий, в том числе медицинское обслуживание, включая оказание первой медицинской помощи, срочное предоставление жилья и принятие других необходимых мер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с двумя скругленными противолежащими углами 4"/>
          <p:cNvSpPr/>
          <p:nvPr/>
        </p:nvSpPr>
        <p:spPr>
          <a:xfrm>
            <a:off x="548280" y="4606200"/>
            <a:ext cx="7992360" cy="9140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борьба с пожарами, возникшими при ведении военных действий или вследствие этих действ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с двумя скругленными противолежащими углами 5"/>
          <p:cNvSpPr/>
          <p:nvPr/>
        </p:nvSpPr>
        <p:spPr>
          <a:xfrm>
            <a:off x="503640" y="5589360"/>
            <a:ext cx="8136720" cy="9140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обнаружение и обозначение районов, подвергшихся радиоактивному, химическому, биологическому и иному заражению</a:t>
            </a: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с двумя скругленными противолежащими углами 2"/>
          <p:cNvSpPr/>
          <p:nvPr/>
        </p:nvSpPr>
        <p:spPr>
          <a:xfrm>
            <a:off x="575640" y="260640"/>
            <a:ext cx="7920360" cy="10796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0000"/>
              </a:lnSpc>
              <a:spcAft>
                <a:spcPts val="839"/>
              </a:spcAf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санитарная обработка населения, обеззараживание зданий и сооружений, специальная обработка техники и территор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с двумя скругленными противолежащими углами 3"/>
          <p:cNvSpPr/>
          <p:nvPr/>
        </p:nvSpPr>
        <p:spPr>
          <a:xfrm>
            <a:off x="594000" y="1556640"/>
            <a:ext cx="7920360" cy="187200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восстановление и поддержание порядка в районах, пострадавших при ведении военных  действий или вследствие этих действий, а также вследствие чрезвычайных ситуаций природного и техногенного характер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с двумя скругленными противолежащими углами 4"/>
          <p:cNvSpPr/>
          <p:nvPr/>
        </p:nvSpPr>
        <p:spPr>
          <a:xfrm>
            <a:off x="539640" y="3680280"/>
            <a:ext cx="7992360" cy="111636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срочное восстановление надежного функционирования необходимых коммунальных служб в военное врем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с двумя скругленными противолежащими углами 5"/>
          <p:cNvSpPr/>
          <p:nvPr/>
        </p:nvSpPr>
        <p:spPr>
          <a:xfrm>
            <a:off x="486000" y="5013000"/>
            <a:ext cx="8136720" cy="9140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срочное захоронение трупов в военное врем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с двумя скругленными противолежащими углами 2"/>
          <p:cNvSpPr/>
          <p:nvPr/>
        </p:nvSpPr>
        <p:spPr>
          <a:xfrm>
            <a:off x="611640" y="404640"/>
            <a:ext cx="7920360" cy="194400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разработка и осуществление мер, направленных на сохранение объектов, необходимых для устойчивого функционирования экономики и выживания населения в военное врем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с двумя скругленными противолежащими углами 3"/>
          <p:cNvSpPr/>
          <p:nvPr/>
        </p:nvSpPr>
        <p:spPr>
          <a:xfrm>
            <a:off x="538200" y="2637000"/>
            <a:ext cx="7920360" cy="10076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обеспечение постоянной готовности сил и средств гражданской об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Untitled-36_"/>
          <p:cNvPicPr/>
          <p:nvPr/>
        </p:nvPicPr>
        <p:blipFill>
          <a:blip r:embed="rId1"/>
          <a:stretch/>
        </p:blipFill>
        <p:spPr>
          <a:xfrm>
            <a:off x="368280" y="3733920"/>
            <a:ext cx="3699000" cy="2808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Untitled-36"/>
          <p:cNvPicPr/>
          <p:nvPr/>
        </p:nvPicPr>
        <p:blipFill>
          <a:blip r:embed="rId2"/>
          <a:stretch/>
        </p:blipFill>
        <p:spPr>
          <a:xfrm>
            <a:off x="4788000" y="3733920"/>
            <a:ext cx="3670560" cy="274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2671560" y="260640"/>
            <a:ext cx="32749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e1d6b3"/>
                </a:solidFill>
                <a:latin typeface="Constantia"/>
              </a:rPr>
              <a:t>Система 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с двумя скругленными противолежащими углами 2"/>
          <p:cNvSpPr/>
          <p:nvPr/>
        </p:nvSpPr>
        <p:spPr>
          <a:xfrm>
            <a:off x="539640" y="980640"/>
            <a:ext cx="7992360" cy="9140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у гражданской обороны составля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с двумя скругленными противолежащими углами 3"/>
          <p:cNvSpPr/>
          <p:nvPr/>
        </p:nvSpPr>
        <p:spPr>
          <a:xfrm>
            <a:off x="467640" y="2061000"/>
            <a:ext cx="8064360" cy="9140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ы повседневного управления по обеспечению защиты насе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с двумя скругленными противолежащими углами 4"/>
          <p:cNvSpPr/>
          <p:nvPr/>
        </p:nvSpPr>
        <p:spPr>
          <a:xfrm>
            <a:off x="539640" y="3141000"/>
            <a:ext cx="7992360" cy="9140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0000"/>
              </a:lnSpc>
              <a:spcAft>
                <a:spcPts val="839"/>
              </a:spcAf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лы и средства, предназначенные для выполнения задач гражданской оборо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с двумя скругленными противолежащими углами 5"/>
          <p:cNvSpPr/>
          <p:nvPr/>
        </p:nvSpPr>
        <p:spPr>
          <a:xfrm>
            <a:off x="539640" y="4293000"/>
            <a:ext cx="8136720" cy="12956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нды и резервы финансовых, медицинских и материально-технических средств, предусмотренных на случай чрезвычайной ситу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с двумя скругленными противолежащими углами 6"/>
          <p:cNvSpPr/>
          <p:nvPr/>
        </p:nvSpPr>
        <p:spPr>
          <a:xfrm>
            <a:off x="525960" y="5733360"/>
            <a:ext cx="8136720" cy="9140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ы связи, оповещения, управления и информационного обеспе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772200" y="260640"/>
            <a:ext cx="7790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e1d6b3"/>
                </a:solidFill>
                <a:latin typeface="Constantia"/>
              </a:rPr>
              <a:t>Структура органов управ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с двумя скругленными противолежащими углами 2"/>
          <p:cNvSpPr/>
          <p:nvPr/>
        </p:nvSpPr>
        <p:spPr>
          <a:xfrm>
            <a:off x="539640" y="980640"/>
            <a:ext cx="3096000" cy="9140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0000"/>
              </a:lnSpc>
              <a:spcAft>
                <a:spcPts val="839"/>
              </a:spcAf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Федеральный уров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с двумя скругленными противолежащими углами 3"/>
          <p:cNvSpPr/>
          <p:nvPr/>
        </p:nvSpPr>
        <p:spPr>
          <a:xfrm>
            <a:off x="467640" y="2061000"/>
            <a:ext cx="3096000" cy="9140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Межрегиональный уров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с двумя скругленными противолежащими углами 4"/>
          <p:cNvSpPr/>
          <p:nvPr/>
        </p:nvSpPr>
        <p:spPr>
          <a:xfrm>
            <a:off x="539640" y="3141000"/>
            <a:ext cx="3096000" cy="9140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0000"/>
              </a:lnSpc>
              <a:spcAft>
                <a:spcPts val="839"/>
              </a:spcAf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Региональный уров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с двумя скругленными противолежащими углами 5"/>
          <p:cNvSpPr/>
          <p:nvPr/>
        </p:nvSpPr>
        <p:spPr>
          <a:xfrm>
            <a:off x="539640" y="4293000"/>
            <a:ext cx="3096000" cy="9140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Муниципальный уров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с двумя скругленными противолежащими углами 6"/>
          <p:cNvSpPr/>
          <p:nvPr/>
        </p:nvSpPr>
        <p:spPr>
          <a:xfrm>
            <a:off x="539640" y="5445360"/>
            <a:ext cx="3168000" cy="9140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Объектовый уров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с двумя скругленными соседними углами 7"/>
          <p:cNvSpPr/>
          <p:nvPr/>
        </p:nvSpPr>
        <p:spPr>
          <a:xfrm>
            <a:off x="5148000" y="908640"/>
            <a:ext cx="3600000" cy="647640"/>
          </a:xfrm>
          <a:prstGeom prst="round2Same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МЧС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с двумя скругленными соседними углами 8"/>
          <p:cNvSpPr/>
          <p:nvPr/>
        </p:nvSpPr>
        <p:spPr>
          <a:xfrm>
            <a:off x="5148000" y="1895040"/>
            <a:ext cx="3672000" cy="816840"/>
          </a:xfrm>
          <a:prstGeom prst="round2Same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Региональные центры МЧС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с двумя скругленными соседними углами 9"/>
          <p:cNvSpPr/>
          <p:nvPr/>
        </p:nvSpPr>
        <p:spPr>
          <a:xfrm>
            <a:off x="5112000" y="2829600"/>
            <a:ext cx="3672000" cy="768240"/>
          </a:xfrm>
          <a:prstGeom prst="round2Same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Главные управления МЧС России по субъектам Р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с двумя скругленными соседними углами 10"/>
          <p:cNvSpPr/>
          <p:nvPr/>
        </p:nvSpPr>
        <p:spPr>
          <a:xfrm>
            <a:off x="5148000" y="3732840"/>
            <a:ext cx="3672000" cy="914040"/>
          </a:xfrm>
          <a:prstGeom prst="round2Same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Отделы ГОЧС органов местного самоуправ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с двумя скругленными соседними углами 11"/>
          <p:cNvSpPr/>
          <p:nvPr/>
        </p:nvSpPr>
        <p:spPr>
          <a:xfrm>
            <a:off x="5132880" y="4808160"/>
            <a:ext cx="3744000" cy="1860840"/>
          </a:xfrm>
          <a:prstGeom prst="round2Same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Структурные подразделения (работники) организаций, уполномоченные на решение задач в области 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Прямая со стрелкой 13"/>
          <p:cNvCxnSpPr>
            <a:stCxn id="136" idx="0"/>
            <a:endCxn id="141" idx="2"/>
          </p:cNvCxnSpPr>
          <p:nvPr/>
        </p:nvCxnSpPr>
        <p:spPr>
          <a:xfrm flipV="1">
            <a:off x="3635640" y="1232640"/>
            <a:ext cx="1512720" cy="2055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47" name="Прямая со стрелкой 17"/>
          <p:cNvCxnSpPr>
            <a:stCxn id="137" idx="0"/>
            <a:endCxn id="142" idx="2"/>
          </p:cNvCxnSpPr>
          <p:nvPr/>
        </p:nvCxnSpPr>
        <p:spPr>
          <a:xfrm flipV="1">
            <a:off x="3563640" y="2303640"/>
            <a:ext cx="1584720" cy="2145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48" name="Прямая со стрелкой 19"/>
          <p:cNvCxnSpPr>
            <a:stCxn id="138" idx="0"/>
            <a:endCxn id="143" idx="2"/>
          </p:cNvCxnSpPr>
          <p:nvPr/>
        </p:nvCxnSpPr>
        <p:spPr>
          <a:xfrm flipV="1">
            <a:off x="3635640" y="3213720"/>
            <a:ext cx="1476720" cy="38448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49" name="Прямая со стрелкой 21"/>
          <p:cNvCxnSpPr>
            <a:stCxn id="139" idx="0"/>
            <a:endCxn id="144" idx="2"/>
          </p:cNvCxnSpPr>
          <p:nvPr/>
        </p:nvCxnSpPr>
        <p:spPr>
          <a:xfrm flipV="1">
            <a:off x="3635640" y="4190040"/>
            <a:ext cx="1512720" cy="56052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50" name="Прямая со стрелкой 23"/>
          <p:cNvCxnSpPr>
            <a:stCxn id="140" idx="0"/>
            <a:endCxn id="145" idx="2"/>
          </p:cNvCxnSpPr>
          <p:nvPr/>
        </p:nvCxnSpPr>
        <p:spPr>
          <a:xfrm flipV="1">
            <a:off x="3707640" y="5738400"/>
            <a:ext cx="1425240" cy="1641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"/>
          <p:cNvSpPr/>
          <p:nvPr/>
        </p:nvSpPr>
        <p:spPr>
          <a:xfrm>
            <a:off x="0" y="190440"/>
            <a:ext cx="9143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e1d6b3"/>
                </a:solidFill>
                <a:latin typeface="Constantia"/>
              </a:rPr>
              <a:t>Введение гражданской оборо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1"/>
          <p:cNvSpPr/>
          <p:nvPr/>
        </p:nvSpPr>
        <p:spPr>
          <a:xfrm>
            <a:off x="285840" y="957960"/>
            <a:ext cx="5654160" cy="60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 соответствии с законом ведение ГО на территории Р Ф или в отдельных ее местностях начинается с момента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объявления состояния войны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фактического начала военных действий или введения Президентом РФ военного положения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 территории РФ или в отдельных ее местностях,  а также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при возникновении чс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иродного и техногенного характер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http://www.vsehpozdravil.ru/res/files/postcards/6174.jpg"/>
          <p:cNvPicPr/>
          <p:nvPr/>
        </p:nvPicPr>
        <p:blipFill>
          <a:blip r:embed="rId1"/>
          <a:stretch/>
        </p:blipFill>
        <p:spPr>
          <a:xfrm>
            <a:off x="6000840" y="4266720"/>
            <a:ext cx="2819160" cy="21142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54" name="Picture 4" descr="http://www.05.mchs.gov.ru/upload/iblock/992/99274dfaf5a79e5c6124d64ff9524bad.jpg"/>
          <p:cNvPicPr/>
          <p:nvPr/>
        </p:nvPicPr>
        <p:blipFill>
          <a:blip r:embed="rId2"/>
          <a:stretch/>
        </p:blipFill>
        <p:spPr>
          <a:xfrm>
            <a:off x="5940000" y="1052640"/>
            <a:ext cx="2939400" cy="2204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0" y="241560"/>
            <a:ext cx="91436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e1d6b3"/>
                </a:solidFill>
                <a:latin typeface="Constantia"/>
              </a:rPr>
              <a:t>Права и обязанности граждан РФ в области ГО (ст. 10 Ф.З. №2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с двумя скругленными противолежащими углами 2"/>
          <p:cNvSpPr/>
          <p:nvPr/>
        </p:nvSpPr>
        <p:spPr>
          <a:xfrm>
            <a:off x="871200" y="2925000"/>
            <a:ext cx="7560360" cy="9140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проходят обучение в области по ГО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с двумя скругленными противолежащими углами 3"/>
          <p:cNvSpPr/>
          <p:nvPr/>
        </p:nvSpPr>
        <p:spPr>
          <a:xfrm>
            <a:off x="887760" y="4005000"/>
            <a:ext cx="7503480" cy="11516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принимают участие в проведении других мероприятий по ГО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с двумя скругленными противолежащими углами 4"/>
          <p:cNvSpPr/>
          <p:nvPr/>
        </p:nvSpPr>
        <p:spPr>
          <a:xfrm>
            <a:off x="871200" y="5301360"/>
            <a:ext cx="7520040" cy="12956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оказывают содействие органам государственной власти и организациям в решении задач в области 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с двумя скругленными противолежащими углами 5"/>
          <p:cNvSpPr/>
          <p:nvPr/>
        </p:nvSpPr>
        <p:spPr>
          <a:xfrm>
            <a:off x="887760" y="1568160"/>
            <a:ext cx="7503480" cy="121248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Граждане РФ в соответствии с Федеральными законами и иными нормативными правовыми актами РФ</a:t>
            </a:r>
            <a:r>
              <a:rPr b="1" lang="en-US" sz="2800" spc="-1" strike="noStrike">
                <a:solidFill>
                  <a:srgbClr val="002060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1"/>
          <p:cNvSpPr/>
          <p:nvPr/>
        </p:nvSpPr>
        <p:spPr>
          <a:xfrm>
            <a:off x="0" y="190440"/>
            <a:ext cx="9143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e1d6b3"/>
                </a:solidFill>
                <a:latin typeface="Constantia"/>
              </a:rPr>
              <a:t>Заклю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1"/>
          <p:cNvSpPr/>
          <p:nvPr/>
        </p:nvSpPr>
        <p:spPr>
          <a:xfrm>
            <a:off x="285840" y="957960"/>
            <a:ext cx="565416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8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ГО является одной из важнейших функций государства. Она обеспечивает оборонное строительство и безопасность населения страны. В настоящее время это отлаженная и эффективно работающая система, оказывающая экстренную помощь при форс-мажорных ситуациях не только в нашей стране, но и за рубежом. В ее состав входят противопожарная служба, войска гражданской обороны, авиация, поисково-спасательные подразделения, работающие в круглосуточном режиме реагирования на чрезвычайные происше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http://www.vsehpozdravil.ru/res/files/postcards/6174.jpg"/>
          <p:cNvPicPr/>
          <p:nvPr/>
        </p:nvPicPr>
        <p:blipFill>
          <a:blip r:embed="rId1"/>
          <a:stretch/>
        </p:blipFill>
        <p:spPr>
          <a:xfrm>
            <a:off x="6000840" y="4266720"/>
            <a:ext cx="2819160" cy="21142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63" name="Picture 4" descr="http://www.05.mchs.gov.ru/upload/iblock/992/99274dfaf5a79e5c6124d64ff9524bad.jpg"/>
          <p:cNvPicPr/>
          <p:nvPr/>
        </p:nvPicPr>
        <p:blipFill>
          <a:blip r:embed="rId2"/>
          <a:stretch/>
        </p:blipFill>
        <p:spPr>
          <a:xfrm>
            <a:off x="5940000" y="1052640"/>
            <a:ext cx="2939400" cy="2204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3"/>
          <p:cNvSpPr/>
          <p:nvPr/>
        </p:nvSpPr>
        <p:spPr>
          <a:xfrm>
            <a:off x="395640" y="476640"/>
            <a:ext cx="849672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ражданская оборон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система мероприятий по подготовке к защите и по защите населения, материальных и культурных ценностей на территории Российской Федерации от опасностей, возникающих при ведении военных действий или вследствие этих действий, а также при возникновении чрезвычайных ситуаций природного и техногенного характ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1188720" y="260640"/>
            <a:ext cx="71992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e1d6b3"/>
                </a:solidFill>
                <a:latin typeface="Constantia"/>
              </a:rPr>
              <a:t>Этапы становления гражданской оборо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5"/>
          <p:cNvSpPr/>
          <p:nvPr/>
        </p:nvSpPr>
        <p:spPr>
          <a:xfrm>
            <a:off x="491400" y="1460880"/>
            <a:ext cx="828072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ервый этап.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Защита населения и народного хозяйства от ударов с воздуха стала осуществляться в первую мировую войну 1914—1918 гг. В 20—30-х годах во многих европейских государствах возникла </a:t>
            </a: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местная противовоздушная оборона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(МПВО)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— система оборонных мероприят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Untitled-3"/>
          <p:cNvPicPr/>
          <p:nvPr/>
        </p:nvPicPr>
        <p:blipFill>
          <a:blip r:embed="rId1"/>
          <a:stretch/>
        </p:blipFill>
        <p:spPr>
          <a:xfrm>
            <a:off x="491400" y="4492800"/>
            <a:ext cx="3432240" cy="2201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Untitled-36_1"/>
          <p:cNvPicPr/>
          <p:nvPr/>
        </p:nvPicPr>
        <p:blipFill>
          <a:blip r:embed="rId2"/>
          <a:stretch/>
        </p:blipFill>
        <p:spPr>
          <a:xfrm>
            <a:off x="5220000" y="4484520"/>
            <a:ext cx="340920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3"/>
          <p:cNvSpPr/>
          <p:nvPr/>
        </p:nvSpPr>
        <p:spPr>
          <a:xfrm>
            <a:off x="179640" y="476640"/>
            <a:ext cx="867600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Второй этап </a:t>
            </a: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июнь 1941-1945 г.г.). Охватывает годы Великой Отечественной войны. Опыт войны показал, что от успешного решения задач по организации МПВО-ГО в значительной степени зависела не только бесперебойная работа промышленности и транспорта, но и высокое морально политическое состояние войс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http://yansk.ru/images/news/b_AD9EA6B1-1F11-47FA-B3E5-02F88C65A17D.jpg"/>
          <p:cNvPicPr/>
          <p:nvPr/>
        </p:nvPicPr>
        <p:blipFill>
          <a:blip r:embed="rId1"/>
          <a:stretch/>
        </p:blipFill>
        <p:spPr>
          <a:xfrm>
            <a:off x="323640" y="3861000"/>
            <a:ext cx="3621960" cy="2592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94" name="Picture 6" descr="http://cp12.nevsepic.com.ua/61/1353763645-0477242-www.nevsepic.com.ua.jpg"/>
          <p:cNvPicPr/>
          <p:nvPr/>
        </p:nvPicPr>
        <p:blipFill>
          <a:blip r:embed="rId2"/>
          <a:stretch/>
        </p:blipFill>
        <p:spPr>
          <a:xfrm>
            <a:off x="4428000" y="4005000"/>
            <a:ext cx="3722760" cy="2304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2"/>
          <p:cNvSpPr/>
          <p:nvPr/>
        </p:nvSpPr>
        <p:spPr>
          <a:xfrm>
            <a:off x="393480" y="332640"/>
            <a:ext cx="828072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Третий этап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(июнь 1945 - июль 1961 г.г.). На этом этапе руководство МПВО-ГО было возложено на исполнительные органы Советов депутатов трудящихся краев, областей, городов и райо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http://www.protivogas.ru/gal/big/17/8370.jpg"/>
          <p:cNvPicPr/>
          <p:nvPr/>
        </p:nvPicPr>
        <p:blipFill>
          <a:blip r:embed="rId1"/>
          <a:stretch/>
        </p:blipFill>
        <p:spPr>
          <a:xfrm>
            <a:off x="3393360" y="2148480"/>
            <a:ext cx="2663640" cy="18298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97" name="Прямоугольник 5"/>
          <p:cNvSpPr/>
          <p:nvPr/>
        </p:nvSpPr>
        <p:spPr>
          <a:xfrm>
            <a:off x="404640" y="4293000"/>
            <a:ext cx="82580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Четвертый этап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(с декабря 1991 г. по настоящее время) начался с упразднения государственных структур СССР, образованием СНГ и созданием Российской системы предупреждения и действий в чрезвычайных ситуациях (РСЧС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Untitled-1_3"/>
          <p:cNvPicPr/>
          <p:nvPr/>
        </p:nvPicPr>
        <p:blipFill>
          <a:blip r:embed="rId2"/>
          <a:stretch/>
        </p:blipFill>
        <p:spPr>
          <a:xfrm>
            <a:off x="439560" y="2148480"/>
            <a:ext cx="2763720" cy="1829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Untitled-6"/>
          <p:cNvPicPr/>
          <p:nvPr/>
        </p:nvPicPr>
        <p:blipFill>
          <a:blip r:embed="rId3"/>
          <a:stretch/>
        </p:blipFill>
        <p:spPr>
          <a:xfrm>
            <a:off x="6156000" y="2148480"/>
            <a:ext cx="2695320" cy="192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3" descr="193340.jpg"/>
          <p:cNvPicPr/>
          <p:nvPr/>
        </p:nvPicPr>
        <p:blipFill>
          <a:blip r:embed="rId1"/>
          <a:stretch/>
        </p:blipFill>
        <p:spPr>
          <a:xfrm>
            <a:off x="4212000" y="2184120"/>
            <a:ext cx="2599200" cy="40579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344880" y="332640"/>
            <a:ext cx="856872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Дальнейшему развитию системы гражданской обороны послужило принятие Федерального закона от 12.02.1998 N 28-ФЗ (ред. от 30.12.2015) "О гражданской обороне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2880360" y="116640"/>
            <a:ext cx="4787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e1d6b3"/>
                </a:solidFill>
                <a:latin typeface="Constantia"/>
              </a:rPr>
              <a:t>Руковод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179640" y="836640"/>
            <a:ext cx="8856720" cy="60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уководство гражданской обороной в Российской Федерации осуществляет Правительство Российской Федер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 1994 г. по 2012 год должность Министра РФ по делам ГО, ЧС и ликвидации последствий стихийных бедствий занимал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Шойгу Сергей Кужугетович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. С 2012 года по настоящее   время: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учков Владими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Андреевич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Минис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 делам ГО, ЧС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ликвидации послед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тихийных бедств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467640" y="3988080"/>
            <a:ext cx="1872360" cy="2588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www.mchs.gov.ru/upload/site1/document_manager/4RW56i3HTs-178xx268.jpg"/>
          <p:cNvPicPr/>
          <p:nvPr/>
        </p:nvPicPr>
        <p:blipFill>
          <a:blip r:embed="rId2"/>
          <a:stretch/>
        </p:blipFill>
        <p:spPr>
          <a:xfrm>
            <a:off x="2880360" y="4027320"/>
            <a:ext cx="1702800" cy="256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1584000" y="118440"/>
            <a:ext cx="5435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e1d6b3"/>
                </a:solidFill>
                <a:latin typeface="Constantia"/>
              </a:rPr>
              <a:t>Руководство 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с двумя скругленными противолежащими углами 5"/>
          <p:cNvSpPr/>
          <p:nvPr/>
        </p:nvSpPr>
        <p:spPr>
          <a:xfrm>
            <a:off x="539640" y="836640"/>
            <a:ext cx="7848360" cy="208800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827640" y="980640"/>
            <a:ext cx="800064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Руководство гражданской обороной в федеральных органах исполнительной власти и организациях осуществляют руководители этих органов и организац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с двумя скругленными противолежащими углами 7"/>
          <p:cNvSpPr/>
          <p:nvPr/>
        </p:nvSpPr>
        <p:spPr>
          <a:xfrm>
            <a:off x="516240" y="3534120"/>
            <a:ext cx="7848360" cy="266400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10" name="Прямоугольник 8"/>
          <p:cNvSpPr/>
          <p:nvPr/>
        </p:nvSpPr>
        <p:spPr>
          <a:xfrm>
            <a:off x="683640" y="3573000"/>
            <a:ext cx="756036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Руководство гражданской обороной на территориях субъектов Российской Федерации и муниципальных образований осуществляют соответственно главы органов исполнительной власти субъектов Российской Федерации и руководители органов местного самоупр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с двумя скругленными противолежащими углами 1"/>
          <p:cNvSpPr/>
          <p:nvPr/>
        </p:nvSpPr>
        <p:spPr>
          <a:xfrm>
            <a:off x="611640" y="764640"/>
            <a:ext cx="7920360" cy="9356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0000"/>
              </a:lnSpc>
              <a:spcAft>
                <a:spcPts val="839"/>
              </a:spcAf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обучение населения в области гражданской обороны</a:t>
            </a: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с двумя скругленными противолежащими углами 2"/>
          <p:cNvSpPr/>
          <p:nvPr/>
        </p:nvSpPr>
        <p:spPr>
          <a:xfrm>
            <a:off x="611640" y="1845000"/>
            <a:ext cx="7992360" cy="165600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оповещение населения об опасностях, возникающих при ведении военных действий или вследствие этих действий, а также при возникновении чрезвычайных ситуаций природного и техногенного характер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с двумя скругленными противолежащими углами 4"/>
          <p:cNvSpPr/>
          <p:nvPr/>
        </p:nvSpPr>
        <p:spPr>
          <a:xfrm>
            <a:off x="578880" y="3630240"/>
            <a:ext cx="8064360" cy="9140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эвакуация населения, материальных и культурных ценностей в безопасные район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с двумя скругленными противолежащими углами 5"/>
          <p:cNvSpPr/>
          <p:nvPr/>
        </p:nvSpPr>
        <p:spPr>
          <a:xfrm>
            <a:off x="506880" y="4678200"/>
            <a:ext cx="8208720" cy="9140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предоставление населению убежищ и средств индивидуальной защит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с двумя скругленными противолежащими углами 6"/>
          <p:cNvSpPr/>
          <p:nvPr/>
        </p:nvSpPr>
        <p:spPr>
          <a:xfrm>
            <a:off x="503640" y="5661360"/>
            <a:ext cx="8136720" cy="9140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проведение мероприятий по световой маскировке и другим видам маскиров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7"/>
          <p:cNvSpPr/>
          <p:nvPr/>
        </p:nvSpPr>
        <p:spPr>
          <a:xfrm>
            <a:off x="1912320" y="116640"/>
            <a:ext cx="5193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e1d6b3"/>
                </a:solidFill>
                <a:latin typeface="Constantia"/>
              </a:rPr>
              <a:t>Основные задачи 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Бумажная">
  <a:themeElements>
    <a:clrScheme name="Апекс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Бумажная">
  <a:themeElements>
    <a:clrScheme name="Апекс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aper</Template>
  <TotalTime>770</TotalTime>
  <Application>LibreOffice/7.4.7.2$Linux_X86_64 LibreOffice_project/40$Build-2</Application>
  <AppVersion>15.0000</AppVersion>
  <Words>873</Words>
  <Paragraphs>62</Paragraphs>
  <Company>МОУ СОШ №4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1:48:12Z</dcterms:created>
  <dc:creator>Рабочая станция</dc:creator>
  <dc:description/>
  <dc:language>en-US</dc:language>
  <cp:lastModifiedBy>Плохих Е В</cp:lastModifiedBy>
  <dcterms:modified xsi:type="dcterms:W3CDTF">2020-09-22T14:38:43Z</dcterms:modified>
  <cp:revision>8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7</vt:r8>
  </property>
</Properties>
</file>