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449-9BAE-4177-97EC-88AC1CF4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C4F-1C1D-455B-AA67-C47ECF4E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048-68E6-4B2D-8EF4-7A857221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641-C932-4829-9715-35E6FB24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C4418-6C64-4BD2-BA83-C24492F1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702BE-0677-4097-8DC8-C4EA185B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D551E-06FC-47B9-AD87-7D788DF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06812-117C-4AA6-8C9D-D34D0707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FBA5-6C19-41F7-8F94-9E4826F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AB133-CD73-4687-9F04-EB957851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CF7E8-2936-464F-9B3C-581C230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756-FB9C-4AF2-8AE8-16F1E96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DD423-AD16-4295-B18E-9F8A911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07CD1-E85D-425C-9165-4C98C46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3EE79-97EB-40F7-ACCA-B625071E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E23B-A63D-4C39-90A0-E0F23DA1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AAC61-820B-49EB-ABDE-8C8D997E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ED2-4BC3-481A-8356-9300E78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615-9D5A-4F83-86CA-4F2E2BA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B0A-E9A2-4BDD-82D6-91FE68CF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F49-1546-4F20-B39A-BA833F14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CFA-18E6-4CA6-961C-4DD32CCE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149-924C-4EAC-ADBB-7438E70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D33-E02E-4379-970B-0E8DAFF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9c2d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D8A93FD-F3F1-4E76-B6DD-4EA3DD0AD6C3}" type="slidenum">
              <a:rPr b="0" lang="ru-RU" sz="1600" spc="-1" strike="noStrike">
                <a:solidFill>
                  <a:srgbClr val="c9c2d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42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>
            <a:solidFill>
              <a:srgbClr val="69676d">
                <a:tint val="20000"/>
              </a:srgbClr>
            </a:solidFill>
            <a:round/>
          </a:ln>
        </p:spPr>
      </p:cxnSp>
      <p:cxnSp>
        <p:nvCxnSpPr>
          <p:cNvPr id="43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>
            <a:solidFill>
              <a:srgbClr val="69676d">
                <a:tint val="20000"/>
              </a:srgbClr>
            </a:solidFill>
            <a:round/>
          </a:ln>
        </p:spPr>
      </p:cxnSp>
      <p:sp>
        <p:nvSpPr>
          <p:cNvPr id="44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9cb084"/>
          </a:solidFill>
          <a:ln>
            <a:solidFill>
              <a:srgbClr val="9cb084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9c2d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081AFE-E59E-41EE-885A-F18124D88647}" type="slidenum">
              <a:rPr b="0" lang="ru-RU" sz="1600" spc="-1" strike="noStrike">
                <a:solidFill>
                  <a:srgbClr val="c9c2d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1640" y="404640"/>
            <a:ext cx="856872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e1d6b3"/>
                </a:solidFill>
                <a:latin typeface="Decree Narrow"/>
              </a:rPr>
              <a:t>Гражданская оборон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e1d6b3"/>
                </a:solidFill>
                <a:latin typeface="Decree Narrow"/>
              </a:rPr>
              <a:t>основные понятия и определения, задачи гражданской об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-36_2"/>
          <p:cNvPicPr/>
          <p:nvPr/>
        </p:nvPicPr>
        <p:blipFill>
          <a:blip r:embed="rId1"/>
          <a:stretch/>
        </p:blipFill>
        <p:spPr>
          <a:xfrm>
            <a:off x="2988000" y="3451320"/>
            <a:ext cx="1983960" cy="303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с двумя скругленными противолежащими углами 2"/>
          <p:cNvSpPr/>
          <p:nvPr/>
        </p:nvSpPr>
        <p:spPr>
          <a:xfrm>
            <a:off x="611640" y="260640"/>
            <a:ext cx="7920360" cy="1583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едение аварийно-спасательных работ в случае возникновения опасностей для населения при ведении военных действий или вследствие  этих действий, а также вследствие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с двумя скругленными противолежащими углами 3"/>
          <p:cNvSpPr/>
          <p:nvPr/>
        </p:nvSpPr>
        <p:spPr>
          <a:xfrm>
            <a:off x="575640" y="1989000"/>
            <a:ext cx="7920360" cy="2448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ервоочередное обеспечение населения, пострадавшего при ведении военных действий или вследствие этих действий, в том числе медицинское обслуживание, включая оказание первой медицинской помощи, срочное предоставление жилья и принятие других необходимых м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с двумя скругленными противолежащими углами 4"/>
          <p:cNvSpPr/>
          <p:nvPr/>
        </p:nvSpPr>
        <p:spPr>
          <a:xfrm>
            <a:off x="548280" y="460620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борьба с пожарами, возникшими при ведении военных действий или вследствие этих 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с двумя скругленными противолежащими углами 5"/>
          <p:cNvSpPr/>
          <p:nvPr/>
        </p:nvSpPr>
        <p:spPr>
          <a:xfrm>
            <a:off x="503640" y="5589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наружение и обозначение районов, подвергшихся радиоактивному, химическому, биологическому и иному заражению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с двумя скругленными противолежащими углами 2"/>
          <p:cNvSpPr/>
          <p:nvPr/>
        </p:nvSpPr>
        <p:spPr>
          <a:xfrm>
            <a:off x="575640" y="260640"/>
            <a:ext cx="7920360" cy="1079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анитарная обработка населения, обеззараживание зданий и сооружений, специальная обработка техники и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с двумя скругленными противолежащими углами 3"/>
          <p:cNvSpPr/>
          <p:nvPr/>
        </p:nvSpPr>
        <p:spPr>
          <a:xfrm>
            <a:off x="594000" y="1556640"/>
            <a:ext cx="7920360" cy="1872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восстановление и поддержание порядка в районах, пострадавших при ведении военных  действий или вследствие этих действий, а также вследствие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противолежащими углами 4"/>
          <p:cNvSpPr/>
          <p:nvPr/>
        </p:nvSpPr>
        <p:spPr>
          <a:xfrm>
            <a:off x="539640" y="3680280"/>
            <a:ext cx="7992360" cy="11163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рочное восстановление надежного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5"/>
          <p:cNvSpPr/>
          <p:nvPr/>
        </p:nvSpPr>
        <p:spPr>
          <a:xfrm>
            <a:off x="486000" y="501300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рочное захоронение трупов в военн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с двумя скругленными противолежащими углами 2"/>
          <p:cNvSpPr/>
          <p:nvPr/>
        </p:nvSpPr>
        <p:spPr>
          <a:xfrm>
            <a:off x="611640" y="404640"/>
            <a:ext cx="7920360" cy="1944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азработка и осуществление мер, направленных на сохранение объектов, необходимых для устойчивого функционирования экономики и выживания населения в военн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с двумя скругленными противолежащими углами 3"/>
          <p:cNvSpPr/>
          <p:nvPr/>
        </p:nvSpPr>
        <p:spPr>
          <a:xfrm>
            <a:off x="538200" y="2637000"/>
            <a:ext cx="7920360" cy="1007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еспечение постоянной готовности сил и средств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Untitled-36_"/>
          <p:cNvPicPr/>
          <p:nvPr/>
        </p:nvPicPr>
        <p:blipFill>
          <a:blip r:embed="rId1"/>
          <a:stretch/>
        </p:blipFill>
        <p:spPr>
          <a:xfrm>
            <a:off x="368280" y="3733920"/>
            <a:ext cx="3699000" cy="280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Untitled-36"/>
          <p:cNvPicPr/>
          <p:nvPr/>
        </p:nvPicPr>
        <p:blipFill>
          <a:blip r:embed="rId2"/>
          <a:stretch/>
        </p:blipFill>
        <p:spPr>
          <a:xfrm>
            <a:off x="4788000" y="3733920"/>
            <a:ext cx="3670560" cy="27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671560" y="260640"/>
            <a:ext cx="3274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e1d6b3"/>
                </a:solidFill>
                <a:latin typeface="Constantia"/>
              </a:rPr>
              <a:t>Система 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двумя скругленными противолежащими углами 2"/>
          <p:cNvSpPr/>
          <p:nvPr/>
        </p:nvSpPr>
        <p:spPr>
          <a:xfrm>
            <a:off x="539640" y="98064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гражданской обороны состав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с двумя скругленными противолежащими углами 3"/>
          <p:cNvSpPr/>
          <p:nvPr/>
        </p:nvSpPr>
        <p:spPr>
          <a:xfrm>
            <a:off x="467640" y="2061000"/>
            <a:ext cx="8064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повседневного управления по обеспечению защиты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с двумя скругленными противолежащими углами 4"/>
          <p:cNvSpPr/>
          <p:nvPr/>
        </p:nvSpPr>
        <p:spPr>
          <a:xfrm>
            <a:off x="539640" y="314100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ы и средства, предназначенные для выполнения задач гражданской оборо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двумя скругленными противолежащими углами 5"/>
          <p:cNvSpPr/>
          <p:nvPr/>
        </p:nvSpPr>
        <p:spPr>
          <a:xfrm>
            <a:off x="539640" y="4293000"/>
            <a:ext cx="8136720" cy="129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ды и резервы финансовых, медицинских и материально-технических средств, предусмотренных на случай чрезвычай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с двумя скругленными противолежащими углами 6"/>
          <p:cNvSpPr/>
          <p:nvPr/>
        </p:nvSpPr>
        <p:spPr>
          <a:xfrm>
            <a:off x="525960" y="5733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связи, оповещения, управления и информацион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772200" y="260640"/>
            <a:ext cx="779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Структура органов у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2"/>
          <p:cNvSpPr/>
          <p:nvPr/>
        </p:nvSpPr>
        <p:spPr>
          <a:xfrm>
            <a:off x="539640" y="98064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Федер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3"/>
          <p:cNvSpPr/>
          <p:nvPr/>
        </p:nvSpPr>
        <p:spPr>
          <a:xfrm>
            <a:off x="467640" y="2061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еж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с двумя скругленными противолежащими углами 4"/>
          <p:cNvSpPr/>
          <p:nvPr/>
        </p:nvSpPr>
        <p:spPr>
          <a:xfrm>
            <a:off x="539640" y="3141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5"/>
          <p:cNvSpPr/>
          <p:nvPr/>
        </p:nvSpPr>
        <p:spPr>
          <a:xfrm>
            <a:off x="539640" y="4293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уницип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с двумя скругленными противолежащими углами 6"/>
          <p:cNvSpPr/>
          <p:nvPr/>
        </p:nvSpPr>
        <p:spPr>
          <a:xfrm>
            <a:off x="539640" y="5445360"/>
            <a:ext cx="3168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ъектов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с двумя скругленными соседними углами 7"/>
          <p:cNvSpPr/>
          <p:nvPr/>
        </p:nvSpPr>
        <p:spPr>
          <a:xfrm>
            <a:off x="5148000" y="908640"/>
            <a:ext cx="3600000" cy="6476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ЧС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с двумя скругленными соседними углами 8"/>
          <p:cNvSpPr/>
          <p:nvPr/>
        </p:nvSpPr>
        <p:spPr>
          <a:xfrm>
            <a:off x="5148000" y="1895040"/>
            <a:ext cx="3672000" cy="8168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Региональные центры МЧС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с двумя скругленными соседними углами 9"/>
          <p:cNvSpPr/>
          <p:nvPr/>
        </p:nvSpPr>
        <p:spPr>
          <a:xfrm>
            <a:off x="5112000" y="2829600"/>
            <a:ext cx="3672000" cy="768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Главные управления МЧС России по субъектам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с двумя скругленными соседними углами 10"/>
          <p:cNvSpPr/>
          <p:nvPr/>
        </p:nvSpPr>
        <p:spPr>
          <a:xfrm>
            <a:off x="5148000" y="3732840"/>
            <a:ext cx="3672000" cy="9140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Отделы ГОЧС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с двумя скругленными соседними углами 11"/>
          <p:cNvSpPr/>
          <p:nvPr/>
        </p:nvSpPr>
        <p:spPr>
          <a:xfrm>
            <a:off x="5132880" y="4808160"/>
            <a:ext cx="3744000" cy="18608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Структурные подразделения (работники) организаций, уполномоченные на решение задач в области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13"/>
          <p:cNvCxnSpPr>
            <a:stCxn id="136" idx="0"/>
            <a:endCxn id="141" idx="2"/>
          </p:cNvCxnSpPr>
          <p:nvPr/>
        </p:nvCxnSpPr>
        <p:spPr>
          <a:xfrm flipV="1">
            <a:off x="3635640" y="1232640"/>
            <a:ext cx="1512720" cy="205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7" name="Прямая со стрелкой 17"/>
          <p:cNvCxnSpPr>
            <a:stCxn id="137" idx="0"/>
            <a:endCxn id="142" idx="2"/>
          </p:cNvCxnSpPr>
          <p:nvPr/>
        </p:nvCxnSpPr>
        <p:spPr>
          <a:xfrm flipV="1">
            <a:off x="3563640" y="2303640"/>
            <a:ext cx="1584720" cy="214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8" name="Прямая со стрелкой 19"/>
          <p:cNvCxnSpPr>
            <a:stCxn id="138" idx="0"/>
            <a:endCxn id="143" idx="2"/>
          </p:cNvCxnSpPr>
          <p:nvPr/>
        </p:nvCxnSpPr>
        <p:spPr>
          <a:xfrm flipV="1">
            <a:off x="3635640" y="3213720"/>
            <a:ext cx="1476720" cy="384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9" name="Прямая со стрелкой 21"/>
          <p:cNvCxnSpPr>
            <a:stCxn id="139" idx="0"/>
            <a:endCxn id="144" idx="2"/>
          </p:cNvCxnSpPr>
          <p:nvPr/>
        </p:nvCxnSpPr>
        <p:spPr>
          <a:xfrm flipV="1">
            <a:off x="3635640" y="4190040"/>
            <a:ext cx="1512720" cy="560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" name="Прямая со стрелкой 23"/>
          <p:cNvCxnSpPr>
            <a:stCxn id="140" idx="0"/>
            <a:endCxn id="145" idx="2"/>
          </p:cNvCxnSpPr>
          <p:nvPr/>
        </p:nvCxnSpPr>
        <p:spPr>
          <a:xfrm flipV="1">
            <a:off x="3707640" y="5738400"/>
            <a:ext cx="1425240" cy="164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0" y="190440"/>
            <a:ext cx="91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Введение гражданской об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285840" y="957960"/>
            <a:ext cx="565416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соответствии с законом ведение ГО на территории Р Ф или в отдельных ее местностях начинается с момент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бъявления состояния войны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актического начала военных действий или введения Президентом РФ военного положе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территории РФ или в отдельных ее местностях,  а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и возникновении чс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родного и техногенного характе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www.vsehpozdravil.ru/res/files/postcards/6174.jpg"/>
          <p:cNvPicPr/>
          <p:nvPr/>
        </p:nvPicPr>
        <p:blipFill>
          <a:blip r:embed="rId1"/>
          <a:stretch/>
        </p:blipFill>
        <p:spPr>
          <a:xfrm>
            <a:off x="6000840" y="4266720"/>
            <a:ext cx="2819160" cy="211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4" name="Picture 4" descr="http://www.05.mchs.gov.ru/upload/iblock/992/99274dfaf5a79e5c6124d64ff9524bad.jpg"/>
          <p:cNvPicPr/>
          <p:nvPr/>
        </p:nvPicPr>
        <p:blipFill>
          <a:blip r:embed="rId2"/>
          <a:stretch/>
        </p:blipFill>
        <p:spPr>
          <a:xfrm>
            <a:off x="5940000" y="1052640"/>
            <a:ext cx="293940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0" y="241560"/>
            <a:ext cx="9143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1d6b3"/>
                </a:solidFill>
                <a:latin typeface="Constantia"/>
              </a:rPr>
              <a:t>Права и обязанности граждан РФ в области ГО (ст. 10 Ф.З. №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с двумя скругленными противолежащими углами 2"/>
          <p:cNvSpPr/>
          <p:nvPr/>
        </p:nvSpPr>
        <p:spPr>
          <a:xfrm>
            <a:off x="871200" y="2925000"/>
            <a:ext cx="7560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оходят обучение в области по 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с двумя скругленными противолежащими углами 3"/>
          <p:cNvSpPr/>
          <p:nvPr/>
        </p:nvSpPr>
        <p:spPr>
          <a:xfrm>
            <a:off x="887760" y="4005000"/>
            <a:ext cx="7503480" cy="1151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инимают участие в проведении других мероприятий по 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с двумя скругленными противолежащими углами 4"/>
          <p:cNvSpPr/>
          <p:nvPr/>
        </p:nvSpPr>
        <p:spPr>
          <a:xfrm>
            <a:off x="871200" y="5301360"/>
            <a:ext cx="7520040" cy="129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казывают содействие органам государственной власти и организациям в решении задач в области 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с двумя скругленными противолежащими углами 5"/>
          <p:cNvSpPr/>
          <p:nvPr/>
        </p:nvSpPr>
        <p:spPr>
          <a:xfrm>
            <a:off x="887760" y="1568160"/>
            <a:ext cx="7503480" cy="1212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Граждане РФ в соответствии с Федеральными законами и иными нормативными правовыми актами РФ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0" y="190440"/>
            <a:ext cx="91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85840" y="957960"/>
            <a:ext cx="56541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8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О является одной из важнейших функций государства. Она обеспечивает оборонное строительство и безопасность населения страны. В настоящее время это отлаженная и эффективно работающая система, оказывающая экстренную помощь при форс-мажорных ситуациях не только в нашей стране, но и за рубежом. В ее состав входят противопожарная служба, войска гражданской обороны, авиация, поисково-спасательные подразделения, работающие в круглосуточном режиме реагирования на чрезвычайные проис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www.vsehpozdravil.ru/res/files/postcards/6174.jpg"/>
          <p:cNvPicPr/>
          <p:nvPr/>
        </p:nvPicPr>
        <p:blipFill>
          <a:blip r:embed="rId1"/>
          <a:stretch/>
        </p:blipFill>
        <p:spPr>
          <a:xfrm>
            <a:off x="6000840" y="4266720"/>
            <a:ext cx="2819160" cy="211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3" name="Picture 4" descr="http://www.05.mchs.gov.ru/upload/iblock/992/99274dfaf5a79e5c6124d64ff9524bad.jpg"/>
          <p:cNvPicPr/>
          <p:nvPr/>
        </p:nvPicPr>
        <p:blipFill>
          <a:blip r:embed="rId2"/>
          <a:stretch/>
        </p:blipFill>
        <p:spPr>
          <a:xfrm>
            <a:off x="5940000" y="1052640"/>
            <a:ext cx="293940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395640" y="476640"/>
            <a:ext cx="849672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жданская обор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, а также при возникновении чрезвычайных ситуаций природного и техноген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188720" y="260640"/>
            <a:ext cx="7199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Этапы становления гражданской об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91400" y="1460880"/>
            <a:ext cx="82807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ервый этап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Защита населения и народного хозяйства от ударов с воздуха стала осуществляться в первую мировую войну 1914—1918 гг. В 20—30-х годах во многих европейских государствах возникла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естная противовоздушная оборо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МПВО)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— система оборонных меропри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Untitled-3"/>
          <p:cNvPicPr/>
          <p:nvPr/>
        </p:nvPicPr>
        <p:blipFill>
          <a:blip r:embed="rId1"/>
          <a:stretch/>
        </p:blipFill>
        <p:spPr>
          <a:xfrm>
            <a:off x="491400" y="4492800"/>
            <a:ext cx="3432240" cy="220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Untitled-36_1"/>
          <p:cNvPicPr/>
          <p:nvPr/>
        </p:nvPicPr>
        <p:blipFill>
          <a:blip r:embed="rId2"/>
          <a:stretch/>
        </p:blipFill>
        <p:spPr>
          <a:xfrm>
            <a:off x="5220000" y="4484520"/>
            <a:ext cx="3409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179640" y="476640"/>
            <a:ext cx="8676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торой этап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юнь 1941-1945 г.г.). Охватывает годы Великой Отечественной войны. Опыт войны показал, что от успешного решения задач по организации МПВО-ГО в значительной степени зависела не только бесперебойная работа промышленности и транспорта, но и высокое морально политическое состояние вой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yansk.ru/images/news/b_AD9EA6B1-1F11-47FA-B3E5-02F88C65A17D.jpg"/>
          <p:cNvPicPr/>
          <p:nvPr/>
        </p:nvPicPr>
        <p:blipFill>
          <a:blip r:embed="rId1"/>
          <a:stretch/>
        </p:blipFill>
        <p:spPr>
          <a:xfrm>
            <a:off x="323640" y="3861000"/>
            <a:ext cx="3621960" cy="259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4" name="Picture 6" descr="http://cp12.nevsepic.com.ua/61/1353763645-0477242-www.nevsepic.com.ua.jpg"/>
          <p:cNvPicPr/>
          <p:nvPr/>
        </p:nvPicPr>
        <p:blipFill>
          <a:blip r:embed="rId2"/>
          <a:stretch/>
        </p:blipFill>
        <p:spPr>
          <a:xfrm>
            <a:off x="4428000" y="4005000"/>
            <a:ext cx="3722760" cy="23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393480" y="332640"/>
            <a:ext cx="8280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етий этап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июнь 1945 - июль 1961 г.г.). На этом этапе руководство МПВО-ГО было возложено на исполнительные органы Советов депутатов трудящихся краев, областей, городов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protivogas.ru/gal/big/17/8370.jpg"/>
          <p:cNvPicPr/>
          <p:nvPr/>
        </p:nvPicPr>
        <p:blipFill>
          <a:blip r:embed="rId1"/>
          <a:stretch/>
        </p:blipFill>
        <p:spPr>
          <a:xfrm>
            <a:off x="3393360" y="2148480"/>
            <a:ext cx="2663640" cy="1829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7" name="Прямоугольник 5"/>
          <p:cNvSpPr/>
          <p:nvPr/>
        </p:nvSpPr>
        <p:spPr>
          <a:xfrm>
            <a:off x="404640" y="4293000"/>
            <a:ext cx="8258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етвертый этап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с декабря 1991 г. по настоящее время) начался с упразднения государственных структур СССР, образованием СНГ и созданием Российской системы предупреждения и действий в чрезвычайных ситуациях (РСЧ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Untitled-1_3"/>
          <p:cNvPicPr/>
          <p:nvPr/>
        </p:nvPicPr>
        <p:blipFill>
          <a:blip r:embed="rId2"/>
          <a:stretch/>
        </p:blipFill>
        <p:spPr>
          <a:xfrm>
            <a:off x="439560" y="2148480"/>
            <a:ext cx="2763720" cy="182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Untitled-6"/>
          <p:cNvPicPr/>
          <p:nvPr/>
        </p:nvPicPr>
        <p:blipFill>
          <a:blip r:embed="rId3"/>
          <a:stretch/>
        </p:blipFill>
        <p:spPr>
          <a:xfrm>
            <a:off x="6156000" y="2148480"/>
            <a:ext cx="2695320" cy="19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193340.jpg"/>
          <p:cNvPicPr/>
          <p:nvPr/>
        </p:nvPicPr>
        <p:blipFill>
          <a:blip r:embed="rId1"/>
          <a:stretch/>
        </p:blipFill>
        <p:spPr>
          <a:xfrm>
            <a:off x="4212000" y="2184120"/>
            <a:ext cx="2599200" cy="4057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44880" y="332640"/>
            <a:ext cx="8568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льнейшему развитию системы гражданской обороны послужило принятие Федерального закона от 12.02.1998 N 28-ФЗ (ред. от 30.12.2015) "О гражданской оборо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80360" y="116640"/>
            <a:ext cx="47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Руков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640" y="836640"/>
            <a:ext cx="8856720" cy="60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оводство гражданской обороной в Российской Федерации осуществляет Правительство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1994 г. по 2012 год должность Министра РФ по делам ГО, ЧС и ликвидации последствий стихийных бедствий занимал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Шойгу Сергей Кужугетович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 С 2012 года по настоящее   время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чков Влади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ндреевич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делам ГО, ЧС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квидации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67640" y="3988080"/>
            <a:ext cx="1872360" cy="258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mchs.gov.ru/upload/site1/document_manager/4RW56i3HTs-178xx268.jpg"/>
          <p:cNvPicPr/>
          <p:nvPr/>
        </p:nvPicPr>
        <p:blipFill>
          <a:blip r:embed="rId2"/>
          <a:stretch/>
        </p:blipFill>
        <p:spPr>
          <a:xfrm>
            <a:off x="2880360" y="4027320"/>
            <a:ext cx="170280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584000" y="118440"/>
            <a:ext cx="5435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Руководство 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с двумя скругленными противолежащими углами 5"/>
          <p:cNvSpPr/>
          <p:nvPr/>
        </p:nvSpPr>
        <p:spPr>
          <a:xfrm>
            <a:off x="539640" y="836640"/>
            <a:ext cx="7848360" cy="2088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827640" y="980640"/>
            <a:ext cx="8000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уководство гражданской обороной в федеральных органах исполнительной власти и организациях осуществляют руководители этих органов и организ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7"/>
          <p:cNvSpPr/>
          <p:nvPr/>
        </p:nvSpPr>
        <p:spPr>
          <a:xfrm>
            <a:off x="516240" y="3534120"/>
            <a:ext cx="7848360" cy="2664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683640" y="3573000"/>
            <a:ext cx="7560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уководство гражданской обороной на территориях субъектов Российской Федерации и муниципальных образований осуществляют соответственно главы органов исполнительной власти субъектов Российской Федерации и руководители органов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с двумя скругленными противолежащими углами 1"/>
          <p:cNvSpPr/>
          <p:nvPr/>
        </p:nvSpPr>
        <p:spPr>
          <a:xfrm>
            <a:off x="611640" y="764640"/>
            <a:ext cx="7920360" cy="93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учение населения в области гражданской обороны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с двумя скругленными противолежащими углами 2"/>
          <p:cNvSpPr/>
          <p:nvPr/>
        </p:nvSpPr>
        <p:spPr>
          <a:xfrm>
            <a:off x="611640" y="1845000"/>
            <a:ext cx="7992360" cy="1656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повещение населения об опасностях, возникающих при ведении военных действий или вследствие этих действий, а также при возникновении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с двумя скругленными противолежащими углами 4"/>
          <p:cNvSpPr/>
          <p:nvPr/>
        </p:nvSpPr>
        <p:spPr>
          <a:xfrm>
            <a:off x="578880" y="3630240"/>
            <a:ext cx="8064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эвакуация населения, материальных и культурных ценностей в безопасные райо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с двумя скругленными противолежащими углами 5"/>
          <p:cNvSpPr/>
          <p:nvPr/>
        </p:nvSpPr>
        <p:spPr>
          <a:xfrm>
            <a:off x="506880" y="4678200"/>
            <a:ext cx="8208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едоставление населению убежищ и средств индивидуальной защи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с двумя скругленными противолежащими углами 6"/>
          <p:cNvSpPr/>
          <p:nvPr/>
        </p:nvSpPr>
        <p:spPr>
          <a:xfrm>
            <a:off x="503640" y="5661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едение мероприятий по световой маскировке и другим видам маскир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912320" y="116640"/>
            <a:ext cx="519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Основные задачи 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770</TotalTime>
  <Application>LibreOffice/7.4.7.2$Linux_X86_64 LibreOffice_project/40$Build-2</Application>
  <AppVersion>15.0000</AppVersion>
  <Words>873</Words>
  <Paragraphs>62</Paragraphs>
  <Company>МОУ СОШ №4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1:48:12Z</dcterms:created>
  <dc:creator>Рабочая станция</dc:creator>
  <dc:description/>
  <dc:language>en-US</dc:language>
  <cp:lastModifiedBy>Плохих Е В</cp:lastModifiedBy>
  <dcterms:modified xsi:type="dcterms:W3CDTF">2020-09-22T14:38:43Z</dcterms:modified>
  <cp:revision>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