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3693-0DD3-4B44-8A34-3BE9C1DF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CA60-17B6-4345-B04F-494E78D2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B484-A016-4574-9342-9AE0CDB9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2423-3C7C-45F5-A1AE-BF0EFF7C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B88A-EB8E-4B8E-A0AF-28AA2F0E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D49F-72D1-4086-B2D0-39564965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D45C-70A4-4F9D-9F41-F92257EC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9644-4D96-4A83-91C8-6B7748B0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FAE6-B203-4B61-9BF0-E07B1864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0A3A-F3FC-41A9-BA4F-B11A11D6B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A339-5B76-4A78-A75F-F5901DF0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D936-BA65-494E-8CA9-E9FFDCE9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210F-7243-40F5-A65D-75504CF4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FADB-0482-4CD8-8E88-85AE3A1E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88F5-5808-4213-83E6-D8993DA3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A18B-2218-4CE1-9B88-E88849FA7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EA58-5FBF-419E-91A2-E281BDC3A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828-FF58-4C4B-BAAA-B55B6C79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073-E777-4A02-B992-7ADA4F3C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0D4-16C8-4A97-8210-E87B5395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5443-5A63-4C5E-A068-1EE21F97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CDCF-3E75-4E7E-AF22-28E10D57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42CB-E66A-4EF8-A8D8-F5EF19CF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de-DE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0E3-F221-4B37-9DFF-52DB08A9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Titelmasterformat durch Klicken bearbeiten</a:t>
            </a: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de-A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AT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de-A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BF1ED4-1AAC-4227-8116-4E5DBBC82A7F}" type="slidenum">
              <a:rPr b="0" lang="de-A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de-DE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Titelmasterformat durch Klicken bearbeiten</a:t>
            </a:r>
            <a:endParaRPr b="0" lang="de-DE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Textmasterformat bearbeiten</a:t>
            </a:r>
            <a:endParaRPr b="0" lang="de-DE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Zweite Ebene</a:t>
            </a:r>
            <a:endParaRPr b="0" lang="de-DE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Dritte Ebene</a:t>
            </a:r>
            <a:endParaRPr b="0" lang="de-DE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Vierte Ebene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Fünfte Ebene</a:t>
            </a:r>
            <a:endParaRPr b="0" lang="de-DE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de-A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de-AT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de-AT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523388-5F51-4076-A6E1-D8C99CF868A1}" type="slidenum">
              <a:rPr b="0" lang="de-AT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hteck 3"/>
          <p:cNvSpPr/>
          <p:nvPr/>
        </p:nvSpPr>
        <p:spPr>
          <a:xfrm>
            <a:off x="3204000" y="323640"/>
            <a:ext cx="457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enor Sans"/>
              </a:rPr>
              <a:t>Аккаунт  экскурсовода-г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hteck 4"/>
          <p:cNvSpPr/>
          <p:nvPr/>
        </p:nvSpPr>
        <p:spPr>
          <a:xfrm>
            <a:off x="3236400" y="693000"/>
            <a:ext cx="5472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ebe8d9"/>
                </a:solidFill>
                <a:latin typeface="Source Sans Pro Light"/>
                <a:ea typeface="Source Sans Pro Light"/>
              </a:rPr>
              <a:t>Серо-зеленый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ebe8d9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*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R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235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G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232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2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ccc3bc"/>
                </a:solidFill>
                <a:latin typeface="Source Sans Pro Light"/>
                <a:ea typeface="Source Sans Pro Light"/>
              </a:rPr>
              <a:t>Бежевый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ccc3bc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*R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204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G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195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1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909b92"/>
                </a:solidFill>
                <a:latin typeface="Source Sans Pro Light"/>
                <a:ea typeface="Source Sans Pro Light"/>
              </a:rPr>
              <a:t>Бледно-зеленый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929d94 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*R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14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6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G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15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7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14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55605b"/>
                </a:solidFill>
                <a:latin typeface="Source Sans Pro Light"/>
                <a:ea typeface="Source Sans Pro Light"/>
              </a:rPr>
              <a:t>Темно-зеленый</a:t>
            </a:r>
            <a:r>
              <a:rPr b="0" lang="ru-RU" sz="1400" spc="-1" strike="noStrike">
                <a:solidFill>
                  <a:srgbClr val="5a9173"/>
                </a:solidFill>
                <a:latin typeface="Source Sans Pro Light"/>
                <a:ea typeface="Source Sans Pro Light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55605b 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*R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85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G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96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9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b3b090"/>
                </a:solidFill>
                <a:latin typeface="Source Sans Pro Light"/>
                <a:ea typeface="Source Sans Pro Light"/>
              </a:rPr>
              <a:t>Хаки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b3b072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*R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179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G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176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1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ebde99"/>
                </a:solidFill>
                <a:latin typeface="Source Sans Pro Light"/>
                <a:ea typeface="Source Sans Pro Light"/>
              </a:rPr>
              <a:t>Желтый</a:t>
            </a:r>
            <a:r>
              <a:rPr b="0" lang="ru-RU" sz="1400" spc="-1" strike="noStrike">
                <a:solidFill>
                  <a:srgbClr val="d49e7e"/>
                </a:solidFill>
                <a:latin typeface="Source Sans Pro Light"/>
                <a:ea typeface="Source Sans Pro Light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ebde99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*R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235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G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222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B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 1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feld 5"/>
          <p:cNvSpPr/>
          <p:nvPr/>
        </p:nvSpPr>
        <p:spPr>
          <a:xfrm>
            <a:off x="3204000" y="2116440"/>
            <a:ext cx="5688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Основной цвет: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Вспомогательный: </a:t>
            </a:r>
            <a:r>
              <a:rPr b="0" lang="de-AT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Для акцента: 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feld 7"/>
          <p:cNvSpPr/>
          <p:nvPr/>
        </p:nvSpPr>
        <p:spPr>
          <a:xfrm>
            <a:off x="356040" y="2900520"/>
            <a:ext cx="85687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Зеленый - </a:t>
            </a: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 природа, символ роста, мудрость, счастье, равновесие, добродушие, общительность, веждив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Желтый -  </a:t>
            </a: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теплый цвет, свет, оптимизм, радость, энергия, фантазия, оригинальный склад ума, гармония с миром, коммуникабельность, любознательность, открытость,  дружелюб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Бежевый </a:t>
            </a: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-   </a:t>
            </a:r>
            <a:r>
              <a:rPr b="0" lang="ru-RU" sz="1400" spc="-1" strike="noStrike">
                <a:solidFill>
                  <a:srgbClr val="000000"/>
                </a:solidFill>
                <a:latin typeface="Source Sans Pro Light"/>
                <a:ea typeface="Source Sans Pro Light"/>
              </a:rPr>
              <a:t>естесственность,  надежность, динамика, комфорт, пок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Иконки</a:t>
            </a: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de-AT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1. </a:t>
            </a: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отзыв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de-AT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2. </a:t>
            </a: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по городам, например, Зальцбург (его очертание, </a:t>
            </a:r>
            <a:r>
              <a:rPr b="0" lang="pl-PL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landmark)</a:t>
            </a: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, Инсбрук, Вена</a:t>
            </a:r>
            <a:r>
              <a:rPr b="0" lang="de-AT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. </a:t>
            </a: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С цен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de-AT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3- </a:t>
            </a: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вопрос-ответ</a:t>
            </a:r>
            <a:r>
              <a:rPr b="0" lang="de-AT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4 – фото (?),  награ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Иконки должны вызывать интерес к австрийским городам и цен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Шрифты</a:t>
            </a: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: </a:t>
            </a:r>
            <a:r>
              <a:rPr b="0" lang="de-AT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Tenor Sans, Source Sans Pro  - </a:t>
            </a:r>
            <a:r>
              <a:rPr b="0" lang="ru-RU" sz="1400" spc="-1" strike="noStrike">
                <a:solidFill>
                  <a:srgbClr val="183849"/>
                </a:solidFill>
                <a:latin typeface="Source Sans Pro Light"/>
                <a:ea typeface="Source Sans Pro Light"/>
              </a:rPr>
              <a:t>оптически приятны для гл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7236360" y="4346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D:\Desktop\Design Instagram\3 Школа дизайна 3 пакет новый_ОСНОВНОЙ КУРС\Модуль 2\4 Урок  Цвет и психология восприятия цвета\2dcda13bac11d4bfc2ac6f2f19c883f8.png"/>
          <p:cNvPicPr/>
          <p:nvPr/>
        </p:nvPicPr>
        <p:blipFill>
          <a:blip r:embed="rId2"/>
          <a:stretch/>
        </p:blipFill>
        <p:spPr>
          <a:xfrm>
            <a:off x="349200" y="323640"/>
            <a:ext cx="2381040" cy="21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332880" cy="3332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D:\Desktop\Blue Waves Album Cover 3.png"/>
          <p:cNvPicPr/>
          <p:nvPr/>
        </p:nvPicPr>
        <p:blipFill>
          <a:blip r:embed="rId2"/>
          <a:stretch/>
        </p:blipFill>
        <p:spPr>
          <a:xfrm>
            <a:off x="3996000" y="4320"/>
            <a:ext cx="3332880" cy="333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D:\Desktop\2.png"/>
          <p:cNvPicPr/>
          <p:nvPr/>
        </p:nvPicPr>
        <p:blipFill>
          <a:blip r:embed="rId3"/>
          <a:stretch/>
        </p:blipFill>
        <p:spPr>
          <a:xfrm>
            <a:off x="1907640" y="3429000"/>
            <a:ext cx="3332880" cy="3332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D:\Desktop\4.png"/>
          <p:cNvPicPr/>
          <p:nvPr/>
        </p:nvPicPr>
        <p:blipFill>
          <a:blip r:embed="rId4"/>
          <a:stretch/>
        </p:blipFill>
        <p:spPr>
          <a:xfrm>
            <a:off x="5766120" y="3524760"/>
            <a:ext cx="3332880" cy="333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Larissa">
  <a:themeElements>
    <a:clrScheme name="Larissa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Larissa">
  <a:themeElements>
    <a:clrScheme name="Larissa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21</Words>
  <Paragraphs>22</Paragraphs>
  <Company>H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08T19:47:33Z</dcterms:created>
  <dc:creator>HP</dc:creator>
  <dc:description/>
  <dc:language>en-US</dc:language>
  <cp:lastModifiedBy>HP</cp:lastModifiedBy>
  <dcterms:modified xsi:type="dcterms:W3CDTF">2021-02-09T21:11:56Z</dcterms:modified>
  <cp:revision>30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Bildschirmpräsentation (4:3)</vt:lpwstr>
  </property>
  <property fmtid="{D5CDD505-2E9C-101B-9397-08002B2CF9AE}" pid="3" name="Slides">
    <vt:r8>2</vt:r8>
  </property>
</Properties>
</file>