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736-DEFC-4BF6-91C3-FACD9836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991-E296-4945-8D18-08C1FCB1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D6D-047C-48E3-96DE-3B455458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D21-356B-4D00-A266-07CA352D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57DC-DB24-46D3-A101-BE3F8185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454A-8BF0-40E2-A2F8-536FDAA6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5A1A-4126-4E82-98A7-56C72790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4865-9D19-4D94-B2B7-E64B0FE7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79E0-0FD3-4658-80E1-D3C42C15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631B-6BDB-46E0-9FF0-D4721BCD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ED1A-361E-4D05-AE15-01C97064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A53-32E7-4525-B78A-561FEF19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300A-F2EE-4C77-BB11-7525292A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F3C5-279D-49F0-B836-50E615B5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C06F-B2EF-49A1-9094-4501CAB7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ABB4-9226-452C-8DBD-D80A6532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082B-B459-4A03-A2E2-6E9B9F46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B2C-17BF-47BD-873F-4A28D8A3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7B1-64EA-4E94-A895-BFBC49E3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2C1-35B2-4DF8-82D3-7D569631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DC6-3558-4215-9E39-91F39DB2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9C5-2C30-4212-B8CA-FBE66FD2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0AB-69F7-4115-9853-75B96D6D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432-5571-41B8-B548-3047A81C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Titelmasterformat durch Klicken bearbeiten</a:t>
            </a: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de-A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A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de-A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E90F9B-98F4-4490-8786-93F6FDF86C2B}" type="slidenum">
              <a:rPr b="0" lang="de-A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de-DE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Titelmasterformat durch Klicken bearbeiten</a:t>
            </a: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extmasterformat bearbeiten</a:t>
            </a: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weite Ebene</a:t>
            </a:r>
            <a:endParaRPr b="0" lang="de-DE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ritte Ebene</a:t>
            </a:r>
            <a:endParaRPr b="0" lang="de-DE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ierte Ebene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ünfte Ebene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de-A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A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de-A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583AF9-193E-443F-9729-D07A319C5E46}" type="slidenum">
              <a:rPr b="0" lang="de-A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eck 3"/>
          <p:cNvSpPr/>
          <p:nvPr/>
        </p:nvSpPr>
        <p:spPr>
          <a:xfrm>
            <a:off x="3204000" y="32364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enor Sans"/>
              </a:rPr>
              <a:t>Аккаунт  экскурсовода-г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hteck 4"/>
          <p:cNvSpPr/>
          <p:nvPr/>
        </p:nvSpPr>
        <p:spPr>
          <a:xfrm>
            <a:off x="3236400" y="693000"/>
            <a:ext cx="5472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ebe8d9"/>
                </a:solidFill>
                <a:latin typeface="Source Sans Pro Light"/>
                <a:ea typeface="Source Sans Pro Light"/>
              </a:rPr>
              <a:t>Серо-зеленый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ebe8d9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*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R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235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G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232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2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ccc3bc"/>
                </a:solidFill>
                <a:latin typeface="Source Sans Pro Light"/>
                <a:ea typeface="Source Sans Pro Light"/>
              </a:rPr>
              <a:t>Бежевый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ccc3bc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*R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204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G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195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1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909b92"/>
                </a:solidFill>
                <a:latin typeface="Source Sans Pro Light"/>
                <a:ea typeface="Source Sans Pro Light"/>
              </a:rPr>
              <a:t>Бледно-зеленый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929d94 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*R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14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6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G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15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7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14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55605b"/>
                </a:solidFill>
                <a:latin typeface="Source Sans Pro Light"/>
                <a:ea typeface="Source Sans Pro Light"/>
              </a:rPr>
              <a:t>Темно-зеленый</a:t>
            </a:r>
            <a:r>
              <a:rPr b="0" lang="ru-RU" sz="1400" spc="-1" strike="noStrike">
                <a:solidFill>
                  <a:srgbClr val="5a9173"/>
                </a:solidFill>
                <a:latin typeface="Source Sans Pro Light"/>
                <a:ea typeface="Source Sans Pro Light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55605b 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*R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85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G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96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b3b090"/>
                </a:solidFill>
                <a:latin typeface="Source Sans Pro Light"/>
                <a:ea typeface="Source Sans Pro Light"/>
              </a:rPr>
              <a:t>Хаки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b3b072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*R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179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G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176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1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ebde99"/>
                </a:solidFill>
                <a:latin typeface="Source Sans Pro Light"/>
                <a:ea typeface="Source Sans Pro Light"/>
              </a:rPr>
              <a:t>Желтый</a:t>
            </a:r>
            <a:r>
              <a:rPr b="0" lang="ru-RU" sz="1400" spc="-1" strike="noStrike">
                <a:solidFill>
                  <a:srgbClr val="d49e7e"/>
                </a:solidFill>
                <a:latin typeface="Source Sans Pro Light"/>
                <a:ea typeface="Source Sans Pro Light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ebde99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*R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235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G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222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feld 5"/>
          <p:cNvSpPr/>
          <p:nvPr/>
        </p:nvSpPr>
        <p:spPr>
          <a:xfrm>
            <a:off x="3204000" y="2116440"/>
            <a:ext cx="5688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Основной цвет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Вспомогательный: 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Для акцента: 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feld 7"/>
          <p:cNvSpPr/>
          <p:nvPr/>
        </p:nvSpPr>
        <p:spPr>
          <a:xfrm>
            <a:off x="356040" y="2900520"/>
            <a:ext cx="85687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Зеленый - 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 природа, символ роста, мудрость, счастье, равновесие, добродушие, общительность, веждив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Желтый -  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теплый цвет, свет, оптимизм, радость, энергия, фантазия, оригинальный склад ума, гармония с миром, коммуникабельность, любознательность, открытость,  дружелюб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Бежевый 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-  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естесственность,  надежность, динамика, комфорт, по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Иконки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de-AT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1. 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отзыв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de-AT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2. 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по городам, например, Зальцбург (его очертание, </a:t>
            </a:r>
            <a:r>
              <a:rPr b="0" lang="pl-PL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landmark)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, Инсбрук, Вена</a:t>
            </a:r>
            <a:r>
              <a:rPr b="0" lang="de-AT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. 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С цен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de-AT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3- 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вопрос-ответ</a:t>
            </a:r>
            <a:r>
              <a:rPr b="0" lang="de-AT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4 – фото (?),  награ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Иконки должны вызывать интерес к австрийским городам и цен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Шрифты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: </a:t>
            </a:r>
            <a:r>
              <a:rPr b="0" lang="de-AT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Tenor Sans, Source Sans Pro  - 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оптически приятны для гл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7236360" y="4346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D:\Desktop\Design Instagram\3 Школа дизайна 3 пакет новый_ОСНОВНОЙ КУРС\Модуль 2\4 Урок  Цвет и психология восприятия цвета\2dcda13bac11d4bfc2ac6f2f19c883f8.png"/>
          <p:cNvPicPr/>
          <p:nvPr/>
        </p:nvPicPr>
        <p:blipFill>
          <a:blip r:embed="rId2"/>
          <a:stretch/>
        </p:blipFill>
        <p:spPr>
          <a:xfrm>
            <a:off x="349200" y="323640"/>
            <a:ext cx="2381040" cy="21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332880" cy="3332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D:\Desktop\Blue Waves Album Cover 3.png"/>
          <p:cNvPicPr/>
          <p:nvPr/>
        </p:nvPicPr>
        <p:blipFill>
          <a:blip r:embed="rId2"/>
          <a:stretch/>
        </p:blipFill>
        <p:spPr>
          <a:xfrm>
            <a:off x="3996000" y="4320"/>
            <a:ext cx="3332880" cy="333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D:\Desktop\2.png"/>
          <p:cNvPicPr/>
          <p:nvPr/>
        </p:nvPicPr>
        <p:blipFill>
          <a:blip r:embed="rId3"/>
          <a:stretch/>
        </p:blipFill>
        <p:spPr>
          <a:xfrm>
            <a:off x="1907640" y="3429000"/>
            <a:ext cx="3332880" cy="3332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D:\Desktop\4.png"/>
          <p:cNvPicPr/>
          <p:nvPr/>
        </p:nvPicPr>
        <p:blipFill>
          <a:blip r:embed="rId4"/>
          <a:stretch/>
        </p:blipFill>
        <p:spPr>
          <a:xfrm>
            <a:off x="5766120" y="3524760"/>
            <a:ext cx="3332880" cy="333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Larissa">
  <a:themeElements>
    <a:clrScheme name="Larissa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Larissa">
  <a:themeElements>
    <a:clrScheme name="Larissa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21</Words>
  <Paragraphs>22</Paragraphs>
  <Company>H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8T19:47:33Z</dcterms:created>
  <dc:creator>HP</dc:creator>
  <dc:description/>
  <dc:language>en-US</dc:language>
  <cp:lastModifiedBy>HP</cp:lastModifiedBy>
  <dcterms:modified xsi:type="dcterms:W3CDTF">2021-02-09T21:11:56Z</dcterms:modified>
  <cp:revision>30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Bildschirmpräsentation (4:3)</vt:lpwstr>
  </property>
  <property fmtid="{D5CDD505-2E9C-101B-9397-08002B2CF9AE}" pid="3" name="Slides">
    <vt:r8>2</vt:r8>
  </property>
</Properties>
</file>