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13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91EF-325B-4D80-9536-538FE46EE5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12BC-05B0-48C5-9B5E-F92FF4333E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531-99AF-4311-88EB-DB701E70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13C-174D-4AB9-9927-DBAB8976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2B4-72F9-40AE-A809-7826890A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70C-053E-4075-A0DF-E2E7F0FE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616D-EAE8-49E8-BD51-402F928C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EC94-CDC8-42A8-875D-32F18759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163A-84FF-474E-A46D-35F1DFDC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5AEF-FEE2-4990-8DB7-88DBD30A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5AA0-1E14-48C9-A65D-BA9009F6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4000-A9A1-4BAB-B32A-6FD7BA44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9219-1027-412F-85D5-3CFA350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6AD-1808-4DEF-BC04-DDDBEAF8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AEC-0CCA-4EDF-9380-67ABD78B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BC6F-D1AE-4120-9BDE-16FADFB5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6528-CE12-46F7-A744-251DEFE0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051D-7C7B-47FD-B43B-87C537DC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A9AD-14FF-433B-B81A-D66297D1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5840-3D40-4918-9F0A-0AA44046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AEEC-FE83-4E7F-AC5E-6DFE7F71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7E33-7DF2-405B-8A30-BA2E4169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C771-ACCF-4B9D-8818-517B04BA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08A9-A0B2-4B9B-B07D-793604F4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FEC-9A08-4009-9BE1-F49F3F47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F8B1-6A61-4F26-B60B-00698393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0FB1-947C-4120-9939-9B4BA55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F048-4954-4D83-8B81-2BCBB8FE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4C1E-49A6-4CD1-9B4F-2592F192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301F-610E-40D9-A288-D954ED3F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42A7-72F6-42C7-8AB3-BF40F7D1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B6A9-D81B-40CE-A5C0-087487E7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B42F-5265-4D54-866E-E79BC19D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E081-30B6-4C71-AA2C-31B84370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19B5B-90C8-4098-94DC-3FF49AA8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243-EF5F-45DE-B0EE-4DF85CAE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95B4-FFA2-436F-AAC8-4A61B08A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8F5C-468E-42C8-8721-B24A9EE1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3D86-21F4-4A6C-81B6-CB209812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6530-9DE0-4E3F-946B-191B110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C469-D843-4930-8266-4F16D97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BD45-DDD2-460D-AC57-C13A35BB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00BD-F540-401D-8356-446F596A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DC86-A77E-45CF-99C8-60037406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CD9A-E889-4A18-9AA0-E2B01C2D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CA01-E498-462B-A2FE-052552FE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8F9-A3BE-4161-A8D2-18C25E7D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5BEAE-C0A6-4D0C-9D49-F7A9E2E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0485-CE80-4A9B-BA60-614BD61B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2F741-CC09-40CE-9F6A-1E70A3A0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60BF2-23A3-40B0-84C1-3BA82728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ECE97-372A-4B1D-8A0A-9BE4A5B6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74F37-1F4C-45D5-9E6E-E5DD898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2BFA-44F5-4D57-8554-280EFD6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2BD2B-A083-4FB3-8D88-8FA52DB8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1610B-BF36-43BB-A255-C1EBE850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DDEF-A9A7-482F-87FA-B9220886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4C1-B283-4321-AB3B-0226B70C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78530-AFE3-4250-A74D-F2CFF4A9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5E173-45E1-40DE-A1D0-EC129751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242FA-0339-46ED-84B6-2D9B7A6E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46C57-3747-430C-A317-F95982D8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CF739-0D10-42E1-BB1D-229A3879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1C5D8-F511-47A9-B54F-F9F64B4D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654EC-5EA9-43DB-B5EC-2276BDCB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AF3A2-B4A6-4499-824A-6BD5141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EA29A5-62E6-43DD-964B-B7986342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2007B-26F6-40F7-BFE3-83329F5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47B-84AD-4B01-AF18-8C9E0274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3F31D-C7BF-43F6-B4F5-4E9ACD15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EB812-B688-467B-B56F-0BC85EFD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1BCF2-4541-4D0A-AD03-B98EAA56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84739-4CE5-41C4-9ED4-A4B4C72A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634BF-88DD-47BF-AF37-DF3359C9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F7DB1-6A9A-408B-B76F-E184C139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05F5F-79EC-4A6D-8582-43672A88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E27F9-111F-48A6-82B8-D7F74BF2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9BD1-1430-488A-B0C6-0C9357F5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D0196-85AC-43F4-A5F2-A8710EC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D20-F76D-42B6-AE8C-680E620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89904-8AEF-41D9-9E9C-0855F30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84D3E-A824-47CA-83C5-4FDC99E7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2788D-2E33-4AAA-B1CA-8052546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848F2-46FA-42B0-BB29-9A3C3872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CA15-C8CD-48E0-8EB3-371DABD8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057-8BF6-43D3-A267-D07D4F99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27AC-3A0B-420B-9501-CD256BECAA3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E644-3D3E-491D-A162-DD844D9A4160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E681-CE21-47DB-916C-C195595DACF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2B3D-AD34-4CD9-A209-ADB33D321FD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E61B-EDE4-482F-B57E-E51A1DDBCB4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B33E-EBCC-4C79-BF32-848E799CEDE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61E8-5EDF-4962-9E03-A4C752B743D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ЛЕКАРСТВЕННЫХ СРЕДСТВ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534c"/>
                </a:solidFill>
                <a:latin typeface="Book Antiqua"/>
              </a:rPr>
              <a:t>ПАРЕНТЕРАЛЬНЫЙ ПУТЬ ВВЕДЕНИЯ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РИ ПРОВЕДЕНИИ ИНЪЕКЦИИ ПРОЦЕДУРНАЯ МЕДСЕСТРА ДОЛЖНА: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облюдать правила стерильност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выполнять инъекции срезом вверх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уметь определять место инъекции в различных ситуациях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альпировать место инъек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разу после и через 15-30 минут после инъекции уточнить самочувствие и реакцию пациента на введенное лекарство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РИ ПРОВЕДЕНИИ ИНЪЕКЦИИ ПРОЦЕДУРНАЯ МЕДСЕСТРА ДОЛЖНА: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мнить о возможных осложнениях после инъекци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мещать инъекционные иглы в контейнер со специально оборудованной крышкой для обеспечения инфекционной безопасно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ценить состояние кож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меть выявить возможные психологические проблемы пациента перед вмешательств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3" name="Picture 2" descr="http://dezsredstva.ru/upload/iblock/b5a/abris_1.jpg"/>
          <p:cNvPicPr/>
          <p:nvPr/>
        </p:nvPicPr>
        <p:blipFill>
          <a:blip r:embed="rId1"/>
          <a:stretch/>
        </p:blipFill>
        <p:spPr>
          <a:xfrm>
            <a:off x="7020000" y="37720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62080" y="39816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дсестра выполняет инъекции в процедурном кабинете или тяжелобольным пациентам – в палат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Для проведения любой инъекции необходимо приготовить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терильный лоток со стерильным пинцет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еревязочный материал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70% этиловый спирт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шприц с лекарственным препарат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2" descr="http://www.stihi.ru/pics/2012/08/19/948.jpg"/>
          <p:cNvPicPr/>
          <p:nvPr/>
        </p:nvPicPr>
        <p:blipFill>
          <a:blip r:embed="rId1"/>
          <a:stretch/>
        </p:blipFill>
        <p:spPr>
          <a:xfrm>
            <a:off x="5310360" y="4076640"/>
            <a:ext cx="34146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ля каждой инъекции необходимо приготовить соответствующие шприц и игл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Шприцы для инъекций имеют объем в миллилитрах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кожной – 1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кожной – 2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мышечной – 5,0, 10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венной – 10,0 и 20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Picture 2" descr="http://stat8.blog.ru/lr/0a0ca1029182b1374188e30938bf4358"/>
          <p:cNvPicPr/>
          <p:nvPr/>
        </p:nvPicPr>
        <p:blipFill>
          <a:blip r:embed="rId1"/>
          <a:stretch/>
        </p:blipFill>
        <p:spPr>
          <a:xfrm>
            <a:off x="4859280" y="3789360"/>
            <a:ext cx="40672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«ЦЕНА» ДЕЛЕНИЯ – ЭТО КОЛИЧЕСТВО РАСТВОРА МЕЖДУ ДВУМЯ БЛИЖАЙШИМИ ДЕЛЕНИЯМИ ЦИЛИНДРА.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ля того, чтобы определить «цену» деления, следует найти на цилиндре ближайшую к подыгольному конусу цифру, указывающую количество мл, затем определить число делений на цилиндре между этой цифрой и подыгольным конусом и разделить найденную цифру на число делений. Например, на цилиндре шприца емкостью 20 мл ближайшая цифра к подыгольному конусу цифра 10. Число делений между конусом и цифрой 10 равно 5. Разделив 10 на 5, получаем 2 м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ДЛЯ ПРАВИЛЬНОГО ВВЕДЕНИЯ ПРЕПАРАТА НЕОБХОДИМО ЗНАТЬ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место инъекции,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глубину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угол введения иглы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НУТРИКОЖНАЯ ИНЪЕКЦИЯ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амая поверхностная инъекция, иглу вводят на глубину срез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 инъекции: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иагностическа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ят, выполняя диагностические проб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туберкулез – с туберкулин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 лекарственным препаратом – для определения аллергической реакц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6" name="Picture 2" descr="http://www.medcectre.ru/wp-content/uploads/2012/06/vypolnenie-vnutrikozhnoj-injekcii.jpg"/>
          <p:cNvPicPr/>
          <p:nvPr/>
        </p:nvPicPr>
        <p:blipFill>
          <a:blip r:embed="rId1"/>
          <a:stretch/>
        </p:blipFill>
        <p:spPr>
          <a:xfrm>
            <a:off x="5867280" y="5000760"/>
            <a:ext cx="2737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АПОМНИТЕ!</a:t>
            </a: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	</a:t>
            </a:r>
            <a:br>
              <a:rPr sz="29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552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– 0,1-1,0 мл (шприц ёмкостью 1 мл, туберкулиновый, игла длиной 15 мм и диаметром 0,4 м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гол введения иглы – 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лубина введения иглы – срез игл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сто введения: передняя (внутренняя) поверхность предплечья (средняя треть предплечь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9" name="Picture 2" descr="http://www.virtumed.ru/p/m/virtuvein3.jpg"/>
          <p:cNvPicPr/>
          <p:nvPr/>
        </p:nvPicPr>
        <p:blipFill>
          <a:blip r:embed="rId1"/>
          <a:stretch/>
        </p:blipFill>
        <p:spPr>
          <a:xfrm>
            <a:off x="3059280" y="4292640"/>
            <a:ext cx="3816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ОДКОЖНАЯ ИНЪЕКЦИЯ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Цель инъекции: лечебная – введение препарата в жировую ткан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ят для лечебного эффекта с учетом быстрого всасывания препаратов в рыхлой подкожной клетчатк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http://oasis-ti.com/content/images/dictionary/04.jpg"/>
          <p:cNvPicPr/>
          <p:nvPr/>
        </p:nvPicPr>
        <p:blipFill>
          <a:blip r:embed="rId1"/>
          <a:srcRect l="-50000" t="0" r="50009" b="0"/>
          <a:stretch/>
        </p:blipFill>
        <p:spPr>
          <a:xfrm>
            <a:off x="684360" y="3716280"/>
            <a:ext cx="8135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ОДКОЖНАЯ ИНЪЕКЦИЯ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 инъекции: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лечебная – введение препарата в жировую ткан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ят для лечебного эффекта с учетом быстрого всасывания препаратов в рыхлой подкожной клетчатк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оздействие лекарственных средств – через 20-30 минут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Этот способ используют при необходимости пролонгирования препарата (адреналин, эфедрин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7d72"/>
                </a:solidFill>
                <a:latin typeface="Book Antiqua"/>
              </a:rPr>
              <a:t>ИНЪЕКЦИОННЫЙ ПУТЬ ВВЕДЕНИЯ ЛЕКАРСТВЕННЫХ СРЕДСТВ</a:t>
            </a: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минуя пищеварительный тракт, через инъекци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2" name="Picture 2" descr="http://www.poliklinika-avto.ru/image/specialisty/kuz.gif"/>
          <p:cNvPicPr/>
          <p:nvPr/>
        </p:nvPicPr>
        <p:blipFill>
          <a:blip r:embed="rId1"/>
          <a:stretch/>
        </p:blipFill>
        <p:spPr>
          <a:xfrm>
            <a:off x="4284720" y="2421000"/>
            <a:ext cx="32400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АПОМНИТЕ!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1,0-2,0 мл (шприц ёмкостью 1-2 мл, игла длиной 20 мм, диаметром 0,4-0,6 мм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гол введения иглы – 45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Глубина введения иглы – 2/3 (1-1,5 см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ста введения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жная поверхность плеча на границе верхней и средней трети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длопаточная область, нижний угол лопатк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верхность брюшной стенк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ередненаружная поверхность бедра средняя треть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МЕСТА ВВЕДЕНИЯ П</a:t>
            </a: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/</a:t>
            </a: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К ИНЪЕКЦ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8" name="Объект 3" descr=""/>
          <p:cNvPicPr/>
          <p:nvPr/>
        </p:nvPicPr>
        <p:blipFill>
          <a:blip r:embed="rId1"/>
          <a:stretch/>
        </p:blipFill>
        <p:spPr>
          <a:xfrm>
            <a:off x="831960" y="1989000"/>
            <a:ext cx="7450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ВНУТРИМЫШЕЧНАЯ ИНЪЕКЦИЯ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ышечная ткань обладает широкой сетью кровеносных и лимфатических сосудов, поэтому всасывание препаратов при внутримышечных инъекциях  происходит быстрее и полнее, чем при подкожной инъек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1" name="Picture 2" descr="http://centrkvant.real-com.net/goodspic/7/21/45217/thumbs_260/g_image_4e54aded23385.jpg"/>
          <p:cNvPicPr/>
          <p:nvPr/>
        </p:nvPicPr>
        <p:blipFill>
          <a:blip r:embed="rId1"/>
          <a:stretch/>
        </p:blipFill>
        <p:spPr>
          <a:xfrm>
            <a:off x="5487840" y="4292640"/>
            <a:ext cx="3073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АПОМНИТЕ!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17600" y="92880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– 5,0-10,0 мл (шприц ёмкостью 1-10 мл, игла длиной 60-80 мм, диаметром 0,8 м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гол введения иглы – 9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лубина введения иглы - 2/3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ста введения: верхненаружный квадрант ягодицы, передненаружная поверхность бедра, средняя треть плеча (область дельтовидной мышцы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4" name="Содержимое 7" descr="spots.jpg"/>
          <p:cNvPicPr/>
          <p:nvPr/>
        </p:nvPicPr>
        <p:blipFill>
          <a:blip r:embed="rId1"/>
          <a:stretch/>
        </p:blipFill>
        <p:spPr>
          <a:xfrm>
            <a:off x="3780000" y="4281480"/>
            <a:ext cx="3600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ИЦИНСКОЙ СЕСТРЫ:</a:t>
            </a:r>
            <a:br>
              <a:rPr sz="29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в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м инъекция выполняется в положении лежа на живот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просить пациента расслабить мышцу в месте укола для уменьшения болезненности инъекции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прокалывать кожу иглой достаточно быстро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использовать двухмоментный способ при введении (особенно! Масляного) препарата: потянуть поршень на себя для исключения попадания шприца в просвет сосуда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ВНУТРИВЕННЫЕ ВМЕШАТЕЛЬСТВА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венная терапия – асептическое введение через иглу в вену лекарственных препарат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венная инъекц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енепункция – прокол стенки периферической вены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9" name="Picture 2" descr="http://images.satu.kz/1931617_w200_h200_foto_vnutriven.jpg"/>
          <p:cNvPicPr/>
          <p:nvPr/>
        </p:nvPicPr>
        <p:blipFill>
          <a:blip r:embed="rId1"/>
          <a:stretch/>
        </p:blipFill>
        <p:spPr>
          <a:xfrm>
            <a:off x="2916360" y="350028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НУТРИВЕННАЯ ИНЪЕКЦ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5520" y="95580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Запомните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– до 20,0 мл (шприц ёмкостью 10-20 мл, игла длиной 40 мм, диаметром 0,8 м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гол введения иглы – 1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лубина введения иглы – 1/3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ста для инъекции: вены локтевого сгиба, предплечья, тыл кисти, стоп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2" name="Picture 2" descr="http://www.galo.ru/_uploaded/document/images/image_190.jpg"/>
          <p:cNvPicPr/>
          <p:nvPr/>
        </p:nvPicPr>
        <p:blipFill>
          <a:blip r:embed="rId1"/>
          <a:stretch/>
        </p:blipFill>
        <p:spPr>
          <a:xfrm>
            <a:off x="5219640" y="4221000"/>
            <a:ext cx="36259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ИЦИНСКОЙ СЕСТРЫ:</a:t>
            </a:r>
            <a:br>
              <a:rPr sz="29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брать в шприц лекарственный препарат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ложить жгут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 сохраненной пульсации лучевой артер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целях контурирования вен на время не более двух минут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звлекать иглу без давления, фиксировать шариком место пункц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енепункцию обычно проводят в два приема: вначале прокалывают кожу параллельно вене, а затем вен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НФУЗ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имание!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ласть венепункции менять каждые 48-72 час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корость введения зависит от состава, вязкости, температуры, объема инфузионного раствор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егулировать скорость поступления инфузионной жидкости – 40-60 капель в минут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7" name="Picture 2" descr="http://www.syktsu.ru/files/4d40f68e524108666573740e8d27ca0d.jpg"/>
          <p:cNvPicPr/>
          <p:nvPr/>
        </p:nvPicPr>
        <p:blipFill>
          <a:blip r:embed="rId1"/>
          <a:stretch/>
        </p:blipFill>
        <p:spPr>
          <a:xfrm>
            <a:off x="6516720" y="109440"/>
            <a:ext cx="23032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ОБЕННОСТИ ВВЕДЕНИЯ НЕКОТОРЫХ МЕДИКАМЕНТОЗНЫХ СРЕДСТВ</a:t>
            </a:r>
            <a:br>
              <a:rPr sz="28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8000" y="7236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64b3c"/>
                </a:solidFill>
                <a:latin typeface="Century Gothic"/>
              </a:rPr>
              <a:t>Инсулин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– бесцветная жидкость, применяют в терапии сахарного диабета (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 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тип – инсулинозависимый,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I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тип при неэффективности диетотерапии и лекарственной терапии), вводят подкожно, внутримышечно, внутривенно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10" name="Picture 2" descr="http://pics.vesti.ru/p/b_216280.jpg"/>
          <p:cNvPicPr/>
          <p:nvPr/>
        </p:nvPicPr>
        <p:blipFill>
          <a:blip r:embed="rId1"/>
          <a:stretch/>
        </p:blipFill>
        <p:spPr>
          <a:xfrm>
            <a:off x="5076720" y="3809880"/>
            <a:ext cx="4067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АРЕНТЕРАЛЬНОЕ ВВЕДЕНИЕ ЛЕКАРСТВ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еспечивает быстрое поступление в кровь при невозможности перорального введения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едпочтительно в случае разложения веществ в желудочно-кишечном тракте или затрудненного всасывания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http://s.alriyadh.com/2010/01/07/img/488458682436.jpg"/>
          <p:cNvPicPr/>
          <p:nvPr/>
        </p:nvPicPr>
        <p:blipFill>
          <a:blip r:embed="rId1"/>
          <a:stretch/>
        </p:blipFill>
        <p:spPr>
          <a:xfrm>
            <a:off x="4500720" y="3573360"/>
            <a:ext cx="4390920" cy="29210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ОБЕННОСТИ ВВЕДЕНИЯ НЕКОТОРЫХ МЕДИКАМЕНТОЗНЫХ СРЕДСТВ</a:t>
            </a:r>
            <a:br>
              <a:rPr sz="28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Инсулин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хранят в холодильнике (Т от +2 до +8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нсулин дозируют в ЕИ (единицах инсулина). Для введения инсулина подкожно используют инсулиновый шприц и шприц-руч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ыпускается в 2х концентрациях: 1мл – 40 ЕД, 1мл – 100 Е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ИЦИНСКОЙ СЕСТРЫ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трого соблюдать точность дозировки, назначенной врач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жа в месте инъекции должна быть абсолютно сухой (нельзя перед инъекцией обрабатывать спирто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нять места выполнения инъекции с целью профилактики липодистроф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ледить за своевременным приемом пищи пациен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ОМНИТЬ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ередозировка инсулина опасна развитием гипогликемической комы (резкое снижение уровня сахара в крови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достаточная доза инсулина или несвоевременное введение – гипергликемия (повышение уровня сахара в крови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ГЕПАРИН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меняют как антикоагулянт в терапии сердечно-сосудистой патологии: инфаркте миокарда, тромбофлебитах конечносте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епарин вводят подкожно, внутримышечно и внутривенно, при введении внутрь он разрушается в желудке и не дает эффек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0" name="Picture 2" descr="http://www.vokrugsveta.ru/img/cmn/2008/05/15/018.jpg"/>
          <p:cNvPicPr/>
          <p:nvPr/>
        </p:nvPicPr>
        <p:blipFill>
          <a:blip r:embed="rId1"/>
          <a:stretch/>
        </p:blipFill>
        <p:spPr>
          <a:xfrm>
            <a:off x="6156360" y="4149720"/>
            <a:ext cx="25542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СЕСТРЫ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глубоко в подкожную жировую клетчатку, менять места инъецирования, внутривенно – медленно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нтролировать время свертывания крови (коагулограмму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СЕРДЕЧНЫЕ ГЛИКОЗИДЫ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(строфантин, корглюкон)   -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казывает избирательное действие на сердце, применяют при сердечно-сосудистой недостаточно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5" name="Picture 2" descr="http://www.kupilekarstva.ru/published/publicdata/ONLINEP9ONLINEPH/attachments/SC/products_pictures/strofantin_arterium.jpg"/>
          <p:cNvPicPr/>
          <p:nvPr/>
        </p:nvPicPr>
        <p:blipFill>
          <a:blip r:embed="rId1"/>
          <a:stretch/>
        </p:blipFill>
        <p:spPr>
          <a:xfrm>
            <a:off x="969840" y="3139920"/>
            <a:ext cx="3316320" cy="2303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web-apteka.com/photos/s/78399.jpg"/>
          <p:cNvPicPr/>
          <p:nvPr/>
        </p:nvPicPr>
        <p:blipFill>
          <a:blip r:embed="rId2"/>
          <a:stretch/>
        </p:blipFill>
        <p:spPr>
          <a:xfrm>
            <a:off x="5059440" y="3432240"/>
            <a:ext cx="28414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СЕСТРЫ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внутривенно медленно – при быстром введении возможно нарушение сердечного ритма – аритм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препарат на изотоническом растворе натрия хлорид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ить мониторинг показателей сердечно-сосудистой деятельности – пульса, А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ttp://lechimsya.org/uploads/med/antibiotiki/bicillin-3-600-tys.-ed.-fl._9756.jpg"/>
          <p:cNvPicPr/>
          <p:nvPr/>
        </p:nvPicPr>
        <p:blipFill>
          <a:blip r:embed="rId1"/>
          <a:stretch/>
        </p:blipFill>
        <p:spPr>
          <a:xfrm>
            <a:off x="7210440" y="5022720"/>
            <a:ext cx="1982880" cy="18590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БИЦИЛЛИН – АНТИБИОТИК ПЕНИЦИЛЛИНОВОГО РЯД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Рекомендации для медсестр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одить водой для инъекций строго перед введением. Препарат с водой образует стойкую суспензи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только внутримышечно, целесообразно в бедро – препарат хорошо рассасывается, ходьба усиливает циркуляцию кров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спользовать двухмоментный способ введения: игла не должна находиться в просвете сосуд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силивать рассасывание препарата местным теплом (грелка, согревающий компресс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МАГНИЯ СУЛЬФАТ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меняется внутримышечно или внутривенно как успокаивающее, спазмолитическое или противосудорожное средств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Рекомендации для медицинской сестр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глубоко, двухмоментным способом при внутримышечном применен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медленно при внутривенной инфуз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34" name="Picture 2" descr="http://www.zetmed.ru/assets/images/uslugi/magneziya.gif"/>
          <p:cNvPicPr/>
          <p:nvPr/>
        </p:nvPicPr>
        <p:blipFill>
          <a:blip r:embed="rId1"/>
          <a:stretch/>
        </p:blipFill>
        <p:spPr>
          <a:xfrm>
            <a:off x="6875640" y="4624560"/>
            <a:ext cx="213984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http://lechimsya.org/uploads/med/makro-i-mikroyelementy/kalciya-xlorid-01ml-10ml-n10-amp-r-r-vv_9451.jpg"/>
          <p:cNvPicPr/>
          <p:nvPr/>
        </p:nvPicPr>
        <p:blipFill>
          <a:blip r:embed="rId1"/>
          <a:stretch/>
        </p:blipFill>
        <p:spPr>
          <a:xfrm>
            <a:off x="5796000" y="4199040"/>
            <a:ext cx="3003480" cy="26334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КАЛЬЦИЯ ХЛОРИД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тивоаллергическое, дезинтоксикационное средств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Рекомендации для медицинской сестр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только внутривенно, медленн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блюдать осторожность при введении – возможен некроз ткане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щущение жара в полости рта, по всему телу пациента указывает на наличие препарата в кров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МНОГООБРАЗИЕ ПУТЕЙ ВВЕДЕНИЯ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ткан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кожа, подкожная клетчатка, мышцы, кость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сосуды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вены, артери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полост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брюшная, плевральная, сердечная, суставная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субарахноидальное пространство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под мозговую оболочк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7d72"/>
                </a:solidFill>
                <a:latin typeface="Book Antiqua"/>
              </a:rPr>
              <a:t>ЭССЕНЦИАЛЕ ФОРТЕ В ФОРМЕ РАСТВОРА ДЛЯ ИНЪЕКЦ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твор должен быть прозрачным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е следует смешивать (в одном шприце) его с другими лекарственными средствам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внутривенно (медленно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категорически противопоказано вводить препарат Эссенциале форте в мышцу (может вызвать сильное раздражение)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40" name="Picture 2" descr="http://www.aptekanadom.com/content/catalog/images/1303200115.JPG"/>
          <p:cNvPicPr/>
          <p:nvPr/>
        </p:nvPicPr>
        <p:blipFill>
          <a:blip r:embed="rId1"/>
          <a:stretch/>
        </p:blipFill>
        <p:spPr>
          <a:xfrm>
            <a:off x="5992920" y="4511520"/>
            <a:ext cx="2816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РАСЧЕТНЫЕ НОРМЫ ПО РАЗВЕДЕНИЮ АНТИБИОТИКОВ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качестве растворителей а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б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спользуют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25%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л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0,5%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твор новокаина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 введен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2% раствор лидокаина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введен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9%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твор хлорида натрия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терильную воду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ПРАВИЛА РАЗВЕДЕНИЯ А</a:t>
            </a: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/</a:t>
            </a: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Б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1:1 (на каждые 100000 ЕД необходимо взять 1 мл растворител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1:2 (на каждые 100000 ЕД необходимо взять 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5 мл растворител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Чтобы набрать в шприц назначенную врачом дозу препарата, необходимо помнить, чт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 разведении 1:1 в 1мл раствора антибиотика содержится 100000 Е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 разведении 1:2 в 1 мл раствора антибиотика содержится 200000 ЕД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598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ЛОЖНЕНИЯ, СВЯЗАННЫЕ С НАРУШЕНИЕМ ПРАВИЛ АСЕПТИКИ</a:t>
            </a:r>
            <a:br>
              <a:rPr sz="32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08000" y="1052640"/>
          <a:ext cx="9036000" cy="5592600"/>
        </p:xfrm>
        <a:graphic>
          <a:graphicData uri="http://schemas.openxmlformats.org/drawingml/2006/table">
            <a:tbl>
              <a:tblPr/>
              <a:tblGrid>
                <a:gridCol w="1806480"/>
                <a:gridCol w="1806480"/>
                <a:gridCol w="1808280"/>
                <a:gridCol w="1806480"/>
                <a:gridCol w="1808280"/>
              </a:tblGrid>
              <a:tr h="5490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04360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ильтра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уплотнение) – местное воспаление мягких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т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е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езнен-ность в месте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нарушение техники инъекции: короткие иглы, введение неподогретых масляных раств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Многократное инъецирование в одни и те же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Соблюдение асептики при выполнении п/к и в/м инъе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Соответствие инъекционной и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Соблюдение температурного режим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ляных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-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согревающий комп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гре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 назначению врача физио-терап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9280" y="549360"/>
          <a:ext cx="8785440" cy="580212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7520"/>
                <a:gridCol w="1757160"/>
                <a:gridCol w="1757520"/>
              </a:tblGrid>
              <a:tr h="11602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-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-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6418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бсцесс – ограничен-ное гнойное воспа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емия, боль, уплотнение, повышение температуры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ициро-вание мягких тка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людение асептики при выполнении п\к и в/м инъе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рурги-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24000" y="549360"/>
          <a:ext cx="8229600" cy="5183280"/>
        </p:xfrm>
        <a:graphic>
          <a:graphicData uri="http://schemas.openxmlformats.org/drawingml/2006/table">
            <a:tbl>
              <a:tblPr/>
              <a:tblGrid>
                <a:gridCol w="1511280"/>
                <a:gridCol w="1779480"/>
                <a:gridCol w="1646280"/>
                <a:gridCol w="1646280"/>
                <a:gridCol w="1646280"/>
              </a:tblGrid>
              <a:tr h="7556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427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дален-ные осложне-ния: сепсис, гепатиты В,С,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линическая картина зависит от инфекцион-ного аг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убые нарушения правил асеп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людение асептики при в/в инъекциях и инфузиях, использо-вание однора-зовых ИМ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ецифиче-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Rectangle 1"/>
          <p:cNvSpPr/>
          <p:nvPr/>
        </p:nvSpPr>
        <p:spPr>
          <a:xfrm>
            <a:off x="457200" y="337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79280" y="1773360"/>
          <a:ext cx="8783640" cy="488628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7520"/>
                <a:gridCol w="1755720"/>
                <a:gridCol w="1757160"/>
              </a:tblGrid>
              <a:tr h="6102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2760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ляная эмболия масло в вене – эмбол с током крови попадает в легочные сосуд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ушье, кашель, цианоз, угроза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падание конца иглы в просвет сосуда при п/к и в/м инъекц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ведение препаратов двухмоментным  способом, подогревание масляных препаратов до темпера-туры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рурги-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дикаментоз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Rectangle 1"/>
          <p:cNvSpPr/>
          <p:nvPr/>
        </p:nvSpPr>
        <p:spPr>
          <a:xfrm>
            <a:off x="395280" y="234720"/>
            <a:ext cx="85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ложнения, связанные с неправильной техникой выполнения инъекций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79280" y="476280"/>
          <a:ext cx="8734680" cy="5977080"/>
        </p:xfrm>
        <a:graphic>
          <a:graphicData uri="http://schemas.openxmlformats.org/drawingml/2006/table">
            <a:tbl>
              <a:tblPr/>
              <a:tblGrid>
                <a:gridCol w="1871640"/>
                <a:gridCol w="1622520"/>
                <a:gridCol w="1746360"/>
                <a:gridCol w="1746000"/>
                <a:gridCol w="1748160"/>
              </a:tblGrid>
              <a:tr h="10159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-л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9611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оздушная эмбо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ушье, кашель, цианоз, угроза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падание воздуха в шприц при вливан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теснение воздухи из шприца или системы перед венепун-ц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Л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66760" y="282600"/>
          <a:ext cx="8697960" cy="6099120"/>
        </p:xfrm>
        <a:graphic>
          <a:graphicData uri="http://schemas.openxmlformats.org/drawingml/2006/table">
            <a:tbl>
              <a:tblPr/>
              <a:tblGrid>
                <a:gridCol w="1739880"/>
                <a:gridCol w="1738440"/>
                <a:gridCol w="1739880"/>
                <a:gridCol w="1739880"/>
                <a:gridCol w="1739880"/>
              </a:tblGrid>
              <a:tr h="6778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4212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ибочное введение лекарствен-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ая кожная реакция: гиперемия, отеч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ая реакция организма: заложенность носа, гипертермия, анафилактический 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внимательность медицинской сес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енение препаратов в соответствии с листом назначения (правильное прочтение надписи на ампуле, флакон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ведение в место инъекции 0,9% раствора хлорида на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пузырь со ль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жгут выше места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Rectangle 1"/>
          <p:cNvSpPr/>
          <p:nvPr/>
        </p:nvSpPr>
        <p:spPr>
          <a:xfrm>
            <a:off x="457200" y="300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50920" y="692280"/>
          <a:ext cx="8642160" cy="59054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1808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724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омбофлебит – воспаление вены с образованием в ней тро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е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те-р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пые иглы, локальное инъецирование в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мена мест венепунк-ции, использование острых иг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Rectangle 1"/>
          <p:cNvSpPr/>
          <p:nvPr/>
        </p:nvSpPr>
        <p:spPr>
          <a:xfrm>
            <a:off x="457200" y="3471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РЕИМУЩЕСТВА ПРИМЕНЕНИЯ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быстрота действия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точность дозировк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независимость от состояния пациента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08000" y="333360"/>
          <a:ext cx="8785080" cy="6281640"/>
        </p:xfrm>
        <a:graphic>
          <a:graphicData uri="http://schemas.openxmlformats.org/drawingml/2006/table">
            <a:tbl>
              <a:tblPr/>
              <a:tblGrid>
                <a:gridCol w="1755720"/>
                <a:gridCol w="1757520"/>
                <a:gridCol w="1757160"/>
                <a:gridCol w="1755720"/>
                <a:gridCol w="1758960"/>
              </a:tblGrid>
              <a:tr h="5490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732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кроз – омертвление мягких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льсирую-щая боль в области инъекции, отек, гиперемия с цианозом, зона омерт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ибочное введение под кожу раздражающи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ая техника выполнения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-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Прекращение введения препар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введение в инъекционное поле 0,5% р-ра новокаина – уменьшение концентрации препарата и болевого синдр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Пузырь со ль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50920" y="476280"/>
          <a:ext cx="8713800" cy="6192720"/>
        </p:xfrm>
        <a:graphic>
          <a:graphicData uri="http://schemas.openxmlformats.org/drawingml/2006/table">
            <a:tbl>
              <a:tblPr/>
              <a:tblGrid>
                <a:gridCol w="1657080"/>
                <a:gridCol w="1727280"/>
                <a:gridCol w="1843200"/>
                <a:gridCol w="1743120"/>
                <a:gridCol w="1743120"/>
              </a:tblGrid>
              <a:tr h="8859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3067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ематома (кровоизлияние под кож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овоподтек под кожей в виде багрового пятна, болезнен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войное прободение вены (перфора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ая техника выполнения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с-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ращение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гревающий комп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9280" y="1557360"/>
          <a:ext cx="8713800" cy="513864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490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589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подистрофия (дистрофические изменения подкожной жировой клетчатки, связанные с уменьшением жировых клеток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мки под кожей из-за рассасывания жировой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ведение инсулина в одно и тоже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ередование мест инъе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Rectangle 1"/>
          <p:cNvSpPr/>
          <p:nvPr/>
        </p:nvSpPr>
        <p:spPr>
          <a:xfrm>
            <a:off x="441360" y="233640"/>
            <a:ext cx="82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ложнения, связанные с неправильным выбором места инъекци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08000" y="404640"/>
          <a:ext cx="8856720" cy="6264360"/>
        </p:xfrm>
        <a:graphic>
          <a:graphicData uri="http://schemas.openxmlformats.org/drawingml/2006/table">
            <a:tbl>
              <a:tblPr/>
              <a:tblGrid>
                <a:gridCol w="1770120"/>
                <a:gridCol w="1771560"/>
                <a:gridCol w="1771560"/>
                <a:gridCol w="1771560"/>
                <a:gridCol w="1771920"/>
              </a:tblGrid>
              <a:tr h="6400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6242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ждение нервных стволов от неврита (воспаление нерва) до паралича (расстройства двигательной функ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, нарушение и/или выпадение фун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ичес-кое повреждение иглой. Химическое повреждение – при создании лекарствен-ного депо вблизи нервного ст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ый выбор места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79280" y="404640"/>
          <a:ext cx="8713800" cy="626436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12528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0115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ждение костной ткани (периости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, отек, гиперем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ждение надкост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ый выбор места инъекции, пальпация места инъециро-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68360" y="1413000"/>
          <a:ext cx="7848720" cy="5329080"/>
        </p:xfrm>
        <a:graphic>
          <a:graphicData uri="http://schemas.openxmlformats.org/drawingml/2006/table">
            <a:tbl>
              <a:tblPr/>
              <a:tblGrid>
                <a:gridCol w="1568520"/>
                <a:gridCol w="1569960"/>
                <a:gridCol w="1569960"/>
                <a:gridCol w="1569960"/>
                <a:gridCol w="1570320"/>
              </a:tblGrid>
              <a:tr h="5079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82112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лергичес-кие ре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ые реакции: зуд, отек, гиперемия, местное повышение температуры, высып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ие реакции: заложенность носа (острый ринит), сыпь, отек Квинке, анафилактический 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дивидуальная повышенная чувствительность организма к препара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щательное субъектив-ное обследова-ние (расспрос пациента о переноси-мости лекарственных веществ – аллерголо-гический анамне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468360" y="31500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ллергические реакц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50920" y="404640"/>
          <a:ext cx="8569080" cy="6523200"/>
        </p:xfrm>
        <a:graphic>
          <a:graphicData uri="http://schemas.openxmlformats.org/drawingml/2006/table">
            <a:tbl>
              <a:tblPr/>
              <a:tblGrid>
                <a:gridCol w="2130480"/>
                <a:gridCol w="1353960"/>
                <a:gridCol w="1859040"/>
                <a:gridCol w="1170000"/>
                <a:gridCol w="2055600"/>
              </a:tblGrid>
              <a:tr h="54900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63939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нафилактический шок – резко выраженная аллергическая реакция немедленного типа на введение лекарственных веществ, проявляющаяся резким понижением АД и местными проявлениями аллергическ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ее покраснение кожи, сыпь, стеснение в груди, приступы кашля, выраженное беспокойство, одышка, рвота, снижение АД, сердцеби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ышенная чувствительность организма к аллерге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ные о переносимости препарата (аллергена) отметить на титульном листе медицинской ка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ств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Доврачебная помощь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уложить пациента, приподнять ножной конец, голову повернуть на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наложить жгут выше места инъекции или пузырь со льдом, при попадании аллергена через рот – промыть желу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Подать увлажненный кисл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Приготовить препараты противошоковой апте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риготовить систему для капельного вл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Вводить препараты по назначению вр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СОСТАВ ПРОТИВОШОКОВОЙ АПТЕЧКИ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Жгут, шприцы, инфузионные системы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Препараты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Сосудосуживающи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(повышающие АД) – 0,1% раствор адреналина по 1 мл, 0,2% раствор норадреналин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Для повышения АД растворы: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мезатона – по 1 мл, кордиамина по 2 мл, кофеин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Антигистаминные препараты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2% раствор супрастина по 2 мл, димедрол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Для снятия отека дыхательных путей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2,4% раствор эуфиллина по 10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Дезинтоксикационные растворы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5% и 40% растворы глюкозы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Кортикостероиды –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раствор преднизолона (гидрокортизона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Сердечные гликозиды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строфантин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Физраствор –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0,9% раствор натрия хлорида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81" name="Picture 2" descr="http://www.transitunion.org/cross.jpg"/>
          <p:cNvPicPr/>
          <p:nvPr/>
        </p:nvPicPr>
        <p:blipFill>
          <a:blip r:embed="rId1"/>
          <a:stretch/>
        </p:blipFill>
        <p:spPr>
          <a:xfrm>
            <a:off x="7164360" y="260280"/>
            <a:ext cx="16668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НЕДОСТАТКИ СПОСОБА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возможность осложнений из-за нарушений правил введения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риск инфицирования из-за нарушений правил асептики и антисептик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stat8.blog.ru/lr/0a0ca1029182b1374188e30938bf4358"/>
          <p:cNvPicPr/>
          <p:nvPr/>
        </p:nvPicPr>
        <p:blipFill>
          <a:blip r:embed="rId1"/>
          <a:stretch/>
        </p:blipFill>
        <p:spPr>
          <a:xfrm>
            <a:off x="1941480" y="3141720"/>
            <a:ext cx="5041800" cy="3352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5280" y="3330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Лекарственные препараты инъецируют в ткани иглой с помощью шприца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Емкость шприца необходимо выбирать в зависимости от количества раствора, которое необходимо ввести, и от вида инъекции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глу используют в зависимости от места инъекции, количества и характера раствор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СТРОЕНИЕ ШПРИЦ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1335240" y="2349360"/>
            <a:ext cx="64436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ВИДЫ ИНЪЕКЦИЙ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5520" y="146016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кожна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– в роговой слой кожи под эпидермис (угол 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дкожна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– в подкожную жировую клетчатку (угол 4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)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мышечная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– в мышечную ткань (угол 9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)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венна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– в просвет вены (угол 1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8" name="Picture 2" descr="http://mnogocar.ru/media/f/orig/851/85092.jpg"/>
          <p:cNvPicPr/>
          <p:nvPr/>
        </p:nvPicPr>
        <p:blipFill>
          <a:blip r:embed="rId1"/>
          <a:srcRect l="50002" t="0" r="0" b="0"/>
          <a:stretch/>
        </p:blipFill>
        <p:spPr>
          <a:xfrm>
            <a:off x="4754520" y="3933720"/>
            <a:ext cx="41385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4:50:01Z</dcterms:created>
  <dc:creator>Наталья</dc:creator>
  <dc:description/>
  <dc:language>en-US</dc:language>
  <cp:lastModifiedBy>Арина</cp:lastModifiedBy>
  <dcterms:modified xsi:type="dcterms:W3CDTF">2021-02-08T06:49:23Z</dcterms:modified>
  <cp:revision>27</cp:revision>
  <dc:subject/>
  <dc:title>Парентеральный путь введения</dc:title>
</cp:coreProperties>
</file>