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13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9AA5-7D80-45A1-AD98-2714254794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AB6E-0A95-499E-860B-BACF21A300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813-0D2A-4FE6-AD07-4A3FD3D2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A76-99D5-44CD-99E6-ED009DE3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6C0-0064-4EF2-8ED1-4520F5A0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B51-1E04-4A7F-8CE5-009DB0E5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31F6-4FF2-46A0-B5C8-61D52A1D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C2F9-947B-4FFB-B0B5-00AA130F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B271-665D-446A-93C2-AB6BB4AA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39D8-EB0F-47AB-A76B-2BE8C34A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CFD5-F70A-44B7-8E14-51EBB1A6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D6EB-6BD0-4D71-9E5C-0DBD7381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329F-78B8-49C8-B124-6BE51528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15E-B1FF-4856-8F98-10BE0390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12E0-D9F7-4096-85A5-611DA869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1D45-7C7D-4B35-95F8-21ACCC1F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E57E-BF00-4F16-AE4D-0E01546A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CAA3-1762-4A03-88DE-21DD7EC4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8D56-29F5-429E-A173-ECE74123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F831-EBAA-471C-96E7-C88148A1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0EBA-7F72-4B89-B77D-D3685486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4900-807A-41C3-B17B-60580806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B1F39-BC85-4543-8383-68C0C85F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6B50-75B3-4F79-9FA5-B548BB48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357-8D8F-4214-91C7-478333FB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873F-2AD5-4AC2-9ECB-9A7DDB0B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14B4-34D5-4DFD-8D23-5042154D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56CD-8A0D-4F34-AADF-99F08BCD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60BD-75D2-4777-8C1E-1CA1B602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74C3-61F7-44CA-913D-AD8DBD43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55D1-3FD8-462B-882E-3533262B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95E5-A717-4AE7-B51C-A902CD4E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EA409-1DA8-46CC-B40D-14BB157B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A0FA8-C494-4980-962D-E981F41B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A35A-58C7-4BC3-8103-043486F8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43B-1A38-4C45-AB36-AB21BF43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E7F8A-0B7B-4E61-B426-BC16ED47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C92F8-2F4D-4D1F-8C35-29CD511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0121-1276-44F7-9EE0-CDF0D1AA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59EBC-D265-419B-AA08-F0CFE6E2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D7691-8FE8-422C-B09F-7ECB1207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1536-42F1-4E20-B959-BA9BC78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F7AA-6A92-4DA7-AC87-514A6EC2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010D-04A5-49A6-83FE-DCEF3917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5B44-5F0B-4EDF-9E97-667ECFAB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DADB-C262-4AD1-99EE-EA50422F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08A-5228-4472-8147-1DC96F2D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6D68-AC77-4D03-BAF0-CEA05E9D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FB1F-7991-44CC-B67A-1695C5A7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8F03E-78CB-4879-B5EF-52185DCC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2FCA-BD11-4DAF-870C-8CAE0B66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62C0-96CB-4912-816D-F70AFDFF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5184E-577E-4FD8-96BD-F9A7BD28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381F5-CDCA-4FDD-9498-8ADE38DA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B6E25-2A4C-4EBD-9D19-A96CC6DC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FBEA-664F-4619-9EF1-7FBEA29D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100AC-E69B-452E-AB92-AB2E3499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A3D-F0C0-461A-AB42-94D7194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8E15-0552-44A9-A0F9-A818BE3B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61EA9-211F-4424-B729-F2ABE521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1CBED-1D47-44F2-8606-4DF94CA0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63872-818D-4B39-B5ED-B4C5CD2B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6031D-5D49-412A-A5EB-8F4F3636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A94C2-5506-47BB-878C-2DF5C39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0D584-4153-4535-A73F-A9B0B127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E467B-9138-4409-A62A-4A9678E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57B06-6D7A-49BE-9C2A-44893359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9D6E7-9A7A-408B-AAE7-700FDA72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ACA-1D2C-48EA-A1C1-3A4B4321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5C092D-2E89-4482-935D-0D5473EA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DFB6E-4754-459F-9B1E-5A987FD2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A66CD-65B8-4B80-BA6F-B3BA7CF7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5B4D9-764C-45E4-B18C-B32387AB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A708C-45DE-4D2A-9896-91EC853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32B42-6FF6-4F79-8FEA-EC7BF9FB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8E118-2008-4ED2-9F27-DCF1EC55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8EA26-A5F9-45A2-A341-14D4D43C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3F1A7-9BBF-43D3-AE50-556C4649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BD861-DBE2-4EF0-AB76-4ABF3B1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DC6-51AC-46A0-B658-C99BBD8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2E4B3-1AE0-45DB-A7CF-11F1669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02075-3919-4FFE-8F8B-7141C3D6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CE59C-AA47-4A8A-B9F3-EAE082C1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E7321-DE79-45DD-9BFA-9A7DFC5C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67D69-BAC0-4891-A8F2-061D13FB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C775-49CC-4BC5-9604-DDE4C73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0CF7-D8A2-4800-A331-B4B93D5BFB5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3FBA-B313-4A5E-A665-FF4AA2ACC339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DE7F-0557-4D09-B31C-1C2562E7406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23AB-0369-4DD3-A166-212567200E5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5440-F1DC-4A11-8D02-9C4897F72D2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0E9-040C-490A-8C1D-3CBAC2DF3FC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DE8-79BC-4475-87B6-1E428FC52A9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ЛЕКАРСТВЕННЫХ СРЕДСТВ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534c"/>
                </a:solidFill>
                <a:latin typeface="Book Antiqua"/>
              </a:rPr>
              <a:t>ПАРЕНТЕРАЛЬНЫЙ ПУТЬ ВВЕДЕНИЯ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РИ ПРОВЕДЕНИИ ИНЪЕКЦИИ ПРОЦЕДУРНАЯ МЕДСЕСТРА ДОЛЖНА: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облюдать правила стерильност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выполнять инъекции срезом вверх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уметь определять место инъекции в различных ситуациях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альпировать место инъек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сразу после и через 15-30 минут после инъекции уточнить самочувствие и реакцию пациента на введенное лекарство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ПРИ ПРОВЕДЕНИИ ИНЪЕКЦИИ ПРОЦЕДУРНАЯ МЕДСЕСТРА ДОЛЖНА: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мнить о возможных осложнениях после инъекци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мещать инъекционные иглы в контейнер со специально оборудованной крышкой для обеспечения инфекционной безопасно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ценить состояние кож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меть выявить возможные психологические проблемы пациента перед вмешательств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3" name="Picture 2" descr="http://dezsredstva.ru/upload/iblock/b5a/abris_1.jpg"/>
          <p:cNvPicPr/>
          <p:nvPr/>
        </p:nvPicPr>
        <p:blipFill>
          <a:blip r:embed="rId1"/>
          <a:stretch/>
        </p:blipFill>
        <p:spPr>
          <a:xfrm>
            <a:off x="7020000" y="377208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62080" y="39816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дсестра выполняет инъекции в процедурном кабинете или тяжелобольным пациентам – в палате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Для проведения любой инъекции необходимо приготовить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терильный лоток со стерильным пинцет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еревязочный материал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70% этиловый спирт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шприц с лекарственным препарат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2" descr="http://www.stihi.ru/pics/2012/08/19/948.jpg"/>
          <p:cNvPicPr/>
          <p:nvPr/>
        </p:nvPicPr>
        <p:blipFill>
          <a:blip r:embed="rId1"/>
          <a:stretch/>
        </p:blipFill>
        <p:spPr>
          <a:xfrm>
            <a:off x="5310360" y="4076640"/>
            <a:ext cx="341460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ля каждой инъекции необходимо приготовить соответствующие шприц и игл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Шприцы для инъекций имеют объем в миллилитрах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кожной – 1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кожной – 2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мышечной – 5,0, 10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венной – 10,0 и 20,0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Picture 2" descr="http://stat8.blog.ru/lr/0a0ca1029182b1374188e30938bf4358"/>
          <p:cNvPicPr/>
          <p:nvPr/>
        </p:nvPicPr>
        <p:blipFill>
          <a:blip r:embed="rId1"/>
          <a:stretch/>
        </p:blipFill>
        <p:spPr>
          <a:xfrm>
            <a:off x="4859280" y="3789360"/>
            <a:ext cx="40672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7d72"/>
                </a:solidFill>
                <a:latin typeface="Book Antiqua"/>
              </a:rPr>
              <a:t>«ЦЕНА» ДЕЛЕНИЯ – ЭТО КОЛИЧЕСТВО РАСТВОРА МЕЖДУ ДВУМЯ БЛИЖАЙШИМИ ДЕЛЕНИЯМИ ЦИЛИНДРА.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ля того, чтобы определить «цену» деления, следует найти на цилиндре ближайшую к подыгольному конусу цифру, указывающую количество мл, затем определить число делений на цилиндре между этой цифрой и подыгольным конусом и разделить найденную цифру на число делений. Например, на цилиндре шприца емкостью 20 мл ближайшая цифра к подыгольному конусу цифра 10. Число делений между конусом и цифрой 10 равно 5. Разделив 10 на 5, получаем 2 мл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ДЛЯ ПРАВИЛЬНОГО ВВЕДЕНИЯ ПРЕПАРАТА НЕОБХОДИМО ЗНАТЬ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место инъекции,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глубину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угол введения иглы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НУТРИКОЖНАЯ ИНЪЕКЦИЯ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амая поверхностная инъекция, иглу вводят на глубину срез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 инъекции: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диагностическа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ят, выполняя диагностические проб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 туберкулез – с туберкулин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 лекарственным препаратом – для определения аллергической реакц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6" name="Picture 2" descr="http://www.medcectre.ru/wp-content/uploads/2012/06/vypolnenie-vnutrikozhnoj-injekcii.jpg"/>
          <p:cNvPicPr/>
          <p:nvPr/>
        </p:nvPicPr>
        <p:blipFill>
          <a:blip r:embed="rId1"/>
          <a:stretch/>
        </p:blipFill>
        <p:spPr>
          <a:xfrm>
            <a:off x="5867280" y="5000760"/>
            <a:ext cx="2737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АПОМНИТЕ!</a:t>
            </a: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	</a:t>
            </a:r>
            <a:br>
              <a:rPr sz="29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552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– 0,1-1,0 мл (шприц ёмкостью 1 мл, туберкулиновый, игла длиной 15 мм и диаметром 0,4 м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гол введения иглы – 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лубина введения иглы – срез игл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сто введения: передняя (внутренняя) поверхность предплечья (средняя треть предплечь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79" name="Picture 2" descr="http://www.virtumed.ru/p/m/virtuvein3.jpg"/>
          <p:cNvPicPr/>
          <p:nvPr/>
        </p:nvPicPr>
        <p:blipFill>
          <a:blip r:embed="rId1"/>
          <a:stretch/>
        </p:blipFill>
        <p:spPr>
          <a:xfrm>
            <a:off x="3059280" y="4292640"/>
            <a:ext cx="3816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ОДКОЖНАЯ ИНЪЕКЦИЯ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Цель инъекции: лечебная – введение препарата в жировую ткан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ят для лечебного эффекта с учетом быстрого всасывания препаратов в рыхлой подкожной клетчатк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http://oasis-ti.com/content/images/dictionary/04.jpg"/>
          <p:cNvPicPr/>
          <p:nvPr/>
        </p:nvPicPr>
        <p:blipFill>
          <a:blip r:embed="rId1"/>
          <a:srcRect l="-50000" t="0" r="50009" b="0"/>
          <a:stretch/>
        </p:blipFill>
        <p:spPr>
          <a:xfrm>
            <a:off x="684360" y="3716280"/>
            <a:ext cx="8135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ОДКОЖНАЯ ИНЪЕКЦИЯ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Цель инъекции: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лечебная – введение препарата в жировую ткан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ят для лечебного эффекта с учетом быстрого всасывания препаратов в рыхлой подкожной клетчатке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оздействие лекарственных средств – через 20-30 минут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Этот способ используют при необходимости пролонгирования препарата (адреналин, эфедрин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7d72"/>
                </a:solidFill>
                <a:latin typeface="Book Antiqua"/>
              </a:rPr>
              <a:t>ИНЪЕКЦИОННЫЙ ПУТЬ ВВЕДЕНИЯ ЛЕКАРСТВЕННЫХ СРЕДСТВ</a:t>
            </a: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минуя пищеварительный тракт, через инъекци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2" name="Picture 2" descr="http://www.poliklinika-avto.ru/image/specialisty/kuz.gif"/>
          <p:cNvPicPr/>
          <p:nvPr/>
        </p:nvPicPr>
        <p:blipFill>
          <a:blip r:embed="rId1"/>
          <a:stretch/>
        </p:blipFill>
        <p:spPr>
          <a:xfrm>
            <a:off x="4284720" y="2421000"/>
            <a:ext cx="32400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АПОМНИТЕ!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1,0-2,0 мл (шприц ёмкостью 1-2 мл, игла длиной 20 мм, диаметром 0,4-0,6 мм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Угол введения иглы – 45</a:t>
            </a:r>
            <a:r>
              <a:rPr b="0" lang="en-US" sz="22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Глубина введения иглы – 2/3 (1-1,5 см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Места введения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наружная поверхность плеча на границе верхней и средней трети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длопаточная область, нижний угол лопатк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оверхность брюшной стенк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передненаружная поверхность бедра средняя треть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МЕСТА ВВЕДЕНИЯ П</a:t>
            </a: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/</a:t>
            </a: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К ИНЪЕКЦ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8" name="Объект 3" descr=""/>
          <p:cNvPicPr/>
          <p:nvPr/>
        </p:nvPicPr>
        <p:blipFill>
          <a:blip r:embed="rId1"/>
          <a:stretch/>
        </p:blipFill>
        <p:spPr>
          <a:xfrm>
            <a:off x="831960" y="1989000"/>
            <a:ext cx="7450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ВНУТРИМЫШЕЧНАЯ ИНЪЕКЦИЯ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ышечная ткань обладает широкой сетью кровеносных и лимфатических сосудов, поэтому всасывание препаратов при внутримышечных инъекциях  происходит быстрее и полнее, чем при подкожной инъек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1" name="Picture 2" descr="http://centrkvant.real-com.net/goodspic/7/21/45217/thumbs_260/g_image_4e54aded23385.jpg"/>
          <p:cNvPicPr/>
          <p:nvPr/>
        </p:nvPicPr>
        <p:blipFill>
          <a:blip r:embed="rId1"/>
          <a:stretch/>
        </p:blipFill>
        <p:spPr>
          <a:xfrm>
            <a:off x="5487840" y="4292640"/>
            <a:ext cx="3073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ЗАПОМНИТЕ!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17600" y="92880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– 5,0-10,0 мл (шприц ёмкостью 1-10 мл, игла длиной 60-80 мм, диаметром 0,8 м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гол введения иглы – 9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лубина введения иглы - 2/3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ста введения: верхненаружный квадрант ягодицы, передненаружная поверхность бедра, средняя треть плеча (область дельтовидной мышцы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4" name="Содержимое 7" descr="spots.jpg"/>
          <p:cNvPicPr/>
          <p:nvPr/>
        </p:nvPicPr>
        <p:blipFill>
          <a:blip r:embed="rId1"/>
          <a:stretch/>
        </p:blipFill>
        <p:spPr>
          <a:xfrm>
            <a:off x="3780000" y="4281480"/>
            <a:ext cx="3600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ИЦИНСКОЙ СЕСТРЫ:</a:t>
            </a:r>
            <a:br>
              <a:rPr sz="29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в</a:t>
            </a:r>
            <a:r>
              <a:rPr b="0" lang="en-US" sz="26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м инъекция выполняется в положении лежа на животе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просить пациента расслабить мышцу в месте укола для уменьшения болезненности инъекции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прокалывать кожу иглой достаточно быстро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использовать двухмоментный способ при введении (особенно! Масляного) препарата: потянуть поршень на себя для исключения попадания шприца в просвет сосуда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7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ВНУТРИВЕННЫЕ ВМЕШАТЕЛЬСТВА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нутривенная терапия – асептическое введение через иглу в вену лекарственных препарато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венная инъекц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енепункция – прокол стенки периферической вены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9" name="Picture 2" descr="http://images.satu.kz/1931617_w200_h200_foto_vnutriven.jpg"/>
          <p:cNvPicPr/>
          <p:nvPr/>
        </p:nvPicPr>
        <p:blipFill>
          <a:blip r:embed="rId1"/>
          <a:stretch/>
        </p:blipFill>
        <p:spPr>
          <a:xfrm>
            <a:off x="2916360" y="350028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НУТРИВЕННАЯ ИНЪЕКЦ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5520" y="95580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Запомните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ъем лекарственного препарата – до 20,0 мл (шприц ёмкостью 10-20 мл, игла длиной 40 мм, диаметром 0,8 м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гол введения иглы – 1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лубина введения иглы – 1/3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ста для инъекции: вены локтевого сгиба, предплечья, тыл кисти, стопы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2" name="Picture 2" descr="http://www.galo.ru/_uploaded/document/images/image_190.jpg"/>
          <p:cNvPicPr/>
          <p:nvPr/>
        </p:nvPicPr>
        <p:blipFill>
          <a:blip r:embed="rId1"/>
          <a:stretch/>
        </p:blipFill>
        <p:spPr>
          <a:xfrm>
            <a:off x="5219640" y="4221000"/>
            <a:ext cx="36259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ИЦИНСКОЙ СЕСТРЫ:</a:t>
            </a:r>
            <a:br>
              <a:rPr sz="29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брать в шприц лекарственный препарат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аложить жгут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 сохраненной пульсации лучевой артер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целях контурирования вен на время не более двух минут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звлекать иглу без давления, фиксировать шариком место пункц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енепункцию обычно проводят в два приема: вначале прокалывают кожу параллельно вене, а затем вен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НФУЗ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имание!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бласть венепункции менять каждые 48-72 час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корость введения зависит от состава, вязкости, температуры, объема инфузионного раствор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егулировать скорость поступления инфузионной жидкости – 40-60 капель в минут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7" name="Picture 2" descr="http://www.syktsu.ru/files/4d40f68e524108666573740e8d27ca0d.jpg"/>
          <p:cNvPicPr/>
          <p:nvPr/>
        </p:nvPicPr>
        <p:blipFill>
          <a:blip r:embed="rId1"/>
          <a:stretch/>
        </p:blipFill>
        <p:spPr>
          <a:xfrm>
            <a:off x="6516720" y="109440"/>
            <a:ext cx="23032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ОБЕННОСТИ ВВЕДЕНИЯ НЕКОТОРЫХ МЕДИКАМЕНТОЗНЫХ СРЕДСТВ</a:t>
            </a:r>
            <a:br>
              <a:rPr sz="28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8000" y="7236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64b3c"/>
                </a:solidFill>
                <a:latin typeface="Century Gothic"/>
              </a:rPr>
              <a:t>Инсулин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– бесцветная жидкость, применяют в терапии сахарного диабета (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 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тип – инсулинозависимый, </a:t>
            </a:r>
            <a:r>
              <a:rPr b="0" lang="en-US" sz="2800" spc="-1" strike="noStrike">
                <a:solidFill>
                  <a:srgbClr val="564b3c"/>
                </a:solidFill>
                <a:latin typeface="Century Gothic"/>
              </a:rPr>
              <a:t>II</a:t>
            </a: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 тип при неэффективности диетотерапии и лекарственной терапии), вводят подкожно, внутримышечно, внутривенно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10" name="Picture 2" descr="http://pics.vesti.ru/p/b_216280.jpg"/>
          <p:cNvPicPr/>
          <p:nvPr/>
        </p:nvPicPr>
        <p:blipFill>
          <a:blip r:embed="rId1"/>
          <a:stretch/>
        </p:blipFill>
        <p:spPr>
          <a:xfrm>
            <a:off x="5076720" y="3809880"/>
            <a:ext cx="4067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АРЕНТЕРАЛЬНОЕ ВВЕДЕНИЕ ЛЕКАРСТВ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беспечивает быстрое поступление в кровь при невозможности перорального введения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редпочтительно в случае разложения веществ в желудочно-кишечном тракте или затрудненного всасывания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http://s.alriyadh.com/2010/01/07/img/488458682436.jpg"/>
          <p:cNvPicPr/>
          <p:nvPr/>
        </p:nvPicPr>
        <p:blipFill>
          <a:blip r:embed="rId1"/>
          <a:stretch/>
        </p:blipFill>
        <p:spPr>
          <a:xfrm>
            <a:off x="4500720" y="3573360"/>
            <a:ext cx="4390920" cy="29210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ОБЕННОСТИ ВВЕДЕНИЯ НЕКОТОРЫХ МЕДИКАМЕНТОЗНЫХ СРЕДСТВ</a:t>
            </a:r>
            <a:br>
              <a:rPr sz="28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 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Инсулин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хранят в холодильнике (Т от +2 до +8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нсулин дозируют в ЕИ (единицах инсулина). Для введения инсулина подкожно используют инсулиновый шприц и шприц-руч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ыпускается в 2х концентрациях: 1мл – 40 ЕД, 1мл – 100 Е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ИЦИНСКОЙ СЕСТРЫ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трого соблюдать точность дозировки, назначенной врачо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жа в месте инъекции должна быть абсолютно сухой (нельзя перед инъекцией обрабатывать спиртом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енять места выполнения инъекции с целью профилактики липодистроф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ледить за своевременным приемом пищи пациен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ОМНИТЬ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передозировка инсулина опасна развитием гипогликемической комы (резкое снижение уровня сахара в крови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Century Gothic"/>
              </a:rPr>
              <a:t>недостаточная доза инсулина или несвоевременное введение – гипергликемия (повышение уровня сахара в крови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ГЕПАРИН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меняют как антикоагулянт в терапии сердечно-сосудистой патологии: инфаркте миокарда, тромбофлебитах конечностей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Гепарин вводят подкожно, внутримышечно и внутривенно, при введении внутрь он разрушается в желудке и не дает эффек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0" name="Picture 2" descr="http://www.vokrugsveta.ru/img/cmn/2008/05/15/018.jpg"/>
          <p:cNvPicPr/>
          <p:nvPr/>
        </p:nvPicPr>
        <p:blipFill>
          <a:blip r:embed="rId1"/>
          <a:stretch/>
        </p:blipFill>
        <p:spPr>
          <a:xfrm>
            <a:off x="6156360" y="4149720"/>
            <a:ext cx="25542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СЕСТРЫ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глубоко в подкожную жировую клетчатку, менять места инъецирования, внутривенно – медленно!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онтролировать время свертывания крови (коагулограмму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СЕРДЕЧНЫЕ ГЛИКОЗИДЫ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(строфантин, корглюкон)   -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казывает избирательное действие на сердце, применяют при сердечно-сосудистой недостаточност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25" name="Picture 2" descr="http://www.kupilekarstva.ru/published/publicdata/ONLINEP9ONLINEPH/attachments/SC/products_pictures/strofantin_arterium.jpg"/>
          <p:cNvPicPr/>
          <p:nvPr/>
        </p:nvPicPr>
        <p:blipFill>
          <a:blip r:embed="rId1"/>
          <a:stretch/>
        </p:blipFill>
        <p:spPr>
          <a:xfrm>
            <a:off x="969840" y="3139920"/>
            <a:ext cx="3316320" cy="2303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web-apteka.com/photos/s/78399.jpg"/>
          <p:cNvPicPr/>
          <p:nvPr/>
        </p:nvPicPr>
        <p:blipFill>
          <a:blip r:embed="rId2"/>
          <a:stretch/>
        </p:blipFill>
        <p:spPr>
          <a:xfrm>
            <a:off x="5059440" y="3432240"/>
            <a:ext cx="28414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ЕКОМЕНДАЦИИ ДЛЯ МЕДСЕСТРЫ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внутривенно медленно – при быстром введении возможно нарушение сердечного ритма – аритм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препарат на изотоническом растворе натрия хлорид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водить мониторинг показателей сердечно-сосудистой деятельности – пульса, А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ttp://lechimsya.org/uploads/med/antibiotiki/bicillin-3-600-tys.-ed.-fl._9756.jpg"/>
          <p:cNvPicPr/>
          <p:nvPr/>
        </p:nvPicPr>
        <p:blipFill>
          <a:blip r:embed="rId1"/>
          <a:stretch/>
        </p:blipFill>
        <p:spPr>
          <a:xfrm>
            <a:off x="7210440" y="5022720"/>
            <a:ext cx="1982880" cy="18590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БИЦИЛЛИН – АНТИБИОТИК ПЕНИЦИЛЛИНОВОГО РЯДА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Рекомендации для медсестр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зводить водой для инъекций строго перед введением. Препарат с водой образует стойкую суспензию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только внутримышечно, целесообразно в бедро – препарат хорошо рассасывается, ходьба усиливает циркуляцию кров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спользовать двухмоментный способ введения: игла не должна находиться в просвете сосуд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силивать рассасывание препарата местным теплом (грелка, согревающий компресс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МАГНИЯ СУЛЬФАТ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меняется внутримышечно или внутривенно как успокаивающее, спазмолитическое или противосудорожное средств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Рекомендации для медицинской сестр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глубоко, двухмоментным способом при внутримышечном применен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медленно при внутривенной инфуз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34" name="Picture 2" descr="http://www.zetmed.ru/assets/images/uslugi/magneziya.gif"/>
          <p:cNvPicPr/>
          <p:nvPr/>
        </p:nvPicPr>
        <p:blipFill>
          <a:blip r:embed="rId1"/>
          <a:stretch/>
        </p:blipFill>
        <p:spPr>
          <a:xfrm>
            <a:off x="6875640" y="4624560"/>
            <a:ext cx="213984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http://lechimsya.org/uploads/med/makro-i-mikroyelementy/kalciya-xlorid-01ml-10ml-n10-amp-r-r-vv_9451.jpg"/>
          <p:cNvPicPr/>
          <p:nvPr/>
        </p:nvPicPr>
        <p:blipFill>
          <a:blip r:embed="rId1"/>
          <a:stretch/>
        </p:blipFill>
        <p:spPr>
          <a:xfrm>
            <a:off x="5796000" y="4199040"/>
            <a:ext cx="3003480" cy="26334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6b7d72"/>
                </a:solidFill>
                <a:latin typeface="Book Antiqua"/>
              </a:rPr>
              <a:t>КАЛЬЦИЯ ХЛОРИД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–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тивоаллергическое, дезинтоксикационное средств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Рекомендации для медицинской сестр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только внутривенно, медленн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облюдать осторожность при введении – возможен некроз ткане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ощущение жара в полости рта, по всему телу пациента указывает на наличие препарата в кров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МНОГООБРАЗИЕ ПУТЕЙ ВВЕДЕНИЯ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ткан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кожа, подкожная клетчатка, мышцы, кость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сосуды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вены, артери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полост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брюшная, плевральная, сердечная, суставная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субарахноидальное пространство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под мозговую оболочку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7d72"/>
                </a:solidFill>
                <a:latin typeface="Book Antiqua"/>
              </a:rPr>
              <a:t>ЭССЕНЦИАЛЕ ФОРТЕ В ФОРМЕ РАСТВОРА ДЛЯ ИНЪЕКЦ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твор должен быть прозрачным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не следует смешивать (в одном шприце) его с другими лекарственными средствам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водить внутривенно (медленно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категорически противопоказано вводить препарат Эссенциале форте в мышцу (может вызвать сильное раздражение)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40" name="Picture 2" descr="http://www.aptekanadom.com/content/catalog/images/1303200115.JPG"/>
          <p:cNvPicPr/>
          <p:nvPr/>
        </p:nvPicPr>
        <p:blipFill>
          <a:blip r:embed="rId1"/>
          <a:stretch/>
        </p:blipFill>
        <p:spPr>
          <a:xfrm>
            <a:off x="5992920" y="4511520"/>
            <a:ext cx="2816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РАСЧЕТНЫЕ НОРМЫ ПО РАЗВЕДЕНИЮ АНТИБИОТИКОВ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качестве растворителей а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б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спользуют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25%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л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0,5%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твор новокаина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м введен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2% раствор лидокаина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введен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9%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раствор хлорида натрия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терильную воду при 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/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ПРАВИЛА РАЗВЕДЕНИЯ А</a:t>
            </a: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/</a:t>
            </a: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Б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1:1 (на каждые 100000 ЕД необходимо взять 1 мл растворител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1:2 (на каждые 100000 ЕД необходимо взять 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,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5 мл растворителя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Чтобы набрать в шприц назначенную врачом дозу препарата, необходимо помнить, что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 разведении 1:1 в 1мл раствора антибиотика содержится 100000 Е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и разведении 1:2 в 1 мл раствора антибиотика содержится 200000 ЕД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598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7d72"/>
                </a:solidFill>
                <a:latin typeface="Book Antiqua"/>
              </a:rPr>
              <a:t>ОСЛОЖНЕНИЯ, СВЯЗАННЫЕ С НАРУШЕНИЕМ ПРАВИЛ АСЕПТИКИ</a:t>
            </a:r>
            <a:br>
              <a:rPr sz="32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08000" y="1052640"/>
          <a:ext cx="9036000" cy="5592600"/>
        </p:xfrm>
        <a:graphic>
          <a:graphicData uri="http://schemas.openxmlformats.org/drawingml/2006/table">
            <a:tbl>
              <a:tblPr/>
              <a:tblGrid>
                <a:gridCol w="1806480"/>
                <a:gridCol w="1806480"/>
                <a:gridCol w="1808280"/>
                <a:gridCol w="1806480"/>
                <a:gridCol w="1808280"/>
              </a:tblGrid>
              <a:tr h="5490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04360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ильтра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уплотнение) – местное воспаление мягких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т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е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езнен-ность в месте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нарушение техники инъекции: короткие иглы, введение неподогретых масляных раств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Многократное инъецирование в одни и те же ме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Соблюдение асептики при выполнении п/к и в/м инъе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Соответствие инъекционной и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Соблюдение температурного режим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ляных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-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согревающий комп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гре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 назначению врача физио-терап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9280" y="549360"/>
          <a:ext cx="8785440" cy="580212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7520"/>
                <a:gridCol w="1757160"/>
                <a:gridCol w="1757520"/>
              </a:tblGrid>
              <a:tr h="11602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-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-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6418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бсцесс – ограничен-ное гнойное воспа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емия, боль, уплотнение, повышение температуры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ициро-вание мягких тка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людение асептики при выполнении п\к и в/м инъе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рурги-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24000" y="549360"/>
          <a:ext cx="8229600" cy="5183280"/>
        </p:xfrm>
        <a:graphic>
          <a:graphicData uri="http://schemas.openxmlformats.org/drawingml/2006/table">
            <a:tbl>
              <a:tblPr/>
              <a:tblGrid>
                <a:gridCol w="1511280"/>
                <a:gridCol w="1779480"/>
                <a:gridCol w="1646280"/>
                <a:gridCol w="1646280"/>
                <a:gridCol w="1646280"/>
              </a:tblGrid>
              <a:tr h="7556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427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дален-ные осложне-ния: сепсис, гепатиты В,С,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линическая картина зависит от инфекцион-ного аг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убые нарушения правил асеп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людение асептики при в/в инъекциях и инфузиях, использо-вание однора-зовых ИМ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ецифиче-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Rectangle 1"/>
          <p:cNvSpPr/>
          <p:nvPr/>
        </p:nvSpPr>
        <p:spPr>
          <a:xfrm>
            <a:off x="457200" y="337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79280" y="1773360"/>
          <a:ext cx="8783640" cy="488628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7520"/>
                <a:gridCol w="1755720"/>
                <a:gridCol w="1757160"/>
              </a:tblGrid>
              <a:tr h="6102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2760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ляная эмболия масло в вене – эмбол с током крови попадает в легочные сосуд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ушье, кашель, цианоз, угроза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падание конца иглы в просвет сосуда при п/к и в/м инъекц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ведение препаратов двухмоментным  способом, подогревание масляных препаратов до темпера-туры 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рурги-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дикаментоз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Rectangle 1"/>
          <p:cNvSpPr/>
          <p:nvPr/>
        </p:nvSpPr>
        <p:spPr>
          <a:xfrm>
            <a:off x="395280" y="234720"/>
            <a:ext cx="85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ложнения, связанные с неправильной техникой выполнения инъекций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79280" y="476280"/>
          <a:ext cx="8734680" cy="5977080"/>
        </p:xfrm>
        <a:graphic>
          <a:graphicData uri="http://schemas.openxmlformats.org/drawingml/2006/table">
            <a:tbl>
              <a:tblPr/>
              <a:tblGrid>
                <a:gridCol w="1871640"/>
                <a:gridCol w="1622520"/>
                <a:gridCol w="1746360"/>
                <a:gridCol w="1746000"/>
                <a:gridCol w="1748160"/>
              </a:tblGrid>
              <a:tr h="10159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-лак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9611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оздушная эмбо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ушье, кашель, цианоз, угроза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падание воздуха в шприц при вливан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теснение воздухи из шприца или системы перед венепун-ц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Л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66760" y="282600"/>
          <a:ext cx="8697960" cy="6099120"/>
        </p:xfrm>
        <a:graphic>
          <a:graphicData uri="http://schemas.openxmlformats.org/drawingml/2006/table">
            <a:tbl>
              <a:tblPr/>
              <a:tblGrid>
                <a:gridCol w="1739880"/>
                <a:gridCol w="1738440"/>
                <a:gridCol w="1739880"/>
                <a:gridCol w="1739880"/>
                <a:gridCol w="1739880"/>
              </a:tblGrid>
              <a:tr h="6778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4212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ибочное введение лекарствен-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ая кожная реакция: гиперемия, отеч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ая реакция организма: заложенность носа, гипертермия, анафилактический 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внимательность медицинской сес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енение препаратов в соответствии с листом назначения (правильное прочтение надписи на ампуле, флакон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ведение в место инъекции 0,9% раствора хлорида на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пузырь со ль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жгут выше места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9" name="Rectangle 1"/>
          <p:cNvSpPr/>
          <p:nvPr/>
        </p:nvSpPr>
        <p:spPr>
          <a:xfrm>
            <a:off x="457200" y="300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250920" y="692280"/>
          <a:ext cx="8642160" cy="59054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11808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724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омбофлебит – воспаление вены с образованием в ней тро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е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перте-р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пые иглы, локальное инъецирование в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мена мест венепунк-ции, использование острых иг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Rectangle 1"/>
          <p:cNvSpPr/>
          <p:nvPr/>
        </p:nvSpPr>
        <p:spPr>
          <a:xfrm>
            <a:off x="457200" y="3471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ПРЕИМУЩЕСТВА ПРИМЕНЕНИЯ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быстрота действия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точность дозировк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независимость от состояния пациента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08000" y="333360"/>
          <a:ext cx="8785080" cy="6281640"/>
        </p:xfrm>
        <a:graphic>
          <a:graphicData uri="http://schemas.openxmlformats.org/drawingml/2006/table">
            <a:tbl>
              <a:tblPr/>
              <a:tblGrid>
                <a:gridCol w="1755720"/>
                <a:gridCol w="1757520"/>
                <a:gridCol w="1757160"/>
                <a:gridCol w="1755720"/>
                <a:gridCol w="1758960"/>
              </a:tblGrid>
              <a:tr h="5490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732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кроз – омертвление мягких тк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льсирую-щая боль в области инъекции, отек, гиперемия с цианозом, зона омерт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ибочное введение под кожу раздражающи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ая техника выполнения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-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Прекращение введения препар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введение в инъекционное поле 0,5% р-ра новокаина – уменьшение концентрации препарата и болевого синдр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Пузырь со ль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50920" y="476280"/>
          <a:ext cx="8713800" cy="6192720"/>
        </p:xfrm>
        <a:graphic>
          <a:graphicData uri="http://schemas.openxmlformats.org/drawingml/2006/table">
            <a:tbl>
              <a:tblPr/>
              <a:tblGrid>
                <a:gridCol w="1657080"/>
                <a:gridCol w="1727280"/>
                <a:gridCol w="1843200"/>
                <a:gridCol w="1743120"/>
                <a:gridCol w="1743120"/>
              </a:tblGrid>
              <a:tr h="88596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3067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ематома (кровоизлияние под кож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овоподтек под кожей в виде багрового пятна, болезнен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войное прободение вены (перфора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ая техника выполнения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с-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ращение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гревающий компр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9280" y="1557360"/>
          <a:ext cx="8713800" cy="513864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490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589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подистрофия (дистрофические изменения подкожной жировой клетчатки, связанные с уменьшением жировых клеток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мки под кожей из-за рассасывания жировой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ведение инсулина в одно и тоже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ередование мест инъе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Rectangle 1"/>
          <p:cNvSpPr/>
          <p:nvPr/>
        </p:nvSpPr>
        <p:spPr>
          <a:xfrm>
            <a:off x="441360" y="233640"/>
            <a:ext cx="82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ложнения, связанные с неправильным выбором места инъекци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08000" y="404640"/>
          <a:ext cx="8856720" cy="6264360"/>
        </p:xfrm>
        <a:graphic>
          <a:graphicData uri="http://schemas.openxmlformats.org/drawingml/2006/table">
            <a:tbl>
              <a:tblPr/>
              <a:tblGrid>
                <a:gridCol w="1770120"/>
                <a:gridCol w="1771560"/>
                <a:gridCol w="1771560"/>
                <a:gridCol w="1771560"/>
                <a:gridCol w="1771920"/>
              </a:tblGrid>
              <a:tr h="6400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6242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ждение нервных стволов от неврита (воспаление нерва) до паралича (расстройства двигательной функ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, нарушение и/или выпадение фун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ичес-кое повреждение иглой. Химическое повреждение – при создании лекарствен-ного депо вблизи нервного ст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ый выбор места инъ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79280" y="404640"/>
          <a:ext cx="8713800" cy="626436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12528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50115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ждение костной ткани (периости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ь, отек, гиперем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ждение надкост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ильный выбор места инъекции, пальпация места инъециро-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120" marR="6012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68360" y="1413000"/>
          <a:ext cx="7848720" cy="5329080"/>
        </p:xfrm>
        <a:graphic>
          <a:graphicData uri="http://schemas.openxmlformats.org/drawingml/2006/table">
            <a:tbl>
              <a:tblPr/>
              <a:tblGrid>
                <a:gridCol w="1568520"/>
                <a:gridCol w="1569960"/>
                <a:gridCol w="1569960"/>
                <a:gridCol w="1569960"/>
                <a:gridCol w="1570320"/>
              </a:tblGrid>
              <a:tr h="507960"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-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4821120"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лергичес-кие ре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ые реакции: зуд, отек, гиперемия, местное повышение температуры, высып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ие реакции: заложенность носа (острый ринит), сыпь, отек Квинке, анафилактический ш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дивидуальная повышенная чувствительность организма к препара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щательное субъектив-ное обследова-ние (расспрос пациента о переноси-мости лекарственных веществ – аллерголо-гический анамне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ебные назна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9760" marR="5976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468360" y="31500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ллергические реакции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50920" y="404640"/>
          <a:ext cx="8569080" cy="6523200"/>
        </p:xfrm>
        <a:graphic>
          <a:graphicData uri="http://schemas.openxmlformats.org/drawingml/2006/table">
            <a:tbl>
              <a:tblPr/>
              <a:tblGrid>
                <a:gridCol w="2130480"/>
                <a:gridCol w="1353960"/>
                <a:gridCol w="1859040"/>
                <a:gridCol w="1170000"/>
                <a:gridCol w="2055600"/>
              </a:tblGrid>
              <a:tr h="54900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ло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и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офил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4320">
                      <a:solidFill>
                        <a:srgbClr val="ce4f3a"/>
                      </a:solidFill>
                    </a:lnT>
                    <a:lnB w="25200">
                      <a:solidFill>
                        <a:srgbClr val="cf543f"/>
                      </a:solidFill>
                    </a:lnB>
                    <a:solidFill>
                      <a:srgbClr val="cf543f"/>
                    </a:solidFill>
                  </a:tcPr>
                </a:tc>
              </a:tr>
              <a:tr h="639396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нафилактический шок – резко выраженная аллергическая реакция немедленного типа на введение лекарственных веществ, проявляющаяся резким понижением АД и местными проявлениями аллергическ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щее покраснение кожи, сыпь, стеснение в груди, приступы кашля, выраженное беспокойство, одышка, рвота, снижение АД, сердцеби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ышенная чувствительность организма к аллерге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ные о переносимости препарата (аллергена) отметить на титульном листе медицинской ка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стринские вмешательств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Доврачебная помощь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уложить пациента, приподнять ножной конец, голову повернуть наб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наложить жгут выше места инъекции или пузырь со льдом, при попадании аллергена через рот – промыть желу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Подать увлажненный кисл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Приготовить препараты противошоковой апте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риготовить систему для капельного вл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Вводить препараты по назначению вр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0480" marR="60480">
                    <a:lnL w="4320">
                      <a:solidFill>
                        <a:srgbClr val="ce4f3a"/>
                      </a:solidFill>
                    </a:lnL>
                    <a:lnR w="4320">
                      <a:solidFill>
                        <a:srgbClr val="ce4f3a"/>
                      </a:solidFill>
                    </a:lnR>
                    <a:lnT w="25200">
                      <a:solidFill>
                        <a:srgbClr val="cf543f"/>
                      </a:solidFill>
                    </a:lnT>
                    <a:lnB w="4320">
                      <a:solidFill>
                        <a:srgbClr val="ce4f3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СОСТАВ ПРОТИВОШОКОВОЙ АПТЕЧКИ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Жгут, шприцы, инфузионные системы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Препараты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Сосудосуживающие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 (повышающие АД) – 0,1% раствор адреналина по 1 мл, 0,2% раствор норадреналин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Для повышения АД растворы: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мезатона – по 1 мл, кордиамина по 2 мл, кофеин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Антигистаминные препараты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2% раствор супрастина по 2 мл, димедрол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Для снятия отека дыхательных путей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2,4% раствор эуфиллина по 10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Дезинтоксикационные растворы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5% и 40% растворы глюкозы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Кортикостероиды –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раствор преднизолона (гидрокортизона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64b3c"/>
                </a:solidFill>
                <a:latin typeface="Century Gothic"/>
              </a:rPr>
              <a:t>Сердечные гликозиды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– строфантина по 1 мл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4b3c"/>
                </a:solidFill>
                <a:latin typeface="Century Gothic"/>
              </a:rPr>
              <a:t>Физраствор – </a:t>
            </a:r>
            <a:r>
              <a:rPr b="0" lang="ru-RU" sz="2200" spc="-1" strike="noStrike">
                <a:solidFill>
                  <a:srgbClr val="564b3c"/>
                </a:solidFill>
                <a:latin typeface="Century Gothic"/>
              </a:rPr>
              <a:t>0,9% раствор натрия хлорида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81" name="Picture 2" descr="http://www.transitunion.org/cross.jpg"/>
          <p:cNvPicPr/>
          <p:nvPr/>
        </p:nvPicPr>
        <p:blipFill>
          <a:blip r:embed="rId1"/>
          <a:stretch/>
        </p:blipFill>
        <p:spPr>
          <a:xfrm>
            <a:off x="7164360" y="260280"/>
            <a:ext cx="16668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НЕДОСТАТКИ СПОСОБА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возможность осложнений из-за нарушений правил введения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Century Gothic"/>
              </a:rPr>
              <a:t>риск инфицирования из-за нарушений правил асептики и антисептики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stat8.blog.ru/lr/0a0ca1029182b1374188e30938bf4358"/>
          <p:cNvPicPr/>
          <p:nvPr/>
        </p:nvPicPr>
        <p:blipFill>
          <a:blip r:embed="rId1"/>
          <a:stretch/>
        </p:blipFill>
        <p:spPr>
          <a:xfrm>
            <a:off x="1941480" y="3141720"/>
            <a:ext cx="5041800" cy="3352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5280" y="3330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Лекарственные препараты инъецируют в ткани иглой с помощью шприца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Емкость шприца необходимо выбирать в зависимости от количества раствора, которое необходимо ввести, и от вида инъекции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Иглу используют в зависимости от места инъекции, количества и характера раствор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СТРОЕНИЕ ШПРИЦ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1335240" y="2349360"/>
            <a:ext cx="64436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ВИДЫ ИНЪЕКЦИЙ: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5520" y="146016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кожна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– в роговой слой кожи под эпидермис (угол 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)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подкожна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– в подкожную жировую клетчатку (угол 4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)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мышечная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– в мышечную ткань (угол 90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)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внутривенная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– в просвет вены (угол 15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8" name="Picture 2" descr="http://mnogocar.ru/media/f/orig/851/85092.jpg"/>
          <p:cNvPicPr/>
          <p:nvPr/>
        </p:nvPicPr>
        <p:blipFill>
          <a:blip r:embed="rId1"/>
          <a:srcRect l="50002" t="0" r="0" b="0"/>
          <a:stretch/>
        </p:blipFill>
        <p:spPr>
          <a:xfrm>
            <a:off x="4754520" y="3933720"/>
            <a:ext cx="41385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4:50:01Z</dcterms:created>
  <dc:creator>Наталья</dc:creator>
  <dc:description/>
  <dc:language>en-US</dc:language>
  <cp:lastModifiedBy>Арина</cp:lastModifiedBy>
  <dcterms:modified xsi:type="dcterms:W3CDTF">2021-02-08T06:49:23Z</dcterms:modified>
  <cp:revision>27</cp:revision>
  <dc:subject/>
  <dc:title>Парентеральный путь введения</dc:title>
</cp:coreProperties>
</file>