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6855-3E34-4D5D-A07D-C72CBBA93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611800" y="808200"/>
            <a:ext cx="7957800" cy="10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773440" y="2052000"/>
            <a:ext cx="7796160" cy="19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773440" y="4140000"/>
            <a:ext cx="7796160" cy="19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BEFF-67AE-4F81-A575-ADE5A4706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611800" y="808200"/>
            <a:ext cx="7957800" cy="10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773440" y="2052000"/>
            <a:ext cx="3804480" cy="19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768360" y="2052000"/>
            <a:ext cx="3804480" cy="19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2773440" y="4140000"/>
            <a:ext cx="3804480" cy="19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768360" y="4140000"/>
            <a:ext cx="3804480" cy="19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8D16-CCAA-437A-ACE0-83A7C1D07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611800" y="808200"/>
            <a:ext cx="7957800" cy="10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773440" y="2052000"/>
            <a:ext cx="2510280" cy="19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409720" y="2052000"/>
            <a:ext cx="2510280" cy="19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8045640" y="2052000"/>
            <a:ext cx="2510280" cy="19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2773440" y="4140000"/>
            <a:ext cx="2510280" cy="19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5409720" y="4140000"/>
            <a:ext cx="2510280" cy="19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8045640" y="4140000"/>
            <a:ext cx="2510280" cy="19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D513-528F-4145-A238-08E55F70F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425FC-86BE-4159-ADE2-738E88419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611800" y="808200"/>
            <a:ext cx="7957800" cy="10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773440" y="2052000"/>
            <a:ext cx="7796160" cy="39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B679D-E427-41A4-B018-BD221F4AA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611800" y="808200"/>
            <a:ext cx="7957800" cy="10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73440" y="2052000"/>
            <a:ext cx="7796160" cy="39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2143E-8B17-476A-955A-A9E24C59E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611800" y="808200"/>
            <a:ext cx="7957800" cy="10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773440" y="2052000"/>
            <a:ext cx="3804480" cy="39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768360" y="2052000"/>
            <a:ext cx="3804480" cy="39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421E2-7EAF-4EC3-BEC2-B1F7450FA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611800" y="808200"/>
            <a:ext cx="7957800" cy="10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8F295-FA03-4A03-BC74-B7E743820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611800" y="808200"/>
            <a:ext cx="7957800" cy="49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A3F9F-4875-4271-BAA8-CA0021A9C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611800" y="808200"/>
            <a:ext cx="7957800" cy="10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773440" y="2052000"/>
            <a:ext cx="3804480" cy="19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768360" y="2052000"/>
            <a:ext cx="3804480" cy="39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773440" y="4140000"/>
            <a:ext cx="3804480" cy="19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F5C06-0208-48E0-B66D-A69824ED5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11800" y="808200"/>
            <a:ext cx="7957800" cy="10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2773440" y="2052000"/>
            <a:ext cx="7796160" cy="39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F723-7D7D-4358-94B0-619557B1C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611800" y="808200"/>
            <a:ext cx="7957800" cy="10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773440" y="2052000"/>
            <a:ext cx="3804480" cy="39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768360" y="2052000"/>
            <a:ext cx="3804480" cy="19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768360" y="4140000"/>
            <a:ext cx="3804480" cy="19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89EC7-A460-4F09-AA99-77BFFB37E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611800" y="808200"/>
            <a:ext cx="7957800" cy="10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73440" y="2052000"/>
            <a:ext cx="3804480" cy="19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768360" y="2052000"/>
            <a:ext cx="3804480" cy="19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73440" y="4140000"/>
            <a:ext cx="7796160" cy="19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B8C95-13B9-411A-99F9-4C9E9D6DB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611800" y="808200"/>
            <a:ext cx="7957800" cy="10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773440" y="2052000"/>
            <a:ext cx="7796160" cy="19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773440" y="4140000"/>
            <a:ext cx="7796160" cy="19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2CE89-48EF-4F82-9470-B30F273D2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611800" y="808200"/>
            <a:ext cx="7957800" cy="10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773440" y="2052000"/>
            <a:ext cx="3804480" cy="19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768360" y="2052000"/>
            <a:ext cx="3804480" cy="19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773440" y="4140000"/>
            <a:ext cx="3804480" cy="19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768360" y="4140000"/>
            <a:ext cx="3804480" cy="19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DD2AF-F0B8-4E8E-965B-1BE297EEF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611800" y="808200"/>
            <a:ext cx="7957800" cy="10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773440" y="2052000"/>
            <a:ext cx="2510280" cy="19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409720" y="2052000"/>
            <a:ext cx="2510280" cy="19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045640" y="2052000"/>
            <a:ext cx="2510280" cy="19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773440" y="4140000"/>
            <a:ext cx="2510280" cy="19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5409720" y="4140000"/>
            <a:ext cx="2510280" cy="19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8045640" y="4140000"/>
            <a:ext cx="2510280" cy="19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24D70-2EF5-4C27-AB68-6CC9F6071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11800" y="808200"/>
            <a:ext cx="7957800" cy="10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73440" y="2052000"/>
            <a:ext cx="7796160" cy="39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752D-5162-471A-A58D-0D7AE7C6D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611800" y="808200"/>
            <a:ext cx="7957800" cy="10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773440" y="2052000"/>
            <a:ext cx="3804480" cy="39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768360" y="2052000"/>
            <a:ext cx="3804480" cy="39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1D72-3266-4045-9663-11A85617F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611800" y="808200"/>
            <a:ext cx="7957800" cy="10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29F1-2D2A-40EC-9378-1357CB70D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2611800" y="808200"/>
            <a:ext cx="7957800" cy="49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E8E0-D1A9-488C-91BA-F69E4EFE1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611800" y="808200"/>
            <a:ext cx="7957800" cy="10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73440" y="2052000"/>
            <a:ext cx="3804480" cy="19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768360" y="2052000"/>
            <a:ext cx="3804480" cy="39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773440" y="4140000"/>
            <a:ext cx="3804480" cy="19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25C7-F9C5-4D13-9C92-A04B4029C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611800" y="808200"/>
            <a:ext cx="7957800" cy="10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73440" y="2052000"/>
            <a:ext cx="3804480" cy="39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768360" y="2052000"/>
            <a:ext cx="3804480" cy="19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68360" y="4140000"/>
            <a:ext cx="3804480" cy="19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5D75-A330-42E8-A47C-81040A2F3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11800" y="808200"/>
            <a:ext cx="7957800" cy="10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73440" y="2052000"/>
            <a:ext cx="3804480" cy="19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768360" y="2052000"/>
            <a:ext cx="3804480" cy="19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73440" y="4140000"/>
            <a:ext cx="7796160" cy="19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19C9-7B3C-4BAE-BA12-A7E065D26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7" descr=""/>
          <p:cNvPicPr/>
          <p:nvPr/>
        </p:nvPicPr>
        <p:blipFill>
          <a:blip r:embed="rId3"/>
          <a:stretch/>
        </p:blipFill>
        <p:spPr>
          <a:xfrm>
            <a:off x="2831760" y="2105280"/>
            <a:ext cx="9360000" cy="47523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4" descr=""/>
          <p:cNvPicPr/>
          <p:nvPr/>
        </p:nvPicPr>
        <p:blipFill>
          <a:blip r:embed="rId4"/>
          <a:stretch/>
        </p:blipFill>
        <p:spPr>
          <a:xfrm>
            <a:off x="0" y="0"/>
            <a:ext cx="12189600" cy="6857640"/>
          </a:xfrm>
          <a:prstGeom prst="rect">
            <a:avLst/>
          </a:prstGeom>
          <a:ln w="0">
            <a:noFill/>
          </a:ln>
        </p:spPr>
      </p:pic>
      <p:sp>
        <p:nvSpPr>
          <p:cNvPr id="2" name="Rectangle 7"/>
          <p:cNvSpPr/>
          <p:nvPr/>
        </p:nvSpPr>
        <p:spPr>
          <a:xfrm>
            <a:off x="0" y="0"/>
            <a:ext cx="963720" cy="6857640"/>
          </a:xfrm>
          <a:prstGeom prst="rect">
            <a:avLst/>
          </a:prstGeom>
          <a:solidFill>
            <a:schemeClr val="bg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56"/>
          <p:cNvSpPr/>
          <p:nvPr/>
        </p:nvSpPr>
        <p:spPr>
          <a:xfrm>
            <a:off x="961920" y="0"/>
            <a:ext cx="45360" cy="6857640"/>
          </a:xfrm>
          <a:prstGeom prst="rect">
            <a:avLst/>
          </a:prstGeom>
          <a:solidFill>
            <a:schemeClr val="accent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007640" y="0"/>
            <a:ext cx="7934040" cy="6857640"/>
          </a:xfrm>
          <a:prstGeom prst="rect">
            <a:avLst/>
          </a:prstGeom>
          <a:solidFill>
            <a:schemeClr val="bg2">
              <a:alpha val="92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8942040" y="0"/>
            <a:ext cx="27000" cy="6857640"/>
          </a:xfrm>
          <a:prstGeom prst="rect">
            <a:avLst/>
          </a:prstGeom>
          <a:solidFill>
            <a:schemeClr val="accent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611800" y="3429000"/>
            <a:ext cx="5517720" cy="22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lnSpc>
                <a:spcPct val="90000"/>
              </a:lnSpc>
              <a:buNone/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Образец заголовк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 rot="5400000">
            <a:off x="-809640" y="5270400"/>
            <a:ext cx="2662200" cy="182520"/>
          </a:xfrm>
          <a:prstGeom prst="rect">
            <a:avLst/>
          </a:prstGeom>
          <a:noFill/>
          <a:ln w="0">
            <a:noFill/>
          </a:ln>
        </p:spPr>
        <p:txBody>
          <a:bodyPr tIns="1836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 rot="5400000">
            <a:off x="-2236680" y="3661200"/>
            <a:ext cx="5884920" cy="178920"/>
          </a:xfrm>
          <a:prstGeom prst="rect">
            <a:avLst/>
          </a:prstGeom>
          <a:noFill/>
          <a:ln w="0">
            <a:noFill/>
          </a:ln>
        </p:spPr>
        <p:txBody>
          <a:bodyPr bIns="18360" anchor="b">
            <a:noAutofit/>
          </a:bodyPr>
          <a:lstStyle>
            <a:lvl1pPr indent="0" algn="ctr">
              <a:buNone/>
              <a:defRPr b="0" lang="en-US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158400" y="164520"/>
            <a:ext cx="636480" cy="32256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715BD94-DB2B-4BF7-B4CE-5EA1F39015D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TextBox 12"/>
          <p:cNvSpPr/>
          <p:nvPr/>
        </p:nvSpPr>
        <p:spPr>
          <a:xfrm>
            <a:off x="2191320" y="3262680"/>
            <a:ext cx="4154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2400" spc="-1" strike="noStrike">
                <a:solidFill>
                  <a:schemeClr val="accent6"/>
                </a:solidFill>
                <a:latin typeface="Wingdings 3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2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lnSpc>
                <a:spcPct val="12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lnSpc>
                <a:spcPct val="12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lnSpc>
                <a:spcPct val="12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7" descr=""/>
          <p:cNvPicPr/>
          <p:nvPr/>
        </p:nvPicPr>
        <p:blipFill>
          <a:blip r:embed="rId3"/>
          <a:stretch/>
        </p:blipFill>
        <p:spPr>
          <a:xfrm>
            <a:off x="2831760" y="2105280"/>
            <a:ext cx="9360000" cy="4752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4" descr=""/>
          <p:cNvPicPr/>
          <p:nvPr/>
        </p:nvPicPr>
        <p:blipFill>
          <a:blip r:embed="rId4"/>
          <a:stretch/>
        </p:blipFill>
        <p:spPr>
          <a:xfrm>
            <a:off x="0" y="0"/>
            <a:ext cx="12189600" cy="68576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7"/>
          <p:cNvSpPr/>
          <p:nvPr/>
        </p:nvSpPr>
        <p:spPr>
          <a:xfrm>
            <a:off x="0" y="0"/>
            <a:ext cx="963720" cy="6857640"/>
          </a:xfrm>
          <a:prstGeom prst="rect">
            <a:avLst/>
          </a:prstGeom>
          <a:solidFill>
            <a:schemeClr val="bg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56"/>
          <p:cNvSpPr/>
          <p:nvPr/>
        </p:nvSpPr>
        <p:spPr>
          <a:xfrm>
            <a:off x="961920" y="0"/>
            <a:ext cx="45360" cy="6857640"/>
          </a:xfrm>
          <a:prstGeom prst="rect">
            <a:avLst/>
          </a:prstGeom>
          <a:solidFill>
            <a:schemeClr val="accent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8"/>
          <p:cNvSpPr/>
          <p:nvPr/>
        </p:nvSpPr>
        <p:spPr>
          <a:xfrm>
            <a:off x="1004400" y="0"/>
            <a:ext cx="10371960" cy="6857640"/>
          </a:xfrm>
          <a:prstGeom prst="rect">
            <a:avLst/>
          </a:prstGeom>
          <a:solidFill>
            <a:schemeClr val="bg2">
              <a:alpha val="92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11377440" y="0"/>
            <a:ext cx="27000" cy="6857640"/>
          </a:xfrm>
          <a:prstGeom prst="rect">
            <a:avLst/>
          </a:prstGeom>
          <a:solidFill>
            <a:schemeClr val="accent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611800" y="808200"/>
            <a:ext cx="7957800" cy="10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buNone/>
            </a:pP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Образец заголовка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2773440" y="2052000"/>
            <a:ext cx="7796160" cy="39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4520" indent="-344520">
              <a:lnSpc>
                <a:spcPct val="120000"/>
              </a:lnSpc>
              <a:spcBef>
                <a:spcPts val="1001"/>
              </a:spcBef>
              <a:spcAft>
                <a:spcPts val="601"/>
              </a:spcAft>
              <a:buClr>
                <a:srgbClr val="d9d899"/>
              </a:buClr>
              <a:buSzPct val="90000"/>
              <a:buFont typeface="Wingdings" charset="2"/>
              <a:buChar char="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разец текс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20000"/>
              </a:lnSpc>
              <a:spcBef>
                <a:spcPts val="499"/>
              </a:spcBef>
              <a:spcAft>
                <a:spcPts val="601"/>
              </a:spcAft>
              <a:buClr>
                <a:srgbClr val="d9d899"/>
              </a:buClr>
              <a:buSzPct val="90000"/>
              <a:buFont typeface="Wingdings" charset="2"/>
              <a:buChar char=""/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торой урове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58920" indent="-344520">
              <a:lnSpc>
                <a:spcPct val="120000"/>
              </a:lnSpc>
              <a:spcBef>
                <a:spcPts val="499"/>
              </a:spcBef>
              <a:spcAft>
                <a:spcPts val="601"/>
              </a:spcAft>
              <a:buClr>
                <a:srgbClr val="d9d899"/>
              </a:buClr>
              <a:buSzPct val="90000"/>
              <a:buFont typeface="Wingdings" charset="2"/>
              <a:buChar char=""/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ретий уровен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709640" indent="-338040">
              <a:lnSpc>
                <a:spcPct val="120000"/>
              </a:lnSpc>
              <a:spcBef>
                <a:spcPts val="499"/>
              </a:spcBef>
              <a:spcAft>
                <a:spcPts val="601"/>
              </a:spcAft>
              <a:buClr>
                <a:srgbClr val="d9d899"/>
              </a:buClr>
              <a:buSzPct val="90000"/>
              <a:buFont typeface="Wingdings" charset="2"/>
              <a:buChar char=""/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Четвертый уровен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4" marL="2173320" indent="-338400">
              <a:lnSpc>
                <a:spcPct val="120000"/>
              </a:lnSpc>
              <a:spcBef>
                <a:spcPts val="499"/>
              </a:spcBef>
              <a:spcAft>
                <a:spcPts val="601"/>
              </a:spcAft>
              <a:buClr>
                <a:srgbClr val="d9d899"/>
              </a:buClr>
              <a:buSzPct val="90000"/>
              <a:buFont typeface="Wingdings" charset="2"/>
              <a:buChar char=""/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ятый уровен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 rot="5400000">
            <a:off x="-809640" y="5270400"/>
            <a:ext cx="2662200" cy="182520"/>
          </a:xfrm>
          <a:prstGeom prst="rect">
            <a:avLst/>
          </a:prstGeom>
          <a:noFill/>
          <a:ln w="0">
            <a:noFill/>
          </a:ln>
        </p:spPr>
        <p:txBody>
          <a:bodyPr tIns="1836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 rot="5400000">
            <a:off x="-2236680" y="3661200"/>
            <a:ext cx="5884920" cy="178920"/>
          </a:xfrm>
          <a:prstGeom prst="rect">
            <a:avLst/>
          </a:prstGeom>
          <a:noFill/>
          <a:ln w="0">
            <a:noFill/>
          </a:ln>
        </p:spPr>
        <p:txBody>
          <a:bodyPr bIns="18360" anchor="b">
            <a:noAutofit/>
          </a:bodyPr>
          <a:lstStyle>
            <a:lvl1pPr indent="0" algn="ctr">
              <a:buNone/>
              <a:defRPr b="0" lang="en-US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158400" y="164520"/>
            <a:ext cx="636480" cy="32256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600C2F8-390A-46ED-9C96-25EC7C89685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2194920" y="641160"/>
            <a:ext cx="415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chemeClr val="accent6"/>
                </a:solidFill>
                <a:latin typeface="Wingdings 3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611800" y="3429000"/>
            <a:ext cx="5517720" cy="22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buNone/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Зелёная энергия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772360" y="2268720"/>
            <a:ext cx="5357160" cy="1159920"/>
          </a:xfrm>
          <a:prstGeom prst="rect">
            <a:avLst/>
          </a:prstGeom>
          <a:noFill/>
          <a:ln w="0">
            <a:noFill/>
          </a:ln>
        </p:spPr>
        <p:txBody>
          <a:bodyPr tIns="0" anchor="b">
            <a:noAutofit/>
          </a:bodyPr>
          <a:p>
            <a:pPr indent="0" algn="r">
              <a:lnSpc>
                <a:spcPct val="120000"/>
              </a:lnSpc>
              <a:spcBef>
                <a:spcPts val="1001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енють Владислав ФКИС-01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611800" y="808200"/>
            <a:ext cx="7957800" cy="10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buNone/>
            </a:pP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Принципы зелёной экономики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429640" y="1814040"/>
            <a:ext cx="7914600" cy="393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4520" indent="-344520">
              <a:lnSpc>
                <a:spcPct val="120000"/>
              </a:lnSpc>
              <a:spcBef>
                <a:spcPts val="1001"/>
              </a:spcBef>
              <a:spcAft>
                <a:spcPts val="601"/>
              </a:spcAft>
              <a:buClr>
                <a:srgbClr val="d9d899"/>
              </a:buClr>
              <a:buSzPct val="90000"/>
              <a:buFont typeface="Wingdings" charset="2"/>
              <a:buChar char="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нцип устойчивости. Общество должно признать, что ресурсы Земли ограничены. Поэтому их нужно использовать справедливо и искать способы переработки. Экономика не должна выходить за экологические рамки и при этом давать возможности для развития. Каждый сокращает отходы, сортирует мусор, экономит воду и использует вещи повторно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611800" y="808200"/>
            <a:ext cx="7957800" cy="10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buNone/>
            </a:pP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Казахстан и зелёная энергия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773440" y="2052000"/>
            <a:ext cx="7796160" cy="39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4520" indent="-344520">
              <a:lnSpc>
                <a:spcPct val="120000"/>
              </a:lnSpc>
              <a:spcBef>
                <a:spcPts val="1001"/>
              </a:spcBef>
              <a:spcAft>
                <a:spcPts val="601"/>
              </a:spcAft>
              <a:buClr>
                <a:srgbClr val="d9d899"/>
              </a:buClr>
              <a:buSzPct val="90000"/>
              <a:buFont typeface="Wingdings" charset="2"/>
              <a:buChar char="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захстан – стремительно развивающаяся современная страна с сильной стратегией и амбициозными планами. За 25 лет независимости мы достигли многого: значительно улучшили экономические показатели, подняли на качественно новый уровень сельское хозяйство страны, разработали эффективную стратегию «Казахстан-2050» и обозначили перечень конкретных шагов для достижения целей стратег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11800" y="808200"/>
            <a:ext cx="7957800" cy="10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buNone/>
            </a:pP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Цена зелёной энергии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773440" y="2052000"/>
            <a:ext cx="7796160" cy="39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4520" indent="-344520">
              <a:lnSpc>
                <a:spcPct val="120000"/>
              </a:lnSpc>
              <a:spcBef>
                <a:spcPts val="1001"/>
              </a:spcBef>
              <a:spcAft>
                <a:spcPts val="601"/>
              </a:spcAft>
              <a:buClr>
                <a:srgbClr val="d9d899"/>
              </a:buClr>
              <a:buSzPct val="90000"/>
              <a:buFont typeface="Wingdings" charset="2"/>
              <a:buChar char="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еленая требует больших территорий и больших денег, но вскоре мы все сможем перейти на зеленую энергию и защитить природ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611800" y="808200"/>
            <a:ext cx="7957800" cy="10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buNone/>
            </a:pP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Техника получения энергии и её условия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773440" y="2052000"/>
            <a:ext cx="7796160" cy="39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55000"/>
          </a:bodyPr>
          <a:p>
            <a:pPr marL="398520" indent="-398520">
              <a:lnSpc>
                <a:spcPct val="120000"/>
              </a:lnSpc>
              <a:spcBef>
                <a:spcPts val="1001"/>
              </a:spcBef>
              <a:spcAft>
                <a:spcPts val="601"/>
              </a:spcAft>
              <a:buClr>
                <a:srgbClr val="d9d899"/>
              </a:buClr>
              <a:buSzPct val="90000"/>
              <a:buFont typeface="Wingdings" charset="2"/>
              <a:buChar char="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я получения энергии и стабильности необходимы следующие факторы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8520" indent="-398520">
              <a:lnSpc>
                <a:spcPct val="120000"/>
              </a:lnSpc>
              <a:spcBef>
                <a:spcPts val="1001"/>
              </a:spcBef>
              <a:spcAft>
                <a:spcPts val="601"/>
              </a:spcAft>
              <a:buClr>
                <a:srgbClr val="d9d899"/>
              </a:buClr>
              <a:buSzPct val="90000"/>
              <a:buFont typeface="Wingdings" charset="2"/>
              <a:buChar char="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нвестиционная поддержка на уровне государства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8520" indent="-398520">
              <a:lnSpc>
                <a:spcPct val="120000"/>
              </a:lnSpc>
              <a:spcBef>
                <a:spcPts val="1001"/>
              </a:spcBef>
              <a:spcAft>
                <a:spcPts val="601"/>
              </a:spcAft>
              <a:buClr>
                <a:srgbClr val="d9d899"/>
              </a:buClr>
              <a:buSzPct val="90000"/>
              <a:buFont typeface="Wingdings" charset="2"/>
              <a:buChar char="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ддержка в развитии инфраструктуры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8520" indent="-398520">
              <a:lnSpc>
                <a:spcPct val="120000"/>
              </a:lnSpc>
              <a:spcBef>
                <a:spcPts val="1001"/>
              </a:spcBef>
              <a:spcAft>
                <a:spcPts val="601"/>
              </a:spcAft>
              <a:buClr>
                <a:srgbClr val="d9d899"/>
              </a:buClr>
              <a:buSzPct val="90000"/>
              <a:buFont typeface="Wingdings" charset="2"/>
              <a:buChar char="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ддержка развития «зеленой энергетики» посредством обязательств и контрактов по покупке электроэнергии и гарантированных компенсаций дополнительной стоимости электроэнергии через систему сертификатов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8520" indent="-398520">
              <a:lnSpc>
                <a:spcPct val="120000"/>
              </a:lnSpc>
              <a:spcBef>
                <a:spcPts val="1001"/>
              </a:spcBef>
              <a:spcAft>
                <a:spcPts val="601"/>
              </a:spcAft>
              <a:buClr>
                <a:srgbClr val="d9d899"/>
              </a:buClr>
              <a:buSzPct val="90000"/>
              <a:buFont typeface="Wingdings" charset="2"/>
              <a:buChar char="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осударственная программа строительства ветроэлектростанций в наиболее выгодных местностях, согласно карте ветровых ресурсов РК (см. выше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8520" indent="-398520">
              <a:lnSpc>
                <a:spcPct val="120000"/>
              </a:lnSpc>
              <a:spcBef>
                <a:spcPts val="1001"/>
              </a:spcBef>
              <a:spcAft>
                <a:spcPts val="601"/>
              </a:spcAft>
              <a:buClr>
                <a:srgbClr val="d9d899"/>
              </a:buClr>
              <a:buSzPct val="90000"/>
              <a:buFont typeface="Wingdings" charset="2"/>
              <a:buChar char="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витие производства малых ветроустановок, так как они могут быть применены большей части территории РК, включая отдаленные и труднодоступные местности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8520" indent="-398520">
              <a:lnSpc>
                <a:spcPct val="120000"/>
              </a:lnSpc>
              <a:spcBef>
                <a:spcPts val="1001"/>
              </a:spcBef>
              <a:spcAft>
                <a:spcPts val="601"/>
              </a:spcAft>
              <a:buClr>
                <a:srgbClr val="d9d899"/>
              </a:buClr>
              <a:buSzPct val="90000"/>
              <a:buFont typeface="Wingdings" charset="2"/>
              <a:buChar char="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ктивное строительство и реконструкция ГЭС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8520" indent="-398520">
              <a:lnSpc>
                <a:spcPct val="120000"/>
              </a:lnSpc>
              <a:spcBef>
                <a:spcPts val="1001"/>
              </a:spcBef>
              <a:spcAft>
                <a:spcPts val="601"/>
              </a:spcAft>
              <a:buClr>
                <a:srgbClr val="d9d899"/>
              </a:buClr>
              <a:buSzPct val="90000"/>
              <a:buFont typeface="Wingdings" charset="2"/>
              <a:buChar char="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ложения в научно-исследовательскую деятельность Казахстана по поиску новых источников энергии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8520" indent="-398520">
              <a:lnSpc>
                <a:spcPct val="120000"/>
              </a:lnSpc>
              <a:spcBef>
                <a:spcPts val="1001"/>
              </a:spcBef>
              <a:spcAft>
                <a:spcPts val="601"/>
              </a:spcAft>
              <a:buClr>
                <a:srgbClr val="d9d899"/>
              </a:buClr>
              <a:buSzPct val="90000"/>
              <a:buFont typeface="Wingdings" charset="2"/>
              <a:buChar char="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ормирование общественного мнения об экологической ответственности генерирующих компаний, общедоступность информацию о возобновляемых источниках энергии, помощь СМИ, разработанная PR – кампа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611800" y="808200"/>
            <a:ext cx="7957800" cy="10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buNone/>
            </a:pP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Будущее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73440" y="2052000"/>
            <a:ext cx="7796160" cy="39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4520" indent="-344520">
              <a:lnSpc>
                <a:spcPct val="120000"/>
              </a:lnSpc>
              <a:spcBef>
                <a:spcPts val="1001"/>
              </a:spcBef>
              <a:spcAft>
                <a:spcPts val="601"/>
              </a:spcAft>
              <a:buClr>
                <a:srgbClr val="d9d899"/>
              </a:buClr>
              <a:buSzPct val="90000"/>
              <a:buFont typeface="Wingdings" charset="2"/>
              <a:buChar char="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олько с помощью усилий государства и простых людей, мы сможем пробиться к высшему и качественному источнику энергии. Все что описано выше позволит прийти к продуктивному будущем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Мэдисон">
  <a:themeElements>
    <a:clrScheme name="Madison">
      <a:dk1>
        <a:srgbClr val="000000"/>
      </a:dk1>
      <a:lt1>
        <a:srgbClr val="ffffff"/>
      </a:lt1>
      <a:dk2>
        <a:srgbClr val="2c2d1f"/>
      </a:dk2>
      <a:lt2>
        <a:srgbClr val="faf2c5"/>
      </a:lt2>
      <a:accent1>
        <a:srgbClr val="ea9736"/>
      </a:accent1>
      <a:accent2>
        <a:srgbClr val="eacf56"/>
      </a:accent2>
      <a:accent3>
        <a:srgbClr val="77d4d6"/>
      </a:accent3>
      <a:accent4>
        <a:srgbClr val="54afdc"/>
      </a:accent4>
      <a:accent5>
        <a:srgbClr val="88c363"/>
      </a:accent5>
      <a:accent6>
        <a:srgbClr val="d9d899"/>
      </a:accent6>
      <a:hlink>
        <a:srgbClr val="a7a574"/>
      </a:hlink>
      <a:folHlink>
        <a:srgbClr val="8b887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Мэдисон">
  <a:themeElements>
    <a:clrScheme name="Madison">
      <a:dk1>
        <a:srgbClr val="000000"/>
      </a:dk1>
      <a:lt1>
        <a:srgbClr val="ffffff"/>
      </a:lt1>
      <a:dk2>
        <a:srgbClr val="2c2d1f"/>
      </a:dk2>
      <a:lt2>
        <a:srgbClr val="faf2c5"/>
      </a:lt2>
      <a:accent1>
        <a:srgbClr val="ea9736"/>
      </a:accent1>
      <a:accent2>
        <a:srgbClr val="eacf56"/>
      </a:accent2>
      <a:accent3>
        <a:srgbClr val="77d4d6"/>
      </a:accent3>
      <a:accent4>
        <a:srgbClr val="54afdc"/>
      </a:accent4>
      <a:accent5>
        <a:srgbClr val="88c363"/>
      </a:accent5>
      <a:accent6>
        <a:srgbClr val="d9d899"/>
      </a:accent6>
      <a:hlink>
        <a:srgbClr val="a7a574"/>
      </a:hlink>
      <a:folHlink>
        <a:srgbClr val="8b887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M16401375[[fn=Мэдисон]]</Template>
  <TotalTime>14</TotalTime>
  <Application>LibreOffice/7.4.7.2$Linux_X86_64 LibreOffice_project/40$Build-2</Application>
  <AppVersion>15.0000</AppVersion>
  <Words>312</Words>
  <Paragraphs>2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2-21T13:03:53Z</dcterms:created>
  <dc:creator>off fonk</dc:creator>
  <dc:description/>
  <dc:language>en-US</dc:language>
  <cp:lastModifiedBy>off fonk</cp:lastModifiedBy>
  <dcterms:modified xsi:type="dcterms:W3CDTF">2020-12-21T13:17:53Z</dcterms:modified>
  <cp:revision>2</cp:revision>
  <dc:subject/>
  <dc:title>Зелёная энерг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Широкоэкранный</vt:lpwstr>
  </property>
  <property fmtid="{D5CDD505-2E9C-101B-9397-08002B2CF9AE}" pid="3" name="Slides">
    <vt:r8>6</vt:r8>
  </property>
</Properties>
</file>