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033-555C-449C-AF35-5ED9E08A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779616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773440" y="4140000"/>
            <a:ext cx="779616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C81-D061-4654-AEFD-1EF14032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773440" y="4140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68360" y="4140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F9E-2308-413C-AF9A-94571078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409720" y="2052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45640" y="2052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773440" y="4140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409720" y="4140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45640" y="4140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EF69-575F-46B2-B181-CB65AE51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1164-E8FA-41E4-8309-E359E041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7771-5738-4E48-A56D-9D320781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07C9-6D29-4249-B25A-37351164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E309-CF63-47FD-A51E-D98D81F3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938F-24D9-4482-A90C-CD6E65BA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611800" y="808200"/>
            <a:ext cx="795780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4473-FCFD-4A62-838C-3467E5FB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773440" y="4140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4EF1-97EC-450A-8ADE-C43119B7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55E-F6E6-4C70-A7BF-52075893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68360" y="4140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7081-7416-4DBC-A473-926C1FB8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73440" y="4140000"/>
            <a:ext cx="779616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C2E9-46E9-4BA5-8999-574AA221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779616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73440" y="4140000"/>
            <a:ext cx="779616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1921-2489-447F-8B8C-82748A38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773440" y="4140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768360" y="4140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B6A8-B8CB-4D52-B4F0-70D5C0D3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409720" y="2052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45640" y="2052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773440" y="4140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5409720" y="4140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45640" y="4140000"/>
            <a:ext cx="25102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5080-1303-492E-8CFF-DAA120C0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D592-41BE-4440-9CD1-FB4A6BAF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C7B-F92B-4091-B26A-0C10A417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5822-C0F8-48B5-81DB-1A17539A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2611800" y="808200"/>
            <a:ext cx="7957800" cy="49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1A8-09F2-4C38-B142-FAB00019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773440" y="4140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EDC-D8AF-442A-BF54-47F1ADE2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39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68360" y="4140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BE3-4A80-4EDC-AA31-A58A744D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68360" y="2052000"/>
            <a:ext cx="380448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73440" y="4140000"/>
            <a:ext cx="7796160" cy="19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4C5E-E2C2-4981-B1B9-FD273814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"/>
          <p:cNvPicPr/>
          <p:nvPr/>
        </p:nvPicPr>
        <p:blipFill>
          <a:blip r:embed="rId3"/>
          <a:stretch/>
        </p:blipFill>
        <p:spPr>
          <a:xfrm>
            <a:off x="2831760" y="2105280"/>
            <a:ext cx="9360000" cy="475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"/>
          <p:cNvPicPr/>
          <p:nvPr/>
        </p:nvPicPr>
        <p:blipFill>
          <a:blip r:embed="rId4"/>
          <a:stretch/>
        </p:blipFill>
        <p:spPr>
          <a:xfrm>
            <a:off x="0" y="0"/>
            <a:ext cx="1218960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7"/>
          <p:cNvSpPr/>
          <p:nvPr/>
        </p:nvSpPr>
        <p:spPr>
          <a:xfrm>
            <a:off x="0" y="0"/>
            <a:ext cx="963720" cy="6857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6"/>
          <p:cNvSpPr/>
          <p:nvPr/>
        </p:nvSpPr>
        <p:spPr>
          <a:xfrm>
            <a:off x="961920" y="0"/>
            <a:ext cx="45360" cy="685764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007640" y="0"/>
            <a:ext cx="7934040" cy="6857640"/>
          </a:xfrm>
          <a:prstGeom prst="rect">
            <a:avLst/>
          </a:prstGeom>
          <a:solidFill>
            <a:schemeClr val="bg2">
              <a:alpha val="9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942040" y="0"/>
            <a:ext cx="27000" cy="685764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11800" y="3429000"/>
            <a:ext cx="551772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-809640" y="5270400"/>
            <a:ext cx="2662200" cy="182520"/>
          </a:xfrm>
          <a:prstGeom prst="rect">
            <a:avLst/>
          </a:prstGeom>
          <a:noFill/>
          <a:ln w="0">
            <a:noFill/>
          </a:ln>
        </p:spPr>
        <p:txBody>
          <a:bodyPr tIns="1836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-2236680" y="3661200"/>
            <a:ext cx="5884920" cy="178920"/>
          </a:xfrm>
          <a:prstGeom prst="rect">
            <a:avLst/>
          </a:prstGeom>
          <a:noFill/>
          <a:ln w="0">
            <a:noFill/>
          </a:ln>
        </p:spPr>
        <p:txBody>
          <a:bodyPr bIns="18360" anchor="b">
            <a:noAutofit/>
          </a:bodyPr>
          <a:lstStyle>
            <a:lvl1pPr indent="0" algn="ctr">
              <a:buNone/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158400" y="164520"/>
            <a:ext cx="636480" cy="32256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133F48-A9A1-428F-BA83-1D01037FDF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Box 12"/>
          <p:cNvSpPr/>
          <p:nvPr/>
        </p:nvSpPr>
        <p:spPr>
          <a:xfrm>
            <a:off x="2191320" y="3262680"/>
            <a:ext cx="415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chemeClr val="accent6"/>
                </a:solidFill>
                <a:latin typeface="Wingdings 3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"/>
          <p:cNvPicPr/>
          <p:nvPr/>
        </p:nvPicPr>
        <p:blipFill>
          <a:blip r:embed="rId3"/>
          <a:stretch/>
        </p:blipFill>
        <p:spPr>
          <a:xfrm>
            <a:off x="2831760" y="2105280"/>
            <a:ext cx="9360000" cy="4752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"/>
          <p:cNvPicPr/>
          <p:nvPr/>
        </p:nvPicPr>
        <p:blipFill>
          <a:blip r:embed="rId4"/>
          <a:stretch/>
        </p:blipFill>
        <p:spPr>
          <a:xfrm>
            <a:off x="0" y="0"/>
            <a:ext cx="1218960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0" y="0"/>
            <a:ext cx="963720" cy="6857640"/>
          </a:xfrm>
          <a:prstGeom prst="rect">
            <a:avLst/>
          </a:prstGeom>
          <a:solidFill>
            <a:schemeClr val="bg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56"/>
          <p:cNvSpPr/>
          <p:nvPr/>
        </p:nvSpPr>
        <p:spPr>
          <a:xfrm>
            <a:off x="961920" y="0"/>
            <a:ext cx="45360" cy="685764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8"/>
          <p:cNvSpPr/>
          <p:nvPr/>
        </p:nvSpPr>
        <p:spPr>
          <a:xfrm>
            <a:off x="1004400" y="0"/>
            <a:ext cx="10371960" cy="6857640"/>
          </a:xfrm>
          <a:prstGeom prst="rect">
            <a:avLst/>
          </a:prstGeom>
          <a:solidFill>
            <a:schemeClr val="bg2">
              <a:alpha val="9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377440" y="0"/>
            <a:ext cx="27000" cy="685764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Образец заголовк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4520" indent="-344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разец тек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5240" indent="-33804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торо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8920" indent="-34452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ети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09640" indent="-33804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Четвертый уровен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173320" indent="-338400"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ятый уровен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 rot="5400000">
            <a:off x="-809640" y="5270400"/>
            <a:ext cx="2662200" cy="182520"/>
          </a:xfrm>
          <a:prstGeom prst="rect">
            <a:avLst/>
          </a:prstGeom>
          <a:noFill/>
          <a:ln w="0">
            <a:noFill/>
          </a:ln>
        </p:spPr>
        <p:txBody>
          <a:bodyPr tIns="1836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 rot="5400000">
            <a:off x="-2236680" y="3661200"/>
            <a:ext cx="5884920" cy="178920"/>
          </a:xfrm>
          <a:prstGeom prst="rect">
            <a:avLst/>
          </a:prstGeom>
          <a:noFill/>
          <a:ln w="0">
            <a:noFill/>
          </a:ln>
        </p:spPr>
        <p:txBody>
          <a:bodyPr bIns="18360" anchor="b">
            <a:noAutofit/>
          </a:bodyPr>
          <a:lstStyle>
            <a:lvl1pPr indent="0" algn="ctr">
              <a:buNone/>
              <a:defRPr b="0" lang="en-US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158400" y="164520"/>
            <a:ext cx="636480" cy="32256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C95ECD-A455-4A8B-8145-65AF1F32BF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194920" y="641160"/>
            <a:ext cx="41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chemeClr val="accent6"/>
                </a:solidFill>
                <a:latin typeface="Wingdings 3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11800" y="3429000"/>
            <a:ext cx="5517720" cy="22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Зелёная энерг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772360" y="2268720"/>
            <a:ext cx="5357160" cy="1159920"/>
          </a:xfrm>
          <a:prstGeom prst="rect">
            <a:avLst/>
          </a:prstGeom>
          <a:noFill/>
          <a:ln w="0">
            <a:noFill/>
          </a:ln>
        </p:spPr>
        <p:txBody>
          <a:bodyPr tIns="0" anchor="b">
            <a:noAutofit/>
          </a:bodyPr>
          <a:p>
            <a:pPr indent="0" algn="r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нють Владислав ФКИС-0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Принципы зелёной экономик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29640" y="1814040"/>
            <a:ext cx="7914600" cy="393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4520" indent="-344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цип устойчивости. Общество должно признать, что ресурсы Земли ограничены. Поэтому их нужно использовать справедливо и искать способы переработки. Экономика не должна выходить за экологические рамки и при этом давать возможности для развития. Каждый сокращает отходы, сортирует мусор, экономит воду и использует вещи повторн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Казахстан и зелёная энергия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4520" indent="-344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захстан – стремительно развивающаяся современная страна с сильной стратегией и амбициозными планами. За 25 лет независимости мы достигли многого: значительно улучшили экономические показатели, подняли на качественно новый уровень сельское хозяйство страны, разработали эффективную стратегию «Казахстан-2050» и обозначили перечень конкретных шагов для достижения целей стратег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Цена зелёной энерги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4520" indent="-344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леная требует больших территорий и больших денег, но вскоре мы все сможем перейти на зеленую энергию и защитить природ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Техника получения энергии и её условия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5000"/>
          </a:bodyPr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получения энергии и стабильности необходимы следующие фактор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вестиционная поддержка на уровне государств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держка в развитии инфраструктуры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держка развития «зеленой энергетики» посредством обязательств и контрактов по покупке электроэнергии и гарантированных компенсаций дополнительной стоимости электроэнергии через систему сертифика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сударственная программа строительства ветроэлектростанций в наиболее выгодных местностях, согласно карте ветровых ресурсов РК (см. выше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ие производства малых ветроустановок, так как они могут быть применены большей части территории РК, включая отдаленные и труднодоступные местност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ктивное строительство и реконструкция ГЭС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ожения в научно-исследовательскую деятельность Казахстана по поиску новых источников энерги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8520" indent="-398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мирование общественного мнения об экологической ответственности генерирующих компаний, общедоступность информацию о возобновляемых источниках энергии, помощь СМИ, разработанная PR – камп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611800" y="808200"/>
            <a:ext cx="7957800" cy="10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Будущее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3440" y="2052000"/>
            <a:ext cx="7796160" cy="39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4520" indent="-344520">
              <a:lnSpc>
                <a:spcPct val="120000"/>
              </a:lnSpc>
              <a:spcBef>
                <a:spcPts val="1001"/>
              </a:spcBef>
              <a:spcAft>
                <a:spcPts val="601"/>
              </a:spcAft>
              <a:buClr>
                <a:srgbClr val="d9d899"/>
              </a:buClr>
              <a:buSzPct val="90000"/>
              <a:buFont typeface="Wingdings" charset="2"/>
              <a:buChar char=""/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ько с помощью усилий государства и простых людей, мы сможем пробиться к высшему и качественному источнику энергии. Все что описано выше позволит прийти к продуктивному будуще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Мэдисон">
  <a:themeElements>
    <a:clrScheme name="Madison">
      <a:dk1>
        <a:srgbClr val="000000"/>
      </a:dk1>
      <a:lt1>
        <a:srgbClr val="ffffff"/>
      </a:lt1>
      <a:dk2>
        <a:srgbClr val="2c2d1f"/>
      </a:dk2>
      <a:lt2>
        <a:srgbClr val="faf2c5"/>
      </a:lt2>
      <a:accent1>
        <a:srgbClr val="ea9736"/>
      </a:accent1>
      <a:accent2>
        <a:srgbClr val="eacf56"/>
      </a:accent2>
      <a:accent3>
        <a:srgbClr val="77d4d6"/>
      </a:accent3>
      <a:accent4>
        <a:srgbClr val="54afdc"/>
      </a:accent4>
      <a:accent5>
        <a:srgbClr val="88c363"/>
      </a:accent5>
      <a:accent6>
        <a:srgbClr val="d9d899"/>
      </a:accent6>
      <a:hlink>
        <a:srgbClr val="a7a574"/>
      </a:hlink>
      <a:folHlink>
        <a:srgbClr val="8b887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Мэдисон">
  <a:themeElements>
    <a:clrScheme name="Madison">
      <a:dk1>
        <a:srgbClr val="000000"/>
      </a:dk1>
      <a:lt1>
        <a:srgbClr val="ffffff"/>
      </a:lt1>
      <a:dk2>
        <a:srgbClr val="2c2d1f"/>
      </a:dk2>
      <a:lt2>
        <a:srgbClr val="faf2c5"/>
      </a:lt2>
      <a:accent1>
        <a:srgbClr val="ea9736"/>
      </a:accent1>
      <a:accent2>
        <a:srgbClr val="eacf56"/>
      </a:accent2>
      <a:accent3>
        <a:srgbClr val="77d4d6"/>
      </a:accent3>
      <a:accent4>
        <a:srgbClr val="54afdc"/>
      </a:accent4>
      <a:accent5>
        <a:srgbClr val="88c363"/>
      </a:accent5>
      <a:accent6>
        <a:srgbClr val="d9d899"/>
      </a:accent6>
      <a:hlink>
        <a:srgbClr val="a7a574"/>
      </a:hlink>
      <a:folHlink>
        <a:srgbClr val="8b887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16401375[[fn=Мэдисон]]</Template>
  <TotalTime>14</TotalTime>
  <Application>LibreOffice/7.4.7.2$Linux_X86_64 LibreOffice_project/40$Build-2</Application>
  <AppVersion>15.0000</AppVersion>
  <Words>312</Words>
  <Paragraphs>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1T13:03:53Z</dcterms:created>
  <dc:creator>off fonk</dc:creator>
  <dc:description/>
  <dc:language>en-US</dc:language>
  <cp:lastModifiedBy>off fonk</cp:lastModifiedBy>
  <dcterms:modified xsi:type="dcterms:W3CDTF">2020-12-21T13:17:53Z</dcterms:modified>
  <cp:revision>2</cp:revision>
  <dc:subject/>
  <dc:title>Зелёная энерг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6</vt:r8>
  </property>
</Properties>
</file>