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BD0-AC64-4DA9-AA8B-6D28D963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786960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5480" y="3926160"/>
            <a:ext cx="786960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071C-C147-4AE6-BDB3-6D0CA324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384012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465560"/>
            <a:ext cx="384012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5480" y="3926160"/>
            <a:ext cx="384012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926160"/>
            <a:ext cx="384012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4C8F-F683-4534-AAB0-73B26A8D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253368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6240" y="1465560"/>
            <a:ext cx="253368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1465560"/>
            <a:ext cx="253368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5480" y="3926160"/>
            <a:ext cx="253368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6240" y="3926160"/>
            <a:ext cx="253368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3926160"/>
            <a:ext cx="253368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7ED-AB26-48D7-99F1-3637D663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5480" y="146556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B227-8337-4C8D-8D3C-7031BA56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630-66E3-4DB0-BF1C-27B2BA8B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3840120" cy="47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465560"/>
            <a:ext cx="3840120" cy="47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13E-AC56-4DFC-9836-C36FF7B1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C48E-31C1-41A6-940A-5AE18675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0"/>
            <a:ext cx="788652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52DF-DB9A-4299-8EE7-5B8251E1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384012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465560"/>
            <a:ext cx="3840120" cy="47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5480" y="3926160"/>
            <a:ext cx="384012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9642-7CAF-409D-8B0F-4C21C856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3840120" cy="47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465560"/>
            <a:ext cx="384012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926160"/>
            <a:ext cx="384012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36A2-F3B2-4A9A-93F1-CB05DF22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384012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465560"/>
            <a:ext cx="384012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5480" y="3926160"/>
            <a:ext cx="786960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E961-6A48-45B3-B315-016A11A7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45480" y="146556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C21A3C-7FD5-4FE5-A888-62E629ABE50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Содержимое 3" descr="img16.jpg"/>
          <p:cNvPicPr/>
          <p:nvPr/>
        </p:nvPicPr>
        <p:blipFill>
          <a:blip r:embed="rId1"/>
          <a:stretch/>
        </p:blipFill>
        <p:spPr>
          <a:xfrm>
            <a:off x="252360" y="574920"/>
            <a:ext cx="8564760" cy="5601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 задний эпителий роговицы (эндотелий) – один слой плоских призматических шестиугольных клеток, плотно примыкающих друг к другу; отвечает за обменные процессы между роговицей и влагой передней камеры, обеспечивает прозрачность роговицы. При повреждении эндотелии появляется отек роговицы. 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Не способны к регенер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8160" y="309240"/>
            <a:ext cx="7112160" cy="87372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chemeClr val="dk1"/>
                </a:solidFill>
                <a:latin typeface="Calibri"/>
              </a:rPr>
              <a:t>Пита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89120" y="135828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дянистая влага передней каме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зная жидк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уды перикорнеальной петлистой се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Картинки по запросу перикорнеальной петлистой сети"/>
          <p:cNvPicPr/>
          <p:nvPr/>
        </p:nvPicPr>
        <p:blipFill>
          <a:blip r:embed="rId1"/>
          <a:stretch/>
        </p:blipFill>
        <p:spPr>
          <a:xfrm>
            <a:off x="1500120" y="3012120"/>
            <a:ext cx="6071040" cy="34149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Функции рогов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156320"/>
            <a:ext cx="8286480" cy="502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щитна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орн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ветопровед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ветопреломл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Картинки по запросу роговица"/>
          <p:cNvPicPr/>
          <p:nvPr/>
        </p:nvPicPr>
        <p:blipFill>
          <a:blip r:embed="rId1"/>
          <a:stretch/>
        </p:blipFill>
        <p:spPr>
          <a:xfrm>
            <a:off x="5843520" y="1238400"/>
            <a:ext cx="2857320" cy="2495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Картинки по запросу роговица"/>
          <p:cNvPicPr/>
          <p:nvPr/>
        </p:nvPicPr>
        <p:blipFill>
          <a:blip r:embed="rId2"/>
          <a:stretch/>
        </p:blipFill>
        <p:spPr>
          <a:xfrm>
            <a:off x="2242080" y="3881880"/>
            <a:ext cx="3601080" cy="2773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840" y="107640"/>
            <a:ext cx="7866000" cy="82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Скл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8440" y="3318480"/>
            <a:ext cx="7705440" cy="315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6520" indent="-2365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клера – больший отдел фиброзной капсулы (5/6 части); полностью лишена прозрачности, имеет белый (иногда слегка голубоватый) цвет – белочная оболочка. Состоит из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1) надсклеральной пластинки – эпискле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2) собственного вещества – образует ее главную масс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3) внутреннего слоя – бурой пластинки скле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Картинки по запросу склера"/>
          <p:cNvPicPr/>
          <p:nvPr/>
        </p:nvPicPr>
        <p:blipFill>
          <a:blip r:embed="rId1"/>
          <a:stretch/>
        </p:blipFill>
        <p:spPr>
          <a:xfrm>
            <a:off x="1419480" y="927720"/>
            <a:ext cx="6505200" cy="2390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241920"/>
            <a:ext cx="914364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97280" indent="-197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щина склеры неодинакова - на протяжении от лимба до экватора она составляет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имерно 0,6 м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7280" indent="-197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стки склеры под сухожилиями прямых мышц истончаются приблизительно в 2 р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7280" indent="-197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области заднего полюса составляет 1 -1,5 м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7280" indent="-197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именьшая толщина склеры в области экватора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0,3-0,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м и в месте выхода зрительного нер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E:\TbtFGdnWanA.jpg"/>
          <p:cNvPicPr/>
          <p:nvPr/>
        </p:nvPicPr>
        <p:blipFill>
          <a:blip r:embed="rId1"/>
          <a:srcRect l="0" t="15433" r="-2307" b="0"/>
          <a:stretch/>
        </p:blipFill>
        <p:spPr>
          <a:xfrm>
            <a:off x="1788480" y="2568240"/>
            <a:ext cx="618084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816192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ровоснабж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собственными сосудами склера бедна, но через нее проходят все стволики для сосудистого тракта. Сосуды, прободающие фиброзную капсулу в переднем ее отделе, направляются к переднему отделу сосудистого тракта. У заднего полюса глаза склеру прободают короткие и длинные ресничные артер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Иннервац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первая ветвь тройничного нерва (чувствительная), симпатические волокна из верхнего шейного симпатического уз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349280"/>
            <a:ext cx="78930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щина радужки 0,2-0,4 м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форму диска, с отверстием в центре (зрачко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2 мышцы: сфинктер (иннервируется глазодвигательным нервом) и радиально ориентированный дилататор ( иннервируется симпатическим нервом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3310200" y="425880"/>
            <a:ext cx="28188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Радужк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3480" y="161280"/>
            <a:ext cx="8430840" cy="34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ередняя поверхность радужки имеет радиарную исчерченность, обусловленную радиальным расположением сосудов, вдоль которых ориентирована строма. В строме радужки имеются щелевые углубления – крипты (лакуны) и возвышения – трабекулы, обусловленные своеобразном расположением стромальных сосудов. Параллельно зрачковому краю, отступя на 1,5 мм, расположен зубчатый валик – брыжжи (зубчатая линия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Картинки по запросу радужка"/>
          <p:cNvPicPr/>
          <p:nvPr/>
        </p:nvPicPr>
        <p:blipFill>
          <a:blip r:embed="rId1"/>
          <a:stretch/>
        </p:blipFill>
        <p:spPr>
          <a:xfrm>
            <a:off x="3622680" y="2931480"/>
            <a:ext cx="4929480" cy="37054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268920" y="3317040"/>
            <a:ext cx="3267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которые делят радужку на две зоны – внутреннюю (зрачковую) и наружную (ресничную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Картинки по запросу радужка гистология"/>
          <p:cNvPicPr/>
          <p:nvPr/>
        </p:nvPicPr>
        <p:blipFill>
          <a:blip r:embed="rId1"/>
          <a:stretch/>
        </p:blipFill>
        <p:spPr>
          <a:xfrm>
            <a:off x="3705480" y="2313000"/>
            <a:ext cx="5438160" cy="4078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107640"/>
            <a:ext cx="7990560" cy="80640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Гистологически в радужке различают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0160" y="1116000"/>
            <a:ext cx="5986440" cy="502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ередний мезодермальный листок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наружный пограничный слой (продолжение заднего эпителия роговиц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строма радужки со сфинктером (эктодерм. происх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задний эктодермальный листок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дилататор с е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нутренним пограничн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и пигментным сло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330080" y="728280"/>
            <a:ext cx="4521240" cy="442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 - пигментный эпител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 - внутренний пограничный сло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 - сосудистый сло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 - большой артериальный круг радужк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 - малый артериальный круг радужк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- расширитель (дилататор) зрачк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 - сфинктер зрачк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- зрач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yamedik.org/content/anatomiya/sap_03/2_files/mb4_023.jpeg"/>
          <p:cNvPicPr/>
          <p:nvPr/>
        </p:nvPicPr>
        <p:blipFill>
          <a:blip r:embed="rId1"/>
          <a:stretch/>
        </p:blipFill>
        <p:spPr>
          <a:xfrm>
            <a:off x="128520" y="268920"/>
            <a:ext cx="4105440" cy="6413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174960"/>
            <a:ext cx="7560360" cy="116244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ctr">
            <a:normAutofit fontScale="98000"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chemeClr val="dk1"/>
                </a:solidFill>
                <a:latin typeface="Calibri"/>
              </a:rPr>
              <a:t>Зрительный анализатор состоит и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806796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ериферического отде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азное ябло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одникового отде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рительный нер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рительный тра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учистость Грацио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Центрального отдел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коркового центра (наружные коленчатые те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кового зрительного центра (fissu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alcarina) затылочной доли головного моз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12800" y="98172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лататор иннервируется симпатическим нервом, а сфинктер - за счет парасимпатических волокон ресничного узла - глазодвигательным нерв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увствительная иннервация радужки осуществляется тройничным нерв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удистая сеть радужки складывается из передних ресничных и длинных задних ресничных артер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мфатических сосудов нет, но вокруг артерий и вен имеется периваскулярное пространст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Функции радуж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8160" y="1358280"/>
            <a:ext cx="7936920" cy="481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экранирование глаза от избыточного потока коль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световая диафрагма (рефлекторное дозирование количества света в зависимости от степени освещенности сетчатк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разделительная диафрагма (вместе с хрусталиком составляет иридохрусталиковую диафрагму, разделяющую передний и задний отделы глаза, удерживающую стекловидное тело от смещения впере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сократительная функция (способствует оттоку внутриглазной жидкости и аккомодаци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 трофическая функ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 терморегуляторная функ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icture 2"/>
          <p:cNvSpPr/>
          <p:nvPr/>
        </p:nvSpPr>
        <p:spPr>
          <a:xfrm>
            <a:off x="6858000" y="4591080"/>
            <a:ext cx="2285640" cy="226656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bl" blurRad="127080" rotWithShape="0">
              <a:srgbClr val="000000"/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69960" y="228600"/>
            <a:ext cx="5785200" cy="96768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chemeClr val="dk1"/>
                </a:solidFill>
                <a:latin typeface="Calibri"/>
              </a:rPr>
              <a:t>Цилиарное те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12040" indent="-2120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вляется промежуточным звеном между радужной и собственно сосудистой оболочкой, имеет вид замкнутого кольца шириной 8 м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040" indent="-212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яют плоскую часть и цилиарную ча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040" indent="-2120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сничная, или аккомодационная, мышца состоит из гладких мышечных волокон, идущих в трех направления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меридиональном – эти волокна подтягивают хориоидею кпереди (мышца Брюк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радиальном (мышца Иванов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циркулярном (мышца Мюллер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03080" y="1573200"/>
            <a:ext cx="4212000" cy="46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ресничный эпител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Сосудист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ышечн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Картинки по запросу отростки цилиарного тела"/>
          <p:cNvPicPr/>
          <p:nvPr/>
        </p:nvPicPr>
        <p:blipFill>
          <a:blip r:embed="rId1"/>
          <a:srcRect l="18415" t="8459" r="14971" b="0"/>
          <a:stretch/>
        </p:blipFill>
        <p:spPr>
          <a:xfrm>
            <a:off x="430200" y="1343880"/>
            <a:ext cx="3657240" cy="4881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4" name="Picture 2" descr="Картинки по запросу цилиарное тело"/>
          <p:cNvPicPr/>
          <p:nvPr/>
        </p:nvPicPr>
        <p:blipFill>
          <a:blip r:embed="rId1"/>
          <a:stretch/>
        </p:blipFill>
        <p:spPr>
          <a:xfrm>
            <a:off x="861840" y="1290960"/>
            <a:ext cx="7340400" cy="4188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82240" y="0"/>
            <a:ext cx="8538480" cy="558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воснабжение цилиарного тела осуществляется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етвя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длинных ресничных артер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оторые проникают в ресничное тело из надсосудистого пространства. На передней поверхности ресничного тела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 края радужки эти сосуды соединяются с передней ресничной артерией и образуют большой артериальный круг радуж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сничные нервы в области ресничного тела образуют густое сплетение (чувствительные нервы – из 1-ой ветви тройничного нерва, сосудодвигательные – из симпатического сплетения, двигательные для ресничной мышцы – из глазодвигательного нерв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600" y="524520"/>
            <a:ext cx="4101120" cy="547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Функции цилиарного те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опора дл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устал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участие в акте аккомод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продукция внутриглазной жидк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тепловой коллектор переднего отрезка гл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Картинки по запросу работа цилиарной мышцы"/>
          <p:cNvPicPr/>
          <p:nvPr/>
        </p:nvPicPr>
        <p:blipFill>
          <a:blip r:embed="rId1"/>
          <a:stretch/>
        </p:blipFill>
        <p:spPr>
          <a:xfrm>
            <a:off x="3732480" y="151200"/>
            <a:ext cx="5411160" cy="491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Картинки по запросу функции цилиарного тела"/>
          <p:cNvPicPr/>
          <p:nvPr/>
        </p:nvPicPr>
        <p:blipFill>
          <a:blip r:embed="rId1"/>
          <a:stretch/>
        </p:blipFill>
        <p:spPr>
          <a:xfrm>
            <a:off x="545400" y="1518480"/>
            <a:ext cx="7698960" cy="3577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45480" y="146556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щина на заднем полюсе глаза 0,22-0,3 мм и уменьшается по направлению к зубчатой линии до 0,1-0,15м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уды хориоидеи являются ветвями задних коротких цилиарных артерий, задних длинных цилиарных артерий, направляющихся от зубчатой линии к экватору, и передних цилиарных артерий, являясь продолжением мышечных артерий, посылают ветви к передней части сосудистой оболочки, где анастомозирют с ветвями коротких задних цилиарных артерий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6520" y="24192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3000"/>
          </a:bodyPr>
          <a:p>
            <a:pPr indent="0" algn="ctr">
              <a:lnSpc>
                <a:spcPct val="90000"/>
              </a:lnSpc>
              <a:buNone/>
            </a:pPr>
            <a:r>
              <a:rPr b="0" i="1" lang="ru-RU" sz="4000" spc="-1" strike="noStrike">
                <a:solidFill>
                  <a:srgbClr val="000000"/>
                </a:solidFill>
                <a:latin typeface="Calibri Light"/>
              </a:rPr>
              <a:t>Хориоидеа имеет ряд анатомических особенностей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3240" y="1290960"/>
            <a:ext cx="8484840" cy="527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шена чувствительных нервных окончаний, поэтому развивающиеся в ней патологические процессы не вызывают болевых ощущ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е сосудистая сеть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не анастомозирует с передними ресничным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ртериями, вследствие этого при хориоидитах передний отдел глаза остается интактн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ширное сосудистое ложе при небольшом числе отводящих сосудов (4 вортикозные вены) способствует замедлению кровотока и оседанию здесь возбудителей различных заболев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граниченно связана с сетчаткой, которая при заболеваниях хориоидеи, как правило, так же вовлекается в патологический проце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-за наличия перихориоидального пространства достаточно легко отслаивается от склеры. Удерживается  нормальном положении в основном благодаря отходящим венозным сосудам, перфорирующим ее в области экватора. Стабилизирующую роль играют также сосуды и нервы, проникающие в хориоидею из этого же простран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7800" y="93960"/>
            <a:ext cx="6390360" cy="88416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chemeClr val="dk1"/>
                </a:solidFill>
                <a:latin typeface="Calibri"/>
              </a:rPr>
              <a:t>Размеры глазного ябл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5200" y="1416960"/>
            <a:ext cx="3513960" cy="46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гитальная ось – 24,4м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перечная ось – 23,8 м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ртикальная ось – 23,5м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сса глазного яблока взрослого 9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stroenie-glaza.jpg"/>
          <p:cNvPicPr/>
          <p:nvPr/>
        </p:nvPicPr>
        <p:blipFill>
          <a:blip r:embed="rId1"/>
          <a:stretch/>
        </p:blipFill>
        <p:spPr>
          <a:xfrm>
            <a:off x="4097160" y="1018800"/>
            <a:ext cx="5046480" cy="5112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20960" y="901080"/>
            <a:ext cx="44776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супрахориоидальный – тонкие соединительнотканные пластинки, покрытые эндотелием и многоотростчатыми пигментными клет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сосудистая пластинка – переплетающиеся и анастомозирующие артерии и вены, между которыми располагается рыхлая волокнистая соединительная ткань, пигментные клетки, гладкие миоци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слой крупных сосу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слой средних и мелких сосу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Картинки по запросу Хориоидея гистология"/>
          <p:cNvPicPr/>
          <p:nvPr/>
        </p:nvPicPr>
        <p:blipFill>
          <a:blip r:embed="rId1"/>
          <a:stretch/>
        </p:blipFill>
        <p:spPr>
          <a:xfrm>
            <a:off x="4464360" y="1182600"/>
            <a:ext cx="4679280" cy="38977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1721160" y="322560"/>
            <a:ext cx="57549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стологически состоит из пяти слое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62760" y="241920"/>
            <a:ext cx="4706280" cy="593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02320" indent="-2023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хориокапиллярный слой – система переплетенных капилляров, образованная сосудами большого диаметра с отверстиями в стенках для прохождения жидкости, ионов и маленьких молекул протеинов; капилляры этого слоя способны пропускать до 5 эритроцитов одновременно; между капиллярами – утолщенные фиброблас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) базальный комплекс (мембрана Бруха, стекловидная пластинка) – тонкая пластинка, состоящая из трех слоев: наружный коллагеновый с зоной тонких эластических волокон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Картинки по запросу Хориоидея гистология"/>
          <p:cNvPicPr/>
          <p:nvPr/>
        </p:nvPicPr>
        <p:blipFill>
          <a:blip r:embed="rId1"/>
          <a:stretch/>
        </p:blipFill>
        <p:spPr>
          <a:xfrm>
            <a:off x="389880" y="1373040"/>
            <a:ext cx="4033440" cy="335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15200" y="10764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Функции хориоиде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Картинки по запросу функции собственно сосудистой оболочки"/>
          <p:cNvPicPr/>
          <p:nvPr/>
        </p:nvPicPr>
        <p:blipFill>
          <a:blip r:embed="rId1"/>
          <a:stretch/>
        </p:blipFill>
        <p:spPr>
          <a:xfrm>
            <a:off x="4671360" y="3630600"/>
            <a:ext cx="4472280" cy="32270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3"/>
          <p:cNvSpPr/>
          <p:nvPr/>
        </p:nvSpPr>
        <p:spPr>
          <a:xfrm>
            <a:off x="322560" y="1129680"/>
            <a:ext cx="87134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осуществляет питание пигментного эпителия сетчатки, фоторецепторов и наружного плексиформного слоя сетч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поставляет сетчатке вещества, способствующие осуществлению фотохимических превращений зрительного пиг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участвует в поддержании внутриглазного давления и температуры глазного я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 фильтр для тепловой энергии, возникающей при абсорбции с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Похожее изображение"/>
          <p:cNvPicPr/>
          <p:nvPr/>
        </p:nvPicPr>
        <p:blipFill>
          <a:blip r:embed="rId2"/>
          <a:stretch/>
        </p:blipFill>
        <p:spPr>
          <a:xfrm>
            <a:off x="191880" y="3038040"/>
            <a:ext cx="4420080" cy="3819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Сетчат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08360"/>
            <a:ext cx="865944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тилает изнутри всю поверхность сосудистой оболочки. В соответствии со структурой, а значит, и функцией в ней различают две части - оптическую (pars optica retinae) и реснично-радужковую (pars ciliaris et iridica retinae). Первая представляет собой высокодифференцированную нервную ткань с фоторецепторами, воспринимающими адекватные световые лучи с длиной волны от 380 до 770 н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Картинки по запросу сетчатка"/>
          <p:cNvPicPr/>
          <p:nvPr/>
        </p:nvPicPr>
        <p:blipFill>
          <a:blip r:embed="rId1"/>
          <a:stretch/>
        </p:blipFill>
        <p:spPr>
          <a:xfrm>
            <a:off x="2253240" y="3812400"/>
            <a:ext cx="476208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58800" y="25560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щина сетчатки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края диска зрительного нерва 0,4- 0,5 мм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бласти фовеолы желтого пятна 0,07-0,08 м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зубчатой линии 0,14 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оны прикрепления сетчатки сосудистой оболочк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доль зубчатой ли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круг диска зрительного нер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краю желтого пят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Картинки по запросу места прикрепления сетчатки"/>
          <p:cNvPicPr/>
          <p:nvPr/>
        </p:nvPicPr>
        <p:blipFill>
          <a:blip r:embed="rId1"/>
          <a:stretch/>
        </p:blipFill>
        <p:spPr>
          <a:xfrm>
            <a:off x="5057280" y="3617280"/>
            <a:ext cx="3871080" cy="2907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Картинки по запросу места прикрепления сетчатки"/>
          <p:cNvPicPr/>
          <p:nvPr/>
        </p:nvPicPr>
        <p:blipFill>
          <a:blip r:embed="rId2"/>
          <a:stretch/>
        </p:blipFill>
        <p:spPr>
          <a:xfrm>
            <a:off x="457200" y="4135320"/>
            <a:ext cx="2473560" cy="2389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Глазное д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18880" y="1156320"/>
            <a:ext cx="4289400" cy="135792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t">
            <a:normAutofit fontScale="90000"/>
          </a:bodyPr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Диск зрительного нер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Желтое пя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Фовеола желтого пят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Картинки по запросу глазное дно"/>
          <p:cNvPicPr/>
          <p:nvPr/>
        </p:nvPicPr>
        <p:blipFill>
          <a:blip r:embed="rId1"/>
          <a:stretch/>
        </p:blipFill>
        <p:spPr>
          <a:xfrm>
            <a:off x="1124640" y="2649240"/>
            <a:ext cx="7443000" cy="345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vmede.org/sait/content/Oftalmologiya_osnov_des_kopaeva_2012/img/11027.jpg"/>
          <p:cNvPicPr/>
          <p:nvPr/>
        </p:nvPicPr>
        <p:blipFill>
          <a:blip r:embed="rId1"/>
          <a:stretch/>
        </p:blipFill>
        <p:spPr>
          <a:xfrm>
            <a:off x="518760" y="425160"/>
            <a:ext cx="7724160" cy="5629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6807240" cy="9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indent="0">
              <a:lnSpc>
                <a:spcPct val="90000"/>
              </a:lnSpc>
              <a:buNone/>
            </a:pPr>
            <a:r>
              <a:rPr b="1" i="1" lang="ru-RU" sz="4000" spc="-1" strike="noStrike">
                <a:solidFill>
                  <a:srgbClr val="000000"/>
                </a:solidFill>
                <a:latin typeface="Calibri Light"/>
              </a:rPr>
              <a:t>Параметры фоторецептор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960" y="968040"/>
            <a:ext cx="9237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алоч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длина 0,06 мм, диаметр 2 мкм. Наружные членики содержат пигмент - родопсин, поглощающий часть спектра электромагнитного светового излучения в диапазоне зеленых лучей (максимум 510 н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Картинки по запросу палочки и колбочки"/>
          <p:cNvPicPr/>
          <p:nvPr/>
        </p:nvPicPr>
        <p:blipFill>
          <a:blip r:embed="rId1"/>
          <a:stretch/>
        </p:blipFill>
        <p:spPr>
          <a:xfrm>
            <a:off x="248400" y="2569320"/>
            <a:ext cx="3825720" cy="41940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"/>
          <p:cNvSpPr/>
          <p:nvPr/>
        </p:nvSpPr>
        <p:spPr>
          <a:xfrm>
            <a:off x="4074480" y="2660760"/>
            <a:ext cx="477324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олбочк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длина 0,035 мм, диаметр 6 мкм. В трех различных типах колбочек (красных, зеленых и синих) содержится зрительный пигмент с различными показателями поглощения света. У красных колбочек он (иодопсин) адсорбирует спектральные лучи с длиной волны -565 нм, у зеленых - 500 нм, у синих - 450 н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18480" y="21528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Два источника питания сетчат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центральная артерия сетчатки – питает внутренние шесть сло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хориокапилляры собственной сосудистой оболочки – питает нейроэпител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Картинки по запросу ретина глаза"/>
          <p:cNvPicPr/>
          <p:nvPr/>
        </p:nvPicPr>
        <p:blipFill>
          <a:blip r:embed="rId1"/>
          <a:stretch/>
        </p:blipFill>
        <p:spPr>
          <a:xfrm>
            <a:off x="868320" y="2401560"/>
            <a:ext cx="3809520" cy="3219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Картинки по запросу хориоидея"/>
          <p:cNvPicPr/>
          <p:nvPr/>
        </p:nvPicPr>
        <p:blipFill>
          <a:blip r:embed="rId2"/>
          <a:stretch/>
        </p:blipFill>
        <p:spPr>
          <a:xfrm>
            <a:off x="4879800" y="2067480"/>
            <a:ext cx="3501720" cy="3458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9240" y="672480"/>
            <a:ext cx="3409560" cy="51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сетчатки: преобразование светового раздражения в нервное возбуждение и первичная обработка сигн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Картинки по запросу глазное дно норма"/>
          <p:cNvPicPr/>
          <p:nvPr/>
        </p:nvPicPr>
        <p:blipFill>
          <a:blip r:embed="rId1"/>
          <a:stretch/>
        </p:blipFill>
        <p:spPr>
          <a:xfrm>
            <a:off x="3719160" y="470520"/>
            <a:ext cx="5182560" cy="5675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840" y="0"/>
            <a:ext cx="7479720" cy="98172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chemeClr val="dk1"/>
                </a:solidFill>
                <a:latin typeface="Calibri"/>
              </a:rPr>
              <a:t>Общее строение глазного ябл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4960" y="1014120"/>
            <a:ext cx="481356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олоч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Scler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pus cili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rioid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дро глазного ябл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Передняя кам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Задняя кам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Хрустали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. Стекловидное те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. Желтое пятно (Макул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3. Диск зрительного нер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. Зрительный нер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5. Зрительная ос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6. Ось глазного ябло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redmarket\Desktop\Снимок.JPG"/>
          <p:cNvPicPr/>
          <p:nvPr/>
        </p:nvPicPr>
        <p:blipFill>
          <a:blip r:embed="rId1"/>
          <a:stretch/>
        </p:blipFill>
        <p:spPr>
          <a:xfrm>
            <a:off x="4565880" y="1937160"/>
            <a:ext cx="4476240" cy="3971520"/>
          </a:xfrm>
          <a:prstGeom prst="rect">
            <a:avLst/>
          </a:prstGeom>
          <a:ln w="0">
            <a:noFill/>
          </a:ln>
        </p:spPr>
      </p:pic>
      <p:sp>
        <p:nvSpPr>
          <p:cNvPr id="52" name="Правая фигурная скобка 4"/>
          <p:cNvSpPr/>
          <p:nvPr/>
        </p:nvSpPr>
        <p:spPr>
          <a:xfrm>
            <a:off x="1232280" y="1380600"/>
            <a:ext cx="685800" cy="55620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2229120" y="1197360"/>
            <a:ext cx="1270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Наружная фиброзная обо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авая фигурная скобка 6"/>
          <p:cNvSpPr/>
          <p:nvPr/>
        </p:nvSpPr>
        <p:spPr>
          <a:xfrm>
            <a:off x="1661400" y="2120400"/>
            <a:ext cx="567360" cy="67608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336760" y="2232360"/>
            <a:ext cx="1384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Сосудистая обо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http://vmede.org/sait/content/Oftalmologiya_osnov_des_kopaeva_2012/img/11001.jpg"/>
          <p:cNvPicPr/>
          <p:nvPr/>
        </p:nvPicPr>
        <p:blipFill>
          <a:blip r:embed="rId1"/>
          <a:stretch/>
        </p:blipFill>
        <p:spPr>
          <a:xfrm>
            <a:off x="2608560" y="97560"/>
            <a:ext cx="6158520" cy="4578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0960" y="0"/>
            <a:ext cx="442692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Хрустал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4460760"/>
            <a:ext cx="7597080" cy="187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диус кривизн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дней поверхности  10 м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диус кривизны задней поверхности R = 6 м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аметр хрусталика 9-10 м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ломляющая сила хрусталика составляет в среднем 19,11 дпт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ь хрусталика – 3,5-4,5 м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425720" cy="96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ff0000"/>
                </a:solidFill>
                <a:latin typeface="Calibri Light"/>
              </a:rPr>
              <a:t>Особенност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4840" y="941400"/>
            <a:ext cx="8108280" cy="50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оит из одного типа клеток на всех стадиях – от эмбрионального развития и постнатальной жизни до смер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утствуют кровеносные сосуды и нер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Картинки по запросу lens eye"/>
          <p:cNvPicPr/>
          <p:nvPr/>
        </p:nvPicPr>
        <p:blipFill>
          <a:blip r:embed="rId1"/>
          <a:stretch/>
        </p:blipFill>
        <p:spPr>
          <a:xfrm>
            <a:off x="4774320" y="2706480"/>
            <a:ext cx="4134240" cy="380160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3"/>
          <p:cNvSpPr/>
          <p:nvPr/>
        </p:nvSpPr>
        <p:spPr>
          <a:xfrm>
            <a:off x="322560" y="3070800"/>
            <a:ext cx="435636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обладает анаэробное окисление в метаболиз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личие специфических белков – кристаллин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Функции хрусталик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7520" y="100836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светопроведение (обеспечивается за счет основного свойства хрусталика – прозрачнос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светопреломление (оптическая сила 19,0 дпт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471960" y="2379960"/>
            <a:ext cx="7687440" cy="369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24520" y="57816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 обеспечение динамичности рефракции (за счет аккомодации хрусталик плавно изменяет свою форм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Картинки по запросу хрусталик аккомодация"/>
          <p:cNvPicPr/>
          <p:nvPr/>
        </p:nvPicPr>
        <p:blipFill>
          <a:blip r:embed="rId1"/>
          <a:srcRect l="0" t="13274" r="-7742" b="0"/>
          <a:stretch/>
        </p:blipFill>
        <p:spPr>
          <a:xfrm>
            <a:off x="1258200" y="1600200"/>
            <a:ext cx="7105320" cy="4450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43880" y="3294360"/>
            <a:ext cx="83772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 барьерная (разделяет меньший передний и больший задний отделы глазного яблока, защищает нежные структуры переднего отдела глаза от давления большой массы стекловидного тела, обеспечивает лучшие условия гидродинамики внутриглазничной жидкос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) защитная (преграда для проникновения микробов из передней камеры в полость стекловидного те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1850040" y="0"/>
            <a:ext cx="4704840" cy="3362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05320" y="-52200"/>
            <a:ext cx="453456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Стекловидное те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http://vmede.org/sait/content/Oftalmologiya_osnov_des_kopaeva_2012/img/10855.jpg"/>
          <p:cNvPicPr/>
          <p:nvPr/>
        </p:nvPicPr>
        <p:blipFill>
          <a:blip r:embed="rId1"/>
          <a:stretch/>
        </p:blipFill>
        <p:spPr>
          <a:xfrm>
            <a:off x="1797840" y="1003320"/>
            <a:ext cx="6673320" cy="48729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4640" y="1049040"/>
            <a:ext cx="4611960" cy="199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асса стекловидного тела 4 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бъем 3,5-4 м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201600"/>
            <a:ext cx="7761960" cy="113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alibri Light"/>
              </a:rPr>
              <a:t>В стекловидном теле различаю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3880" y="1384920"/>
            <a:ext cx="8578800" cy="47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собственно стекловидное тело – образование с фибриллярной структурой, межфибриллярные промежутки которого заполнены жидким, вязким, аморфным содержим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пограничную мембрану – более плотный слой СТ, образовавшийся в результате сгущения его наружных слоев и конденсации фибрил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стекловидный (клокетов) канал – узкая S-образная трубка, идущая от диска зрительного нерва к задней поверхности хрусталика, не достигая его задней коры; в эмбриональном периоде через этот канал проходит артерия стекловидного тела, исчезающая ко времени рож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9840" y="322560"/>
            <a:ext cx="835380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ff0000"/>
                </a:solidFill>
                <a:latin typeface="Calibri Light"/>
              </a:rPr>
              <a:t>Места прикрепления стекловидного тел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6880" y="1170000"/>
            <a:ext cx="85518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Главное место прикрепления -  представляет собой кольцо, выступающее несколько кпереди от зубчатого края, прочно связанное с ресничным эпителие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Второе по прочности место прикреп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екловидного тела – к задней капсуле хрусталика – называется гиалоидохрусталиковой связ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Третье заметное место прикрепления стекловидного тела приходится на область диска зрительного нерва и по размерам соответствует примерно площади диска зрительного нер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слабое прикрепление стекловидного тела в области экватора глазного ябло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26892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сновные функции С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поддержание формы и тонуса глазного ябл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светопроведение и светопрелом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участие во внутриглазном обмене веще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обеспечение контакта сетчатки с сосудистой оболоч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Картинки по запросу стекловидное тело"/>
          <p:cNvPicPr/>
          <p:nvPr/>
        </p:nvPicPr>
        <p:blipFill>
          <a:blip r:embed="rId1"/>
          <a:stretch/>
        </p:blipFill>
        <p:spPr>
          <a:xfrm>
            <a:off x="2939040" y="2692800"/>
            <a:ext cx="4773600" cy="3586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88240" y="134640"/>
            <a:ext cx="7842600" cy="97416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chemeClr val="dk1"/>
                </a:solidFill>
                <a:latin typeface="Calibri"/>
              </a:rPr>
              <a:t>Передняя камера гла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5600" y="1049040"/>
            <a:ext cx="87804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яет собой пространство, ограниченное задней поверхностью роговицы, передней поверхностью радужки и центральной частью передней капсулы хрустал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Картинки по запросу передняя камера глаза"/>
          <p:cNvPicPr/>
          <p:nvPr/>
        </p:nvPicPr>
        <p:blipFill>
          <a:blip r:embed="rId1"/>
          <a:stretch/>
        </p:blipFill>
        <p:spPr>
          <a:xfrm>
            <a:off x="1150560" y="2612160"/>
            <a:ext cx="6190920" cy="4123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  <a:effectLst>
            <a:outerShdw dist="32904" dir="3180283" blurRad="57960" rotWithShape="0">
              <a:srgbClr val="000000">
                <a:alpha val="3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Роговица – передняя прозрачная часть фиброзной оболоч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8920" y="1358280"/>
            <a:ext cx="8027640" cy="485388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t">
            <a:normAutofit fontScale="82000"/>
          </a:bodyPr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тличительные качества роговиц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Сферичность (радиус кривизны передней поверхности 7.7,  задней 6,8мм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Прозрач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Зерка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Лишена кровеносных сосу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Обладает высокой тактильной и болевой, но низкой температурной чувствительност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Сила преломления 43 дпт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Диаметр в среднем 11м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Толщина в центре 0,5 мм, на перифер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до 1м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Картинки по запросу роговица"/>
          <p:cNvPicPr/>
          <p:nvPr/>
        </p:nvPicPr>
        <p:blipFill>
          <a:blip r:embed="rId1"/>
          <a:stretch/>
        </p:blipFill>
        <p:spPr>
          <a:xfrm>
            <a:off x="6475680" y="3686760"/>
            <a:ext cx="2345040" cy="2039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85360" y="14796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Глубина передней камеры 2,75-3,5 м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Похожее изображение"/>
          <p:cNvPicPr/>
          <p:nvPr/>
        </p:nvPicPr>
        <p:blipFill>
          <a:blip r:embed="rId1"/>
          <a:srcRect l="0" t="0" r="0" b="3929"/>
          <a:stretch/>
        </p:blipFill>
        <p:spPr>
          <a:xfrm>
            <a:off x="1379160" y="1726560"/>
            <a:ext cx="6298560" cy="4323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3640" y="430200"/>
            <a:ext cx="7886520" cy="133740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000" spc="-1" strike="noStrike">
                <a:solidFill>
                  <a:schemeClr val="dk1"/>
                </a:solidFill>
                <a:latin typeface="Calibri"/>
              </a:rPr>
              <a:t>Задняя камера гла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45480" y="196344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ходится за радужкой, которая является ее передней стенкой, и ограничена снаружи ресничным телом, сзади стекловидным телом. Внутреннюю стенку образует экватор хрусталика. Все пространство задней камеры пронизано связками ресничного пояс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8880" y="147960"/>
            <a:ext cx="7412400" cy="92736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chemeClr val="dk1"/>
                </a:solidFill>
                <a:latin typeface="Calibri"/>
              </a:rPr>
              <a:t>Строение рогов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8920" y="1033200"/>
            <a:ext cx="8874720" cy="29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передний эпителий роговицы – продолжение эпителия конъюктивы; 5-6 слоев клеток, передние слои – из многогранных плоских неороговевающих клеток, базальные слои – цилиндрические клетки;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ысокая регенеративная способнос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обеспечивает восстановление дефектов роговиц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Картинки по запросу роговица слои"/>
          <p:cNvPicPr/>
          <p:nvPr/>
        </p:nvPicPr>
        <p:blipFill>
          <a:blip r:embed="rId1"/>
          <a:srcRect l="6047" t="0" r="0" b="0"/>
          <a:stretch/>
        </p:blipFill>
        <p:spPr>
          <a:xfrm>
            <a:off x="0" y="4000680"/>
            <a:ext cx="563724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1920" y="322560"/>
            <a:ext cx="7886520" cy="133740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chemeClr val="dk1"/>
                </a:solidFill>
                <a:latin typeface="Calibri"/>
              </a:rPr>
              <a:t>Функции переднего эпителия роговиц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9120" y="188244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Оптическая – «выравнивание» всех неровных поверхнос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Осмотическая – регуляция поступления жидкости в строму рогов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Тектоническая – заполнение глубоких дефектов тка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Дыхательная – «захват» кислорода, растворенного в слезной плен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44280" y="403560"/>
            <a:ext cx="5378400" cy="62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передняя пограничная пластинка (боуменова мембрана) – бесструктурная, однородная, модифицированная гиалинизированная часть стромы; не регенерирует после повреж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собственное вещество роговицы (строма) – составляет большую часть всей ее толщи, состоит из тонких, правильно чередующихся между собой соединительнотканных пластинок, отростки которых содержат множество тончайших фибрилл, между пластинками цементирущее вещество – склеивающий мукоид. В состав мукоида входят соли сульфогиалуроновой кислоты, обеспечивающие прозрачность стромы роговицы. Кроме роговичных клеток, в строме встречаются блуждающие клетки (фибробласты, лимфоидные элемент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Картинки по запросу роговица слои"/>
          <p:cNvPicPr/>
          <p:nvPr/>
        </p:nvPicPr>
        <p:blipFill>
          <a:blip r:embed="rId1"/>
          <a:stretch/>
        </p:blipFill>
        <p:spPr>
          <a:xfrm>
            <a:off x="101880" y="462600"/>
            <a:ext cx="3676320" cy="578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523440"/>
            <a:ext cx="8309880" cy="27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 задняя пограничная пластинка (десцементова мембрана) – состоит из фибрилл (идентичных коллагеновым); резистентна по отношению к химическим реагентам, бактериям, литическим ферментам гнойного экссудата, препятствует врастанию капилляров. При повреждениях – зияет, края ее завиваются. Участвует в образовании корнеосклеральной трабеку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Картинки по запросу роговица слои"/>
          <p:cNvPicPr/>
          <p:nvPr/>
        </p:nvPicPr>
        <p:blipFill>
          <a:blip r:embed="rId1"/>
          <a:stretch/>
        </p:blipFill>
        <p:spPr>
          <a:xfrm>
            <a:off x="1230480" y="2971080"/>
            <a:ext cx="6854760" cy="372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 Them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3015</TotalTime>
  <Application>LibreOffice/7.4.7.2$Linux_X86_64 LibreOffice_project/40$Build-2</Application>
  <AppVersion>15.0000</AppVersion>
  <Words>1690</Words>
  <Paragraphs>215</Paragraphs>
  <Company>PJSC "New Engineering Technologies"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8T14:12:19Z</dcterms:created>
  <dc:creator>Markasian, Pavel (KIEVH)</dc:creator>
  <dc:description/>
  <dc:language>en-US</dc:language>
  <cp:lastModifiedBy>User</cp:lastModifiedBy>
  <dcterms:modified xsi:type="dcterms:W3CDTF">2020-12-17T12:32:59Z</dcterms:modified>
  <cp:revision>165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51</vt:r8>
  </property>
</Properties>
</file>