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3C99-892B-45A1-B26E-8C71CF13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F2F-49B1-446A-ADBD-53C65679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82BF-7EA7-4AAD-B7A6-C9F26845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A4B-19E9-44B2-AB86-8353BAE4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0D05-D4DE-469C-B596-E6B391A8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C619-6D78-431C-82A0-0F0424F7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1678-745B-4514-8862-1D331F15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2C89-057E-4984-B1E8-7F67A787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EF5F-0C1D-4D95-A781-1848ED17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0BD6-8503-407B-A7AF-E8B06E31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EA39-701F-4F1D-97C8-95ED81F8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352-DFED-45D9-9D7D-2C17351D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8609-6F0B-484F-8FB3-886EE527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ACCD-9172-4538-BDB5-9A75057E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463C-28B4-4066-8211-A0F19442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3665-E77A-49AE-B953-6B1304FF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7EEC-EB52-49BF-8205-1D596662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43B-A7E5-49DD-A256-4260CF46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84F-6435-4732-B48A-F6F4DADE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5A0-F00C-4F96-B5D5-E3D470C4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ABC-2849-49FC-BD4F-4AABE1A6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5F9-B546-43C0-A934-EF25670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B81-410B-4CAA-9700-DFA9BE96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2E6-13D4-4D0E-84E9-17B9DF39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66FC0A-6765-4E52-9258-2345A71653D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EE3260-5CF5-49EB-8887-481CF595A61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9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f Dece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work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Тема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 British Royal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(Британская королевская сем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 домашнего зад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од словосочетаний с притяжательным падежом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тара моего брата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brothe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guitar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ьютерные игры моего друг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friend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computer game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креты моей сестр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siste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ec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ьги Тома и Дж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m and Jack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ney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ртира моих родителе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y parent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flat/apartmen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ка женщ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ma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bag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ки женщ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men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g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ши сло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lephan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ears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ы дяди 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cle T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ustach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д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indow of the house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ья это книга? – Учителя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ose is this book? – Teache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480" indent="-303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ты? - В аптеке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re are you? – At the chemis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’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проверка домашнего зад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. 3 p. 60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hakira’s full name is Shakira Isabel Mebarak Ripoll. She is from Colombia, South America. Her birthday is on the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of February, 1977. She has got four brothers and four sisters. Her hobbies are painting and listening to jazz. She can speak five languages, dance and sing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6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10243e"/>
                </a:solidFill>
                <a:latin typeface="Calibri"/>
              </a:rPr>
              <a:t>The British Royal Family. Vocabulary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34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D:\Ольга Сергеевна\Spotlight 5\Елизавета 2.jpg"/>
          <p:cNvPicPr/>
          <p:nvPr/>
        </p:nvPicPr>
        <p:blipFill>
          <a:blip r:embed="rId1"/>
          <a:stretch/>
        </p:blipFill>
        <p:spPr>
          <a:xfrm>
            <a:off x="467640" y="1556640"/>
            <a:ext cx="6480360" cy="4752000"/>
          </a:xfrm>
          <a:prstGeom prst="rect">
            <a:avLst/>
          </a:prstGeom>
          <a:ln w="0">
            <a:noFill/>
          </a:ln>
        </p:spPr>
      </p:pic>
      <p:sp>
        <p:nvSpPr>
          <p:cNvPr id="91" name="Овал 6"/>
          <p:cNvSpPr/>
          <p:nvPr/>
        </p:nvSpPr>
        <p:spPr>
          <a:xfrm>
            <a:off x="5509440" y="1845000"/>
            <a:ext cx="3382920" cy="3384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Queen Elizabeth II is the longest ruling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monarch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in Britain.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Королева Елизавета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II – 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это монарх, который правит дольше всех в Брит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8"/>
          <p:cNvSpPr/>
          <p:nvPr/>
        </p:nvSpPr>
        <p:spPr>
          <a:xfrm>
            <a:off x="395640" y="2349000"/>
            <a:ext cx="1850040" cy="9140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Born in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19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0"/>
          <p:cNvSpPr/>
          <p:nvPr/>
        </p:nvSpPr>
        <p:spPr>
          <a:xfrm>
            <a:off x="27000" y="4376160"/>
            <a:ext cx="2744280" cy="1944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row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[kraʊnd]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коронована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19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53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know about her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00"/>
              </a:buClr>
              <a:buFont typeface="Arial"/>
              <a:buChar char="•"/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her nation 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|ˈneɪʃən|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на усердно трудится для сво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D:\Ольга Сергеевна\Spotlight 5\Елизавета вторая.jpg"/>
          <p:cNvPicPr/>
          <p:nvPr/>
        </p:nvPicPr>
        <p:blipFill>
          <a:blip r:embed="rId1"/>
          <a:stretch/>
        </p:blipFill>
        <p:spPr>
          <a:xfrm>
            <a:off x="1004040" y="1690560"/>
            <a:ext cx="7311960" cy="4978440"/>
          </a:xfrm>
          <a:prstGeom prst="rect">
            <a:avLst/>
          </a:prstGeom>
          <a:ln w="0">
            <a:noFill/>
          </a:ln>
        </p:spPr>
      </p:pic>
      <p:sp>
        <p:nvSpPr>
          <p:cNvPr id="97" name="Овал 3"/>
          <p:cNvSpPr/>
          <p:nvPr/>
        </p:nvSpPr>
        <p:spPr>
          <a:xfrm>
            <a:off x="6122520" y="4316760"/>
            <a:ext cx="2952000" cy="213156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works har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for her nation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|ˈneɪʃən|</a:t>
            </a:r>
            <a:r>
              <a:rPr b="0" lang="en-US" sz="2000" spc="-1" strike="noStrike">
                <a:solidFill>
                  <a:schemeClr val="lt1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на усердно трудится для своей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107640" y="3213000"/>
            <a:ext cx="3635640" cy="2592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ha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regular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|ˈreɡjʊlə</a:t>
            </a: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|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visits to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foreign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  |ˈfɒrɪn| countries . –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Она регулярно посещает иностранные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6156000" y="1124640"/>
            <a:ext cx="3096000" cy="2088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has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many state  duties  |ˈdjuːtɪz| - </a:t>
            </a: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У неё много государственных обяза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8"/>
          <p:cNvSpPr/>
          <p:nvPr/>
        </p:nvSpPr>
        <p:spPr>
          <a:xfrm>
            <a:off x="1331640" y="1124640"/>
            <a:ext cx="3096000" cy="2088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is the Queen of Great Britain and 16 cou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9"/>
          <p:cNvSpPr/>
          <p:nvPr/>
        </p:nvSpPr>
        <p:spPr>
          <a:xfrm>
            <a:off x="3132000" y="5301360"/>
            <a:ext cx="2880000" cy="155628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he likes horse-racing and she keeps corg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Buckingham</a:t>
            </a:r>
            <a:r>
              <a:rPr b="0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 [ˈbʌkɪŋəm] </a:t>
            </a:r>
            <a:r>
              <a:rPr b="1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Palac</a:t>
            </a:r>
            <a:r>
              <a:rPr b="0" lang="en-US" sz="2800" spc="-1" strike="noStrike" u="sng">
                <a:solidFill>
                  <a:srgbClr val="10243e"/>
                </a:solidFill>
                <a:uFillTx/>
                <a:latin typeface="Calibri"/>
              </a:rPr>
              <a:t>e </a:t>
            </a:r>
            <a:r>
              <a:rPr b="0" lang="en-US" sz="2800" spc="-1" strike="noStrike">
                <a:solidFill>
                  <a:srgbClr val="10243e"/>
                </a:solidFill>
                <a:latin typeface="Calibri"/>
              </a:rPr>
              <a:t>is the main royal residence [ˈrezɪdəns] in London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822924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D:\Ольга Сергеевна\Spotlight 5\бук дворец.jpg"/>
          <p:cNvPicPr/>
          <p:nvPr/>
        </p:nvPicPr>
        <p:blipFill>
          <a:blip r:embed="rId1"/>
          <a:stretch/>
        </p:blipFill>
        <p:spPr>
          <a:xfrm>
            <a:off x="899640" y="1772640"/>
            <a:ext cx="7452000" cy="47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0243e"/>
                </a:solidFill>
                <a:latin typeface="Calibri"/>
              </a:rPr>
              <a:t>Titles</a:t>
            </a:r>
            <a:r>
              <a:rPr b="0" lang="en-US" sz="4400" spc="-1" strike="noStrike">
                <a:solidFill>
                  <a:srgbClr val="10243e"/>
                </a:solidFill>
                <a:latin typeface="Calibri"/>
              </a:rPr>
              <a:t> [ˈtaɪtəlz] - </a:t>
            </a:r>
            <a:r>
              <a:rPr b="0" lang="ru-RU" sz="4400" spc="-1" strike="noStrike">
                <a:solidFill>
                  <a:srgbClr val="10243e"/>
                </a:solidFill>
                <a:latin typeface="Calibri"/>
              </a:rPr>
              <a:t>титу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zabeth was born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royal House of Winds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ˈwɪnzə ].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лизавета родилась в королевской династии Винзор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вал 3"/>
          <p:cNvSpPr/>
          <p:nvPr/>
        </p:nvSpPr>
        <p:spPr>
          <a:xfrm>
            <a:off x="467640" y="3069000"/>
            <a:ext cx="2376000" cy="1656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ince [prɪns] -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н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4"/>
          <p:cNvSpPr/>
          <p:nvPr/>
        </p:nvSpPr>
        <p:spPr>
          <a:xfrm>
            <a:off x="3420000" y="3069000"/>
            <a:ext cx="2376000" cy="1800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incess [ˌprɪnˈses] - 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рин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5"/>
          <p:cNvSpPr/>
          <p:nvPr/>
        </p:nvSpPr>
        <p:spPr>
          <a:xfrm>
            <a:off x="6372360" y="3040200"/>
            <a:ext cx="2448000" cy="16848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he Duke [djuːk] -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герцог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"/>
          <p:cNvSpPr/>
          <p:nvPr/>
        </p:nvSpPr>
        <p:spPr>
          <a:xfrm>
            <a:off x="1547640" y="4898160"/>
            <a:ext cx="2348280" cy="17708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he Duchess [</a:t>
            </a:r>
            <a:r>
              <a:rPr b="0" lang="en-US" sz="2400" spc="-1" strike="noStrike">
                <a:solidFill>
                  <a:schemeClr val="lt1"/>
                </a:solidFill>
                <a:latin typeface="Calibri"/>
              </a:rPr>
              <a:t>ˈ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ʌtʃəs ] -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герцоги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7"/>
          <p:cNvSpPr/>
          <p:nvPr/>
        </p:nvSpPr>
        <p:spPr>
          <a:xfrm>
            <a:off x="4839480" y="4869000"/>
            <a:ext cx="2396520" cy="18000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The Earl [ɜːl] -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424720" cy="13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Who is the next in the line to the </a:t>
            </a:r>
            <a:r>
              <a:rPr b="1" lang="en-US" sz="3200" spc="-1" strike="noStrike" u="sng">
                <a:solidFill>
                  <a:srgbClr val="10243e"/>
                </a:solidFill>
                <a:uFillTx/>
                <a:latin typeface="Calibri"/>
              </a:rPr>
              <a:t>throne</a:t>
            </a: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 [</a:t>
            </a:r>
            <a:r>
              <a:rPr b="0" lang="el-GR" sz="3200" spc="-1" strike="noStrike">
                <a:solidFill>
                  <a:srgbClr val="10243e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rəʊn]? – </a:t>
            </a:r>
            <a:r>
              <a:rPr b="0" lang="ru-RU" sz="3200" spc="-1" strike="noStrike">
                <a:solidFill>
                  <a:srgbClr val="10243e"/>
                </a:solidFill>
                <a:latin typeface="Calibri"/>
              </a:rPr>
              <a:t>Кто следующий в очереди на трон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17000"/>
            <a:ext cx="8229240" cy="42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 Charles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first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erson in the line to the thro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 William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second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in the line to the thro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 George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third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in the line to the thro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0243e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Princess Charlotte is </a:t>
            </a:r>
            <a:r>
              <a:rPr b="1" i="1" lang="en-US" sz="3200" spc="-1" strike="noStrike">
                <a:solidFill>
                  <a:srgbClr val="10243e"/>
                </a:solidFill>
                <a:latin typeface="Calibri"/>
              </a:rPr>
              <a:t>the fourth 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in line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en and the members of the Royal Family a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ymbo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Great Britain and part of British history 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l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Овал 3"/>
          <p:cNvSpPr/>
          <p:nvPr/>
        </p:nvSpPr>
        <p:spPr>
          <a:xfrm>
            <a:off x="323640" y="1196640"/>
            <a:ext cx="2160000" cy="91404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[ˈsɪmbəlz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4"/>
          <p:cNvSpPr/>
          <p:nvPr/>
        </p:nvSpPr>
        <p:spPr>
          <a:xfrm>
            <a:off x="6372360" y="1139040"/>
            <a:ext cx="1944000" cy="1029600"/>
          </a:xfrm>
          <a:prstGeom prst="ellipse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[ˈkʌltʃə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единительная линия 6"/>
          <p:cNvCxnSpPr/>
          <p:nvPr/>
        </p:nvCxnSpPr>
        <p:spPr>
          <a:xfrm flipH="1">
            <a:off x="1403640" y="980640"/>
            <a:ext cx="720360" cy="5799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119" name="Прямая соединительная линия 13"/>
          <p:cNvCxnSpPr/>
          <p:nvPr/>
        </p:nvCxnSpPr>
        <p:spPr>
          <a:xfrm flipH="1" flipV="1">
            <a:off x="5738760" y="1439640"/>
            <a:ext cx="993600" cy="477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pic>
        <p:nvPicPr>
          <p:cNvPr id="120" name="Picture 2" descr="D:\Ольга Сергеевна\Spotlight 5\imagination-the-royal-family-british-tree-and-line-of-succession-a-full-look-time.jpg"/>
          <p:cNvPicPr/>
          <p:nvPr/>
        </p:nvPicPr>
        <p:blipFill>
          <a:blip r:embed="rId1"/>
          <a:stretch/>
        </p:blipFill>
        <p:spPr>
          <a:xfrm>
            <a:off x="1150560" y="2151000"/>
            <a:ext cx="694944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  <Words>479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8T20:35:17Z</dcterms:created>
  <dc:creator>Учитель</dc:creator>
  <dc:description/>
  <dc:language>en-US</dc:language>
  <cp:lastModifiedBy>Учитель</cp:lastModifiedBy>
  <dcterms:modified xsi:type="dcterms:W3CDTF">2020-12-08T22:53:28Z</dcterms:modified>
  <cp:revision>15</cp:revision>
  <dc:subject/>
  <dc:title>The 9th of December Class 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