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F51-6424-4CB7-9F19-D67D517A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D31-49CA-4B5D-A131-F3175298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736-A00C-4D0A-9449-7A87F760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F34-A7BC-4711-927F-4F88FA54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9536-2878-4D5F-A811-70BDF8A6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D8A3-9E7E-4011-9EA1-9B927F23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4AE6-1875-4F0B-A76D-DEC0DC24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3B18-0053-4E5B-AE6C-74487F06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C6CB-04A1-4D40-B523-B09E84E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9B12-BD8C-44B7-8645-E204A0FA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BE4-20E7-4795-9931-05C6B0B5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C8D-980E-4EEB-8103-ECB99650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9D0C-15AF-4603-902D-7235B07E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314C-9D8F-485A-BD83-EE5A79E3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C2EB-D840-4C0F-90A0-C5D245A3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451E-19B9-41A6-8147-13CA044C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D9CC-D1FA-4FE2-AE88-EDCA6C34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8B9-8415-4229-A736-7C8C1C10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6C5-A6AE-4EFB-BB2C-BDE2866C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9E3-B425-4FFE-B156-5DCC2405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204-0B9E-4C04-8A50-3FBAFC6B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314-9817-446D-88FC-74B492D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2AE-5765-450B-A903-AC63568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746-2C16-481F-9858-6202103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BCD6D1-8365-4201-9341-01F07DD27F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8E316E-DA98-496C-9D22-FE5F2A8C3F4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f Dece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o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ема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British Royal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(Британская королевская сем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 домашнего зад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д словосочетаний с притяжательным падежом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тара моего брата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broth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guita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ьютерные игры моего друг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frien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omputer game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креты моей сест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sist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ec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ги Тома и Дж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m and Jack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ne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ртира моих родителе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parent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lat/apartmen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ка женщ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ma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a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ки женщ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me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g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и сло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phan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ar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ы дяди 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cle T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ustach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д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indow of the hous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ья это книга? – Учителя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ose is this book? – Teach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ты? - В аптеке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re are you? – At the chemi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 домашнего зад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3 p. 6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akira’s full name is Shakira Isabel Mebarak Ripoll. She is from Colombia, South America. Her birthday is on the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of February, 1977. She has got four brothers and four sisters. Her hobbies are painting and listening to jazz. She can speak five languages, dance and sing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10243e"/>
                </a:solidFill>
                <a:latin typeface="Calibri"/>
              </a:rPr>
              <a:t>The British Royal Family. Vocabulary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34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D:\Ольга Сергеевна\Spotlight 5\Елизавета 2.jpg"/>
          <p:cNvPicPr/>
          <p:nvPr/>
        </p:nvPicPr>
        <p:blipFill>
          <a:blip r:embed="rId1"/>
          <a:stretch/>
        </p:blipFill>
        <p:spPr>
          <a:xfrm>
            <a:off x="467640" y="1556640"/>
            <a:ext cx="6480360" cy="4752000"/>
          </a:xfrm>
          <a:prstGeom prst="rect">
            <a:avLst/>
          </a:prstGeom>
          <a:ln w="0">
            <a:noFill/>
          </a:ln>
        </p:spPr>
      </p:pic>
      <p:sp>
        <p:nvSpPr>
          <p:cNvPr id="91" name="Овал 6"/>
          <p:cNvSpPr/>
          <p:nvPr/>
        </p:nvSpPr>
        <p:spPr>
          <a:xfrm>
            <a:off x="5509440" y="1845000"/>
            <a:ext cx="3382920" cy="3384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Queen Elizabeth II is the longest ruling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monarch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in Britain.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оролева Елизавета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II – 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то монарх, который правит дольше всех в Бр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8"/>
          <p:cNvSpPr/>
          <p:nvPr/>
        </p:nvSpPr>
        <p:spPr>
          <a:xfrm>
            <a:off x="395640" y="2349000"/>
            <a:ext cx="1850040" cy="9140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orn in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19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27000" y="4376160"/>
            <a:ext cx="2744280" cy="1944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row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kraʊnd]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ронована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19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53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know about her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her nation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|ˈneɪʃən|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на усердно трудится для сво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D:\Ольга Сергеевна\Spotlight 5\Елизавета вторая.jpg"/>
          <p:cNvPicPr/>
          <p:nvPr/>
        </p:nvPicPr>
        <p:blipFill>
          <a:blip r:embed="rId1"/>
          <a:stretch/>
        </p:blipFill>
        <p:spPr>
          <a:xfrm>
            <a:off x="1004040" y="1690560"/>
            <a:ext cx="7311960" cy="4978440"/>
          </a:xfrm>
          <a:prstGeom prst="rect">
            <a:avLst/>
          </a:prstGeom>
          <a:ln w="0">
            <a:noFill/>
          </a:ln>
        </p:spPr>
      </p:pic>
      <p:sp>
        <p:nvSpPr>
          <p:cNvPr id="97" name="Овал 3"/>
          <p:cNvSpPr/>
          <p:nvPr/>
        </p:nvSpPr>
        <p:spPr>
          <a:xfrm>
            <a:off x="6122520" y="4316760"/>
            <a:ext cx="2952000" cy="21315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works har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for her nation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|ˈneɪʃən|</a:t>
            </a:r>
            <a:r>
              <a:rPr b="0" lang="en-US" sz="2000" spc="-1" strike="noStrike">
                <a:solidFill>
                  <a:schemeClr val="lt1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на усердно трудится для сво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107640" y="3213000"/>
            <a:ext cx="3635640" cy="2592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ha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regular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|ˈreɡjʊlə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|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visits to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foreign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 |ˈfɒrɪn| countries .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на регулярно посещает иностранные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6156000" y="1124640"/>
            <a:ext cx="3096000" cy="2088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has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many state  duties  |ˈdjuːtɪz| -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 неё много государственных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8"/>
          <p:cNvSpPr/>
          <p:nvPr/>
        </p:nvSpPr>
        <p:spPr>
          <a:xfrm>
            <a:off x="1331640" y="1124640"/>
            <a:ext cx="3096000" cy="2088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is the Queen of Great Britain and 16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3132000" y="5301360"/>
            <a:ext cx="2880000" cy="155628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likes horse-racing and she keeps corg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Buckingham</a:t>
            </a:r>
            <a:r>
              <a:rPr b="0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 [ˈbʌkɪŋəm] </a:t>
            </a:r>
            <a:r>
              <a:rPr b="1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Palac</a:t>
            </a:r>
            <a:r>
              <a:rPr b="0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e </a:t>
            </a:r>
            <a:r>
              <a:rPr b="0" lang="en-US" sz="2800" spc="-1" strike="noStrike">
                <a:solidFill>
                  <a:srgbClr val="10243e"/>
                </a:solidFill>
                <a:latin typeface="Calibri"/>
              </a:rPr>
              <a:t>is the main royal residence [ˈrezɪdəns] in London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Ольга Сергеевна\Spotlight 5\бук дворец.jpg"/>
          <p:cNvPicPr/>
          <p:nvPr/>
        </p:nvPicPr>
        <p:blipFill>
          <a:blip r:embed="rId1"/>
          <a:stretch/>
        </p:blipFill>
        <p:spPr>
          <a:xfrm>
            <a:off x="899640" y="1772640"/>
            <a:ext cx="7452000" cy="47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0243e"/>
                </a:solidFill>
                <a:latin typeface="Calibri"/>
              </a:rPr>
              <a:t>Titles</a:t>
            </a:r>
            <a:r>
              <a:rPr b="0" lang="en-US" sz="4400" spc="-1" strike="noStrike">
                <a:solidFill>
                  <a:srgbClr val="10243e"/>
                </a:solidFill>
                <a:latin typeface="Calibri"/>
              </a:rPr>
              <a:t> [ˈtaɪtəlz] - </a:t>
            </a:r>
            <a:r>
              <a:rPr b="0" lang="ru-RU" sz="4400" spc="-1" strike="noStrike">
                <a:solidFill>
                  <a:srgbClr val="10243e"/>
                </a:solidFill>
                <a:latin typeface="Calibri"/>
              </a:rPr>
              <a:t>титу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zabeth was born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royal House of Winds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ˈwɪnzə ].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лизавета родилась в королевской династии Винзор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3"/>
          <p:cNvSpPr/>
          <p:nvPr/>
        </p:nvSpPr>
        <p:spPr>
          <a:xfrm>
            <a:off x="467640" y="3069000"/>
            <a:ext cx="2376000" cy="1656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ince [prɪns] -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3420000" y="3069000"/>
            <a:ext cx="2376000" cy="1800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incess [ˌprɪnˈses] -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н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5"/>
          <p:cNvSpPr/>
          <p:nvPr/>
        </p:nvSpPr>
        <p:spPr>
          <a:xfrm>
            <a:off x="6372360" y="3040200"/>
            <a:ext cx="2448000" cy="16848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Duke [djuːk] -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ерцог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"/>
          <p:cNvSpPr/>
          <p:nvPr/>
        </p:nvSpPr>
        <p:spPr>
          <a:xfrm>
            <a:off x="1547640" y="4898160"/>
            <a:ext cx="2348280" cy="17708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Duchess [</a:t>
            </a:r>
            <a:r>
              <a:rPr b="0" lang="en-US" sz="2400" spc="-1" strike="noStrike">
                <a:solidFill>
                  <a:schemeClr val="lt1"/>
                </a:solidFill>
                <a:latin typeface="Calibri"/>
              </a:rPr>
              <a:t>ˈ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ʌtʃəs ] -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ерц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7"/>
          <p:cNvSpPr/>
          <p:nvPr/>
        </p:nvSpPr>
        <p:spPr>
          <a:xfrm>
            <a:off x="4839480" y="4869000"/>
            <a:ext cx="2396520" cy="1800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Earl [ɜːl] -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424720" cy="13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Who is the next in the line to the </a:t>
            </a:r>
            <a:r>
              <a:rPr b="1" lang="en-US" sz="3200" spc="-1" strike="noStrike" u="sng">
                <a:solidFill>
                  <a:srgbClr val="10243e"/>
                </a:solidFill>
                <a:uFillTx/>
                <a:latin typeface="Calibri"/>
              </a:rPr>
              <a:t>throne</a:t>
            </a: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 [</a:t>
            </a:r>
            <a:r>
              <a:rPr b="0" lang="el-GR" sz="3200" spc="-1" strike="noStrike">
                <a:solidFill>
                  <a:srgbClr val="10243e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rəʊn]? – </a:t>
            </a:r>
            <a:r>
              <a:rPr b="0" lang="ru-RU" sz="3200" spc="-1" strike="noStrike">
                <a:solidFill>
                  <a:srgbClr val="10243e"/>
                </a:solidFill>
                <a:latin typeface="Calibri"/>
              </a:rPr>
              <a:t>Кто следующий в очереди на трон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7000"/>
            <a:ext cx="8229240" cy="42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Charles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first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erson 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William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second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George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third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ss Charlotte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fourth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li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en and the members of the Royal Family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Great Britain and part of British history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323640" y="1196640"/>
            <a:ext cx="2160000" cy="9140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ˈsɪmbəl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4"/>
          <p:cNvSpPr/>
          <p:nvPr/>
        </p:nvSpPr>
        <p:spPr>
          <a:xfrm>
            <a:off x="6372360" y="1139040"/>
            <a:ext cx="1944000" cy="10296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ˈkʌltʃə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единительная линия 6"/>
          <p:cNvCxnSpPr/>
          <p:nvPr/>
        </p:nvCxnSpPr>
        <p:spPr>
          <a:xfrm flipH="1">
            <a:off x="1403640" y="980640"/>
            <a:ext cx="720360" cy="5799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19" name="Прямая соединительная линия 13"/>
          <p:cNvCxnSpPr/>
          <p:nvPr/>
        </p:nvCxnSpPr>
        <p:spPr>
          <a:xfrm flipH="1" flipV="1">
            <a:off x="5738760" y="1439640"/>
            <a:ext cx="993600" cy="477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120" name="Picture 2" descr="D:\Ольга Сергеевна\Spotlight 5\imagination-the-royal-family-british-tree-and-line-of-succession-a-full-look-time.jpg"/>
          <p:cNvPicPr/>
          <p:nvPr/>
        </p:nvPicPr>
        <p:blipFill>
          <a:blip r:embed="rId1"/>
          <a:stretch/>
        </p:blipFill>
        <p:spPr>
          <a:xfrm>
            <a:off x="1150560" y="2151000"/>
            <a:ext cx="69494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  <Words>479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8T20:35:17Z</dcterms:created>
  <dc:creator>Учитель</dc:creator>
  <dc:description/>
  <dc:language>en-US</dc:language>
  <cp:lastModifiedBy>Учитель</cp:lastModifiedBy>
  <dcterms:modified xsi:type="dcterms:W3CDTF">2020-12-08T22:53:28Z</dcterms:modified>
  <cp:revision>15</cp:revision>
  <dc:subject/>
  <dc:title>The 9th of December Class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