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373-5778-4F24-B5E5-72A36735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CBA-D2A0-42DE-88DB-907FFED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E4F-3EE1-4786-830C-2531FA85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741-3C07-42B0-8341-4D36AE61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99D-67A6-4C2F-898C-56585F4C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B8BD-A80E-4A1E-A542-07A4D7F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F54-94B7-4A2B-A45A-843D6675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F86-B7F9-4BC8-BC06-7A815B4F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959E-6152-4CDB-9B00-4AF6422E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E54F-5B47-4EBC-AE6D-C56E8ADB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3317-1D50-484D-9B7E-45A9C74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753-E207-4413-B3D2-D33A8EBD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9D7C-038F-4DE3-A958-AC8E9B7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FBB4-EF0D-4CB3-8A48-87E0187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183-6DAE-419F-A921-E37A169C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B76-7B68-4493-A4B8-823213F9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BE2-8211-4154-8266-E1363821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3B7-FCF6-4657-8EE2-A0F19C4F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B63-2C2C-4D65-A31F-410DA11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07C-3DE0-4022-A811-20FC789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CD6-1B2E-4FB7-A2C8-56B09BA3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8DC-F59E-4E45-92DB-0A4AFA37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061-7DE6-490B-A8CE-3D4A7DD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608-5FDA-4F1C-9713-93DE4B1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1AE082-A446-4016-BA6E-CD37A49B5ED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B0DEA9-2CAA-4813-9A81-177126EEBCC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Dece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o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ма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British Royal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Британская королевская сем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 домашнего зад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 словосочетаний с притяжательным падежом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тара моего брата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broth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uita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ные игры моего друг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frien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puter game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креты моей сест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sist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ec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ги Тома и Дж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m and Jac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e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тира моих родителе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parent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lat/apartmen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ка женщ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a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a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ки женщ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e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g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и сл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phan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ar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ы дяди 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cle T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ustach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д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indow of the hous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ья это книга? – Учителя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ose is this book? – Teach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ты? - В аптеке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re are you? – At the chemi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 домашнего зад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3 p. 6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akira’s full name is Shakira Isabel Mebarak Ripoll. She is from Colombia, South America. Her birthday is on th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of February, 1977. She has got four brothers and four sisters. Her hobbies are painting and listening to jazz. She can speak five languages, dance and sin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10243e"/>
                </a:solidFill>
                <a:latin typeface="Calibri"/>
              </a:rPr>
              <a:t>The British Royal Family. Vocabulary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34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D:\Ольга Сергеевна\Spotlight 5\Елизавета 2.jpg"/>
          <p:cNvPicPr/>
          <p:nvPr/>
        </p:nvPicPr>
        <p:blipFill>
          <a:blip r:embed="rId1"/>
          <a:stretch/>
        </p:blipFill>
        <p:spPr>
          <a:xfrm>
            <a:off x="467640" y="1556640"/>
            <a:ext cx="6480360" cy="4752000"/>
          </a:xfrm>
          <a:prstGeom prst="rect">
            <a:avLst/>
          </a:prstGeom>
          <a:ln w="0">
            <a:noFill/>
          </a:ln>
        </p:spPr>
      </p:pic>
      <p:sp>
        <p:nvSpPr>
          <p:cNvPr id="91" name="Овал 6"/>
          <p:cNvSpPr/>
          <p:nvPr/>
        </p:nvSpPr>
        <p:spPr>
          <a:xfrm>
            <a:off x="5509440" y="1845000"/>
            <a:ext cx="3382920" cy="3384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Queen Elizabeth II is the longest ruling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monarch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in Britain.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оролева Елизавета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II – 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то монарх, который правит дольше всех в Бр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8"/>
          <p:cNvSpPr/>
          <p:nvPr/>
        </p:nvSpPr>
        <p:spPr>
          <a:xfrm>
            <a:off x="395640" y="2349000"/>
            <a:ext cx="1850040" cy="9140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orn in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27000" y="4376160"/>
            <a:ext cx="2744280" cy="1944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r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kraʊnd]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ронована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9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53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know about her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her nation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|ˈneɪʃən|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на усердно трудится для сво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Ольга Сергеевна\Spotlight 5\Елизавета вторая.jpg"/>
          <p:cNvPicPr/>
          <p:nvPr/>
        </p:nvPicPr>
        <p:blipFill>
          <a:blip r:embed="rId1"/>
          <a:stretch/>
        </p:blipFill>
        <p:spPr>
          <a:xfrm>
            <a:off x="1004040" y="1690560"/>
            <a:ext cx="7311960" cy="4978440"/>
          </a:xfrm>
          <a:prstGeom prst="rect">
            <a:avLst/>
          </a:prstGeom>
          <a:ln w="0">
            <a:noFill/>
          </a:ln>
        </p:spPr>
      </p:pic>
      <p:sp>
        <p:nvSpPr>
          <p:cNvPr id="97" name="Овал 3"/>
          <p:cNvSpPr/>
          <p:nvPr/>
        </p:nvSpPr>
        <p:spPr>
          <a:xfrm>
            <a:off x="6122520" y="4316760"/>
            <a:ext cx="2952000" cy="21315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works har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for her nation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|ˈneɪʃən|</a:t>
            </a:r>
            <a:r>
              <a:rPr b="0" lang="en-US" sz="20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на усердно трудится для 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107640" y="3213000"/>
            <a:ext cx="3635640" cy="2592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h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regular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|ˈreɡjʊlə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|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visits to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foreign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 |ˈfɒrɪn| countries .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на регулярно посещает иностранные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6156000" y="1124640"/>
            <a:ext cx="3096000" cy="2088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has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many state  duties  |ˈdjuːtɪz| -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 неё много государственных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8"/>
          <p:cNvSpPr/>
          <p:nvPr/>
        </p:nvSpPr>
        <p:spPr>
          <a:xfrm>
            <a:off x="1331640" y="1124640"/>
            <a:ext cx="3096000" cy="2088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is the Queen of Great Britain and 16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3132000" y="5301360"/>
            <a:ext cx="2880000" cy="155628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likes horse-racing and she keeps corg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Buckingham</a:t>
            </a:r>
            <a:r>
              <a:rPr b="0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 [ˈbʌkɪŋəm] </a:t>
            </a:r>
            <a:r>
              <a:rPr b="1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Palac</a:t>
            </a:r>
            <a:r>
              <a:rPr b="0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e </a:t>
            </a:r>
            <a:r>
              <a:rPr b="0" lang="en-US" sz="2800" spc="-1" strike="noStrike">
                <a:solidFill>
                  <a:srgbClr val="10243e"/>
                </a:solidFill>
                <a:latin typeface="Calibri"/>
              </a:rPr>
              <a:t>is the main royal residence [ˈrezɪdəns] in London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Ольга Сергеевна\Spotlight 5\бук дворец.jpg"/>
          <p:cNvPicPr/>
          <p:nvPr/>
        </p:nvPicPr>
        <p:blipFill>
          <a:blip r:embed="rId1"/>
          <a:stretch/>
        </p:blipFill>
        <p:spPr>
          <a:xfrm>
            <a:off x="899640" y="1772640"/>
            <a:ext cx="7452000" cy="47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0243e"/>
                </a:solidFill>
                <a:latin typeface="Calibri"/>
              </a:rPr>
              <a:t>Titles</a:t>
            </a:r>
            <a:r>
              <a:rPr b="0" lang="en-US" sz="4400" spc="-1" strike="noStrike">
                <a:solidFill>
                  <a:srgbClr val="10243e"/>
                </a:solidFill>
                <a:latin typeface="Calibri"/>
              </a:rPr>
              <a:t> [ˈtaɪtəlz] - </a:t>
            </a:r>
            <a:r>
              <a:rPr b="0" lang="ru-RU" sz="4400" spc="-1" strike="noStrike">
                <a:solidFill>
                  <a:srgbClr val="10243e"/>
                </a:solidFill>
                <a:latin typeface="Calibri"/>
              </a:rPr>
              <a:t>титу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zabeth was bor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royal House of Winds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ˈwɪnzə ].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лизавета родилась в королевской династии Винзор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"/>
          <p:cNvSpPr/>
          <p:nvPr/>
        </p:nvSpPr>
        <p:spPr>
          <a:xfrm>
            <a:off x="467640" y="3069000"/>
            <a:ext cx="2376000" cy="1656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ince [prɪns] -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3420000" y="3069000"/>
            <a:ext cx="2376000" cy="1800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incess [ˌprɪnˈses] -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н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"/>
          <p:cNvSpPr/>
          <p:nvPr/>
        </p:nvSpPr>
        <p:spPr>
          <a:xfrm>
            <a:off x="6372360" y="3040200"/>
            <a:ext cx="2448000" cy="16848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Duke [djuːk] -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ерцог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"/>
          <p:cNvSpPr/>
          <p:nvPr/>
        </p:nvSpPr>
        <p:spPr>
          <a:xfrm>
            <a:off x="1547640" y="4898160"/>
            <a:ext cx="2348280" cy="17708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Duchess [</a:t>
            </a:r>
            <a:r>
              <a:rPr b="0" lang="en-US" sz="2400" spc="-1" strike="noStrike">
                <a:solidFill>
                  <a:schemeClr val="lt1"/>
                </a:solidFill>
                <a:latin typeface="Calibri"/>
              </a:rPr>
              <a:t>ˈ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ʌtʃəs ] -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ерц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7"/>
          <p:cNvSpPr/>
          <p:nvPr/>
        </p:nvSpPr>
        <p:spPr>
          <a:xfrm>
            <a:off x="4839480" y="4869000"/>
            <a:ext cx="2396520" cy="1800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Earl [ɜːl] -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42472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Who is the next in the line to the 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throne</a:t>
            </a: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 [</a:t>
            </a:r>
            <a:r>
              <a:rPr b="0" lang="el-GR" sz="3200" spc="-1" strike="noStrike">
                <a:solidFill>
                  <a:srgbClr val="10243e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əʊn]? – </a:t>
            </a:r>
            <a:r>
              <a:rPr b="0" lang="ru-RU" sz="3200" spc="-1" strike="noStrike">
                <a:solidFill>
                  <a:srgbClr val="10243e"/>
                </a:solidFill>
                <a:latin typeface="Calibri"/>
              </a:rPr>
              <a:t>Кто следующий в очереди на трон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7000"/>
            <a:ext cx="8229240" cy="42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Charles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first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erson 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William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second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George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third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ss Charlotte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fourth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li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 and the members of the Royal Family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Great Britain and part of British history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323640" y="1196640"/>
            <a:ext cx="2160000" cy="9140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ˈsɪmbəl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"/>
          <p:cNvSpPr/>
          <p:nvPr/>
        </p:nvSpPr>
        <p:spPr>
          <a:xfrm>
            <a:off x="6372360" y="1139040"/>
            <a:ext cx="1944000" cy="10296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ˈkʌltʃə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единительная линия 6"/>
          <p:cNvCxnSpPr/>
          <p:nvPr/>
        </p:nvCxnSpPr>
        <p:spPr>
          <a:xfrm flipH="1">
            <a:off x="1403640" y="980640"/>
            <a:ext cx="720360" cy="5799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19" name="Прямая соединительная линия 13"/>
          <p:cNvCxnSpPr/>
          <p:nvPr/>
        </p:nvCxnSpPr>
        <p:spPr>
          <a:xfrm flipH="1" flipV="1">
            <a:off x="5738760" y="1439640"/>
            <a:ext cx="993600" cy="477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120" name="Picture 2" descr="D:\Ольга Сергеевна\Spotlight 5\imagination-the-royal-family-british-tree-and-line-of-succession-a-full-look-time.jpg"/>
          <p:cNvPicPr/>
          <p:nvPr/>
        </p:nvPicPr>
        <p:blipFill>
          <a:blip r:embed="rId1"/>
          <a:stretch/>
        </p:blipFill>
        <p:spPr>
          <a:xfrm>
            <a:off x="1150560" y="2151000"/>
            <a:ext cx="6949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  <Words>479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8T20:35:17Z</dcterms:created>
  <dc:creator>Учитель</dc:creator>
  <dc:description/>
  <dc:language>en-US</dc:language>
  <cp:lastModifiedBy>Учитель</cp:lastModifiedBy>
  <dcterms:modified xsi:type="dcterms:W3CDTF">2020-12-08T22:53:28Z</dcterms:modified>
  <cp:revision>15</cp:revision>
  <dc:subject/>
  <dc:title>The 9th of December Class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