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01B194-8A50-47BA-B261-32F270445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020BF7-221F-40D7-9B4D-A35643BDB5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2A059C-A8E6-4179-BF84-7807243393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A09E7B-0986-4358-9E21-C9BF53AFD8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E6E5E0-C75F-4658-A028-0B76B0B2D6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FBFDBA-5974-4509-A145-7735DA93CA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95C5F2-ABFD-4BF2-8708-3A9AE8943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C6A9E9-9603-4F57-8F1D-37F72C3ADD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3DBA3D-CBA2-4E7E-86EF-B11C291928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CB0-3F83-4429-8FBB-A212191F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55D-1964-4CF8-B3FA-F8C5D7E6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A32-022B-475D-98E5-256A6050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0C4-129C-4553-94FB-695F00E2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7F8C-649E-4C68-AE50-4B056A2B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2992-0BD8-46C8-A28D-AB26CE27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67B8-3091-4EF9-9CFA-244F40E6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FC1A-31DD-4804-826F-0540C905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14B5-A175-4078-8984-22A0F720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62520" y="1964160"/>
            <a:ext cx="7197480" cy="112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01D9-D8BC-41F1-8549-F55B34A5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D5AE-84B5-4AE4-8141-29536644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A70-EED0-40C4-87E8-39B9CA5F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41D3-71B6-4CF7-8C46-CD0D974B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C60B-EE6E-49FB-9766-AABBB19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D934-0CE3-472B-9E15-F38AC955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814D-A919-4AE1-A107-8AA69AD9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B5D0-720B-426A-8379-4B431D0B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965F6-BC97-41F7-AC08-2A9EDADC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82A3B-B9C7-4B47-B52A-83641AAB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9A7F-CCE5-4847-AAC7-E821B929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CAD0-5934-4ECE-AA94-B7742D5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35309-2D77-442A-907A-FC0B42B6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2EB-4D9D-4E2F-802D-04021A0F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62520" y="1964160"/>
            <a:ext cx="7197480" cy="112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81BF-C23B-41EE-A952-7A814B31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8CED-22FE-4E47-A88C-5967AD4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DE4F-F3CE-4867-8B61-AEBE951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78B2-69BB-445C-83D6-A7010604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14EA-7EE8-4B3B-A4ED-C624C29E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2576-6B60-401B-8D16-82D83BA8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4809-F202-4BEF-B918-CA6C2A25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14D-ED75-4BEC-8C44-E6FA919C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4A2-20E2-4485-B956-E2F1A818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2520" y="1964160"/>
            <a:ext cx="7197480" cy="112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DC2-1FC5-4332-8E84-5C30C1A8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970-74F7-4B26-A71B-0892C044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676-B1CD-4710-AB29-7A8B996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C2E-5F0D-46E2-9DCE-8D5AF429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 6" descr="Celestia-R1---OverlayTitleHD.png"/>
          <p:cNvPicPr/>
          <p:nvPr/>
        </p:nvPicPr>
        <p:blipFill>
          <a:blip r:embed="rId3"/>
          <a:stretch/>
        </p:blipFill>
        <p:spPr>
          <a:xfrm>
            <a:off x="0" y="0"/>
            <a:ext cx="12188520" cy="68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932680" y="5870520"/>
            <a:ext cx="1599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962520" y="5870520"/>
            <a:ext cx="489348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10608840" y="5870520"/>
            <a:ext cx="55080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8E19BC-F9C1-4D41-A2FB-2674D86AA37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 7" descr="Celestia-R1---OverlayContentHD.png"/>
          <p:cNvPicPr/>
          <p:nvPr/>
        </p:nvPicPr>
        <p:blipFill>
          <a:blip r:embed="rId3"/>
          <a:stretch/>
        </p:blipFill>
        <p:spPr>
          <a:xfrm>
            <a:off x="0" y="0"/>
            <a:ext cx="12188520" cy="6855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101311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142000"/>
            <a:ext cx="4995000" cy="364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821920" y="2142000"/>
            <a:ext cx="4995000" cy="364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8589600" y="5870520"/>
            <a:ext cx="1599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685800" y="5870520"/>
            <a:ext cx="782712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266120" y="5870520"/>
            <a:ext cx="55080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B6E9F5-C351-4B9B-8863-DEC73D70FE9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 6" descr="Celestia-R1---OverlayContentHD.png"/>
          <p:cNvPicPr/>
          <p:nvPr/>
        </p:nvPicPr>
        <p:blipFill>
          <a:blip r:embed="rId3"/>
          <a:stretch/>
        </p:blipFill>
        <p:spPr>
          <a:xfrm>
            <a:off x="0" y="0"/>
            <a:ext cx="12188520" cy="6855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101311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2142000"/>
            <a:ext cx="10131120" cy="364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589600" y="5870520"/>
            <a:ext cx="1599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5870520"/>
            <a:ext cx="782712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266120" y="5870520"/>
            <a:ext cx="55080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D7C799-102E-4F9B-A928-45CF4B78BB2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 4" descr="ночное небо с горами далеко на горизонте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40040" y="745200"/>
            <a:ext cx="5425200" cy="148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ffff"/>
                </a:solidFill>
                <a:latin typeface="Calibri Light"/>
              </a:rPr>
              <a:t>US</a:t>
            </a:r>
            <a:r>
              <a:rPr b="1" lang="en-US" sz="6600" spc="-1" strike="noStrike" cap="all">
                <a:solidFill>
                  <a:srgbClr val="92d050"/>
                </a:solidFill>
                <a:latin typeface="Calibri Light"/>
              </a:rPr>
              <a:t>AIR</a:t>
            </a:r>
            <a:r>
              <a:rPr b="1" lang="en-US" sz="9600" spc="-1" strike="noStrike" cap="all">
                <a:solidFill>
                  <a:srgbClr val="ffffff"/>
                </a:solidFill>
                <a:latin typeface="Calibri Light"/>
              </a:rPr>
              <a:t>B</a:t>
            </a:r>
            <a:r>
              <a:rPr b="1" lang="uk-UA" sz="9600" spc="-1" strike="noStrike" cap="all">
                <a:solidFill>
                  <a:srgbClr val="ffffff"/>
                </a:solidFill>
                <a:latin typeface="Calibri Light"/>
              </a:rPr>
              <a:t> 2.0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341480" y="2017800"/>
            <a:ext cx="452376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chemeClr val="accent1">
                    <a:lumMod val="40000"/>
                    <a:lumOff val="60000"/>
                  </a:schemeClr>
                </a:solidFill>
                <a:latin typeface="Calibri"/>
              </a:rPr>
              <a:t>Новітня технологія, яка змінить все і навіть біл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одзаголовок 2"/>
          <p:cNvSpPr/>
          <p:nvPr/>
        </p:nvSpPr>
        <p:spPr>
          <a:xfrm>
            <a:off x="7341480" y="4227480"/>
            <a:ext cx="452376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561600" y="1527840"/>
            <a:ext cx="713520" cy="54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Usb flash drive | Бесплатно значок"/>
          <p:cNvPicPr/>
          <p:nvPr/>
        </p:nvPicPr>
        <p:blipFill>
          <a:blip r:embed="rId3"/>
          <a:stretch/>
        </p:blipFill>
        <p:spPr>
          <a:xfrm>
            <a:off x="4640040" y="3021480"/>
            <a:ext cx="3393000" cy="3393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0" descr=""/>
          <p:cNvPicPr/>
          <p:nvPr/>
        </p:nvPicPr>
        <p:blipFill>
          <a:blip r:embed="rId4"/>
          <a:stretch/>
        </p:blipFill>
        <p:spPr>
          <a:xfrm>
            <a:off x="5299200" y="1826280"/>
            <a:ext cx="1310400" cy="1006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8"/>
          <p:cNvSpPr/>
          <p:nvPr/>
        </p:nvSpPr>
        <p:spPr>
          <a:xfrm>
            <a:off x="20880" y="5934600"/>
            <a:ext cx="4714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COVID EDI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75400" y="219240"/>
            <a:ext cx="67708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Calibri"/>
              </a:rPr>
              <a:t>Що вирішує?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179640" y="1764360"/>
            <a:ext cx="7464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179640" y="1764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роблему обмеженої довжини кабелю для підключення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USB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ристро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179640" y="2718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роблему обмеженої кількості роз’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ємів для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ідключення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USB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пристро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179640" y="3672720"/>
            <a:ext cx="7464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Вирішує проблему заплутаних кабелів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179640" y="419580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Вирішує проблему незручності використання 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роз’ємів в важкодоступних місця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Рисунок 3"/>
          <p:cNvSpPr/>
          <p:nvPr/>
        </p:nvSpPr>
        <p:spPr>
          <a:xfrm>
            <a:off x="8888040" y="4144320"/>
            <a:ext cx="3302640" cy="2716920"/>
          </a:xfrm>
          <a:custGeom>
            <a:avLst/>
            <a:gdLst>
              <a:gd name="textAreaLeft" fmla="*/ 0 w 3302640"/>
              <a:gd name="textAreaRight" fmla="*/ 3303000 w 3302640"/>
              <a:gd name="textAreaTop" fmla="*/ 0 h 2716920"/>
              <a:gd name="textAreaBottom" fmla="*/ 2717280 h 2716920"/>
            </a:gdLst>
            <a:ahLst/>
            <a:rect l="textAreaLeft" t="textAreaTop" r="textAreaRight" b="textAreaBottom"/>
            <a:pathLst>
              <a:path w="3039855" h="2500842">
                <a:moveTo>
                  <a:pt x="1663658" y="0"/>
                </a:moveTo>
                <a:cubicBezTo>
                  <a:pt x="2180490" y="0"/>
                  <a:pt x="2642278" y="235674"/>
                  <a:pt x="2947417" y="605417"/>
                </a:cubicBezTo>
                <a:lnTo>
                  <a:pt x="3039855" y="729032"/>
                </a:lnTo>
                <a:lnTo>
                  <a:pt x="3039855" y="2500842"/>
                </a:lnTo>
                <a:lnTo>
                  <a:pt x="226952" y="2500842"/>
                </a:lnTo>
                <a:lnTo>
                  <a:pt x="155401" y="2366679"/>
                </a:lnTo>
                <a:cubicBezTo>
                  <a:pt x="55691" y="2153127"/>
                  <a:pt x="0" y="1914896"/>
                  <a:pt x="0" y="1663658"/>
                </a:cubicBezTo>
                <a:cubicBezTo>
                  <a:pt x="0" y="744845"/>
                  <a:pt x="744845" y="0"/>
                  <a:pt x="1663658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исунок 6"/>
          <p:cNvSpPr/>
          <p:nvPr/>
        </p:nvSpPr>
        <p:spPr>
          <a:xfrm>
            <a:off x="8059320" y="0"/>
            <a:ext cx="4132440" cy="3445560"/>
          </a:xfrm>
          <a:custGeom>
            <a:avLst/>
            <a:gdLst>
              <a:gd name="textAreaLeft" fmla="*/ 0 w 4132440"/>
              <a:gd name="textAreaRight" fmla="*/ 4132800 w 4132440"/>
              <a:gd name="textAreaTop" fmla="*/ 0 h 3445560"/>
              <a:gd name="textAreaBottom" fmla="*/ 3445920 h 3445560"/>
            </a:gdLst>
            <a:ahLst/>
            <a:rect l="textAreaLeft" t="textAreaTop" r="textAreaRight" b="textAreaBottom"/>
            <a:pathLst>
              <a:path w="4638368" h="3867534">
                <a:moveTo>
                  <a:pt x="303228" y="0"/>
                </a:moveTo>
                <a:lnTo>
                  <a:pt x="4638368" y="0"/>
                </a:lnTo>
                <a:lnTo>
                  <a:pt x="4638368" y="2952747"/>
                </a:lnTo>
                <a:lnTo>
                  <a:pt x="4585825" y="3013864"/>
                </a:lnTo>
                <a:cubicBezTo>
                  <a:pt x="4103088" y="3538671"/>
                  <a:pt x="3410622" y="3867534"/>
                  <a:pt x="2641346" y="3867534"/>
                </a:cubicBezTo>
                <a:cubicBezTo>
                  <a:pt x="1182571" y="3867534"/>
                  <a:pt x="0" y="2684963"/>
                  <a:pt x="0" y="1226188"/>
                </a:cubicBezTo>
                <a:cubicBezTo>
                  <a:pt x="0" y="815907"/>
                  <a:pt x="93544" y="427475"/>
                  <a:pt x="260466" y="81056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8888040" y="2466000"/>
            <a:ext cx="3356280" cy="335628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">
            <a:solidFill>
              <a:srgbClr val="ffffff">
                <a:alpha val="50000"/>
              </a:srgbClr>
            </a:solidFill>
            <a:round/>
          </a:ln>
        </p:spPr>
        <p:style>
          <a:lnRef idx="2"/>
          <a:fillRef idx="0"/>
          <a:effectRef idx="0">
            <a:schemeClr val="accent2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179640" y="1764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Використання 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ристроїв не підключаючи їх безпосередньо до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3"/>
          <p:cNvSpPr/>
          <p:nvPr/>
        </p:nvSpPr>
        <p:spPr>
          <a:xfrm>
            <a:off x="179640" y="276264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Використання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необмеженої кількості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ристроїв одноча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179640" y="376488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Використання 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ристроїв на відстані до 100 метрів без кабел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179640" y="4767120"/>
            <a:ext cx="7464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Продовження строку д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ії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ортів П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6"/>
          <p:cNvSpPr/>
          <p:nvPr/>
        </p:nvSpPr>
        <p:spPr>
          <a:xfrm>
            <a:off x="210600" y="242280"/>
            <a:ext cx="7003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Calibri"/>
              </a:rPr>
              <a:t>Які переваги?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https://pngimg.com/uploads/usb/usb_PNG8886.png"/>
          <p:cNvPicPr/>
          <p:nvPr/>
        </p:nvPicPr>
        <p:blipFill>
          <a:blip r:embed="rId1"/>
          <a:stretch/>
        </p:blipFill>
        <p:spPr>
          <a:xfrm>
            <a:off x="0" y="0"/>
            <a:ext cx="2595240" cy="19850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7"/>
          <p:cNvSpPr/>
          <p:nvPr/>
        </p:nvSpPr>
        <p:spPr>
          <a:xfrm>
            <a:off x="2241720" y="531000"/>
            <a:ext cx="7619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2.0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Що нового? 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558360" y="2169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Втілення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USB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3.0 - 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4,8 Гбіт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3"/>
          <p:cNvSpPr/>
          <p:nvPr/>
        </p:nvSpPr>
        <p:spPr>
          <a:xfrm>
            <a:off x="558360" y="2614680"/>
            <a:ext cx="746496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Втілення стандарту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– Wi-Fi a/c 5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ГГц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– 1+ Гбіт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Можливість підключення зовнішньої відеокарти по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U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Віддалена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Bluetooth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точка доступу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ауді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Ethernet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та 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SIM –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о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ідтримка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кругленный прямоугольник 17"/>
          <p:cNvSpPr/>
          <p:nvPr/>
        </p:nvSpPr>
        <p:spPr>
          <a:xfrm>
            <a:off x="7722360" y="2832120"/>
            <a:ext cx="2626560" cy="342864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</a:schemeClr>
          </a:solidFill>
          <a:ln cap="rnd">
            <a:solidFill>
              <a:srgbClr val="ab335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270360" y="0"/>
            <a:ext cx="6225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Як працює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Иконка компьютер - Png картинки и иконки без фона"/>
          <p:cNvPicPr/>
          <p:nvPr/>
        </p:nvPicPr>
        <p:blipFill>
          <a:blip r:embed="rId1"/>
          <a:stretch/>
        </p:blipFill>
        <p:spPr>
          <a:xfrm>
            <a:off x="325440" y="1972440"/>
            <a:ext cx="3187080" cy="3187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2"/>
          <a:stretch/>
        </p:blipFill>
        <p:spPr>
          <a:xfrm>
            <a:off x="3686040" y="2139120"/>
            <a:ext cx="2435760" cy="2435760"/>
          </a:xfrm>
          <a:prstGeom prst="rect">
            <a:avLst/>
          </a:prstGeom>
          <a:ln w="0">
            <a:noFill/>
          </a:ln>
        </p:spPr>
      </p:pic>
      <p:cxnSp>
        <p:nvCxnSpPr>
          <p:cNvPr id="163" name="Прямая соединительная линия 12"/>
          <p:cNvCxnSpPr/>
          <p:nvPr/>
        </p:nvCxnSpPr>
        <p:spPr>
          <a:xfrm flipH="1">
            <a:off x="1847520" y="2178720"/>
            <a:ext cx="497880" cy="346320"/>
          </a:xfrm>
          <a:prstGeom prst="straightConnector1">
            <a:avLst/>
          </a:prstGeom>
          <a:ln cap="rnd" w="76200">
            <a:solidFill>
              <a:srgbClr val="ff0000"/>
            </a:solidFill>
            <a:round/>
          </a:ln>
        </p:spPr>
      </p:cxnSp>
      <p:cxnSp>
        <p:nvCxnSpPr>
          <p:cNvPr id="164" name="Прямая соединительная линия 18"/>
          <p:cNvCxnSpPr/>
          <p:nvPr/>
        </p:nvCxnSpPr>
        <p:spPr>
          <a:xfrm flipH="1" flipV="1">
            <a:off x="3024360" y="2028960"/>
            <a:ext cx="834840" cy="593640"/>
          </a:xfrm>
          <a:prstGeom prst="straightConnector1">
            <a:avLst/>
          </a:prstGeom>
          <a:ln cap="rnd" w="76200">
            <a:solidFill>
              <a:srgbClr val="ff0000"/>
            </a:solidFill>
            <a:round/>
          </a:ln>
        </p:spPr>
      </p:cxnSp>
      <p:pic>
        <p:nvPicPr>
          <p:cNvPr id="165" name="Picture 8" descr="Usb port png 5 » PNG Image"/>
          <p:cNvPicPr/>
          <p:nvPr/>
        </p:nvPicPr>
        <p:blipFill>
          <a:blip r:embed="rId3"/>
          <a:stretch/>
        </p:blipFill>
        <p:spPr>
          <a:xfrm>
            <a:off x="8597880" y="52534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Usb port png 5 » PNG Image"/>
          <p:cNvPicPr/>
          <p:nvPr/>
        </p:nvPicPr>
        <p:blipFill>
          <a:blip r:embed="rId4"/>
          <a:stretch/>
        </p:blipFill>
        <p:spPr>
          <a:xfrm>
            <a:off x="7722360" y="52534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Usb port png 5 » PNG Image"/>
          <p:cNvPicPr/>
          <p:nvPr/>
        </p:nvPicPr>
        <p:blipFill>
          <a:blip r:embed="rId5"/>
          <a:stretch/>
        </p:blipFill>
        <p:spPr>
          <a:xfrm>
            <a:off x="8597880" y="47872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Usb port png 5 » PNG Image"/>
          <p:cNvPicPr/>
          <p:nvPr/>
        </p:nvPicPr>
        <p:blipFill>
          <a:blip r:embed="rId6"/>
          <a:stretch/>
        </p:blipFill>
        <p:spPr>
          <a:xfrm>
            <a:off x="7722360" y="47872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Usb port png 5 » PNG Image"/>
          <p:cNvPicPr/>
          <p:nvPr/>
        </p:nvPicPr>
        <p:blipFill>
          <a:blip r:embed="rId7"/>
          <a:stretch/>
        </p:blipFill>
        <p:spPr>
          <a:xfrm>
            <a:off x="8597880" y="43214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Usb port png 5 » PNG Image"/>
          <p:cNvPicPr/>
          <p:nvPr/>
        </p:nvPicPr>
        <p:blipFill>
          <a:blip r:embed="rId8"/>
          <a:stretch/>
        </p:blipFill>
        <p:spPr>
          <a:xfrm>
            <a:off x="7722360" y="43214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Usb port png 5 » PNG Image"/>
          <p:cNvPicPr/>
          <p:nvPr/>
        </p:nvPicPr>
        <p:blipFill>
          <a:blip r:embed="rId9"/>
          <a:stretch/>
        </p:blipFill>
        <p:spPr>
          <a:xfrm>
            <a:off x="8597880" y="38552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Usb port png 5 » PNG Image"/>
          <p:cNvPicPr/>
          <p:nvPr/>
        </p:nvPicPr>
        <p:blipFill>
          <a:blip r:embed="rId10"/>
          <a:stretch/>
        </p:blipFill>
        <p:spPr>
          <a:xfrm>
            <a:off x="7722360" y="38552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Usb port png 5 » PNG Image"/>
          <p:cNvPicPr/>
          <p:nvPr/>
        </p:nvPicPr>
        <p:blipFill>
          <a:blip r:embed="rId11"/>
          <a:stretch/>
        </p:blipFill>
        <p:spPr>
          <a:xfrm>
            <a:off x="8597880" y="34318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Usb port png 5 » PNG Image"/>
          <p:cNvPicPr/>
          <p:nvPr/>
        </p:nvPicPr>
        <p:blipFill>
          <a:blip r:embed="rId12"/>
          <a:stretch/>
        </p:blipFill>
        <p:spPr>
          <a:xfrm>
            <a:off x="7722360" y="34318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Usb port png 5 » PNG Image"/>
          <p:cNvPicPr/>
          <p:nvPr/>
        </p:nvPicPr>
        <p:blipFill>
          <a:blip r:embed="rId13"/>
          <a:stretch/>
        </p:blipFill>
        <p:spPr>
          <a:xfrm>
            <a:off x="8597880" y="30038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Usb port png 5 » PNG Image"/>
          <p:cNvPicPr/>
          <p:nvPr/>
        </p:nvPicPr>
        <p:blipFill>
          <a:blip r:embed="rId14"/>
          <a:stretch/>
        </p:blipFill>
        <p:spPr>
          <a:xfrm>
            <a:off x="7722360" y="30038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Usb port png 5 » PNG Image"/>
          <p:cNvPicPr/>
          <p:nvPr/>
        </p:nvPicPr>
        <p:blipFill>
          <a:blip r:embed="rId15"/>
          <a:stretch/>
        </p:blipFill>
        <p:spPr>
          <a:xfrm>
            <a:off x="8597880" y="259920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Usb port png 5 » PNG Image"/>
          <p:cNvPicPr/>
          <p:nvPr/>
        </p:nvPicPr>
        <p:blipFill>
          <a:blip r:embed="rId16"/>
          <a:stretch/>
        </p:blipFill>
        <p:spPr>
          <a:xfrm>
            <a:off x="7722360" y="2599200"/>
            <a:ext cx="1751040" cy="1236600"/>
          </a:xfrm>
          <a:prstGeom prst="rect">
            <a:avLst/>
          </a:prstGeom>
          <a:ln w="0">
            <a:noFill/>
          </a:ln>
        </p:spPr>
      </p:pic>
      <p:cxnSp>
        <p:nvCxnSpPr>
          <p:cNvPr id="179" name="Прямая соединительная линия 40"/>
          <p:cNvCxnSpPr/>
          <p:nvPr/>
        </p:nvCxnSpPr>
        <p:spPr>
          <a:xfrm flipH="1" flipV="1">
            <a:off x="6165720" y="3621960"/>
            <a:ext cx="1378440" cy="233640"/>
          </a:xfrm>
          <a:prstGeom prst="straightConnector1">
            <a:avLst/>
          </a:prstGeom>
          <a:ln cap="rnd" w="76200">
            <a:solidFill>
              <a:srgbClr val="ff0000"/>
            </a:solidFill>
            <a:round/>
          </a:ln>
        </p:spPr>
      </p:cxnSp>
      <p:sp>
        <p:nvSpPr>
          <p:cNvPr id="180" name="Прямоугольник 21"/>
          <p:cNvSpPr/>
          <p:nvPr/>
        </p:nvSpPr>
        <p:spPr>
          <a:xfrm>
            <a:off x="325440" y="4883040"/>
            <a:ext cx="6596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1.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2. Прийм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3. Головний пристрі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	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(Передава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5"/>
          <p:cNvSpPr/>
          <p:nvPr/>
        </p:nvSpPr>
        <p:spPr>
          <a:xfrm>
            <a:off x="154080" y="1656720"/>
            <a:ext cx="531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6"/>
          <p:cNvSpPr/>
          <p:nvPr/>
        </p:nvSpPr>
        <p:spPr>
          <a:xfrm>
            <a:off x="2866320" y="1053720"/>
            <a:ext cx="531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7"/>
          <p:cNvSpPr/>
          <p:nvPr/>
        </p:nvSpPr>
        <p:spPr>
          <a:xfrm>
            <a:off x="7099200" y="5045760"/>
            <a:ext cx="531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39" descr=""/>
          <p:cNvPicPr/>
          <p:nvPr/>
        </p:nvPicPr>
        <p:blipFill>
          <a:blip r:embed="rId17"/>
          <a:stretch/>
        </p:blipFill>
        <p:spPr>
          <a:xfrm>
            <a:off x="9296280" y="1665720"/>
            <a:ext cx="914040" cy="9140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1" descr=""/>
          <p:cNvPicPr/>
          <p:nvPr/>
        </p:nvPicPr>
        <p:blipFill>
          <a:blip r:embed="rId18"/>
          <a:stretch/>
        </p:blipFill>
        <p:spPr>
          <a:xfrm rot="13835400">
            <a:off x="2347200" y="1657440"/>
            <a:ext cx="576720" cy="5767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2" descr=""/>
          <p:cNvPicPr/>
          <p:nvPr/>
        </p:nvPicPr>
        <p:blipFill>
          <a:blip r:embed="rId19"/>
          <a:stretch/>
        </p:blipFill>
        <p:spPr>
          <a:xfrm>
            <a:off x="10502640" y="4084920"/>
            <a:ext cx="1327320" cy="13273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3" descr=""/>
          <p:cNvPicPr/>
          <p:nvPr/>
        </p:nvPicPr>
        <p:blipFill>
          <a:blip r:embed="rId20"/>
          <a:stretch/>
        </p:blipFill>
        <p:spPr>
          <a:xfrm>
            <a:off x="10619640" y="2826360"/>
            <a:ext cx="1210320" cy="12103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8" descr=""/>
          <p:cNvPicPr/>
          <p:nvPr/>
        </p:nvPicPr>
        <p:blipFill>
          <a:blip r:embed="rId21"/>
          <a:stretch/>
        </p:blipFill>
        <p:spPr>
          <a:xfrm>
            <a:off x="7981560" y="139392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0" descr=""/>
          <p:cNvPicPr/>
          <p:nvPr/>
        </p:nvPicPr>
        <p:blipFill>
          <a:blip r:embed="rId22"/>
          <a:stretch/>
        </p:blipFill>
        <p:spPr>
          <a:xfrm>
            <a:off x="10438560" y="4915080"/>
            <a:ext cx="1341360" cy="13413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2" descr=""/>
          <p:cNvPicPr/>
          <p:nvPr/>
        </p:nvPicPr>
        <p:blipFill>
          <a:blip r:embed="rId23"/>
          <a:stretch/>
        </p:blipFill>
        <p:spPr>
          <a:xfrm>
            <a:off x="10502640" y="1539720"/>
            <a:ext cx="11876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387720" y="219240"/>
            <a:ext cx="5841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Для кого?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362160" y="2665800"/>
            <a:ext cx="99309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</a:t>
            </a:r>
            <a:r>
              <a:rPr b="1" lang="uk-UA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можна використовувати в будь-якому місці,  де є можливість підключення пристроїв з 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інтерфей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286560" y="219240"/>
            <a:ext cx="6984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Calibri"/>
              </a:rPr>
              <a:t>Конкуренція?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362160" y="2665800"/>
            <a:ext cx="99309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</a:t>
            </a:r>
            <a:r>
              <a:rPr b="1" lang="uk-UA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На даний момент в продажу немає жодної пропозиції яка працює за тим же принципом, що і 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06640" y="219240"/>
            <a:ext cx="7770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Скільки коштує?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70640" y="2410200"/>
            <a:ext cx="99309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За нашими підрахунками, вартість виготовлення USairB становиме приблизно 30-50 доларів за одиницю това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 4" descr="светлые пятна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62520" y="257400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uk-UA" sz="4800" spc="-1" strike="noStrike" cap="all">
                <a:solidFill>
                  <a:srgbClr val="ffffff"/>
                </a:solidFill>
                <a:latin typeface="Calibri Light"/>
              </a:rPr>
              <a:t>Дякую за увагу</a:t>
            </a:r>
            <a:r>
              <a:rPr b="0" lang="ru-RU" sz="4800" spc="-1" strike="noStrike" cap="all">
                <a:solidFill>
                  <a:srgbClr val="ffffff"/>
                </a:solidFill>
                <a:latin typeface="Calibri Light"/>
              </a:rPr>
              <a:t>!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962520" y="4995360"/>
            <a:ext cx="719748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800" spc="-1" strike="noStrike" cap="all">
                <a:solidFill>
                  <a:schemeClr val="accent1">
                    <a:lumMod val="40000"/>
                    <a:lumOff val="60000"/>
                  </a:schemeClr>
                </a:solidFill>
                <a:latin typeface="Calibri"/>
              </a:rPr>
              <a:t>Tech.admin@ukr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534240" y="1691640"/>
            <a:ext cx="85888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Майбутнє за нами!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396360" y="4307040"/>
            <a:ext cx="6095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ідготув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тудент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го курсу 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 гру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Європейський університ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лій Тар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улик Дмит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иповик І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ебеса">
  <a:themeElements>
    <a:clrScheme name="Celestial">
      <a:dk1>
        <a:srgbClr val="000000"/>
      </a:dk1>
      <a:lt1>
        <a:srgbClr val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ебеса">
  <a:themeElements>
    <a:clrScheme name="Celestial">
      <a:dk1>
        <a:srgbClr val="000000"/>
      </a:dk1>
      <a:lt1>
        <a:srgbClr val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ебеса">
  <a:themeElements>
    <a:clrScheme name="Celestial">
      <a:dk1>
        <a:srgbClr val="000000"/>
      </a:dk1>
      <a:lt1>
        <a:srgbClr val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9F111ED35F8CC479449609E8A0923A6" ma:contentTypeVersion="11" ma:contentTypeDescription="Create a new document." ma:contentTypeScope="" ma:versionID="1c2eb7a32e66fb6e4260f3771546a5e2">
  <xsd:schema xmlns:xsd="http://www.w3.org/2001/XMLSchema" xmlns:xs="http://www.w3.org/2001/XMLSchema" xmlns:p="http://schemas.microsoft.com/office/2006/metadata/properties" xmlns:ns2="71af3243-3dd4-4a8d-8c0d-dd76da1f02a5" xmlns:ns3="16c05727-aa75-4e4a-9b5f-8a80a1165891" targetNamespace="http://schemas.microsoft.com/office/2006/metadata/properties" ma:root="true" ma:fieldsID="04e1f6479c48b08974ba73b5ca973489" ns2:_="" ns3:_="">
    <xsd:import namespace="71af3243-3dd4-4a8d-8c0d-dd76da1f02a5"/>
    <xsd:import namespace="16c05727-aa75-4e4a-9b5f-8a80a1165891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OCR" minOccurs="0"/>
                <xsd:element ref="ns2:MediaServiceAutoTags" minOccurs="0"/>
                <xsd:element ref="ns2:MediaServiceEventHashCode" minOccurs="0"/>
                <xsd:element ref="ns2:MediaServiceGenerationTime" minOccurs="0"/>
                <xsd:element ref="ns3:SharedWithUsers" minOccurs="0"/>
                <xsd:element ref="ns3:SharedWithDetails" minOccurs="0"/>
                <xsd:element ref="ns2:MediaServiceAutoKeyPoints" minOccurs="0"/>
                <xsd:element ref="ns2:MediaServiceKeyPoints" minOccurs="0"/>
                <xsd:element ref="ns2:MediaServiceDateTake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71af3243-3dd4-4a8d-8c0d-dd76da1f02a5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OCR" ma:index="10" nillable="true" ma:displayName="MediaServiceOCR" ma:internalName="MediaServiceOCR" ma:readOnly="true">
      <xsd:simpleType>
        <xsd:restriction base="dms:Note">
          <xsd:maxLength value="255"/>
        </xsd:restriction>
      </xsd:simpleType>
    </xsd:element>
    <xsd:element name="MediaServiceAutoTags" ma:index="11" nillable="true" ma:displayName="MediaServiceAutoTags" ma:internalName="MediaServiceAutoTags" ma:readOnly="true">
      <xsd:simpleType>
        <xsd:restriction base="dms:Text"/>
      </xsd:simpleType>
    </xsd:element>
    <xsd:element name="MediaServiceEventHashCode" ma:index="12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GenerationTime" ma:index="13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AutoKeyPoints" ma:index="16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7" nillable="true" ma:displayName="KeyPoints" ma:internalName="MediaServiceKeyPoints" ma:readOnly="false">
      <xsd:simpleType>
        <xsd:restriction base="dms:Note">
          <xsd:maxLength value="255"/>
        </xsd:restriction>
      </xsd:simpleType>
    </xsd:element>
    <xsd:element name="MediaServiceDateTaken" ma:index="18" nillable="true" ma:displayName="MediaServiceDateTaken" ma:hidden="true" ma:internalName="MediaServiceDateTaken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6c05727-aa75-4e4a-9b5f-8a80a1165891" elementFormDefault="qualified">
    <xsd:import namespace="http://schemas.microsoft.com/office/2006/documentManagement/types"/>
    <xsd:import namespace="http://schemas.microsoft.com/office/infopath/2007/PartnerControls"/>
    <xsd:element name="SharedWithUsers" ma:index="14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5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MediaServiceKeyPoints xmlns="71af3243-3dd4-4a8d-8c0d-dd76da1f02a5" xsi:nil="true"/>
  </documentManagement>
</p:properties>
</file>

<file path=customXml/itemProps1.xml><?xml version="1.0" encoding="utf-8"?>
<ds:datastoreItem xmlns:ds="http://schemas.openxmlformats.org/officeDocument/2006/customXml" ds:itemID="{9310845B-7F19-4A9A-BEE4-BEF0501E1A5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71af3243-3dd4-4a8d-8c0d-dd76da1f02a5"/>
    <ds:schemaRef ds:uri="16c05727-aa75-4e4a-9b5f-8a80a1165891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E0F1DF1E-36E3-406C-8CF7-DB13BB647087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B85274BF-C111-4B7A-8D90-F7666D37C131}">
  <ds:schemaRefs>
    <ds:schemaRef ds:uri="http://schemas.microsoft.com/office/2006/documentManagement/types"/>
    <ds:schemaRef ds:uri="http://purl.org/dc/terms/"/>
    <ds:schemaRef ds:uri="http://purl.org/dc/dcmitype/"/>
    <ds:schemaRef ds:uri="http://www.w3.org/XML/1998/namespace"/>
    <ds:schemaRef ds:uri="http://schemas.microsoft.com/office/infopath/2007/PartnerControls"/>
    <ds:schemaRef ds:uri="http://schemas.openxmlformats.org/package/2006/metadata/core-properties"/>
    <ds:schemaRef ds:uri="16c05727-aa75-4e4a-9b5f-8a80a1165891"/>
    <ds:schemaRef ds:uri="71af3243-3dd4-4a8d-8c0d-dd76da1f02a5"/>
    <ds:schemaRef ds:uri="http://schemas.microsoft.com/office/2006/metadata/properties"/>
    <ds:schemaRef ds:uri="http://purl.org/dc/elements/1.1/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Будущее в небесном оформлении</Template>
  <TotalTime>0</TotalTime>
  <Application>LibreOffice/7.4.7.2$Linux_X86_64 LibreOffice_project/40$Build-2</Application>
  <AppVersion>15.0000</AppVersion>
  <Words>257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4T16:42:39Z</dcterms:created>
  <dc:creator/>
  <dc:description/>
  <dc:language>en-US</dc:language>
  <cp:lastModifiedBy/>
  <dcterms:modified xsi:type="dcterms:W3CDTF">2020-12-08T23:08:1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9F111ED35F8CC479449609E8A0923A6</vt:lpwstr>
  </property>
  <property fmtid="{D5CDD505-2E9C-101B-9397-08002B2CF9AE}" pid="3" name="Notes">
    <vt:r8>8</vt:r8>
  </property>
  <property fmtid="{D5CDD505-2E9C-101B-9397-08002B2CF9AE}" pid="4" name="PresentationFormat">
    <vt:lpwstr>Широкоэкранный</vt:lpwstr>
  </property>
  <property fmtid="{D5CDD505-2E9C-101B-9397-08002B2CF9AE}" pid="5" name="Slides">
    <vt:r8>9</vt:r8>
  </property>
</Properties>
</file>