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E6DD68-0179-4871-8A36-044AE5EF8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192846-5E9E-4172-A497-248A9F2A5C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7B461C-9153-44DF-B5E4-E404D26AD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95AD7D-719A-4C93-8519-F625F70F83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E631A3-0240-4CDB-B7C8-0B17B8C177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31EDF9-4D59-4D1F-9E1C-812984B0B6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B1DCDA-69B8-443D-A503-F7C87AF7E8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FFC2AB-D7EF-4DC8-A485-EB3217EB1B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BFF681-CB35-4C06-8A10-AE82260B06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E68-9213-4D11-BEFE-87A62C25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1FA-96C9-45AA-A1EA-F58AE0AB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CA7-C9CB-4ACA-AF44-7CB86706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AFC-1D7C-46ED-9E02-C1EB0B90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1B32-EEF2-4727-964D-8538DF61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87CD-9C2B-4DDD-B8DF-BCC25501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A845-5D53-437D-8DD3-6AEC45B9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7356-DBA7-4260-9052-C91E27E3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DB58-BEBB-4100-B72D-EBB6BEEE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62520" y="1964160"/>
            <a:ext cx="7197480" cy="112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42E5-7DF1-421A-94A1-1F2E79B0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E878-901F-4F70-8DEC-28182AE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199-13B0-46F9-8433-6BBF904D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174E-5CC7-416E-B3F9-9A20DBB6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2673-5C55-4D76-968A-300A447A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B799-9B2F-42F3-8666-9DC1FF0D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60C2-C302-4C95-847C-61E5C2F7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29E7-8CBB-4811-B19C-B661C72E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1983-30FA-46FA-863E-4F89DDFD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CC552-CB71-438C-8976-0ADD1B8A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E2787-3BAA-4465-8A7A-D7CF3DCE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1A49F-2A63-40C8-8D47-D5E422CD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C818-0938-43C3-BDC4-F58BB999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4B9-17FB-43CC-B055-E125C252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62520" y="1964160"/>
            <a:ext cx="7197480" cy="112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E36A-3CC6-455F-8C96-7268226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1A46-AC34-4CB4-B5CD-EB76661E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6548-8A1F-4A49-A10D-7AE2F4A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A55F-43A6-4B0C-86A0-27DD965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BD03-7A9A-4FD0-BF44-D508226D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E5A0-6B16-4189-B727-CF2A90D6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D03C8-5782-489B-97AD-A9614F39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8F7-D326-4D76-B43A-427146C0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9C6-09C0-4AAE-ACA4-DB1591E7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2520" y="1964160"/>
            <a:ext cx="7197480" cy="112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F2D-B66A-41C9-B58B-662C7E07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CE3-3154-4BBB-A734-C168C7A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695-9942-42D2-A949-228CA060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66E-5B9F-44A0-83E2-F150BB0E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 6" descr="Celestia-R1---OverlayTitleHD.png"/>
          <p:cNvPicPr/>
          <p:nvPr/>
        </p:nvPicPr>
        <p:blipFill>
          <a:blip r:embed="rId3"/>
          <a:stretch/>
        </p:blipFill>
        <p:spPr>
          <a:xfrm>
            <a:off x="0" y="0"/>
            <a:ext cx="12188520" cy="685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62520" y="196416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932680" y="5870520"/>
            <a:ext cx="1599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962520" y="5870520"/>
            <a:ext cx="489348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10608840" y="5870520"/>
            <a:ext cx="55080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88B55A-9E6A-49C5-BB7A-C041E7F5316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 7" descr="Celestia-R1---OverlayContentHD.png"/>
          <p:cNvPicPr/>
          <p:nvPr/>
        </p:nvPicPr>
        <p:blipFill>
          <a:blip r:embed="rId3"/>
          <a:stretch/>
        </p:blipFill>
        <p:spPr>
          <a:xfrm>
            <a:off x="0" y="0"/>
            <a:ext cx="12188520" cy="6855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101311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142000"/>
            <a:ext cx="4995000" cy="364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5821920" y="2142000"/>
            <a:ext cx="4995000" cy="364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8589600" y="5870520"/>
            <a:ext cx="1599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685800" y="5870520"/>
            <a:ext cx="782712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10266120" y="5870520"/>
            <a:ext cx="55080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C67B04-6655-4C4F-A71E-6D399205427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 6" descr="Celestia-R1---OverlayContentHD.png"/>
          <p:cNvPicPr/>
          <p:nvPr/>
        </p:nvPicPr>
        <p:blipFill>
          <a:blip r:embed="rId3"/>
          <a:stretch/>
        </p:blipFill>
        <p:spPr>
          <a:xfrm>
            <a:off x="0" y="0"/>
            <a:ext cx="12188520" cy="6855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101311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2142000"/>
            <a:ext cx="10131120" cy="364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  <a:p>
            <a:pPr lvl="3" marL="15429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  <a:p>
            <a:pPr lvl="4" marL="2000160" indent="-17136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589600" y="5870520"/>
            <a:ext cx="159984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85800" y="5870520"/>
            <a:ext cx="782712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266120" y="5870520"/>
            <a:ext cx="550800" cy="3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E217C1-87C9-4624-B98D-6B2360AA865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 4" descr="ночное небо с горами далеко на горизонте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40040" y="745200"/>
            <a:ext cx="5425200" cy="148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9600" spc="-1" strike="noStrike" cap="all">
                <a:solidFill>
                  <a:srgbClr val="ffffff"/>
                </a:solidFill>
                <a:latin typeface="Calibri Light"/>
              </a:rPr>
              <a:t>US</a:t>
            </a:r>
            <a:r>
              <a:rPr b="1" lang="en-US" sz="6600" spc="-1" strike="noStrike" cap="all">
                <a:solidFill>
                  <a:srgbClr val="92d050"/>
                </a:solidFill>
                <a:latin typeface="Calibri Light"/>
              </a:rPr>
              <a:t>AIR</a:t>
            </a:r>
            <a:r>
              <a:rPr b="1" lang="en-US" sz="9600" spc="-1" strike="noStrike" cap="all">
                <a:solidFill>
                  <a:srgbClr val="ffffff"/>
                </a:solidFill>
                <a:latin typeface="Calibri Light"/>
              </a:rPr>
              <a:t>B</a:t>
            </a:r>
            <a:r>
              <a:rPr b="1" lang="uk-UA" sz="9600" spc="-1" strike="noStrike" cap="all">
                <a:solidFill>
                  <a:srgbClr val="ffffff"/>
                </a:solidFill>
                <a:latin typeface="Calibri Light"/>
              </a:rPr>
              <a:t> 2.0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341480" y="2017800"/>
            <a:ext cx="452376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chemeClr val="accent1">
                    <a:lumMod val="40000"/>
                    <a:lumOff val="60000"/>
                  </a:schemeClr>
                </a:solidFill>
                <a:latin typeface="Calibri"/>
              </a:rPr>
              <a:t>Новітня технологія, яка змінить все і навіть біл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одзаголовок 2"/>
          <p:cNvSpPr/>
          <p:nvPr/>
        </p:nvSpPr>
        <p:spPr>
          <a:xfrm>
            <a:off x="7341480" y="4227480"/>
            <a:ext cx="452376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"/>
          <p:cNvPicPr/>
          <p:nvPr/>
        </p:nvPicPr>
        <p:blipFill>
          <a:blip r:embed="rId2"/>
          <a:stretch/>
        </p:blipFill>
        <p:spPr>
          <a:xfrm>
            <a:off x="561600" y="1527840"/>
            <a:ext cx="713520" cy="54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Usb flash drive | Бесплатно значок"/>
          <p:cNvPicPr/>
          <p:nvPr/>
        </p:nvPicPr>
        <p:blipFill>
          <a:blip r:embed="rId3"/>
          <a:stretch/>
        </p:blipFill>
        <p:spPr>
          <a:xfrm>
            <a:off x="4640040" y="3021480"/>
            <a:ext cx="3393000" cy="3393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0" descr=""/>
          <p:cNvPicPr/>
          <p:nvPr/>
        </p:nvPicPr>
        <p:blipFill>
          <a:blip r:embed="rId4"/>
          <a:stretch/>
        </p:blipFill>
        <p:spPr>
          <a:xfrm>
            <a:off x="5299200" y="1826280"/>
            <a:ext cx="1310400" cy="1006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8"/>
          <p:cNvSpPr/>
          <p:nvPr/>
        </p:nvSpPr>
        <p:spPr>
          <a:xfrm>
            <a:off x="20880" y="5934600"/>
            <a:ext cx="4714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COVID EDI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75400" y="219240"/>
            <a:ext cx="67708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Calibri"/>
              </a:rPr>
              <a:t>Що вирішує?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179640" y="1764360"/>
            <a:ext cx="7464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179640" y="1764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роблему обмеженої довжини кабелю для підключення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USB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ристро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179640" y="2718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роблему обмеженої кількості роз’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ємів для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ідключення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USB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пристрої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179640" y="3672720"/>
            <a:ext cx="7464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Вирішує проблему заплутаних кабелів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179640" y="419580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Вирішує проблему незручності використання 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роз’ємів в важкодоступних місця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Рисунок 3"/>
          <p:cNvSpPr/>
          <p:nvPr/>
        </p:nvSpPr>
        <p:spPr>
          <a:xfrm>
            <a:off x="8888040" y="4144320"/>
            <a:ext cx="3302640" cy="2716920"/>
          </a:xfrm>
          <a:custGeom>
            <a:avLst/>
            <a:gdLst>
              <a:gd name="textAreaLeft" fmla="*/ 0 w 3302640"/>
              <a:gd name="textAreaRight" fmla="*/ 3303000 w 3302640"/>
              <a:gd name="textAreaTop" fmla="*/ 0 h 2716920"/>
              <a:gd name="textAreaBottom" fmla="*/ 2717280 h 2716920"/>
            </a:gdLst>
            <a:ahLst/>
            <a:rect l="textAreaLeft" t="textAreaTop" r="textAreaRight" b="textAreaBottom"/>
            <a:pathLst>
              <a:path w="3039855" h="2500842">
                <a:moveTo>
                  <a:pt x="1663658" y="0"/>
                </a:moveTo>
                <a:cubicBezTo>
                  <a:pt x="2180490" y="0"/>
                  <a:pt x="2642278" y="235674"/>
                  <a:pt x="2947417" y="605417"/>
                </a:cubicBezTo>
                <a:lnTo>
                  <a:pt x="3039855" y="729032"/>
                </a:lnTo>
                <a:lnTo>
                  <a:pt x="3039855" y="2500842"/>
                </a:lnTo>
                <a:lnTo>
                  <a:pt x="226952" y="2500842"/>
                </a:lnTo>
                <a:lnTo>
                  <a:pt x="155401" y="2366679"/>
                </a:lnTo>
                <a:cubicBezTo>
                  <a:pt x="55691" y="2153127"/>
                  <a:pt x="0" y="1914896"/>
                  <a:pt x="0" y="1663658"/>
                </a:cubicBezTo>
                <a:cubicBezTo>
                  <a:pt x="0" y="744845"/>
                  <a:pt x="744845" y="0"/>
                  <a:pt x="1663658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исунок 6"/>
          <p:cNvSpPr/>
          <p:nvPr/>
        </p:nvSpPr>
        <p:spPr>
          <a:xfrm>
            <a:off x="8059320" y="0"/>
            <a:ext cx="4132440" cy="3445560"/>
          </a:xfrm>
          <a:custGeom>
            <a:avLst/>
            <a:gdLst>
              <a:gd name="textAreaLeft" fmla="*/ 0 w 4132440"/>
              <a:gd name="textAreaRight" fmla="*/ 4132800 w 4132440"/>
              <a:gd name="textAreaTop" fmla="*/ 0 h 3445560"/>
              <a:gd name="textAreaBottom" fmla="*/ 3445920 h 3445560"/>
            </a:gdLst>
            <a:ahLst/>
            <a:rect l="textAreaLeft" t="textAreaTop" r="textAreaRight" b="textAreaBottom"/>
            <a:pathLst>
              <a:path w="4638368" h="3867534">
                <a:moveTo>
                  <a:pt x="303228" y="0"/>
                </a:moveTo>
                <a:lnTo>
                  <a:pt x="4638368" y="0"/>
                </a:lnTo>
                <a:lnTo>
                  <a:pt x="4638368" y="2952747"/>
                </a:lnTo>
                <a:lnTo>
                  <a:pt x="4585825" y="3013864"/>
                </a:lnTo>
                <a:cubicBezTo>
                  <a:pt x="4103088" y="3538671"/>
                  <a:pt x="3410622" y="3867534"/>
                  <a:pt x="2641346" y="3867534"/>
                </a:cubicBezTo>
                <a:cubicBezTo>
                  <a:pt x="1182571" y="3867534"/>
                  <a:pt x="0" y="2684963"/>
                  <a:pt x="0" y="1226188"/>
                </a:cubicBezTo>
                <a:cubicBezTo>
                  <a:pt x="0" y="815907"/>
                  <a:pt x="93544" y="427475"/>
                  <a:pt x="260466" y="81056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8888040" y="2466000"/>
            <a:ext cx="3356280" cy="335628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">
            <a:solidFill>
              <a:srgbClr val="ffffff">
                <a:alpha val="50000"/>
              </a:srgbClr>
            </a:solidFill>
            <a:round/>
          </a:ln>
        </p:spPr>
        <p:style>
          <a:lnRef idx="2"/>
          <a:fillRef idx="0"/>
          <a:effectRef idx="0">
            <a:schemeClr val="accent2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179640" y="1764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Використання 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ристроїв не підключаючи їх безпосередньо до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3"/>
          <p:cNvSpPr/>
          <p:nvPr/>
        </p:nvSpPr>
        <p:spPr>
          <a:xfrm>
            <a:off x="179640" y="276264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Використання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необмеженої кількості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ристроїв одноча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179640" y="376488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Використання 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ристроїв на відстані до 100 метрів без кабел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179640" y="4767120"/>
            <a:ext cx="7464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- Продовження строку д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ії</a:t>
            </a:r>
            <a:r>
              <a:rPr b="1" lang="en-US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USB 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портів П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6"/>
          <p:cNvSpPr/>
          <p:nvPr/>
        </p:nvSpPr>
        <p:spPr>
          <a:xfrm>
            <a:off x="210600" y="242280"/>
            <a:ext cx="7003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Calibri"/>
              </a:rPr>
              <a:t>Які переваги?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https://pngimg.com/uploads/usb/usb_PNG8886.png"/>
          <p:cNvPicPr/>
          <p:nvPr/>
        </p:nvPicPr>
        <p:blipFill>
          <a:blip r:embed="rId1"/>
          <a:stretch/>
        </p:blipFill>
        <p:spPr>
          <a:xfrm>
            <a:off x="0" y="0"/>
            <a:ext cx="2595240" cy="19850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7"/>
          <p:cNvSpPr/>
          <p:nvPr/>
        </p:nvSpPr>
        <p:spPr>
          <a:xfrm>
            <a:off x="2241720" y="531000"/>
            <a:ext cx="7619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2.0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Що нового? 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8"/>
          <p:cNvSpPr/>
          <p:nvPr/>
        </p:nvSpPr>
        <p:spPr>
          <a:xfrm>
            <a:off x="558360" y="2169360"/>
            <a:ext cx="7464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Втілення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USB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3.0 - </a:t>
            </a: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4,8 Гбіт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3"/>
          <p:cNvSpPr/>
          <p:nvPr/>
        </p:nvSpPr>
        <p:spPr>
          <a:xfrm>
            <a:off x="558360" y="2614680"/>
            <a:ext cx="746496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ru-RU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Втілення стандарту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– Wi-Fi a/c 5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ГГц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– 1+ Гбіт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Можливість підключення зовнішньої відеокарти по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U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Віддалена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Bluetooth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точка доступу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ауді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Ethernet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та 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SIM – </a:t>
            </a: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о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1" lang="uk-UA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Підтримка </a:t>
            </a:r>
            <a:r>
              <a:rPr b="1" lang="en-US" sz="28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кругленный прямоугольник 17"/>
          <p:cNvSpPr/>
          <p:nvPr/>
        </p:nvSpPr>
        <p:spPr>
          <a:xfrm>
            <a:off x="7722360" y="2832120"/>
            <a:ext cx="2626560" cy="3428640"/>
          </a:xfrm>
          <a:prstGeom prst="roundRect">
            <a:avLst>
              <a:gd name="adj" fmla="val 16667"/>
            </a:avLst>
          </a:prstGeom>
          <a:solidFill>
            <a:schemeClr val="tx1">
              <a:lumMod val="50000"/>
            </a:schemeClr>
          </a:solidFill>
          <a:ln cap="rnd">
            <a:solidFill>
              <a:srgbClr val="ab335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270360" y="0"/>
            <a:ext cx="6225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Як працює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Иконка компьютер - Png картинки и иконки без фона"/>
          <p:cNvPicPr/>
          <p:nvPr/>
        </p:nvPicPr>
        <p:blipFill>
          <a:blip r:embed="rId1"/>
          <a:stretch/>
        </p:blipFill>
        <p:spPr>
          <a:xfrm>
            <a:off x="325440" y="1972440"/>
            <a:ext cx="3187080" cy="3187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2"/>
          <a:stretch/>
        </p:blipFill>
        <p:spPr>
          <a:xfrm>
            <a:off x="3686040" y="2139120"/>
            <a:ext cx="2435760" cy="2435760"/>
          </a:xfrm>
          <a:prstGeom prst="rect">
            <a:avLst/>
          </a:prstGeom>
          <a:ln w="0">
            <a:noFill/>
          </a:ln>
        </p:spPr>
      </p:pic>
      <p:cxnSp>
        <p:nvCxnSpPr>
          <p:cNvPr id="163" name="Прямая соединительная линия 12"/>
          <p:cNvCxnSpPr/>
          <p:nvPr/>
        </p:nvCxnSpPr>
        <p:spPr>
          <a:xfrm flipH="1">
            <a:off x="1847520" y="2178720"/>
            <a:ext cx="497880" cy="346320"/>
          </a:xfrm>
          <a:prstGeom prst="straightConnector1">
            <a:avLst/>
          </a:prstGeom>
          <a:ln cap="rnd" w="76200">
            <a:solidFill>
              <a:srgbClr val="ff0000"/>
            </a:solidFill>
            <a:round/>
          </a:ln>
        </p:spPr>
      </p:cxnSp>
      <p:cxnSp>
        <p:nvCxnSpPr>
          <p:cNvPr id="164" name="Прямая соединительная линия 18"/>
          <p:cNvCxnSpPr/>
          <p:nvPr/>
        </p:nvCxnSpPr>
        <p:spPr>
          <a:xfrm flipH="1" flipV="1">
            <a:off x="3024360" y="2028960"/>
            <a:ext cx="834840" cy="593640"/>
          </a:xfrm>
          <a:prstGeom prst="straightConnector1">
            <a:avLst/>
          </a:prstGeom>
          <a:ln cap="rnd" w="76200">
            <a:solidFill>
              <a:srgbClr val="ff0000"/>
            </a:solidFill>
            <a:round/>
          </a:ln>
        </p:spPr>
      </p:cxnSp>
      <p:pic>
        <p:nvPicPr>
          <p:cNvPr id="165" name="Picture 8" descr="Usb port png 5 » PNG Image"/>
          <p:cNvPicPr/>
          <p:nvPr/>
        </p:nvPicPr>
        <p:blipFill>
          <a:blip r:embed="rId3"/>
          <a:stretch/>
        </p:blipFill>
        <p:spPr>
          <a:xfrm>
            <a:off x="8597880" y="52534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Usb port png 5 » PNG Image"/>
          <p:cNvPicPr/>
          <p:nvPr/>
        </p:nvPicPr>
        <p:blipFill>
          <a:blip r:embed="rId4"/>
          <a:stretch/>
        </p:blipFill>
        <p:spPr>
          <a:xfrm>
            <a:off x="7722360" y="52534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Usb port png 5 » PNG Image"/>
          <p:cNvPicPr/>
          <p:nvPr/>
        </p:nvPicPr>
        <p:blipFill>
          <a:blip r:embed="rId5"/>
          <a:stretch/>
        </p:blipFill>
        <p:spPr>
          <a:xfrm>
            <a:off x="8597880" y="47872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Usb port png 5 » PNG Image"/>
          <p:cNvPicPr/>
          <p:nvPr/>
        </p:nvPicPr>
        <p:blipFill>
          <a:blip r:embed="rId6"/>
          <a:stretch/>
        </p:blipFill>
        <p:spPr>
          <a:xfrm>
            <a:off x="7722360" y="47872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Usb port png 5 » PNG Image"/>
          <p:cNvPicPr/>
          <p:nvPr/>
        </p:nvPicPr>
        <p:blipFill>
          <a:blip r:embed="rId7"/>
          <a:stretch/>
        </p:blipFill>
        <p:spPr>
          <a:xfrm>
            <a:off x="8597880" y="43214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Usb port png 5 » PNG Image"/>
          <p:cNvPicPr/>
          <p:nvPr/>
        </p:nvPicPr>
        <p:blipFill>
          <a:blip r:embed="rId8"/>
          <a:stretch/>
        </p:blipFill>
        <p:spPr>
          <a:xfrm>
            <a:off x="7722360" y="43214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Usb port png 5 » PNG Image"/>
          <p:cNvPicPr/>
          <p:nvPr/>
        </p:nvPicPr>
        <p:blipFill>
          <a:blip r:embed="rId9"/>
          <a:stretch/>
        </p:blipFill>
        <p:spPr>
          <a:xfrm>
            <a:off x="8597880" y="38552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Usb port png 5 » PNG Image"/>
          <p:cNvPicPr/>
          <p:nvPr/>
        </p:nvPicPr>
        <p:blipFill>
          <a:blip r:embed="rId10"/>
          <a:stretch/>
        </p:blipFill>
        <p:spPr>
          <a:xfrm>
            <a:off x="7722360" y="38552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Usb port png 5 » PNG Image"/>
          <p:cNvPicPr/>
          <p:nvPr/>
        </p:nvPicPr>
        <p:blipFill>
          <a:blip r:embed="rId11"/>
          <a:stretch/>
        </p:blipFill>
        <p:spPr>
          <a:xfrm>
            <a:off x="8597880" y="34318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Usb port png 5 » PNG Image"/>
          <p:cNvPicPr/>
          <p:nvPr/>
        </p:nvPicPr>
        <p:blipFill>
          <a:blip r:embed="rId12"/>
          <a:stretch/>
        </p:blipFill>
        <p:spPr>
          <a:xfrm>
            <a:off x="7722360" y="343188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Usb port png 5 » PNG Image"/>
          <p:cNvPicPr/>
          <p:nvPr/>
        </p:nvPicPr>
        <p:blipFill>
          <a:blip r:embed="rId13"/>
          <a:stretch/>
        </p:blipFill>
        <p:spPr>
          <a:xfrm>
            <a:off x="8597880" y="30038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Usb port png 5 » PNG Image"/>
          <p:cNvPicPr/>
          <p:nvPr/>
        </p:nvPicPr>
        <p:blipFill>
          <a:blip r:embed="rId14"/>
          <a:stretch/>
        </p:blipFill>
        <p:spPr>
          <a:xfrm>
            <a:off x="7722360" y="300384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Usb port png 5 » PNG Image"/>
          <p:cNvPicPr/>
          <p:nvPr/>
        </p:nvPicPr>
        <p:blipFill>
          <a:blip r:embed="rId15"/>
          <a:stretch/>
        </p:blipFill>
        <p:spPr>
          <a:xfrm>
            <a:off x="8597880" y="2599200"/>
            <a:ext cx="1751040" cy="1236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Usb port png 5 » PNG Image"/>
          <p:cNvPicPr/>
          <p:nvPr/>
        </p:nvPicPr>
        <p:blipFill>
          <a:blip r:embed="rId16"/>
          <a:stretch/>
        </p:blipFill>
        <p:spPr>
          <a:xfrm>
            <a:off x="7722360" y="2599200"/>
            <a:ext cx="1751040" cy="1236600"/>
          </a:xfrm>
          <a:prstGeom prst="rect">
            <a:avLst/>
          </a:prstGeom>
          <a:ln w="0">
            <a:noFill/>
          </a:ln>
        </p:spPr>
      </p:pic>
      <p:cxnSp>
        <p:nvCxnSpPr>
          <p:cNvPr id="179" name="Прямая соединительная линия 40"/>
          <p:cNvCxnSpPr/>
          <p:nvPr/>
        </p:nvCxnSpPr>
        <p:spPr>
          <a:xfrm flipH="1" flipV="1">
            <a:off x="6165720" y="3621960"/>
            <a:ext cx="1378440" cy="233640"/>
          </a:xfrm>
          <a:prstGeom prst="straightConnector1">
            <a:avLst/>
          </a:prstGeom>
          <a:ln cap="rnd" w="76200">
            <a:solidFill>
              <a:srgbClr val="ff0000"/>
            </a:solidFill>
            <a:round/>
          </a:ln>
        </p:spPr>
      </p:cxnSp>
      <p:sp>
        <p:nvSpPr>
          <p:cNvPr id="180" name="Прямоугольник 21"/>
          <p:cNvSpPr/>
          <p:nvPr/>
        </p:nvSpPr>
        <p:spPr>
          <a:xfrm>
            <a:off x="325440" y="4883040"/>
            <a:ext cx="6596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1.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2. Прийм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3. Головний пристрі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	</a:t>
            </a:r>
            <a:r>
              <a:rPr b="1" lang="uk-UA" sz="28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(Передава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5"/>
          <p:cNvSpPr/>
          <p:nvPr/>
        </p:nvSpPr>
        <p:spPr>
          <a:xfrm>
            <a:off x="154080" y="1656720"/>
            <a:ext cx="531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6"/>
          <p:cNvSpPr/>
          <p:nvPr/>
        </p:nvSpPr>
        <p:spPr>
          <a:xfrm>
            <a:off x="2866320" y="1053720"/>
            <a:ext cx="531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7"/>
          <p:cNvSpPr/>
          <p:nvPr/>
        </p:nvSpPr>
        <p:spPr>
          <a:xfrm>
            <a:off x="7099200" y="5045760"/>
            <a:ext cx="5313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39" descr=""/>
          <p:cNvPicPr/>
          <p:nvPr/>
        </p:nvPicPr>
        <p:blipFill>
          <a:blip r:embed="rId17"/>
          <a:stretch/>
        </p:blipFill>
        <p:spPr>
          <a:xfrm>
            <a:off x="9296280" y="1665720"/>
            <a:ext cx="914040" cy="9140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1" descr=""/>
          <p:cNvPicPr/>
          <p:nvPr/>
        </p:nvPicPr>
        <p:blipFill>
          <a:blip r:embed="rId18"/>
          <a:stretch/>
        </p:blipFill>
        <p:spPr>
          <a:xfrm rot="13835400">
            <a:off x="2347200" y="1657440"/>
            <a:ext cx="576720" cy="5767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42" descr=""/>
          <p:cNvPicPr/>
          <p:nvPr/>
        </p:nvPicPr>
        <p:blipFill>
          <a:blip r:embed="rId19"/>
          <a:stretch/>
        </p:blipFill>
        <p:spPr>
          <a:xfrm>
            <a:off x="10502640" y="4084920"/>
            <a:ext cx="1327320" cy="13273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3" descr=""/>
          <p:cNvPicPr/>
          <p:nvPr/>
        </p:nvPicPr>
        <p:blipFill>
          <a:blip r:embed="rId20"/>
          <a:stretch/>
        </p:blipFill>
        <p:spPr>
          <a:xfrm>
            <a:off x="10619640" y="2826360"/>
            <a:ext cx="1210320" cy="12103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8" descr=""/>
          <p:cNvPicPr/>
          <p:nvPr/>
        </p:nvPicPr>
        <p:blipFill>
          <a:blip r:embed="rId21"/>
          <a:stretch/>
        </p:blipFill>
        <p:spPr>
          <a:xfrm>
            <a:off x="7981560" y="139392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0" descr=""/>
          <p:cNvPicPr/>
          <p:nvPr/>
        </p:nvPicPr>
        <p:blipFill>
          <a:blip r:embed="rId22"/>
          <a:stretch/>
        </p:blipFill>
        <p:spPr>
          <a:xfrm>
            <a:off x="10438560" y="4915080"/>
            <a:ext cx="1341360" cy="13413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2" descr=""/>
          <p:cNvPicPr/>
          <p:nvPr/>
        </p:nvPicPr>
        <p:blipFill>
          <a:blip r:embed="rId23"/>
          <a:stretch/>
        </p:blipFill>
        <p:spPr>
          <a:xfrm>
            <a:off x="10502640" y="1539720"/>
            <a:ext cx="11876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387720" y="219240"/>
            <a:ext cx="5841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002060"/>
                </a:solidFill>
                <a:latin typeface="Calibri"/>
              </a:rPr>
              <a:t>Для кого?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362160" y="2665800"/>
            <a:ext cx="99309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</a:t>
            </a:r>
            <a:r>
              <a:rPr b="1" lang="uk-UA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можна використовувати в будь-якому місці,  де є можливість підключення пристроїв з 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B </a:t>
            </a:r>
            <a:r>
              <a:rPr b="1" lang="uk-UA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інтерфей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286560" y="219240"/>
            <a:ext cx="6984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Calibri"/>
              </a:rPr>
              <a:t>Конкуренція?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362160" y="2665800"/>
            <a:ext cx="99309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</a:t>
            </a:r>
            <a:r>
              <a:rPr b="1" lang="uk-UA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На даний момент в продажу немає жодної пропозиції яка працює за тим же принципом, що і 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06640" y="219240"/>
            <a:ext cx="7770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Скільки коштує?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70640" y="2410200"/>
            <a:ext cx="993096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40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Calibri"/>
              </a:rPr>
              <a:t>- За нашими підрахунками, вартість виготовлення USairB становиме приблизно 30-50 доларів за одиницю това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 4" descr="светлые пятна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62520" y="2574000"/>
            <a:ext cx="71974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uk-UA" sz="4800" spc="-1" strike="noStrike" cap="all">
                <a:solidFill>
                  <a:srgbClr val="ffffff"/>
                </a:solidFill>
                <a:latin typeface="Calibri Light"/>
              </a:rPr>
              <a:t>Дякую за увагу</a:t>
            </a:r>
            <a:r>
              <a:rPr b="0" lang="ru-RU" sz="4800" spc="-1" strike="noStrike" cap="all">
                <a:solidFill>
                  <a:srgbClr val="ffffff"/>
                </a:solidFill>
                <a:latin typeface="Calibri Light"/>
              </a:rPr>
              <a:t>!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962520" y="4995360"/>
            <a:ext cx="719748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1800" spc="-1" strike="noStrike" cap="all">
                <a:solidFill>
                  <a:schemeClr val="accent1">
                    <a:lumMod val="40000"/>
                    <a:lumOff val="60000"/>
                  </a:schemeClr>
                </a:solidFill>
                <a:latin typeface="Calibri"/>
              </a:rPr>
              <a:t>Tech.admin@ukr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534240" y="1691640"/>
            <a:ext cx="85888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US</a:t>
            </a:r>
            <a:r>
              <a:rPr b="1" lang="en-US" sz="5400" spc="-1" strike="noStrike">
                <a:solidFill>
                  <a:srgbClr val="92d050"/>
                </a:solidFill>
                <a:latin typeface="Calibri"/>
              </a:rPr>
              <a:t>air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B –</a:t>
            </a:r>
            <a:r>
              <a:rPr b="1" lang="uk-UA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Майбутнє за нами!</a:t>
            </a: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396360" y="4307040"/>
            <a:ext cx="6095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ідготув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тудент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го курсу 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 гру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Європейський університ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лій Тар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улик Дмит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иповик І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ебеса">
  <a:themeElements>
    <a:clrScheme name="Celestial">
      <a:dk1>
        <a:srgbClr val="000000"/>
      </a:dk1>
      <a:lt1>
        <a:srgbClr val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ебеса">
  <a:themeElements>
    <a:clrScheme name="Celestial">
      <a:dk1>
        <a:srgbClr val="000000"/>
      </a:dk1>
      <a:lt1>
        <a:srgbClr val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ебеса">
  <a:themeElements>
    <a:clrScheme name="Celestial">
      <a:dk1>
        <a:srgbClr val="000000"/>
      </a:dk1>
      <a:lt1>
        <a:srgbClr val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f296a"/>
      </a:dk2>
      <a:lt2>
        <a:srgbClr val="ebebeb"/>
      </a:lt2>
      <a:accent1>
        <a:srgbClr val="e84574"/>
      </a:accent1>
      <a:accent2>
        <a:srgbClr val="798ff2"/>
      </a:accent2>
      <a:accent3>
        <a:srgbClr val="95c369"/>
      </a:accent3>
      <a:accent4>
        <a:srgbClr val="ee875a"/>
      </a:accent4>
      <a:accent5>
        <a:srgbClr val="c363e8"/>
      </a:accent5>
      <a:accent6>
        <a:srgbClr val="6aadc8"/>
      </a:accent6>
      <a:hlink>
        <a:srgbClr val="fe80c7"/>
      </a:hlink>
      <a:folHlink>
        <a:srgbClr val="fba3e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9F111ED35F8CC479449609E8A0923A6" ma:contentTypeVersion="11" ma:contentTypeDescription="Create a new document." ma:contentTypeScope="" ma:versionID="1c2eb7a32e66fb6e4260f3771546a5e2">
  <xsd:schema xmlns:xsd="http://www.w3.org/2001/XMLSchema" xmlns:xs="http://www.w3.org/2001/XMLSchema" xmlns:p="http://schemas.microsoft.com/office/2006/metadata/properties" xmlns:ns2="71af3243-3dd4-4a8d-8c0d-dd76da1f02a5" xmlns:ns3="16c05727-aa75-4e4a-9b5f-8a80a1165891" targetNamespace="http://schemas.microsoft.com/office/2006/metadata/properties" ma:root="true" ma:fieldsID="04e1f6479c48b08974ba73b5ca973489" ns2:_="" ns3:_="">
    <xsd:import namespace="71af3243-3dd4-4a8d-8c0d-dd76da1f02a5"/>
    <xsd:import namespace="16c05727-aa75-4e4a-9b5f-8a80a1165891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OCR" minOccurs="0"/>
                <xsd:element ref="ns2:MediaServiceAutoTags" minOccurs="0"/>
                <xsd:element ref="ns2:MediaServiceEventHashCode" minOccurs="0"/>
                <xsd:element ref="ns2:MediaServiceGenerationTime" minOccurs="0"/>
                <xsd:element ref="ns3:SharedWithUsers" minOccurs="0"/>
                <xsd:element ref="ns3:SharedWithDetails" minOccurs="0"/>
                <xsd:element ref="ns2:MediaServiceAutoKeyPoints" minOccurs="0"/>
                <xsd:element ref="ns2:MediaServiceKeyPoints" minOccurs="0"/>
                <xsd:element ref="ns2:MediaServiceDateTake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71af3243-3dd4-4a8d-8c0d-dd76da1f02a5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OCR" ma:index="10" nillable="true" ma:displayName="MediaServiceOCR" ma:internalName="MediaServiceOCR" ma:readOnly="true">
      <xsd:simpleType>
        <xsd:restriction base="dms:Note">
          <xsd:maxLength value="255"/>
        </xsd:restriction>
      </xsd:simpleType>
    </xsd:element>
    <xsd:element name="MediaServiceAutoTags" ma:index="11" nillable="true" ma:displayName="MediaServiceAutoTags" ma:internalName="MediaServiceAutoTags" ma:readOnly="true">
      <xsd:simpleType>
        <xsd:restriction base="dms:Text"/>
      </xsd:simpleType>
    </xsd:element>
    <xsd:element name="MediaServiceEventHashCode" ma:index="12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GenerationTime" ma:index="13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AutoKeyPoints" ma:index="16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7" nillable="true" ma:displayName="KeyPoints" ma:internalName="MediaServiceKeyPoints" ma:readOnly="false">
      <xsd:simpleType>
        <xsd:restriction base="dms:Note">
          <xsd:maxLength value="255"/>
        </xsd:restriction>
      </xsd:simpleType>
    </xsd:element>
    <xsd:element name="MediaServiceDateTaken" ma:index="18" nillable="true" ma:displayName="MediaServiceDateTaken" ma:hidden="true" ma:internalName="MediaServiceDateTaken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6c05727-aa75-4e4a-9b5f-8a80a1165891" elementFormDefault="qualified">
    <xsd:import namespace="http://schemas.microsoft.com/office/2006/documentManagement/types"/>
    <xsd:import namespace="http://schemas.microsoft.com/office/infopath/2007/PartnerControls"/>
    <xsd:element name="SharedWithUsers" ma:index="14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5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MediaServiceKeyPoints xmlns="71af3243-3dd4-4a8d-8c0d-dd76da1f02a5" xsi:nil="true"/>
  </documentManagement>
</p:properties>
</file>

<file path=customXml/itemProps1.xml><?xml version="1.0" encoding="utf-8"?>
<ds:datastoreItem xmlns:ds="http://schemas.openxmlformats.org/officeDocument/2006/customXml" ds:itemID="{9310845B-7F19-4A9A-BEE4-BEF0501E1A5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71af3243-3dd4-4a8d-8c0d-dd76da1f02a5"/>
    <ds:schemaRef ds:uri="16c05727-aa75-4e4a-9b5f-8a80a1165891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E0F1DF1E-36E3-406C-8CF7-DB13BB647087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B85274BF-C111-4B7A-8D90-F7666D37C131}">
  <ds:schemaRefs>
    <ds:schemaRef ds:uri="http://schemas.microsoft.com/office/2006/documentManagement/types"/>
    <ds:schemaRef ds:uri="http://purl.org/dc/terms/"/>
    <ds:schemaRef ds:uri="http://purl.org/dc/dcmitype/"/>
    <ds:schemaRef ds:uri="http://www.w3.org/XML/1998/namespace"/>
    <ds:schemaRef ds:uri="http://schemas.microsoft.com/office/infopath/2007/PartnerControls"/>
    <ds:schemaRef ds:uri="http://schemas.openxmlformats.org/package/2006/metadata/core-properties"/>
    <ds:schemaRef ds:uri="16c05727-aa75-4e4a-9b5f-8a80a1165891"/>
    <ds:schemaRef ds:uri="71af3243-3dd4-4a8d-8c0d-dd76da1f02a5"/>
    <ds:schemaRef ds:uri="http://schemas.microsoft.com/office/2006/metadata/properties"/>
    <ds:schemaRef ds:uri="http://purl.org/dc/elements/1.1/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Будущее в небесном оформлении</Template>
  <TotalTime>0</TotalTime>
  <Application>LibreOffice/7.4.7.2$Linux_X86_64 LibreOffice_project/40$Build-2</Application>
  <AppVersion>15.0000</AppVersion>
  <Words>257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4T16:42:39Z</dcterms:created>
  <dc:creator/>
  <dc:description/>
  <dc:language>en-US</dc:language>
  <cp:lastModifiedBy/>
  <dcterms:modified xsi:type="dcterms:W3CDTF">2020-12-08T23:08:1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9F111ED35F8CC479449609E8A0923A6</vt:lpwstr>
  </property>
  <property fmtid="{D5CDD505-2E9C-101B-9397-08002B2CF9AE}" pid="3" name="Notes">
    <vt:r8>8</vt:r8>
  </property>
  <property fmtid="{D5CDD505-2E9C-101B-9397-08002B2CF9AE}" pid="4" name="PresentationFormat">
    <vt:lpwstr>Широкоэкранный</vt:lpwstr>
  </property>
  <property fmtid="{D5CDD505-2E9C-101B-9397-08002B2CF9AE}" pid="5" name="Slides">
    <vt:r8>9</vt:r8>
  </property>
</Properties>
</file>