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4A7F23-3E97-4DFD-B91B-91548983F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7B0B6-C486-4063-9049-27FF0D7D34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623C2F-357C-4AAE-8372-CC6D11B87B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41410-FA10-46A5-94E6-5234190A33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0C7513-81B0-4577-843A-70D906E57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641F4E-BDC3-4689-8404-767F7C5CB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4B9B5-F940-49DC-B79C-7EBE308487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3AF0DE-29C2-488F-8ADF-1D64EDD830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530756-5603-4153-8822-88E4CBFFF1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E7A-BE02-4C5F-9E45-BCA3A6F9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5FF-EA02-4231-900A-E5D668F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FE5-D76A-4AF6-8244-5D153CA4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29A-0B65-4721-B304-20B4850D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D1D-B958-442E-80E3-36DFFFEA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7465-683F-4F5D-9368-5276B322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596A-AEF5-4221-A676-3993AAE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8096-3ECF-498F-A187-6C724706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86F-028D-4EA4-B467-C78C01E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ED3D-0C1F-4C94-B764-E6A18E28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309-F435-455E-934D-AEFCE19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DDD-E388-418F-BF4D-2C7A9197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183-6E2A-4304-9968-7B7A68E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4B04-D8CB-42D5-8A05-2776801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1894-DDC5-42C0-9601-66E7F1E4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ABF0-719C-4FBF-856F-21F214FB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F37-2464-4562-992E-363A5AB8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9D66-87A5-4C89-BD75-D1606E02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46CB-C831-47EC-9088-37157511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625F-9219-4798-8B8C-96A8B055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F27A-C636-43FA-97A6-59C071B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1C1D-6141-4EF0-A29B-1C9EE31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906-EDD1-429E-ACED-EDECD6A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2EDE-9A5D-4189-94F3-8AFFBA9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2DAB-68B6-400E-941A-A21AFAF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1F6E-E827-4320-A650-8DC3ADC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B3AB-F338-489C-A94E-BDC68A1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12C2-08C5-4C8C-A266-526401C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4788-29E7-4EFA-88F2-BEE6769A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3838-F26B-446D-B503-500E902F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AB4-872C-4599-8FEE-AFEFDD3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8F4-A7B5-4ED8-B16B-7BF4E3A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37F-F2B6-40A9-B818-CC001BB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F39-879A-464F-A66D-48621C9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755-BF28-4AF7-AE28-560F9F1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229-ED9B-43B7-87F6-1F567C7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 6" descr="Celestia-R1---OverlayTitle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93268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962520" y="5870520"/>
            <a:ext cx="489348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1060884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F4DD2A-871C-4C1E-B9F2-C7FF55FE8CD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 7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82192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2F0BF6-D37A-4487-B17D-3EA9744E30D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 6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1013112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9DBA12-4C07-49BF-9684-12855D273E5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 4" descr="ночное небо с горами далеко на горизонте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40040" y="745200"/>
            <a:ext cx="5425200" cy="14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US</a:t>
            </a:r>
            <a:r>
              <a:rPr b="1" lang="en-US" sz="6600" spc="-1" strike="noStrike" cap="all">
                <a:solidFill>
                  <a:srgbClr val="92d050"/>
                </a:solidFill>
                <a:latin typeface="Calibri Light"/>
              </a:rPr>
              <a:t>AIR</a:t>
            </a: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B</a:t>
            </a:r>
            <a:r>
              <a:rPr b="1" lang="uk-UA" sz="9600" spc="-1" strike="noStrike" cap="all">
                <a:solidFill>
                  <a:srgbClr val="ffffff"/>
                </a:solidFill>
                <a:latin typeface="Calibri Light"/>
              </a:rPr>
              <a:t> 2.0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341480" y="2017800"/>
            <a:ext cx="452376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Новітня технологія, яка змінить все і навіть бі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дзаголовок 2"/>
          <p:cNvSpPr/>
          <p:nvPr/>
        </p:nvSpPr>
        <p:spPr>
          <a:xfrm>
            <a:off x="7341480" y="4227480"/>
            <a:ext cx="452376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61600" y="1527840"/>
            <a:ext cx="713520" cy="54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Usb flash drive | Бесплатно значок"/>
          <p:cNvPicPr/>
          <p:nvPr/>
        </p:nvPicPr>
        <p:blipFill>
          <a:blip r:embed="rId3"/>
          <a:stretch/>
        </p:blipFill>
        <p:spPr>
          <a:xfrm>
            <a:off x="4640040" y="3021480"/>
            <a:ext cx="3393000" cy="3393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" descr=""/>
          <p:cNvPicPr/>
          <p:nvPr/>
        </p:nvPicPr>
        <p:blipFill>
          <a:blip r:embed="rId4"/>
          <a:stretch/>
        </p:blipFill>
        <p:spPr>
          <a:xfrm>
            <a:off x="5299200" y="1826280"/>
            <a:ext cx="1310400" cy="1006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20880" y="5934600"/>
            <a:ext cx="4714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COVID EDI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75400" y="219240"/>
            <a:ext cx="677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Що вирішує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79640" y="176436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довжини кабелю для підключ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79640" y="2718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кількості роз’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ємів дл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ключення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79640" y="36727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заплутаних кабелів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79640" y="419580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незручності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роз’ємів в важкодоступних місця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Рисунок 3"/>
          <p:cNvSpPr/>
          <p:nvPr/>
        </p:nvSpPr>
        <p:spPr>
          <a:xfrm>
            <a:off x="8888040" y="4144320"/>
            <a:ext cx="3302640" cy="2716920"/>
          </a:xfrm>
          <a:custGeom>
            <a:avLst/>
            <a:gdLst>
              <a:gd name="textAreaLeft" fmla="*/ 0 w 3302640"/>
              <a:gd name="textAreaRight" fmla="*/ 3303000 w 3302640"/>
              <a:gd name="textAreaTop" fmla="*/ 0 h 2716920"/>
              <a:gd name="textAreaBottom" fmla="*/ 2717280 h 2716920"/>
            </a:gdLst>
            <a:ahLst/>
            <a:rect l="textAreaLeft" t="textAreaTop" r="textAreaRight" b="textAreaBottom"/>
            <a:pathLst>
              <a:path w="3039855" h="2500842">
                <a:moveTo>
                  <a:pt x="1663658" y="0"/>
                </a:moveTo>
                <a:cubicBezTo>
                  <a:pt x="2180490" y="0"/>
                  <a:pt x="2642278" y="235674"/>
                  <a:pt x="2947417" y="605417"/>
                </a:cubicBezTo>
                <a:lnTo>
                  <a:pt x="3039855" y="729032"/>
                </a:lnTo>
                <a:lnTo>
                  <a:pt x="3039855" y="2500842"/>
                </a:lnTo>
                <a:lnTo>
                  <a:pt x="226952" y="2500842"/>
                </a:lnTo>
                <a:lnTo>
                  <a:pt x="155401" y="2366679"/>
                </a:lnTo>
                <a:cubicBezTo>
                  <a:pt x="55691" y="2153127"/>
                  <a:pt x="0" y="1914896"/>
                  <a:pt x="0" y="1663658"/>
                </a:cubicBezTo>
                <a:cubicBezTo>
                  <a:pt x="0" y="744845"/>
                  <a:pt x="744845" y="0"/>
                  <a:pt x="1663658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исунок 6"/>
          <p:cNvSpPr/>
          <p:nvPr/>
        </p:nvSpPr>
        <p:spPr>
          <a:xfrm>
            <a:off x="8059320" y="0"/>
            <a:ext cx="4132440" cy="3445560"/>
          </a:xfrm>
          <a:custGeom>
            <a:avLst/>
            <a:gdLst>
              <a:gd name="textAreaLeft" fmla="*/ 0 w 4132440"/>
              <a:gd name="textAreaRight" fmla="*/ 4132800 w 4132440"/>
              <a:gd name="textAreaTop" fmla="*/ 0 h 3445560"/>
              <a:gd name="textAreaBottom" fmla="*/ 3445920 h 3445560"/>
            </a:gdLst>
            <a:ahLst/>
            <a:rect l="textAreaLeft" t="textAreaTop" r="textAreaRight" b="textAreaBottom"/>
            <a:pathLst>
              <a:path w="4638368" h="3867534">
                <a:moveTo>
                  <a:pt x="303228" y="0"/>
                </a:moveTo>
                <a:lnTo>
                  <a:pt x="4638368" y="0"/>
                </a:lnTo>
                <a:lnTo>
                  <a:pt x="4638368" y="2952747"/>
                </a:lnTo>
                <a:lnTo>
                  <a:pt x="4585825" y="3013864"/>
                </a:lnTo>
                <a:cubicBezTo>
                  <a:pt x="4103088" y="3538671"/>
                  <a:pt x="3410622" y="3867534"/>
                  <a:pt x="2641346" y="3867534"/>
                </a:cubicBezTo>
                <a:cubicBezTo>
                  <a:pt x="1182571" y="3867534"/>
                  <a:pt x="0" y="2684963"/>
                  <a:pt x="0" y="1226188"/>
                </a:cubicBezTo>
                <a:cubicBezTo>
                  <a:pt x="0" y="815907"/>
                  <a:pt x="93544" y="427475"/>
                  <a:pt x="260466" y="8105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8888040" y="2466000"/>
            <a:ext cx="3356280" cy="33562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">
            <a:solidFill>
              <a:srgbClr val="ffffff">
                <a:alpha val="50000"/>
              </a:srgbClr>
            </a:solidFill>
            <a:round/>
          </a:ln>
        </p:spPr>
        <p:style>
          <a:lnRef idx="2"/>
          <a:fillRef idx="0"/>
          <a:effectRef idx="0">
            <a:schemeClr val="accent2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е підключаючи їх безпосередньо до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179640" y="276264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еобмеженої кількості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одноча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179640" y="376488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а відстані до 100 метрів без кабел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179640" y="47671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Продовження строку д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ї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ортів П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210600" y="242280"/>
            <a:ext cx="7003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Які переваги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s://pngimg.com/uploads/usb/usb_PNG8886.png"/>
          <p:cNvPicPr/>
          <p:nvPr/>
        </p:nvPicPr>
        <p:blipFill>
          <a:blip r:embed="rId1"/>
          <a:stretch/>
        </p:blipFill>
        <p:spPr>
          <a:xfrm>
            <a:off x="0" y="0"/>
            <a:ext cx="2595240" cy="19850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241720" y="531000"/>
            <a:ext cx="7619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2.0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Що нового? 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558360" y="2169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3.0 -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4,8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558360" y="2614680"/>
            <a:ext cx="746496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стандарт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– Wi-Fi a/c 5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ГГц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– 1+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Можливість підключення зовнішньої відеокарти по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іддален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Bluetooth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точка доступ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ауді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Ethernet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та 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SIM –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о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тримк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17"/>
          <p:cNvSpPr/>
          <p:nvPr/>
        </p:nvSpPr>
        <p:spPr>
          <a:xfrm>
            <a:off x="7722360" y="2832120"/>
            <a:ext cx="2626560" cy="342864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</a:schemeClr>
          </a:solidFill>
          <a:ln cap="rnd">
            <a:solidFill>
              <a:srgbClr val="ab335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270360" y="0"/>
            <a:ext cx="6225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Як працює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Иконка компьютер - Png картинки и иконки без фона"/>
          <p:cNvPicPr/>
          <p:nvPr/>
        </p:nvPicPr>
        <p:blipFill>
          <a:blip r:embed="rId1"/>
          <a:stretch/>
        </p:blipFill>
        <p:spPr>
          <a:xfrm>
            <a:off x="325440" y="1972440"/>
            <a:ext cx="3187080" cy="3187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2"/>
          <a:stretch/>
        </p:blipFill>
        <p:spPr>
          <a:xfrm>
            <a:off x="3686040" y="2139120"/>
            <a:ext cx="2435760" cy="243576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единительная линия 12"/>
          <p:cNvCxnSpPr/>
          <p:nvPr/>
        </p:nvCxnSpPr>
        <p:spPr>
          <a:xfrm flipH="1">
            <a:off x="1847520" y="2178720"/>
            <a:ext cx="497880" cy="34632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cxnSp>
        <p:nvCxnSpPr>
          <p:cNvPr id="164" name="Прямая соединительная линия 18"/>
          <p:cNvCxnSpPr/>
          <p:nvPr/>
        </p:nvCxnSpPr>
        <p:spPr>
          <a:xfrm flipH="1" flipV="1">
            <a:off x="3024360" y="2028960"/>
            <a:ext cx="834840" cy="59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pic>
        <p:nvPicPr>
          <p:cNvPr id="165" name="Picture 8" descr="Usb port png 5 » PNG Image"/>
          <p:cNvPicPr/>
          <p:nvPr/>
        </p:nvPicPr>
        <p:blipFill>
          <a:blip r:embed="rId3"/>
          <a:stretch/>
        </p:blipFill>
        <p:spPr>
          <a:xfrm>
            <a:off x="859788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Usb port png 5 » PNG Image"/>
          <p:cNvPicPr/>
          <p:nvPr/>
        </p:nvPicPr>
        <p:blipFill>
          <a:blip r:embed="rId4"/>
          <a:stretch/>
        </p:blipFill>
        <p:spPr>
          <a:xfrm>
            <a:off x="772236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Usb port png 5 » PNG Image"/>
          <p:cNvPicPr/>
          <p:nvPr/>
        </p:nvPicPr>
        <p:blipFill>
          <a:blip r:embed="rId5"/>
          <a:stretch/>
        </p:blipFill>
        <p:spPr>
          <a:xfrm>
            <a:off x="859788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sb port png 5 » PNG Image"/>
          <p:cNvPicPr/>
          <p:nvPr/>
        </p:nvPicPr>
        <p:blipFill>
          <a:blip r:embed="rId6"/>
          <a:stretch/>
        </p:blipFill>
        <p:spPr>
          <a:xfrm>
            <a:off x="772236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Usb port png 5 » PNG Image"/>
          <p:cNvPicPr/>
          <p:nvPr/>
        </p:nvPicPr>
        <p:blipFill>
          <a:blip r:embed="rId7"/>
          <a:stretch/>
        </p:blipFill>
        <p:spPr>
          <a:xfrm>
            <a:off x="859788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Usb port png 5 » PNG Image"/>
          <p:cNvPicPr/>
          <p:nvPr/>
        </p:nvPicPr>
        <p:blipFill>
          <a:blip r:embed="rId8"/>
          <a:stretch/>
        </p:blipFill>
        <p:spPr>
          <a:xfrm>
            <a:off x="772236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Usb port png 5 » PNG Image"/>
          <p:cNvPicPr/>
          <p:nvPr/>
        </p:nvPicPr>
        <p:blipFill>
          <a:blip r:embed="rId9"/>
          <a:stretch/>
        </p:blipFill>
        <p:spPr>
          <a:xfrm>
            <a:off x="859788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Usb port png 5 » PNG Image"/>
          <p:cNvPicPr/>
          <p:nvPr/>
        </p:nvPicPr>
        <p:blipFill>
          <a:blip r:embed="rId10"/>
          <a:stretch/>
        </p:blipFill>
        <p:spPr>
          <a:xfrm>
            <a:off x="772236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sb port png 5 » PNG Image"/>
          <p:cNvPicPr/>
          <p:nvPr/>
        </p:nvPicPr>
        <p:blipFill>
          <a:blip r:embed="rId11"/>
          <a:stretch/>
        </p:blipFill>
        <p:spPr>
          <a:xfrm>
            <a:off x="859788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sb port png 5 » PNG Image"/>
          <p:cNvPicPr/>
          <p:nvPr/>
        </p:nvPicPr>
        <p:blipFill>
          <a:blip r:embed="rId12"/>
          <a:stretch/>
        </p:blipFill>
        <p:spPr>
          <a:xfrm>
            <a:off x="772236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Usb port png 5 » PNG Image"/>
          <p:cNvPicPr/>
          <p:nvPr/>
        </p:nvPicPr>
        <p:blipFill>
          <a:blip r:embed="rId13"/>
          <a:stretch/>
        </p:blipFill>
        <p:spPr>
          <a:xfrm>
            <a:off x="859788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Usb port png 5 » PNG Image"/>
          <p:cNvPicPr/>
          <p:nvPr/>
        </p:nvPicPr>
        <p:blipFill>
          <a:blip r:embed="rId14"/>
          <a:stretch/>
        </p:blipFill>
        <p:spPr>
          <a:xfrm>
            <a:off x="772236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Usb port png 5 » PNG Image"/>
          <p:cNvPicPr/>
          <p:nvPr/>
        </p:nvPicPr>
        <p:blipFill>
          <a:blip r:embed="rId15"/>
          <a:stretch/>
        </p:blipFill>
        <p:spPr>
          <a:xfrm>
            <a:off x="8597880" y="259920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Usb port png 5 » PNG Image"/>
          <p:cNvPicPr/>
          <p:nvPr/>
        </p:nvPicPr>
        <p:blipFill>
          <a:blip r:embed="rId16"/>
          <a:stretch/>
        </p:blipFill>
        <p:spPr>
          <a:xfrm>
            <a:off x="7722360" y="2599200"/>
            <a:ext cx="1751040" cy="1236600"/>
          </a:xfrm>
          <a:prstGeom prst="rect">
            <a:avLst/>
          </a:prstGeom>
          <a:ln w="0">
            <a:noFill/>
          </a:ln>
        </p:spPr>
      </p:pic>
      <p:cxnSp>
        <p:nvCxnSpPr>
          <p:cNvPr id="179" name="Прямая соединительная линия 40"/>
          <p:cNvCxnSpPr/>
          <p:nvPr/>
        </p:nvCxnSpPr>
        <p:spPr>
          <a:xfrm flipH="1" flipV="1">
            <a:off x="6165720" y="3621960"/>
            <a:ext cx="1378440" cy="23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sp>
        <p:nvSpPr>
          <p:cNvPr id="180" name="Прямоугольник 21"/>
          <p:cNvSpPr/>
          <p:nvPr/>
        </p:nvSpPr>
        <p:spPr>
          <a:xfrm>
            <a:off x="325440" y="4883040"/>
            <a:ext cx="6596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1.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2. Прийм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3. Головний пристр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	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(Передава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154080" y="1656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6"/>
          <p:cNvSpPr/>
          <p:nvPr/>
        </p:nvSpPr>
        <p:spPr>
          <a:xfrm>
            <a:off x="2866320" y="1053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7"/>
          <p:cNvSpPr/>
          <p:nvPr/>
        </p:nvSpPr>
        <p:spPr>
          <a:xfrm>
            <a:off x="7099200" y="504576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9" descr=""/>
          <p:cNvPicPr/>
          <p:nvPr/>
        </p:nvPicPr>
        <p:blipFill>
          <a:blip r:embed="rId17"/>
          <a:stretch/>
        </p:blipFill>
        <p:spPr>
          <a:xfrm>
            <a:off x="9296280" y="166572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1" descr=""/>
          <p:cNvPicPr/>
          <p:nvPr/>
        </p:nvPicPr>
        <p:blipFill>
          <a:blip r:embed="rId18"/>
          <a:stretch/>
        </p:blipFill>
        <p:spPr>
          <a:xfrm rot="13835400">
            <a:off x="2347200" y="1657440"/>
            <a:ext cx="576720" cy="576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2" descr=""/>
          <p:cNvPicPr/>
          <p:nvPr/>
        </p:nvPicPr>
        <p:blipFill>
          <a:blip r:embed="rId19"/>
          <a:stretch/>
        </p:blipFill>
        <p:spPr>
          <a:xfrm>
            <a:off x="10502640" y="4084920"/>
            <a:ext cx="1327320" cy="1327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3" descr=""/>
          <p:cNvPicPr/>
          <p:nvPr/>
        </p:nvPicPr>
        <p:blipFill>
          <a:blip r:embed="rId20"/>
          <a:stretch/>
        </p:blipFill>
        <p:spPr>
          <a:xfrm>
            <a:off x="10619640" y="2826360"/>
            <a:ext cx="1210320" cy="1210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8" descr=""/>
          <p:cNvPicPr/>
          <p:nvPr/>
        </p:nvPicPr>
        <p:blipFill>
          <a:blip r:embed="rId21"/>
          <a:stretch/>
        </p:blipFill>
        <p:spPr>
          <a:xfrm>
            <a:off x="7981560" y="139392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0" descr=""/>
          <p:cNvPicPr/>
          <p:nvPr/>
        </p:nvPicPr>
        <p:blipFill>
          <a:blip r:embed="rId22"/>
          <a:stretch/>
        </p:blipFill>
        <p:spPr>
          <a:xfrm>
            <a:off x="10438560" y="4915080"/>
            <a:ext cx="134136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2" descr=""/>
          <p:cNvPicPr/>
          <p:nvPr/>
        </p:nvPicPr>
        <p:blipFill>
          <a:blip r:embed="rId23"/>
          <a:stretch/>
        </p:blipFill>
        <p:spPr>
          <a:xfrm>
            <a:off x="10502640" y="1539720"/>
            <a:ext cx="11876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87720" y="219240"/>
            <a:ext cx="5841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Для кого?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можна використовувати в будь-якому місці,  де є можливість підключення пристроїв з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86560" y="219240"/>
            <a:ext cx="6984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Конкуренція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а даний момент в продажу немає жодної пропозиції яка працює за тим же принципом, що і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06640" y="219240"/>
            <a:ext cx="7770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Скільки коштує?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640" y="24102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За нашими підрахунками, вартість виготовлення USairB становиме приблизно 30-50 доларів за одиницю тов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 4" descr="светлые пятна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62520" y="257400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uk-UA" sz="4800" spc="-1" strike="noStrike" cap="all">
                <a:solidFill>
                  <a:srgbClr val="ffffff"/>
                </a:solidFill>
                <a:latin typeface="Calibri Light"/>
              </a:rPr>
              <a:t>Дякую за увагу</a:t>
            </a: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!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962520" y="4995360"/>
            <a:ext cx="719748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Tech.admin@uk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34240" y="1691640"/>
            <a:ext cx="8588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Майбутнє за нами!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396360" y="4307040"/>
            <a:ext cx="6095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удент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го курсу 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Європейський універс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лій Тар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улик Дми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иповик І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9F111ED35F8CC479449609E8A0923A6" ma:contentTypeVersion="11" ma:contentTypeDescription="Create a new document." ma:contentTypeScope="" ma:versionID="1c2eb7a32e66fb6e4260f3771546a5e2">
  <xsd:schema xmlns:xsd="http://www.w3.org/2001/XMLSchema" xmlns:xs="http://www.w3.org/2001/XMLSchema" xmlns:p="http://schemas.microsoft.com/office/2006/metadata/properties" xmlns:ns2="71af3243-3dd4-4a8d-8c0d-dd76da1f02a5" xmlns:ns3="16c05727-aa75-4e4a-9b5f-8a80a1165891" targetNamespace="http://schemas.microsoft.com/office/2006/metadata/properties" ma:root="true" ma:fieldsID="04e1f6479c48b08974ba73b5ca973489" ns2:_="" ns3:_="">
    <xsd:import namespace="71af3243-3dd4-4a8d-8c0d-dd76da1f02a5"/>
    <xsd:import namespace="16c05727-aa75-4e4a-9b5f-8a80a1165891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OCR" minOccurs="0"/>
                <xsd:element ref="ns2:MediaServiceAutoTags" minOccurs="0"/>
                <xsd:element ref="ns2:MediaServiceEventHashCode" minOccurs="0"/>
                <xsd:element ref="ns2:MediaServiceGenerationTime" minOccurs="0"/>
                <xsd:element ref="ns3:SharedWithUsers" minOccurs="0"/>
                <xsd:element ref="ns3:SharedWithDetails" minOccurs="0"/>
                <xsd:element ref="ns2:MediaServiceAutoKeyPoints" minOccurs="0"/>
                <xsd:element ref="ns2:MediaServiceKeyPoints" minOccurs="0"/>
                <xsd:element ref="ns2:MediaServiceDateTake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1af3243-3dd4-4a8d-8c0d-dd76da1f02a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OCR" ma:index="10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3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6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7" nillable="true" ma:displayName="KeyPoints" ma:internalName="MediaServiceKeyPoints" ma:readOnly="false">
      <xsd:simpleType>
        <xsd:restriction base="dms:Note">
          <xsd:maxLength value="255"/>
        </xsd:restriction>
      </xsd:simpleType>
    </xsd:element>
    <xsd:element name="MediaServiceDateTaken" ma:index="18" nillable="true" ma:displayName="MediaServiceDateTaken" ma:hidden="true" ma:internalName="MediaServiceDateTake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6c05727-aa75-4e4a-9b5f-8a80a1165891" elementFormDefault="qualified">
    <xsd:import namespace="http://schemas.microsoft.com/office/2006/documentManagement/types"/>
    <xsd:import namespace="http://schemas.microsoft.com/office/infopath/2007/PartnerControls"/>
    <xsd:element name="SharedWithUsers" ma:index="14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5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MediaServiceKeyPoints xmlns="71af3243-3dd4-4a8d-8c0d-dd76da1f02a5" xsi:nil="true"/>
  </documentManagement>
</p:properties>
</file>

<file path=customXml/itemProps1.xml><?xml version="1.0" encoding="utf-8"?>
<ds:datastoreItem xmlns:ds="http://schemas.openxmlformats.org/officeDocument/2006/customXml" ds:itemID="{9310845B-7F19-4A9A-BEE4-BEF0501E1A5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1af3243-3dd4-4a8d-8c0d-dd76da1f02a5"/>
    <ds:schemaRef ds:uri="16c05727-aa75-4e4a-9b5f-8a80a1165891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0F1DF1E-36E3-406C-8CF7-DB13BB647087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B85274BF-C111-4B7A-8D90-F7666D37C131}">
  <ds:schemaRefs>
    <ds:schemaRef ds:uri="http://schemas.microsoft.com/office/2006/documentManagement/types"/>
    <ds:schemaRef ds:uri="http://purl.org/dc/terms/"/>
    <ds:schemaRef ds:uri="http://purl.org/dc/dcmitype/"/>
    <ds:schemaRef ds:uri="http://www.w3.org/XML/1998/namespace"/>
    <ds:schemaRef ds:uri="http://schemas.microsoft.com/office/infopath/2007/PartnerControls"/>
    <ds:schemaRef ds:uri="http://schemas.openxmlformats.org/package/2006/metadata/core-properties"/>
    <ds:schemaRef ds:uri="16c05727-aa75-4e4a-9b5f-8a80a1165891"/>
    <ds:schemaRef ds:uri="71af3243-3dd4-4a8d-8c0d-dd76da1f02a5"/>
    <ds:schemaRef ds:uri="http://schemas.microsoft.com/office/2006/metadata/properties"/>
    <ds:schemaRef ds:uri="http://purl.org/dc/elements/1.1/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Будущее в небесном оформлении</Template>
  <TotalTime>0</TotalTime>
  <Application>LibreOffice/7.4.7.2$Linux_X86_64 LibreOffice_project/40$Build-2</Application>
  <AppVersion>15.0000</AppVersion>
  <Words>257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4T16:42:39Z</dcterms:created>
  <dc:creator/>
  <dc:description/>
  <dc:language>en-US</dc:language>
  <cp:lastModifiedBy/>
  <dcterms:modified xsi:type="dcterms:W3CDTF">2020-12-08T23:08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  <property fmtid="{D5CDD505-2E9C-101B-9397-08002B2CF9AE}" pid="3" name="Notes">
    <vt:r8>8</vt:r8>
  </property>
  <property fmtid="{D5CDD505-2E9C-101B-9397-08002B2CF9AE}" pid="4" name="PresentationFormat">
    <vt:lpwstr>Широкоэкранный</vt:lpwstr>
  </property>
  <property fmtid="{D5CDD505-2E9C-101B-9397-08002B2CF9AE}" pid="5" name="Slides">
    <vt:r8>9</vt:r8>
  </property>
</Properties>
</file>