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jpeg" ContentType="image/jpeg"/>
  <Override PartName="/ppt/media/image5.gif" ContentType="image/gif"/>
  <Override PartName="/ppt/media/image16.gif" ContentType="image/gif"/>
  <Override PartName="/ppt/media/image15.gif" ContentType="image/gif"/>
  <Override PartName="/ppt/media/image1.gif" ContentType="image/gif"/>
  <Override PartName="/ppt/media/image3.gif" ContentType="image/gif"/>
  <Override PartName="/ppt/media/image4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10.jpeg" ContentType="image/jpeg"/>
  <Override PartName="/ppt/media/image2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BA1-5714-4E6C-8595-705185A3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C6E-81C2-4FEC-AD92-8E61B9C8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A99-3755-4D2F-8370-F2268437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168-6640-432D-8181-A2554BEA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CE69-1C5C-4CC9-AADC-9329FBDA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613D-4B6B-4D3E-A7DC-B7DA9D9F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FB64-5483-42B6-968C-92D43DDE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6CB6-B6DF-480E-8D4F-9B21D8AB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5C09-C72B-49BF-9EB4-87D80E8D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B728-BB80-4F38-B641-FDA280C9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DFA3-9FE0-4821-9DE2-2E753E7B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A1C-7C85-4A83-8502-1260A36A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903E-70D7-4AAA-91D0-EA9F859C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721B-370B-4DDE-8D21-8A63514C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9573-CB69-471E-953B-3729BA01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F7EB-B4D8-4190-8E05-09DF3EB1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1A6E-4E0A-4FAB-A026-9C209A1F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5B0-DCA9-45C6-811D-27035C56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978-FB83-4990-AF21-111B8215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945-1C7A-4B84-BD66-E0BBE4BC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FA0-AC26-45A7-923F-18D8D3D9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5FE-70F2-4B42-9881-1AEB1199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5D5-14E6-4568-9DC2-24354103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2E0-ECFB-4B3F-A386-DB61388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41B359-6422-4FAF-9FE0-45EA9BC2A675}" type="slidenum">
              <a:rPr b="0" lang="en-US" sz="1200" spc="-1" strike="noStrike">
                <a:solidFill>
                  <a:srgbClr val="8b8b8b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F27706-86FB-4917-9FE4-C953C516E068}" type="slidenum">
              <a:rPr b="0" lang="en-US" sz="1200" spc="-1" strike="noStrike">
                <a:solidFill>
                  <a:srgbClr val="8b8b8b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Lucida Sans Unicode"/>
              </a:rPr>
              <a:t>THE FUTURE TENSES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Lucida Sans Unicode"/>
              </a:rPr>
              <a:t>And Other Ways Of Expressing Future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welcome-18.gif"/>
          <p:cNvPicPr/>
          <p:nvPr/>
        </p:nvPicPr>
        <p:blipFill>
          <a:blip r:embed="rId1"/>
          <a:stretch/>
        </p:blipFill>
        <p:spPr>
          <a:xfrm>
            <a:off x="1676520" y="4724280"/>
            <a:ext cx="563832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Lucida Sans Unicode"/>
              </a:rPr>
              <a:t>Present Continuous/Present Simpl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Be (am/is/are) + V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’m driving/He’s driving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e aren’t going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Are you meeting…?- Yes, I am./No, I’m no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V/V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 go…/He goes…/They go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e don’t play…/She doesn’t play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Do you visit…? – Yes, I do./No, I don’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4" name="Рисунок 5" descr="cheerleadercheeringmega.gif"/>
          <p:cNvPicPr/>
          <p:nvPr/>
        </p:nvPicPr>
        <p:blipFill>
          <a:blip r:embed="rId1"/>
          <a:stretch/>
        </p:blipFill>
        <p:spPr>
          <a:xfrm>
            <a:off x="-380880" y="1066680"/>
            <a:ext cx="2228400" cy="25142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62354961_11cb2637210e.png"/>
          <p:cNvPicPr/>
          <p:nvPr/>
        </p:nvPicPr>
        <p:blipFill>
          <a:blip r:embed="rId2"/>
          <a:stretch/>
        </p:blipFill>
        <p:spPr>
          <a:xfrm>
            <a:off x="6858000" y="3200400"/>
            <a:ext cx="2133360" cy="19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esent Continuous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используется для выражения действий, которые точно произойдут в результате договоренн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e go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 St. Petersburg tomorrow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W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e you do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nigh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esent Simple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используется для выражения действий, происходящих согласно программе, расписанию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y train to Mosc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ave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at 7.15 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 s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tart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at 6pm. Don’t be late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8" name="Рисунок 8" descr="6a00e54ee8552c883300e54f620e678833-800wi.gif"/>
          <p:cNvPicPr/>
          <p:nvPr/>
        </p:nvPicPr>
        <p:blipFill>
          <a:blip r:embed="rId1"/>
          <a:stretch/>
        </p:blipFill>
        <p:spPr>
          <a:xfrm>
            <a:off x="6477120" y="4038480"/>
            <a:ext cx="2514240" cy="2514240"/>
          </a:xfrm>
          <a:prstGeom prst="rect">
            <a:avLst/>
          </a:prstGeom>
          <a:ln w="0">
            <a:noFill/>
          </a:ln>
          <a:scene3d>
            <a:camera prst="orthographicFront">
              <a:rot lat="0" lon="10799999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Lucida Sans Unicode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457840" cy="49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После слов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,while,before,after, as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on as, as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y the time, when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в придаточном предложен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формы будущего времени не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используютс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late agai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very angr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have don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y homework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by the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y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arents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co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om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on’t leave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until t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ey  f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ish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their work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1" name="Рисунок 3" descr="4448d2259f46d416a853e26e7dcd31e3.gif"/>
          <p:cNvPicPr/>
          <p:nvPr/>
        </p:nvPicPr>
        <p:blipFill>
          <a:blip r:embed="rId1"/>
          <a:stretch/>
        </p:blipFill>
        <p:spPr>
          <a:xfrm>
            <a:off x="5486400" y="0"/>
            <a:ext cx="694800" cy="14475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32937099.gif"/>
          <p:cNvPicPr/>
          <p:nvPr/>
        </p:nvPicPr>
        <p:blipFill>
          <a:blip r:embed="rId2"/>
          <a:stretch/>
        </p:blipFill>
        <p:spPr>
          <a:xfrm>
            <a:off x="3048120" y="4724280"/>
            <a:ext cx="1752120" cy="19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70c0"/>
                </a:solidFill>
                <a:latin typeface="Lucida Sans Unicode"/>
              </a:rPr>
              <a:t>So Much For The Theory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4" name="Содержимое 3" descr="5.1251725215.jpg"/>
          <p:cNvPicPr/>
          <p:nvPr/>
        </p:nvPicPr>
        <p:blipFill>
          <a:blip r:embed="rId1"/>
          <a:stretch/>
        </p:blipFill>
        <p:spPr>
          <a:xfrm>
            <a:off x="2743200" y="1600200"/>
            <a:ext cx="351900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Lucida Sans Unicode"/>
              </a:rPr>
              <a:t>FUTURE SIMPL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2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Will/Won’t+V </a:t>
            </a:r>
            <a:r>
              <a:rPr b="1" lang="ru-RU" sz="3600" spc="-1" strike="noStrike">
                <a:solidFill>
                  <a:srgbClr val="002060"/>
                </a:solidFill>
                <a:latin typeface="Lucida Sans Unicode"/>
              </a:rPr>
              <a:t>(нач</a:t>
            </a: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.</a:t>
            </a:r>
            <a:r>
              <a:rPr b="1" lang="ru-RU" sz="3600" spc="-1" strike="noStrike">
                <a:solidFill>
                  <a:srgbClr val="002060"/>
                </a:solidFill>
                <a:latin typeface="Lucida Sans Unicode"/>
              </a:rPr>
              <a:t> форма глагол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 will play… / I’ll pl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He will not read…/He won’t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ill they watch?- Yes, they will/No, they w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Tomorrow, the day after tomorro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next week/ month / year, toni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soon, in a day, in 2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human209.gif"/>
          <p:cNvPicPr/>
          <p:nvPr/>
        </p:nvPicPr>
        <p:blipFill>
          <a:blip r:embed="rId1"/>
          <a:stretch/>
        </p:blipFill>
        <p:spPr>
          <a:xfrm>
            <a:off x="533520" y="3886200"/>
            <a:ext cx="2285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Прогнозы на будущее, основанные на размышлениях, воображении со словами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think,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believe, expect, imagine, I’m sure, I hope, I’m afraid, probably, perhaps, may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ayb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e’ll visi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Grandma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 think the wea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ill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O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бещания, угр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f you don’t come on tim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g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without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re at 5 sharp, I prom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Моментальн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’m hung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mak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you a sandw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8" descr="sw124.gif"/>
          <p:cNvPicPr/>
          <p:nvPr/>
        </p:nvPicPr>
        <p:blipFill>
          <a:blip r:embed="rId1"/>
          <a:stretch/>
        </p:blipFill>
        <p:spPr>
          <a:xfrm>
            <a:off x="7208640" y="243720"/>
            <a:ext cx="900360" cy="1066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Penc.gif"/>
          <p:cNvPicPr/>
          <p:nvPr/>
        </p:nvPicPr>
        <p:blipFill>
          <a:blip r:embed="rId2"/>
          <a:stretch/>
        </p:blipFill>
        <p:spPr>
          <a:xfrm rot="2479800">
            <a:off x="4579560" y="4617000"/>
            <a:ext cx="1527120" cy="19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d3f4"/>
                                      </p:to>
                                    </p:animClr>
                                    <p:animClr clrSpc="rgb">
                                      <p:cBhvr>
                                        <p:cTn id="141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d3f4"/>
                                      </p:to>
                                    </p:animClr>
                                    <p:set>
                                      <p:cBhvr>
                                        <p:cTn id="142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3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Lucida Sans Unicode"/>
              </a:rPr>
              <a:t>FUTURE CONTINUOU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447920"/>
            <a:ext cx="7543440" cy="47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Will+be+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 will be cooking/I’ll be cook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He won’t be sleep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ill you be drawing…?-Yes, I will./No, I w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8b8b8b"/>
                </a:solidFill>
                <a:latin typeface="Lucida Sans Unicode"/>
              </a:rPr>
              <a:t>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This time tomorro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next Sunday at 10 a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tomorrow from 4 till 6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MY SCHOOL TEACHER ANIMATED.gif"/>
          <p:cNvPicPr/>
          <p:nvPr/>
        </p:nvPicPr>
        <p:blipFill>
          <a:blip r:embed="rId1"/>
          <a:stretch/>
        </p:blipFill>
        <p:spPr>
          <a:xfrm>
            <a:off x="0" y="3962520"/>
            <a:ext cx="2361960" cy="26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07696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Действия, которые будут происходить в определенное время в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ill be writ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 test at 3pm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Действия, которые точно произойдут в результате договор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Next Sunday at 11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hey’ll be driv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 Mos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Вежливые вопросы о планах на ближайшее будущее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W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ill you be do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morrow at about 7pm?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be watch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 DVD with my friend. Will you join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’d love 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4448d2259f46d416a853e26e7dcd31e3.gif"/>
          <p:cNvPicPr/>
          <p:nvPr/>
        </p:nvPicPr>
        <p:blipFill>
          <a:blip r:embed="rId1"/>
          <a:stretch/>
        </p:blipFill>
        <p:spPr>
          <a:xfrm>
            <a:off x="7434360" y="96480"/>
            <a:ext cx="914040" cy="2003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liza41.gif"/>
          <p:cNvPicPr/>
          <p:nvPr/>
        </p:nvPicPr>
        <p:blipFill>
          <a:blip r:embed="rId2"/>
          <a:stretch/>
        </p:blipFill>
        <p:spPr>
          <a:xfrm>
            <a:off x="2438280" y="5410080"/>
            <a:ext cx="533160" cy="6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Lucida Sans Unicode"/>
              </a:rPr>
              <a:t>FUTURE PERFEC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848360" cy="54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Will+have+Ved/V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He will have done/He’ll have d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They won’t have finish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ill you have written…? –Yes, I will./No, I w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Before, by, by th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by the ti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until/t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i2174.gif"/>
          <p:cNvPicPr/>
          <p:nvPr/>
        </p:nvPicPr>
        <p:blipFill>
          <a:blip r:embed="rId1"/>
          <a:stretch/>
        </p:blipFill>
        <p:spPr>
          <a:xfrm>
            <a:off x="533520" y="3581280"/>
            <a:ext cx="2361960" cy="28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5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305560" cy="54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Действие, которое закончится к определенному моменту в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ill have bough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 house by the end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he’ll have cooke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dinner by 6 pm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После временных выражений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time, until/till, before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мы используем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esent Simple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, т.к. они вводят придаточные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y the tim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riv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have cleane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 fl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e’ll have don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is homework before his par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com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Как правило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til/till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используются в отрицательных пред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on’t have fixe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 car until/till this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groupe-crayon153.gif"/>
          <p:cNvPicPr/>
          <p:nvPr/>
        </p:nvPicPr>
        <p:blipFill>
          <a:blip r:embed="rId1"/>
          <a:stretch/>
        </p:blipFill>
        <p:spPr>
          <a:xfrm>
            <a:off x="7620120" y="3886200"/>
            <a:ext cx="15235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Lucida Sans Unicode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0006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to be (am/is/are) going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’m going to read…/He’s going to read…/We’re going to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/m not going to do…/She isn’t going to do…/They aren’t going to 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Are you going to stay…?- Yes, I am./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Tomorrow, next Sunda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soon, in a day, in a we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5" descr="ar127925219233287.jpg"/>
          <p:cNvPicPr/>
          <p:nvPr/>
        </p:nvPicPr>
        <p:blipFill>
          <a:blip r:embed="rId1"/>
          <a:stretch/>
        </p:blipFill>
        <p:spPr>
          <a:xfrm>
            <a:off x="6400800" y="4191120"/>
            <a:ext cx="2437920" cy="249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80006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Планы, на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m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ravel in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e’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visit Grandma next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Lucida Sans Unicode"/>
              </a:rPr>
              <a:t>Прогнозы на будущее, основанные на ф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 sky is da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t’s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’m in a traffic j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m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e late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Lucida Sans Unicode"/>
              </a:rPr>
              <a:t>Действия, в совершении которых мы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почти </a:t>
            </a:r>
            <a:r>
              <a:rPr b="1" i="1" lang="ru-RU" sz="2400" spc="-1" strike="noStrike">
                <a:solidFill>
                  <a:srgbClr val="002060"/>
                </a:solidFill>
                <a:latin typeface="Lucida Sans Unicode"/>
              </a:rPr>
              <a:t>увер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y friends and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lay football after school, if we don’t have too much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he’s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ell her car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8" descr="b2cb43b278ac483a33a257c02c1496d4.gif"/>
          <p:cNvPicPr/>
          <p:nvPr/>
        </p:nvPicPr>
        <p:blipFill>
          <a:blip r:embed="rId1"/>
          <a:stretch/>
        </p:blipFill>
        <p:spPr>
          <a:xfrm>
            <a:off x="6781680" y="5257800"/>
            <a:ext cx="1904760" cy="1361880"/>
          </a:xfrm>
          <a:prstGeom prst="rect">
            <a:avLst/>
          </a:prstGeom>
          <a:ln w="0">
            <a:noFill/>
          </a:ln>
          <a:scene3d>
            <a:camera prst="orthographicFront">
              <a:rot lat="0" lon="9300000" rev="0"/>
            </a:camera>
            <a:lightRig dir="t" rig="threePt"/>
          </a:scene3d>
        </p:spPr>
      </p:pic>
      <p:pic>
        <p:nvPicPr>
          <p:cNvPr id="111" name="Рисунок 10" descr="32714806.gif"/>
          <p:cNvPicPr/>
          <p:nvPr/>
        </p:nvPicPr>
        <p:blipFill>
          <a:blip r:embed="rId2"/>
          <a:stretch/>
        </p:blipFill>
        <p:spPr>
          <a:xfrm>
            <a:off x="6248520" y="0"/>
            <a:ext cx="2370600" cy="2052360"/>
          </a:xfrm>
          <a:prstGeom prst="rect">
            <a:avLst/>
          </a:prstGeom>
          <a:ln w="0">
            <a:noFill/>
          </a:ln>
          <a:scene3d>
            <a:camera prst="orthographicFront">
              <a:rot lat="0" lon="10799999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  <Words>810</Words>
  <Paragraphs>10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1:25:08Z</dcterms:created>
  <dc:creator>1</dc:creator>
  <dc:description/>
  <dc:language>en-US</dc:language>
  <cp:lastModifiedBy>79874</cp:lastModifiedBy>
  <dcterms:modified xsi:type="dcterms:W3CDTF">2020-12-03T07:34:56Z</dcterms:modified>
  <cp:revision>146</cp:revision>
  <dc:subject/>
  <dc:title>THE FUTURE TEN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