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15.gif" ContentType="image/gif"/>
  <Override PartName="/ppt/media/image1.gif" ContentType="image/gif"/>
  <Override PartName="/ppt/media/image3.gif" ContentType="image/gif"/>
  <Override PartName="/ppt/media/image4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10.jpeg" ContentType="image/jpeg"/>
  <Override PartName="/ppt/media/image2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2CE-57A8-48D4-845A-A8F8D578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8F0-083E-4CD3-B20B-8701E1FA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D98-7C4C-4118-8366-C9DA8074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636-12FD-43E2-B503-A0BE9F45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59C-3E4F-40F2-BAC5-BFF41E21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D040-18A8-4288-8F58-D9DE62DD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62F-A56C-45DB-B4CF-69340F00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8918-0522-4CED-96A9-C269CEA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81F-4547-4F4F-BA8B-FD08BE37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BF60-CB36-4BEF-846A-078D1E9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C994-CEEB-4D25-9068-6613549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D39-F5E6-4690-934D-990BD07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DB92-7D33-43C0-AC84-45574FC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8B44-DAC1-4080-AD0D-5D610AE7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8129-C25C-48C7-8C9E-2444C636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656-DFF4-4AAA-BB1F-9CA80BC2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A0F3-8C49-4868-9D37-574CF233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273-B836-4DE1-A76E-FFDF2E9B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11D-F43F-4349-9BB7-B0DEA487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7C6-B81A-41EA-B703-F27AC040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35A-8173-441A-BBBD-36DCDB40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29D-4F57-4214-8FD2-6E0AD7E8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763-5E8C-4F52-995F-2CD39AF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2A7-1E94-4D5D-B6EE-1C1DA0BA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7C411E-F61D-4652-BA61-D34E7D43ABF8}" type="slidenum"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Lucida Sans Unicode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876978-4287-43C9-B58C-779884D68B82}" type="slidenum">
              <a:rPr b="0" lang="en-US" sz="1200" spc="-1" strike="noStrike">
                <a:solidFill>
                  <a:srgbClr val="8b8b8b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Lucida Sans Unicode"/>
              </a:rPr>
              <a:t>THE FUTURE TENSES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Lucida Sans Unicode"/>
              </a:rPr>
              <a:t>And Other Ways Of Expressing Futur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welcome-18.gif"/>
          <p:cNvPicPr/>
          <p:nvPr/>
        </p:nvPicPr>
        <p:blipFill>
          <a:blip r:embed="rId1"/>
          <a:stretch/>
        </p:blipFill>
        <p:spPr>
          <a:xfrm>
            <a:off x="1676520" y="4724280"/>
            <a:ext cx="563832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Lucida Sans Unicode"/>
              </a:rPr>
              <a:t>Present Continuous/Present Simpl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Be (am/is/are) + Ving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’m driving/He’s driving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e aren’t going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Are you meeting…?- Yes, I am./No, I’m no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V/V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go…/He goes…/They go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e don’t play…/She doesn’t play…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Do you visit…? – Yes, I do./No, I don’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4" name="Рисунок 5" descr="cheerleadercheeringmega.gif"/>
          <p:cNvPicPr/>
          <p:nvPr/>
        </p:nvPicPr>
        <p:blipFill>
          <a:blip r:embed="rId1"/>
          <a:stretch/>
        </p:blipFill>
        <p:spPr>
          <a:xfrm>
            <a:off x="-380880" y="1066680"/>
            <a:ext cx="2228400" cy="25142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62354961_11cb2637210e.png"/>
          <p:cNvPicPr/>
          <p:nvPr/>
        </p:nvPicPr>
        <p:blipFill>
          <a:blip r:embed="rId2"/>
          <a:stretch/>
        </p:blipFill>
        <p:spPr>
          <a:xfrm>
            <a:off x="6858000" y="3200400"/>
            <a:ext cx="2133360" cy="19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sent Continuous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ется для выражения действий, которые точно произойдут в результате договоренност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g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 St. Petersburg tomorrow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you d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Present Simple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ется для выражения действий, происходящих согласно программе, расписани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train to Mosc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ave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at 7.15 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s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tart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at 6pm. Don’t be late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8" name="Рисунок 8" descr="6a00e54ee8552c883300e54f620e678833-800wi.gif"/>
          <p:cNvPicPr/>
          <p:nvPr/>
        </p:nvPicPr>
        <p:blipFill>
          <a:blip r:embed="rId1"/>
          <a:stretch/>
        </p:blipFill>
        <p:spPr>
          <a:xfrm>
            <a:off x="6477120" y="4038480"/>
            <a:ext cx="2514240" cy="2514240"/>
          </a:xfrm>
          <a:prstGeom prst="rect">
            <a:avLst/>
          </a:prstGeom>
          <a:ln w="0">
            <a:noFill/>
          </a:ln>
          <a:scene3d>
            <a:camera prst="orthographicFront">
              <a:rot lat="0" lon="10799999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457840" cy="49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После слов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,while,before,after, as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oon as, as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y the time, when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в придаточном предложен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формы будущего времени не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используются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late agai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ery angr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homework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y the ti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arents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m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on’t leave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until t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ey  f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ish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their work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1" name="Рисунок 3" descr="4448d2259f46d416a853e26e7dcd31e3.gif"/>
          <p:cNvPicPr/>
          <p:nvPr/>
        </p:nvPicPr>
        <p:blipFill>
          <a:blip r:embed="rId1"/>
          <a:stretch/>
        </p:blipFill>
        <p:spPr>
          <a:xfrm>
            <a:off x="5486400" y="0"/>
            <a:ext cx="694800" cy="14475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32937099.gif"/>
          <p:cNvPicPr/>
          <p:nvPr/>
        </p:nvPicPr>
        <p:blipFill>
          <a:blip r:embed="rId2"/>
          <a:stretch/>
        </p:blipFill>
        <p:spPr>
          <a:xfrm>
            <a:off x="3048120" y="4724280"/>
            <a:ext cx="1752120" cy="19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70c0"/>
                </a:solidFill>
                <a:latin typeface="Lucida Sans Unicode"/>
              </a:rPr>
              <a:t>So Much For The Theory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4" name="Содержимое 3" descr="5.1251725215.jpg"/>
          <p:cNvPicPr/>
          <p:nvPr/>
        </p:nvPicPr>
        <p:blipFill>
          <a:blip r:embed="rId1"/>
          <a:stretch/>
        </p:blipFill>
        <p:spPr>
          <a:xfrm>
            <a:off x="2743200" y="1600200"/>
            <a:ext cx="35190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SIMP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280" y="1523880"/>
            <a:ext cx="8762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/Won’t+V </a:t>
            </a: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(нач</a:t>
            </a: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.</a:t>
            </a:r>
            <a:r>
              <a:rPr b="1" lang="ru-RU" sz="3600" spc="-1" strike="noStrike">
                <a:solidFill>
                  <a:srgbClr val="002060"/>
                </a:solidFill>
                <a:latin typeface="Lucida Sans Unicode"/>
              </a:rPr>
              <a:t> форма глагол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will play… / I’ll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ill not read…/He won’t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they watch?- Yes, they will/No, they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, the day after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ext week/ month / year, ton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oon, in a day, in 2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human209.gif"/>
          <p:cNvPicPr/>
          <p:nvPr/>
        </p:nvPicPr>
        <p:blipFill>
          <a:blip r:embed="rId1"/>
          <a:stretch/>
        </p:blipFill>
        <p:spPr>
          <a:xfrm>
            <a:off x="533520" y="3886200"/>
            <a:ext cx="22856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рогнозы на будущее, основанные на размышлениях, воображении со словами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think,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believe, expect, imagine, I’m sure, I hope, I’m afraid, probably, perhaps, may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ayb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e’ll visi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ndma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 think the wea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O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бещания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f you don’t come on tim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g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re at 5 sharp, I 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Момент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’m hu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make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you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8" descr="sw124.gif"/>
          <p:cNvPicPr/>
          <p:nvPr/>
        </p:nvPicPr>
        <p:blipFill>
          <a:blip r:embed="rId1"/>
          <a:stretch/>
        </p:blipFill>
        <p:spPr>
          <a:xfrm>
            <a:off x="7208640" y="243720"/>
            <a:ext cx="900360" cy="1066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9" descr="Penc.gif"/>
          <p:cNvPicPr/>
          <p:nvPr/>
        </p:nvPicPr>
        <p:blipFill>
          <a:blip r:embed="rId2"/>
          <a:stretch/>
        </p:blipFill>
        <p:spPr>
          <a:xfrm rot="2479800">
            <a:off x="4579560" y="4617000"/>
            <a:ext cx="1527120" cy="19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dd3f4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dd3f4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3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CONTINUOU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447920"/>
            <a:ext cx="7543440" cy="47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+be+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 will be cooking/I’ll be cook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on’t be sleep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you be drawing…?-Yes, I will./No, I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8b8b8b"/>
                </a:solidFill>
                <a:latin typeface="Lucida Sans Unicode"/>
              </a:rPr>
              <a:t>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his time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next Sunday at 10 a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 from 4 till 6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3" descr="MY SCHOOL TEACHER ANIMATED.gif"/>
          <p:cNvPicPr/>
          <p:nvPr/>
        </p:nvPicPr>
        <p:blipFill>
          <a:blip r:embed="rId1"/>
          <a:stretch/>
        </p:blipFill>
        <p:spPr>
          <a:xfrm>
            <a:off x="0" y="3962520"/>
            <a:ext cx="2361960" cy="26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0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которые будут происходить в определенное время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be writ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test at 3pm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которые точно произойдут в результате догово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Next Sunday at 11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they’ll be driv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 Mosc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Вежливые вопросы о планах на ближайшее будущее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W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you be do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omorrow at about 7pm?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be watching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DVD with my friend. Will you join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’d love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4448d2259f46d416a853e26e7dcd31e3.gif"/>
          <p:cNvPicPr/>
          <p:nvPr/>
        </p:nvPicPr>
        <p:blipFill>
          <a:blip r:embed="rId1"/>
          <a:stretch/>
        </p:blipFill>
        <p:spPr>
          <a:xfrm>
            <a:off x="7434360" y="96480"/>
            <a:ext cx="914040" cy="200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liza41.gif"/>
          <p:cNvPicPr/>
          <p:nvPr/>
        </p:nvPicPr>
        <p:blipFill>
          <a:blip r:embed="rId2"/>
          <a:stretch/>
        </p:blipFill>
        <p:spPr>
          <a:xfrm>
            <a:off x="2438280" y="5410080"/>
            <a:ext cx="533160" cy="6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Lucida Sans Unicode"/>
              </a:rPr>
              <a:t>FUTURE PERFEC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848360" cy="54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Will+have+Ved/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He will have done/He’ll have don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They won’t have finish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Will you have written…? –Yes, I will./No, I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efore, by, by th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by the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until/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i2174.gif"/>
          <p:cNvPicPr/>
          <p:nvPr/>
        </p:nvPicPr>
        <p:blipFill>
          <a:blip r:embed="rId1"/>
          <a:stretch/>
        </p:blipFill>
        <p:spPr>
          <a:xfrm>
            <a:off x="533520" y="3581280"/>
            <a:ext cx="2361960" cy="28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30556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Действие, которое закончится к определенному моменту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ill have bought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house by the end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he’ll have cook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dinner by 6 pm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осле временных выражений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time, until/till, before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мы используем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sent Simple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, т.к. они вводят придаточны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y the tim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riv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ll have clean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fl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He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is homework before his par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come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Как правило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til/till</a:t>
            </a:r>
            <a:r>
              <a:rPr b="1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используются в отрицательных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on’t have fixed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car until/till this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4" descr="groupe-crayon153.gif"/>
          <p:cNvPicPr/>
          <p:nvPr/>
        </p:nvPicPr>
        <p:blipFill>
          <a:blip r:embed="rId1"/>
          <a:stretch/>
        </p:blipFill>
        <p:spPr>
          <a:xfrm>
            <a:off x="7620120" y="3886200"/>
            <a:ext cx="1523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8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Lucida Sans Unicode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Lucida Sans Unicode"/>
              </a:rPr>
              <a:t>to be (am/is/are)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’m going to read…/He’s going to read…/We’re going to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I/m not going to do…/She isn’t going to do…/They aren’t going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Lucida Sans Unicode"/>
              </a:rPr>
              <a:t>Are you going to stay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Tomorrow, next Sun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oon, in a day, in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5" descr="ar127925219233287.jpg"/>
          <p:cNvPicPr/>
          <p:nvPr/>
        </p:nvPicPr>
        <p:blipFill>
          <a:blip r:embed="rId1"/>
          <a:stretch/>
        </p:blipFill>
        <p:spPr>
          <a:xfrm>
            <a:off x="6400800" y="4191120"/>
            <a:ext cx="2437920" cy="249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70c0"/>
                </a:solidFill>
                <a:uFillTx/>
                <a:latin typeface="Lucida Sans Unicode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80006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Планы,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ravel in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We’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visit Grandma next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Прогнозы на будущее, основанные на ф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The sky is da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t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’m in a traffic j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e late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Действия, в совершении которых мы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Lucida Sans Unicode"/>
              </a:rPr>
              <a:t>почти </a:t>
            </a:r>
            <a:r>
              <a:rPr b="1" i="1" lang="ru-RU" sz="2400" spc="-1" strike="noStrike">
                <a:solidFill>
                  <a:srgbClr val="002060"/>
                </a:solidFill>
                <a:latin typeface="Lucida Sans Unicode"/>
              </a:rPr>
              <a:t>уве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y friends and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lay football after school, if we don’t have too much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he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ell her car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8" descr="b2cb43b278ac483a33a257c02c1496d4.gif"/>
          <p:cNvPicPr/>
          <p:nvPr/>
        </p:nvPicPr>
        <p:blipFill>
          <a:blip r:embed="rId1"/>
          <a:stretch/>
        </p:blipFill>
        <p:spPr>
          <a:xfrm>
            <a:off x="6781680" y="5257800"/>
            <a:ext cx="1904760" cy="1361880"/>
          </a:xfrm>
          <a:prstGeom prst="rect">
            <a:avLst/>
          </a:prstGeom>
          <a:ln w="0">
            <a:noFill/>
          </a:ln>
          <a:scene3d>
            <a:camera prst="orthographicFront">
              <a:rot lat="0" lon="9300000" rev="0"/>
            </a:camera>
            <a:lightRig dir="t" rig="threePt"/>
          </a:scene3d>
        </p:spPr>
      </p:pic>
      <p:pic>
        <p:nvPicPr>
          <p:cNvPr id="111" name="Рисунок 10" descr="32714806.gif"/>
          <p:cNvPicPr/>
          <p:nvPr/>
        </p:nvPicPr>
        <p:blipFill>
          <a:blip r:embed="rId2"/>
          <a:stretch/>
        </p:blipFill>
        <p:spPr>
          <a:xfrm>
            <a:off x="6248520" y="0"/>
            <a:ext cx="2370600" cy="2052360"/>
          </a:xfrm>
          <a:prstGeom prst="rect">
            <a:avLst/>
          </a:prstGeom>
          <a:ln w="0">
            <a:noFill/>
          </a:ln>
          <a:scene3d>
            <a:camera prst="orthographicFront">
              <a:rot lat="0" lon="10799999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  <Words>810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1:25:08Z</dcterms:created>
  <dc:creator>1</dc:creator>
  <dc:description/>
  <dc:language>en-US</dc:language>
  <cp:lastModifiedBy>79874</cp:lastModifiedBy>
  <dcterms:modified xsi:type="dcterms:W3CDTF">2020-12-03T07:34:56Z</dcterms:modified>
  <cp:revision>146</cp:revision>
  <dc:subject/>
  <dc:title>THE FUTURE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