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3.gif" ContentType="image/gif"/>
  <Override PartName="/ppt/media/image4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10.jpeg" ContentType="image/jpeg"/>
  <Override PartName="/ppt/media/image2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DB5-ABCE-47A3-8F1C-842C524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A5D-22BA-4C23-AEC9-A3D34A3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6EA-19E3-49B4-A220-01A702CC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908-6F2D-4185-AB1C-4F3E2DCD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E8C2-D1E4-42F9-AB44-5298975C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6AD-92B9-47D5-9C42-D10B1603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1AD0-9034-4F45-AF23-4C02280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A947-1F29-489E-B340-16966BE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87BA-3A84-47AF-A5C9-62C5300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3AB-970A-437D-8168-E4D0D56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F03-4D50-4FE0-8707-0D80A5A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FAD-8522-4B34-A658-947D56C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DC85-6425-47B0-BAE6-BDF0047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CFAE-F50D-4423-80B5-B243D17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0FF-FDD0-4B6C-B1FD-92EDE9B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9C13-5CA9-4D0A-AE0F-6A064E0E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A3B7-30D8-40D6-A40B-C65BC14D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248-63CB-445C-BD55-2A8DCF7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28B-AFBC-44DC-BE83-13E3734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AFA-0D01-417C-8F2A-47A4B4A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389-20D5-4E49-B8F8-69F28FA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1C5-C96B-4562-8FDC-92A3B0F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717-35DE-459F-AD0C-4B64BEB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A29-F9FA-4FBD-8192-F7ECA0D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51948-2FB9-4F97-917C-147151189A6D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A7085F-AEB5-46E5-9FCB-B8EA0AD3EBC8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Lucida Sans Unicode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Lucida Sans Unicode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welcome-18.gif"/>
          <p:cNvPicPr/>
          <p:nvPr/>
        </p:nvPicPr>
        <p:blipFill>
          <a:blip r:embed="rId1"/>
          <a:stretch/>
        </p:blipFill>
        <p:spPr>
          <a:xfrm>
            <a:off x="1676520" y="4724280"/>
            <a:ext cx="563832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Lucida Sans Unicode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V/V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" name="Рисунок 5" descr="cheerleadercheeringmega.gif"/>
          <p:cNvPicPr/>
          <p:nvPr/>
        </p:nvPicPr>
        <p:blipFill>
          <a:blip r:embed="rId1"/>
          <a:stretch/>
        </p:blipFill>
        <p:spPr>
          <a:xfrm>
            <a:off x="-380880" y="1066680"/>
            <a:ext cx="2228400" cy="2514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62354961_11cb2637210e.png"/>
          <p:cNvPicPr/>
          <p:nvPr/>
        </p:nvPicPr>
        <p:blipFill>
          <a:blip r:embed="rId2"/>
          <a:stretch/>
        </p:blipFill>
        <p:spPr>
          <a:xfrm>
            <a:off x="6858000" y="3200400"/>
            <a:ext cx="2133360" cy="19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Continuous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St. Petersburg tomorro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you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Simple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происходящих согласно программе, расписан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train to Mosc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ave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7.15 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tart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6pm. Don’t be lat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8" descr="6a00e54ee8552c883300e54f620e678833-800wi.gif"/>
          <p:cNvPicPr/>
          <p:nvPr/>
        </p:nvPicPr>
        <p:blipFill>
          <a:blip r:embed="rId1"/>
          <a:stretch/>
        </p:blipFill>
        <p:spPr>
          <a:xfrm>
            <a:off x="6477120" y="4038480"/>
            <a:ext cx="2514240" cy="251424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1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5486400" y="0"/>
            <a:ext cx="694800" cy="1447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32937099.gif"/>
          <p:cNvPicPr/>
          <p:nvPr/>
        </p:nvPicPr>
        <p:blipFill>
          <a:blip r:embed="rId2"/>
          <a:stretch/>
        </p:blipFill>
        <p:spPr>
          <a:xfrm>
            <a:off x="3048120" y="4724280"/>
            <a:ext cx="1752120" cy="19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70c0"/>
                </a:solidFill>
                <a:latin typeface="Lucida Sans Unicode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190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2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/Won’t+V 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(нач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 форма глаго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human209.gif"/>
          <p:cNvPicPr/>
          <p:nvPr/>
        </p:nvPicPr>
        <p:blipFill>
          <a:blip r:embed="rId1"/>
          <a:stretch/>
        </p:blipFill>
        <p:spPr>
          <a:xfrm>
            <a:off x="533520" y="3886200"/>
            <a:ext cx="228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think,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sw124.gif"/>
          <p:cNvPicPr/>
          <p:nvPr/>
        </p:nvPicPr>
        <p:blipFill>
          <a:blip r:embed="rId1"/>
          <a:stretch/>
        </p:blipFill>
        <p:spPr>
          <a:xfrm>
            <a:off x="7208640" y="243720"/>
            <a:ext cx="900360" cy="1066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Penc.gif"/>
          <p:cNvPicPr/>
          <p:nvPr/>
        </p:nvPicPr>
        <p:blipFill>
          <a:blip r:embed="rId2"/>
          <a:stretch/>
        </p:blipFill>
        <p:spPr>
          <a:xfrm rot="2479800">
            <a:off x="4579560" y="461700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3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CONTINUO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447920"/>
            <a:ext cx="754344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be+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be cooking/I’ll be coo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on’t be sleep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be drawing…?-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8b8b8b"/>
                </a:solidFill>
                <a:latin typeface="Lucida Sans Unicode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his time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0 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 from 4 till 6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MY SCHOOL TEACHER ANIMATED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будут происходить в определенное время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writ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test at 3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1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hey’ll be driv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Mos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Вежливые вопросы о планах на ближайшее будущее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you be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orrow at about 7pm?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watch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DVD with my friend. Will you join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d love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7434360" y="96480"/>
            <a:ext cx="914040" cy="200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liza41.gif"/>
          <p:cNvPicPr/>
          <p:nvPr/>
        </p:nvPicPr>
        <p:blipFill>
          <a:blip r:embed="rId2"/>
          <a:stretch/>
        </p:blipFill>
        <p:spPr>
          <a:xfrm>
            <a:off x="2438280" y="5410080"/>
            <a:ext cx="533160" cy="6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PERFEC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848360" cy="54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have+Ved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have done/He’ll have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They won’t have finish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have written…? –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efore, by, by th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i2174.gif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30556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е, которое закончится к определенному моменту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have bough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house by the end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ll have cook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inner by 6 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осле временных выражений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ime, until/till, befor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ы используем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sent Simple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, т.к. они вводят придаточны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y the tim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riv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clean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e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is homework before his par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Как правило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ются в отрицательны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have fix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car until/till this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groupe-crayon153.gif"/>
          <p:cNvPicPr/>
          <p:nvPr/>
        </p:nvPicPr>
        <p:blipFill>
          <a:blip r:embed="rId1"/>
          <a:stretch/>
        </p:blipFill>
        <p:spPr>
          <a:xfrm>
            <a:off x="7620120" y="3886200"/>
            <a:ext cx="1523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Lucida Sans Unicode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5" descr="ar127925219233287.jpg"/>
          <p:cNvPicPr/>
          <p:nvPr/>
        </p:nvPicPr>
        <p:blipFill>
          <a:blip r:embed="rId1"/>
          <a:stretch/>
        </p:blipFill>
        <p:spPr>
          <a:xfrm>
            <a:off x="6400800" y="4191120"/>
            <a:ext cx="2437920" cy="24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b2cb43b278ac483a33a257c02c1496d4.gif"/>
          <p:cNvPicPr/>
          <p:nvPr/>
        </p:nvPicPr>
        <p:blipFill>
          <a:blip r:embed="rId1"/>
          <a:stretch/>
        </p:blipFill>
        <p:spPr>
          <a:xfrm>
            <a:off x="6781680" y="5257800"/>
            <a:ext cx="1904760" cy="1361880"/>
          </a:xfrm>
          <a:prstGeom prst="rect">
            <a:avLst/>
          </a:prstGeom>
          <a:ln w="0">
            <a:noFill/>
          </a:ln>
          <a:scene3d>
            <a:camera prst="orthographicFront">
              <a:rot lat="0" lon="9300000" rev="0"/>
            </a:camera>
            <a:lightRig dir="t" rig="threePt"/>
          </a:scene3d>
        </p:spPr>
      </p:pic>
      <p:pic>
        <p:nvPicPr>
          <p:cNvPr id="111" name="Рисунок 10" descr="32714806.gif"/>
          <p:cNvPicPr/>
          <p:nvPr/>
        </p:nvPicPr>
        <p:blipFill>
          <a:blip r:embed="rId2"/>
          <a:stretch/>
        </p:blipFill>
        <p:spPr>
          <a:xfrm>
            <a:off x="6248520" y="0"/>
            <a:ext cx="2370600" cy="205236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  <Words>810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79874</cp:lastModifiedBy>
  <dcterms:modified xsi:type="dcterms:W3CDTF">2020-12-03T07:34:56Z</dcterms:modified>
  <cp:revision>146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