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20FC-7E0D-4D78-B854-EC4F6747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5FD2-D0DF-40D1-AF31-DA41ABF8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E10-E68E-4462-88CD-DE9E99F5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8B6-6E25-4C15-A121-73E4A79E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B168-F41B-4671-A64A-FF185F3E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FE0E-E455-41CA-AB5D-AA508A20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6EF8-A2D5-4380-A74C-EDAADDBF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0190-D778-4264-844D-24595320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6699-4436-4D79-BFAF-AEC424E2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1AF5-BB6D-4E20-B0C9-7EDC1A35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9E2E-7D7F-4079-B309-36ABA867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9A7E-ED3B-4D4E-B071-07DF324B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06B3-E120-41C6-B4CC-B6389154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8FFB-BA35-4569-8990-C4CB99F0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94C6-9CE0-4460-9C99-8CF4A101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E4167-1632-4619-83EF-7D3359A31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C974-5D06-46B1-A66C-546CB266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CA47D-B236-4304-B299-5CE76E7F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6385-71EC-4711-BBF2-F0BF3E80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A077-CA82-4D45-A387-990B1E5B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B442-27A5-4BB2-B4DF-8C125D9E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7C10A-8EBF-4F88-B5D4-30085AD4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F5A-25BC-4E6A-94A7-E32BBFA6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736E8-C464-4504-BEC2-6B7977FB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EA723-0D39-42BC-BA3C-3FE1BF7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EDBE3-36AF-4F23-AB51-30EE6D6A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BE62-1C15-4304-AB9D-892FE259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AE4A-FF3F-4A45-A75A-8632285B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07604-BA33-4A6D-A684-74865CE6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A2A74-8031-4A52-AD51-67C41089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6DBD9-7090-4D4B-849F-8BDBF4DA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3C311-4726-49E2-B830-988FAF1B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A91B6-7947-45BC-A480-C20DD19A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AAC-DE52-45D9-AA41-A0D2B282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B67FA-75CB-4A20-B97D-0CE8D520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045FE-CDFB-4332-9EC8-38206A28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51539-48BF-4B81-987F-5CE911EA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C46F-8DF5-4841-98E4-EB778994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18CB7-24E8-4C2E-9374-D2E5163A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880C9-B2E8-47DA-9F96-CDF24E91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403E2-CCC5-4E80-9E11-975F73F9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91ABC-0158-4B30-8F6B-0FE054B7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069FF-4761-40B6-9548-4B46A509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E2D-C3BB-4B0A-BABF-D8307899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ED5-5D02-4528-9771-A69C4EA6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1A30-04DD-40C6-BCFD-1E047056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B70-6892-4EDC-97F1-C953DD3F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40E-AE66-4600-AAED-A0B41BAB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A8BE2C-82CD-421B-B9B6-65359E7B484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59F018-C995-4E4C-A88D-CEDD52E0607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691F8C-E27A-4309-9684-4BEA04C8EA2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427809-74F0-46E7-B882-44882DD743D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46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Знакомство со средой 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7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r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1"/>
          <a:stretch/>
        </p:blipFill>
        <p:spPr>
          <a:xfrm>
            <a:off x="2033280" y="825120"/>
            <a:ext cx="41907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изуальная событийно-ориентированная среда программирования, созданная для детей и подростков. Название произошло от слова scratching - техники, используемой хип-хоп-диджеями, которые крутят виниловые пластинки вперед-назад руками для того, чтобы смешивать музыкальные тем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333333"/>
              </a:buClr>
              <a:buFont typeface="Arial"/>
              <a:buChar char="•"/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Год выхода: 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002 г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3" descr=""/>
          <p:cNvPicPr/>
          <p:nvPr/>
        </p:nvPicPr>
        <p:blipFill>
          <a:blip r:embed="rId1"/>
          <a:stretch/>
        </p:blipFill>
        <p:spPr>
          <a:xfrm>
            <a:off x="628560" y="365040"/>
            <a:ext cx="407628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Domine"/>
              </a:rPr>
              <a:t>Скретч</a:t>
            </a:r>
            <a:r>
              <a:rPr b="1" lang="en-US" sz="2800" spc="-1" strike="noStrike">
                <a:solidFill>
                  <a:srgbClr val="222222"/>
                </a:solidFill>
                <a:latin typeface="Domine"/>
              </a:rPr>
              <a:t> - </a:t>
            </a:r>
            <a:r>
              <a:rPr b="1" lang="ru-RU" sz="2800" spc="-1" strike="noStrike">
                <a:solidFill>
                  <a:srgbClr val="222222"/>
                </a:solidFill>
                <a:latin typeface="Domine"/>
              </a:rPr>
              <a:t>это</a:t>
            </a:r>
            <a:r>
              <a:rPr b="1" lang="en-US" sz="2800" spc="-1" strike="noStrike">
                <a:solidFill>
                  <a:srgbClr val="222222"/>
                </a:solidFill>
                <a:latin typeface="Domine"/>
              </a:rPr>
              <a:t> </a:t>
            </a:r>
            <a:r>
              <a:rPr b="1" lang="ru-RU" sz="2800" spc="-1" strike="noStrike">
                <a:solidFill>
                  <a:srgbClr val="222222"/>
                </a:solidFill>
                <a:latin typeface="Domine"/>
              </a:rPr>
              <a:t>детский язык программирования. Он очень похож на конструктор Лего, программы собираются из разноцветных «кирпичиков» – блоков. Он настолько прост и понятен, что изучать его могут дети 7-8 летнего возраста. Главное, чтобы они умели читать и</a:t>
            </a:r>
            <a:r>
              <a:rPr b="1" lang="en-US" sz="2800" spc="-1" strike="noStrike">
                <a:solidFill>
                  <a:srgbClr val="222222"/>
                </a:solidFill>
                <a:latin typeface="Domine"/>
              </a:rPr>
              <a:t>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222222"/>
                </a:solidFill>
                <a:latin typeface="Domine"/>
              </a:rPr>
              <a:t>считать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628560" y="342000"/>
            <a:ext cx="407628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3" descr=""/>
          <p:cNvPicPr/>
          <p:nvPr/>
        </p:nvPicPr>
        <p:blipFill>
          <a:blip r:embed="rId1"/>
          <a:stretch/>
        </p:blipFill>
        <p:spPr>
          <a:xfrm>
            <a:off x="0" y="32760"/>
            <a:ext cx="9187560" cy="682488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с двумя скругленными противолежащими углами 4"/>
          <p:cNvSpPr/>
          <p:nvPr/>
        </p:nvSpPr>
        <p:spPr>
          <a:xfrm>
            <a:off x="3012120" y="2649240"/>
            <a:ext cx="2877480" cy="102168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сто для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с двумя скругленными противолежащими углами 5"/>
          <p:cNvSpPr/>
          <p:nvPr/>
        </p:nvSpPr>
        <p:spPr>
          <a:xfrm>
            <a:off x="7099920" y="528912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но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с двумя скругленными противолежащими углами 6"/>
          <p:cNvSpPr/>
          <p:nvPr/>
        </p:nvSpPr>
        <p:spPr>
          <a:xfrm>
            <a:off x="6391800" y="111168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>
              <a:alpha val="4000"/>
            </a:schemeClr>
          </a:solidFill>
          <a:ln>
            <a:solidFill>
              <a:srgbClr val="5b9bd5">
                <a:shade val="50000"/>
                <a:alpha val="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ц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с двумя скругленными противолежащими углами 7"/>
          <p:cNvSpPr/>
          <p:nvPr/>
        </p:nvSpPr>
        <p:spPr>
          <a:xfrm>
            <a:off x="1801800" y="5047200"/>
            <a:ext cx="2043720" cy="7884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бор кома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двумя скругленными противолежащими углами 8"/>
          <p:cNvSpPr/>
          <p:nvPr/>
        </p:nvSpPr>
        <p:spPr>
          <a:xfrm>
            <a:off x="0" y="331560"/>
            <a:ext cx="1416240" cy="4478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с двумя скругленными противолежащими углами 9"/>
          <p:cNvSpPr/>
          <p:nvPr/>
        </p:nvSpPr>
        <p:spPr>
          <a:xfrm>
            <a:off x="2505600" y="1737000"/>
            <a:ext cx="3133800" cy="4478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bg1"/>
          </a:solidFill>
          <a:ln>
            <a:solidFill>
              <a:srgbClr val="43729d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лючате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кно объект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Рисунок 4" descr=""/>
          <p:cNvPicPr/>
          <p:nvPr/>
        </p:nvPicPr>
        <p:blipFill>
          <a:blip r:embed="rId1"/>
          <a:stretch/>
        </p:blipFill>
        <p:spPr>
          <a:xfrm>
            <a:off x="477720" y="1967400"/>
            <a:ext cx="8037360" cy="4106160"/>
          </a:xfrm>
          <a:prstGeom prst="rect">
            <a:avLst/>
          </a:prstGeom>
          <a:ln w="0">
            <a:noFill/>
          </a:ln>
        </p:spPr>
      </p:pic>
      <p:cxnSp>
        <p:nvCxnSpPr>
          <p:cNvPr id="182" name="Прямая со стрелкой 6"/>
          <p:cNvCxnSpPr/>
          <p:nvPr/>
        </p:nvCxnSpPr>
        <p:spPr>
          <a:xfrm flipV="1">
            <a:off x="1519200" y="3912840"/>
            <a:ext cx="753480" cy="403920"/>
          </a:xfrm>
          <a:prstGeom prst="straightConnector1">
            <a:avLst/>
          </a:prstGeom>
          <a:ln w="66675">
            <a:solidFill>
              <a:srgbClr val="ffffff"/>
            </a:solidFill>
            <a:headEnd len="med" type="triangle" w="med"/>
            <a:tailEnd len="med" type="triangle" w="med"/>
          </a:ln>
        </p:spPr>
      </p:cxnSp>
      <p:sp>
        <p:nvSpPr>
          <p:cNvPr id="183" name="Скругленная прямоугольная выноска 9"/>
          <p:cNvSpPr/>
          <p:nvPr/>
        </p:nvSpPr>
        <p:spPr>
          <a:xfrm>
            <a:off x="2030400" y="4558680"/>
            <a:ext cx="1909080" cy="820080"/>
          </a:xfrm>
          <a:prstGeom prst="wedgeRoundRectCallout">
            <a:avLst>
              <a:gd name="adj1" fmla="val -54636"/>
              <a:gd name="adj2" fmla="val -103074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еключение между объек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ая прямоугольная выноска 10"/>
          <p:cNvSpPr/>
          <p:nvPr/>
        </p:nvSpPr>
        <p:spPr>
          <a:xfrm>
            <a:off x="2985120" y="3092760"/>
            <a:ext cx="1155960" cy="820080"/>
          </a:xfrm>
          <a:prstGeom prst="wedgeRoundRectCallout">
            <a:avLst>
              <a:gd name="adj1" fmla="val -54636"/>
              <a:gd name="adj2" fmla="val -103074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с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ая прямоугольная выноска 11"/>
          <p:cNvSpPr/>
          <p:nvPr/>
        </p:nvSpPr>
        <p:spPr>
          <a:xfrm>
            <a:off x="4496400" y="1419120"/>
            <a:ext cx="1155960" cy="820080"/>
          </a:xfrm>
          <a:prstGeom prst="wedgeRoundRectCallout">
            <a:avLst>
              <a:gd name="adj1" fmla="val -137194"/>
              <a:gd name="adj2" fmla="val 49385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ая прямоугольная выноска 12"/>
          <p:cNvSpPr/>
          <p:nvPr/>
        </p:nvSpPr>
        <p:spPr>
          <a:xfrm>
            <a:off x="5653080" y="2787840"/>
            <a:ext cx="1742760" cy="820080"/>
          </a:xfrm>
          <a:prstGeom prst="wedgeRoundRectCallout">
            <a:avLst>
              <a:gd name="adj1" fmla="val -173240"/>
              <a:gd name="adj2" fmla="val -86681"/>
              <a:gd name="adj3" fmla="val 16667"/>
            </a:avLst>
          </a:prstGeom>
          <a:solidFill>
            <a:schemeClr val="bg1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брать случай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к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 useBgFill="1">
        <p:nvSpPr>
          <p:cNvPr id="187" name="Rectangle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8" name="Рисунок 4" descr="Изображение выглядит как человек, внешний, мужчина, костюм&#10;&#10;Автоматически созданное описание"/>
          <p:cNvPicPr/>
          <p:nvPr/>
        </p:nvPicPr>
        <p:blipFill>
          <a:blip r:embed="rId1"/>
          <a:srcRect l="2406" t="0" r="3654" b="0"/>
          <a:stretch/>
        </p:blipFill>
        <p:spPr>
          <a:xfrm>
            <a:off x="513360" y="685800"/>
            <a:ext cx="8115840" cy="54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Тема 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71</TotalTime>
  <Application>LibreOffice/7.4.7.2$Linux_X86_64 LibreOffice_project/40$Build-2</Application>
  <AppVersion>15.0000</AppVersion>
  <Words>99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23:43:05Z</dcterms:created>
  <dc:creator>Мария Берестюк</dc:creator>
  <dc:description/>
  <dc:language>en-US</dc:language>
  <cp:lastModifiedBy>Ardu-10</cp:lastModifiedBy>
  <dcterms:modified xsi:type="dcterms:W3CDTF">2020-12-03T05:14:37Z</dcterms:modified>
  <cp:revision>20</cp:revision>
  <dc:subject/>
  <dc:title>Знакомство со средо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