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8F0-A09C-430A-83A6-E811E0A8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0F4-57F2-418F-8935-402712B1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2E3-532C-4EBC-A60B-A96246FE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FB8-3E3C-4C4E-99A1-747D6CA0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3404-D4ED-4D6C-BD5C-B44D8838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AF12-CFA8-4956-95D3-E2FA4160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0B2E-65BC-4B78-8F66-E771A9AD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04B2-5954-48EE-92CD-A408D342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43F-ECD3-4379-8B19-4EA9F12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C8E8-16D8-4F41-A521-8E767818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20AD-B2F4-4558-A0B9-C6090A30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7E4-626A-4755-A837-77628362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82DA-420A-48D7-BC77-6774AEF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A51C-9D47-4B9E-9648-CA128A58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020F-DB43-461E-B7BD-ACA3BBFE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B16D-10EC-4A44-9FEB-64E10885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706C-4C10-4010-B9AF-4BC9492D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3B3A7-9789-40EF-AABE-5627374F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D2A4-500F-4D96-8A06-4B7011BD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C060-F1A3-4481-8368-3D34A82C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5C82-9C80-47BB-AF4F-67520105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3153-D135-4E09-BD22-CA49DE37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D11-27C5-423E-950C-7C4A8478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0421-D0EF-42EC-A76F-03936388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DB99-F2D6-4F26-B95B-6C413418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4105-457E-47BD-964A-791BDFDF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2CD5-A0D0-475B-AD87-8EE03DB3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FEBA-C742-44AA-825A-65066DDB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C81E-6899-45EE-A781-F30C57EB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D5C6-50CB-484F-8DF2-04AB610D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1A9D-605E-4924-9B0A-4BE5B9FA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D8BE-3515-4354-A765-B80D2AF6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341F-66E6-4193-9A86-53A2F838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C4E-A48B-481E-9571-7B11216C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B14DB-2B03-41E3-AB4D-C81BAE6B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C6223-A570-4D62-B44A-B2D44F79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8F78-683F-44E4-AD64-1E2F9C3B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E2BFC-DFE3-4CDD-BA7A-7DC2FEC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0D708-0C1A-4E8A-AC22-5F1140B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5DBD-98B4-4C93-9120-E25864C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37A4-A1FA-4AB8-AD45-D3CF4F21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AB58-3608-408F-89F7-4467D1B9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8498D-3499-428F-B032-BAC79D5E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43E-32C3-4FEE-A5F9-034B74F5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3AE-33BB-425C-AFC6-F7B0F0E0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099-1895-49D2-9804-C63EA94A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123-8045-4911-8E9D-47399B41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C9A-41E8-4B1A-9F16-5018FA69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8EAE82-831B-4183-A5C4-091BDEDD9FF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B1AA42-EDA6-434F-9338-ED8EBFC2384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96FC3B-BA21-4806-8C09-C06D115EDB9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8659FC-4E43-4AAE-A233-B9DE8624104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46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Знакомство со средой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r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2033280" y="825120"/>
            <a:ext cx="41907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изуальная событийно-ориентированная среда программирования, созданная для детей и подростков. Название произошло от слова scratching - техники, используемой хип-хоп-диджеями, которые крутят виниловые пластинки вперед-назад руками для того, чтобы смешивать музыкальные тем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Год выхода: 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2002 г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4076280" cy="13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Domine"/>
              </a:rPr>
              <a:t>Скретч</a:t>
            </a:r>
            <a:r>
              <a:rPr b="1" lang="en-US" sz="2800" spc="-1" strike="noStrike">
                <a:solidFill>
                  <a:srgbClr val="222222"/>
                </a:solidFill>
                <a:latin typeface="Domine"/>
              </a:rPr>
              <a:t> - </a:t>
            </a:r>
            <a:r>
              <a:rPr b="1" lang="ru-RU" sz="2800" spc="-1" strike="noStrike">
                <a:solidFill>
                  <a:srgbClr val="222222"/>
                </a:solidFill>
                <a:latin typeface="Domine"/>
              </a:rPr>
              <a:t>это</a:t>
            </a:r>
            <a:r>
              <a:rPr b="1" lang="en-US" sz="2800" spc="-1" strike="noStrike">
                <a:solidFill>
                  <a:srgbClr val="222222"/>
                </a:solidFill>
                <a:latin typeface="Domine"/>
              </a:rPr>
              <a:t> </a:t>
            </a:r>
            <a:r>
              <a:rPr b="1" lang="ru-RU" sz="2800" spc="-1" strike="noStrike">
                <a:solidFill>
                  <a:srgbClr val="222222"/>
                </a:solidFill>
                <a:latin typeface="Domine"/>
              </a:rPr>
              <a:t>детский язык программирования. Он очень похож на конструктор Лего, программы собираются из разноцветных «кирпичиков» – блоков. Он настолько прост и понятен, что изучать его могут дети 7-8 летнего возраста. Главное, чтобы они умели читать и</a:t>
            </a:r>
            <a:r>
              <a:rPr b="1" lang="en-US" sz="2800" spc="-1" strike="noStrike">
                <a:solidFill>
                  <a:srgbClr val="222222"/>
                </a:solidFill>
                <a:latin typeface="Domine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Domine"/>
              </a:rPr>
              <a:t>считать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628560" y="342000"/>
            <a:ext cx="4076280" cy="13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3" descr=""/>
          <p:cNvPicPr/>
          <p:nvPr/>
        </p:nvPicPr>
        <p:blipFill>
          <a:blip r:embed="rId1"/>
          <a:stretch/>
        </p:blipFill>
        <p:spPr>
          <a:xfrm>
            <a:off x="0" y="32760"/>
            <a:ext cx="9187560" cy="68248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с двумя скругленными противолежащими углами 4"/>
          <p:cNvSpPr/>
          <p:nvPr/>
        </p:nvSpPr>
        <p:spPr>
          <a:xfrm>
            <a:off x="3012120" y="2649240"/>
            <a:ext cx="2877480" cy="102168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 для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с двумя скругленными противолежащими углами 5"/>
          <p:cNvSpPr/>
          <p:nvPr/>
        </p:nvSpPr>
        <p:spPr>
          <a:xfrm>
            <a:off x="7099920" y="528912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противолежащими углами 6"/>
          <p:cNvSpPr/>
          <p:nvPr/>
        </p:nvSpPr>
        <p:spPr>
          <a:xfrm>
            <a:off x="6391800" y="111168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>
              <a:alpha val="4000"/>
            </a:schemeClr>
          </a:solidFill>
          <a:ln>
            <a:solidFill>
              <a:srgbClr val="5b9bd5">
                <a:shade val="50000"/>
                <a:alpha val="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с двумя скругленными противолежащими углами 7"/>
          <p:cNvSpPr/>
          <p:nvPr/>
        </p:nvSpPr>
        <p:spPr>
          <a:xfrm>
            <a:off x="1801800" y="504720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двумя скругленными противолежащими углами 8"/>
          <p:cNvSpPr/>
          <p:nvPr/>
        </p:nvSpPr>
        <p:spPr>
          <a:xfrm>
            <a:off x="0" y="331560"/>
            <a:ext cx="1416240" cy="44784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с двумя скругленными противолежащими углами 9"/>
          <p:cNvSpPr/>
          <p:nvPr/>
        </p:nvSpPr>
        <p:spPr>
          <a:xfrm>
            <a:off x="2505600" y="1737000"/>
            <a:ext cx="3133800" cy="44784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люча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кно объект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4" descr=""/>
          <p:cNvPicPr/>
          <p:nvPr/>
        </p:nvPicPr>
        <p:blipFill>
          <a:blip r:embed="rId1"/>
          <a:stretch/>
        </p:blipFill>
        <p:spPr>
          <a:xfrm>
            <a:off x="477720" y="1967400"/>
            <a:ext cx="8037360" cy="4106160"/>
          </a:xfrm>
          <a:prstGeom prst="rect">
            <a:avLst/>
          </a:prstGeom>
          <a:ln w="0">
            <a:noFill/>
          </a:ln>
        </p:spPr>
      </p:pic>
      <p:cxnSp>
        <p:nvCxnSpPr>
          <p:cNvPr id="182" name="Прямая со стрелкой 6"/>
          <p:cNvCxnSpPr/>
          <p:nvPr/>
        </p:nvCxnSpPr>
        <p:spPr>
          <a:xfrm flipV="1">
            <a:off x="1519200" y="3912840"/>
            <a:ext cx="753480" cy="403920"/>
          </a:xfrm>
          <a:prstGeom prst="straightConnector1">
            <a:avLst/>
          </a:prstGeom>
          <a:ln w="66675">
            <a:solidFill>
              <a:srgbClr val="ffffff"/>
            </a:solidFill>
            <a:headEnd len="med" type="triangle" w="med"/>
            <a:tailEnd len="med" type="triangle" w="med"/>
          </a:ln>
        </p:spPr>
      </p:cxnSp>
      <p:sp>
        <p:nvSpPr>
          <p:cNvPr id="183" name="Скругленная прямоугольная выноска 9"/>
          <p:cNvSpPr/>
          <p:nvPr/>
        </p:nvSpPr>
        <p:spPr>
          <a:xfrm>
            <a:off x="2030400" y="4558680"/>
            <a:ext cx="1909080" cy="820080"/>
          </a:xfrm>
          <a:prstGeom prst="wedgeRoundRectCallout">
            <a:avLst>
              <a:gd name="adj1" fmla="val -54636"/>
              <a:gd name="adj2" fmla="val -103074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ключение между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ая прямоугольная выноска 10"/>
          <p:cNvSpPr/>
          <p:nvPr/>
        </p:nvSpPr>
        <p:spPr>
          <a:xfrm>
            <a:off x="2985120" y="3092760"/>
            <a:ext cx="1155960" cy="820080"/>
          </a:xfrm>
          <a:prstGeom prst="wedgeRoundRectCallout">
            <a:avLst>
              <a:gd name="adj1" fmla="val -54636"/>
              <a:gd name="adj2" fmla="val -103074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ая прямоугольная выноска 11"/>
          <p:cNvSpPr/>
          <p:nvPr/>
        </p:nvSpPr>
        <p:spPr>
          <a:xfrm>
            <a:off x="4496400" y="1419120"/>
            <a:ext cx="1155960" cy="820080"/>
          </a:xfrm>
          <a:prstGeom prst="wedgeRoundRectCallout">
            <a:avLst>
              <a:gd name="adj1" fmla="val -137194"/>
              <a:gd name="adj2" fmla="val 49385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ая прямоугольная выноска 12"/>
          <p:cNvSpPr/>
          <p:nvPr/>
        </p:nvSpPr>
        <p:spPr>
          <a:xfrm>
            <a:off x="5653080" y="2787840"/>
            <a:ext cx="1742760" cy="820080"/>
          </a:xfrm>
          <a:prstGeom prst="wedgeRoundRectCallout">
            <a:avLst>
              <a:gd name="adj1" fmla="val -173240"/>
              <a:gd name="adj2" fmla="val -86681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ть случай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187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8" name="Рисунок 4" descr="Изображение выглядит как человек, внешний, мужчина, костюм&#10;&#10;Автоматически созданное описание"/>
          <p:cNvPicPr/>
          <p:nvPr/>
        </p:nvPicPr>
        <p:blipFill>
          <a:blip r:embed="rId1"/>
          <a:srcRect l="2406" t="0" r="3654" b="0"/>
          <a:stretch/>
        </p:blipFill>
        <p:spPr>
          <a:xfrm>
            <a:off x="513360" y="685800"/>
            <a:ext cx="81158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71</TotalTime>
  <Application>LibreOffice/7.4.7.2$Linux_X86_64 LibreOffice_project/40$Build-2</Application>
  <AppVersion>15.0000</AppVersion>
  <Words>99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23:43:05Z</dcterms:created>
  <dc:creator>Мария Берестюк</dc:creator>
  <dc:description/>
  <dc:language>en-US</dc:language>
  <cp:lastModifiedBy>Ardu-10</cp:lastModifiedBy>
  <dcterms:modified xsi:type="dcterms:W3CDTF">2020-12-03T05:14:37Z</dcterms:modified>
  <cp:revision>20</cp:revision>
  <dc:subject/>
  <dc:title>Знакомство со сред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