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1.wmf" ContentType="image/x-wmf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2409-833A-4895-A8BE-A2A226AA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E86-17A3-43E9-B994-5A8F5C22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997-5549-4062-93D3-1465AAC0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81B9-4D59-4C1F-95EA-58910B567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AD31-D27A-4D85-AF45-96C45A3A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CD1F-CFD7-4FB3-9F2C-A38F7EA9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E8F1-4BBE-4C56-84DB-5D0857F14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3707-7C44-4D24-AFC5-B553073A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1BD5-9487-467C-B3A8-4AFC7791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2F75-3150-4718-83E1-2FADE4EF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0928-7880-4608-B9BC-C61AB43A1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0CA-1FC0-4F7F-A0B8-55DE786F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28B4A-17A6-4A50-9CD2-8F89E32D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3F66-787F-4EDF-89D8-6EC8984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5326-5869-46DE-9A83-06FDF65D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2CD8-0E66-45CC-8968-7119A56D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E179-9127-4753-A83B-10E97DB0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2B217-E28C-49A9-8D1F-9F258AFD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8B74-6F30-45B4-A1D6-224F492A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ADE3E-67D2-41D3-BF9C-F2FABCB8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3579-2349-4160-B77D-D3E732E0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8C5D1-0745-4AFB-BC56-8BD9739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E04-99E9-4DB6-9DE2-51B210DE8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A18DA-9272-4898-B88D-A7584F92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A2372-8251-4365-BD02-F4F02863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38855-02A6-46A3-AFA2-4E8799D9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57741-C309-44C7-BBDF-F993AB45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DD667-98D5-4625-9AFB-492222FA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5B4D-826A-4D6C-82BE-3C30A0DB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685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31380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5941440" y="3550320"/>
            <a:ext cx="250236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E0C17-867A-4CBD-880D-A42B7473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C7B-C683-4DC2-98A9-4FD9CCF1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94B0-790F-4E12-9F1A-84DF542A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274680"/>
            <a:ext cx="77720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AF7-035B-4E44-A8BC-584C3CCA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3057-E4F5-4155-AADF-E297391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55032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FCEF-982A-421E-B343-81CF0B22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550320"/>
            <a:ext cx="7772040" cy="178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DFB6-42CD-422C-A531-C671D9EB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10000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0" y="5293440"/>
            <a:ext cx="9143640" cy="144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442520"/>
              <a:gd name="textAreaBottom" fmla="*/ 1442880 h 1442520"/>
            </a:gdLst>
            <a:ahLst/>
            <a:rect l="textAreaLeft" t="textAreaTop" r="textAreaRight" b="textAreaBottom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3d3fe"/>
              </a:gs>
              <a:gs pos="100000">
                <a:srgbClr val="31b6fd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0" y="5293440"/>
            <a:ext cx="9143640" cy="14425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442520"/>
              <a:gd name="textAreaBottom" fmla="*/ 1442880 h 1442520"/>
            </a:gdLst>
            <a:ahLst/>
            <a:rect l="textAreaLeft" t="textAreaTop" r="textAreaRight" b="textAreaBottom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ade2fe"/>
              </a:gs>
              <a:gs pos="100000">
                <a:srgbClr val="31b6fd">
                  <a:alpha val="0"/>
                </a:srgbClr>
              </a:gs>
            </a:gsLst>
            <a:lin ang="6000000"/>
          </a:gra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" name="Freeform 8"/>
          <p:cNvSpPr/>
          <p:nvPr/>
        </p:nvSpPr>
        <p:spPr>
          <a:xfrm>
            <a:off x="0" y="5545800"/>
            <a:ext cx="9146160" cy="131400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314000"/>
              <a:gd name="textAreaBottom" fmla="*/ 1314360 h 1314000"/>
            </a:gdLst>
            <a:ahLst/>
            <a:rect l="textAreaLeft" t="textAreaTop" r="textAreaRight" b="textAreaBottom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bdecc9"/>
              </a:gs>
              <a:gs pos="100000">
                <a:srgbClr val="5bd078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0" y="1676520"/>
            <a:ext cx="38858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9"/>
          <p:cNvSpPr/>
          <p:nvPr/>
        </p:nvSpPr>
        <p:spPr>
          <a:xfrm>
            <a:off x="0" y="5262480"/>
            <a:ext cx="9143640" cy="7416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6" name="Freeform 10"/>
          <p:cNvSpPr/>
          <p:nvPr/>
        </p:nvSpPr>
        <p:spPr>
          <a:xfrm>
            <a:off x="0" y="5502600"/>
            <a:ext cx="9143640" cy="127080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70800"/>
              <a:gd name="textAreaBottom" fmla="*/ 1271160 h 1270800"/>
            </a:gdLst>
            <a:ahLst/>
            <a:rect l="textAreaLeft" t="textAreaTop" r="textAreaRight" b="textAreaBottom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rm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6FEA28-014A-461D-9582-86CF0D85E564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7591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0" y="5457960"/>
            <a:ext cx="7238520" cy="1399680"/>
          </a:xfrm>
          <a:custGeom>
            <a:avLst/>
            <a:gdLst>
              <a:gd name="textAreaLeft" fmla="*/ 0 w 7238520"/>
              <a:gd name="textAreaRight" fmla="*/ 7238880 w 7238520"/>
              <a:gd name="textAreaTop" fmla="*/ 0 h 1399680"/>
              <a:gd name="textAreaBottom" fmla="*/ 1400040 h 1399680"/>
            </a:gdLst>
            <a:ahLst/>
            <a:rect l="textAreaLeft" t="textAreaTop" r="textAreaRight" b="textAreaBottom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1b6fd"/>
              </a:gs>
              <a:gs pos="100000">
                <a:srgbClr val="ade2fe"/>
              </a:gs>
            </a:gsLst>
            <a:lin ang="1662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Freeform 7"/>
          <p:cNvSpPr/>
          <p:nvPr/>
        </p:nvSpPr>
        <p:spPr>
          <a:xfrm>
            <a:off x="1807560" y="6148080"/>
            <a:ext cx="7338600" cy="711720"/>
          </a:xfrm>
          <a:custGeom>
            <a:avLst/>
            <a:gdLst>
              <a:gd name="textAreaLeft" fmla="*/ 0 w 7338600"/>
              <a:gd name="textAreaRight" fmla="*/ 7338960 w 7338600"/>
              <a:gd name="textAreaTop" fmla="*/ 0 h 711720"/>
              <a:gd name="textAreaBottom" fmla="*/ 712080 h 711720"/>
            </a:gdLst>
            <a:ahLst/>
            <a:rect l="textAreaLeft" t="textAreaTop" r="textAreaRight" b="textAreaBottom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52000">
                <a:srgbClr val="5bd078"/>
              </a:gs>
              <a:gs pos="100000">
                <a:srgbClr val="bdecc9"/>
              </a:gs>
            </a:gsLst>
            <a:lin ang="51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рети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етверты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ятый уровень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8"/>
          <p:cNvSpPr/>
          <p:nvPr/>
        </p:nvSpPr>
        <p:spPr>
          <a:xfrm>
            <a:off x="-360" y="5412240"/>
            <a:ext cx="7605360" cy="927720"/>
          </a:xfrm>
          <a:custGeom>
            <a:avLst/>
            <a:gdLst>
              <a:gd name="textAreaLeft" fmla="*/ 0 w 7605360"/>
              <a:gd name="textAreaRight" fmla="*/ 7605720 w 7605360"/>
              <a:gd name="textAreaTop" fmla="*/ 0 h 927720"/>
              <a:gd name="textAreaBottom" fmla="*/ 928080 h 927720"/>
            </a:gdLst>
            <a:ahLst/>
            <a:rect l="textAreaLeft" t="textAreaTop" r="textAreaRight" b="textAreaBottom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1680840" y="6116400"/>
            <a:ext cx="7465320" cy="741240"/>
          </a:xfrm>
          <a:custGeom>
            <a:avLst/>
            <a:gdLst>
              <a:gd name="textAreaLeft" fmla="*/ 0 w 7465320"/>
              <a:gd name="textAreaRight" fmla="*/ 7465680 w 746532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735941-59E2-4A8F-8247-6842412839BB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blipFill rotWithShape="0">
            <a:blip r:embed="rId2">
              <a:alphaModFix amt="15000"/>
            </a:blip>
            <a:srcRect/>
            <a:tile tx="0" ty="0" sx="75910" sy="100000" algn="tl"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0" y="5731560"/>
            <a:ext cx="9146880" cy="1126080"/>
          </a:xfrm>
          <a:custGeom>
            <a:avLst/>
            <a:gdLst>
              <a:gd name="textAreaLeft" fmla="*/ 0 w 9146880"/>
              <a:gd name="textAreaRight" fmla="*/ 9147240 w 9146880"/>
              <a:gd name="textAreaTop" fmla="*/ 0 h 1126080"/>
              <a:gd name="textAreaBottom" fmla="*/ 1126440 h 1126080"/>
            </a:gdLst>
            <a:ahLst/>
            <a:rect l="textAreaLeft" t="textAreaTop" r="textAreaRight" b="textAreaBottom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5bd078"/>
              </a:gs>
              <a:gs pos="39000">
                <a:srgbClr val="5bd078"/>
              </a:gs>
              <a:gs pos="50000">
                <a:srgbClr val="bdecc9"/>
              </a:gs>
              <a:gs pos="61000">
                <a:srgbClr val="5bd078"/>
              </a:gs>
              <a:gs pos="100000">
                <a:srgbClr val="5bd078"/>
              </a:gs>
            </a:gsLst>
            <a:lin ang="159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5" name="Freeform 5"/>
          <p:cNvSpPr/>
          <p:nvPr/>
        </p:nvSpPr>
        <p:spPr>
          <a:xfrm>
            <a:off x="0" y="5381640"/>
            <a:ext cx="3285720" cy="1207080"/>
          </a:xfrm>
          <a:custGeom>
            <a:avLst/>
            <a:gdLst>
              <a:gd name="textAreaLeft" fmla="*/ 0 w 3285720"/>
              <a:gd name="textAreaRight" fmla="*/ 3286080 w 3285720"/>
              <a:gd name="textAreaTop" fmla="*/ 0 h 1207080"/>
              <a:gd name="textAreaBottom" fmla="*/ 1207440 h 1207080"/>
            </a:gdLst>
            <a:ahLst/>
            <a:rect l="textAreaLeft" t="textAreaTop" r="textAreaRight" b="textAreaBottom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3333"/>
              </a:gs>
              <a:gs pos="100000">
                <a:srgbClr val="00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Freeform 6"/>
          <p:cNvSpPr/>
          <p:nvPr/>
        </p:nvSpPr>
        <p:spPr>
          <a:xfrm>
            <a:off x="-2520" y="5696280"/>
            <a:ext cx="9146160" cy="9298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929880"/>
              <a:gd name="textAreaBottom" fmla="*/ 930240 h 929880"/>
            </a:gdLst>
            <a:ahLst/>
            <a:rect l="textAreaLeft" t="textAreaTop" r="textAreaRight" b="textAreaBottom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7" name="Freeform 7"/>
          <p:cNvSpPr/>
          <p:nvPr/>
        </p:nvSpPr>
        <p:spPr>
          <a:xfrm>
            <a:off x="-360" y="5347080"/>
            <a:ext cx="3425760" cy="944280"/>
          </a:xfrm>
          <a:custGeom>
            <a:avLst/>
            <a:gdLst>
              <a:gd name="textAreaLeft" fmla="*/ 0 w 3425760"/>
              <a:gd name="textAreaRight" fmla="*/ 3426120 w 3425760"/>
              <a:gd name="textAreaTop" fmla="*/ 0 h 944280"/>
              <a:gd name="textAreaBottom" fmla="*/ 944640 h 944280"/>
            </a:gdLst>
            <a:ahLst/>
            <a:rect l="textAreaLeft" t="textAreaTop" r="textAreaRight" b="textAreaBottom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dt" idx="7"/>
          </p:nvPr>
        </p:nvSpPr>
        <p:spPr>
          <a:xfrm>
            <a:off x="6400800" y="6416640"/>
            <a:ext cx="19807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109" strike="noStrike" cap="all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109" strike="noStrike" cap="all">
                <a:solidFill>
                  <a:srgbClr val="4d4d4d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ftr" idx="8"/>
          </p:nvPr>
        </p:nvSpPr>
        <p:spPr>
          <a:xfrm>
            <a:off x="22860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1" lang="ru-RU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DEFEE4-7227-4AA0-84D2-41C41F3F63A8}" type="slidenum">
              <a:rPr b="1" lang="ru-RU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ru-RU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908640"/>
            <a:ext cx="7990200" cy="216000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ГРЕССИВНЫЕ технологии в приготовлении блюд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640" y="274680"/>
            <a:ext cx="85687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89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Уникальна технология КОНФИ.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68640"/>
            <a:ext cx="7772040" cy="406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готовление кулинарной продукции методом конфи происходит при относительно низкой температуре ( от 70 до 130 градусов) в собственном жиру; при этом жир не горит, а значит, в процессе приготовления не образуются канцерогены. Вкус и консистенцию конфи варьируют в зависимости от назначения блюда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2" descr="C:\Users\user\Desktop\konfi_iz_utinoy_nozhki.jpg"/>
          <p:cNvPicPr/>
          <p:nvPr/>
        </p:nvPicPr>
        <p:blipFill>
          <a:blip r:embed="rId1"/>
          <a:stretch/>
        </p:blipFill>
        <p:spPr>
          <a:xfrm>
            <a:off x="683640" y="2421000"/>
            <a:ext cx="784836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82000"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Молекулярная кулинария </a:t>
            </a:r>
            <a:r>
              <a:rPr b="0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— </a:t>
            </a:r>
            <a:r>
              <a:rPr b="1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это современное направление</a:t>
            </a:r>
            <a:r>
              <a:rPr b="0" lang="ru-RU" sz="40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.</a:t>
            </a:r>
            <a:endParaRPr b="0" lang="ru-RU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Молекулярная кулинария утверждает, еда — это сложный процесс, включающий все чувства: вкус, осязание, зрение и обоняние (самый мощный источник воспоминаний), а также восприятие себя и память. Новая кулинария воздействует на все органы чувств человека, в этом и состоит ее популярность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" descr="C:\Users\user\Desktop\seledka-pod-shuboy-871x600.jpg"/>
          <p:cNvPicPr/>
          <p:nvPr/>
        </p:nvPicPr>
        <p:blipFill>
          <a:blip r:embed="rId1"/>
          <a:stretch/>
        </p:blipFill>
        <p:spPr>
          <a:xfrm>
            <a:off x="2267640" y="2781000"/>
            <a:ext cx="4896360" cy="366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апильот — способ тепловой обработки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4221000"/>
            <a:ext cx="821880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апильот — способ тепловой обработки, предполагающий приготовление пищи </a:t>
            </a:r>
            <a:r>
              <a:rPr b="1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лотно</a:t>
            </a: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, завёрнутой в фольгу, иногда в термостойкую виниловую бумагу или специальные пластиковые пакеты. Данный метод используется для максимального сохранения естественной влажности продукта, ароматических и питательных веществ. Продукты обрабатывают при температуре от 180 до 200</a:t>
            </a:r>
            <a:r>
              <a:rPr b="0" lang="ru-RU" sz="1600" spc="-1" strike="noStrike" baseline="30000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0</a:t>
            </a: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 С. Пар, образующийся в процессе тепловой обработки, остаётся в пакете и способствует размягчению продуктов. Готовность блюд определяют по вздутому пакету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C:\Users\user\Desktop\b831b520.jpg"/>
          <p:cNvPicPr/>
          <p:nvPr/>
        </p:nvPicPr>
        <p:blipFill>
          <a:blip r:embed="rId1"/>
          <a:stretch/>
        </p:blipFill>
        <p:spPr>
          <a:xfrm>
            <a:off x="2483640" y="1628640"/>
            <a:ext cx="3747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9640" y="692640"/>
            <a:ext cx="8784720" cy="136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4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ламбирование — поджигание кулинарного изделия, в рецептуру которого входит алкогольный компонент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240" cy="3560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ламбирование чаще является заключительным этапом приготовления блюда, его можно производить в присутствии гостя в зале ресторана. Иногда фламбирование является одним из промежуточных этапов приготовления блюда, например, при приготовлении пюреобразных супов из раков и морепродуктов (бисков). В первом случае фламбирование становится своего рода шоу, прежде всего, элементом коммерческой привлекательности ресторана, во втором используется для создания ароматического и вкусового букета блюдам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C:\Users\user\Desktop\117215428_3290568_8_13.jpg"/>
          <p:cNvPicPr/>
          <p:nvPr/>
        </p:nvPicPr>
        <p:blipFill>
          <a:blip r:embed="rId1"/>
          <a:stretch/>
        </p:blipFill>
        <p:spPr>
          <a:xfrm>
            <a:off x="3204000" y="4466880"/>
            <a:ext cx="2880000" cy="221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уально использование смоукеров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434800" cy="273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1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моукеры позволяют придать любому блюду практически любой аромат без дополнительной тепловой обработки. Для создания ароматов используют опилки фруктовых деревьев, травы, эфирные масла, эссенции. Кроме того, с помощью смоукера можно быстро довести до готовности блюда с помощью натурального «холодного» дыма; усилить интенсивность уже копчёных продуктов; удивить гостей необычным способом «копчения» прямо за столом.</a:t>
            </a: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" descr="C:\Users\user\Desktop\223356_smoking_gun_pistolet_dlya_okurivaniya_holodnym.jpeg"/>
          <p:cNvPicPr/>
          <p:nvPr/>
        </p:nvPicPr>
        <p:blipFill>
          <a:blip r:embed="rId1"/>
          <a:stretch/>
        </p:blipFill>
        <p:spPr>
          <a:xfrm>
            <a:off x="1259640" y="3885840"/>
            <a:ext cx="698436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260640"/>
            <a:ext cx="8229240" cy="1151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1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борудование, используемое в процессе приготовления кулинарной продукции, диктует новые открытия, значительно упрощает технологический процесс её приготовления.</a:t>
            </a:r>
            <a:endParaRPr b="0" lang="ru-RU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" descr="C:\Users\user\Desktop\117532_html_4a708f70.png"/>
          <p:cNvPicPr/>
          <p:nvPr/>
        </p:nvPicPr>
        <p:blipFill>
          <a:blip r:embed="rId1"/>
          <a:stretch/>
        </p:blipFill>
        <p:spPr>
          <a:xfrm>
            <a:off x="659520" y="2349000"/>
            <a:ext cx="3844440" cy="26139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C:\Users\user\Desktop\6b2c9330876162cdb2d9dee17e61fd26--forest-wedding-lavender-flowers.jpg"/>
          <p:cNvPicPr/>
          <p:nvPr/>
        </p:nvPicPr>
        <p:blipFill>
          <a:blip r:embed="rId2"/>
          <a:stretch/>
        </p:blipFill>
        <p:spPr>
          <a:xfrm>
            <a:off x="4869360" y="2328480"/>
            <a:ext cx="3863520" cy="25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95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Impact"/>
              </a:rPr>
              <a:t>Приготовление на пару в кастрюле «бэн Мари»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Содержимое 5" descr="C:\Users\Пользователь\Desktop\РАБОТА!!!\Внекласные мероприятия\Молекулярное питания\!!! Молекуляроне питание\Молекулярное питание\бан-мари 3.jpg"/>
          <p:cNvPicPr/>
          <p:nvPr/>
        </p:nvPicPr>
        <p:blipFill>
          <a:blip r:embed="rId1"/>
          <a:srcRect l="15075" t="5402" r="3088" b="5402"/>
          <a:stretch/>
        </p:blipFill>
        <p:spPr>
          <a:xfrm>
            <a:off x="2428920" y="1714320"/>
            <a:ext cx="2945880" cy="16581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9" descr="C:\Users\Пользователь\Desktop\РАБОТА!!!\Внекласные мероприятия\Молекулярное питания\!!! Молекуляроне питание\Молекулярное питание\бан- мари.jpg"/>
          <p:cNvPicPr/>
          <p:nvPr/>
        </p:nvPicPr>
        <p:blipFill>
          <a:blip r:embed="rId2"/>
          <a:stretch/>
        </p:blipFill>
        <p:spPr>
          <a:xfrm>
            <a:off x="1357200" y="3429000"/>
            <a:ext cx="2847600" cy="271440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6" descr="C:\Users\Пользователь\Desktop\РАБОТА!!!\Внекласные мероприятия\Молекулярное питания\!!! Молекуляроне питание\Молекулярное питание\бан-мари2.jpg"/>
          <p:cNvPicPr/>
          <p:nvPr/>
        </p:nvPicPr>
        <p:blipFill>
          <a:blip r:embed="rId3"/>
          <a:srcRect l="14582" t="10249" r="8335" b="5136"/>
          <a:stretch/>
        </p:blipFill>
        <p:spPr>
          <a:xfrm>
            <a:off x="5500800" y="3714840"/>
            <a:ext cx="2857320" cy="25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https://avatars.mds.yandex.net/get-pdb/1004346/e2c51424-8dd2-4622-b4e3-147a77881133/s1200?webp=false"/>
          <p:cNvPicPr/>
          <p:nvPr/>
        </p:nvPicPr>
        <p:blipFill>
          <a:blip r:embed="rId1"/>
          <a:stretch/>
        </p:blipFill>
        <p:spPr>
          <a:xfrm>
            <a:off x="214200" y="1643040"/>
            <a:ext cx="8357760" cy="44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67640" y="692640"/>
            <a:ext cx="821880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6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пасибо за внимание !</a:t>
            </a:r>
            <a:endParaRPr b="0" lang="ru-RU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640" y="188640"/>
            <a:ext cx="8229240" cy="5832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огресс в мировой кулинарии за последние 10 лет разителен: новые продукты, принципиально иное оборудование и поэтому новые технологии, уникальные биопродукты, современный вкус новые требования потребителей, продиктованные в первую очередь заботой о собственном здоровье. Новая эстетика: она динамично меняется во всех сферах жизни, и кулинария не может игнорировать это. Отсюда — новая подача, новая посуда, новое оформление, «архитектура» и «лицо» кулинарной продукции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Факторы, которые рождают современные направления приготовления кулинарной продукции: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тремление к здоровому питанию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экологически чистые продукты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оздание новых вкусов путём сочетания нетрадиционных ингредиентов, входящих в состав кулинарной продукции;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новые технологии приготовления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Одна из самых популярных технологий — </a:t>
            </a:r>
            <a:br>
              <a:rPr sz="3600"/>
            </a:b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технология Sous Vide</a:t>
            </a:r>
            <a:r>
              <a:rPr b="0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Sous-vide (по-французски означает — «в вакууме») является методом приготовления пищи, запечатанной в герметичный пластиковый мешок на водяной бане. При этом время приготовления кулинарной продукции дольше, чем обычное время приготовления — иногда до 72 часов, с точным регулированием температуры. Температура при этом — значительно ниже, чем обычно используется для приготовления пищи. Как правило, она составляет всего лишь около 55° C — 60° C для мяса и немного выше для овощей. 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C:\Users\user\Desktop\979879.jpg"/>
          <p:cNvPicPr/>
          <p:nvPr/>
        </p:nvPicPr>
        <p:blipFill>
          <a:blip r:embed="rId1"/>
          <a:stretch/>
        </p:blipFill>
        <p:spPr>
          <a:xfrm>
            <a:off x="683640" y="3501000"/>
            <a:ext cx="4027320" cy="2678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C:\Users\user\Desktop\245050190_3_1000x700_termostat-pogruzhnoy-termoprotsessor-sous-vide-su-vid-klimaticheskoe-oborudovanie.jpg"/>
          <p:cNvPicPr/>
          <p:nvPr/>
        </p:nvPicPr>
        <p:blipFill>
          <a:blip r:embed="rId2"/>
          <a:stretch/>
        </p:blipFill>
        <p:spPr>
          <a:xfrm>
            <a:off x="4711320" y="3586680"/>
            <a:ext cx="3908520" cy="26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640" y="3933000"/>
            <a:ext cx="82292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59000"/>
          </a:bodyPr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еимущества использования технологии Sous Vide: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сохранение натурального вкуса, свежести, цвета и внешнего вида продукции до подачи на стол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концентрация натуральных ароматов, экономия специй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гарантированное высокое содержание питательных веществ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отсутствие высыхания, окисления продуктов, минимальные потери при приготовлении, экономия электроэнергии на 30%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длительный срок хранения продуктов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порционный контроль качества продукции;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marL="323640" indent="-25884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2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· экономия рабочих площадей.</a:t>
            </a:r>
            <a:endParaRPr b="0" lang="ru-RU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</a:pP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C:\Users\user\Desktop\sousvide_2.jpg"/>
          <p:cNvPicPr/>
          <p:nvPr/>
        </p:nvPicPr>
        <p:blipFill>
          <a:blip r:embed="rId1"/>
          <a:stretch/>
        </p:blipFill>
        <p:spPr>
          <a:xfrm>
            <a:off x="971640" y="620640"/>
            <a:ext cx="7200360" cy="316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11664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Не менее популярна инновационная технология PacoJet (пакоджеттинг)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14240" y="141264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уть технологии PacoJet заключается в смешивании и гомогенезации свежих и незамороженных продуктов (сырого/готового мяса, рыбы, зелени, овощей) так и глубоко замороженных пищевых продуктов (без размораживания). Технология PacoJet позволяет получить охлаждённую кулинарную продукцию с сильным естественным вкусом, отличной консистенцией и идеальной температурой подачи. Кроме того с помощью PacoJet можно измельчать продукты, делать фарши и пюре, придавать блюдам однородную консистенцию, взбивать кремы ,сливки , белки яиц, коктейли на фруктовой основе; доводить продукт до нужной текстуры за 60 секунд без его нагрева. Уникальность технологии заключается в том, что гомогенность продукции достигается за счет мельчайшего дробления продуктов без использования химических агентов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C:\Users\user\Desktop\223360_kuhonnyj_kombajn_pacojet.jpeg"/>
          <p:cNvPicPr/>
          <p:nvPr/>
        </p:nvPicPr>
        <p:blipFill>
          <a:blip r:embed="rId1"/>
          <a:stretch/>
        </p:blipFill>
        <p:spPr>
          <a:xfrm>
            <a:off x="3085920" y="4250880"/>
            <a:ext cx="3028680" cy="2592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user\Desktop\Pacojet-2.jpg"/>
          <p:cNvPicPr/>
          <p:nvPr/>
        </p:nvPicPr>
        <p:blipFill>
          <a:blip r:embed="rId2"/>
          <a:stretch/>
        </p:blipFill>
        <p:spPr>
          <a:xfrm>
            <a:off x="6114960" y="4246560"/>
            <a:ext cx="3002400" cy="2570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:\Users\user\Desktop\Innovative-technologies-1000x563.jpg"/>
          <p:cNvPicPr/>
          <p:nvPr/>
        </p:nvPicPr>
        <p:blipFill>
          <a:blip r:embed="rId3"/>
          <a:stretch/>
        </p:blipFill>
        <p:spPr>
          <a:xfrm>
            <a:off x="41400" y="4235760"/>
            <a:ext cx="3047760" cy="26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Impact"/>
              </a:rPr>
              <a:t>Ультразвуковой гомогенизатор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1640" y="1412640"/>
            <a:ext cx="424800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Гомогенизатор смешивает несмешиваемое, разбивает мельчайшие частицы продукта тем самым создавая единую смесь. Извлекает аромат и сохраняет цвет продуктов и полезные их свойства. Примеры использования: концентрированная овощная или фруктовая масса для соусов и пюре получается за счёт разрушения мельчайших клеток продукта; выдержанный кальвадос с древесными стружками можно приготовить меньше, чем за 2 минуты с необыкновенным ароматом, на который обычно уходит 2 года; настои и экстракты, ароматы свежих специй и пряностей можно быстро преобразовать в жидкость, такую как коктейль. Гомогенизатор также используется для тендеризации (размягчения) мяса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2" descr="C:\Users\user\Desktop\b6f03f45dffef13a4e84a1746977c8b8.jpg"/>
          <p:cNvPicPr/>
          <p:nvPr/>
        </p:nvPicPr>
        <p:blipFill>
          <a:blip r:embed="rId1"/>
          <a:stretch/>
        </p:blipFill>
        <p:spPr>
          <a:xfrm>
            <a:off x="4932000" y="1917000"/>
            <a:ext cx="3384000" cy="396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66000"/>
          </a:bodyPr>
          <a:p>
            <a:pPr indent="0">
              <a:lnSpc>
                <a:spcPct val="100000"/>
              </a:lnSpc>
              <a:buNone/>
            </a:pPr>
            <a:r>
              <a:rPr b="1" lang="ru-RU" sz="44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Как происходит гомогенизация соков?</a:t>
            </a:r>
            <a:br>
              <a:rPr sz="3600"/>
            </a:b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75360" y="1412640"/>
            <a:ext cx="777204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8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начала плоды подготавливают: моют, ошпаривают и грубо измельчают на протирочных машинах. Затем протертую массу пропускают через гомогенизатор. Из гомогенизированной массы удаляют воздух, и нагревают в вакуум аппаратах до 60 °С, добавляют горячий сахарный сироп (до 50 % объема), фасуют и стерилизуют при 90-100 °С.</a:t>
            </a: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Picture 2" descr="C:\Users\user\Desktop\soki-dlya-pohudeniya-2-1024x683.jpg"/>
          <p:cNvPicPr/>
          <p:nvPr/>
        </p:nvPicPr>
        <p:blipFill>
          <a:blip r:embed="rId1"/>
          <a:stretch/>
        </p:blipFill>
        <p:spPr>
          <a:xfrm>
            <a:off x="683640" y="3069000"/>
            <a:ext cx="7920360" cy="35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rmAutofit fontScale="72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ктуально использование технологии Anti-Griddle (антисковороды).</a:t>
            </a: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00640"/>
            <a:ext cx="8229240" cy="4425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При помощи уникальной технологии Anti-Griddle можно создавать необычные блюда, добиваясь сочетания замороженной корочки снаружи кулинарного изделия и более тёплого, мягкого крема внутри; При помощи антигриля можно замораживать кремы, сливки, шоколад, мороженое; на антигриле можно готовить муссы, паштеты, различные закуски, глазировать кулинарные изделия.; создавать уникальные декорации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user\Desktop\zharenoe.jpeg"/>
          <p:cNvPicPr/>
          <p:nvPr/>
        </p:nvPicPr>
        <p:blipFill>
          <a:blip r:embed="rId1"/>
          <a:stretch/>
        </p:blipFill>
        <p:spPr>
          <a:xfrm>
            <a:off x="539640" y="3285000"/>
            <a:ext cx="4752000" cy="3096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C:\Users\user\Desktop\zharenoe3-900x600.jpeg"/>
          <p:cNvPicPr/>
          <p:nvPr/>
        </p:nvPicPr>
        <p:blipFill>
          <a:blip r:embed="rId2"/>
          <a:stretch/>
        </p:blipFill>
        <p:spPr>
          <a:xfrm>
            <a:off x="5319000" y="3285000"/>
            <a:ext cx="3645000" cy="30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0800" cy="21459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200" spc="-1" strike="noStrike" cap="all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Создание кулинарной продукции пенной структуры различной плотности одно из направлений современной кулинарии.</a:t>
            </a: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3640" y="2277000"/>
            <a:ext cx="8229240" cy="2304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4320">
              <a:lnSpc>
                <a:spcPct val="100000"/>
              </a:lnSpc>
              <a:spcBef>
                <a:spcPts val="700"/>
              </a:spcBef>
              <a:buClr>
                <a:srgbClr val="31b6fd"/>
              </a:buClr>
              <a:buSzPct val="85000"/>
              <a:buFont typeface="Wingdings 3" charset="2"/>
              <a:buChar char=""/>
            </a:pPr>
            <a:r>
              <a:rPr b="0" lang="ru-RU" sz="16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Ароматная, не отягощенная добавками, аккумулирующая чистый вкус продукта пена придаёт блюдам необычайную воздушность, пышность и легкость. Для создания пен широко используются сифоны. С помощью обыкновенного сифона в пену можно превратить все, что угодно: мясо, молоко, фрукты, рыбу и даже травы. Вместо жиров и углеводов в деструктурированный продукт закачивается углекислый газ что придает ему плотную, но при этом легкую структуру пены. С помощью сифонов готовят пюрированные гарниры, супы, эспумы, свежие взбитые сливки, десерты, а также целый ряд холодных напитков.</a:t>
            </a:r>
            <a:endParaRPr b="0" lang="ru-RU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C:\Users\user\Desktop\эмульсификация.jpg"/>
          <p:cNvPicPr/>
          <p:nvPr/>
        </p:nvPicPr>
        <p:blipFill>
          <a:blip r:embed="rId1"/>
          <a:stretch/>
        </p:blipFill>
        <p:spPr>
          <a:xfrm>
            <a:off x="827640" y="4329720"/>
            <a:ext cx="3511800" cy="24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C:\Users\user\Desktop\NCNsP1G.jpg"/>
          <p:cNvPicPr/>
          <p:nvPr/>
        </p:nvPicPr>
        <p:blipFill>
          <a:blip r:embed="rId2"/>
          <a:stretch/>
        </p:blipFill>
        <p:spPr>
          <a:xfrm>
            <a:off x="4788000" y="4323960"/>
            <a:ext cx="3672000" cy="241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Urban Pop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M01859862[[fn=Поп-музыка]]</Template>
  <TotalTime>142</TotalTime>
  <Application>LibreOffice/7.4.7.2$Linux_X86_64 LibreOffice_project/40$Build-2</Application>
  <AppVersion>15.0000</AppVersion>
  <Words>439</Words>
  <Paragraphs>40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7T10:07:47Z</dcterms:created>
  <dc:creator>user</dc:creator>
  <dc:description/>
  <dc:language>en-US</dc:language>
  <cp:lastModifiedBy>user</cp:lastModifiedBy>
  <dcterms:modified xsi:type="dcterms:W3CDTF">2020-11-10T09:58:14Z</dcterms:modified>
  <cp:revision>28</cp:revision>
  <dc:subject/>
  <dc:title>Способы повышения скорости обслуживания при применении современных технологий тепловой обработки проду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8</vt:r8>
  </property>
</Properties>
</file>