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069-D250-4AFD-8732-E6B331D9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056-B89F-488A-977F-5F8D17C2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B29-823B-4D6D-826B-69FEAE48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F8B-D56D-477F-BE0C-5127A49D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9BB-3C3E-4559-B7D0-F018C644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B94-0183-403A-BF4B-F1043070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AC7-6172-4A48-8EF6-4BCCC8F7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FF7-545E-4B12-A610-A7B00DA6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DE1-F2EE-495C-8217-81155790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65C-0C2C-4177-8FFE-FE41922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759-7566-4D2E-844B-4DAB8E76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E45-AAC4-46A7-906A-88937B69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5011-A4EF-4D58-B085-FAF8708E8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a0000"/>
                </a:solidFill>
                <a:latin typeface="Times New Roman"/>
              </a:rPr>
              <a:t>Past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lready              never           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never                   just             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s soon as      by the time            till/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81320" y="2565360"/>
            <a:ext cx="225036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216240" y="2565360"/>
            <a:ext cx="25430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529680" y="2565360"/>
            <a:ext cx="24026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ve we/you/the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7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Continuous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in the past lasted for some time before another pas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d been teaching at that school for some time before I m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that lasted for some time in the past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knew the city very well because he had been working as a taxi driver for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Time expressions with the </a:t>
            </a:r>
            <a:br>
              <a:rPr sz="4000"/>
            </a:b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Past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8000" y="30211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5080" y="508464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6920" y="227664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79640" y="39337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60000" y="41497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82040" y="2565360"/>
            <a:ext cx="198216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16240" y="2565360"/>
            <a:ext cx="2466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30040" y="2565360"/>
            <a:ext cx="2268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I/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he/she/it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we/you/they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resen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started and finished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sent the e-mail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Did they do the job las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happened one after the other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She opened the door, picked up the telefone and made a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were repeated or were habit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caught the early train every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how long ago...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month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year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every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19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Janu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y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 day before 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34920" y="2708280"/>
            <a:ext cx="4969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Time expressions usually come at the end of a sent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6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2600" y="2565360"/>
            <a:ext cx="256104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you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06000" y="2565360"/>
            <a:ext cx="310968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I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you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he/she/it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we/you/they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312960" y="2565360"/>
            <a:ext cx="277920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I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you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he/she/it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we/you/they waitit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700"/>
                            </p:stCondLst>
                            <p:childTnLst>
                              <p:par>
                                <p:cTn id="1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We use the Past Continuous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ctions that were in progress at a specific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having lunch at one o’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Was he listening to the radio when you le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wo or more actions that were in progress at the same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My brother was putting the tools away and I was cleaning the ga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he background event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The wind was blowing and the clouds were moving across the blu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n action in progress in the past that was interrupted by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reading when the telephone 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050920" y="249228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</a:rPr>
              <a:t>ten</a:t>
            </a: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 o’c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70520" y="42926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Arial"/>
              </a:rPr>
              <a:t>all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80720" y="335772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at tha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213080" y="51577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81680" y="2565360"/>
            <a:ext cx="237060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16240" y="2565360"/>
            <a:ext cx="2721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13680" y="2565360"/>
            <a:ext cx="2523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we/you/they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7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nother action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e had seen a programm about India, so we went to the places the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 specific time in the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alter has finished the project by lunch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in the past and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ve known him f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s jus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has jus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They’ve just told me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Татьяна</cp:lastModifiedBy>
  <dcterms:modified xsi:type="dcterms:W3CDTF">2013-10-18T04:08:32Z</dcterms:modified>
  <cp:revision>30</cp:revision>
  <dc:subject/>
  <dc:title>Present Tenses</dc:title>
</cp:coreProperties>
</file>