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7A2-3157-4542-8C2D-20ABD290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592-FA66-442A-A465-373E2CF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423-53A4-40E8-A279-2DDA392B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FE7-E528-4211-BFC4-13E7D78D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7F3-1E44-4FE0-BD16-AC4FC2A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894-C3CA-4930-B13A-993A389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782-F010-4870-8E7B-F4B27B9D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56C-EEC4-4DB6-9830-D44C65CA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BE9-F701-4FFE-BBB4-07C9F3A2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165-8D4C-4119-87FE-30A0F23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EDD-E897-4AA5-9255-E4FF64A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A1D-87AC-4C55-9EA8-D291CF8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183B-BAD0-451F-9A65-DBE4428A5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8:32Z</dcterms:modified>
  <cp:revision>30</cp:revision>
  <dc:subject/>
  <dc:title>Present Tenses</dc:title>
</cp:coreProperties>
</file>