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504-C604-4824-A589-892B762F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B99-F94D-4284-91B7-A4AF8E94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39A-1A67-426D-9C42-101934AB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2D9-9B6F-4A23-9E45-FB73F47C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67A-9449-4AF4-9EFC-36125DCA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F85-02E4-4511-B10F-01EACB25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A312-85A4-4AA6-8A5C-6861850B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79E-F68B-437B-907E-052BADF4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F1A-BDE7-4E1D-BEE6-81A846D3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14B-3DF0-4141-8FF2-A2C0F8BC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12C-F967-4DA6-9EF9-8FC008B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52D-3D9A-4CE5-87B9-FAF672B0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D07D-0971-4B9A-91C1-3A01EFF83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a0000"/>
                </a:solidFill>
                <a:latin typeface="Times New Roman"/>
              </a:rPr>
              <a:t>Pas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lready              never           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never                   just             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s soon as      by the time            till/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81320" y="2565360"/>
            <a:ext cx="225036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16240" y="2565360"/>
            <a:ext cx="25430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7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in the past lasted for some time before another pa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d been teaching at that school for some time before I m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that lasted for some time in the past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knew the city very well because he had been working as a taxi driver for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Time expressions with the </a:t>
            </a:r>
            <a:br>
              <a:rPr sz="4000"/>
            </a:b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Past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8000" y="30211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50846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6920" y="227664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79640" y="3933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60000" y="4149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040" y="2565360"/>
            <a:ext cx="198216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240" y="2565360"/>
            <a:ext cx="2466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040" y="2565360"/>
            <a:ext cx="2268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I/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he/she/it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we/you/they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sent the e-mail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Did they do the job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happened one after the other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She opened the door, picked up the telefone and mad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were repeated or were habi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caught the early train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how long ago..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month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year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every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19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Janu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 day before 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34920" y="2708280"/>
            <a:ext cx="49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Time expressions usually come at the end of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600" y="2565360"/>
            <a:ext cx="256104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you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310968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I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you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he/she/it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we/you/they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2960" y="2565360"/>
            <a:ext cx="277920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I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you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he/she/it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we/you/they waitit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7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We use the Past Continuous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ctions that were in progress at a specific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having lunch at one o’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Was he listening to the radio when you le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wo or more actions that were in progress at the same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My brother was putting the tools away and I was cleaning the ga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he background event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The wind was blowing and the clouds were moving across the blu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n action in progress in the past that was interrupted by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reading when the telephone 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0920" y="2492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</a:rPr>
              <a:t>ten</a:t>
            </a: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 o’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0520" y="42926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Arial"/>
              </a:rPr>
              <a:t>all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80720" y="33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at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213080" y="5157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81680" y="2565360"/>
            <a:ext cx="237060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16240" y="2565360"/>
            <a:ext cx="2721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13680" y="2565360"/>
            <a:ext cx="2523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we/you/they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nother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e had seen a programm about India, so we went to the places the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 specific time in the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alter has finished the project by lunch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in the past and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ve known him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s jus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They’ve just told me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Татьяна</cp:lastModifiedBy>
  <dcterms:modified xsi:type="dcterms:W3CDTF">2013-10-18T04:08:32Z</dcterms:modified>
  <cp:revision>30</cp:revision>
  <dc:subject/>
  <dc:title>Present Tenses</dc:title>
</cp:coreProperties>
</file>