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5AA-CBF7-4F5F-AB2F-BF11484E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E6E-5ABD-4A83-9278-1B0FBE2E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E9F-C772-432E-94A3-2F501403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161-C323-465C-81CD-D80F224F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473E-C6F1-452F-AC91-60AB3FA4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E378-0325-426B-BE67-A5D7B5FA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0A17-AFC0-4DB1-AD20-FBC9C81F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8FF2-7CCD-4774-8E2B-460EB323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E4A8-8103-4793-BE34-BE38EAA3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50E8-234E-47E4-BDA1-EF66D281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AA9C-DDB0-473D-A868-D73D8C4A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154-C7E5-414A-A477-A7291057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D992-F1F2-4BE7-A211-7E3FA593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4AC9-304E-4A35-8B7A-F3236B65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C278-E736-4964-8A21-325004B3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CCE0-A73F-4A3A-8629-0F420480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5286-17DC-4552-8543-F3DA177E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513-D598-4696-9F5C-9A5A3E0B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C89-C89C-4B34-BB10-5291C186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C80-3688-487B-9AE0-7338347A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81A-FEE9-4414-8B6B-595B0FEE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5F9-93F5-4301-BF58-3D0FF919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D58-77C3-4CF2-A4AC-B91178D7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A56-205F-4311-A5F2-CB25AC90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DE84-7117-4B32-B00C-E7AC8E9A10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A0B6-9FFF-4A7C-997C-064BE42804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0;&#1079;&#1085;&#1077;&#1089;-&#1087;&#1088;&#1086;&#1094;&#1077;&#1089;&#1089;" TargetMode="External"/><Relationship Id="rId2" Type="http://schemas.openxmlformats.org/officeDocument/2006/relationships/hyperlink" Target="http://ru.wikipedia.org/w/index.php?title=&#1055;&#1088;&#1086;&#1080;&#1079;&#1074;&#1086;&#1076;&#1089;&#1090;&#1074;&#1077;&#1085;&#1085;&#1086;-&#1093;&#1086;&#1079;&#1103;&#1081;&#1089;&#1090;&#1074;&#1077;&#1085;&#1085;&#1072;&#1103;_&#1076;&#1077;&#1103;&#1090;&#1077;&#1083;&#1100;&#1085;&#1086;&#1089;&#1090;&#1100;&amp;action=edit&amp;redlink=1" TargetMode="External"/><Relationship Id="rId3" Type="http://schemas.openxmlformats.org/officeDocument/2006/relationships/hyperlink" Target="http://ru.wikipedia.org/w/index.php?title=&#1060;&#1080;&#1085;&#1072;&#1085;&#1089;&#1086;&#1074;&#1086;-&#1101;&#1082;&#1086;&#1085;&#1086;&#1084;&#1080;&#1095;&#1077;&#1089;&#1082;&#1072;&#1103;_&#1076;&#1077;&#1103;&#1090;&#1077;&#1083;&#1100;&#1085;&#1086;&#1089;&#1090;&#1100;&amp;action=edit&amp;redlink=1" TargetMode="External"/><Relationship Id="rId4" Type="http://schemas.openxmlformats.org/officeDocument/2006/relationships/hyperlink" Target="http://ru.wikipedia.org/w/index.php?title=&#1054;&#1088;&#1075;&#1072;&#1085;&#1080;&#1079;&#1072;&#1094;&#1080;&#1086;&#1085;&#1085;&#1086;-&#1088;&#1072;&#1089;&#1087;&#1086;&#1088;&#1103;&#1076;&#1080;&#1090;&#1077;&#1083;&#1100;&#1085;&#1099;&#1081;_&#1076;&#1086;&#1082;&#1091;&#1084;&#1077;&#1085;&#1090;&amp;action=edit&amp;redlink=1" TargetMode="External"/><Relationship Id="rId5" Type="http://schemas.openxmlformats.org/officeDocument/2006/relationships/hyperlink" Target="http://ru.wikipedia.org/wiki/&#1053;&#1086;&#1088;&#1084;&#1072;&#1090;&#1080;&#1074;&#1085;&#1099;&#1081;_&#1076;&#1086;&#1082;&#1091;&#1084;&#1077;&#1085;&#1090;" TargetMode="External"/><Relationship Id="rId6" Type="http://schemas.openxmlformats.org/officeDocument/2006/relationships/hyperlink" Target="http://ru.wikipedia.org/wiki/&#1055;&#1088;&#1077;&#1076;&#1089;&#1090;&#1072;&#1074;&#1083;&#1077;&#1085;&#1080;&#1077;_&#1080;&#1085;&#1092;&#1086;&#1088;&#1084;&#1072;&#1094;&#1080;&#1080;" TargetMode="External"/><Relationship Id="rId7" Type="http://schemas.openxmlformats.org/officeDocument/2006/relationships/hyperlink" Target="http://ru.wikipedia.org/wiki/&#1054;&#1073;&#1088;&#1072;&#1073;&#1086;&#1090;&#1082;&#1072;_&#1080;&#1085;&#1092;&#1086;&#1088;&#1084;&#1072;&#1094;&#1080;&#1080;" TargetMode="External"/><Relationship Id="rId8" Type="http://schemas.openxmlformats.org/officeDocument/2006/relationships/hyperlink" Target="http://ru.wikipedia.org/wiki/&#1052;&#1077;&#1085;&#1077;&#1076;&#1078;&#1077;&#1088;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Реинжиниринг бизнес-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0000"/>
                </a:solidFill>
                <a:latin typeface="Verdana"/>
              </a:rPr>
              <a:t>Ашурова Дилафруз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0000"/>
                </a:solidFill>
                <a:latin typeface="Verdana"/>
              </a:rPr>
              <a:t>МТА 1 КУРС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ФАКТОРЫ,  ОКАЗЫВАЮЩИЕ СУЩЕСТВЕННОЕ ВЛИЯНИЕ НА ПРОЦЕСС РЕИНЖИНИРИН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уппа, на которую следует обратить особое внимание специалистов,— менеджеры среднего уровня. Американский исследователь Б. Виллох определяет три категории менеджеров такого уровня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- «тигры»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— молодые карьеристы, которые хотя и участвуют в проекте по реинжинирингу с энтузиазмом, имеют тенденцию концентрироваться на собственных задачах в ущерб общим целям проект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-  «ослы»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— старейшие сотрудники, достигшие пика карьеры, которые хотят спокойствия и стабильности в компании; они могут серьезно навредить проекту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-  «акулы»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— сотрудники, которые разработали процедуры и инструкции для управления операциями компании; они часто имеют реальную силу в компании и могут создать огромные проблемы, саботируя реальные перемены в жизни компан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1519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0000"/>
                </a:solidFill>
                <a:latin typeface="Verdana"/>
              </a:rPr>
              <a:t>Этапы реинжиниринг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83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работка образа будущей компан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ние модели существующей компан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II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работка нового бизнес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1. Перепроектирование бизнес-процес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2. Разработка бизнес-процессов компании на уровне трудовых ресур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3. Разработка поддерживающих информационных сист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V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Внедрение перепроектированных процес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423600" y="1773000"/>
            <a:ext cx="49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гда выбирайте самый трудный путь –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м Вы не встретите соперников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ль де Гол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440" y="32004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957400" y="1631160"/>
            <a:ext cx="5635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"Если вы не можете описать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то что вы делаете, как процесс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вы не знаете то, что вы делаете"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.Э. Деминг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2" descr="D:\kotyaka-ulibaka_68383414_orig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бщее управление деловыми действиями (бизнес-процессами) называют </a:t>
            </a:r>
            <a:r>
              <a:rPr b="1" i="1" lang="ru-RU" sz="3000" spc="-1" strike="noStrike" u="sng">
                <a:solidFill>
                  <a:srgbClr val="336699"/>
                </a:solidFill>
                <a:uFillTx/>
                <a:latin typeface="Verdana"/>
              </a:rPr>
              <a:t>инжинирингом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бизнеса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, подразумевая постоянное улучшение процесс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Определ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инжиниринг бизнес-процессов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— фундаментальное переосмысление и радикальное перепроектирование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бизнес-процессов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для достижения радикального, скачкообразного улучшения деятельности фирмы и обеспечения максимального эффекта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производственно-хозяйственной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финансово-экономической деятельност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оформленное соответствующими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организационно-распорядительным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нормативными документам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инжиниринг использует специфические средства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представления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обработк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проблемной информации, понятные как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менеджер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так и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разработчик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нформационных систе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Ключевые понятия реинжиниринг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Verdana"/>
              </a:rPr>
              <a:t>Фундаментальны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— должны быть получены ответы на наиболее существенные вопросы о деятельности предприятия: «Почему мы должны делать то, что мы делаем?», «Почему мы должны делать это тем способом, которым мы делаем?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Verdana"/>
              </a:rPr>
              <a:t>Реинжиниринг</a:t>
            </a: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начала определяет, </a:t>
            </a:r>
            <a:r>
              <a:rPr b="1" lang="ru-RU" sz="2100" spc="-1" strike="noStrike">
                <a:solidFill>
                  <a:srgbClr val="336699"/>
                </a:solidFill>
                <a:latin typeface="Verdana"/>
              </a:rPr>
              <a:t>ЧТО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едприятие должно делать, и только затем — </a:t>
            </a:r>
            <a:r>
              <a:rPr b="1" lang="ru-RU" sz="2100" spc="-1" strike="noStrike">
                <a:solidFill>
                  <a:srgbClr val="336699"/>
                </a:solidFill>
                <a:latin typeface="Verdana"/>
              </a:rPr>
              <a:t>КАК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делать. Реинжиниринг во многом игнорирует то, что есть, и концентрируется на том, что должно бы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Ключевые понятия реинжиниринг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Verdana"/>
              </a:rPr>
              <a:t>Радикальный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— радикальность означает изменение вещей в самом их корн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3640" y="17524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Verdana"/>
              </a:rPr>
              <a:t>Реинжиниринг</a:t>
            </a:r>
            <a:r>
              <a:rPr b="1" lang="ru-RU" sz="2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целен на то, чтобы не только каждое звено бизнеса действовало продуктивно, но и на то, чтобы </a:t>
            </a:r>
            <a:r>
              <a:rPr b="1" i="1" lang="ru-RU" sz="2600" spc="-1" strike="noStrike" u="sng">
                <a:solidFill>
                  <a:srgbClr val="336699"/>
                </a:solidFill>
                <a:uFillTx/>
                <a:latin typeface="Verdana"/>
              </a:rPr>
              <a:t>вся система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их взаимодействия была нацелена на получение максимального эффекта мультипликации, т.е. того эффекта, который невозможно получить каждому в отдельности, но реально достичь за счет совместных усилий, организованных оптимальным образо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Для успешного бизнес - реинжиниринга характерны четыре момента:</a:t>
            </a:r>
            <a:br>
              <a:rPr sz="3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c0000"/>
                </a:solidFill>
                <a:latin typeface="Verdana"/>
              </a:rPr>
              <a:t>ориентация на процесс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, то есть положительный результат достигается благодаря рассмотрению именно всего процесса в целом, а не в результате решения узкой задач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Verdana"/>
              </a:rPr>
              <a:t>2)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700" spc="-1" strike="noStrike">
                <a:solidFill>
                  <a:srgbClr val="cc0000"/>
                </a:solidFill>
                <a:latin typeface="Verdana"/>
              </a:rPr>
              <a:t>амбиции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– предприятие ставит перед собой цель обеспечить качественный прорыв в своей работе, его не устраивает незначительное ее улучшение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Verdana"/>
              </a:rPr>
              <a:t>3)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700" spc="-1" strike="noStrike">
                <a:solidFill>
                  <a:srgbClr val="cc0000"/>
                </a:solidFill>
                <a:latin typeface="Verdana"/>
              </a:rPr>
              <a:t>отказ от устоявшихся правил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, без чего существование реинжиниринга немыслимо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Verdana"/>
              </a:rPr>
              <a:t>4)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700" spc="-1" strike="noStrike">
                <a:solidFill>
                  <a:srgbClr val="cc0000"/>
                </a:solidFill>
                <a:latin typeface="Verdana"/>
              </a:rPr>
              <a:t>использование информационных технологий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, служащими средствами, позволяющими отказаться от устаревших правил и создать модели новых процессов, скачкообразно улучшив, тем самым, основные показател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835280" y="6021360"/>
            <a:ext cx="604980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Бизнес-процес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совокупность взаимосвязанных мероприятий или задач, направленных на создание определенного продукта или услуги для потребителей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наглядности бизнес-процессы визуализируют при помощи блок-схемы бизнес-процесс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Границы процессов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Процесс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это потоки работы, и у них есть свои границы -начало и кон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1280" y="2711160"/>
            <a:ext cx="7727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любой организации существуют как </a:t>
            </a: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основные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ак и </a:t>
            </a: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вспомогательные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цесс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Verdana"/>
              </a:rPr>
              <a:t>Основные процессы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— это процессы текущей деятельно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омпании, результатом которых является производство выходов, требуемых внешним клиенто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Verdana"/>
              </a:rPr>
              <a:t>Вспомогательные процессы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обеспечивают существова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вичных процесс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5:02:01Z</dcterms:created>
  <dc:creator>User</dc:creator>
  <dc:description/>
  <dc:language>en-US</dc:language>
  <cp:lastModifiedBy>AutoBVT</cp:lastModifiedBy>
  <dcterms:modified xsi:type="dcterms:W3CDTF">2020-10-27T16:20:38Z</dcterms:modified>
  <cp:revision>19</cp:revision>
  <dc:subject/>
  <dc:title>Реинжиниринг бизнес-процессов</dc:title>
</cp:coreProperties>
</file>