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2996-0223-462D-90FC-2AC9BCD17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BBB5-76D6-45CF-ABBD-1D2B9370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E24F-1F88-4B44-833B-7FFF686C3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0EBD-FCE2-465C-B465-6D91A02AA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2AFF-BC5B-4851-BD26-6F57B76B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ADD5-AB66-4CA7-B5C7-55DC151A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4272-35D9-499A-814C-D8A5CEF8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8A56-B9D3-4FE3-83E1-D5E03885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16B8-6BD5-4DA2-8299-4360603C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A407-4C1F-475D-A934-9A5E4318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F439-6365-4CCA-9DEA-BBF56554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DCFC-A13A-4450-AB1A-9275B64B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5434-4660-4F28-9D61-C263245453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9100003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553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42" name="Rectangle 11"/>
          <p:cNvGrpSpPr/>
          <p:nvPr/>
        </p:nvGrpSpPr>
        <p:grpSpPr>
          <a:xfrm>
            <a:off x="317520" y="2200320"/>
            <a:ext cx="8435880" cy="2097000"/>
            <a:chOff x="317520" y="2200320"/>
            <a:chExt cx="8435880" cy="2097000"/>
          </a:xfrm>
        </p:grpSpPr>
        <p:pic>
          <p:nvPicPr>
            <p:cNvPr id="43" name="Rectangle 11" descr=""/>
            <p:cNvPicPr/>
            <p:nvPr/>
          </p:nvPicPr>
          <p:blipFill>
            <a:blip r:embed="rId2"/>
            <a:stretch/>
          </p:blipFill>
          <p:spPr>
            <a:xfrm>
              <a:off x="317520" y="2200320"/>
              <a:ext cx="8435880" cy="20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324000" y="2205000"/>
              <a:ext cx="8424720" cy="20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Text Box 7"/>
          <p:cNvSpPr/>
          <p:nvPr/>
        </p:nvSpPr>
        <p:spPr>
          <a:xfrm>
            <a:off x="690840" y="2708280"/>
            <a:ext cx="7848000" cy="947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ешний фотоэффе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учение законов внешнего фотоэфф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1496880" y="316080"/>
            <a:ext cx="71424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Муниципальное автономное общеобразовательное учреж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«Лиц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2441520" y="5545080"/>
            <a:ext cx="3708720" cy="85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Учитель физики   МАОУ   «Лицей»</a:t>
            </a:r>
            <a:r>
              <a:rPr b="1" lang="ru-RU" sz="1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Слипченко Таисия Евген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5"/>
          <p:cNvSpPr/>
          <p:nvPr/>
        </p:nvSpPr>
        <p:spPr>
          <a:xfrm>
            <a:off x="4788000" y="2708280"/>
            <a:ext cx="4213080" cy="2089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4"/>
          <p:cNvSpPr/>
          <p:nvPr/>
        </p:nvSpPr>
        <p:spPr>
          <a:xfrm>
            <a:off x="142920" y="2708280"/>
            <a:ext cx="4213080" cy="208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8702280" y="1159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Rectangle 7"/>
          <p:cNvGrpSpPr/>
          <p:nvPr/>
        </p:nvGrpSpPr>
        <p:grpSpPr>
          <a:xfrm>
            <a:off x="-42840" y="109440"/>
            <a:ext cx="8723160" cy="444600"/>
            <a:chOff x="-42840" y="109440"/>
            <a:chExt cx="8723160" cy="444600"/>
          </a:xfrm>
        </p:grpSpPr>
        <p:pic>
          <p:nvPicPr>
            <p:cNvPr id="172" name="Rectangle 7" descr=""/>
            <p:cNvPicPr/>
            <p:nvPr/>
          </p:nvPicPr>
          <p:blipFill>
            <a:blip r:embed="rId3"/>
            <a:stretch/>
          </p:blipFill>
          <p:spPr>
            <a:xfrm>
              <a:off x="-42840" y="109440"/>
              <a:ext cx="87231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-36360" y="115920"/>
              <a:ext cx="871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Внешний фотоэффект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зучение законов внешнего фотоэффект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11"/>
          <p:cNvSpPr/>
          <p:nvPr/>
        </p:nvSpPr>
        <p:spPr>
          <a:xfrm>
            <a:off x="1914120" y="1693800"/>
            <a:ext cx="25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ий фотоэфф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25"/>
          <p:cNvGrpSpPr/>
          <p:nvPr/>
        </p:nvGrpSpPr>
        <p:grpSpPr>
          <a:xfrm>
            <a:off x="6229440" y="1339200"/>
            <a:ext cx="444240" cy="368280"/>
            <a:chOff x="6229440" y="1339200"/>
            <a:chExt cx="444240" cy="368280"/>
          </a:xfrm>
        </p:grpSpPr>
        <p:grpSp>
          <p:nvGrpSpPr>
            <p:cNvPr id="176" name="Group 26"/>
            <p:cNvGrpSpPr/>
            <p:nvPr/>
          </p:nvGrpSpPr>
          <p:grpSpPr>
            <a:xfrm>
              <a:off x="6458040" y="1555920"/>
              <a:ext cx="215640" cy="144360"/>
              <a:chOff x="6458040" y="1555920"/>
              <a:chExt cx="215640" cy="144360"/>
            </a:xfrm>
          </p:grpSpPr>
          <p:sp>
            <p:nvSpPr>
              <p:cNvPr id="177" name="Oval 27"/>
              <p:cNvSpPr/>
              <p:nvPr/>
            </p:nvSpPr>
            <p:spPr>
              <a:xfrm>
                <a:off x="6458040" y="1555920"/>
                <a:ext cx="215640" cy="144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28"/>
              <p:cNvSpPr/>
              <p:nvPr/>
            </p:nvSpPr>
            <p:spPr>
              <a:xfrm>
                <a:off x="6530760" y="1628640"/>
                <a:ext cx="70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Rectangle 29"/>
            <p:cNvSpPr/>
            <p:nvPr/>
          </p:nvSpPr>
          <p:spPr>
            <a:xfrm>
              <a:off x="6229440" y="133920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ē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Line 34"/>
          <p:cNvSpPr/>
          <p:nvPr/>
        </p:nvSpPr>
        <p:spPr>
          <a:xfrm flipV="1">
            <a:off x="6732720" y="1123560"/>
            <a:ext cx="43164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39"/>
          <p:cNvGrpSpPr/>
          <p:nvPr/>
        </p:nvGrpSpPr>
        <p:grpSpPr>
          <a:xfrm>
            <a:off x="6949800" y="1196280"/>
            <a:ext cx="657000" cy="622800"/>
            <a:chOff x="6949800" y="1196280"/>
            <a:chExt cx="657000" cy="622800"/>
          </a:xfrm>
        </p:grpSpPr>
        <p:sp>
          <p:nvSpPr>
            <p:cNvPr id="182" name="Rectangle 35"/>
            <p:cNvSpPr/>
            <p:nvPr/>
          </p:nvSpPr>
          <p:spPr>
            <a:xfrm>
              <a:off x="6949800" y="119628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36"/>
            <p:cNvSpPr/>
            <p:nvPr/>
          </p:nvSpPr>
          <p:spPr>
            <a:xfrm>
              <a:off x="7174440" y="1196280"/>
              <a:ext cx="4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i="1" lang="ru-RU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7"/>
            <p:cNvSpPr/>
            <p:nvPr/>
          </p:nvSpPr>
          <p:spPr>
            <a:xfrm>
              <a:off x="6951600" y="15238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8"/>
            <p:cNvSpPr/>
            <p:nvPr/>
          </p:nvSpPr>
          <p:spPr>
            <a:xfrm>
              <a:off x="7074360" y="1450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Rectangle 40"/>
          <p:cNvSpPr/>
          <p:nvPr/>
        </p:nvSpPr>
        <p:spPr>
          <a:xfrm>
            <a:off x="5076720" y="1916280"/>
            <a:ext cx="2374920" cy="50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++++++++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2"/>
          <p:cNvSpPr/>
          <p:nvPr/>
        </p:nvSpPr>
        <p:spPr>
          <a:xfrm>
            <a:off x="4427640" y="836640"/>
            <a:ext cx="1008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3"/>
          <p:cNvSpPr/>
          <p:nvPr/>
        </p:nvSpPr>
        <p:spPr>
          <a:xfrm>
            <a:off x="5003640" y="836640"/>
            <a:ext cx="1008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44"/>
          <p:cNvSpPr/>
          <p:nvPr/>
        </p:nvSpPr>
        <p:spPr>
          <a:xfrm>
            <a:off x="4716360" y="836640"/>
            <a:ext cx="1008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5"/>
          <p:cNvSpPr/>
          <p:nvPr/>
        </p:nvSpPr>
        <p:spPr>
          <a:xfrm>
            <a:off x="4573440" y="835560"/>
            <a:ext cx="515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6"/>
          <p:cNvSpPr/>
          <p:nvPr/>
        </p:nvSpPr>
        <p:spPr>
          <a:xfrm>
            <a:off x="1457640" y="284652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7"/>
          <p:cNvSpPr/>
          <p:nvPr/>
        </p:nvSpPr>
        <p:spPr>
          <a:xfrm>
            <a:off x="6581880" y="2846520"/>
            <a:ext cx="7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9"/>
          <p:cNvSpPr/>
          <p:nvPr/>
        </p:nvSpPr>
        <p:spPr>
          <a:xfrm>
            <a:off x="250920" y="3213000"/>
            <a:ext cx="863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1"/>
          <p:cNvSpPr/>
          <p:nvPr/>
        </p:nvSpPr>
        <p:spPr>
          <a:xfrm>
            <a:off x="250920" y="4005360"/>
            <a:ext cx="863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2"/>
          <p:cNvSpPr/>
          <p:nvPr/>
        </p:nvSpPr>
        <p:spPr>
          <a:xfrm>
            <a:off x="1253160" y="3213000"/>
            <a:ext cx="3064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сло электронов, вырываем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поверхности металла в единиц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рем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3"/>
          <p:cNvSpPr/>
          <p:nvPr/>
        </p:nvSpPr>
        <p:spPr>
          <a:xfrm>
            <a:off x="1325520" y="4064040"/>
            <a:ext cx="244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орость фотоэлектрон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61"/>
          <p:cNvGrpSpPr/>
          <p:nvPr/>
        </p:nvGrpSpPr>
        <p:grpSpPr>
          <a:xfrm>
            <a:off x="5832360" y="3496320"/>
            <a:ext cx="2054160" cy="459720"/>
            <a:chOff x="5832360" y="3496320"/>
            <a:chExt cx="2054160" cy="459720"/>
          </a:xfrm>
        </p:grpSpPr>
        <p:sp>
          <p:nvSpPr>
            <p:cNvPr id="198" name="Rectangle 56"/>
            <p:cNvSpPr/>
            <p:nvPr/>
          </p:nvSpPr>
          <p:spPr>
            <a:xfrm>
              <a:off x="5832360" y="349632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Φ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57"/>
            <p:cNvSpPr/>
            <p:nvPr/>
          </p:nvSpPr>
          <p:spPr>
            <a:xfrm>
              <a:off x="6334560" y="3552840"/>
              <a:ext cx="155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ветовой пото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62"/>
          <p:cNvGrpSpPr/>
          <p:nvPr/>
        </p:nvGrpSpPr>
        <p:grpSpPr>
          <a:xfrm>
            <a:off x="5859360" y="3856680"/>
            <a:ext cx="1922040" cy="581400"/>
            <a:chOff x="5859360" y="3856680"/>
            <a:chExt cx="1922040" cy="581400"/>
          </a:xfrm>
        </p:grpSpPr>
        <p:sp>
          <p:nvSpPr>
            <p:cNvPr id="201" name="Rectangle 59"/>
            <p:cNvSpPr/>
            <p:nvPr/>
          </p:nvSpPr>
          <p:spPr>
            <a:xfrm>
              <a:off x="5859360" y="38566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ν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60"/>
            <p:cNvSpPr/>
            <p:nvPr/>
          </p:nvSpPr>
          <p:spPr>
            <a:xfrm>
              <a:off x="6331320" y="3984840"/>
              <a:ext cx="145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частота све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63"/>
          <p:cNvSpPr/>
          <p:nvPr/>
        </p:nvSpPr>
        <p:spPr>
          <a:xfrm>
            <a:off x="252000" y="494172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одимо установи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4"/>
          <p:cNvSpPr/>
          <p:nvPr/>
        </p:nvSpPr>
        <p:spPr>
          <a:xfrm>
            <a:off x="2517480" y="545616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67"/>
          <p:cNvGrpSpPr/>
          <p:nvPr/>
        </p:nvGrpSpPr>
        <p:grpSpPr>
          <a:xfrm>
            <a:off x="2824920" y="5364000"/>
            <a:ext cx="1139040" cy="459720"/>
            <a:chOff x="2824920" y="5364000"/>
            <a:chExt cx="1139040" cy="459720"/>
          </a:xfrm>
        </p:grpSpPr>
        <p:sp>
          <p:nvSpPr>
            <p:cNvPr id="206" name="Rectangle 65"/>
            <p:cNvSpPr/>
            <p:nvPr/>
          </p:nvSpPr>
          <p:spPr>
            <a:xfrm>
              <a:off x="2824920" y="5403600"/>
              <a:ext cx="60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66"/>
            <p:cNvSpPr/>
            <p:nvPr/>
          </p:nvSpPr>
          <p:spPr>
            <a:xfrm>
              <a:off x="3227040" y="5364000"/>
              <a:ext cx="73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f(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Φ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Line 68"/>
          <p:cNvSpPr/>
          <p:nvPr/>
        </p:nvSpPr>
        <p:spPr>
          <a:xfrm>
            <a:off x="4211640" y="565164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0"/>
          <p:cNvSpPr/>
          <p:nvPr/>
        </p:nvSpPr>
        <p:spPr>
          <a:xfrm>
            <a:off x="5345280" y="5364000"/>
            <a:ext cx="124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4"/>
          <p:cNvSpPr/>
          <p:nvPr/>
        </p:nvSpPr>
        <p:spPr>
          <a:xfrm>
            <a:off x="2517480" y="600552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6"/>
          <p:cNvSpPr/>
          <p:nvPr/>
        </p:nvSpPr>
        <p:spPr>
          <a:xfrm>
            <a:off x="2825280" y="590544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7"/>
          <p:cNvSpPr/>
          <p:nvPr/>
        </p:nvSpPr>
        <p:spPr>
          <a:xfrm>
            <a:off x="3226680" y="5862600"/>
            <a:ext cx="97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Φ,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ν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78"/>
          <p:cNvSpPr/>
          <p:nvPr/>
        </p:nvSpPr>
        <p:spPr>
          <a:xfrm>
            <a:off x="4211640" y="620064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9"/>
          <p:cNvSpPr/>
          <p:nvPr/>
        </p:nvSpPr>
        <p:spPr>
          <a:xfrm>
            <a:off x="5345280" y="5913360"/>
            <a:ext cx="124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з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8702280" y="1159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Rectangle 7"/>
          <p:cNvGrpSpPr/>
          <p:nvPr/>
        </p:nvGrpSpPr>
        <p:grpSpPr>
          <a:xfrm>
            <a:off x="-42840" y="109440"/>
            <a:ext cx="8723160" cy="444600"/>
            <a:chOff x="-42840" y="109440"/>
            <a:chExt cx="8723160" cy="444600"/>
          </a:xfrm>
        </p:grpSpPr>
        <p:pic>
          <p:nvPicPr>
            <p:cNvPr id="221" name="Rectangle 7" descr=""/>
            <p:cNvPicPr/>
            <p:nvPr/>
          </p:nvPicPr>
          <p:blipFill>
            <a:blip r:embed="rId1"/>
            <a:stretch/>
          </p:blipFill>
          <p:spPr>
            <a:xfrm>
              <a:off x="-42840" y="109440"/>
              <a:ext cx="87231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-36360" y="115920"/>
              <a:ext cx="871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Внешний фотоэффект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зучение законов внешнего фотоэффект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 Box 40"/>
          <p:cNvSpPr/>
          <p:nvPr/>
        </p:nvSpPr>
        <p:spPr>
          <a:xfrm>
            <a:off x="468360" y="836640"/>
            <a:ext cx="82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9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д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Г.Столе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становил количественные закономер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эфф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1" descr="Столетов"/>
          <p:cNvPicPr/>
          <p:nvPr/>
        </p:nvPicPr>
        <p:blipFill>
          <a:blip r:embed="rId2"/>
          <a:stretch/>
        </p:blipFill>
        <p:spPr>
          <a:xfrm>
            <a:off x="611280" y="2492280"/>
            <a:ext cx="2305080" cy="2881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2" descr="5-2-1"/>
          <p:cNvPicPr/>
          <p:nvPr/>
        </p:nvPicPr>
        <p:blipFill>
          <a:blip r:embed="rId3"/>
          <a:stretch/>
        </p:blipFill>
        <p:spPr>
          <a:xfrm>
            <a:off x="3995640" y="1700280"/>
            <a:ext cx="4273560" cy="46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8702280" y="1159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Rectangle 7"/>
          <p:cNvGrpSpPr/>
          <p:nvPr/>
        </p:nvGrpSpPr>
        <p:grpSpPr>
          <a:xfrm>
            <a:off x="-42840" y="109440"/>
            <a:ext cx="8723160" cy="444600"/>
            <a:chOff x="-42840" y="109440"/>
            <a:chExt cx="8723160" cy="444600"/>
          </a:xfrm>
        </p:grpSpPr>
        <p:pic>
          <p:nvPicPr>
            <p:cNvPr id="232" name="Rectangle 7" descr=""/>
            <p:cNvPicPr/>
            <p:nvPr/>
          </p:nvPicPr>
          <p:blipFill>
            <a:blip r:embed="rId1"/>
            <a:stretch/>
          </p:blipFill>
          <p:spPr>
            <a:xfrm>
              <a:off x="-42840" y="109440"/>
              <a:ext cx="87231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-36360" y="115920"/>
              <a:ext cx="871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Внешний фотоэффект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зучение законов внешнего фотоэффект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 Box 11"/>
          <p:cNvSpPr/>
          <p:nvPr/>
        </p:nvSpPr>
        <p:spPr>
          <a:xfrm>
            <a:off x="2890440" y="69228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экспери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324000" y="1197000"/>
          <a:ext cx="8496000" cy="5111640"/>
        </p:xfrm>
        <a:graphic>
          <a:graphicData uri="http://schemas.openxmlformats.org/drawingml/2006/table">
            <a:tbl>
              <a:tblPr/>
              <a:tblGrid>
                <a:gridCol w="718920"/>
                <a:gridCol w="3457800"/>
                <a:gridCol w="4319280"/>
              </a:tblGrid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числа вырванных электронов от интенсивности светового пот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скорости фотоэлектронов от интенсивности с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скорости фотоэлектронов от частоты с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т ли возникновение фотоэффекта от частоты света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времени начала фотоэффекта от частоты падающего с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8702280" y="1159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7"/>
          <p:cNvGrpSpPr/>
          <p:nvPr/>
        </p:nvGrpSpPr>
        <p:grpSpPr>
          <a:xfrm>
            <a:off x="-42840" y="109440"/>
            <a:ext cx="8723160" cy="444600"/>
            <a:chOff x="-42840" y="109440"/>
            <a:chExt cx="8723160" cy="444600"/>
          </a:xfrm>
        </p:grpSpPr>
        <p:pic>
          <p:nvPicPr>
            <p:cNvPr id="242" name="Rectangle 7" descr=""/>
            <p:cNvPicPr/>
            <p:nvPr/>
          </p:nvPicPr>
          <p:blipFill>
            <a:blip r:embed="rId1"/>
            <a:stretch/>
          </p:blipFill>
          <p:spPr>
            <a:xfrm>
              <a:off x="-42840" y="109440"/>
              <a:ext cx="87231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-36360" y="115920"/>
              <a:ext cx="871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Внешний фотоэффект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зучение законов внешнего фотоэффект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8"/>
          <p:cNvSpPr/>
          <p:nvPr/>
        </p:nvSpPr>
        <p:spPr>
          <a:xfrm>
            <a:off x="2890440" y="69228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экспери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324000" y="1197000"/>
          <a:ext cx="8496000" cy="5526000"/>
        </p:xfrm>
        <a:graphic>
          <a:graphicData uri="http://schemas.openxmlformats.org/drawingml/2006/table">
            <a:tbl>
              <a:tblPr/>
              <a:tblGrid>
                <a:gridCol w="718920"/>
                <a:gridCol w="3457800"/>
                <a:gridCol w="4319280"/>
              </a:tblGrid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2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числа вырванных электронов от интенсивности светового пот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к насыщения пропорционален световому потоку, падающему на мет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 =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γ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Φ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де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γ –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чувствительность ве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скорости фотоэлектронов от интенсивности с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скорости фотоэлектронов от частоты с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т ли возникновение фотоэффекта от частоты света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времени начала фотоэффекта от частоты падающего с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8702280" y="1159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Rectangle 7"/>
          <p:cNvGrpSpPr/>
          <p:nvPr/>
        </p:nvGrpSpPr>
        <p:grpSpPr>
          <a:xfrm>
            <a:off x="-42840" y="109440"/>
            <a:ext cx="8723160" cy="444600"/>
            <a:chOff x="-42840" y="109440"/>
            <a:chExt cx="8723160" cy="444600"/>
          </a:xfrm>
        </p:grpSpPr>
        <p:pic>
          <p:nvPicPr>
            <p:cNvPr id="252" name="Rectangle 7" descr=""/>
            <p:cNvPicPr/>
            <p:nvPr/>
          </p:nvPicPr>
          <p:blipFill>
            <a:blip r:embed="rId1"/>
            <a:stretch/>
          </p:blipFill>
          <p:spPr>
            <a:xfrm>
              <a:off x="-42840" y="109440"/>
              <a:ext cx="87231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-36360" y="115920"/>
              <a:ext cx="871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Внешний фотоэффект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зучение законов внешнего фотоэффект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 Box 8"/>
          <p:cNvSpPr/>
          <p:nvPr/>
        </p:nvSpPr>
        <p:spPr>
          <a:xfrm>
            <a:off x="2890440" y="69228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экспери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24000" y="1197000"/>
          <a:ext cx="8496000" cy="5526000"/>
        </p:xfrm>
        <a:graphic>
          <a:graphicData uri="http://schemas.openxmlformats.org/drawingml/2006/table">
            <a:tbl>
              <a:tblPr/>
              <a:tblGrid>
                <a:gridCol w="718920"/>
                <a:gridCol w="3457800"/>
                <a:gridCol w="4319280"/>
              </a:tblGrid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2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числа вырванных электронов от интенсивности светового пот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к насыщения пропорционален световому потоку, падающему на мет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 =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γ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Φ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де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γ –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чувствительность ве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скорости фотоэлектронов от интенсивности с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авис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скорости фотоэлектронов от частоты с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т ли возникновение фотоэффекта от частоты света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времени начала фотоэффекта от частоты падающего с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8702280" y="1159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Rectangle 7"/>
          <p:cNvGrpSpPr/>
          <p:nvPr/>
        </p:nvGrpSpPr>
        <p:grpSpPr>
          <a:xfrm>
            <a:off x="-42840" y="109440"/>
            <a:ext cx="8723160" cy="444600"/>
            <a:chOff x="-42840" y="109440"/>
            <a:chExt cx="8723160" cy="444600"/>
          </a:xfrm>
        </p:grpSpPr>
        <p:pic>
          <p:nvPicPr>
            <p:cNvPr id="262" name="Rectangle 7" descr=""/>
            <p:cNvPicPr/>
            <p:nvPr/>
          </p:nvPicPr>
          <p:blipFill>
            <a:blip r:embed="rId1"/>
            <a:stretch/>
          </p:blipFill>
          <p:spPr>
            <a:xfrm>
              <a:off x="-42840" y="109440"/>
              <a:ext cx="87231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-36360" y="115920"/>
              <a:ext cx="871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Внешний фотоэффект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зучение законов внешнего фотоэффект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8"/>
          <p:cNvSpPr/>
          <p:nvPr/>
        </p:nvSpPr>
        <p:spPr>
          <a:xfrm>
            <a:off x="2890440" y="69228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экспери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24000" y="1197000"/>
          <a:ext cx="8496000" cy="5597640"/>
        </p:xfrm>
        <a:graphic>
          <a:graphicData uri="http://schemas.openxmlformats.org/drawingml/2006/table">
            <a:tbl>
              <a:tblPr/>
              <a:tblGrid>
                <a:gridCol w="718920"/>
                <a:gridCol w="3457800"/>
                <a:gridCol w="4319280"/>
              </a:tblGrid>
              <a:tr h="61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2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числа вырванных электронов от интенсивности светового пот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к насыщения пропорционален световому потоку, падающему на мет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 =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γ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Φ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де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γ –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чувствительность ве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скорости фотоэлектронов от интенсивности с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авис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скорости фотоэлектронов от частоты с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м больше частота, тем больше задерживающее напряжение, а следовательно больше скорость фотоэлектр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т ли возникновение фотоэффекта от частоты света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времени начала фотоэффекта от частоты падающего с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8702280" y="1159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Rectangle 7"/>
          <p:cNvGrpSpPr/>
          <p:nvPr/>
        </p:nvGrpSpPr>
        <p:grpSpPr>
          <a:xfrm>
            <a:off x="-42840" y="109440"/>
            <a:ext cx="8723160" cy="444600"/>
            <a:chOff x="-42840" y="109440"/>
            <a:chExt cx="8723160" cy="444600"/>
          </a:xfrm>
        </p:grpSpPr>
        <p:pic>
          <p:nvPicPr>
            <p:cNvPr id="272" name="Rectangle 7" descr=""/>
            <p:cNvPicPr/>
            <p:nvPr/>
          </p:nvPicPr>
          <p:blipFill>
            <a:blip r:embed="rId1"/>
            <a:stretch/>
          </p:blipFill>
          <p:spPr>
            <a:xfrm>
              <a:off x="-42840" y="109440"/>
              <a:ext cx="87231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-36360" y="115920"/>
              <a:ext cx="871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Внешний фотоэффект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зучение законов внешнего фотоэффект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Text Box 8"/>
          <p:cNvSpPr/>
          <p:nvPr/>
        </p:nvSpPr>
        <p:spPr>
          <a:xfrm>
            <a:off x="2890440" y="69228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экспери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24000" y="1197000"/>
          <a:ext cx="8496000" cy="5597640"/>
        </p:xfrm>
        <a:graphic>
          <a:graphicData uri="http://schemas.openxmlformats.org/drawingml/2006/table">
            <a:tbl>
              <a:tblPr/>
              <a:tblGrid>
                <a:gridCol w="718920"/>
                <a:gridCol w="3457800"/>
                <a:gridCol w="4319280"/>
              </a:tblGrid>
              <a:tr h="61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2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числа вырванных электронов от интенсивности светового пот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к насыщения пропорционален световому потоку, падающему на мет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 =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γ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Φ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де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γ –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чувствительность ве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скорости фотоэлектронов от интенсивности с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авис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скорости фотоэлектронов от частоты с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м больше частота, тем больше задерживающее напряжение, а следовательно больше скорость фотоэлектр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т ли возникновение фотоэффекта от частоты света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каждого вещества существует наименьшая частота при которой возможен фотоэффе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времени начала фотоэффекта от частоты падающего с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8702280" y="1159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Rectangle 7"/>
          <p:cNvGrpSpPr/>
          <p:nvPr/>
        </p:nvGrpSpPr>
        <p:grpSpPr>
          <a:xfrm>
            <a:off x="-42840" y="109440"/>
            <a:ext cx="8723160" cy="444600"/>
            <a:chOff x="-42840" y="109440"/>
            <a:chExt cx="8723160" cy="444600"/>
          </a:xfrm>
        </p:grpSpPr>
        <p:pic>
          <p:nvPicPr>
            <p:cNvPr id="282" name="Rectangle 7" descr=""/>
            <p:cNvPicPr/>
            <p:nvPr/>
          </p:nvPicPr>
          <p:blipFill>
            <a:blip r:embed="rId1"/>
            <a:stretch/>
          </p:blipFill>
          <p:spPr>
            <a:xfrm>
              <a:off x="-42840" y="109440"/>
              <a:ext cx="87231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-36360" y="115920"/>
              <a:ext cx="871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Внешний фотоэффект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зучение законов внешнего фотоэффект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Text Box 8"/>
          <p:cNvSpPr/>
          <p:nvPr/>
        </p:nvSpPr>
        <p:spPr>
          <a:xfrm>
            <a:off x="2890440" y="69228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экспери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24000" y="1197000"/>
          <a:ext cx="8496000" cy="5597640"/>
        </p:xfrm>
        <a:graphic>
          <a:graphicData uri="http://schemas.openxmlformats.org/drawingml/2006/table">
            <a:tbl>
              <a:tblPr/>
              <a:tblGrid>
                <a:gridCol w="718920"/>
                <a:gridCol w="3457800"/>
                <a:gridCol w="4319280"/>
              </a:tblGrid>
              <a:tr h="61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2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числа вырванных электронов от интенсивности светового пот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к насыщения пропорционален световому потоку, падающему на мет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 =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γ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Φ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де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γ –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чувствительность ве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скорости фотоэлектронов от интенсивности с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авис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скорости фотоэлектронов от частоты с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м больше частота, тем больше задерживающее напряжение, а следовательно больше скорость фотоэлектр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т ли возникновение фотоэффекта от частоты света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каждого вещества существует наименьшая частота при которой возможен фотоэффе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времени начала фотоэффекта от частоты падающего с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эффект практически безынерционен, если частота падающего света больше или равна частоте красной гра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8702280" y="1159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Rectangle 7"/>
          <p:cNvGrpSpPr/>
          <p:nvPr/>
        </p:nvGrpSpPr>
        <p:grpSpPr>
          <a:xfrm>
            <a:off x="-42840" y="109440"/>
            <a:ext cx="8723160" cy="444600"/>
            <a:chOff x="-42840" y="109440"/>
            <a:chExt cx="8723160" cy="444600"/>
          </a:xfrm>
        </p:grpSpPr>
        <p:pic>
          <p:nvPicPr>
            <p:cNvPr id="292" name="Rectangle 7" descr=""/>
            <p:cNvPicPr/>
            <p:nvPr/>
          </p:nvPicPr>
          <p:blipFill>
            <a:blip r:embed="rId1"/>
            <a:stretch/>
          </p:blipFill>
          <p:spPr>
            <a:xfrm>
              <a:off x="-42840" y="109440"/>
              <a:ext cx="87231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-36360" y="115920"/>
              <a:ext cx="871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Внешний фотоэффект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зучение законов внешнего фотоэффект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Rectangle 39"/>
          <p:cNvSpPr/>
          <p:nvPr/>
        </p:nvSpPr>
        <p:spPr>
          <a:xfrm>
            <a:off x="250920" y="1290600"/>
            <a:ext cx="8642160" cy="792360"/>
          </a:xfrm>
          <a:prstGeom prst="rect">
            <a:avLst/>
          </a:prstGeom>
          <a:solidFill>
            <a:srgbClr val="ff3300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ы фотоэфф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1"/>
          <p:cNvSpPr/>
          <p:nvPr/>
        </p:nvSpPr>
        <p:spPr>
          <a:xfrm>
            <a:off x="684360" y="2298600"/>
            <a:ext cx="79912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Первый за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 фотоэлектронов, вырываемых из катода за 1 секун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фототок насыщения), прямо пропорционален интенсивности с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3"/>
          <p:cNvSpPr/>
          <p:nvPr/>
        </p:nvSpPr>
        <p:spPr>
          <a:xfrm>
            <a:off x="684360" y="3379680"/>
            <a:ext cx="79912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Второй за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нетическая энергия фотоэлектронов не зависит от интенс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дающего света, а зависит от его част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4"/>
          <p:cNvSpPr/>
          <p:nvPr/>
        </p:nvSpPr>
        <p:spPr>
          <a:xfrm>
            <a:off x="684360" y="4459320"/>
            <a:ext cx="7991280" cy="11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Третий за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каждого вещества существует красная граница фотоэффек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. е. существует наименьшая частота, при которой еще возмож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эффект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5"/>
          <p:cNvSpPr/>
          <p:nvPr/>
        </p:nvSpPr>
        <p:spPr>
          <a:xfrm>
            <a:off x="1751400" y="6021360"/>
            <a:ext cx="51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лена безынерционность фотоэфф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8702280" y="1159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Rectangle 7"/>
          <p:cNvGrpSpPr/>
          <p:nvPr/>
        </p:nvGrpSpPr>
        <p:grpSpPr>
          <a:xfrm>
            <a:off x="-42840" y="109440"/>
            <a:ext cx="8723160" cy="444600"/>
            <a:chOff x="-42840" y="109440"/>
            <a:chExt cx="8723160" cy="444600"/>
          </a:xfrm>
        </p:grpSpPr>
        <p:pic>
          <p:nvPicPr>
            <p:cNvPr id="305" name="Rectangle 7" descr=""/>
            <p:cNvPicPr/>
            <p:nvPr/>
          </p:nvPicPr>
          <p:blipFill>
            <a:blip r:embed="rId1"/>
            <a:stretch/>
          </p:blipFill>
          <p:spPr>
            <a:xfrm>
              <a:off x="-42840" y="109440"/>
              <a:ext cx="87231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-36360" y="115920"/>
              <a:ext cx="871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Внешний фотоэффект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зучение законов внешнего фотоэффект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Text Box 13"/>
          <p:cNvSpPr/>
          <p:nvPr/>
        </p:nvSpPr>
        <p:spPr>
          <a:xfrm>
            <a:off x="-20160" y="1782720"/>
            <a:ext cx="9044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чем парадокс фотоэффек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 Интенсивность света, падающего на фотокатод возросла в два р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измени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а фотото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ерживающее напряже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симальная скорость фотоэлектронов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 При каком облучении электроскоп, заряженный отрицательным заряд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стрее разрядитс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инфракрасн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ультрафиолетов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рентгеновско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4"/>
          <p:cNvSpPr/>
          <p:nvPr/>
        </p:nvSpPr>
        <p:spPr>
          <a:xfrm>
            <a:off x="371880" y="804960"/>
            <a:ext cx="300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ьте на вопро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8689680" y="115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11280" y="143352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ь, какие явления могут происход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заимодействии вещества со св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редсказать и проверить существование я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его фотоэфф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Изучить законы внешнего фотоэффек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6"/>
          <p:cNvGrpSpPr/>
          <p:nvPr/>
        </p:nvGrpSpPr>
        <p:grpSpPr>
          <a:xfrm>
            <a:off x="-36360" y="60480"/>
            <a:ext cx="9008640" cy="514080"/>
            <a:chOff x="-36360" y="60480"/>
            <a:chExt cx="9008640" cy="514080"/>
          </a:xfrm>
        </p:grpSpPr>
        <p:sp>
          <p:nvSpPr>
            <p:cNvPr id="53" name="Text Box 7"/>
            <p:cNvSpPr/>
            <p:nvPr/>
          </p:nvSpPr>
          <p:spPr>
            <a:xfrm>
              <a:off x="4051440" y="60480"/>
              <a:ext cx="183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8"/>
            <p:cNvSpPr/>
            <p:nvPr/>
          </p:nvSpPr>
          <p:spPr>
            <a:xfrm>
              <a:off x="8689320" y="1159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9"/>
            <p:cNvSpPr/>
            <p:nvPr/>
          </p:nvSpPr>
          <p:spPr>
            <a:xfrm>
              <a:off x="597960" y="208080"/>
              <a:ext cx="183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Rectangle 10"/>
            <p:cNvGrpSpPr/>
            <p:nvPr/>
          </p:nvGrpSpPr>
          <p:grpSpPr>
            <a:xfrm>
              <a:off x="-36360" y="109440"/>
              <a:ext cx="8716680" cy="444600"/>
              <a:chOff x="-36360" y="109440"/>
              <a:chExt cx="8716680" cy="444600"/>
            </a:xfrm>
          </p:grpSpPr>
          <p:pic>
            <p:nvPicPr>
              <p:cNvPr id="57" name="Rectangle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-36360" y="109440"/>
                <a:ext cx="8716680" cy="44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-29880" y="115560"/>
                <a:ext cx="870552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0" lang="ru-RU" sz="1200" spc="-1" strike="noStrike">
                    <a:solidFill>
                      <a:srgbClr val="ffffff"/>
                    </a:solidFill>
                    <a:latin typeface="Arial"/>
                  </a:rPr>
                  <a:t>Внешний фотоэффект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0" lang="ru-RU" sz="1200" spc="-1" strike="noStrike">
                    <a:solidFill>
                      <a:srgbClr val="ffffff"/>
                    </a:solidFill>
                    <a:latin typeface="Arial"/>
                  </a:rPr>
                  <a:t>Изучение законов внешнего фотоэффекта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8689680" y="115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6"/>
          <p:cNvGrpSpPr/>
          <p:nvPr/>
        </p:nvGrpSpPr>
        <p:grpSpPr>
          <a:xfrm>
            <a:off x="-36360" y="60480"/>
            <a:ext cx="8895960" cy="514080"/>
            <a:chOff x="-36360" y="60480"/>
            <a:chExt cx="8895960" cy="514080"/>
          </a:xfrm>
        </p:grpSpPr>
        <p:sp>
          <p:nvSpPr>
            <p:cNvPr id="63" name="Text Box 17"/>
            <p:cNvSpPr/>
            <p:nvPr/>
          </p:nvSpPr>
          <p:spPr>
            <a:xfrm>
              <a:off x="4051440" y="60480"/>
              <a:ext cx="183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8675640" y="11592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9"/>
            <p:cNvSpPr/>
            <p:nvPr/>
          </p:nvSpPr>
          <p:spPr>
            <a:xfrm>
              <a:off x="597960" y="208080"/>
              <a:ext cx="183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Rectangle 20"/>
            <p:cNvGrpSpPr/>
            <p:nvPr/>
          </p:nvGrpSpPr>
          <p:grpSpPr>
            <a:xfrm>
              <a:off x="-36360" y="109440"/>
              <a:ext cx="8716680" cy="444600"/>
              <a:chOff x="-36360" y="109440"/>
              <a:chExt cx="8716680" cy="444600"/>
            </a:xfrm>
          </p:grpSpPr>
          <p:pic>
            <p:nvPicPr>
              <p:cNvPr id="67" name="Rectangle 20" descr=""/>
              <p:cNvPicPr/>
              <p:nvPr/>
            </p:nvPicPr>
            <p:blipFill>
              <a:blip r:embed="rId1"/>
              <a:stretch/>
            </p:blipFill>
            <p:spPr>
              <a:xfrm>
                <a:off x="-36360" y="109440"/>
                <a:ext cx="8716680" cy="44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-29880" y="115560"/>
                <a:ext cx="870552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0" lang="ru-RU" sz="1200" spc="-1" strike="noStrike">
                    <a:solidFill>
                      <a:srgbClr val="ffffff"/>
                    </a:solidFill>
                    <a:latin typeface="Arial"/>
                  </a:rPr>
                  <a:t>Внешний фотоэффект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0" lang="ru-RU" sz="1200" spc="-1" strike="noStrike">
                    <a:solidFill>
                      <a:srgbClr val="ffffff"/>
                    </a:solidFill>
                    <a:latin typeface="Arial"/>
                  </a:rPr>
                  <a:t>Изучение законов внешнего фотоэффекта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Rectangle 22"/>
          <p:cNvSpPr/>
          <p:nvPr/>
        </p:nvSpPr>
        <p:spPr>
          <a:xfrm>
            <a:off x="5435640" y="1630440"/>
            <a:ext cx="3529080" cy="934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lin ang="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3"/>
          <p:cNvSpPr/>
          <p:nvPr/>
        </p:nvSpPr>
        <p:spPr>
          <a:xfrm>
            <a:off x="324000" y="5661000"/>
            <a:ext cx="3528720" cy="934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66ff"/>
              </a:gs>
            </a:gsLst>
            <a:lin ang="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пер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4"/>
          <p:cNvSpPr/>
          <p:nvPr/>
        </p:nvSpPr>
        <p:spPr>
          <a:xfrm>
            <a:off x="4356000" y="2638440"/>
            <a:ext cx="3529080" cy="934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lin ang="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лом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5"/>
          <p:cNvSpPr/>
          <p:nvPr/>
        </p:nvSpPr>
        <p:spPr>
          <a:xfrm>
            <a:off x="2987640" y="3645000"/>
            <a:ext cx="3529080" cy="934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0c0c0"/>
              </a:gs>
            </a:gsLst>
            <a:lin ang="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гло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1619280" y="4653000"/>
            <a:ext cx="3529080" cy="934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bbe0e3"/>
              </a:gs>
            </a:gsLst>
            <a:lin ang="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яр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1"/>
          <p:cNvSpPr/>
          <p:nvPr/>
        </p:nvSpPr>
        <p:spPr>
          <a:xfrm rot="744000">
            <a:off x="3634920" y="1557360"/>
            <a:ext cx="1800360" cy="485640"/>
          </a:xfrm>
          <a:prstGeom prst="rightArrow">
            <a:avLst>
              <a:gd name="adj1" fmla="val 49676"/>
              <a:gd name="adj2" fmla="val 76495"/>
            </a:avLst>
          </a:prstGeom>
          <a:solidFill>
            <a:srgbClr val="ff3300">
              <a:alpha val="74000"/>
            </a:srgbClr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2"/>
          <p:cNvSpPr/>
          <p:nvPr/>
        </p:nvSpPr>
        <p:spPr>
          <a:xfrm rot="1652400">
            <a:off x="2914560" y="2565360"/>
            <a:ext cx="1513080" cy="485640"/>
          </a:xfrm>
          <a:prstGeom prst="rightArrow">
            <a:avLst>
              <a:gd name="adj1" fmla="val 50000"/>
              <a:gd name="adj2" fmla="val 77891"/>
            </a:avLst>
          </a:prstGeom>
          <a:solidFill>
            <a:srgbClr val="ff3300">
              <a:alpha val="74000"/>
            </a:srgbClr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4"/>
          <p:cNvSpPr/>
          <p:nvPr/>
        </p:nvSpPr>
        <p:spPr>
          <a:xfrm rot="3034200">
            <a:off x="1597320" y="2821680"/>
            <a:ext cx="1719360" cy="485640"/>
          </a:xfrm>
          <a:prstGeom prst="rightArrow">
            <a:avLst>
              <a:gd name="adj1" fmla="val 50000"/>
              <a:gd name="adj2" fmla="val 88510"/>
            </a:avLst>
          </a:prstGeom>
          <a:solidFill>
            <a:srgbClr val="ff3300">
              <a:alpha val="74000"/>
            </a:srgbClr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5"/>
          <p:cNvSpPr/>
          <p:nvPr/>
        </p:nvSpPr>
        <p:spPr>
          <a:xfrm rot="5602800">
            <a:off x="-901080" y="3717000"/>
            <a:ext cx="3456000" cy="431640"/>
          </a:xfrm>
          <a:prstGeom prst="rightArrow">
            <a:avLst>
              <a:gd name="adj1" fmla="val 59565"/>
              <a:gd name="adj2" fmla="val 82402"/>
            </a:avLst>
          </a:prstGeom>
          <a:solidFill>
            <a:srgbClr val="ff3300">
              <a:alpha val="74000"/>
            </a:srgbClr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6"/>
          <p:cNvSpPr/>
          <p:nvPr/>
        </p:nvSpPr>
        <p:spPr>
          <a:xfrm rot="4465200">
            <a:off x="884520" y="3447000"/>
            <a:ext cx="1944720" cy="485640"/>
          </a:xfrm>
          <a:prstGeom prst="rightArrow">
            <a:avLst>
              <a:gd name="adj1" fmla="val 50333"/>
              <a:gd name="adj2" fmla="val 79310"/>
            </a:avLst>
          </a:prstGeom>
          <a:solidFill>
            <a:srgbClr val="ff3300">
              <a:alpha val="74000"/>
            </a:srgbClr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30"/>
          <p:cNvSpPr/>
          <p:nvPr/>
        </p:nvSpPr>
        <p:spPr>
          <a:xfrm>
            <a:off x="179280" y="692280"/>
            <a:ext cx="3745080" cy="2232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cfc00"/>
              </a:gs>
            </a:gsLst>
            <a:lin ang="5400000"/>
          </a:gra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заимо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 веще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689680" y="115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Rectangle 5"/>
          <p:cNvGrpSpPr/>
          <p:nvPr/>
        </p:nvGrpSpPr>
        <p:grpSpPr>
          <a:xfrm>
            <a:off x="-42840" y="109440"/>
            <a:ext cx="8723160" cy="444600"/>
            <a:chOff x="-42840" y="109440"/>
            <a:chExt cx="8723160" cy="444600"/>
          </a:xfrm>
        </p:grpSpPr>
        <p:pic>
          <p:nvPicPr>
            <p:cNvPr id="84" name="Rectangle 5" descr=""/>
            <p:cNvPicPr/>
            <p:nvPr/>
          </p:nvPicPr>
          <p:blipFill>
            <a:blip r:embed="rId1"/>
            <a:stretch/>
          </p:blipFill>
          <p:spPr>
            <a:xfrm>
              <a:off x="-42840" y="109440"/>
              <a:ext cx="87231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-36360" y="115920"/>
              <a:ext cx="871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Внешний фотоэффект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зучение законов внешнего фотоэффект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Rectangle 7"/>
          <p:cNvSpPr/>
          <p:nvPr/>
        </p:nvSpPr>
        <p:spPr>
          <a:xfrm>
            <a:off x="250920" y="692280"/>
            <a:ext cx="4392360" cy="865080"/>
          </a:xfrm>
          <a:prstGeom prst="rect">
            <a:avLst/>
          </a:prstGeom>
          <a:solidFill>
            <a:srgbClr val="ff33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заимо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ещества со св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24000" y="1773360"/>
          <a:ext cx="8435880" cy="4751280"/>
        </p:xfrm>
        <a:graphic>
          <a:graphicData uri="http://schemas.openxmlformats.org/drawingml/2006/table">
            <a:tbl>
              <a:tblPr/>
              <a:tblGrid>
                <a:gridCol w="1439640"/>
                <a:gridCol w="2087640"/>
                <a:gridCol w="2800440"/>
                <a:gridCol w="2108160"/>
              </a:tblGrid>
              <a:tr h="88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ктурные единицы вещ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е движения и состояния структурных единиц вещества под влиянием с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вления, сопровождающие эти изме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28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ЭЛЕКТР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28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28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8689680" y="115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ctangle 5"/>
          <p:cNvGrpSpPr/>
          <p:nvPr/>
        </p:nvGrpSpPr>
        <p:grpSpPr>
          <a:xfrm>
            <a:off x="-42840" y="109440"/>
            <a:ext cx="8723160" cy="444600"/>
            <a:chOff x="-42840" y="109440"/>
            <a:chExt cx="8723160" cy="444600"/>
          </a:xfrm>
        </p:grpSpPr>
        <p:pic>
          <p:nvPicPr>
            <p:cNvPr id="92" name="Rectangle 5" descr=""/>
            <p:cNvPicPr/>
            <p:nvPr/>
          </p:nvPicPr>
          <p:blipFill>
            <a:blip r:embed="rId1"/>
            <a:stretch/>
          </p:blipFill>
          <p:spPr>
            <a:xfrm>
              <a:off x="-42840" y="109440"/>
              <a:ext cx="87231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-36360" y="115920"/>
              <a:ext cx="871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Внешний фотоэффект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зучение законов внешнего фотоэффект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250920" y="692280"/>
            <a:ext cx="4392360" cy="865080"/>
          </a:xfrm>
          <a:prstGeom prst="rect">
            <a:avLst/>
          </a:prstGeom>
          <a:solidFill>
            <a:srgbClr val="ff33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заимо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ещества со св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24000" y="1773360"/>
          <a:ext cx="8435880" cy="4751280"/>
        </p:xfrm>
        <a:graphic>
          <a:graphicData uri="http://schemas.openxmlformats.org/drawingml/2006/table">
            <a:tbl>
              <a:tblPr/>
              <a:tblGrid>
                <a:gridCol w="1439640"/>
                <a:gridCol w="2087640"/>
                <a:gridCol w="2800440"/>
                <a:gridCol w="2108160"/>
              </a:tblGrid>
              <a:tr h="88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ктурные единицы вещ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е движения и состояния структурных единиц вещества под влиянием с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вления, сопровождающие эти изме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28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ЭЛЕКТР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ярные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ляр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екул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личение скор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отическо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ижения молеку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ре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28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28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8689680" y="115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Rectangle 5"/>
          <p:cNvGrpSpPr/>
          <p:nvPr/>
        </p:nvGrpSpPr>
        <p:grpSpPr>
          <a:xfrm>
            <a:off x="-42840" y="109440"/>
            <a:ext cx="8723160" cy="444600"/>
            <a:chOff x="-42840" y="109440"/>
            <a:chExt cx="8723160" cy="444600"/>
          </a:xfrm>
        </p:grpSpPr>
        <p:pic>
          <p:nvPicPr>
            <p:cNvPr id="100" name="Rectangle 5" descr=""/>
            <p:cNvPicPr/>
            <p:nvPr/>
          </p:nvPicPr>
          <p:blipFill>
            <a:blip r:embed="rId1"/>
            <a:stretch/>
          </p:blipFill>
          <p:spPr>
            <a:xfrm>
              <a:off x="-42840" y="109440"/>
              <a:ext cx="87231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-36360" y="115920"/>
              <a:ext cx="871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Внешний фотоэффект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зучение законов внешнего фотоэффект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6"/>
          <p:cNvSpPr/>
          <p:nvPr/>
        </p:nvSpPr>
        <p:spPr>
          <a:xfrm>
            <a:off x="250920" y="692280"/>
            <a:ext cx="4392360" cy="865080"/>
          </a:xfrm>
          <a:prstGeom prst="rect">
            <a:avLst/>
          </a:prstGeom>
          <a:solidFill>
            <a:srgbClr val="ff33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заимо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ещества со св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24000" y="1773360"/>
          <a:ext cx="8435880" cy="4751280"/>
        </p:xfrm>
        <a:graphic>
          <a:graphicData uri="http://schemas.openxmlformats.org/drawingml/2006/table">
            <a:tbl>
              <a:tblPr/>
              <a:tblGrid>
                <a:gridCol w="1439640"/>
                <a:gridCol w="2087640"/>
                <a:gridCol w="2800440"/>
                <a:gridCol w="2108160"/>
              </a:tblGrid>
              <a:tr h="88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ктурные единицы вещ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е движения и состояния структурных единиц вещества под влиянием с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вления, сопровождающие эти изме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28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ЭЛЕКТР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ярные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ляр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екул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личение скор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отическо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ижения молеку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ре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28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ы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ырки»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омы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о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личение скор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отического движения частиц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ыв связей в атомах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личение числа свобод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ов и «дырок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ре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личение проводим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нутренн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эффек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28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689680" y="115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Rectangle 5"/>
          <p:cNvGrpSpPr/>
          <p:nvPr/>
        </p:nvGrpSpPr>
        <p:grpSpPr>
          <a:xfrm>
            <a:off x="-42840" y="109440"/>
            <a:ext cx="8723160" cy="444600"/>
            <a:chOff x="-42840" y="109440"/>
            <a:chExt cx="8723160" cy="444600"/>
          </a:xfrm>
        </p:grpSpPr>
        <p:pic>
          <p:nvPicPr>
            <p:cNvPr id="108" name="Rectangle 5" descr=""/>
            <p:cNvPicPr/>
            <p:nvPr/>
          </p:nvPicPr>
          <p:blipFill>
            <a:blip r:embed="rId1"/>
            <a:stretch/>
          </p:blipFill>
          <p:spPr>
            <a:xfrm>
              <a:off x="-42840" y="109440"/>
              <a:ext cx="87231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-36360" y="115920"/>
              <a:ext cx="871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Внешний фотоэффект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зучение законов внешнего фотоэффект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Rectangle 6"/>
          <p:cNvSpPr/>
          <p:nvPr/>
        </p:nvSpPr>
        <p:spPr>
          <a:xfrm>
            <a:off x="250920" y="692280"/>
            <a:ext cx="4392360" cy="865080"/>
          </a:xfrm>
          <a:prstGeom prst="rect">
            <a:avLst/>
          </a:prstGeom>
          <a:solidFill>
            <a:srgbClr val="ff33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заимо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ещества со св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24000" y="1773360"/>
          <a:ext cx="8435880" cy="4751280"/>
        </p:xfrm>
        <a:graphic>
          <a:graphicData uri="http://schemas.openxmlformats.org/drawingml/2006/table">
            <a:tbl>
              <a:tblPr/>
              <a:tblGrid>
                <a:gridCol w="1439640"/>
                <a:gridCol w="2087640"/>
                <a:gridCol w="2800440"/>
                <a:gridCol w="2108160"/>
              </a:tblGrid>
              <a:tr h="88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ктурные единицы вещ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е движения и состояния структурных единиц вещества пол влиянием с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вления, сопровождающие эти изме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28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ЭЛЕКТР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ярные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ляр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екул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личение скор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отическо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ижения молеку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ре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28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ы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ырки»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омы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о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личение скор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отического движения частиц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ыв связей в атомах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личение числа свобод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ов и «дырок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ре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личение проводим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нутренн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эффек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28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оны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личение скор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отического движения ионов и электрон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лет электронов с поверхности образц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ре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е заряда проводн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8689680" y="115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Rectangle 10"/>
          <p:cNvGrpSpPr/>
          <p:nvPr/>
        </p:nvGrpSpPr>
        <p:grpSpPr>
          <a:xfrm>
            <a:off x="-42840" y="109440"/>
            <a:ext cx="8723160" cy="444600"/>
            <a:chOff x="-42840" y="109440"/>
            <a:chExt cx="8723160" cy="444600"/>
          </a:xfrm>
        </p:grpSpPr>
        <p:pic>
          <p:nvPicPr>
            <p:cNvPr id="118" name="Rectangle 10" descr=""/>
            <p:cNvPicPr/>
            <p:nvPr/>
          </p:nvPicPr>
          <p:blipFill>
            <a:blip r:embed="rId1"/>
            <a:stretch/>
          </p:blipFill>
          <p:spPr>
            <a:xfrm>
              <a:off x="-42840" y="109440"/>
              <a:ext cx="87231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-36360" y="115920"/>
              <a:ext cx="871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Внешний фотоэффект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зучение законов внешнего фотоэффект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Rectangle 11"/>
          <p:cNvGrpSpPr/>
          <p:nvPr/>
        </p:nvGrpSpPr>
        <p:grpSpPr>
          <a:xfrm>
            <a:off x="317520" y="1047600"/>
            <a:ext cx="8435880" cy="658800"/>
            <a:chOff x="317520" y="1047600"/>
            <a:chExt cx="8435880" cy="658800"/>
          </a:xfrm>
        </p:grpSpPr>
        <p:pic>
          <p:nvPicPr>
            <p:cNvPr id="121" name="Rectangle 11" descr=""/>
            <p:cNvPicPr/>
            <p:nvPr/>
          </p:nvPicPr>
          <p:blipFill>
            <a:blip r:embed="rId2"/>
            <a:stretch/>
          </p:blipFill>
          <p:spPr>
            <a:xfrm>
              <a:off x="317520" y="1047600"/>
              <a:ext cx="84358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24000" y="1052640"/>
              <a:ext cx="84247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 Box 12"/>
          <p:cNvSpPr/>
          <p:nvPr/>
        </p:nvSpPr>
        <p:spPr>
          <a:xfrm>
            <a:off x="740160" y="1052640"/>
            <a:ext cx="774900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учение законов внешнего фотоэфф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282600" y="2276640"/>
            <a:ext cx="85338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 исслед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Предсказание и проверка существования явления внешнего фотоэфф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Исследование явления внешнего фотоэфф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Объясн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5"/>
          <p:cNvSpPr/>
          <p:nvPr/>
        </p:nvSpPr>
        <p:spPr>
          <a:xfrm>
            <a:off x="755640" y="4797360"/>
            <a:ext cx="165564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9"/>
          <p:cNvSpPr/>
          <p:nvPr/>
        </p:nvSpPr>
        <p:spPr>
          <a:xfrm>
            <a:off x="3637080" y="4797360"/>
            <a:ext cx="165564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л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0"/>
          <p:cNvSpPr/>
          <p:nvPr/>
        </p:nvSpPr>
        <p:spPr>
          <a:xfrm>
            <a:off x="6516720" y="4797360"/>
            <a:ext cx="165564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йншт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1"/>
          <p:cNvSpPr/>
          <p:nvPr/>
        </p:nvSpPr>
        <p:spPr>
          <a:xfrm>
            <a:off x="2556000" y="52293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2"/>
          <p:cNvSpPr/>
          <p:nvPr/>
        </p:nvSpPr>
        <p:spPr>
          <a:xfrm>
            <a:off x="5435640" y="52293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048200" y="6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8689680" y="115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592200" y="20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Rectangle 7"/>
          <p:cNvGrpSpPr/>
          <p:nvPr/>
        </p:nvGrpSpPr>
        <p:grpSpPr>
          <a:xfrm>
            <a:off x="-42840" y="109440"/>
            <a:ext cx="8723160" cy="444600"/>
            <a:chOff x="-42840" y="109440"/>
            <a:chExt cx="8723160" cy="444600"/>
          </a:xfrm>
        </p:grpSpPr>
        <p:pic>
          <p:nvPicPr>
            <p:cNvPr id="136" name="Rectangle 7" descr=""/>
            <p:cNvPicPr/>
            <p:nvPr/>
          </p:nvPicPr>
          <p:blipFill>
            <a:blip r:embed="rId1"/>
            <a:stretch/>
          </p:blipFill>
          <p:spPr>
            <a:xfrm>
              <a:off x="-42840" y="109440"/>
              <a:ext cx="87231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-36360" y="115920"/>
              <a:ext cx="871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Внешний фотоэффект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зучение законов внешнего фотоэффект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17"/>
          <p:cNvSpPr/>
          <p:nvPr/>
        </p:nvSpPr>
        <p:spPr>
          <a:xfrm>
            <a:off x="976320" y="836640"/>
            <a:ext cx="63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8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д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нрих Гер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крыл явлен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эфф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6084720" y="270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22"/>
          <p:cNvSpPr/>
          <p:nvPr/>
        </p:nvSpPr>
        <p:spPr>
          <a:xfrm>
            <a:off x="5076720" y="2730600"/>
            <a:ext cx="2016360" cy="1922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4"/>
          <p:cNvSpPr/>
          <p:nvPr/>
        </p:nvSpPr>
        <p:spPr>
          <a:xfrm>
            <a:off x="5940360" y="5805360"/>
            <a:ext cx="289080" cy="266760"/>
          </a:xfrm>
          <a:prstGeom prst="rect">
            <a:avLst/>
          </a:prstGeom>
          <a:gradFill rotWithShape="0">
            <a:gsLst>
              <a:gs pos="0">
                <a:srgbClr val="898989"/>
              </a:gs>
              <a:gs pos="50000">
                <a:srgbClr val="333333"/>
              </a:gs>
              <a:gs pos="100000">
                <a:srgbClr val="898989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5"/>
          <p:cNvSpPr/>
          <p:nvPr/>
        </p:nvSpPr>
        <p:spPr>
          <a:xfrm>
            <a:off x="6013440" y="4653000"/>
            <a:ext cx="142920" cy="11523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818181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6"/>
          <p:cNvSpPr/>
          <p:nvPr/>
        </p:nvSpPr>
        <p:spPr>
          <a:xfrm>
            <a:off x="5148360" y="2781360"/>
            <a:ext cx="1873080" cy="180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7"/>
          <p:cNvSpPr/>
          <p:nvPr/>
        </p:nvSpPr>
        <p:spPr>
          <a:xfrm rot="8202000">
            <a:off x="5363640" y="3696480"/>
            <a:ext cx="1440000" cy="716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8"/>
          <p:cNvSpPr/>
          <p:nvPr/>
        </p:nvSpPr>
        <p:spPr>
          <a:xfrm flipV="1">
            <a:off x="6012000" y="3644280"/>
            <a:ext cx="144360" cy="144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0"/>
          <p:cNvSpPr/>
          <p:nvPr/>
        </p:nvSpPr>
        <p:spPr>
          <a:xfrm>
            <a:off x="5940360" y="2565360"/>
            <a:ext cx="289080" cy="144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1"/>
          <p:cNvSpPr/>
          <p:nvPr/>
        </p:nvSpPr>
        <p:spPr>
          <a:xfrm>
            <a:off x="6013440" y="2781360"/>
            <a:ext cx="144360" cy="14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32"/>
          <p:cNvSpPr/>
          <p:nvPr/>
        </p:nvSpPr>
        <p:spPr>
          <a:xfrm>
            <a:off x="5940360" y="1579680"/>
            <a:ext cx="287280" cy="9856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3"/>
          <p:cNvSpPr/>
          <p:nvPr/>
        </p:nvSpPr>
        <p:spPr>
          <a:xfrm>
            <a:off x="5219640" y="3645000"/>
            <a:ext cx="14436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5"/>
          <p:cNvSpPr/>
          <p:nvPr/>
        </p:nvSpPr>
        <p:spPr>
          <a:xfrm flipV="1">
            <a:off x="5451840" y="4175280"/>
            <a:ext cx="111960" cy="910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6"/>
          <p:cNvSpPr/>
          <p:nvPr/>
        </p:nvSpPr>
        <p:spPr>
          <a:xfrm flipH="1" flipV="1">
            <a:off x="6083280" y="4365360"/>
            <a:ext cx="4680" cy="1443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7"/>
          <p:cNvSpPr/>
          <p:nvPr/>
        </p:nvSpPr>
        <p:spPr>
          <a:xfrm flipV="1">
            <a:off x="5298840" y="4047480"/>
            <a:ext cx="132120" cy="57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160" bIns="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8"/>
          <p:cNvSpPr/>
          <p:nvPr/>
        </p:nvSpPr>
        <p:spPr>
          <a:xfrm flipV="1">
            <a:off x="5849640" y="4367880"/>
            <a:ext cx="37080" cy="139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1"/>
          <p:cNvSpPr/>
          <p:nvPr/>
        </p:nvSpPr>
        <p:spPr>
          <a:xfrm flipV="1">
            <a:off x="5605200" y="4311720"/>
            <a:ext cx="94680" cy="1069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2"/>
          <p:cNvSpPr/>
          <p:nvPr/>
        </p:nvSpPr>
        <p:spPr>
          <a:xfrm flipV="1">
            <a:off x="5220720" y="3847320"/>
            <a:ext cx="141840" cy="26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3"/>
          <p:cNvSpPr/>
          <p:nvPr/>
        </p:nvSpPr>
        <p:spPr>
          <a:xfrm>
            <a:off x="5003640" y="6021360"/>
            <a:ext cx="2233800" cy="73080"/>
          </a:xfrm>
          <a:prstGeom prst="rect">
            <a:avLst/>
          </a:prstGeom>
          <a:gradFill rotWithShape="0">
            <a:gsLst>
              <a:gs pos="0">
                <a:srgbClr val="5b5b5b"/>
              </a:gs>
              <a:gs pos="50000">
                <a:srgbClr val="000000"/>
              </a:gs>
              <a:gs pos="100000">
                <a:srgbClr val="5b5b5b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4"/>
          <p:cNvSpPr/>
          <p:nvPr/>
        </p:nvSpPr>
        <p:spPr>
          <a:xfrm>
            <a:off x="1763640" y="1700280"/>
            <a:ext cx="3024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5"/>
          <p:cNvSpPr/>
          <p:nvPr/>
        </p:nvSpPr>
        <p:spPr>
          <a:xfrm>
            <a:off x="1979640" y="1916280"/>
            <a:ext cx="3024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6"/>
          <p:cNvSpPr/>
          <p:nvPr/>
        </p:nvSpPr>
        <p:spPr>
          <a:xfrm>
            <a:off x="2195640" y="2131920"/>
            <a:ext cx="3024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7"/>
          <p:cNvSpPr/>
          <p:nvPr/>
        </p:nvSpPr>
        <p:spPr>
          <a:xfrm>
            <a:off x="2411280" y="2347920"/>
            <a:ext cx="3024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8"/>
          <p:cNvSpPr/>
          <p:nvPr/>
        </p:nvSpPr>
        <p:spPr>
          <a:xfrm>
            <a:off x="1332720" y="1844640"/>
            <a:ext cx="1730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ветовой пот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9"/>
          <p:cNvSpPr/>
          <p:nvPr/>
        </p:nvSpPr>
        <p:spPr>
          <a:xfrm>
            <a:off x="3780000" y="609300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0"/>
          <p:cNvSpPr/>
          <p:nvPr/>
        </p:nvSpPr>
        <p:spPr>
          <a:xfrm>
            <a:off x="250920" y="3716280"/>
            <a:ext cx="4465440" cy="216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ение вырывания электр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верхности метал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действием с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шним фотоэффек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07:26:00Z</dcterms:created>
  <dc:creator>Dmitriy</dc:creator>
  <dc:description/>
  <dc:language>en-US</dc:language>
  <cp:lastModifiedBy>Слипченко Т Е</cp:lastModifiedBy>
  <dcterms:modified xsi:type="dcterms:W3CDTF">2014-09-24T11:11:20Z</dcterms:modified>
  <cp:revision>32</cp:revision>
  <dc:subject/>
  <dc:title>Слайд 1</dc:title>
</cp:coreProperties>
</file>