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solidFill>
              <a:srgbClr val="b3116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3116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e33d6f"/>
              </a:solidFill>
              <a:ln w="0">
                <a:noFill/>
              </a:ln>
            </c:spPr>
          </c:dPt>
          <c:dPt>
            <c:idx val="2"/>
            <c:spPr>
              <a:solidFill>
                <a:srgbClr val="e45f3c"/>
              </a:solidFill>
              <a:ln w="0">
                <a:noFill/>
              </a:ln>
            </c:spPr>
          </c:dPt>
          <c:dPt>
            <c:idx val="3"/>
            <c:spPr>
              <a:solidFill>
                <a:srgbClr val="e9943a"/>
              </a:solidFill>
              <a:ln w="0">
                <a:noFill/>
              </a:ln>
            </c:spPr>
          </c:dPt>
          <c:dPt>
            <c:idx val="4"/>
            <c:spPr>
              <a:solidFill>
                <a:srgbClr val="9b6bf2"/>
              </a:solidFill>
              <a:ln w="0">
                <a:noFill/>
              </a:ln>
            </c:spPr>
          </c:dPt>
          <c:dPt>
            <c:idx val="5"/>
            <c:spPr>
              <a:solidFill>
                <a:srgbClr val="d53dd0"/>
              </a:solidFill>
              <a:ln w="0">
                <a:noFill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3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4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5"/>
              <c:numFmt formatCode="General" sourceLinked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ffffff"/>
                      </a:solidFill>
                      <a:latin typeface="Century Gothic"/>
                    </a:defRPr>
                  </a:pPr>
                </a:p>
              </c:txPr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ffffff"/>
                    </a:solidFill>
                    <a:latin typeface="Century Gothic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6"/>
                <c:pt idx="0">
                  <c:v>Общегосударственные расходы </c:v>
                </c:pt>
                <c:pt idx="1">
                  <c:v>Национальная оборона</c:v>
                </c:pt>
                <c:pt idx="2">
                  <c:v>Национальная экономика</c:v>
                </c:pt>
                <c:pt idx="3">
                  <c:v>Социальная безопасность</c:v>
                </c:pt>
                <c:pt idx="4">
                  <c:v>Гарантия занятости</c:v>
                </c:pt>
                <c:pt idx="5">
                  <c:v>Здравоохранение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11.1</c:v>
                </c:pt>
                <c:pt idx="1">
                  <c:v>20.5</c:v>
                </c:pt>
                <c:pt idx="2">
                  <c:v>6.9</c:v>
                </c:pt>
                <c:pt idx="3">
                  <c:v>20.5</c:v>
                </c:pt>
                <c:pt idx="4">
                  <c:v>14.3</c:v>
                </c:pt>
                <c:pt idx="5">
                  <c:v>26.7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ffffff"/>
              </a:solidFill>
              <a:latin typeface="Century Gothic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15E-3DED-43D3-A7E5-E6CE581C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337-3666-4514-BA00-D3186CE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CB8-2456-4204-807B-DC87EED7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E94-D6CA-4C70-BB6B-50C717F1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0474-92A5-4D71-BDAA-DDA043BB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6801-3C32-41DF-B3C7-BB38CD90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6448-9DC6-40BF-B72D-4BB19D98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4777-30FC-49F8-8385-844515A8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BDE9-597B-41F6-A31D-0984A09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C223-3F56-4D21-A112-8A66A0A5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6606-629D-4B66-BE63-411D2CA6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192-109E-4816-8999-D0EBA40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5FF7-8AF7-4CA3-B9E1-81BCD956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E7AB-B837-434B-9EC5-8899A588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5D42-F139-4D75-A95E-D2405954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2CDC-CB63-448C-A373-F60F9D96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3892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2600" y="260352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15488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13892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7122600" y="4388040"/>
            <a:ext cx="28414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A5B7-12E0-4FE9-8D8D-9ABC2132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A1E-F507-4658-9F8D-76FB5E56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E17-04EB-479B-B061-7E76AEE4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774-6182-4C4D-A410-9B82DCF8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54880" y="973800"/>
            <a:ext cx="8760960" cy="32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D07D-3EA2-4535-95C2-A314CB8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8AE-AFD6-4755-971B-514F2A1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7200" y="438804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5C9-B2AD-4511-805C-73C861A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488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77200" y="2603520"/>
            <a:ext cx="430668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54880" y="4388040"/>
            <a:ext cx="8825400" cy="16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D76-5A43-4F40-982A-A22EF421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3939"/>
            </a:gs>
            <a:gs pos="100000">
              <a:srgbClr val="000000"/>
            </a:gs>
          </a:gsLst>
          <a:path path="circle">
            <a:fillToRect l="10000" t="32000" r="90000" b="68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Rectangle 20" hidden="1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6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12" name="Rectangle 8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4880" y="2099880"/>
            <a:ext cx="8825400" cy="267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3b3059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10159200" y="179208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>
                    <a:alpha val="60000"/>
                  </a:srgbClr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>
                    <a:alpha val="60000"/>
                  </a:srgbClr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8952120" y="322776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Rectangle 1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D2AE59A-E13F-4B29-9907-B0ECCF3320E5}" type="slidenum"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93939"/>
            </a:gs>
            <a:gs pos="100000">
              <a:srgbClr val="000000"/>
            </a:gs>
          </a:gsLst>
          <a:path path="circle">
            <a:fillToRect l="10000" t="32000" r="90000" b="68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7"/>
          <p:cNvGrpSpPr/>
          <p:nvPr/>
        </p:nvGrpSpPr>
        <p:grpSpPr>
          <a:xfrm>
            <a:off x="0" y="0"/>
            <a:ext cx="12191760" cy="6857640"/>
            <a:chOff x="0" y="0"/>
            <a:chExt cx="12191760" cy="6857640"/>
          </a:xfrm>
        </p:grpSpPr>
        <p:sp>
          <p:nvSpPr>
            <p:cNvPr id="57" name="Rectangle 6"/>
            <p:cNvSpPr/>
            <p:nvPr/>
          </p:nvSpPr>
          <p:spPr>
            <a:xfrm>
              <a:off x="0" y="0"/>
              <a:ext cx="12191760" cy="68576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0" y="2666880"/>
              <a:ext cx="4190760" cy="41907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4"/>
            <p:cNvSpPr/>
            <p:nvPr/>
          </p:nvSpPr>
          <p:spPr>
            <a:xfrm>
              <a:off x="0" y="2895480"/>
              <a:ext cx="2361960" cy="23619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8235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609040" y="5867280"/>
              <a:ext cx="990360" cy="9903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8609040" y="1676520"/>
              <a:ext cx="2819160" cy="281916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7999560" y="8640"/>
              <a:ext cx="1599840" cy="159984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4117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38160" dir="5400000" dist="25560" rotWithShape="0">
                <a:srgbClr val="000000">
                  <a:alpha val="4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 rot="21010200">
              <a:off x="8490960" y="1797480"/>
              <a:ext cx="3299040" cy="440640"/>
            </a:xfrm>
            <a:custGeom>
              <a:avLst/>
              <a:gdLst>
                <a:gd name="textAreaLeft" fmla="*/ 0 w 3299040"/>
                <a:gd name="textAreaRight" fmla="*/ 3299400 w 3299040"/>
                <a:gd name="textAreaTop" fmla="*/ 0 h 440640"/>
                <a:gd name="textAreaBottom" fmla="*/ 441000 h 44064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bg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459360" y="1866240"/>
              <a:ext cx="11277360" cy="4533480"/>
            </a:xfrm>
            <a:custGeom>
              <a:avLst/>
              <a:gdLst>
                <a:gd name="textAreaLeft" fmla="*/ 0 w 11277360"/>
                <a:gd name="textAreaRight" fmla="*/ 11277720 w 11277360"/>
                <a:gd name="textAreaTop" fmla="*/ 0 h 4533480"/>
                <a:gd name="textAreaBottom" fmla="*/ 4533840 h 453348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1440"/>
              <a:ext cx="12191760" cy="6856200"/>
            </a:xfrm>
            <a:custGeom>
              <a:avLst/>
              <a:gdLst>
                <a:gd name="textAreaLeft" fmla="*/ 0 w 12191760"/>
                <a:gd name="textAreaRight" fmla="*/ 12192120 w 12191760"/>
                <a:gd name="textAreaTop" fmla="*/ 0 h 6856200"/>
                <a:gd name="textAreaBottom" fmla="*/ 6856560 h 685620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Rectangle 20"/>
          <p:cNvSpPr/>
          <p:nvPr/>
        </p:nvSpPr>
        <p:spPr>
          <a:xfrm>
            <a:off x="10437840" y="0"/>
            <a:ext cx="685440" cy="1142640"/>
          </a:xfrm>
          <a:prstGeom prst="rect">
            <a:avLst/>
          </a:prstGeom>
          <a:solidFill>
            <a:schemeClr val="accent1"/>
          </a:solidFill>
          <a:ln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b3059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1154880" y="2603520"/>
            <a:ext cx="88254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10653120" y="6391800"/>
            <a:ext cx="9903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000" spc="-1" strike="noStrike">
                <a:solidFill>
                  <a:schemeClr val="accent1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000" spc="-1" strike="noStrike">
                <a:solidFill>
                  <a:schemeClr val="accent1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561240" y="6391800"/>
            <a:ext cx="385956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10352520" y="295560"/>
            <a:ext cx="837720" cy="7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8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6C2DDF2-BCC6-48F9-BBAF-49DF95E20C5B}" type="slidenum"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83480" y="0"/>
            <a:ext cx="8825400" cy="533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ворческое задание по дисциплин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юджетный процесс на тему: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Роль и функции Административно-бюджетного управления и Министерства финансов США»</a:t>
            </a:r>
            <a:br>
              <a:rPr sz="4000"/>
            </a:br>
            <a:endParaRPr b="0" lang="ru-RU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45400" y="4647600"/>
            <a:ext cx="10002600" cy="16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ВЫПОЛНИ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СТУДЕНТКА ГРУППЫ ГМФ17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ГОЛОВАЧ Е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Преподавател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к.э.н., доцент Департамента общественных финан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 cap="all">
                <a:solidFill>
                  <a:schemeClr val="accent6">
                    <a:lumMod val="40000"/>
                    <a:lumOff val="60000"/>
                  </a:schemeClr>
                </a:solidFill>
                <a:latin typeface="Century Gothic"/>
              </a:rPr>
              <a:t>Тимофеева Ольга Иван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0400" y="636120"/>
            <a:ext cx="9414720" cy="117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ущность Административно-бюджетного управления СШ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Прямоугольник 3"/>
          <p:cNvSpPr/>
          <p:nvPr/>
        </p:nvSpPr>
        <p:spPr>
          <a:xfrm>
            <a:off x="7761960" y="224640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ормирова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"/>
          <p:cNvSpPr/>
          <p:nvPr/>
        </p:nvSpPr>
        <p:spPr>
          <a:xfrm>
            <a:off x="860040" y="249300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создание и реализация бюджет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7"/>
          <p:cNvSpPr/>
          <p:nvPr/>
        </p:nvSpPr>
        <p:spPr>
          <a:xfrm>
            <a:off x="860040" y="400068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разработка стратегических экономических ре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8"/>
          <p:cNvSpPr/>
          <p:nvPr/>
        </p:nvSpPr>
        <p:spPr>
          <a:xfrm>
            <a:off x="860040" y="5508360"/>
            <a:ext cx="3265200" cy="115344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- проведение необходимых политических мероприят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Прямая со стрелкой 12"/>
          <p:cNvCxnSpPr>
            <a:stCxn id="110" idx="2"/>
          </p:cNvCxnSpPr>
          <p:nvPr/>
        </p:nvCxnSpPr>
        <p:spPr>
          <a:xfrm flipH="1">
            <a:off x="2623320" y="1806840"/>
            <a:ext cx="3304800" cy="511920"/>
          </a:xfrm>
          <a:prstGeom prst="straightConnector1">
            <a:avLst/>
          </a:prstGeom>
          <a:ln cap="rnd" w="57150">
            <a:solidFill>
              <a:srgbClr val="ffffff"/>
            </a:solidFill>
            <a:round/>
            <a:tailEnd len="med" type="triangle" w="med"/>
          </a:ln>
        </p:spPr>
      </p:cxnSp>
      <p:sp>
        <p:nvSpPr>
          <p:cNvPr id="116" name="Прямоугольник 13"/>
          <p:cNvSpPr/>
          <p:nvPr/>
        </p:nvSpPr>
        <p:spPr>
          <a:xfrm>
            <a:off x="675000" y="1899720"/>
            <a:ext cx="1817640" cy="456840"/>
          </a:xfrm>
          <a:prstGeom prst="rect">
            <a:avLst/>
          </a:prstGeom>
          <a:solidFill>
            <a:schemeClr val="bg2">
              <a:lumMod val="75000"/>
            </a:schemeClr>
          </a:solidFill>
          <a:ln cap="rnd">
            <a:solidFill>
              <a:srgbClr val="b31166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Стрелка вправо 14"/>
          <p:cNvSpPr/>
          <p:nvPr/>
        </p:nvSpPr>
        <p:spPr>
          <a:xfrm>
            <a:off x="4365720" y="2890080"/>
            <a:ext cx="3123720" cy="2209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cap="rnd"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оль в бюджетном проце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8"/>
          <p:cNvSpPr/>
          <p:nvPr/>
        </p:nvSpPr>
        <p:spPr>
          <a:xfrm>
            <a:off x="7761960" y="3461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ередача данного проекта на рассмотрение в конгр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9"/>
          <p:cNvSpPr/>
          <p:nvPr/>
        </p:nvSpPr>
        <p:spPr>
          <a:xfrm>
            <a:off x="7761960" y="4676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Реализация 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0"/>
          <p:cNvSpPr/>
          <p:nvPr/>
        </p:nvSpPr>
        <p:spPr>
          <a:xfrm>
            <a:off x="7761960" y="5891760"/>
            <a:ext cx="3885480" cy="892440"/>
          </a:xfrm>
          <a:prstGeom prst="rect">
            <a:avLst/>
          </a:prstGeom>
          <a:solidFill>
            <a:schemeClr val="accent6">
              <a:lumMod val="75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4.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Составление отчета об исполнении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1"/>
          <p:cNvSpPr/>
          <p:nvPr/>
        </p:nvSpPr>
        <p:spPr>
          <a:xfrm>
            <a:off x="4397760" y="5508360"/>
            <a:ext cx="2749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ремя от начала создания до реализации проекта бюджета - 1,5 г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1880" y="41904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оль Министерства финансов СШ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201600" y="3229920"/>
            <a:ext cx="3200040" cy="16228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d0d0d"/>
                </a:solidFill>
                <a:latin typeface="Century Gothic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4169880" y="146952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Управление финансовой системой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"/>
          <p:cNvSpPr/>
          <p:nvPr/>
        </p:nvSpPr>
        <p:spPr>
          <a:xfrm>
            <a:off x="4169880" y="2481120"/>
            <a:ext cx="5278680" cy="114588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Консультирование по вопросам внутренней и международной валютно-финансовой, экономической, торговой и 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4169880" y="390960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Сбор налогов и государственных сборов 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169880" y="4896000"/>
            <a:ext cx="5278680" cy="9486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Надзор за национальными банками и сберегательными учрежде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4169880" y="6128640"/>
            <a:ext cx="5278680" cy="72900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d0d0d"/>
                </a:solidFill>
                <a:latin typeface="Century Gothic"/>
              </a:rPr>
              <a:t>Издание ежегодной государственной финансовой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Левая фигурная скобка 10"/>
          <p:cNvSpPr/>
          <p:nvPr/>
        </p:nvSpPr>
        <p:spPr>
          <a:xfrm flipH="1">
            <a:off x="3667680" y="1469520"/>
            <a:ext cx="163080" cy="5290200"/>
          </a:xfrm>
          <a:prstGeom prst="leftBrace">
            <a:avLst>
              <a:gd name="adj1" fmla="val 8333"/>
              <a:gd name="adj2" fmla="val 50000"/>
            </a:avLst>
          </a:prstGeom>
          <a:noFill/>
          <a:ln cap="rnd" w="28575">
            <a:solidFill>
              <a:srgbClr val="d53dd0">
                <a:lumMod val="20000"/>
                <a:lumOff val="80000"/>
              </a:srgbClr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0" name="Прямая соединительная линия 34"/>
          <p:cNvCxnSpPr>
            <a:stCxn id="131" idx="4"/>
            <a:endCxn id="132" idx="0"/>
          </p:cNvCxnSpPr>
          <p:nvPr/>
        </p:nvCxnSpPr>
        <p:spPr>
          <a:xfrm>
            <a:off x="5769360" y="2166120"/>
            <a:ext cx="159480" cy="263052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33" name="Прямая соединительная линия 32"/>
          <p:cNvCxnSpPr>
            <a:stCxn id="131" idx="4"/>
            <a:endCxn id="134" idx="1"/>
          </p:cNvCxnSpPr>
          <p:nvPr/>
        </p:nvCxnSpPr>
        <p:spPr>
          <a:xfrm>
            <a:off x="5769360" y="2166120"/>
            <a:ext cx="2657520" cy="327240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35" name="Прямая соединительная линия 26"/>
          <p:cNvCxnSpPr>
            <a:stCxn id="131" idx="4"/>
          </p:cNvCxnSpPr>
          <p:nvPr/>
        </p:nvCxnSpPr>
        <p:spPr>
          <a:xfrm flipH="1">
            <a:off x="2264040" y="2166120"/>
            <a:ext cx="3505680" cy="335304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sp>
        <p:nvSpPr>
          <p:cNvPr id="131" name="Овал 3"/>
          <p:cNvSpPr/>
          <p:nvPr/>
        </p:nvSpPr>
        <p:spPr>
          <a:xfrm>
            <a:off x="2634480" y="544320"/>
            <a:ext cx="6269760" cy="1621440"/>
          </a:xfrm>
          <a:prstGeom prst="ellipse">
            <a:avLst/>
          </a:prstGeom>
          <a:solidFill>
            <a:schemeClr val="accent5">
              <a:lumMod val="40000"/>
              <a:lumOff val="6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1d182c"/>
                </a:solidFill>
                <a:latin typeface="Century Gothic"/>
              </a:rPr>
              <a:t>Предметы контроля Министерства финансо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1"/>
          <p:cNvSpPr/>
          <p:nvPr/>
        </p:nvSpPr>
        <p:spPr>
          <a:xfrm>
            <a:off x="0" y="226980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финансов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2"/>
          <p:cNvSpPr/>
          <p:nvPr/>
        </p:nvSpPr>
        <p:spPr>
          <a:xfrm>
            <a:off x="0" y="376920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сбор налоговых поступ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3"/>
          <p:cNvSpPr/>
          <p:nvPr/>
        </p:nvSpPr>
        <p:spPr>
          <a:xfrm>
            <a:off x="59760" y="551916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государственным дол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14"/>
          <p:cNvSpPr/>
          <p:nvPr/>
        </p:nvSpPr>
        <p:spPr>
          <a:xfrm>
            <a:off x="8055360" y="231804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банковские счета прав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5"/>
          <p:cNvSpPr/>
          <p:nvPr/>
        </p:nvSpPr>
        <p:spPr>
          <a:xfrm>
            <a:off x="8006400" y="3788280"/>
            <a:ext cx="413604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выпуск государственных ценных бум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16"/>
          <p:cNvSpPr/>
          <p:nvPr/>
        </p:nvSpPr>
        <p:spPr>
          <a:xfrm>
            <a:off x="7780680" y="5264640"/>
            <a:ext cx="4411080" cy="118620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расходы по запросу не в пределах бюджетных ассигн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17"/>
          <p:cNvSpPr/>
          <p:nvPr/>
        </p:nvSpPr>
        <p:spPr>
          <a:xfrm>
            <a:off x="4107960" y="4796280"/>
            <a:ext cx="3641040" cy="108972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налич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8"/>
          <p:cNvSpPr/>
          <p:nvPr/>
        </p:nvSpPr>
        <p:spPr>
          <a:xfrm>
            <a:off x="4226400" y="2926800"/>
            <a:ext cx="3690000" cy="1154880"/>
          </a:xfrm>
          <a:prstGeom prst="ellipse">
            <a:avLst/>
          </a:prstGeom>
          <a:solidFill>
            <a:schemeClr val="accent6">
              <a:lumMod val="60000"/>
              <a:lumOff val="4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d182c"/>
                </a:solidFill>
                <a:latin typeface="Century Gothic"/>
              </a:rPr>
              <a:t>управление единым счетом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единительная линия 20"/>
          <p:cNvCxnSpPr>
            <a:stCxn id="131" idx="4"/>
            <a:endCxn id="136" idx="0"/>
          </p:cNvCxnSpPr>
          <p:nvPr/>
        </p:nvCxnSpPr>
        <p:spPr>
          <a:xfrm flipH="1">
            <a:off x="2068200" y="2166120"/>
            <a:ext cx="3701520" cy="103680"/>
          </a:xfrm>
          <a:prstGeom prst="straightConnector1">
            <a:avLst/>
          </a:prstGeom>
          <a:ln cap="rnd" w="38100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3" name="Прямая соединительная линия 22"/>
          <p:cNvCxnSpPr/>
          <p:nvPr/>
        </p:nvCxnSpPr>
        <p:spPr>
          <a:xfrm flipH="1">
            <a:off x="3019320" y="2211120"/>
            <a:ext cx="2373480" cy="160056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4" name="Прямая соединительная линия 24"/>
          <p:cNvCxnSpPr>
            <a:stCxn id="131" idx="4"/>
            <a:endCxn id="141" idx="0"/>
          </p:cNvCxnSpPr>
          <p:nvPr/>
        </p:nvCxnSpPr>
        <p:spPr>
          <a:xfrm>
            <a:off x="5769360" y="2166120"/>
            <a:ext cx="302400" cy="76104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5" name="Прямая соединительная линия 28"/>
          <p:cNvCxnSpPr>
            <a:stCxn id="131" idx="4"/>
          </p:cNvCxnSpPr>
          <p:nvPr/>
        </p:nvCxnSpPr>
        <p:spPr>
          <a:xfrm>
            <a:off x="5769360" y="2166120"/>
            <a:ext cx="4169520" cy="15192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  <p:cxnSp>
        <p:nvCxnSpPr>
          <p:cNvPr id="146" name="Прямая соединительная линия 30"/>
          <p:cNvCxnSpPr>
            <a:stCxn id="131" idx="4"/>
          </p:cNvCxnSpPr>
          <p:nvPr/>
        </p:nvCxnSpPr>
        <p:spPr>
          <a:xfrm>
            <a:off x="5769360" y="2166120"/>
            <a:ext cx="3512160" cy="1657080"/>
          </a:xfrm>
          <a:prstGeom prst="straightConnector1">
            <a:avLst/>
          </a:prstGeom>
          <a:ln cap="rnd" w="28575">
            <a:solidFill>
              <a:srgbClr val="e33d6f">
                <a:lumMod val="7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5"/>
          <p:cNvSpPr/>
          <p:nvPr/>
        </p:nvSpPr>
        <p:spPr>
          <a:xfrm>
            <a:off x="522360" y="337320"/>
            <a:ext cx="5083200" cy="3722400"/>
          </a:xfrm>
          <a:prstGeom prst="rect">
            <a:avLst/>
          </a:prstGeom>
          <a:solidFill>
            <a:schemeClr val="tx2">
              <a:lumMod val="10000"/>
            </a:schemeClr>
          </a:solidFill>
          <a:ln cap="rnd">
            <a:solidFill>
              <a:srgbClr val="d53dd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Министерство финансов имеет право финансировать гос. расходы за счёт сбора налогов, размещения долларовых займов, при помощи выпуска облигаций Казначейства и увеличения государственного долга в пределах, устанавливаемых Конгресс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Arial"/>
              </a:rPr>
              <a:t>В управлении бюджетом и финансами задействованы также Налоговое и таможенное управление, которые являются частью казначей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Прямоугольник 7"/>
          <p:cNvSpPr/>
          <p:nvPr/>
        </p:nvSpPr>
        <p:spPr>
          <a:xfrm>
            <a:off x="6672960" y="337320"/>
            <a:ext cx="5018040" cy="5976000"/>
          </a:xfrm>
          <a:prstGeom prst="rect">
            <a:avLst/>
          </a:prstGeom>
          <a:solidFill>
            <a:schemeClr val="tx2">
              <a:lumMod val="10000"/>
            </a:schemeClr>
          </a:solidFill>
          <a:ln cap="rnd">
            <a:solidFill>
              <a:srgbClr val="d53dd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Несмотря на то, что Административно-бюджетное управление и Министерство финансов США осуществляют совместные функции по управлению государственным бюджетом, </a:t>
            </a:r>
            <a:r>
              <a:rPr b="0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Министерство считается значительно выше по статусу, и осуществляет контроль за деятельностью Административно-бюджетного упра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Также Министерство финансов консультирует деятельность Объединённого комитета по вопросам налогообложения Конгресса США и Управления Конгресса США по бюдже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Скругленный прямоугольник 8"/>
          <p:cNvSpPr/>
          <p:nvPr/>
        </p:nvSpPr>
        <p:spPr>
          <a:xfrm>
            <a:off x="288360" y="4365000"/>
            <a:ext cx="5970600" cy="2231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Административно-бюджетное управление при исполнении бюджета использует следующие инструме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лимиты бюджетных обязательст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бюджетные и финансовые лими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бюджетные ассиг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Формы административно-бюджетного управления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Блок-схема: объединение 4"/>
          <p:cNvSpPr/>
          <p:nvPr/>
        </p:nvSpPr>
        <p:spPr>
          <a:xfrm>
            <a:off x="2030400" y="2547360"/>
            <a:ext cx="7576200" cy="4005720"/>
          </a:xfrm>
          <a:prstGeom prst="flowChartMerge">
            <a:avLst/>
          </a:prstGeom>
          <a:solidFill>
            <a:srgbClr val="b31166"/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Гиперактивная форма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Казначейство США помимо экономических и финансовых функций обеспечивает охрану президента, вице-президента и членов их семей, а также занимается финансовыми расслед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Равнобедренный треугольник 5"/>
          <p:cNvSpPr/>
          <p:nvPr/>
        </p:nvSpPr>
        <p:spPr>
          <a:xfrm>
            <a:off x="-46800" y="2547360"/>
            <a:ext cx="4154040" cy="4005720"/>
          </a:xfrm>
          <a:prstGeom prst="triangl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 u="sng">
                <a:solidFill>
                  <a:schemeClr val="lt1"/>
                </a:solidFill>
                <a:uFillTx/>
                <a:latin typeface="Century Gothic"/>
              </a:rPr>
              <a:t>Пассивная форма: </a:t>
            </a:r>
            <a:r>
              <a:rPr b="0" lang="ru-RU" sz="1600" spc="-1" strike="noStrike">
                <a:solidFill>
                  <a:schemeClr val="lt1"/>
                </a:solidFill>
                <a:latin typeface="Century Gothic"/>
              </a:rPr>
              <a:t>исполнительные учреждения только выделяют ресурсы по утвержденным бюджета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Равнобедренный треугольник 6"/>
          <p:cNvSpPr/>
          <p:nvPr/>
        </p:nvSpPr>
        <p:spPr>
          <a:xfrm>
            <a:off x="7529760" y="2547360"/>
            <a:ext cx="4154040" cy="4005720"/>
          </a:xfrm>
          <a:prstGeom prst="triangle">
            <a:avLst>
              <a:gd name="adj" fmla="val 50000"/>
            </a:avLst>
          </a:prstGeom>
          <a:solidFill>
            <a:schemeClr val="accent6">
              <a:lumMod val="50000"/>
            </a:schemeClr>
          </a:solidFill>
          <a:ln cap="rnd">
            <a:solidFill>
              <a:srgbClr val="840c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 u="sng">
                <a:solidFill>
                  <a:schemeClr val="lt1"/>
                </a:solidFill>
                <a:uFillTx/>
                <a:latin typeface="Century Gothic"/>
              </a:rPr>
              <a:t>Активная фор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entury Gothic"/>
              </a:rPr>
              <a:t>ОГВ помимо выделения ресурсов могут устанавливать лимиты расходов (обязательст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Расходы федерального правительства США по итогам 2018 года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155" name="Диаграмма 3"/>
          <p:cNvGraphicFramePr/>
          <p:nvPr/>
        </p:nvGraphicFramePr>
        <p:xfrm>
          <a:off x="1415160" y="2026800"/>
          <a:ext cx="9328680" cy="474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Заключение: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4880" y="2177280"/>
            <a:ext cx="9828360" cy="459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данной работе была рассмотрена сущность административно-бюджетного управления и Министерства финансов США. Административно-бюджетное управление является одним из основных подразделений Исполнительного управления при Президенте, занимается разработкой проектов федерального бюджета на каждый год для представления на утверждение Конгресса США, а также контролирует исполнение расходов бюджета.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улированием финансовых процессов в США занимается не только административно-бюджетное управление, но и Министерство финансов, которое осуществляет внешнюю и внутреннюю экономическую деятельность, главным образом - по управлению доходами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450000" algn="just">
              <a:lnSpc>
                <a:spcPct val="100000"/>
              </a:lnSpc>
              <a:spcBef>
                <a:spcPts val="1001"/>
              </a:spcBef>
              <a:buClr>
                <a:srgbClr val="b31166"/>
              </a:buClr>
              <a:buSzPct val="80000"/>
              <a:buFont typeface="Wingdings 3" charset="2"/>
              <a:buChar char="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начимость данных органов власти определяется тем, что они занимаются регулированием всей государственной бюджетной системы. В каждой стране бюджетные и финансовые процессы заметно различаются, однако все они преследуют единую цель - эффективное управление государственными и муниципальными финансами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4880" y="973800"/>
            <a:ext cx="876096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Список литературы</a:t>
            </a: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54880" y="2318760"/>
            <a:ext cx="8825400" cy="429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Административно-бюджетное управление [Электронный ресурс]. – Режим доступа: https://economy-ru.info/info/26996/ (дата обращения: 23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Бюджетный процесс и финансовый аппарат управления в США [Электронный ресурс]. – Режим доступа: https://finekon.ru/bjud%20process%20USA.php (дата обращения: 22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Рассыльников, И.А. Особенности организации бюджетного процесса в США / И.А. Рассыльников // Экономика и бизнес. – 2019. - № 2. – С.2-8.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аранцев, В.С. Сравнительный анализ функций казначейских органов зарубежных стран / В.С. Саранцев // Журнал «Бюджет». – 2015. – № 1. – 6-10. 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United States Fiscal Expenditure [Электронный ресурс]. – Режим доступа: https://tradingeconomics.com/united-states/fiscal-expenditure (дата обращения: 23.10.2020)</a:t>
            </a: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вет директоров">
  <a:themeElements>
    <a:clrScheme name="Совет директоров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on Boardroom</Template>
  <TotalTime>101</TotalTime>
  <Application>LibreOffice/7.4.7.2$Linux_X86_64 LibreOffice_project/40$Build-2</Application>
  <AppVersion>15.0000</AppVersion>
  <Words>460</Words>
  <Paragraphs>6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5T18:03:42Z</dcterms:created>
  <dc:creator>Екатерина</dc:creator>
  <dc:description/>
  <dc:language>en-US</dc:language>
  <cp:lastModifiedBy>Екатерина</cp:lastModifiedBy>
  <dcterms:modified xsi:type="dcterms:W3CDTF">2020-10-25T19:45:28Z</dcterms:modified>
  <cp:revision>1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