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родажи</c:v>
                </c:pt>
              </c:strCache>
            </c:strRef>
          </c:tx>
          <c:spPr>
            <a:solidFill>
              <a:srgbClr val="b3116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b3116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e33d6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e45f3c"/>
              </a:solidFill>
              <a:ln w="0">
                <a:noFill/>
              </a:ln>
            </c:spPr>
          </c:dPt>
          <c:dPt>
            <c:idx val="3"/>
            <c:spPr>
              <a:solidFill>
                <a:srgbClr val="e9943a"/>
              </a:solidFill>
              <a:ln w="0">
                <a:noFill/>
              </a:ln>
            </c:spPr>
          </c:dPt>
          <c:dPt>
            <c:idx val="4"/>
            <c:spPr>
              <a:solidFill>
                <a:srgbClr val="9b6bf2"/>
              </a:solidFill>
              <a:ln w="0">
                <a:noFill/>
              </a:ln>
            </c:spPr>
          </c:dPt>
          <c:dPt>
            <c:idx val="5"/>
            <c:spPr>
              <a:solidFill>
                <a:srgbClr val="d53dd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5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ffffff"/>
                    </a:solidFill>
                    <a:latin typeface="Century Gothic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6"/>
                <c:pt idx="0">
                  <c:v>Общегосударственные расходы </c:v>
                </c:pt>
                <c:pt idx="1">
                  <c:v>Национальная оборона</c:v>
                </c:pt>
                <c:pt idx="2">
                  <c:v>Национальная экономика</c:v>
                </c:pt>
                <c:pt idx="3">
                  <c:v>Социальная безопасность</c:v>
                </c:pt>
                <c:pt idx="4">
                  <c:v>Гарантия занятости</c:v>
                </c:pt>
                <c:pt idx="5">
                  <c:v>Здравоохранени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1.1</c:v>
                </c:pt>
                <c:pt idx="1">
                  <c:v>20.5</c:v>
                </c:pt>
                <c:pt idx="2">
                  <c:v>6.9</c:v>
                </c:pt>
                <c:pt idx="3">
                  <c:v>20.5</c:v>
                </c:pt>
                <c:pt idx="4">
                  <c:v>14.3</c:v>
                </c:pt>
                <c:pt idx="5">
                  <c:v>26.7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ffffff"/>
              </a:solidFill>
              <a:latin typeface="Century Gothic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F05-213B-4A1C-89B8-4E74ABEF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304-F9E9-4276-93D0-A5FB4934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918-AE26-4E17-A44C-C04A497C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3892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12260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13892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712260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9784-AE35-4324-A917-C941621A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D56E-6C48-47BC-9C49-70BAF3ED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F8DA-E182-4FF7-9554-0FF601EC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73C9-AF7B-4ABC-9A9D-DAD8101F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CF11-110D-4596-969E-B17C1BD3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E9BE-1C84-4257-A007-CBE2E4D4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966C-FCC9-48D9-955F-FE45B119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A386-A99F-42E4-8C80-EA079ADE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BCA-6522-4F33-9754-896E3328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A1D6-3FAD-4239-B94A-8480230B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3168-B95B-4CF7-AA6F-EEC0CDC8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FC5F-D926-404D-AE38-F9DF1AEC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A650-9CCA-4F17-A8C2-B2854C73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3892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260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13892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712260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86E5-7010-481D-A2EC-6DE14071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381-FD92-4070-874D-F8F07E09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713-1FD3-494A-9E3A-294DBD9A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650-3717-48E9-BA72-3EACAC42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592-120A-45BE-A000-D9F90371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640-4382-4CE4-840E-DFF6D095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15C-1C82-401D-A5C5-45A8FBFC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D51-0B15-4C07-A79C-2811E852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3939"/>
            </a:gs>
            <a:gs pos="100000">
              <a:srgbClr val="000000"/>
            </a:gs>
          </a:gsLst>
          <a:path path="circle">
            <a:fillToRect l="10000" t="32000" r="90000" b="68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1" name="Rectangle 6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12"/>
            <p:cNvSpPr/>
            <p:nvPr/>
          </p:nvSpPr>
          <p:spPr>
            <a:xfrm>
              <a:off x="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14"/>
            <p:cNvSpPr/>
            <p:nvPr/>
          </p:nvSpPr>
          <p:spPr>
            <a:xfrm>
              <a:off x="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8235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7"/>
            <p:cNvSpPr/>
            <p:nvPr/>
          </p:nvSpPr>
          <p:spPr>
            <a:xfrm>
              <a:off x="8609040" y="586728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5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16"/>
            <p:cNvSpPr/>
            <p:nvPr/>
          </p:nvSpPr>
          <p:spPr>
            <a:xfrm>
              <a:off x="7999560" y="864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Rectangle 20" hidden="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6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12" name="Rectangle 8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4880" y="2099880"/>
            <a:ext cx="8825400" cy="267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3b3059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 rot="5400000">
            <a:off x="10159200" y="179208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 rot="5400000">
            <a:off x="8952120" y="322776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Rectangle 10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0686190-4850-43B4-AD85-07E44D0F9DF6}" type="slidenum"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3939"/>
            </a:gs>
            <a:gs pos="100000">
              <a:srgbClr val="000000"/>
            </a:gs>
          </a:gsLst>
          <a:path path="circle">
            <a:fillToRect l="10000" t="32000" r="90000" b="68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7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57" name="Rectangle 6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4"/>
            <p:cNvSpPr/>
            <p:nvPr/>
          </p:nvSpPr>
          <p:spPr>
            <a:xfrm>
              <a:off x="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8235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609040" y="586728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7999560" y="864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Rectangle 20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b3059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10653120" y="639180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0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000" spc="-1" strike="noStrike">
                <a:solidFill>
                  <a:schemeClr val="accent1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61240" y="639180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1AADE3-ACF5-46C3-ADAE-EAEB357575B6}" type="slidenum"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83480" y="0"/>
            <a:ext cx="8825400" cy="533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ворческое задание по дисциплин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юджетный процесс на тему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Роль и функции Административно-бюджетного управления и Министерства финансов США»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45400" y="4647600"/>
            <a:ext cx="10002600" cy="16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СТУДЕНТКА ГРУППЫ ГМФ17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ГОЛОВАЧ Е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Преподавател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к.э.н., доцент Департамента общественных финан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Тимофеева Ольга Ива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0400" y="636120"/>
            <a:ext cx="9414720" cy="117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ущность Административно-бюджетного управления СШ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7761960" y="2246400"/>
            <a:ext cx="3885480" cy="892440"/>
          </a:xfrm>
          <a:prstGeom prst="rect">
            <a:avLst/>
          </a:prstGeom>
          <a:solidFill>
            <a:schemeClr val="accent6">
              <a:lumMod val="75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ирование проек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"/>
          <p:cNvSpPr/>
          <p:nvPr/>
        </p:nvSpPr>
        <p:spPr>
          <a:xfrm>
            <a:off x="860040" y="2493000"/>
            <a:ext cx="3265200" cy="115344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создание и реализация бюджет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>
            <a:off x="860040" y="4000680"/>
            <a:ext cx="3265200" cy="115344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разработка стратегических экономических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8"/>
          <p:cNvSpPr/>
          <p:nvPr/>
        </p:nvSpPr>
        <p:spPr>
          <a:xfrm>
            <a:off x="860040" y="5508360"/>
            <a:ext cx="3265200" cy="115344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проведение необходимых политических мероприят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12"/>
          <p:cNvCxnSpPr>
            <a:stCxn id="110" idx="2"/>
          </p:cNvCxnSpPr>
          <p:nvPr/>
        </p:nvCxnSpPr>
        <p:spPr>
          <a:xfrm flipH="1">
            <a:off x="2623320" y="1806840"/>
            <a:ext cx="3304800" cy="511920"/>
          </a:xfrm>
          <a:prstGeom prst="straightConnector1">
            <a:avLst/>
          </a:prstGeom>
          <a:ln cap="rnd" w="57150">
            <a:solidFill>
              <a:srgbClr val="ffffff"/>
            </a:solidFill>
            <a:round/>
            <a:tailEnd len="med" type="triangle" w="med"/>
          </a:ln>
        </p:spPr>
      </p:cxnSp>
      <p:sp>
        <p:nvSpPr>
          <p:cNvPr id="116" name="Прямоугольник 13"/>
          <p:cNvSpPr/>
          <p:nvPr/>
        </p:nvSpPr>
        <p:spPr>
          <a:xfrm>
            <a:off x="675000" y="1899720"/>
            <a:ext cx="1817640" cy="456840"/>
          </a:xfrm>
          <a:prstGeom prst="rect">
            <a:avLst/>
          </a:prstGeom>
          <a:solidFill>
            <a:schemeClr val="bg2">
              <a:lumMod val="75000"/>
            </a:schemeClr>
          </a:solidFill>
          <a:ln cap="rnd">
            <a:solidFill>
              <a:srgbClr val="b31166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Стрелка вправо 14"/>
          <p:cNvSpPr/>
          <p:nvPr/>
        </p:nvSpPr>
        <p:spPr>
          <a:xfrm>
            <a:off x="4365720" y="2890080"/>
            <a:ext cx="3123720" cy="22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cap="rnd"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оль в бюджетном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8"/>
          <p:cNvSpPr/>
          <p:nvPr/>
        </p:nvSpPr>
        <p:spPr>
          <a:xfrm>
            <a:off x="7761960" y="3461760"/>
            <a:ext cx="3885480" cy="892440"/>
          </a:xfrm>
          <a:prstGeom prst="rect">
            <a:avLst/>
          </a:prstGeom>
          <a:solidFill>
            <a:schemeClr val="accent6">
              <a:lumMod val="75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ередача данного проекта на рассмотрение в конгр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9"/>
          <p:cNvSpPr/>
          <p:nvPr/>
        </p:nvSpPr>
        <p:spPr>
          <a:xfrm>
            <a:off x="7761960" y="4676760"/>
            <a:ext cx="3885480" cy="892440"/>
          </a:xfrm>
          <a:prstGeom prst="rect">
            <a:avLst/>
          </a:prstGeom>
          <a:solidFill>
            <a:schemeClr val="accent6">
              <a:lumMod val="75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еализация 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0"/>
          <p:cNvSpPr/>
          <p:nvPr/>
        </p:nvSpPr>
        <p:spPr>
          <a:xfrm>
            <a:off x="7761960" y="5891760"/>
            <a:ext cx="3885480" cy="892440"/>
          </a:xfrm>
          <a:prstGeom prst="rect">
            <a:avLst/>
          </a:prstGeom>
          <a:solidFill>
            <a:schemeClr val="accent6">
              <a:lumMod val="75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оставление отчета об исполнени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1"/>
          <p:cNvSpPr/>
          <p:nvPr/>
        </p:nvSpPr>
        <p:spPr>
          <a:xfrm>
            <a:off x="4397760" y="5508360"/>
            <a:ext cx="2749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мя от начала создания до реализации проекта бюджета - 1,5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1880" y="41904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Роль Министерства финансов СШ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201600" y="3229920"/>
            <a:ext cx="3200040" cy="16228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d0d0d"/>
                </a:solidFill>
                <a:latin typeface="Century Gothic"/>
              </a:rPr>
              <a:t>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4169880" y="1469520"/>
            <a:ext cx="5278680" cy="7290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Управление финансовой системой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4169880" y="2481120"/>
            <a:ext cx="5278680" cy="11458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Консультирование по вопросам внутренней и международной валютно-финансовой, экономической, торговой и 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4169880" y="3909600"/>
            <a:ext cx="5278680" cy="7290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Сбор налогов и государственных сборов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169880" y="4896000"/>
            <a:ext cx="5278680" cy="9486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адзор за национальными банками и сберегательными учрежд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4169880" y="6128640"/>
            <a:ext cx="5278680" cy="7290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Издание ежегодной государственной финансовой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Левая фигурная скобка 10"/>
          <p:cNvSpPr/>
          <p:nvPr/>
        </p:nvSpPr>
        <p:spPr>
          <a:xfrm flipH="1">
            <a:off x="3667680" y="1469520"/>
            <a:ext cx="163080" cy="5290200"/>
          </a:xfrm>
          <a:prstGeom prst="leftBrace">
            <a:avLst>
              <a:gd name="adj1" fmla="val 8333"/>
              <a:gd name="adj2" fmla="val 50000"/>
            </a:avLst>
          </a:prstGeom>
          <a:noFill/>
          <a:ln cap="rnd" w="28575">
            <a:solidFill>
              <a:srgbClr val="d53dd0">
                <a:lumMod val="20000"/>
                <a:lumOff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0" name="Прямая соединительная линия 34"/>
          <p:cNvCxnSpPr>
            <a:stCxn id="131" idx="4"/>
            <a:endCxn id="132" idx="0"/>
          </p:cNvCxnSpPr>
          <p:nvPr/>
        </p:nvCxnSpPr>
        <p:spPr>
          <a:xfrm>
            <a:off x="5769360" y="2166120"/>
            <a:ext cx="159480" cy="263052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33" name="Прямая соединительная линия 32"/>
          <p:cNvCxnSpPr>
            <a:stCxn id="131" idx="4"/>
            <a:endCxn id="134" idx="1"/>
          </p:cNvCxnSpPr>
          <p:nvPr/>
        </p:nvCxnSpPr>
        <p:spPr>
          <a:xfrm>
            <a:off x="5769360" y="2166120"/>
            <a:ext cx="2657520" cy="327240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35" name="Прямая соединительная линия 26"/>
          <p:cNvCxnSpPr>
            <a:stCxn id="131" idx="4"/>
          </p:cNvCxnSpPr>
          <p:nvPr/>
        </p:nvCxnSpPr>
        <p:spPr>
          <a:xfrm flipH="1">
            <a:off x="2264040" y="2166120"/>
            <a:ext cx="3505680" cy="335304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sp>
        <p:nvSpPr>
          <p:cNvPr id="131" name="Овал 3"/>
          <p:cNvSpPr/>
          <p:nvPr/>
        </p:nvSpPr>
        <p:spPr>
          <a:xfrm>
            <a:off x="2634480" y="544320"/>
            <a:ext cx="6269760" cy="1621440"/>
          </a:xfrm>
          <a:prstGeom prst="ellipse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d182c"/>
                </a:solidFill>
                <a:latin typeface="Century Gothic"/>
              </a:rPr>
              <a:t>Предметы контроля Министерства финансо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1"/>
          <p:cNvSpPr/>
          <p:nvPr/>
        </p:nvSpPr>
        <p:spPr>
          <a:xfrm>
            <a:off x="0" y="226980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финансовое 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2"/>
          <p:cNvSpPr/>
          <p:nvPr/>
        </p:nvSpPr>
        <p:spPr>
          <a:xfrm>
            <a:off x="0" y="376920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сбор налоговых 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3"/>
          <p:cNvSpPr/>
          <p:nvPr/>
        </p:nvSpPr>
        <p:spPr>
          <a:xfrm>
            <a:off x="59760" y="551916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управление государственным дол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14"/>
          <p:cNvSpPr/>
          <p:nvPr/>
        </p:nvSpPr>
        <p:spPr>
          <a:xfrm>
            <a:off x="8055360" y="231804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банковские счета прав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5"/>
          <p:cNvSpPr/>
          <p:nvPr/>
        </p:nvSpPr>
        <p:spPr>
          <a:xfrm>
            <a:off x="8006400" y="378828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выпуск государственных ценных бум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16"/>
          <p:cNvSpPr/>
          <p:nvPr/>
        </p:nvSpPr>
        <p:spPr>
          <a:xfrm>
            <a:off x="7780680" y="5264640"/>
            <a:ext cx="441108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расходы по запросу не в пределах бюджетных ассиг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7"/>
          <p:cNvSpPr/>
          <p:nvPr/>
        </p:nvSpPr>
        <p:spPr>
          <a:xfrm>
            <a:off x="4107960" y="4796280"/>
            <a:ext cx="3641040" cy="108972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управление налич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8"/>
          <p:cNvSpPr/>
          <p:nvPr/>
        </p:nvSpPr>
        <p:spPr>
          <a:xfrm>
            <a:off x="4226400" y="2926800"/>
            <a:ext cx="3690000" cy="115488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управление единым счетом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Прямая соединительная линия 20"/>
          <p:cNvCxnSpPr>
            <a:stCxn id="131" idx="4"/>
            <a:endCxn id="136" idx="0"/>
          </p:cNvCxnSpPr>
          <p:nvPr/>
        </p:nvCxnSpPr>
        <p:spPr>
          <a:xfrm flipH="1">
            <a:off x="2068200" y="2166120"/>
            <a:ext cx="3701520" cy="103680"/>
          </a:xfrm>
          <a:prstGeom prst="straightConnector1">
            <a:avLst/>
          </a:prstGeom>
          <a:ln cap="rnd" w="38100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43" name="Прямая соединительная линия 22"/>
          <p:cNvCxnSpPr/>
          <p:nvPr/>
        </p:nvCxnSpPr>
        <p:spPr>
          <a:xfrm flipH="1">
            <a:off x="3019320" y="2211120"/>
            <a:ext cx="2373480" cy="160056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44" name="Прямая соединительная линия 24"/>
          <p:cNvCxnSpPr>
            <a:stCxn id="131" idx="4"/>
            <a:endCxn id="141" idx="0"/>
          </p:cNvCxnSpPr>
          <p:nvPr/>
        </p:nvCxnSpPr>
        <p:spPr>
          <a:xfrm>
            <a:off x="5769360" y="2166120"/>
            <a:ext cx="302400" cy="76104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45" name="Прямая соединительная линия 28"/>
          <p:cNvCxnSpPr>
            <a:stCxn id="131" idx="4"/>
          </p:cNvCxnSpPr>
          <p:nvPr/>
        </p:nvCxnSpPr>
        <p:spPr>
          <a:xfrm>
            <a:off x="5769360" y="2166120"/>
            <a:ext cx="4169520" cy="15192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46" name="Прямая соединительная линия 30"/>
          <p:cNvCxnSpPr>
            <a:stCxn id="131" idx="4"/>
          </p:cNvCxnSpPr>
          <p:nvPr/>
        </p:nvCxnSpPr>
        <p:spPr>
          <a:xfrm>
            <a:off x="5769360" y="2166120"/>
            <a:ext cx="3512160" cy="165708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5"/>
          <p:cNvSpPr/>
          <p:nvPr/>
        </p:nvSpPr>
        <p:spPr>
          <a:xfrm>
            <a:off x="522360" y="337320"/>
            <a:ext cx="5083200" cy="3722400"/>
          </a:xfrm>
          <a:prstGeom prst="rect">
            <a:avLst/>
          </a:prstGeom>
          <a:solidFill>
            <a:schemeClr val="tx2">
              <a:lumMod val="10000"/>
            </a:schemeClr>
          </a:solidFill>
          <a:ln cap="rnd">
            <a:solidFill>
              <a:srgbClr val="d53dd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Министерство финансов имеет право финансировать гос. расходы за счёт сбора налогов, размещения долларовых займов, при помощи выпуска облигаций Казначейства и увеличения государственного долга в пределах, устанавливаемых Конгресс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В управлении бюджетом и финансами задействованы также Налоговое и таможенное управление, которые являются частью казначе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6672960" y="337320"/>
            <a:ext cx="5018040" cy="5976000"/>
          </a:xfrm>
          <a:prstGeom prst="rect">
            <a:avLst/>
          </a:prstGeom>
          <a:solidFill>
            <a:schemeClr val="tx2">
              <a:lumMod val="10000"/>
            </a:schemeClr>
          </a:solidFill>
          <a:ln cap="rnd">
            <a:solidFill>
              <a:srgbClr val="d53dd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Несмотря на то, что Административно-бюджетное управление и Министерство финансов США осуществляют совместные функции по управлению государственным бюджетом, </a:t>
            </a:r>
            <a:r>
              <a:rPr b="0" lang="ru-RU" sz="1800" spc="-1" strike="noStrike" u="sng">
                <a:solidFill>
                  <a:schemeClr val="lt1"/>
                </a:solidFill>
                <a:uFillTx/>
                <a:latin typeface="Century Gothic"/>
              </a:rPr>
              <a:t>Министерство считается значительно выше по статусу, и осуществляет контроль за деятельностью Административно-бюджетного упра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Также Министерство финансов консультирует деятельность Объединённого комитета по вопросам налогообложения Конгресса США и Управления Конгресса США по бюдже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Скругленный прямоугольник 8"/>
          <p:cNvSpPr/>
          <p:nvPr/>
        </p:nvSpPr>
        <p:spPr>
          <a:xfrm>
            <a:off x="288360" y="4365000"/>
            <a:ext cx="5970600" cy="22312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Административно-бюджетное управление при исполнении бюджета использует следующие инструм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лимиты бюджетных обязательст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бюджетные и финансовые лим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бюджетные ассиг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Формы административно-бюджетного управления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Блок-схема: объединение 4"/>
          <p:cNvSpPr/>
          <p:nvPr/>
        </p:nvSpPr>
        <p:spPr>
          <a:xfrm>
            <a:off x="2030400" y="2547360"/>
            <a:ext cx="7576200" cy="4005720"/>
          </a:xfrm>
          <a:prstGeom prst="flowChartMerge">
            <a:avLst/>
          </a:prstGeom>
          <a:solidFill>
            <a:srgbClr val="b31166"/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chemeClr val="lt1"/>
                </a:solidFill>
                <a:uFillTx/>
                <a:latin typeface="Century Gothic"/>
              </a:rPr>
              <a:t>Гиперактивная форма у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Казначейство США помимо экономических и финансовых функций обеспечивает охрану президента, вице-президента и членов их семей, а также занимается финансовыми расследов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Равнобедренный треугольник 5"/>
          <p:cNvSpPr/>
          <p:nvPr/>
        </p:nvSpPr>
        <p:spPr>
          <a:xfrm>
            <a:off x="-46800" y="2547360"/>
            <a:ext cx="4154040" cy="4005720"/>
          </a:xfrm>
          <a:prstGeom prst="triangle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 u="sng">
                <a:solidFill>
                  <a:schemeClr val="lt1"/>
                </a:solidFill>
                <a:uFillTx/>
                <a:latin typeface="Century Gothic"/>
              </a:rPr>
              <a:t>Пассивная форма: </a:t>
            </a:r>
            <a:r>
              <a:rPr b="0" lang="ru-RU" sz="1600" spc="-1" strike="noStrike">
                <a:solidFill>
                  <a:schemeClr val="lt1"/>
                </a:solidFill>
                <a:latin typeface="Century Gothic"/>
              </a:rPr>
              <a:t>исполнительные учреждения только выделяют ресурсы по утвержденным бюджет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Равнобедренный треугольник 6"/>
          <p:cNvSpPr/>
          <p:nvPr/>
        </p:nvSpPr>
        <p:spPr>
          <a:xfrm>
            <a:off x="7529760" y="2547360"/>
            <a:ext cx="4154040" cy="4005720"/>
          </a:xfrm>
          <a:prstGeom prst="triangle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chemeClr val="lt1"/>
                </a:solidFill>
                <a:uFillTx/>
                <a:latin typeface="Century Gothic"/>
              </a:rPr>
              <a:t>Активная форм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ОГВ помимо выделения ресурсов могут устанавливать лимиты расходов (обязательст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Расходы федерального правительства США по итогам 2018 год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55" name="Диаграмма 3"/>
          <p:cNvGraphicFramePr/>
          <p:nvPr/>
        </p:nvGraphicFramePr>
        <p:xfrm>
          <a:off x="1415160" y="2026800"/>
          <a:ext cx="9328680" cy="474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Заключение: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54880" y="2177280"/>
            <a:ext cx="9828360" cy="459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0000" algn="just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анной работе была рассмотрена сущность административно-бюджетного управления и Министерства финансов США. Административно-бюджетное управление является одним из основных подразделений Исполнительного управления при Президенте, занимается разработкой проектов федерального бюджета на каждый год для представления на утверждение Конгресса США, а также контролирует исполнение расходов бюджета.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450000" algn="just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улированием финансовых процессов в США занимается не только административно-бюджетное управление, но и Министерство финансов, которое осуществляет внешнюю и внутреннюю экономическую деятельность, главным образом - по управлению доходами. 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450000" algn="just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имость данных органов власти определяется тем, что они занимаются регулированием всей государственной бюджетной системы. В каждой стране бюджетные и финансовые процессы заметно различаются, однако все они преследуют единую цель - эффективное управление государственными и муниципальными финансами. 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писок литературы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54880" y="2318760"/>
            <a:ext cx="8825400" cy="429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дминистративно-бюджетное управление [Электронный ресурс]. – Режим доступа: https://economy-ru.info/info/26996/ (дата обращения: 23.10.2020)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юджетный процесс и финансовый аппарат управления в США [Электронный ресурс]. – Режим доступа: https://finekon.ru/bjud%20process%20USA.php (дата обращения: 22.10.2020)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ассыльников, И.А. Особенности организации бюджетного процесса в США / И.А. Рассыльников // Экономика и бизнес. – 2019. - № 2. – С.2-8.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4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аранцев, В.С. Сравнительный анализ функций казначейских органов зарубежных стран / В.С. Саранцев // Журнал «Бюджет». – 2015. – № 1. – 6-10. 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United States Fiscal Expenditure [Электронный ресурс]. – Режим доступа: https://tradingeconomics.com/united-states/fiscal-expenditure (дата обращения: 23.10.2020)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вет директоров">
  <a:themeElements>
    <a:clrScheme name="Совет директоров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вет директоров">
  <a:themeElements>
    <a:clrScheme name="Совет директоров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 Boardroom</Template>
  <TotalTime>101</TotalTime>
  <Application>LibreOffice/7.4.7.2$Linux_X86_64 LibreOffice_project/40$Build-2</Application>
  <AppVersion>15.0000</AppVersion>
  <Words>460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5T18:03:42Z</dcterms:created>
  <dc:creator>Екатерина</dc:creator>
  <dc:description/>
  <dc:language>en-US</dc:language>
  <cp:lastModifiedBy>Екатерина</cp:lastModifiedBy>
  <dcterms:modified xsi:type="dcterms:W3CDTF">2020-10-25T19:45:28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</vt:r8>
  </property>
</Properties>
</file>