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26.jpeg" ContentType="image/jpeg"/>
  <Override PartName="/ppt/media/image42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31A-41F9-4667-8596-DA256FEE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1BF-BC77-4C95-AA9E-9FB9E8F6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EDD-33B0-4483-808B-B10A3942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95C-C280-42CF-8DBB-E508415C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B6C-35A5-4139-80C6-FD4F5F01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5D90-D124-47AC-9109-A8B4FAB5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A5B-EE11-4B35-8BF3-7D269871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AB2-385E-4666-AD8B-DA963BD1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E3C-3748-40E5-9372-98AC4C32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881-0405-48F2-B76B-83CF972B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A59-361D-4436-8891-233F63CA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F56-AF20-4C5F-BB1E-03CC92EF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577545-66E7-4FA4-A995-2CB6D4167202}" type="slidenum">
              <a:rPr b="0" lang="ru-RU" sz="1000" spc="-1" strike="noStrike">
                <a:solidFill>
                  <a:srgbClr val="a7a49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commons.wikimedia.org/wiki/File:Motherboard_external_connections.jpg?uselang=ru" TargetMode="External"/><Relationship Id="rId4" Type="http://schemas.openxmlformats.org/officeDocument/2006/relationships/image" Target="../media/image3.jpeg"/><Relationship Id="rId5" Type="http://schemas.openxmlformats.org/officeDocument/2006/relationships/hyperlink" Target="file://commons.wikimedia.org/wiki/File:ATA_on_mainboard.jpg?uselang=ru" TargetMode="External"/><Relationship Id="rId6" Type="http://schemas.openxmlformats.org/officeDocument/2006/relationships/image" Target="../media/image4.jpeg"/><Relationship Id="rId7" Type="http://schemas.openxmlformats.org/officeDocument/2006/relationships/hyperlink" Target="file://commons.wikimedia.org/wiki/File:SATA_ports.jpg?uselang=ru" TargetMode="External"/><Relationship Id="rId8" Type="http://schemas.openxmlformats.org/officeDocument/2006/relationships/image" Target="../media/image5.jpeg"/><Relationship Id="rId9" Type="http://schemas.openxmlformats.org/officeDocument/2006/relationships/hyperlink" Target="file://commons.wikimedia.org/wiki/File:AGP_slot.jpg?uselang=ru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AGP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ATA" TargetMode="External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457840" cy="9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Тема занятия №12: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Интерфейсы шин ПК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220px-Isa1"/>
          <p:cNvPicPr/>
          <p:nvPr/>
        </p:nvPicPr>
        <p:blipFill>
          <a:blip r:embed="rId1"/>
          <a:stretch/>
        </p:blipFill>
        <p:spPr>
          <a:xfrm>
            <a:off x="684360" y="1557360"/>
            <a:ext cx="2639520" cy="1079280"/>
          </a:xfrm>
          <a:prstGeom prst="rect">
            <a:avLst/>
          </a:prstGeom>
          <a:ln w="9525">
            <a:noFill/>
          </a:ln>
        </p:spPr>
      </p:pic>
      <p:pic>
        <p:nvPicPr>
          <p:cNvPr id="46" name="Picture 3" descr="220px-PCIExpress"/>
          <p:cNvPicPr/>
          <p:nvPr/>
        </p:nvPicPr>
        <p:blipFill>
          <a:blip r:embed="rId2"/>
          <a:stretch/>
        </p:blipFill>
        <p:spPr>
          <a:xfrm>
            <a:off x="3780000" y="1773360"/>
            <a:ext cx="2095200" cy="1418760"/>
          </a:xfrm>
          <a:prstGeom prst="rect">
            <a:avLst/>
          </a:prstGeom>
          <a:ln w="9525">
            <a:noFill/>
          </a:ln>
        </p:spPr>
      </p:pic>
      <p:pic>
        <p:nvPicPr>
          <p:cNvPr id="47" name="Picture 7" descr="Наружные разъёмы материнской платы: PS/2 (1 — мышь, 2 — клавиатура), 3 — разъём для сети 100BASE-T 8P8C, 4 — USB, 5 — 9-контактный разъём COM-порта (D-subminiature), 6 — 25-контактный разъём LPT порта, 7 — VGA порт, 8 — MIDI) и 9 — 3,5-мм аудио входы-выход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47640" y="5013360"/>
            <a:ext cx="6667200" cy="1580760"/>
          </a:xfrm>
          <a:prstGeom prst="rect">
            <a:avLst/>
          </a:prstGeom>
          <a:ln w="9525">
            <a:noFill/>
          </a:ln>
        </p:spPr>
      </p:pic>
      <p:pic>
        <p:nvPicPr>
          <p:cNvPr id="48" name="Picture 9" descr="http://upload.wikimedia.org/wikipedia/commons/thumb/2/29/ATA_on_mainboard.jpg/220px-ATA_on_mainboard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3429000"/>
            <a:ext cx="2095200" cy="1371240"/>
          </a:xfrm>
          <a:prstGeom prst="rect">
            <a:avLst/>
          </a:prstGeom>
          <a:ln w="9525">
            <a:noFill/>
          </a:ln>
        </p:spPr>
      </p:pic>
      <p:pic>
        <p:nvPicPr>
          <p:cNvPr id="49" name="Picture 11" descr="http://upload.wikimedia.org/wikipedia/commons/thumb/2/29/SATA_ports.jpg/220px-SATA_port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72360" y="1628640"/>
            <a:ext cx="2095200" cy="2866680"/>
          </a:xfrm>
          <a:prstGeom prst="rect">
            <a:avLst/>
          </a:prstGeom>
          <a:ln w="9525">
            <a:noFill/>
          </a:ln>
        </p:spPr>
      </p:pic>
      <p:pic>
        <p:nvPicPr>
          <p:cNvPr id="50" name="Picture 13" descr="AGP slot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4360" y="2997360"/>
            <a:ext cx="2736360" cy="1641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50920" y="620640"/>
            <a:ext cx="8642160" cy="5941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 PC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шина ввода/вывода для подключения периферийных устройств к материнской плате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интерфейс не совместим ни с одним из предшествующ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тивно разъем состоит из двух следующих подряд секций по 64 контакта. Внутри второй секции имеется пластмассовая поперечная перегородка (ключ) для предотвращения неправильной установки карт. Разъемы PCI и карты к ним поддерживают уровни сигналов либо 5 В., либо 3,3 В., либо оба уровня (универсальные). В первых двух случаях карты должны соответствовать уровню сигнала разъема, универсальные карты ставятся в любой разъ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фейс PCI обеспечивает автоматическую конфигурацию компонентов при установке (Plug-and-Pla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Белые разъёмы на материнской плате — 32-разрядные PCI."/>
          <p:cNvPicPr/>
          <p:nvPr/>
        </p:nvPicPr>
        <p:blipFill>
          <a:blip r:embed="rId1"/>
          <a:stretch/>
        </p:blipFill>
        <p:spPr>
          <a:xfrm>
            <a:off x="1116000" y="692280"/>
            <a:ext cx="2820600" cy="2449080"/>
          </a:xfrm>
          <a:prstGeom prst="rect">
            <a:avLst/>
          </a:prstGeom>
          <a:ln w="9525">
            <a:noFill/>
          </a:ln>
        </p:spPr>
      </p:pic>
      <p:pic>
        <p:nvPicPr>
          <p:cNvPr id="68" name="Picture 4" descr="Разъём 64-разрядной PCI в Power Macintosh G4"/>
          <p:cNvPicPr/>
          <p:nvPr/>
        </p:nvPicPr>
        <p:blipFill>
          <a:blip r:embed="rId2"/>
          <a:stretch/>
        </p:blipFill>
        <p:spPr>
          <a:xfrm>
            <a:off x="5508720" y="765000"/>
            <a:ext cx="3319200" cy="4706640"/>
          </a:xfrm>
          <a:prstGeom prst="rect">
            <a:avLst/>
          </a:prstGeom>
          <a:ln w="9525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5543640" y="5589720"/>
            <a:ext cx="3600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ъём 64-разрядной PCI в Power Macinto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395280" y="3213000"/>
            <a:ext cx="4571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ые разъёмы на материнской плате — 32-разрядные P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ttp://elektromaster.org/wp-content/uploads/2011/03/220px-ZRAID_at_PCI-X_at_FSC_Primtrgy_TX200_S2.jpg"/>
          <p:cNvPicPr/>
          <p:nvPr/>
        </p:nvPicPr>
        <p:blipFill>
          <a:blip r:embed="rId3"/>
          <a:stretch/>
        </p:blipFill>
        <p:spPr>
          <a:xfrm>
            <a:off x="1042920" y="3645000"/>
            <a:ext cx="3176280" cy="2160360"/>
          </a:xfrm>
          <a:prstGeom prst="rect">
            <a:avLst/>
          </a:prstGeom>
          <a:ln w="9525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468360" y="5877000"/>
            <a:ext cx="457164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ъёмы PCI-X на материнской плате сервера FSC Primergy TX200 S2. Синий разъём заполнен специально предназначенной платой нуль-канального RAID (zero-channel RAID, ZC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324000" y="692280"/>
            <a:ext cx="8569080" cy="289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6) PCMCIA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нтерфейс PCMCIA служит для подключения внешних устройств к мобильным компьютерам класса NoteBook. Поддерживает автоматическую конфигурацию Plug-and-Play, подключение и отключение устройств в процессе работы компьютера («горячее» подключение). Конструктивно представляет собой миниатюрный 68-ми контактный разъе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Две PC Card типа II. Более толстая карта (красная карта Xircom справа) имеет размеры, соответствующие карте типа III"/>
          <p:cNvPicPr/>
          <p:nvPr/>
        </p:nvPicPr>
        <p:blipFill>
          <a:blip r:embed="rId1"/>
          <a:stretch/>
        </p:blipFill>
        <p:spPr>
          <a:xfrm>
            <a:off x="250920" y="3254400"/>
            <a:ext cx="2460240" cy="2045880"/>
          </a:xfrm>
          <a:prstGeom prst="rect">
            <a:avLst/>
          </a:prstGeom>
          <a:ln w="9525">
            <a:noFill/>
          </a:ln>
        </p:spPr>
      </p:pic>
      <p:pic>
        <p:nvPicPr>
          <p:cNvPr id="75" name="Picture 6" descr="http://allpc66.ru/uploads/2012/10/21/13508190371343349.jpg"/>
          <p:cNvPicPr/>
          <p:nvPr/>
        </p:nvPicPr>
        <p:blipFill>
          <a:blip r:embed="rId2"/>
          <a:stretch/>
        </p:blipFill>
        <p:spPr>
          <a:xfrm>
            <a:off x="2771640" y="3357720"/>
            <a:ext cx="2646000" cy="1674360"/>
          </a:xfrm>
          <a:prstGeom prst="rect">
            <a:avLst/>
          </a:prstGeom>
          <a:ln w="9525">
            <a:noFill/>
          </a:ln>
        </p:spPr>
      </p:pic>
      <p:pic>
        <p:nvPicPr>
          <p:cNvPr id="76" name="Picture 8" descr="http://media.ox.ee/pictures/scaled/21/b1/9/637652_800x600_b.jpg"/>
          <p:cNvPicPr/>
          <p:nvPr/>
        </p:nvPicPr>
        <p:blipFill>
          <a:blip r:embed="rId3"/>
          <a:stretch/>
        </p:blipFill>
        <p:spPr>
          <a:xfrm>
            <a:off x="1403280" y="5157720"/>
            <a:ext cx="3126960" cy="1699920"/>
          </a:xfrm>
          <a:prstGeom prst="rect">
            <a:avLst/>
          </a:prstGeom>
          <a:ln w="9525">
            <a:noFill/>
          </a:ln>
        </p:spPr>
      </p:pic>
      <p:pic>
        <p:nvPicPr>
          <p:cNvPr id="77" name="Picture 10" descr="http://motogurumag.com/i/pcmcia-HvNRpLh.jpg"/>
          <p:cNvPicPr/>
          <p:nvPr/>
        </p:nvPicPr>
        <p:blipFill>
          <a:blip r:embed="rId4"/>
          <a:stretch/>
        </p:blipFill>
        <p:spPr>
          <a:xfrm>
            <a:off x="5364000" y="3860640"/>
            <a:ext cx="3522240" cy="2641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395280" y="692280"/>
            <a:ext cx="8208720" cy="25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) US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Universal Serial Bus — Универсальная последовательная шина). К одному USB каналу можно цепочкой подключить до 127 внешних устройств. На современных материнских платах обычно имеется по два канала USB на контроллер. Обмен данными по шине USB проходит в пакетном режиме при максимальной пропускной способности до 12 Мбит/с, в версии 2.0 скорость увеличена до 300Мбит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http://www.millionpodarkov.ru/incoming_img/pleer.ru/5766974.jpg"/>
          <p:cNvPicPr/>
          <p:nvPr/>
        </p:nvPicPr>
        <p:blipFill>
          <a:blip r:embed="rId1"/>
          <a:stretch/>
        </p:blipFill>
        <p:spPr>
          <a:xfrm>
            <a:off x="6875640" y="3141720"/>
            <a:ext cx="1920600" cy="1439640"/>
          </a:xfrm>
          <a:prstGeom prst="rect">
            <a:avLst/>
          </a:prstGeom>
          <a:ln w="9525">
            <a:noFill/>
          </a:ln>
        </p:spPr>
      </p:pic>
      <p:pic>
        <p:nvPicPr>
          <p:cNvPr id="82" name="Picture 12" descr="http://digisol.ru/wa-data/public/shop/products/15/90/29015/images/3665/3665.750x0.jpg"/>
          <p:cNvPicPr/>
          <p:nvPr/>
        </p:nvPicPr>
        <p:blipFill>
          <a:blip r:embed="rId2"/>
          <a:stretch/>
        </p:blipFill>
        <p:spPr>
          <a:xfrm>
            <a:off x="900000" y="3213000"/>
            <a:ext cx="2196720" cy="1595160"/>
          </a:xfrm>
          <a:prstGeom prst="rect">
            <a:avLst/>
          </a:prstGeom>
          <a:ln w="9525">
            <a:noFill/>
          </a:ln>
        </p:spPr>
      </p:pic>
      <p:pic>
        <p:nvPicPr>
          <p:cNvPr id="83" name="Picture 14" descr="http://www.teknolojidolabi.com/wp-content/uploads/2016/03/USB-2.0-ile-USB-3.0-Aras%C4%B1ndaki-Fark-Nedir.jpg"/>
          <p:cNvPicPr/>
          <p:nvPr/>
        </p:nvPicPr>
        <p:blipFill>
          <a:blip r:embed="rId3"/>
          <a:stretch/>
        </p:blipFill>
        <p:spPr>
          <a:xfrm>
            <a:off x="3132000" y="2997360"/>
            <a:ext cx="3327120" cy="1871280"/>
          </a:xfrm>
          <a:prstGeom prst="rect">
            <a:avLst/>
          </a:prstGeom>
          <a:ln w="9525">
            <a:noFill/>
          </a:ln>
        </p:spPr>
      </p:pic>
      <p:pic>
        <p:nvPicPr>
          <p:cNvPr id="84" name="Picture 16" descr="https://www.gravis.de/blog/wp-content/uploads/USB-3.0_%C3%9Cbersicht.jpg"/>
          <p:cNvPicPr/>
          <p:nvPr/>
        </p:nvPicPr>
        <p:blipFill>
          <a:blip r:embed="rId4"/>
          <a:stretch/>
        </p:blipFill>
        <p:spPr>
          <a:xfrm>
            <a:off x="611280" y="4711680"/>
            <a:ext cx="3096720" cy="2145960"/>
          </a:xfrm>
          <a:prstGeom prst="rect">
            <a:avLst/>
          </a:prstGeom>
          <a:ln w="9525">
            <a:noFill/>
          </a:ln>
        </p:spPr>
      </p:pic>
      <p:sp>
        <p:nvSpPr>
          <p:cNvPr id="85" name="AutoShape 18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0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2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4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6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8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0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1" descr=""/>
          <p:cNvPicPr/>
          <p:nvPr/>
        </p:nvPicPr>
        <p:blipFill>
          <a:blip r:embed="rId5"/>
          <a:srcRect l="9184" t="20678" r="29913" b="28917"/>
          <a:stretch/>
        </p:blipFill>
        <p:spPr>
          <a:xfrm>
            <a:off x="4284720" y="4770360"/>
            <a:ext cx="4036680" cy="2087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24000" y="476280"/>
            <a:ext cx="8424360" cy="447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ru-RU" sz="24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AG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Accelerated Graphics Port — Ускоренный графический пор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интерфейс предназначен исключительно для подключения видеоадаптеров. Шина AGP позволяет видеоадаптеру связываться с оперативной памятью непосредственно, разгружая тем самым системную ш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ая пропускная способность шины AGP— до 1066 Мбайт/с. Конструктивно выглядит как отдельный разъем на материнской плате. Никакие другие компоненты, кроме видеоадаптеров, к AGP подключи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Разъём AGP на материнской плате."/>
          <p:cNvPicPr/>
          <p:nvPr/>
        </p:nvPicPr>
        <p:blipFill>
          <a:blip r:embed="rId2"/>
          <a:stretch/>
        </p:blipFill>
        <p:spPr>
          <a:xfrm>
            <a:off x="468360" y="4869000"/>
            <a:ext cx="3526920" cy="1739520"/>
          </a:xfrm>
          <a:prstGeom prst="rect">
            <a:avLst/>
          </a:prstGeom>
          <a:ln w="9525">
            <a:noFill/>
          </a:ln>
        </p:spPr>
      </p:pic>
      <p:pic>
        <p:nvPicPr>
          <p:cNvPr id="95" name="Picture 6" descr="http://kkmspb.ru/images/technical_information/hardware_interfaces/video_cards/AGP_Intel_2.jpg"/>
          <p:cNvPicPr/>
          <p:nvPr/>
        </p:nvPicPr>
        <p:blipFill>
          <a:blip r:embed="rId3"/>
          <a:srcRect l="0" t="0" r="0" b="67081"/>
          <a:stretch/>
        </p:blipFill>
        <p:spPr>
          <a:xfrm>
            <a:off x="3995640" y="4869000"/>
            <a:ext cx="4881240" cy="158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395280" y="549360"/>
            <a:ext cx="8424360" cy="393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) IEEE 139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ет другое название FireW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интерфейса IEEE1394 могут подключаться как внутренние, так и внешние устройства (всего до 127 устройств на один контролл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пропускная способность достигает 50 Мбайт/с; разрабатываются модификации интерфейса, способные передавать данные со скоростью 200 Мбайт/с и даже 800 Мбайт/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достоинством интерфейса IEEE1394 являются скорость и простота подключения нескольких устройств по единому шестижильному кабелю: две жилы обеспечивают питание, четыре — служат для обмена данными. Согласно требованиям спецификации РС’99, новый интерфейс призван заменить IDE/ATA при подключении жестких дисков, CD-ROM и DVD дисководов, а также рекомендуется для соединения с высокоскоростными внешними устройствами — цифровыми видеокамерами, видеомагнитофонами, различными накопи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 Разъём FireWire 6pin"/>
          <p:cNvPicPr/>
          <p:nvPr/>
        </p:nvPicPr>
        <p:blipFill>
          <a:blip r:embed="rId1"/>
          <a:stretch/>
        </p:blipFill>
        <p:spPr>
          <a:xfrm>
            <a:off x="6084720" y="4797360"/>
            <a:ext cx="2408040" cy="1649160"/>
          </a:xfrm>
          <a:prstGeom prst="rect">
            <a:avLst/>
          </a:prstGeom>
          <a:ln w="9525">
            <a:noFill/>
          </a:ln>
        </p:spPr>
      </p:pic>
      <p:pic>
        <p:nvPicPr>
          <p:cNvPr id="98" name="Picture 6" descr="http://images.by.prom.st/25354439_w640_h640_cid16995_pid14536058-b719eac9.jpg"/>
          <p:cNvPicPr/>
          <p:nvPr/>
        </p:nvPicPr>
        <p:blipFill>
          <a:blip r:embed="rId2"/>
          <a:stretch/>
        </p:blipFill>
        <p:spPr>
          <a:xfrm>
            <a:off x="3635280" y="4869000"/>
            <a:ext cx="2015640" cy="1655280"/>
          </a:xfrm>
          <a:prstGeom prst="rect">
            <a:avLst/>
          </a:prstGeom>
          <a:ln w="9525">
            <a:noFill/>
          </a:ln>
        </p:spPr>
      </p:pic>
      <p:pic>
        <p:nvPicPr>
          <p:cNvPr id="99" name="Picture 8" descr="http://enkosp.ru/upload/iblock/604/6043fb3646c28a2de251d2438b97951c.jpg"/>
          <p:cNvPicPr/>
          <p:nvPr/>
        </p:nvPicPr>
        <p:blipFill>
          <a:blip r:embed="rId3"/>
          <a:stretch/>
        </p:blipFill>
        <p:spPr>
          <a:xfrm>
            <a:off x="0" y="4508640"/>
            <a:ext cx="3578040" cy="1828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50920" y="549360"/>
            <a:ext cx="8497440" cy="545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0) SCS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ществует несколько вариантов интерфейса SCSI («скази»), отличающихся количеством подключаемых устройств, максимальной пропускной способностью и максимальной длиной шлейф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рез интерфейс SCSI чаше всего подключаются высокоскоростные устройства, такие, как жесткие диски, CD дисководы, сканер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обеспечения работы компонентов с интерфейсом SCSI требуется наличие на компьютере специального SCSI хост-адаптера, вставляемого в слот расширения материнской платы или встроенного в системную плат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ществуют следующие спецификации SCSI-1; SCSI-2; SCSI-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рость передачи данных по шине SCSI может составлять от 5 Мб/с (SCSI-1) до 80 Мб/с (SCSI-3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what-is-my-computer.com/images/scsi-ports.jpg"/>
          <p:cNvPicPr/>
          <p:nvPr/>
        </p:nvPicPr>
        <p:blipFill>
          <a:blip r:embed="rId1"/>
          <a:stretch/>
        </p:blipFill>
        <p:spPr>
          <a:xfrm>
            <a:off x="539640" y="692280"/>
            <a:ext cx="5284440" cy="3457080"/>
          </a:xfrm>
          <a:prstGeom prst="rect">
            <a:avLst/>
          </a:prstGeom>
          <a:ln w="9525">
            <a:noFill/>
          </a:ln>
        </p:spPr>
      </p:pic>
      <p:pic>
        <p:nvPicPr>
          <p:cNvPr id="102" name="Picture 4" descr="http://tmwordpress.ru/photos/scsi-vneshniy-kabel-128118-large.jpg"/>
          <p:cNvPicPr/>
          <p:nvPr/>
        </p:nvPicPr>
        <p:blipFill>
          <a:blip r:embed="rId2"/>
          <a:stretch/>
        </p:blipFill>
        <p:spPr>
          <a:xfrm>
            <a:off x="179280" y="4508640"/>
            <a:ext cx="4055760" cy="1701360"/>
          </a:xfrm>
          <a:prstGeom prst="rect">
            <a:avLst/>
          </a:prstGeom>
          <a:ln w="9525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14760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4" descr="http://foto.mercatos.net/foto.v1/GEZQvG9Cs1fCqiNqgR3sWDhcm7Wbw3-dzTOvHNqqB9pNUNsaFq2qXyvU8xtve/Cables-Direct-SS100_800x600.jpg"/>
          <p:cNvPicPr/>
          <p:nvPr/>
        </p:nvPicPr>
        <p:blipFill>
          <a:blip r:embed="rId3"/>
          <a:stretch/>
        </p:blipFill>
        <p:spPr>
          <a:xfrm>
            <a:off x="4500720" y="4437000"/>
            <a:ext cx="3839760" cy="216036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16" descr="https://lh4.googleusercontent.com/-6sYZxLfiDnk/TYgExzLsXFI/AAAAAAAAAMw/wIega2kiphU/s320/SCSi1.jpg"/>
          <p:cNvPicPr/>
          <p:nvPr/>
        </p:nvPicPr>
        <p:blipFill>
          <a:blip r:embed="rId4"/>
          <a:stretch/>
        </p:blipFill>
        <p:spPr>
          <a:xfrm>
            <a:off x="5940360" y="1052640"/>
            <a:ext cx="3047760" cy="2895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50920" y="620640"/>
            <a:ext cx="864216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1) UA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используется для высокоскоростного обмена с USB-устройствами хранения, таких как жесткие диски, твердотельные диски и флэш-накопители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http://annet.isety.net/images/photos/332.jpg"/>
          <p:cNvPicPr/>
          <p:nvPr/>
        </p:nvPicPr>
        <p:blipFill>
          <a:blip r:embed="rId1"/>
          <a:stretch/>
        </p:blipFill>
        <p:spPr>
          <a:xfrm>
            <a:off x="250920" y="3789360"/>
            <a:ext cx="3131640" cy="271908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6" descr="http://www.pcshop.ru/pix/photos/10000/7241_1.jpg"/>
          <p:cNvPicPr/>
          <p:nvPr/>
        </p:nvPicPr>
        <p:blipFill>
          <a:blip r:embed="rId2"/>
          <a:stretch/>
        </p:blipFill>
        <p:spPr>
          <a:xfrm>
            <a:off x="6227640" y="1628640"/>
            <a:ext cx="2242800" cy="224136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8" descr="http://ftenergo.com/upload/iblock/7c3/7c3eef5002942056036b0bc3abb64b62.jpg"/>
          <p:cNvPicPr/>
          <p:nvPr/>
        </p:nvPicPr>
        <p:blipFill>
          <a:blip r:embed="rId3"/>
          <a:stretch/>
        </p:blipFill>
        <p:spPr>
          <a:xfrm>
            <a:off x="5364000" y="4365720"/>
            <a:ext cx="2231640" cy="194292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10" descr="http://fast.just.ru/good_pics/462675g.jpg"/>
          <p:cNvPicPr/>
          <p:nvPr/>
        </p:nvPicPr>
        <p:blipFill>
          <a:blip r:embed="rId4"/>
          <a:stretch/>
        </p:blipFill>
        <p:spPr>
          <a:xfrm>
            <a:off x="2771640" y="1989000"/>
            <a:ext cx="3168360" cy="2379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250920" y="612720"/>
            <a:ext cx="864216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) IDE (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интерфейс предназначен только для подключения жестких дисков и других накопителей. В большинстве случаев контроллер IDE/ATA встроен в системную плату и поддерживает два разъема IDE (Primary — Первичный и Secondary — Вторичный), к каждому из которых можно подключать по два устройства (Master и Slave — ведущий и ведомый). Максимальная пропускная способность интерфейса IDE — до 66 Мбайт/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еспечения совместимости с накопителями, отличными от жестких дисков, существует протокол обмена данными ATAPI (АТА Packet Interface — Пакетный интерфейс АТА). Интерфейс IDE/ATA будет постепенно заменяться интерфейсом IEEE 13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media.karelia.pro/77/65a3d0785b0e214acd9eb0d9f436d511.jpeg"/>
          <p:cNvPicPr/>
          <p:nvPr/>
        </p:nvPicPr>
        <p:blipFill>
          <a:blip r:embed="rId1"/>
          <a:stretch/>
        </p:blipFill>
        <p:spPr>
          <a:xfrm>
            <a:off x="539640" y="4653000"/>
            <a:ext cx="1944360" cy="1458720"/>
          </a:xfrm>
          <a:prstGeom prst="rect">
            <a:avLst/>
          </a:prstGeom>
          <a:ln w="9525">
            <a:noFill/>
          </a:ln>
        </p:spPr>
      </p:pic>
      <p:pic>
        <p:nvPicPr>
          <p:cNvPr id="116" name="Picture 4" descr="http://www.cooldrives.com/lib/cooldrives/sata-ide-adapter-01.jpg"/>
          <p:cNvPicPr/>
          <p:nvPr/>
        </p:nvPicPr>
        <p:blipFill>
          <a:blip r:embed="rId2"/>
          <a:stretch/>
        </p:blipFill>
        <p:spPr>
          <a:xfrm>
            <a:off x="5867280" y="4724280"/>
            <a:ext cx="2993760" cy="1657080"/>
          </a:xfrm>
          <a:prstGeom prst="rect">
            <a:avLst/>
          </a:prstGeom>
          <a:ln w="9525">
            <a:noFill/>
          </a:ln>
        </p:spPr>
      </p:pic>
      <p:pic>
        <p:nvPicPr>
          <p:cNvPr id="117" name="Picture 6" descr="http://funlib.ru/cimg/2014/101914/0639889"/>
          <p:cNvPicPr/>
          <p:nvPr/>
        </p:nvPicPr>
        <p:blipFill>
          <a:blip r:embed="rId3"/>
          <a:stretch/>
        </p:blipFill>
        <p:spPr>
          <a:xfrm>
            <a:off x="2556000" y="3789360"/>
            <a:ext cx="3239640" cy="2428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68360" y="1197000"/>
            <a:ext cx="80640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 интерфейсам относя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539640">
              <a:lnSpc>
                <a:spcPct val="150000"/>
              </a:lnSpc>
              <a:buSzPct val="100030"/>
              <a:buBlip>
                <a:blip r:embed="rId1"/>
              </a:buBlip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рт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539640">
              <a:lnSpc>
                <a:spcPct val="150000"/>
              </a:lnSpc>
              <a:buSzPct val="100030"/>
              <a:buBlip>
                <a:blip r:embed="rId2"/>
              </a:buBlip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ин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539640">
              <a:lnSpc>
                <a:spcPct val="150000"/>
              </a:lnSpc>
              <a:buSzPct val="100030"/>
              <a:buBlip>
                <a:blip r:embed="rId3"/>
              </a:buBlip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тевые интерфей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50920" y="765000"/>
            <a:ext cx="8424360" cy="264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3) SA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нгл. Serial ATA) — последовательный интерфейс обмена данными с накопителями информации. SATA является развитием параллельного интерфейса 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A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IDE), который после появления SATA был переименован в PATA (Parallel A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http://static.commentcamarche.net/www.commentcamarche.net/faq/images/UfWlP3AI-sata-ide.png"/>
          <p:cNvPicPr/>
          <p:nvPr/>
        </p:nvPicPr>
        <p:blipFill>
          <a:blip r:embed="rId2"/>
          <a:stretch/>
        </p:blipFill>
        <p:spPr>
          <a:xfrm>
            <a:off x="826920" y="2997360"/>
            <a:ext cx="2665080" cy="1537920"/>
          </a:xfrm>
          <a:prstGeom prst="rect">
            <a:avLst/>
          </a:prstGeom>
          <a:ln w="9525">
            <a:noFill/>
          </a:ln>
        </p:spPr>
      </p:pic>
      <p:pic>
        <p:nvPicPr>
          <p:cNvPr id="120" name="Picture 6" descr="http://klaipeda.diena.lt/sites/default/files/styles/didele/public/Vilniausdiena/Vartotoju%20zona/zigmasj/pata-vs-sata.jpg?itok=6IOpTFxa"/>
          <p:cNvPicPr/>
          <p:nvPr/>
        </p:nvPicPr>
        <p:blipFill>
          <a:blip r:embed="rId3"/>
          <a:stretch/>
        </p:blipFill>
        <p:spPr>
          <a:xfrm>
            <a:off x="4859280" y="2852640"/>
            <a:ext cx="3387240" cy="2257200"/>
          </a:xfrm>
          <a:prstGeom prst="rect">
            <a:avLst/>
          </a:prstGeom>
          <a:ln w="9525">
            <a:noFill/>
          </a:ln>
        </p:spPr>
      </p:pic>
      <p:pic>
        <p:nvPicPr>
          <p:cNvPr id="121" name="Picture 8" descr="http://elektromaster.org/wp-content/uploads/2011/03/220px-SATA_ports.jpg"/>
          <p:cNvPicPr/>
          <p:nvPr/>
        </p:nvPicPr>
        <p:blipFill>
          <a:blip r:embed="rId4"/>
          <a:stretch/>
        </p:blipFill>
        <p:spPr>
          <a:xfrm rot="15990000">
            <a:off x="2282760" y="4065840"/>
            <a:ext cx="2095200" cy="2866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468360" y="765000"/>
            <a:ext cx="8351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) PCI Expres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компьютерная шина, использующая программную модель шины PCI и высокопроизводительный физический протокол, основанный на последовательной передаче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videodark.com/images/583b6c29d83e2.jpg"/>
          <p:cNvPicPr/>
          <p:nvPr/>
        </p:nvPicPr>
        <p:blipFill>
          <a:blip r:embed="rId1"/>
          <a:stretch/>
        </p:blipFill>
        <p:spPr>
          <a:xfrm>
            <a:off x="971640" y="2133720"/>
            <a:ext cx="6381360" cy="1933200"/>
          </a:xfrm>
          <a:prstGeom prst="rect">
            <a:avLst/>
          </a:prstGeom>
          <a:ln w="9525">
            <a:noFill/>
          </a:ln>
        </p:spPr>
      </p:pic>
      <p:pic>
        <p:nvPicPr>
          <p:cNvPr id="124" name="Picture 4" descr="http://perm-hams.ru/uploads/posts/2016-03/1457469672_062313_0829_3.png"/>
          <p:cNvPicPr/>
          <p:nvPr/>
        </p:nvPicPr>
        <p:blipFill>
          <a:blip r:embed="rId2"/>
          <a:stretch/>
        </p:blipFill>
        <p:spPr>
          <a:xfrm>
            <a:off x="324000" y="4292640"/>
            <a:ext cx="4103280" cy="182844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6" descr="https://im1-tub-ru.yandex.net/i?id=79297f00f33f270c4b9ab9f24b86f67c&amp;n=33&amp;h=215&amp;w=459"/>
          <p:cNvPicPr/>
          <p:nvPr/>
        </p:nvPicPr>
        <p:blipFill>
          <a:blip r:embed="rId3"/>
          <a:stretch/>
        </p:blipFill>
        <p:spPr>
          <a:xfrm>
            <a:off x="4500720" y="4292640"/>
            <a:ext cx="4371480" cy="2047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324000" y="765000"/>
            <a:ext cx="8208720" cy="60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р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специализированный разъём в компьютере, предназначенный для подключения оборудования определённого тип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о портами называют разъёмы, предназначенные для работы периферийного обору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 портам относ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1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й пор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2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ый пор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3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USB-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4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TA/SATA (для подключения накопите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5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EEE 1394 (FireWire) (для подключения П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539640" algn="just">
              <a:lnSpc>
                <a:spcPct val="100000"/>
              </a:lnSpc>
              <a:buSzPct val="100017"/>
              <a:buBlip>
                <a:blip r:embed="rId6"/>
              </a:buBlip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S/2 (для подключения мыши и клавиату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6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604000" cy="3738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79280" y="692280"/>
            <a:ext cx="85690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ы для подключения внутренних устр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53964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нгл. Advanced Technology Attachment) — параллельный интерфейс подключения накопителей (жёстких дисков и оптических дисководов) к компьют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0-е годы был стандартом на платформе IBM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вытесняется своим последователем — SATA и с его появлением получил название PATA (Parallel A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50920" y="549360"/>
            <a:ext cx="8569080" cy="545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 IS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ина ISA является основной шиной на материнских платах устаревших компьютеров типа PC 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новых материнских платах этот интерфейс либо отсутствует, либо представлен всего 1-2 слотами (разъемами) расширения для подключения устаревших компонен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труктивно шина ISA представляет собой разъем на материнской плате, состоящий из двух частей — 62-х контактного и примыкающего к нему 36-ти контактного сегмен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ксимальная пропускная способность шины ISA не превышает 5,55 Мбайт/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рез интерфейс ISA раньше подключались практически все компоненты персонального компьютера, такие, как видеокарты, контроллеры ввода-вывода, контроллеры жестких и гибких дисков, модемы, звуковые карты и прочие устр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5 разъёмов 16-битной и 1 разъём 8-битной шины ISA"/>
          <p:cNvPicPr/>
          <p:nvPr/>
        </p:nvPicPr>
        <p:blipFill>
          <a:blip r:embed="rId1"/>
          <a:stretch/>
        </p:blipFill>
        <p:spPr>
          <a:xfrm>
            <a:off x="1835280" y="765000"/>
            <a:ext cx="4968360" cy="2031480"/>
          </a:xfrm>
          <a:prstGeom prst="rect">
            <a:avLst/>
          </a:prstGeom>
          <a:ln w="9525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611280" y="2924280"/>
            <a:ext cx="5976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разъёмов 16-битной и 1 разъём 8-битной шины 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324000" y="5157720"/>
            <a:ext cx="4571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карта на шине I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Trident 512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www.gauss.com.tw/cafe/english/isa-card.jpg"/>
          <p:cNvPicPr/>
          <p:nvPr/>
        </p:nvPicPr>
        <p:blipFill>
          <a:blip r:embed="rId2"/>
          <a:stretch/>
        </p:blipFill>
        <p:spPr>
          <a:xfrm>
            <a:off x="3276720" y="3357720"/>
            <a:ext cx="4824000" cy="3044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324000" y="620640"/>
            <a:ext cx="864036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EIS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сширенная IS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ъемы шины EISA можно вставлять как платы для шины ISA, так и для EISA. Максимальная пропускная способность — 32 Мбайт/с. На современных материнских платах шина EISA уже не встреч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Три слота шины EISA."/>
          <p:cNvPicPr/>
          <p:nvPr/>
        </p:nvPicPr>
        <p:blipFill>
          <a:blip r:embed="rId1"/>
          <a:stretch/>
        </p:blipFill>
        <p:spPr>
          <a:xfrm>
            <a:off x="2340000" y="2637000"/>
            <a:ext cx="4247640" cy="3239640"/>
          </a:xfrm>
          <a:prstGeom prst="rect">
            <a:avLst/>
          </a:prstGeom>
          <a:ln w="9525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2124000" y="5950080"/>
            <a:ext cx="457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слота шины EI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24000" y="836640"/>
            <a:ext cx="8496000" cy="289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 VL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интерфейс является 32-х разрядным расширением шины ISA. Шина VLB располагается на материнской плате и конструктивно выглядит как 116-ти контактный дополнительный разъем. Тактовая частота шины VLB — до 50 МГц, максимальная пропускная способность 130 Мбайт/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этот интерфейс подключались в основном видеокарты. В настоящее время интерфейс VLB встречается только на старых компьюте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Слоты VLB и ISA на материнской карте"/>
          <p:cNvPicPr/>
          <p:nvPr/>
        </p:nvPicPr>
        <p:blipFill>
          <a:blip r:embed="rId1"/>
          <a:stretch/>
        </p:blipFill>
        <p:spPr>
          <a:xfrm>
            <a:off x="2411280" y="3645000"/>
            <a:ext cx="3920760" cy="1800000"/>
          </a:xfrm>
          <a:prstGeom prst="rect">
            <a:avLst/>
          </a:prstGeom>
          <a:ln w="9525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2124000" y="5732640"/>
            <a:ext cx="457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ты VLB и ISA на материнской ка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535</TotalTime>
  <Application>LibreOffice/7.4.7.2$Linux_X86_64 LibreOffice_project/40$Build-2</Application>
  <AppVersion>15.0000</AppVersion>
  <Words>530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9:08:00Z</dcterms:created>
  <dc:creator>Irina</dc:creator>
  <dc:description/>
  <dc:language>en-US</dc:language>
  <cp:lastModifiedBy>User</cp:lastModifiedBy>
  <dcterms:modified xsi:type="dcterms:W3CDTF">2020-10-18T14:04:46Z</dcterms:modified>
  <cp:revision>35</cp:revision>
  <dc:subject/>
  <dc:title>Интерфейсы П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