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hdphoto2.wdp" ContentType="image/vnd.ms-photo"/>
  <Override PartName="/ppt/media/image2.png" ContentType="image/png"/>
  <Override PartName="/ppt/media/audio1.wav" ContentType="audio/x-wav"/>
  <Override PartName="/ppt/media/image3.png" ContentType="image/png"/>
  <Override PartName="/ppt/media/audio2.wav" ContentType="audio/x-wav"/>
  <Override PartName="/ppt/media/hdphoto1.wdp" ContentType="image/vnd.ms-photo"/>
  <Override PartName="/ppt/media/image8.png" ContentType="image/png"/>
  <Override PartName="/ppt/media/image4.png" ContentType="image/png"/>
  <Override PartName="/ppt/media/audio3.wav" ContentType="audio/x-wav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361-66C1-4D5A-942D-DE7F7859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09E-7D25-414E-A19B-1E1FE0F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8A6-633A-499D-A54B-4F7A7FAB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DD7-467A-4A42-8EAA-32EFFEF8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CDD-303C-4674-821D-5B33DFC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E4D-6AFD-4D03-A28D-E217A42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852-38E2-4B13-87D4-FC04A7A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EE2-70E9-411D-98B8-97F4BF1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3C3-7C73-4C06-8853-33131E3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61B-4D74-48C3-BBE5-F982EA4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027-19F0-49AC-8406-EB8580F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F0E-5979-42F5-AF92-AB5A66B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s-E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105D54-BA3F-4A38-B199-4A7A9D93CFF1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audio1.wav"/><Relationship Id="rId8" Type="http://schemas.openxmlformats.org/officeDocument/2006/relationships/audio" Target="../media/audio1.wav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3.wav"/><Relationship Id="rId13" Type="http://schemas.openxmlformats.org/officeDocument/2006/relationships/audio" Target="../media/audio3.wav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: Rounded Corners 18"/>
          <p:cNvSpPr/>
          <p:nvPr/>
        </p:nvSpPr>
        <p:spPr>
          <a:xfrm>
            <a:off x="3109320" y="24372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AutoShape 41"/>
          <p:cNvSpPr/>
          <p:nvPr/>
        </p:nvSpPr>
        <p:spPr>
          <a:xfrm>
            <a:off x="4677120" y="4896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7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1"/>
          <p:cNvSpPr/>
          <p:nvPr/>
        </p:nvSpPr>
        <p:spPr>
          <a:xfrm>
            <a:off x="2111760" y="21780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ound “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1"/>
          <a:stretch/>
        </p:blipFill>
        <p:spPr>
          <a:xfrm>
            <a:off x="1839240" y="3041640"/>
            <a:ext cx="3281400" cy="32882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41"/>
          <p:cNvSpPr/>
          <p:nvPr/>
        </p:nvSpPr>
        <p:spPr>
          <a:xfrm>
            <a:off x="7932240" y="1443240"/>
            <a:ext cx="2736360" cy="52887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0" spc="-1" strike="noStrike">
                <a:solidFill>
                  <a:srgbClr val="92d050"/>
                </a:solidFill>
                <a:latin typeface="Comic Sans MS"/>
              </a:rPr>
              <a:t>I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 redondeado"/>
          <p:cNvSpPr/>
          <p:nvPr/>
        </p:nvSpPr>
        <p:spPr>
          <a:xfrm>
            <a:off x="7427880" y="3585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310320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2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3" name="4 Rectángulo redondeado"/>
          <p:cNvSpPr/>
          <p:nvPr/>
        </p:nvSpPr>
        <p:spPr>
          <a:xfrm>
            <a:off x="742788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 Imagen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6"/>
          <a:stretch/>
        </p:blipFill>
        <p:spPr>
          <a:xfrm>
            <a:off x="1214640" y="2199240"/>
            <a:ext cx="4849920" cy="3966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375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indefinite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indefinite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47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64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5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7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"/>
          <p:cNvPicPr/>
          <p:nvPr/>
        </p:nvPicPr>
        <p:blipFill>
          <a:blip r:embed="rId4"/>
          <a:stretch/>
        </p:blipFill>
        <p:spPr>
          <a:xfrm>
            <a:off x="2248200" y="2181600"/>
            <a:ext cx="2680560" cy="3934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indefinite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indefinite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116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76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7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9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4"/>
          <a:stretch/>
        </p:blipFill>
        <p:spPr>
          <a:xfrm>
            <a:off x="920160" y="2778120"/>
            <a:ext cx="5400720" cy="338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52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75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indefinite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indefinite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88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89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1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1536840" y="2114280"/>
            <a:ext cx="3525120" cy="4069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indefinite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indefinite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38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00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1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"/>
          <p:cNvPicPr/>
          <p:nvPr/>
        </p:nvPicPr>
        <p:blipFill>
          <a:blip r:embed="rId4"/>
          <a:stretch/>
        </p:blipFill>
        <p:spPr>
          <a:xfrm>
            <a:off x="1636200" y="2090880"/>
            <a:ext cx="4045680" cy="3891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375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indefinite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indefinite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8" name="Рисунок 8" descr=""/>
          <p:cNvPicPr/>
          <p:nvPr/>
        </p:nvPicPr>
        <p:blipFill>
          <a:blip r:embed="rId1"/>
          <a:srcRect l="0" t="44382" r="0" b="0"/>
          <a:stretch/>
        </p:blipFill>
        <p:spPr>
          <a:xfrm>
            <a:off x="842040" y="2799000"/>
            <a:ext cx="5595120" cy="311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0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13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4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Imagen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6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335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indefinite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indefinite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352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  <Words>64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13:11:00Z</dcterms:created>
  <dc:creator>portatil</dc:creator>
  <dc:description/>
  <dc:language>en-US</dc:language>
  <cp:lastModifiedBy>Пользователь Windows</cp:lastModifiedBy>
  <dcterms:modified xsi:type="dcterms:W3CDTF">2020-10-20T08:31:4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